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266D-F7D2-4C0B-BD32-07D007EA9F8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F4221-5BB1-4852-8A44-7A102A498AA9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7069-8FEA-4ED1-B805-8A8B750E6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03FB-DE0E-4EA9-82EF-2E6AFF11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0E61-FA57-46FE-AF50-4F6724F7A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6F37-B2ED-4918-9926-6D8EFFF6B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0E84-69A2-4695-A526-8243523CB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A4D2-8753-4D7C-A8E4-F28AA29E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2787-7530-483A-ACC9-34BF26DA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CC24-34B4-4B24-AF21-B60AE75A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6AF3F-A2E3-4476-B536-318F2544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1467-3927-4F8A-B97A-2893DEF8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3847-C8C6-4AAC-B468-54AAD9EC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DC41-8B8D-4419-8E82-E940CA83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E829-494D-4DAF-AB5E-60C950D6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BB9F-B68F-4218-AD3A-E222C5AA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E6FB-89FB-4F8A-9DEF-B917B9AD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27AA-E6D3-4113-A8BF-B970556E9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E8EC-F22C-4BB5-B353-451D2CA11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8AC85-1A49-4FCC-955C-5EE82F2CA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96565-4EF7-40AB-A13F-55E24ECD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4FDD8-AEE9-44E7-81DB-9BEAC5DC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6B437-BE9A-46FC-AAA4-1975FF6D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90CEB-76BD-4EE5-8C82-55C5D612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390D-C882-417A-B8C6-32BBEA36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2DA8B-CB3A-4ED6-AF68-35DB0224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01599-78CD-4926-BDEB-6C334FAD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CA8F2-4C9A-4AD1-A016-3DCF35E1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7D19C-9532-4E5F-AE6F-5A53CFE5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F28B8-8509-4595-A3A1-2284B372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35FCC-7B6B-42A1-88DD-99AB45136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0C033-E0D4-4691-8D5D-ED5534375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3649C-69F8-4E3B-9270-F71F63046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81EC5-685C-45E6-B870-20ED6520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D2D64-B36F-4B43-973E-9677943D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37A0-C1FA-449D-8185-83CF2E65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47D37-EE97-4418-BA9C-25477564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26BDD-6287-4876-B427-53206910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82A4B-399D-4B6D-BDA7-85A40E4D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665EE-F069-44A1-96FD-6446B71C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9F0C7-AA9B-468E-9A71-75A6DB28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1489A-502F-4821-99D3-182D4ADE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2744A-1234-4108-B396-225572AA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92E82-61A7-4B95-B18A-DF7EADD78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5305C-E9A5-42B8-83ED-FAB4C3296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CECF2-9AAC-466B-801D-40A9323A4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3663-67AE-4165-BEEF-56AC2EBA6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5290B-9CED-45ED-8499-1883FC16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21C93-24D8-4211-B62E-BCCF9E4E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37BC6-0635-49E9-A5E1-C9C71C62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0CD15-C8B2-4AB5-8328-047F500F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27854-B2C4-4A47-9C57-9A521F68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A47D5-0CF0-42A6-9C5A-008AAC41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2ED10-8B15-4B15-BD47-BE83C8E9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40E64-FA5E-4187-B9F5-B59EDD98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4DB09-8FF7-4307-BAB9-975307DB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2415F-F8F9-4AA9-96E5-780E869BA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C4FA-8703-46B5-842A-4D1B25A1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746D2-92D0-4229-BB7A-66FD988AB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EBEB-2166-4BA6-8F41-6DAAFF33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0BB8-49E4-49D0-AB53-75E18166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C7F5-9E97-47FC-B103-B75E66D7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DAB8-3E5C-45B1-AE3A-46D77B004A87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4990-4066-49E2-B259-0EE7F71EF9A6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4492-01E1-4670-A851-4748C13A11E8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46B6-FC93-4EC2-8977-1556233FEC6A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A8BB-A899-49F5-8638-CE7C6EA4FB88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A77B-FAFD-4C11-9EE0-168890BBB672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3B92-187B-4AC4-B297-8424EF62E2A2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B1C4-B725-4D41-9C89-1F41643B8081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9D07-3A1B-401C-AE89-FB43BCE5C944}" type="datetime"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4B3E-8285-438B-8DD0-FD8B9565FA1D}" type="slidenum">
              <a:rPr b="0" lang="ar-SA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68360" y="2349000"/>
            <a:ext cx="8136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Perpetua"/>
              </a:rPr>
              <a:t>PROF. DR. ELHAM FAYAD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04FF-2240-4118-AA35-532EBEB92431}" type="datetime"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679F-9662-4F39-9CA7-4346A5A9FDDB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170496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anklin Gothic Book"/>
              </a:rPr>
              <a:t>Mood Disorders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40" name="Picture 2" descr="http://t1.gstatic.com/images?q=tbn:ANd9GcS4mFCA1LIKAa_0dDQFVEu0i5kHAloxR7oensMCQoBdqXjFvn2H-Q"/>
          <p:cNvPicPr/>
          <p:nvPr/>
        </p:nvPicPr>
        <p:blipFill>
          <a:blip r:embed="rId1"/>
          <a:stretch/>
        </p:blipFill>
        <p:spPr>
          <a:xfrm>
            <a:off x="539640" y="3213000"/>
            <a:ext cx="822348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213840" y="1413000"/>
            <a:ext cx="8643960" cy="50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Intense, pervasive , and persistent depression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Altered reality orientation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Affective changes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despair and hopelessness, worthlessness,  helplessness, loneliness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Cognitive changes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confusion ,indecisiveness, self-blame and self-deprecation, wish to die, possible delusions or hallucinations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D3CF-7FF7-449B-8869-DBBA1C1FC70D}" type="datetime"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ooter Placeholder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0886-74CE-4758-AF68-8A28F3B23A1C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07280" cy="71892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Depressive reaction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en-US" sz="3600" spc="-1" strike="noStrike" u="sng">
                <a:solidFill>
                  <a:srgbClr val="002060"/>
                </a:solidFill>
                <a:uFillTx/>
                <a:latin typeface="Franklin Gothic Book"/>
              </a:rPr>
              <a:t>Assessment: characteristics of severe depression</a:t>
            </a:r>
            <a:r>
              <a:rPr b="1" lang="en-US" sz="2800" spc="-1" strike="noStrike" u="sng">
                <a:solidFill>
                  <a:srgbClr val="002060"/>
                </a:solidFill>
                <a:uFillTx/>
                <a:latin typeface="Franklin Gothic Book"/>
              </a:rPr>
              <a:t> 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Franklin Gothic Book"/>
              </a:rPr>
              <a:t>Cont. assessmen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0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B043-0159-4172-9384-7EB44003A185}" type="datetime"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B159-FD76-4639-A1DF-3D22F29F489C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250920" y="1447920"/>
            <a:ext cx="864216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Behavioral changes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psychomotor retardation ; agitation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slow responses, neglect appearance, </a:t>
            </a:r>
            <a:r>
              <a:rPr b="1" lang="en-US" sz="3200" spc="-1" strike="noStrike">
                <a:solidFill>
                  <a:srgbClr val="ff0000"/>
                </a:solidFill>
                <a:latin typeface="Perpetua"/>
              </a:rPr>
              <a:t>social withdrawal</a:t>
            </a:r>
            <a:r>
              <a:rPr b="1" lang="en-US" sz="3200" spc="-1" strike="noStrike">
                <a:solidFill>
                  <a:srgbClr val="ff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Physiologic changes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constipation, urine retention, amenorrhea, lack of sexual  interest, impotence, marked weight loss, insomnia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642600" y="1714680"/>
            <a:ext cx="79297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1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Promote adequate nutrition, hydration,elimination,rest,sleep,and activity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2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Stop withdrawn behavior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3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Prevent the client from self-harm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4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Decrease  disorientation, ruminations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hallucinations, and delusions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5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Promote feelings of self-worth and articulation of feeling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5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D75A-1A20-49E5-813E-B9662670E5D8}" type="datetime"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ooter Placeholder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205F-B58D-4D7D-B9BB-5B83E1CF99A0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9842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Franklin Gothic Book"/>
              </a:rPr>
              <a:t>Nursing  goal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642960" y="1357200"/>
            <a:ext cx="78580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1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Monitor and record nutritional intake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2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Weigh the client daily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3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Encourage small, frequent high-fiber meals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      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4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Teach methods to help the client relax and sleep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5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Assist the client in getting out of bed and taking care of personal hygien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6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Encourage exercise to prevent constipation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9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Observe for medication compliance and side effects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5A1C-A533-41E8-A607-7E2DC007937E}" type="datetime"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2789-6017-4014-94BF-F1535E5D58B1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Franklin Gothic Book"/>
              </a:rPr>
              <a:t>Nursing  </a:t>
            </a:r>
            <a:r>
              <a:rPr b="1" lang="en-US" sz="2900" spc="-1" strike="noStrike">
                <a:solidFill>
                  <a:srgbClr val="002060"/>
                </a:solidFill>
                <a:latin typeface="Franklin Gothic Book"/>
              </a:rPr>
              <a:t>intervention physical needs</a:t>
            </a:r>
            <a:r>
              <a:rPr b="1" lang="en-US" sz="2900" spc="-1" strike="noStrike">
                <a:solidFill>
                  <a:srgbClr val="002060"/>
                </a:solidFill>
                <a:latin typeface="Franklin Gothic Book"/>
              </a:rPr>
              <a:t>.</a:t>
            </a:r>
            <a:br>
              <a:rPr sz="2900"/>
            </a:br>
            <a:endParaRPr b="0" lang="en-US" sz="29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714240" y="1557360"/>
            <a:ext cx="7786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1" lang="en-US" sz="37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700" spc="-1" strike="noStrike">
                <a:solidFill>
                  <a:srgbClr val="000000"/>
                </a:solidFill>
                <a:latin typeface="Perpetua"/>
              </a:rPr>
              <a:t>Mobilize the client to productive activity by assigning therapeutic tasks</a:t>
            </a:r>
            <a:r>
              <a:rPr b="1" lang="en-US" sz="3700" spc="-1" strike="noStrike">
                <a:solidFill>
                  <a:srgbClr val="000000"/>
                </a:solidFill>
                <a:latin typeface="Perpetua"/>
              </a:rPr>
              <a:t> .</a:t>
            </a:r>
            <a:endParaRPr b="0" lang="en-US" sz="37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Perpetua"/>
              </a:rPr>
              <a:t>2</a:t>
            </a:r>
            <a:r>
              <a:rPr b="1" lang="en-US" sz="37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700" spc="-1" strike="noStrike">
                <a:solidFill>
                  <a:srgbClr val="000000"/>
                </a:solidFill>
                <a:latin typeface="Perpetua"/>
              </a:rPr>
              <a:t>Provide opportunities for increased involvement in activities</a:t>
            </a:r>
            <a:r>
              <a:rPr b="1" lang="en-US" sz="37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7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Perpetua"/>
              </a:rPr>
              <a:t>3</a:t>
            </a:r>
            <a:r>
              <a:rPr b="1" lang="en-US" sz="37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700" spc="-1" strike="noStrike">
                <a:solidFill>
                  <a:srgbClr val="000000"/>
                </a:solidFill>
                <a:latin typeface="Perpetua"/>
              </a:rPr>
              <a:t>Select activities that ensure success and accomplishment</a:t>
            </a:r>
            <a:r>
              <a:rPr b="1" lang="en-US" sz="37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7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Perpetua"/>
              </a:rPr>
              <a:t>4</a:t>
            </a:r>
            <a:r>
              <a:rPr b="1" lang="en-US" sz="37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700" spc="-1" strike="noStrike">
                <a:solidFill>
                  <a:srgbClr val="000000"/>
                </a:solidFill>
                <a:latin typeface="Perpetua"/>
              </a:rPr>
              <a:t>Provide opportunities for exercise</a:t>
            </a:r>
            <a:r>
              <a:rPr b="1" lang="en-US" sz="37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7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Perpetua"/>
              </a:rPr>
              <a:t> </a:t>
            </a:r>
            <a:endParaRPr b="0" lang="en-US" sz="37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5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EB12-9748-45C0-A311-80F3D2485819}" type="datetime"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ooter Placeholder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760D-466B-48E5-9ECB-AEB744C42BFA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Franklin Gothic Book"/>
              </a:rPr>
              <a:t>Nursing intervention : Behavioral needs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684360" y="981000"/>
            <a:ext cx="7858080" cy="54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Increase self-esteem and sense of control over behavior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Modify negative expectations and explore the extent of negative thinking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Substitute positive thoughts for negative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Establish realistic goals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0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F192-B56D-4AAD-822C-9806BE8A03BD}" type="datetime"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ooter Placeholder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46F9-F806-421E-904F-E4A0BAB1663A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2060"/>
                </a:solidFill>
                <a:latin typeface="Franklin Gothic Book"/>
              </a:rPr>
              <a:t>Nursing interventions : Cognitive needs</a:t>
            </a:r>
            <a:br>
              <a:rPr sz="2900"/>
            </a:br>
            <a:endParaRPr b="0" lang="en-US" sz="29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314" name="Picture 2" descr="http://t0.gstatic.com/images?q=tbn:ANd9GcRzJmwqnUmOrhbKtH6dOfle_6as6sKJlnnQH7gkOA5kvUzpks3p"/>
          <p:cNvPicPr/>
          <p:nvPr/>
        </p:nvPicPr>
        <p:blipFill>
          <a:blip r:embed="rId1"/>
          <a:stretch/>
        </p:blipFill>
        <p:spPr>
          <a:xfrm>
            <a:off x="5435640" y="3645000"/>
            <a:ext cx="370836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42960" y="1412640"/>
            <a:ext cx="778680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Slowly and cautiously make the client aware of unconscious feelings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Plan activities that allow for physical sublimation of aggressive feelings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 .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Talk about the universality of feelings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Encourage constructive expression when the client discusses anger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Provide hope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6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5133-6044-4620-98A8-A798C57A1C68}" type="datetime"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8860-A2C6-4815-A227-CA7EBCB3D4B4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Franklin Gothic Book"/>
              </a:rPr>
              <a:t>Nursing interventions: Emotional needs</a:t>
            </a:r>
            <a:br>
              <a:rPr sz="3600"/>
            </a:b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642960" y="1499760"/>
            <a:ext cx="7786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Assess the client’s loss of belief</a:t>
            </a: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Help the client explore spiritual beliefs or a meaningful philosophy of life</a:t>
            </a: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Arrange for a spiritual advisor to visit, if appropriate</a:t>
            </a: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1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ED2B-1B4E-4F66-98E0-6CDB22B10DEA}" type="datetime"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9F27-B978-4585-9CD3-5EE371C65828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12146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Franklin Gothic Book"/>
              </a:rPr>
              <a:t>Nursing interventions: Spiritual need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179280" y="764640"/>
            <a:ext cx="8964720" cy="573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Assessment: Characteristic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Condition that usually develops more rapidly than depressive reactions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Failure to view behavior as inappropriate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Maladaptive defense against depression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6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5B27-F603-402B-836D-883EC716E40B}" type="datetime"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ooter Placeholder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5C9B-3F2B-4C65-AD5C-530559554FFB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69372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6c5d"/>
                </a:solidFill>
                <a:latin typeface="Franklin Gothic Book"/>
              </a:rPr>
              <a:t>Manic reactio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330" name="Picture 4" descr=""/>
          <p:cNvPicPr/>
          <p:nvPr/>
        </p:nvPicPr>
        <p:blipFill>
          <a:blip r:embed="rId1"/>
          <a:stretch/>
        </p:blipFill>
        <p:spPr>
          <a:xfrm>
            <a:off x="395280" y="3789360"/>
            <a:ext cx="8353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714240" y="1714320"/>
            <a:ext cx="77868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Deteriorated physical appearance</a:t>
            </a: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Increased energy: feeling of being “charged up</a:t>
            </a: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 ”.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Increased sexual interest and activity</a:t>
            </a: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Decreased sleep disturbance</a:t>
            </a: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63CE-69F2-4754-BB7B-F15535DDD62A}" type="datetime"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ooter Placeholder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EBC4-0C1B-4E5A-A5BB-B1669B7592D1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Franklin Gothic Book"/>
              </a:rPr>
              <a:t>Assessment : Physical manifestation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357120" y="114264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2060"/>
                </a:solidFill>
                <a:uFillTx/>
                <a:latin typeface="Perpetua"/>
              </a:rPr>
              <a:t>By the end of the session the student will be able to</a:t>
            </a:r>
            <a:r>
              <a:rPr b="0" lang="en-US" sz="3200" spc="-1" strike="noStrike" u="sng">
                <a:solidFill>
                  <a:srgbClr val="002060"/>
                </a:solidFill>
                <a:uFillTx/>
                <a:latin typeface="Perpetua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Perpetua"/>
              </a:rPr>
              <a:t> </a:t>
            </a:r>
            <a:r>
              <a:rPr b="0" lang="en-US" sz="3200" spc="-1" strike="noStrike">
                <a:solidFill>
                  <a:srgbClr val="002060"/>
                </a:solidFill>
                <a:latin typeface="Perpetua"/>
              </a:rPr>
              <a:t>Discuss etiological theories of mood disorders</a:t>
            </a:r>
            <a:r>
              <a:rPr b="0" lang="en-US" sz="3200" spc="-1" strike="noStrike">
                <a:solidFill>
                  <a:srgbClr val="00206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Perpetua"/>
              </a:rPr>
              <a:t>Identify special treatment measures for mood disorders</a:t>
            </a:r>
            <a:r>
              <a:rPr b="0" lang="en-US" sz="3200" spc="-1" strike="noStrike">
                <a:solidFill>
                  <a:srgbClr val="00206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Perpetua"/>
              </a:rPr>
              <a:t>Explain characteristics of depressive and manic disorders</a:t>
            </a:r>
            <a:r>
              <a:rPr b="0" lang="en-US" sz="3200" spc="-1" strike="noStrike">
                <a:solidFill>
                  <a:srgbClr val="00206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Perpetua"/>
              </a:rPr>
              <a:t>List at least nursing diagnoses appropriate for clients who experience mood disorders</a:t>
            </a:r>
            <a:r>
              <a:rPr b="0" lang="en-US" sz="3200" spc="-1" strike="noStrike">
                <a:solidFill>
                  <a:srgbClr val="00206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Perpetua"/>
              </a:rPr>
              <a:t>Describe nursing care goals &amp;strategies for intervening with clients who experience mood disorders</a:t>
            </a:r>
            <a:r>
              <a:rPr b="0" lang="en-US" sz="3200" spc="-1" strike="noStrike">
                <a:solidFill>
                  <a:srgbClr val="00206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2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9F09-F56E-44D7-BE6E-6F9B83D59B05}" type="datetime"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EC61-276C-481F-AFF0-E71651CEE681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d0d"/>
                </a:solidFill>
                <a:latin typeface="Franklin Gothic Book"/>
              </a:rPr>
              <a:t>Objectives</a:t>
            </a:r>
            <a:r>
              <a:rPr b="1" lang="en-US" sz="3600" spc="-1" strike="noStrike">
                <a:solidFill>
                  <a:srgbClr val="0d0d0d"/>
                </a:solidFill>
                <a:latin typeface="Franklin Gothic Book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714240" y="1714320"/>
            <a:ext cx="77155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Mood labiality: euphoria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Feelings of grandiosity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Inflated sense of self-worth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Assessment : Cognitive manifestation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Difficulty concentrating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Flight of ideas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Delusions of grandeur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Impaired judgment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7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ED1C-DC86-46CD-9F52-9CBA0DF204F3}" type="datetime"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ooter Placeholder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1FEC-D090-4EC4-AFF6-6B24D84D0B1D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94920" y="356760"/>
            <a:ext cx="8062920" cy="107172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Franklin Gothic Book"/>
              </a:rPr>
              <a:t>Assessment : Emotional manifestation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714240" y="1428480"/>
            <a:ext cx="77155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Hyperactivity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Impulsiveness, lack of inhibition, recklessness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Increased social contacts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Hyper sexuality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Verbosity: often rhyming and punning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Bizarre and eccentric appearance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96464"/>
                </a:solidFill>
                <a:latin typeface="Perpetu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2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4219-B72F-4AD4-A6E2-6A6E6012E15D}" type="datetime"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oter Placeholder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DAF8-7627-4710-B917-098DFDDCEB23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250920" y="285840"/>
            <a:ext cx="8207280" cy="107136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Franklin Gothic Book"/>
              </a:rPr>
              <a:t>Assessment : Behavioral manifestations</a:t>
            </a:r>
            <a:br>
              <a:rPr sz="3600"/>
            </a:b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713880" y="1571760"/>
            <a:ext cx="79297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Prevent the client from self-harm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Decrease disorientation, delusions, bizarre behavior and dress, sexual acting-out,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  hyperactivity, restlessness, agitation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Promote rest, sleep, and a nutritious diet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Assist with activities of daily living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Provide emotional support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Promote medication compliance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7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12F4-850F-4114-A8C5-ABC13D0C68F8}" type="datetime"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ooter Placeholder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03AF-71ED-41B8-86DA-CD15B3FB6861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-</a:t>
            </a:r>
            <a:r>
              <a:rPr b="1" lang="en-US" sz="4000" spc="-1" strike="noStrike">
                <a:solidFill>
                  <a:srgbClr val="002060"/>
                </a:solidFill>
                <a:latin typeface="Franklin Gothic Book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Franklin Gothic Book"/>
              </a:rPr>
              <a:t>Nursing care goal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324000" y="1357200"/>
            <a:ext cx="8177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Decrease environmental stimuli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Offer finger foods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Encourage short rest periods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Enforce minimal standards of personal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hygiene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Monitor medications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2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E187-8C7B-4C81-B768-530E687CB37C}" type="datetime"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ooter Placeholder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C3A2-5D1B-49F6-B753-7019E450E86F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Franklin Gothic Book"/>
              </a:rPr>
              <a:t>Nursing interventions: Physical need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42960" y="1356840"/>
            <a:ext cx="7858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Suggest sedentary activities, and offer motor activities in moderation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Define and explain acceptable behaviors, then set limits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Negotiate limits on demanding, manipulative behaviors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Avoid frustrating the client unnecessarily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7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AC11-EE3E-49B4-9180-8AD0D1F015FA}" type="datetime"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ooter Placeholder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BE19-8C61-4D2F-949D-4D1BE6961B62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title"/>
          </p:nvPr>
        </p:nvSpPr>
        <p:spPr>
          <a:xfrm>
            <a:off x="468360" y="285840"/>
            <a:ext cx="7989840" cy="107136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Franklin Gothic Book"/>
              </a:rPr>
              <a:t>Nursing interventions: Behavioral need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642960" y="1916280"/>
            <a:ext cx="7858080" cy="45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1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.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Safeguard the client from physical risks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2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Discourage the client from expensive purchases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3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Help the client identify behaviors that lead to a manic episode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4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Explore effects of behavior on others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5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Intervene when the client has DELUSIONS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6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Increase the client’s self-esteem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2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79ED-8D11-4608-A4D8-8A5B9565D240}" type="datetime"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ooter Placeholder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6A4F-3EEF-491F-8FA9-CBFFCB31EC6F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Franklin Gothic Book"/>
              </a:rPr>
              <a:t>Nursing interventions: Cognitive needs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179280" y="1052640"/>
            <a:ext cx="8785440" cy="55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Help the client become aware of underlying anger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Verbally acknowledge resistance to therapy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Teach the client to make decisions and accept responsibility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7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F098-D263-4BD5-9125-93CA8BBB3A12}" type="datetime"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ooter Placeholder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5751-45AE-4B21-B51B-A66C3598A746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323640" y="14292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Franklin Gothic Book"/>
              </a:rPr>
              <a:t>Nursing interventions : Emotional need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371" name="Picture 1" descr="C:\Users\Roro\Pictures\dreamstime_10493234%20woman%20at%20therapy.jpg"/>
          <p:cNvPicPr/>
          <p:nvPr/>
        </p:nvPicPr>
        <p:blipFill>
          <a:blip r:embed="rId1"/>
          <a:stretch/>
        </p:blipFill>
        <p:spPr>
          <a:xfrm>
            <a:off x="380880" y="3357720"/>
            <a:ext cx="829476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91520" cy="863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Franklin Gothic Book"/>
              </a:rPr>
              <a:t>Nursing interventions: Spiritual need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3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82F3-97F9-4EDB-8272-6F68C484FBA7}" type="datetime"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ooter Placeholder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ED37-2FEC-4AD4-A85E-54EAD7AB22EA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79280" y="1052640"/>
            <a:ext cx="8964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Help the client explore a meaningful philosophy of life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Arrange for a spiritual advisor to visit, if appropriate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77" name="Picture 2" descr="C:\Users\Roro\Pictures\CounsellingLondonPsychotherapy.jpg"/>
          <p:cNvPicPr/>
          <p:nvPr/>
        </p:nvPicPr>
        <p:blipFill>
          <a:blip r:embed="rId1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642960" y="1285920"/>
            <a:ext cx="78580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Perpetua"/>
              </a:rPr>
              <a:t>Classification</a:t>
            </a:r>
            <a:r>
              <a:rPr b="1" lang="en-US" sz="3200" spc="-1" strike="noStrike">
                <a:solidFill>
                  <a:srgbClr val="0d0d0d"/>
                </a:solidFill>
                <a:latin typeface="Perpetua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Perpetua"/>
              </a:rPr>
              <a:t>Etiology</a:t>
            </a:r>
            <a:r>
              <a:rPr b="1" lang="en-US" sz="3200" spc="-1" strike="noStrike">
                <a:solidFill>
                  <a:srgbClr val="0d0d0d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Perpetua"/>
              </a:rPr>
              <a:t>Epidemiology</a:t>
            </a:r>
            <a:r>
              <a:rPr b="1" lang="en-US" sz="3200" spc="-1" strike="noStrike">
                <a:solidFill>
                  <a:srgbClr val="0d0d0d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Perpetua"/>
              </a:rPr>
              <a:t>Special treatment measures</a:t>
            </a:r>
            <a:r>
              <a:rPr b="1" lang="en-US" sz="3200" spc="-1" strike="noStrike">
                <a:solidFill>
                  <a:srgbClr val="0d0d0d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Perpetua"/>
              </a:rPr>
              <a:t>Depressive reactions &amp; Manic reactions</a:t>
            </a:r>
            <a:r>
              <a:rPr b="1" lang="en-US" sz="3200" spc="-1" strike="noStrike">
                <a:solidFill>
                  <a:srgbClr val="0d0d0d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Perpetu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6464"/>
                </a:solidFill>
                <a:latin typeface="Perpetu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464"/>
                </a:solidFill>
                <a:latin typeface="Perpetu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96464"/>
                </a:solidFill>
                <a:latin typeface="Perpetu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Date Placeholder 4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1813-19B7-46A1-948A-B8F003EDAC3F}" type="datetime"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ooter Placeholder 6"/>
          <p:cNvSpPr/>
          <p:nvPr/>
        </p:nvSpPr>
        <p:spPr>
          <a:xfrm>
            <a:off x="914400" y="6237360"/>
            <a:ext cx="39625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B690-1E39-4E44-85FC-93CC93DFB155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250920" y="714240"/>
            <a:ext cx="58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  <a:ea typeface="Arial"/>
              </a:rPr>
              <a:t>Outlin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" descr="C:\Users\Roro\Pictures\images.jpg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395280" y="1268280"/>
            <a:ext cx="846288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A mood disorder is a severe disturbance in </a:t>
            </a:r>
            <a:r>
              <a:rPr b="1" lang="en-US" sz="2800" spc="-1" strike="noStrike" u="sng">
                <a:solidFill>
                  <a:srgbClr val="0070c0"/>
                </a:solidFill>
                <a:uFillTx/>
                <a:latin typeface="Perpetua"/>
              </a:rPr>
              <a:t>AFFECT 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manifested by extreme sadness  or euphoria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Mood change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1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Unipolar: only episodes of </a:t>
            </a:r>
            <a:r>
              <a:rPr b="1" lang="en-US" sz="2800" spc="-1" strike="noStrike" u="sng">
                <a:solidFill>
                  <a:srgbClr val="0070c0"/>
                </a:solidFill>
                <a:uFillTx/>
                <a:latin typeface="Perpetua"/>
              </a:rPr>
              <a:t>DEPREESSION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2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- </a:t>
            </a:r>
            <a:r>
              <a:rPr b="1" lang="en-US" sz="2800" spc="-1" strike="noStrike" u="sng">
                <a:solidFill>
                  <a:srgbClr val="002060"/>
                </a:solidFill>
                <a:uFillTx/>
                <a:latin typeface="Perpetua"/>
              </a:rPr>
              <a:t>Bipolar: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 MANIA alternating with depression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DSM-VI-R medical diagnose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1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Bipolar disorders, including manic and depressive disorders and cyclothymiacs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2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Depressive disorders, including major depression and dysthymia</a:t>
            </a:r>
            <a:r>
              <a:rPr b="1" lang="en-US" sz="2800" spc="-1" strike="noStrike">
                <a:solidFill>
                  <a:srgbClr val="002060"/>
                </a:solidFill>
                <a:latin typeface="Perpetu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4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CCE3-FE3C-4A11-9585-67C33D139F0D}" type="datetime"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50AB-E67B-483E-A24E-A3FEC226787D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83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Franklin Gothic Book"/>
              </a:rPr>
              <a:t>Mood disorde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642960" y="1285560"/>
            <a:ext cx="7786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Perpetua"/>
              </a:rPr>
              <a:t>A-</a:t>
            </a:r>
            <a:r>
              <a:rPr b="1" lang="en-US" sz="3200" spc="-1" strike="noStrike">
                <a:solidFill>
                  <a:srgbClr val="002060"/>
                </a:solidFill>
                <a:latin typeface="Perpetua"/>
              </a:rPr>
              <a:t> Genetic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Perpetua"/>
              </a:rPr>
              <a:t>Transmitted by the X-linked dominant gene</a:t>
            </a:r>
            <a:r>
              <a:rPr b="1" lang="en-US" sz="3200" spc="-1" strike="noStrike">
                <a:solidFill>
                  <a:srgbClr val="00206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Perpetua"/>
              </a:rPr>
              <a:t>B- Biologica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Perpetua"/>
              </a:rPr>
              <a:t>Electrolyte metabolism: disturbance in the distribution of sodium and potassium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Perpetua"/>
              </a:rPr>
              <a:t>Catecholamine deficiency or excess in the central nervous system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Perpetua"/>
              </a:rPr>
              <a:t>Biological rhythm disturbanc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Perpetua"/>
              </a:rPr>
              <a:t>Serotonin, nor epinephrine disturbanc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ED5A-9F97-46B1-8ADB-38F5B3A0587F}" type="datetime"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ooter Placeholder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01F9-9D17-4CDE-9AFB-201C50CBED43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1214280" y="333360"/>
            <a:ext cx="7243920" cy="95256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00000"/>
                </a:solidFill>
                <a:latin typeface="Franklin Gothic Book"/>
              </a:rPr>
              <a:t>Etiology</a:t>
            </a:r>
            <a:br>
              <a:rPr sz="2900"/>
            </a:br>
            <a:endParaRPr b="0" lang="en-US" sz="29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250560" y="980640"/>
            <a:ext cx="88930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Perpetua"/>
              </a:rPr>
              <a:t>D- Object-loss theory</a:t>
            </a:r>
            <a:r>
              <a:rPr b="1" lang="en-US" sz="2600" spc="-1" strike="noStrike">
                <a:solidFill>
                  <a:srgbClr val="00206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Perpetua"/>
              </a:rPr>
              <a:t>E- Cognitive model (Aaron Beck)</a:t>
            </a:r>
            <a:r>
              <a:rPr b="1" lang="en-US" sz="2600" spc="-1" strike="noStrike">
                <a:solidFill>
                  <a:srgbClr val="00206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Perpetua"/>
              </a:rPr>
              <a:t>  </a:t>
            </a:r>
            <a:r>
              <a:rPr b="1" lang="en-US" sz="2600" spc="-1" strike="noStrike">
                <a:solidFill>
                  <a:srgbClr val="002060"/>
                </a:solidFill>
                <a:latin typeface="Perpetua"/>
              </a:rPr>
              <a:t>Depression resulting from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Perpetua"/>
              </a:rPr>
              <a:t>1</a:t>
            </a:r>
            <a:r>
              <a:rPr b="1" lang="en-US" sz="2600" spc="-1" strike="noStrike">
                <a:solidFill>
                  <a:srgbClr val="002060"/>
                </a:solidFill>
                <a:latin typeface="Perpetua"/>
              </a:rPr>
              <a:t>- </a:t>
            </a:r>
            <a:r>
              <a:rPr b="1" lang="en-US" sz="2600" spc="-1" strike="noStrike">
                <a:solidFill>
                  <a:srgbClr val="002060"/>
                </a:solidFill>
                <a:latin typeface="Perpetua"/>
              </a:rPr>
              <a:t>Negative view of self</a:t>
            </a:r>
            <a:r>
              <a:rPr b="1" lang="en-US" sz="2600" spc="-1" strike="noStrike">
                <a:solidFill>
                  <a:srgbClr val="002060"/>
                </a:solidFill>
                <a:latin typeface="Perpetua"/>
              </a:rPr>
              <a:t> 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Perpetua"/>
              </a:rPr>
              <a:t>2</a:t>
            </a:r>
            <a:r>
              <a:rPr b="1" lang="en-US" sz="2600" spc="-1" strike="noStrike">
                <a:solidFill>
                  <a:srgbClr val="002060"/>
                </a:solidFill>
                <a:latin typeface="Perpetua"/>
              </a:rPr>
              <a:t>- </a:t>
            </a:r>
            <a:r>
              <a:rPr b="1" lang="en-US" sz="2600" spc="-1" strike="noStrike">
                <a:solidFill>
                  <a:srgbClr val="002060"/>
                </a:solidFill>
                <a:latin typeface="Perpetua"/>
              </a:rPr>
              <a:t>Negative cognitive set</a:t>
            </a:r>
            <a:r>
              <a:rPr b="1" lang="en-US" sz="2600" spc="-1" strike="noStrike">
                <a:solidFill>
                  <a:srgbClr val="00206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Perpetua"/>
              </a:rPr>
              <a:t>3</a:t>
            </a:r>
            <a:r>
              <a:rPr b="1" lang="en-US" sz="2600" spc="-1" strike="noStrike">
                <a:solidFill>
                  <a:srgbClr val="002060"/>
                </a:solidFill>
                <a:latin typeface="Perpetua"/>
              </a:rPr>
              <a:t>- </a:t>
            </a:r>
            <a:r>
              <a:rPr b="1" lang="en-US" sz="2600" spc="-1" strike="noStrike">
                <a:solidFill>
                  <a:srgbClr val="002060"/>
                </a:solidFill>
                <a:latin typeface="Perpetua"/>
              </a:rPr>
              <a:t>View of adverse event as a personal shortcoming: expectations of failure</a:t>
            </a:r>
            <a:r>
              <a:rPr b="1" lang="en-US" sz="2600" spc="-1" strike="noStrike">
                <a:solidFill>
                  <a:srgbClr val="00206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Perpetua"/>
              </a:rPr>
              <a:t>F-Learned helplessn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Perpetua"/>
              </a:rPr>
              <a:t>G- Behavioral model ( P. Lewiston 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Perpetua"/>
              </a:rPr>
              <a:t>1</a:t>
            </a:r>
            <a:r>
              <a:rPr b="1" lang="en-US" sz="2600" spc="-1" strike="noStrike">
                <a:solidFill>
                  <a:srgbClr val="002060"/>
                </a:solidFill>
                <a:latin typeface="Perpetua"/>
              </a:rPr>
              <a:t>- </a:t>
            </a:r>
            <a:r>
              <a:rPr b="1" lang="en-US" sz="2600" spc="-1" strike="noStrike">
                <a:solidFill>
                  <a:srgbClr val="002060"/>
                </a:solidFill>
                <a:latin typeface="Perpetua"/>
              </a:rPr>
              <a:t>Depression caused by person-behavior-environment interaction</a:t>
            </a:r>
            <a:r>
              <a:rPr b="1" lang="en-US" sz="2600" spc="-1" strike="noStrike">
                <a:solidFill>
                  <a:srgbClr val="002060"/>
                </a:solidFill>
                <a:latin typeface="Perpetu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Perpetua"/>
              </a:rPr>
              <a:t>2</a:t>
            </a:r>
            <a:r>
              <a:rPr b="1" lang="en-US" sz="2600" spc="-1" strike="noStrike">
                <a:solidFill>
                  <a:srgbClr val="002060"/>
                </a:solidFill>
                <a:latin typeface="Perpetua"/>
              </a:rPr>
              <a:t>- </a:t>
            </a:r>
            <a:r>
              <a:rPr b="1" lang="en-US" sz="2600" spc="-1" strike="noStrike">
                <a:solidFill>
                  <a:srgbClr val="002060"/>
                </a:solidFill>
                <a:latin typeface="Perpetua"/>
              </a:rPr>
              <a:t>Low rate of positive: reinforcement or lack of rewarding interact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4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F56E-270D-4BAB-9F3E-E028B8047F30}" type="datetime"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ooter Placeholder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2F45-A1EB-43FF-99EF-81D41D7256E3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324000" y="259920"/>
            <a:ext cx="8162640" cy="10810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Franklin Gothic Book"/>
              </a:rPr>
              <a:t>C- Aggression-turned-inward theory </a:t>
            </a:r>
            <a:br>
              <a:rPr sz="2400"/>
            </a:br>
            <a:r>
              <a:rPr b="0" lang="en-US" sz="2400" spc="-1" strike="noStrike">
                <a:solidFill>
                  <a:srgbClr val="002060"/>
                </a:solidFill>
                <a:latin typeface="Franklin Gothic Book"/>
              </a:rPr>
              <a:t>(Sigmund Freud)</a:t>
            </a:r>
            <a:br>
              <a:rPr sz="2400"/>
            </a:b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Franklin Gothic Book"/>
              </a:rPr>
              <a:t>H- Sociological theories and stress factors</a:t>
            </a:r>
            <a:r>
              <a:rPr b="1" lang="en-US" sz="3200" spc="-1" strike="noStrike">
                <a:solidFill>
                  <a:srgbClr val="c00000"/>
                </a:solidFill>
                <a:latin typeface="Franklin Gothic Book"/>
              </a:rPr>
              <a:t> </a:t>
            </a:r>
            <a:r>
              <a:rPr b="0" lang="en-US" sz="3200" spc="-1" strike="noStrike">
                <a:solidFill>
                  <a:srgbClr val="696464"/>
                </a:solidFill>
                <a:latin typeface="Franklin Gothic Book"/>
              </a:rPr>
              <a:t>.</a:t>
            </a:r>
            <a:br>
              <a:rPr sz="3600"/>
            </a:b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9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EBF4-FAF6-426C-B158-B092EC2603FE}" type="datetime"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7D37-DFC6-4615-B11F-A3C60705CD1C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68360" y="1052640"/>
            <a:ext cx="8229600" cy="50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Perpetua"/>
              </a:rPr>
              <a:t>1</a:t>
            </a:r>
            <a:r>
              <a:rPr b="1" lang="en-US" sz="3600" spc="-1" strike="noStrike">
                <a:solidFill>
                  <a:srgbClr val="c00000"/>
                </a:solidFill>
                <a:latin typeface="Perpetua"/>
              </a:rPr>
              <a:t>- </a:t>
            </a:r>
            <a:r>
              <a:rPr b="1" lang="en-US" sz="3600" spc="-1" strike="noStrike">
                <a:solidFill>
                  <a:srgbClr val="c00000"/>
                </a:solidFill>
                <a:latin typeface="Perpetua"/>
              </a:rPr>
              <a:t>Loss</a:t>
            </a:r>
            <a:r>
              <a:rPr b="1" lang="en-US" sz="3600" spc="-1" strike="noStrike">
                <a:solidFill>
                  <a:srgbClr val="c00000"/>
                </a:solidFill>
                <a:latin typeface="Perpetu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Perpetua"/>
              </a:rPr>
              <a:t>2</a:t>
            </a:r>
            <a:r>
              <a:rPr b="1" lang="en-US" sz="3600" spc="-1" strike="noStrike">
                <a:solidFill>
                  <a:srgbClr val="c00000"/>
                </a:solidFill>
                <a:latin typeface="Perpetua"/>
              </a:rPr>
              <a:t>- </a:t>
            </a:r>
            <a:r>
              <a:rPr b="1" lang="en-US" sz="3600" spc="-1" strike="noStrike">
                <a:solidFill>
                  <a:srgbClr val="c00000"/>
                </a:solidFill>
                <a:latin typeface="Perpetua"/>
              </a:rPr>
              <a:t>Major life events</a:t>
            </a:r>
            <a:r>
              <a:rPr b="1" lang="en-US" sz="3600" spc="-1" strike="noStrike">
                <a:solidFill>
                  <a:srgbClr val="c00000"/>
                </a:solidFill>
                <a:latin typeface="Perpetu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Perpetua"/>
              </a:rPr>
              <a:t>3</a:t>
            </a:r>
            <a:r>
              <a:rPr b="1" lang="en-US" sz="3600" spc="-1" strike="noStrike">
                <a:solidFill>
                  <a:srgbClr val="c00000"/>
                </a:solidFill>
                <a:latin typeface="Perpetua"/>
              </a:rPr>
              <a:t>- </a:t>
            </a:r>
            <a:r>
              <a:rPr b="1" lang="en-US" sz="3600" spc="-1" strike="noStrike">
                <a:solidFill>
                  <a:srgbClr val="c00000"/>
                </a:solidFill>
                <a:latin typeface="Perpetua"/>
              </a:rPr>
              <a:t>Role strain</a:t>
            </a:r>
            <a:r>
              <a:rPr b="1" lang="en-US" sz="3600" spc="-1" strike="noStrike">
                <a:solidFill>
                  <a:srgbClr val="c00000"/>
                </a:solidFill>
                <a:latin typeface="Perpetu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Perpetua"/>
              </a:rPr>
              <a:t>4</a:t>
            </a:r>
            <a:r>
              <a:rPr b="1" lang="en-US" sz="3600" spc="-1" strike="noStrike">
                <a:solidFill>
                  <a:srgbClr val="c00000"/>
                </a:solidFill>
                <a:latin typeface="Perpetua"/>
              </a:rPr>
              <a:t>- </a:t>
            </a:r>
            <a:r>
              <a:rPr b="1" lang="en-US" sz="3600" spc="-1" strike="noStrike">
                <a:solidFill>
                  <a:srgbClr val="c00000"/>
                </a:solidFill>
                <a:latin typeface="Perpetua"/>
              </a:rPr>
              <a:t>Change in familiar environment</a:t>
            </a:r>
            <a:r>
              <a:rPr b="1" lang="en-US" sz="3600" spc="-1" strike="noStrike">
                <a:solidFill>
                  <a:srgbClr val="c00000"/>
                </a:solidFill>
                <a:latin typeface="Perpetua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Perpetua"/>
              </a:rPr>
              <a:t>5</a:t>
            </a:r>
            <a:r>
              <a:rPr b="1" lang="en-US" sz="3600" spc="-1" strike="noStrike">
                <a:solidFill>
                  <a:srgbClr val="c00000"/>
                </a:solidFill>
                <a:latin typeface="Perpetua"/>
              </a:rPr>
              <a:t>- </a:t>
            </a:r>
            <a:r>
              <a:rPr b="1" lang="en-US" sz="3600" spc="-1" strike="noStrike">
                <a:solidFill>
                  <a:srgbClr val="c00000"/>
                </a:solidFill>
                <a:latin typeface="Perpetua"/>
              </a:rPr>
              <a:t>Change in economic conditions or coping resources</a:t>
            </a:r>
            <a:r>
              <a:rPr b="1" lang="en-US" sz="3600" spc="-1" strike="noStrike">
                <a:solidFill>
                  <a:srgbClr val="c00000"/>
                </a:solidFill>
                <a:latin typeface="Perpetu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Perpetua"/>
              </a:rPr>
              <a:t>6</a:t>
            </a:r>
            <a:r>
              <a:rPr b="1" lang="en-US" sz="3600" spc="-1" strike="noStrike">
                <a:solidFill>
                  <a:srgbClr val="c00000"/>
                </a:solidFill>
                <a:latin typeface="Perpetua"/>
              </a:rPr>
              <a:t>- </a:t>
            </a:r>
            <a:r>
              <a:rPr b="1" lang="en-US" sz="3600" spc="-1" strike="noStrike">
                <a:solidFill>
                  <a:srgbClr val="c00000"/>
                </a:solidFill>
                <a:latin typeface="Perpetua"/>
              </a:rPr>
              <a:t>Physiologic changes</a:t>
            </a:r>
            <a:r>
              <a:rPr b="1" lang="en-US" sz="3600" spc="-1" strike="noStrike">
                <a:solidFill>
                  <a:srgbClr val="c00000"/>
                </a:solidFill>
                <a:latin typeface="Perpetu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71680" y="1268280"/>
            <a:ext cx="785808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Perpetua"/>
              </a:rPr>
              <a:t>A- Electroconvulsive therapy (ECT)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Perpetua"/>
              </a:rPr>
              <a:t>B- Antidepressant medication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Perpetua"/>
              </a:rPr>
              <a:t>C- Lithium therapy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Perpetua"/>
              </a:rPr>
              <a:t>D- Group and individual therapies</a:t>
            </a:r>
            <a:r>
              <a:rPr b="1" lang="en-US" sz="3600" spc="-1" strike="noStrike">
                <a:solidFill>
                  <a:srgbClr val="002060"/>
                </a:solidFill>
                <a:latin typeface="Perpetua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Perpetua"/>
              </a:rPr>
              <a:t>E- Phototherapy</a:t>
            </a:r>
            <a:r>
              <a:rPr b="1" lang="en-US" sz="3600" spc="-1" strike="noStrike">
                <a:solidFill>
                  <a:srgbClr val="002060"/>
                </a:solidFill>
                <a:latin typeface="Perpetu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Perpetua"/>
              </a:rPr>
              <a:t>F- Sleep manipulation</a:t>
            </a:r>
            <a:r>
              <a:rPr b="1" lang="en-US" sz="3600" spc="-1" strike="noStrike">
                <a:solidFill>
                  <a:srgbClr val="002060"/>
                </a:solidFill>
                <a:latin typeface="Perpetua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4" name="Date Placeholder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ECF3-1F3A-4FFA-B258-DDAC8F3BB685}" type="datetime"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ooter Placeholder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629C-0639-4035-99A1-C8557744D7AB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Franklin Gothic Book"/>
              </a:rPr>
              <a:t>V- Special treatment measures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78" name="Picture 1" descr="C:\Users\Roro\Pictures\dd.jpg"/>
          <p:cNvPicPr/>
          <p:nvPr/>
        </p:nvPicPr>
        <p:blipFill>
          <a:blip r:embed="rId1"/>
          <a:stretch/>
        </p:blipFill>
        <p:spPr>
          <a:xfrm>
            <a:off x="5435640" y="3789360"/>
            <a:ext cx="370836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Date Placeholder 1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4C03-D2F5-440E-A888-1EF29ED0FCE1}" type="datetime"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ooter Placeholder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  <a:ea typeface="Arial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4E44-9FA0-4E90-9ECB-3624A771AC8E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Roro\Pictures\imagesCAW2NZSP.jpg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5"/>
          <p:cNvSpPr/>
          <p:nvPr/>
        </p:nvSpPr>
        <p:spPr>
          <a:xfrm>
            <a:off x="1979640" y="26028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2060"/>
                </a:solidFill>
                <a:uFillTx/>
                <a:latin typeface="Arial"/>
              </a:rPr>
              <a:t>Depre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2T17:58:29Z</dcterms:created>
  <dc:creator>dell</dc:creator>
  <dc:description/>
  <dc:language>en-US</dc:language>
  <cp:lastModifiedBy>Elham Fayad</cp:lastModifiedBy>
  <dcterms:modified xsi:type="dcterms:W3CDTF">2015-02-15T11:28:04Z</dcterms:modified>
  <cp:revision>67</cp:revision>
  <dc:subject/>
  <dc:title>Mood Disorders</dc:title>
</cp:coreProperties>
</file>