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E504-EECD-43A0-BDA2-2D6D00280DA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47A-F9F8-4AA0-9124-11102FCD995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809-A188-4E4A-B712-70342B86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D90-A478-4C5C-88A4-47B1E99A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277-4F90-47A7-B690-429DE325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1FA-0C4C-437B-8CB7-D4C8BF6A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1F27-5A7D-4AAA-9715-B1491CEB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5DF1-6613-4E3F-98A0-9999C92A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5D7D-D2F1-42C6-A182-9C62829F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FE7D-9204-411E-9E08-D6DF8925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F782-22DE-41AE-95FD-231CCCF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7BF5-FB1F-45C8-AAA9-47EEAFF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F01-E5E4-47AA-9017-3D90682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311-A7DD-484F-89CE-9074DC51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1B1D-5EBC-4794-AFCB-C643636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FB01-2A8A-44AF-AA93-E4D24DA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D26F-67BD-401A-8E27-833F2FC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10ED-2237-4A90-938D-B81196E9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F5FD-16C5-4FDB-B7BB-DD6C0972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A041-1449-42BD-AD32-D01BA1DE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1D41-29D2-4121-A0A3-072D974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BC86-3726-4D00-86E3-A1871C3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4265-75D4-4B99-B57F-C96CE7EE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A4A0-EF2E-4EE9-9324-1307DD2A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E0D-94C5-4224-9798-8CA48181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0BBC-8421-4111-A3F3-7025DA62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8A34-9A14-4AA4-AA6A-57037FB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1D69-7A38-4790-895B-FAED0F1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392A-08C8-4363-A284-D774B3E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C99D-499E-43AE-9EE0-9D6B2DA1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7E73-56DF-485F-A755-BB06EC84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95FD-30DD-4862-B405-62810ED7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E1D3-B5A8-4F19-8F7A-1AB552A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6B60-4766-4ED4-B282-D3ACD1E5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A891-72C1-40AC-8460-B63A1536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CCC-5C25-4FA8-817E-CB297AC4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75CF-DDD1-4502-A828-1F79AC4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2B2FF-2BCF-4980-82E8-F0A7B73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CD30-550D-4AE2-863C-DBB2CD72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6A84-6DC0-49C7-8A34-C71295B3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49C2-7CC2-4E2A-AC6C-80114D5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6574-9DF5-46A3-B394-E7D3865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6ACC-E585-4F15-A82C-49C15046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8DB7-D5FD-4298-9969-17EB0C55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E3A6-CD18-42CB-9B92-C54F082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85AA-3A8A-4F6C-A9F2-DDDFE1D8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0CA-353B-48D5-A518-3E86D77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608C-7519-4E4C-9EDB-7E04FE4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AACF-6AB1-40D9-AEAE-A40F3DA7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A637-4D80-4368-A9F6-D2D7FD4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087D-B2B9-40A2-8675-6C2FCF8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DDCE-9BF3-4512-8985-BAD0035B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D8BC-BEF3-4B13-B32E-62CE9C1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5FC4-16D2-456B-B0F0-6470144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B097-639A-4F3A-A0A8-E5A0C6F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CCE0-5E5C-4AA6-BD69-4DDD0CA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B50F-2C2B-48E9-B055-271CBE48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0B0-A8D1-4192-82B4-8C25478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4BA43-9459-4F85-81CD-4A09CE6B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B1A-A2F2-4D6D-9D81-0AB9BEB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F53-ED64-4DF8-B02D-E7C0B95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847-52EE-4368-9C44-2AEEB10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B60-0C0D-40A7-A4AC-8E4F2456C09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D09-CAE6-455E-874B-D2F50A1FD2E9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E2DB-6C5B-4E73-B068-1E32F7A39AB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6812-AFBA-4530-9BCE-50934C2967F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1324-771D-44DA-877A-59CDA411C0E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73F2-9401-4067-BCAE-E23F3904666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F882-2FB5-4E4D-AE82-D7E717F20F7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245-E85A-4568-8461-E0937317970C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9D5A-53A6-4CDE-8466-64C0363BE49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DB94-97C1-40B2-8435-3034A95BA29C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PROF. DR. ELHAM FAYA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7733-6593-416E-8C63-992105ACAE4C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49CB-B016-4858-9710-C643FB77E90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704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Mood Disorder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http://t1.gstatic.com/images?q=tbn:ANd9GcS4mFCA1LIKAa_0dDQFVEu0i5kHAloxR7oensMCQoBdqXjFvn2H-Q"/>
          <p:cNvPicPr/>
          <p:nvPr/>
        </p:nvPicPr>
        <p:blipFill>
          <a:blip r:embed="rId1"/>
          <a:stretch/>
        </p:blipFill>
        <p:spPr>
          <a:xfrm>
            <a:off x="539640" y="3213000"/>
            <a:ext cx="82234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13840" y="1413000"/>
            <a:ext cx="864396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ntense, pervasive , and persistent depress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ltered reality orient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ffective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spair and hopelessness, worthlessness,  helplessness, lonelines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gnitive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nfusion ,indecisiveness, self-blame and self-deprecation, wish to die, possible delusions or hallucination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FB02-53D1-4174-9732-2E768CC027A6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22BB-2988-465F-86DA-5B1C6F10312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7280" cy="718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Depressive react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3600" spc="-1" strike="noStrike" u="sng">
                <a:solidFill>
                  <a:srgbClr val="002060"/>
                </a:solidFill>
                <a:uFillTx/>
                <a:latin typeface="Franklin Gothic Book"/>
              </a:rPr>
              <a:t>Assessment: characteristics of severe depression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Franklin Gothic Book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Cont. assess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F899-451C-42ED-8338-4BE0E983DAF9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8FBA-452C-4974-9C98-9C3725E45DB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0920" y="1447920"/>
            <a:ext cx="86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havioral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sychomotor retardation ; agit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low responses, neglect appearance,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social withdrawal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hysiologic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nstipation, urine retention, amenorrhea, lack of sexual  interest, impotence, marked weight loss, insomnia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42600" y="171468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Promote adequate nutrition, hydration,elimination,rest,sleep,and activity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Stop withdrawn behavior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Prevent the client from self-harm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ecrease  disorientation, rumination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hallucinations, and delusion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Promote feelings of self-worth and articulation of feel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33A-3329-499C-9537-064B55B5654F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3D21-024D-48DC-A37B-4A3C11EC17D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Nursing  go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42960" y="1357200"/>
            <a:ext cx="7858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Monitor and record nutritional intake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Weigh the client daily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Encourage small, frequent high-fiber meal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Teach methods to help the client relax and sleep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Assist the client in getting out of bed and taking care of personal hygien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Encourage exercise to prevent constipation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9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Observe for medication compliance and side effect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C4A-7C37-446B-BEB2-51A6A7557293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8BD-5267-4358-9D25-0C118DAA9F2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Book"/>
              </a:rPr>
              <a:t>Nursing  </a:t>
            </a:r>
            <a:r>
              <a:rPr b="1" lang="en-US" sz="2900" spc="-1" strike="noStrike">
                <a:solidFill>
                  <a:srgbClr val="002060"/>
                </a:solidFill>
                <a:latin typeface="Franklin Gothic Book"/>
              </a:rPr>
              <a:t>intervention physical needs</a:t>
            </a:r>
            <a:r>
              <a:rPr b="1" lang="en-US" sz="29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14240" y="1557360"/>
            <a:ext cx="7786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Mobilize the client to productive activity by assigning therapeutic tasks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Provide opportunities for increased involvement in activities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lect activities that ensure success and accomplishment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Provide opportunities for exercise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26C-E909-4367-9B62-25EC778513A5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84C7-A455-4A93-8DED-9E3DB7BF62B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 : Behavioral need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85808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ncrease self-esteem and sense of control over behavio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odify negative expectations and explore the extent of negative thinking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bstitute positive thoughts for negativ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stablish realistic goal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E5F4-AE0E-4D68-8E1E-5A3EEE0B9332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666A-F15F-49EE-92F8-73102731A75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060"/>
                </a:solidFill>
                <a:latin typeface="Franklin Gothic Book"/>
              </a:rPr>
              <a:t>Nursing interventions : Cognitive needs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4" name="Picture 2" descr="http://t0.gstatic.com/images?q=tbn:ANd9GcRzJmwqnUmOrhbKtH6dOfle_6as6sKJlnnQH7gkOA5kvUzpks3p"/>
          <p:cNvPicPr/>
          <p:nvPr/>
        </p:nvPicPr>
        <p:blipFill>
          <a:blip r:embed="rId1"/>
          <a:stretch/>
        </p:blipFill>
        <p:spPr>
          <a:xfrm>
            <a:off x="5435640" y="3645000"/>
            <a:ext cx="3708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2960" y="1412640"/>
            <a:ext cx="7786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lowly and cautiously make the client aware of unconscious feeling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lan activities that allow for physical sublimation of aggressive feeling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alk about the universality of feeling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ncourage constructive expression when the client discusses ange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vide hop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E69C-5D31-4C9D-9339-B5C833EC0777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6FC-97F2-482B-B04C-B2C10B4631F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ranklin Gothic Book"/>
              </a:rPr>
              <a:t>Nursing interventions: Emotional needs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42960" y="149976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ssess the client’s loss of belief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Help the client explore spiritual beliefs or a meaningful philosophy of lif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rrange for a spiritual advisor to visit, if appropriat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EFF9-EA2E-4A97-A403-C724F23E1293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BF3-DD75-4249-BD1C-AECC7A5512F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Spiritu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96472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ssessment: Characteristic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ndition that usually develops more rapidly than depressive reaction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ilure to view behavior as inappropriat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ladaptive defense against depress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A4A1-FC1D-4E45-A4B2-2F95F4FAA891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69F-1793-47FE-80A0-BE6D5FF7656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6c5d"/>
                </a:solidFill>
                <a:latin typeface="Franklin Gothic Book"/>
              </a:rPr>
              <a:t>Manic re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35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714240" y="171432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teriorated physical appearanc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Increased energy: feeling of being “charged up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”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Increased sexual interest and activity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creased sleep disturbanc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E93A-2358-49C1-9679-1F99D8DED131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132-8838-40BB-BEAB-3CB1A0535C1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Assessment : Physical manifesta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Perpetua"/>
              </a:rPr>
              <a:t>By the end of the session the student will be able to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Perpetu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erpetua"/>
              </a:rPr>
              <a:t> 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Discuss etiological theories of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Identify special treatment measures for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Explain characteristics of depressive and manic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List at least nursing diagnoses appropriate for clients who experience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Describe nursing care goals &amp;strategies for intervening with clients who experience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2A3-95D1-4AD6-BA08-9CB49C1012D6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BA5-2B3C-4AAC-AD62-D65788A67CA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Franklin Gothic Book"/>
              </a:rPr>
              <a:t>Objectives</a:t>
            </a:r>
            <a:r>
              <a:rPr b="1" lang="en-US" sz="3600" spc="-1" strike="noStrike">
                <a:solidFill>
                  <a:srgbClr val="0d0d0d"/>
                </a:solidFill>
                <a:latin typeface="Franklin Gothic Book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14240" y="1714320"/>
            <a:ext cx="7715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ood labiality: euphoria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eelings of grandiosity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nflated sense of self-wor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ssessment : Cognitive manifesta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ifficulty concentrating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light of idea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lusions of grandeur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mpaired judg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D75-DC16-4C97-8702-17CC808C3E16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3D9B-52BC-4975-A1CF-AB3AB705537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94920" y="356760"/>
            <a:ext cx="806292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Assessment : Emotional manifesta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14240" y="1428480"/>
            <a:ext cx="7715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yperactivit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ulsiveness, lack of inhibition, recklessnes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ncreased social contact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yper sexualit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Verbosity: often rhyming and punning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izarre and eccentric appearanc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93A-2245-41F3-BC1A-EFBA4D7DC9EC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3A6-8C61-4091-A841-2CC449AC3C0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50920" y="285840"/>
            <a:ext cx="820728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ranklin Gothic Book"/>
              </a:rPr>
              <a:t>Assessment : Behavioral manifestations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13880" y="157176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vent the client from self-harm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crease disorientation, delusions, bizarre behavior and dress, sexual acting-out,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 hyperactivity, restlessness, agit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mote rest, sleep, and a nutritious diet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ssist with activities of daily living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vide emotional support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mote medication complianc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B16C-D616-44F4-9C86-F428F645D9CC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43A-8ADF-489D-8F8B-4F9FE3EB238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Nursing care go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24000" y="1357200"/>
            <a:ext cx="8177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crease environmental stimuli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ffer finger food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Encourage short rest period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Enforce minimal standards of persona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ygiene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onitor medication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C178-E42C-4861-87CB-28A1770C13E0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979B-41F8-4DD2-8D8B-57EC442B456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Physic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2960" y="135684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ggest sedentary activities, and offer motor activities in moder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fine and explain acceptable behaviors, then set limit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gotiate limits on demanding, manipulative behavior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oid frustrating the client unnecessaril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210-6F5D-44D2-8A05-83D83940FFF1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E6D7-F900-4915-AEB4-D11B8D1C835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468360" y="285840"/>
            <a:ext cx="798984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Behavior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2960" y="1916280"/>
            <a:ext cx="785808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Safeguard the client from physical risk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iscourage the client from expensive purchase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Help the client identify behaviors that lead to a manic episode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Explore effects of behavior on other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Intervene when the client has DELUSION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Increase the client’s self-esteem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BC4-C956-4362-A7D2-87BCC9594115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7600-C5FD-4E61-BAC4-98FAEBB1B2C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Cognitive need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elp the client become aware of underlying anger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Verbally acknowledge resistance to therap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ch the client to make decisions and accept responsibilit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028-CE60-417E-933C-598AEE6DDA0E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7C8-DDDD-4EA6-B87A-37313CB041A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23640" y="14292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Franklin Gothic Book"/>
              </a:rPr>
              <a:t>Nursing interventions : Emotion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71" name="Picture 1" descr="C:\Users\Roro\Pictures\dreamstime_10493234%20woman%20at%20therapy.jpg"/>
          <p:cNvPicPr/>
          <p:nvPr/>
        </p:nvPicPr>
        <p:blipFill>
          <a:blip r:embed="rId1"/>
          <a:stretch/>
        </p:blipFill>
        <p:spPr>
          <a:xfrm>
            <a:off x="380880" y="3357720"/>
            <a:ext cx="8294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Nursing interventions: Spiritu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F3B7-7042-4DBB-8FD7-AB0CA163FE37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BA0-AB53-4276-9152-D077096D954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lp the client explore a meaningful philosophy of lif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rrange for a spiritual advisor to visit, if appropriate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7" name="Picture 2" descr="C:\Users\Roro\Pictures\CounsellingLondonPsychotherapy.jpg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42960" y="1285920"/>
            <a:ext cx="7858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Classification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Etiology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Epidemiology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Special treatment measures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Depressive reactions &amp; Manic reactions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Date Placeholder 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13F-1025-4034-BD15-00E8D20F3FCC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6"/>
          <p:cNvSpPr/>
          <p:nvPr/>
        </p:nvSpPr>
        <p:spPr>
          <a:xfrm>
            <a:off x="914400" y="6237360"/>
            <a:ext cx="3962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A43-1692-4DC0-BF08-4EC6FC809A5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50920" y="714240"/>
            <a:ext cx="58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Outl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C:\Users\Roro\Pictures\images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46288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A mood disorder is a severe disturbance in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AFFECT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manifested by extreme sadness  or euphoria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Mood chang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Unipolar: only episodes of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DEPREESSION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Perpetua"/>
              </a:rPr>
              <a:t>Bipolar: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MANIA alternating with depression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SM-VI-R medical diagno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Bipolar disorders, including manic and depressive disorders and cyclothymiac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epressive disorders, including major depression and dysthymia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4D5E-5B03-44CD-9133-669C95106169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746C-AB1D-453A-920F-E13C1466CD7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Mood disord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Perpetua"/>
              </a:rPr>
              <a:t>A-</a:t>
            </a: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 Genetic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Transmitted by the X-linked dominant gene</a:t>
            </a: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B- Biologic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Electrolyte metabolism: disturbance in the distribution of sodium and potassium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Catecholamine deficiency or excess in the central nervous system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Biological rhythm disturban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Serotonin, nor epinephrine disturban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648A-EC1B-4803-927E-CEBB4DAA974B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DB68-25BB-4D7C-8EF3-78A60D8B764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214280" y="333360"/>
            <a:ext cx="7243920" cy="952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Franklin Gothic Book"/>
              </a:rPr>
              <a:t>Etiology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D- Object-loss theory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E- Cognitive model (Aaron Beck)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Depression resulting fr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Negative view of self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Negative cognitive set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View of adverse event as a personal shortcoming: expectations of failure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F-Learned helpless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G- Behavioral model ( P. Lewiston 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Depression caused by person-behavior-environment interaction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Low rate of positive: reinforcement or lack of rewarding interac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958-8E1E-460D-81B0-2E0CE929A33D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6F7D-E6D5-49E5-B9E8-FDED37C59D2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6264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ranklin Gothic Book"/>
              </a:rPr>
              <a:t>C- Aggression-turned-inward theory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Franklin Gothic Book"/>
              </a:rPr>
              <a:t>(Sigmund Freud)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- Sociological theories and stress factors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C0A-EA57-4CE2-9BEC-7A29EB8DB36E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5697-8B89-4FFA-8435-A775541E080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105264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1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Los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Major life event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Role strain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Change in familiar environment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Change in economic conditions or coping resource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6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Physiologic change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71680" y="1268280"/>
            <a:ext cx="78580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A- Electroconvulsive therapy (ECT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B- Antidepressant medic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C- Lithium therap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D- Group and individual therapies</a:t>
            </a: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E- Phototherapy</a:t>
            </a: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F- Sleep manipulation</a:t>
            </a: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C30-4B1A-4872-B825-A6D56357DBC9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F17-2411-4A37-8681-14919432F03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V- Special treatment measure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8" name="Picture 1" descr="C:\Users\Roro\Pictures\dd.jpg"/>
          <p:cNvPicPr/>
          <p:nvPr/>
        </p:nvPicPr>
        <p:blipFill>
          <a:blip r:embed="rId1"/>
          <a:stretch/>
        </p:blipFill>
        <p:spPr>
          <a:xfrm>
            <a:off x="5435640" y="3789360"/>
            <a:ext cx="3708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FDD9-4455-4FC5-9E23-074BC6921DAD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B22-2C2D-4B1B-BC91-65AED5E2495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Roro\Pictures\imagesCAW2NZSP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1979640" y="26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7:58:29Z</dcterms:created>
  <dc:creator>dell</dc:creator>
  <dc:description/>
  <dc:language>en-US</dc:language>
  <cp:lastModifiedBy>Elham Fayad</cp:lastModifiedBy>
  <dcterms:modified xsi:type="dcterms:W3CDTF">2015-02-15T11:28:04Z</dcterms:modified>
  <cp:revision>67</cp:revision>
  <dc:subject/>
  <dc:title>Mood Disorders</dc:title>
</cp:coreProperties>
</file>