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487-800E-47DB-9723-D69BB4C8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F77-06B1-4B0A-B845-B3DA0B4F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1D0-A753-4922-8CDD-482DFB58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101-BC30-4C89-8327-18382107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C30B-5D2E-41CF-952A-FA76AFCF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E87D-EAA6-4337-9C45-27370B8D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7C84-1559-42B1-889F-55958D93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6879-D4CF-4ECB-ADE9-362588A0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624B-8A99-49B2-B9D7-4EDA76ED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31C1-C5CE-489F-8094-60E1F01E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DC12-5AC8-4243-AA15-8611B3F0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5DE-F258-4B3A-B241-3662E48C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5595-8236-4BC0-B579-8E1E341C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1D19-B69E-4E09-8609-8D2147AB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5540-1BE3-43FD-A267-3EC6CFD2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7291-D67F-4D0F-8958-57A35F97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7B3A-63A1-4FF9-9FEE-8D62BB91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A20-13FC-4E45-A761-5D58D723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790-B304-4940-8804-627F0E13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B17-3AEA-44EB-80F3-F0F9ACCD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6C5-EED9-4F06-B3AF-4C94E3DA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D19-E453-4BD4-BD65-9D8298C0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14E-43B8-4379-AB30-A285BA25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6B9-5E5D-418D-BEEF-FDB2E4AC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89C5-A893-492F-AD45-AF7FE6D88E1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7D6E-AE91-4C04-B48B-0B0652307A1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SYCHOLO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210400" y="1697760"/>
            <a:ext cx="4722840" cy="4656600"/>
            <a:chOff x="2210400" y="1697760"/>
            <a:chExt cx="4722840" cy="4656600"/>
          </a:xfrm>
        </p:grpSpPr>
        <p:sp>
          <p:nvSpPr>
            <p:cNvPr id="182" name="_s109575"/>
            <p:cNvSpPr/>
            <p:nvPr/>
          </p:nvSpPr>
          <p:spPr>
            <a:xfrm flipV="1">
              <a:off x="4098960" y="1697400"/>
              <a:ext cx="945720" cy="932040"/>
            </a:xfrm>
            <a:custGeom>
              <a:avLst/>
              <a:gdLst>
                <a:gd name="textAreaLeft" fmla="*/ 339120 w 945720"/>
                <a:gd name="textAreaRight" fmla="*/ 606600 w 945720"/>
                <a:gd name="textAreaTop" fmla="*/ 334440 h 932040"/>
                <a:gd name="textAreaBottom" fmla="*/ 5976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Self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actual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iz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109578"/>
            <p:cNvSpPr/>
            <p:nvPr/>
          </p:nvSpPr>
          <p:spPr>
            <a:xfrm flipV="1">
              <a:off x="3627000" y="2629440"/>
              <a:ext cx="1890000" cy="929880"/>
            </a:xfrm>
            <a:custGeom>
              <a:avLst/>
              <a:gdLst>
                <a:gd name="textAreaLeft" fmla="*/ 415440 w 1890000"/>
                <a:gd name="textAreaRight" fmla="*/ 1474560 w 1890000"/>
                <a:gd name="textAreaTop" fmla="*/ 204480 h 929880"/>
                <a:gd name="textAreaBottom" fmla="*/ 725400 h 9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Esteem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109579"/>
            <p:cNvSpPr/>
            <p:nvPr/>
          </p:nvSpPr>
          <p:spPr>
            <a:xfrm flipV="1">
              <a:off x="3154320" y="3559680"/>
              <a:ext cx="2834640" cy="932040"/>
            </a:xfrm>
            <a:custGeom>
              <a:avLst/>
              <a:gdLst>
                <a:gd name="textAreaLeft" fmla="*/ 492120 w 2834640"/>
                <a:gd name="textAreaRight" fmla="*/ 2342520 w 2834640"/>
                <a:gd name="textAreaTop" fmla="*/ 161640 h 932040"/>
                <a:gd name="textAreaBottom" fmla="*/ 7704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Love and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belongingnes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109576"/>
            <p:cNvSpPr/>
            <p:nvPr/>
          </p:nvSpPr>
          <p:spPr>
            <a:xfrm flipV="1">
              <a:off x="2682360" y="4491720"/>
              <a:ext cx="3778920" cy="932040"/>
            </a:xfrm>
            <a:custGeom>
              <a:avLst/>
              <a:gdLst>
                <a:gd name="textAreaLeft" fmla="*/ 568440 w 3778920"/>
                <a:gd name="textAreaRight" fmla="*/ 3210480 w 3778920"/>
                <a:gd name="textAreaTop" fmla="*/ 140040 h 932040"/>
                <a:gd name="textAreaBottom" fmla="*/ 7920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Safety need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109577"/>
            <p:cNvSpPr/>
            <p:nvPr/>
          </p:nvSpPr>
          <p:spPr>
            <a:xfrm flipV="1">
              <a:off x="2210400" y="5424120"/>
              <a:ext cx="4722840" cy="929880"/>
            </a:xfrm>
            <a:custGeom>
              <a:avLst/>
              <a:gdLst>
                <a:gd name="textAreaLeft" fmla="*/ 644760 w 4722840"/>
                <a:gd name="textAreaRight" fmla="*/ 4078080 w 4722840"/>
                <a:gd name="textAreaTop" fmla="*/ 126720 h 929880"/>
                <a:gd name="textAreaBottom" fmla="*/ 803160 h 9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Physiological need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low’s Hierarchy (cont.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basic needs are the physiological needs such as needs for water, food, sleep, sex and the li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needs , come next, that were people need a safe, secure environment in order to function effectiv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and belongingness needs include the need to obtain and give affection and to be a contributing member of some group or 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low’s Hierarchy (cont.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eem relates to the need to develop a sense of self-worth by knowing that others are aware of one’s competence and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actualization is a state of self-fulfillment in which people realize their highest potential in their own unique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how to validate the ordering of the stages and how to measure self-actualization objectiv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useful to employ several theories simultaneously in order to understand a particular motivational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proceed to consider specific motives, such as the needs for food , achievement, affiliation, and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biological and social factors that underlie hung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for achievement is a stable , learned  characteristic in which satisfaction is obtained by striving for and attaining a level of excell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for affiliation is an interest in establishing and maintaining relationships with other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for power is a tendency to seek impact, control, or influence over others, and to be seen as a powerful individ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SYCHOLO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SONA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psychologists define and use the concept of pers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the theories of freud and his successors tell us about the structure and development of pers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major aspects of trait, learning, biological and evolutionary, and humanistic approaches to pers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an we most accurately assess pers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major types of personality measur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sychologists define and use the concept of personalit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sonality refers to the relatively enduring characteristics th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fferentiate one person from an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them to act in a consistent and predictable mann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th in different situations and over extended periods of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eories of the structure and development of persona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psychoanalysts, much of behavior is caused by parts of personality that are found in the unconscious and of which we are unaw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ud’s theory suggest that personality is composed of the id, the ego, and the supere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  deals with the factors that direct and energize the behavior of humans and organiz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 Approaches; Born to be motiv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born patterns of behavior that are biologically determined rather than lear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ble to agree on what the primary instincts 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18 (in 1908)to 5759 (in 1924) but they are merely labels for behav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-Reduction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theory suggesting that when people lack some basic biological requirements such as water, a drive to obtain that requirements (in this case , the thirst drive) is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 is a motivational tension, or arousal, that energizes behavior in order to fulfill some n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kinds of drives called “ primary”, contrast with “secondary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-Reduction Approaches (cont.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usually try to satisfy a primary drive by reducing the need underlying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ason for such behavior is “homeostasi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ostasis is the process by which an organism strives to maintain some optimal level of internal biological functioning by compensating for deviations from its usual, balanced internal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sal Approaches: Beyond Drive Red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belief that we try to maintain certain levels of stimulation and activity, increasing or reducing them as necess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 10-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levels of stimulation and activity are too low, we will try to increase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entive Approaches ; Motivation’s Pu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theory explaining motivation in terms of external stimuli, the incentives that direct and energize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view, properties of external stimuli largely account for a person’s motiv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s and incentives may work together in motivating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gnitive Approaches; The Thoughts Behind Motiv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cus on the role of our thoughts, expectations, and understanding of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ancy-Value theory , based on two kinds of cognitions underlie our behav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expectation that a behavior will cause us reach a particular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understanding of the value of that goal to 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gnitive Approaches ( cont.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gnitive theories draw a key distinction between intrinsic and extrinsic motiv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insic motivation causes us to participate in an activity for our own enjoyment, rather than for any tangible  reward that it will bring 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trast, extrinsic motivation causes us to do something for a tangible rew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low’s Hierarchy; Ordering Motivational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hierarchy shows how our motivation progresses up the pyramid from a basis in the broadest, most fundamental biological needs to higher-order 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when the basic lower-order needs are met can a person consider fulfilling higher-order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21:00:17Z</dcterms:created>
  <dc:creator>acer</dc:creator>
  <dc:description/>
  <dc:language>en-US</dc:language>
  <cp:lastModifiedBy>A</cp:lastModifiedBy>
  <dcterms:modified xsi:type="dcterms:W3CDTF">2008-04-20T10:51:27Z</dcterms:modified>
  <cp:revision>7</cp:revision>
  <dc:subject/>
  <dc:title>PSYCHOLOGY</dc:title>
</cp:coreProperties>
</file>