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DE3-4193-4D3F-8C27-842CF799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38D-034B-4AAB-8E9F-C6AD1D52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027-BFE0-4A95-BF6A-C45F94DB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66D9-3E0D-4441-A1D6-6DF2915E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47C4-7108-4BEB-8074-0DBC7AFA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5ECB-699F-4B06-864C-7E8B1911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D0BA-6E2F-4ACA-85ED-F0E727C3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31F5-011D-41CB-9034-BD30BF31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36F5-2B81-4E65-90F5-D63AB9EA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9065-B62A-411D-B1DD-0BA8906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6B0F-C9A5-486A-9D67-70D3216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B7FE-862C-4355-BE7E-EDFFA355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3515-66A8-4B9E-BB4F-1AFA3DB7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EBF8-5C22-4169-9818-32098000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63D4-F614-4DA9-ADAE-9E5E9F9A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F94B-6A1B-462A-8D1B-28853572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A1C3-B522-46F8-855D-939E96AC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CEA9-C976-4017-B175-C1000253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1FD-FB02-4070-850F-A45AA184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E51-2213-450B-9D6F-B92E17BC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F51-7903-4F10-B6A5-D13B5102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871-1108-40E3-BC30-694E01B0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2DD-5763-470E-89FC-1FCC59A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18B9-2A9C-4E8C-BD1B-FF869CB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1A0A-0653-4269-9186-915AC13932A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4CB5-A60E-4DB8-850E-F02B97C559F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SYCH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210400" y="1697760"/>
            <a:ext cx="4722840" cy="4656600"/>
            <a:chOff x="2210400" y="1697760"/>
            <a:chExt cx="4722840" cy="4656600"/>
          </a:xfrm>
        </p:grpSpPr>
        <p:sp>
          <p:nvSpPr>
            <p:cNvPr id="182" name="_s109575"/>
            <p:cNvSpPr/>
            <p:nvPr/>
          </p:nvSpPr>
          <p:spPr>
            <a:xfrm flipV="1">
              <a:off x="4098960" y="1697400"/>
              <a:ext cx="945720" cy="932040"/>
            </a:xfrm>
            <a:custGeom>
              <a:avLst/>
              <a:gdLst>
                <a:gd name="textAreaLeft" fmla="*/ 339120 w 945720"/>
                <a:gd name="textAreaRight" fmla="*/ 606600 w 945720"/>
                <a:gd name="textAreaTop" fmla="*/ 334440 h 932040"/>
                <a:gd name="textAreaBottom" fmla="*/ 5976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Self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actual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iz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_s109578"/>
            <p:cNvSpPr/>
            <p:nvPr/>
          </p:nvSpPr>
          <p:spPr>
            <a:xfrm flipV="1">
              <a:off x="3627000" y="2629440"/>
              <a:ext cx="1890000" cy="929880"/>
            </a:xfrm>
            <a:custGeom>
              <a:avLst/>
              <a:gdLst>
                <a:gd name="textAreaLeft" fmla="*/ 415440 w 1890000"/>
                <a:gd name="textAreaRight" fmla="*/ 1474560 w 1890000"/>
                <a:gd name="textAreaTop" fmla="*/ 204480 h 929880"/>
                <a:gd name="textAreaBottom" fmla="*/ 725400 h 9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Esteem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_s109579"/>
            <p:cNvSpPr/>
            <p:nvPr/>
          </p:nvSpPr>
          <p:spPr>
            <a:xfrm flipV="1">
              <a:off x="3154320" y="3559680"/>
              <a:ext cx="2834640" cy="932040"/>
            </a:xfrm>
            <a:custGeom>
              <a:avLst/>
              <a:gdLst>
                <a:gd name="textAreaLeft" fmla="*/ 492120 w 2834640"/>
                <a:gd name="textAreaRight" fmla="*/ 2342520 w 2834640"/>
                <a:gd name="textAreaTop" fmla="*/ 161640 h 932040"/>
                <a:gd name="textAreaBottom" fmla="*/ 7704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Love and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belongingnes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_s109576"/>
            <p:cNvSpPr/>
            <p:nvPr/>
          </p:nvSpPr>
          <p:spPr>
            <a:xfrm flipV="1">
              <a:off x="2682360" y="4491720"/>
              <a:ext cx="3778920" cy="932040"/>
            </a:xfrm>
            <a:custGeom>
              <a:avLst/>
              <a:gdLst>
                <a:gd name="textAreaLeft" fmla="*/ 568440 w 3778920"/>
                <a:gd name="textAreaRight" fmla="*/ 3210480 w 3778920"/>
                <a:gd name="textAreaTop" fmla="*/ 140040 h 932040"/>
                <a:gd name="textAreaBottom" fmla="*/ 7920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Safety need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_s109577"/>
            <p:cNvSpPr/>
            <p:nvPr/>
          </p:nvSpPr>
          <p:spPr>
            <a:xfrm flipV="1">
              <a:off x="2210400" y="5424120"/>
              <a:ext cx="4722840" cy="929880"/>
            </a:xfrm>
            <a:custGeom>
              <a:avLst/>
              <a:gdLst>
                <a:gd name="textAreaLeft" fmla="*/ 644760 w 4722840"/>
                <a:gd name="textAreaRight" fmla="*/ 4078080 w 4722840"/>
                <a:gd name="textAreaTop" fmla="*/ 126720 h 929880"/>
                <a:gd name="textAreaBottom" fmla="*/ 803160 h 9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</a:rPr>
                <a:t>Physiological need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low’s Hierarchy (cont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st basic needs are the physiological needs such as needs for water, food, sleep, sex and the lik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needs , come next, that were people need a safe, secure environment in order to function effectiv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ve and belongingness needs include the need to obtain and give affection and to be a contributing member of some group or soci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low’s Hierarchy (cont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eem relates to the need to develop a sense of self-worth by knowing that others are aware of one’s competence and val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actualization is a state of self-fulfillment in which people realize their highest potential in their own unique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how to validate the ordering of the stages and how to measure self-actualization objective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useful to employ several theories simultaneously in order to understand a particular motivational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oceed to consider specific motives, such as the needs for food , achievement, affiliation, and pow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biological and social factors that underlie hung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achievement is a stable , learned  characteristic in which satisfaction is obtained by striving for and attaining a level of excell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affiliation is an interest in establishing and maintaining relationships with other peop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for power is a tendency to seek impact, control, or influence over others, and to be seen as a powerful individ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SYCHOLOG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psychologists define and use the concep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the theories of freud and his successors tell us about the structure and development of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major aspects of trait, learning, biological and evolutionary, and humanistic approaches to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can we most accurately assess personalit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major types of personality measur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sychologists define and use the concept of personalit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rsonality refers to the relatively enduring characteristics th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fferentiate one person from an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ad them to act in a consistent and predictable mann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th in different situations and over extended periods of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eories of the structure and development of person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ording to psychoanalysts, much of behavior is caused by parts of personality that are found in the unconscious and of which we are unawa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ud’s theory suggest that personality is composed of the id, the ego, and the super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tivation  deals with the factors that direct and energize the behavior of humans and organiz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nct Approaches; Born to be motiv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born patterns of behavior that are biologically determined rather than lear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ble to agree on what the primary instincts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18 (in 1908)to 5759 (in 1924) but they are merely labels for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-Reduction Approa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theory suggesting that when people lack some basic biological requirements such as water, a drive to obtain that requirements (in this case , the thirst drive) is produ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is a motivational tension, or arousal, that energizes behavior in order to fulfill some n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kinds of drives called “ primary”, contrast with “secondary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-Reduction Approaches (cont.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ually try to satisfy a primary drive by reducing the need underlying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eason for such behavior is “homeostasi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ostasis is the process by which an organism strives to maintain some optimal level of internal biological functioning by compensating for deviations from its usual, balanced internal st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sal Approaches: Beyond Drive Redu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belief that we try to maintain certain levels of stimulation and activity, increasing or reducing them as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 10-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evels of stimulation and activity are too low, we will try to increase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entive Approaches ; Motivation’s Pu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 theory explaining motivation in terms of external stimuli, the incentives that direct and energize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view, properties of external stimuli largely account for a person’s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s and incentives may work together in motivating behav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gnitive Approaches; The Thoughts Behind Motiv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ocus on the role of our thoughts, expectations, and understanding of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ncy-Value theory , based on two kinds of cognitions underlie our behav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expectation that a behavior will cause us reach a particular go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 understanding of the value of that goal to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Approaches ( cont.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gnitive theories draw a key distinction between intrinsic and extrinsic motiv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insic motivation causes us to participate in an activity for our own enjoyment, rather than for any tangible  reward that it will bring 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ontrast, extrinsic motivation causes us to do something for a tangible rew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low’s Hierarchy; Ordering Motivational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hierarchy shows how our motivation progresses up the pyramid from a basis in the broadest, most fundamental biological needs to higher-orde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when the basic lower-order needs are met can a person consider fulfilling higher-order nee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21:00:17Z</dcterms:created>
  <dc:creator>acer</dc:creator>
  <dc:description/>
  <dc:language>en-US</dc:language>
  <cp:lastModifiedBy>A</cp:lastModifiedBy>
  <dcterms:modified xsi:type="dcterms:W3CDTF">2008-04-20T10:51:27Z</dcterms:modified>
  <cp:revision>7</cp:revision>
  <dc:subject/>
  <dc:title>PSYCHOLOGY</dc:title>
</cp:coreProperties>
</file>