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F61-F8F3-4A52-9066-88FCD8C4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A66-2805-426D-A9AB-2F589905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7B2-F722-4DE5-863B-B650AB49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850-435D-401A-B34B-E23E89C6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FC3B-8162-4AA9-A27F-56BFBF9B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E39-40C6-40D6-BEB3-0F5CF654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501-2722-4E32-9842-0B918ED8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CD3-A525-4BAB-BFFE-9C75F5F6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268-0DCD-49CF-9B79-D40D201A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41D-ADC9-4C1A-91A8-C21734EB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CC2-E10C-4EC7-8835-F74B3DA3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081-E937-4CE0-AB2B-56A4E8E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43BB-0EB9-408E-9FDD-33F2B7B7B8C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26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IN THE NAME OF ALLAH </a:t>
            </a:r>
            <a:br>
              <a:rPr sz="5400"/>
            </a:br>
            <a:br>
              <a:rPr sz="5400"/>
            </a:b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MOTOR UNIT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NE B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dullah Hussain AlMuh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43010284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pervision of D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bdulaziz AlShaib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Motor un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840" y="713880"/>
            <a:ext cx="8472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efinition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tor unit is defined as a single motoneuron and the muscle fibers that it innervates. The number of muscle fibers innervated can vary from a few fibers to thousands of fibers, depending on the nature of the motor 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eye moveme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ing fine control, motoneurons innervate only a few muscle fi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postural muscl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d in large movements, motoneurons innervate thousands of muscle fi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motoneuron poo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set of motoneurons innervating fibers within the same mus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11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rce of contraction of a muscle i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raded by recruitment of motor uni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size principle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smal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oneurons innervate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a few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cle fibers, and, because they have the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low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sholds, they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ire fir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Small motoneurons also generate the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small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ounts of for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lar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otoneurons innervate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cle fibers. They have the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resholds to fire action potentials; thus, they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ire la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large motoneurons  also generate the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reat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ounts of for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ize principle states that as more motor units are recruited, progressively larger motoneurons are involved and greater tension will be genera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359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oneur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nervate muscle fib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w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eshol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est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unts of for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Types of Motoneurons</a:t>
            </a: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928440"/>
            <a:ext cx="8472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 are two types of motoneur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motoneurons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γ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motoneurons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α Motoneur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nervat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trafus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keletal muscle fi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on potentials 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α motoneur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 to action potentials in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trafus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uscle fibers they innervate, which results 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tra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γ Motoneur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nervat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ecialized intrafus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uscle fibers, a component of the muscle spind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verall function of the muscle spindle is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nse muscle 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the function of the γ motoneurons innervating them is to adjust the sensitivity of the muscle spindles (so they respond appropriately as the extrafusal fibers contract and shorten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α Motoneurons and γ motoneurons ar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activ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ctivated simultaneously) ,so that muscle spindles remain sensitive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hanges in muscle leng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 the muscl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tracts and short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1:11:50Z</dcterms:created>
  <dc:creator>win-vista</dc:creator>
  <dc:description/>
  <dc:language>en-US</dc:language>
  <cp:lastModifiedBy>User</cp:lastModifiedBy>
  <dcterms:modified xsi:type="dcterms:W3CDTF">2012-02-20T07:01:32Z</dcterms:modified>
  <cp:revision>39</cp:revision>
  <dc:subject/>
  <dc:title>Relaxation</dc:title>
</cp:coreProperties>
</file>