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1B5-6BE0-42D1-B63A-C9662381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9B1-1660-4EA8-BC6E-B89DE4E9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E1B8-290F-4206-A226-D752744A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CBC7-09A5-4FE8-A09E-C734932D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AFE-9DBB-4CB5-B465-2B30D5E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8509-8F8A-41DB-856D-079B22C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3A0-9ED3-4159-BFAB-165F69E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396-A750-458E-B92C-27F23668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A1F7-6144-4EFF-9C51-9FB2D3B7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E09-C130-4E6B-AC41-06B6D671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C7F-4B56-4027-B602-725B708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7D1-5E2D-4AA9-9940-80D5C83E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D94D-B75A-40E1-AB94-A420C78C022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26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IN THE NAME OF ALLAH </a:t>
            </a:r>
            <a:br>
              <a:rPr sz="5400"/>
            </a:br>
            <a:br>
              <a:rPr sz="5400"/>
            </a:b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MOTOR UNIT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NE B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dullah Hussain AlMuha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3010284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pervision of D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bdulaziz AlShai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Motor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840" y="713880"/>
            <a:ext cx="8472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efinition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otor unit is defined as a single motoneuron and the muscle fibers that it innervates. The number of muscle fibers innervated can vary from a few fibers to thousands of fibers, depending on the nature of the motor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eye moveme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ing fine control, motoneurons innervate only a few muscle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r postural musc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ed in large movements, motoneurons innervate thousands of muscle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 motoneuron poo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set of motoneurons innervating fibers within the same mus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111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rce of contraction of a muscle i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raded by recruitment of motor uni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size principle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sma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toneurons innervat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a fe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fibers, and, because they have the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 low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sholds, they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ire fir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mall motoneurons also generate th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small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ounts of for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lar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toneurons innervat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 fibers. They have th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high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resholds to fire action potentials; thus, they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ire l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large motoneurons  also generate the 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reat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mounts of for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ize principle states that as more motor units are recruited, progressively larger motoneurons are involved and greater tension will be genera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359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oneur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nervate muscle fib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reshold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est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s of for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ypes of Motoneurons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840" y="928440"/>
            <a:ext cx="8472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e are two types of motoneur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motoneurons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γ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 motoneurons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α Motoneur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vat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trafu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keletal muscle fi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on potentials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α motoneur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to action potentials in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xtrafu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uscle fibers they innervate, which results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γ Motoneur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ervat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pecialized intrafus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uscle fibers, a component of the muscle spind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verall function of the muscle spindle is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nse muscle leng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the function of the γ motoneurons innervating them is to adjust the sensitivity of the muscle spindles (so they respond appropriately as the extrafusal fibers contract and shorte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α Motoneurons and γ motoneurons ar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activ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ctivated simultaneously) ,so that muscle spindles remain sensitive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hanges in muscle leng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s the muscl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tracts and short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1:11:50Z</dcterms:created>
  <dc:creator>win-vista</dc:creator>
  <dc:description/>
  <dc:language>en-US</dc:language>
  <cp:lastModifiedBy>User</cp:lastModifiedBy>
  <dcterms:modified xsi:type="dcterms:W3CDTF">2012-02-20T07:01:32Z</dcterms:modified>
  <cp:revision>39</cp:revision>
  <dc:subject/>
  <dc:title>Relaxation</dc:title>
</cp:coreProperties>
</file>