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5CE-2506-4A46-89CB-9916BE76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57C-20B2-4ACA-B2CC-E3577569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663-4715-4DBC-A2AD-725734F2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A75-FB53-4CE8-A0CA-6459B3F0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7D7-C850-425F-BEFC-9633DBEB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1E50-5271-49EF-8248-236E17A3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AD0F-A3BD-47D2-884F-D8AC33B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25A-796C-43BC-AF11-F91933C9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5C3-67D3-4273-968D-6BB32D38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2EF0-5150-439D-9B32-FD7E0772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D4FB-7BF0-41F7-983C-D7F2E103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BF0-08DA-4402-8F33-17D11E11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920C-D87E-4F95-85A0-3BFB777B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1F3C-9B06-480B-B36B-28A41C7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BE7B-84B7-4DAD-8E79-0D071F5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ED8E-68D5-4F33-B3B2-52F9CA5D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2CCE-57F4-4FE7-8CED-FB7A228F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F6F-6A03-4FFF-BB7D-FE3E9271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2E6-E521-4FB8-B558-D4FBA5DD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BD6-DD0B-4CF4-A086-4E9C1CC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724-683D-48AA-AD05-BACC884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C4E-5224-4614-B4F7-89D2FF0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208-7C42-4475-B3DC-87D1A71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47B-F613-46DD-ADCF-ECB2ECC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5AE7-BBB0-425E-9C95-6F4F38757C4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5964-91D3-4821-83E0-5A54292CF79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ntral Nervous System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Mohammad Alzoghi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alamus and Hypothalamu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la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all sensory and motor inform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centers to regu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t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ba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 and oxyto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iencephal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between bra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tor Cortex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to the central cortical sul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d in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primary motor cortex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premotor are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supplementary motor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imary Motor Area (MI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front of the central sul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ly in the sylvian fi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ly to the top of the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ly to the longitudinal fi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graphical representations of the body areas in an inverted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" y="787320"/>
            <a:ext cx="89154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imary Motor Area (MI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origin of  the pyramid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half of motor area concerned with the hands and muscle of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itation of a single motor neuron causes the excitation of a specific pattern of movemen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ut not a single 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upper motorneurons which project directly to spinal c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ion in MI leads to flaccid par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motor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erior to the  primary motor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ly to the longitudinal fiss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ly to the sylvian fi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opographical organization as the motor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ponsible for more complex patterns of m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pplementary Motor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nother topographic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 often bilat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ilateral grasping movements (climbing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ttitudinal mov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ixation mov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ositional movements of head and e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Motor Reg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a’s Area: responsible for v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y eye movement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the eye movement to certain objects and bl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rotation a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hand skill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tor aprax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rganization of the Nervous System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entral nervou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r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inal 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ripheral nervou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nsory recep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nsory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angl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ite Matter of Spinal Cor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rior fanicu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fanicu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fanicu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ed of nerve fibers sharing a common origin, destination an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terior funicul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one ascending fibers concerned with two modal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inesthes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scriminative to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ion of this area causes loss of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ibration sen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i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wo point discrimin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ine touch (tested by piece of cott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eight 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59120" y="228600"/>
            <a:ext cx="40654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teral &amp; Anterior funicul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cending Tra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al spinocerebr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al spinocerebellar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nocervical thalamic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spionothalamic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spinothalamic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teral &amp; Anterior funicul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ending 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ic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vestibul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l vestibular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icul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ending autonomic path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al spinocerebellar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ys impulses from muscle spindle, golgi organ via (DRG) to cerebel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al spinocerebellar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ys impulses to cerebellum from golgi 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nocervical thalamic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ys impulses to thalamus; carries the kinesthesia &amp; discriminative t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eral spinothalamic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ts pain &amp; temperature sensations to 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spinothalamic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ts light touch sensations to brain stem &amp; 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25840" y="27000"/>
            <a:ext cx="405108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1. Corticospinal tract (pyramida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abic Transparent"/>
              </a:rPr>
              <a:t>From motor cortex to medulla as follow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 from the motor cortex to the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 from the premotor and supplementary cortex to the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from somatosensory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d i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d  (lateral corticospinal tra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rossed fibers (anterior corticospinal tra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orticospinal Pathway (pyramidal)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cortex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rnal capsule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u brain ste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 medulla where majority of the fibers cross in the lower medulla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coticospinal tract of the cor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rneurons (few in dorsal horn and very few in anterior motor neur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B. also a few of fibers do not cross but pass ipsilaterally in ventral cortic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7925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057400" y="210960"/>
            <a:ext cx="4532400" cy="64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1612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rticospinal tract (pyramidal)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% of pyramidal fibers with 16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 myel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te from betz cells in the motor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ulses conveyed are facilitatory to flexor motor neu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in internurons laminae IV-V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lateral par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lateral par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 to: spasticity, hyperactive myotatic reflexes and clon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Rubr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al origin is in red nucleus (midbr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similarly as pyramid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cortic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flex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Lateral vestibul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al origin lie in pons (lateral vestibular nucle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t laminae VII &amp; VI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extens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39152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edial vestibularspinal tr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media vestibular nucleus in 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s latera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flex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Reticulospinal tr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ontine reticul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t laminae VII &amp; V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extens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medullary reticulospinal tr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t VII &amp; 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flex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Descending autonomic pathw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al origin at hypo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caliber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into intermediolateral of colum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s information abou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rganizes reflex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lans &amp; execute voluntary m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emories, thinking &amp;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ner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y or afferent divi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or or efferent divi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68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68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inal cord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audal portion of C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base of the skull to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umbar verteb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31 pairs of spinal ner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inal cord and ner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ver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y information to spinal cord from different organs via dorsal root and cranial nerve gangl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ner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y information from spinal cord to periphery, include bo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ic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rain Stem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thing, blood pressure, swallowing, coughing and vomiting reflex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s with medulla in regulating brea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s information from cerebral hemispheres to cere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br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eye m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eucli of auditory and visual syste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of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and execution of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 of pos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of head and eye movement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21:41:03Z</dcterms:created>
  <dc:creator>Abid Jaffery</dc:creator>
  <dc:description/>
  <dc:language>en-US</dc:language>
  <cp:lastModifiedBy>Alzoghaibi</cp:lastModifiedBy>
  <dcterms:modified xsi:type="dcterms:W3CDTF">2006-04-18T03:27:13Z</dcterms:modified>
  <cp:revision>28</cp:revision>
  <dc:subject/>
  <dc:title>THE MOTOR CORTEX AND CORTICOSPINAL TRACT</dc:title>
</cp:coreProperties>
</file>