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15A-07BC-4E92-BEC0-68539A90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FCA-1D52-4334-A8CC-74862655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429-6113-463D-B82D-BDC8F069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105-EC6D-4F73-AC74-42B6302D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D67A-AF01-4BA0-AE05-6BEC134D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7062-22A3-43FE-B57F-F58801D4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16CF-A629-489F-BA38-98E27762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781-AFF8-477A-BA09-F89B161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731D-3D9C-4A92-A4BE-AAC41CE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7891-9233-4087-A388-5F13B898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B396-04CD-4E83-9CC6-CCBD84C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E2F-B959-4997-ABF4-EA264A49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F21D-CD4A-41D8-A714-6E4C9309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05A-7357-4BD4-B68F-6DC31B3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7393-D85E-4140-800C-19AB4833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B2D6-2579-409A-8E56-E5CB3767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6808-E23B-4B3F-A718-4C7090C3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29F-3807-4B82-8324-976E74C5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0E1-0A38-4B11-A801-1CFFA397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051-686B-41F6-9317-EA48041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3AD-D679-4EAA-8233-45FD33B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FF0-6BFD-4EC9-8AA8-7A5FC98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F01-5402-48A3-8081-B0D6A530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382-A53C-497A-A457-743B293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8D21-D1BB-49D7-BFE5-9514EFEF2D6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D38-A2A1-451D-9A1D-19B4C4C60C7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ntral Nervous System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Mohammad Alzoghi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alamus and Hypothalamu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all sensory and motor inform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ala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centers to regu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t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ba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 and oxyto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iencephal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between bra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tor Cortex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to the central cortical sul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d in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primary motor cortex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premotor are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supplementary motor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imary Motor Area (MI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front of the central sul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ly in the sylvian fi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ly to the top of the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ly to the longitudinal fi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graphical representations of the body areas in an invert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" y="787320"/>
            <a:ext cx="89154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imary Motor Area (MI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origin of  the pyramid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half of motor area concerned with the hands and muscle of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itation of a single motor neuron causes the excitation of a specific pattern of movem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ut not a single 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upper motorneurons which project directly to spinal c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ion in MI leads to flaccid par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motor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erior to the  primary motor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ly to the longitudinal fiss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ly to the sylvian fi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opographical organization as the motor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ponsible for more complex patterns of m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pplementary Motor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nother topographic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ion often bilat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ilateral grasping movements (climbing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ttitudinal mov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ixation movement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ositional movements of head and e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Motor Reg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a’s Area: responsible for v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eye movement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the eye movement to certain objects and bl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rotation a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hand skill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tor aprax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Organization of the Nervous System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entral nervou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r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pinal 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eripheral nervou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nsory recep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nsory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angl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ite Matter of Spinal Co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rior fanic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fanic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fanicu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ed of nerve fibers sharing a common origin, destination an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terior funicul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one ascending fibers concerned with two modal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inesthesi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scriminative t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ion of this area causes loss of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ibration sen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i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wo point discrimin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ine touch (tested by piece of cotton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eight 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59120" y="228600"/>
            <a:ext cx="40654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teral &amp; Anterior funicul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cending Tra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al spinocerebr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al spinocerebellar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nocervical thalamic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spionothalamic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spinothalamic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teral &amp; Anterior funicul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ending 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ic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vestibul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l vestibular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icul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ending autonomic path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al spinocerebellar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ys impulses from muscle spindle, golgi organ via (DRG) to cerebel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al spinocerebellar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ys impulses to cerebellum from golgi 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nocervical thalamic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ys impulses to thalamus; carries the kinesthesia &amp; discriminative t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eral spinothalamic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s pain &amp; temperature sensations to 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rior spinothalamic tr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s light touch sensations to brain stem &amp; 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25840" y="27000"/>
            <a:ext cx="405108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1. Corticospinal tract (pyramida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abic Transparent"/>
              </a:rPr>
              <a:t>From motor cortex to medulla as follow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from the motor cortex to the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from the premotor and supplementary cortex to the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from somatosensory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d i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d  (lateral corticospinal tra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rossed fibers (anterior corticospinal tra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orticospinal Pathway (pyramidal)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cortex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rnal capsule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u brain ste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 medulla where majority of the fibers cross in the lower medulla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al coticospinal tract of the cor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rneurons (few in dorsal horn and very few in anterior motor neur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B. also a few of fibers do not cross but pass ipsilaterally in ventral corticosp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7925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57400" y="210960"/>
            <a:ext cx="4532400" cy="64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1612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rticospinal tract (pyramidal)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% of pyramidal fibers with 16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 myel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te from betz cells in the motor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ulses conveyed are facilitatory to flexor motor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in internurons laminae IV-V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lateral par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 par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 to: spasticity, hyperactive myotatic reflexes and clon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Rubr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al origin is in red nucleus (midb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similarly as pyramid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cortic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flex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Lateral vestibul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al origin lie in pons (lateral vestibular nucle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t laminae VII &amp; VI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extens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39152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edial vestibularspinal tr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edia vestibular nucleus in 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s latera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flex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Reticulospinal tr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ontine reticulospinal 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t laminae VII &amp; V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extens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medullary reticulospinal tr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es at VII &amp; 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flexor motor neur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scending Tr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Descending autonomic pathw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al origin at hypothalam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caliber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nto intermediolateral of colum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s information abou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rganizes reflex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lans &amp; execute voluntary m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emories, thinking &amp;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ner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ory or afferent di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r or efferent di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68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68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inal cord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audal portion of C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base of the skull to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umbar verteb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31 pairs of spinal ner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inal cord and ner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ver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y information to spinal cord from different organs via dorsal root and cranial nerve gangl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ner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y information from spinal cord to periphery, include bo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a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ic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rain Stem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thing, blood pressure, swallowing, coughing and vomiting reflex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s with medulla in regulating brea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s information from cerebral hemispheres to cerebel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br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eye m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eucli of auditory and visual syste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of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and execution of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of pos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ffcc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of head and eye movement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21:41:03Z</dcterms:created>
  <dc:creator>Abid Jaffery</dc:creator>
  <dc:description/>
  <dc:language>en-US</dc:language>
  <cp:lastModifiedBy>Alzoghaibi</cp:lastModifiedBy>
  <dcterms:modified xsi:type="dcterms:W3CDTF">2006-04-18T03:27:13Z</dcterms:modified>
  <cp:revision>28</cp:revision>
  <dc:subject/>
  <dc:title>THE MOTOR CORTEX AND CORTICOSPINAL TRACT</dc:title>
</cp:coreProperties>
</file>