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AA8-61D8-4010-B104-91C41998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EED-11C5-45C6-B5C6-0AFD4722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70F-E3C9-4FC7-9EC9-C545009F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160-62F1-4FFF-8283-056AC318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F256-AEDE-42CA-85F8-96E24DA3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213B-3EEC-4AB3-B818-5242AE6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6B76-5A51-41BB-A9B3-BAEFC5A8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4C6-8D98-4139-A642-A42AB4CF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D54A-8A21-4059-9399-60C4202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D1CC-F35D-47B2-B4EA-552962D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DBF7-0BAF-48E9-A9D8-33A35CA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0AF-760D-4AA4-8807-B119B093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EA38-E10A-4C0C-801C-607E79D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584F-A68E-4BD6-887C-1BB1CAD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C88C-A1D7-44EC-8D5F-ED9442ED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EC39-EAA9-406E-AAAF-774C8089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388D-7178-4E07-A8AD-E163EC11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231-ACEA-434A-A918-25ACDDCD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1BD-E97E-4AB5-8D78-F1037D02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844-C0C2-449B-9384-902C69E6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BC6-4C4B-4CC0-92D4-3D03DBE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DF3-B9A6-4A86-A7D9-199E25C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734-496D-41FC-9BE0-0C7471F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6A-8EFB-4B3A-BD6D-0779633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0E40-E5A6-4B4C-89CB-884AC58CA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566E-2AD2-4677-B235-EF24F4CABD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TOR SYSTEMS:POSTURE AND LOCOMO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. C. MIKULECK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FESSOR OF PHYSI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CULTY MENTORING PROGRA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THWAYS FROM BRAINSTEM FOR MOTOR CONTROL: RUBROSPIN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2209680"/>
            <a:ext cx="30492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5480" y="2509920"/>
            <a:ext cx="903240" cy="4002120"/>
          </a:xfrm>
          <a:custGeom>
            <a:avLst/>
            <a:gdLst/>
            <a:ahLst/>
            <a:rect l="l" t="t" r="r" b="b"/>
            <a:pathLst>
              <a:path w="569" h="2521">
                <a:moveTo>
                  <a:pt x="569" y="0"/>
                </a:moveTo>
                <a:cubicBezTo>
                  <a:pt x="554" y="44"/>
                  <a:pt x="561" y="73"/>
                  <a:pt x="512" y="89"/>
                </a:cubicBezTo>
                <a:cubicBezTo>
                  <a:pt x="468" y="119"/>
                  <a:pt x="441" y="129"/>
                  <a:pt x="391" y="146"/>
                </a:cubicBezTo>
                <a:cubicBezTo>
                  <a:pt x="382" y="149"/>
                  <a:pt x="375" y="158"/>
                  <a:pt x="366" y="162"/>
                </a:cubicBezTo>
                <a:cubicBezTo>
                  <a:pt x="351" y="169"/>
                  <a:pt x="318" y="178"/>
                  <a:pt x="318" y="178"/>
                </a:cubicBezTo>
                <a:cubicBezTo>
                  <a:pt x="312" y="184"/>
                  <a:pt x="308" y="191"/>
                  <a:pt x="301" y="195"/>
                </a:cubicBezTo>
                <a:cubicBezTo>
                  <a:pt x="286" y="203"/>
                  <a:pt x="253" y="211"/>
                  <a:pt x="253" y="211"/>
                </a:cubicBezTo>
                <a:cubicBezTo>
                  <a:pt x="242" y="219"/>
                  <a:pt x="232" y="228"/>
                  <a:pt x="220" y="235"/>
                </a:cubicBezTo>
                <a:cubicBezTo>
                  <a:pt x="213" y="239"/>
                  <a:pt x="203" y="238"/>
                  <a:pt x="196" y="243"/>
                </a:cubicBezTo>
                <a:cubicBezTo>
                  <a:pt x="188" y="249"/>
                  <a:pt x="187" y="261"/>
                  <a:pt x="180" y="268"/>
                </a:cubicBezTo>
                <a:cubicBezTo>
                  <a:pt x="173" y="275"/>
                  <a:pt x="163" y="279"/>
                  <a:pt x="155" y="284"/>
                </a:cubicBezTo>
                <a:cubicBezTo>
                  <a:pt x="138" y="309"/>
                  <a:pt x="119" y="320"/>
                  <a:pt x="99" y="341"/>
                </a:cubicBezTo>
                <a:cubicBezTo>
                  <a:pt x="87" y="376"/>
                  <a:pt x="70" y="402"/>
                  <a:pt x="58" y="438"/>
                </a:cubicBezTo>
                <a:cubicBezTo>
                  <a:pt x="55" y="446"/>
                  <a:pt x="50" y="462"/>
                  <a:pt x="50" y="462"/>
                </a:cubicBezTo>
                <a:cubicBezTo>
                  <a:pt x="0" y="815"/>
                  <a:pt x="31" y="1176"/>
                  <a:pt x="18" y="1532"/>
                </a:cubicBezTo>
                <a:cubicBezTo>
                  <a:pt x="27" y="2332"/>
                  <a:pt x="26" y="2003"/>
                  <a:pt x="26" y="252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MMARY OF CONTROL OF SPINAL MOTOR NEURONS BY BRAIN STE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80880" y="2590920"/>
            <a:ext cx="8178840" cy="2945880"/>
            <a:chOff x="380880" y="2590920"/>
            <a:chExt cx="8178840" cy="2945880"/>
          </a:xfrm>
        </p:grpSpPr>
        <p:grpSp>
          <p:nvGrpSpPr>
            <p:cNvPr id="242" name=""/>
            <p:cNvGrpSpPr/>
            <p:nvPr/>
          </p:nvGrpSpPr>
          <p:grpSpPr>
            <a:xfrm>
              <a:off x="4385520" y="2590920"/>
              <a:ext cx="4174200" cy="2945880"/>
              <a:chOff x="4385520" y="2590920"/>
              <a:chExt cx="4174200" cy="2945880"/>
            </a:xfrm>
          </p:grpSpPr>
          <p:sp>
            <p:nvSpPr>
              <p:cNvPr id="243" name=""/>
              <p:cNvSpPr/>
              <p:nvPr/>
            </p:nvSpPr>
            <p:spPr>
              <a:xfrm flipH="1" rot="5400000">
                <a:off x="6423120" y="3571200"/>
                <a:ext cx="698760" cy="77076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09880" y="3607560"/>
                <a:ext cx="1149840" cy="54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7409880" y="4076640"/>
                <a:ext cx="114984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323760" y="4077000"/>
                <a:ext cx="108612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202440" y="2825280"/>
                <a:ext cx="1185840" cy="770760"/>
              </a:xfrm>
              <a:custGeom>
                <a:avLst/>
                <a:gdLst/>
                <a:ahLst/>
                <a:rect l="l" t="t" r="r" b="b"/>
                <a:pathLst>
                  <a:path w="891" h="764">
                    <a:moveTo>
                      <a:pt x="0" y="764"/>
                    </a:moveTo>
                    <a:cubicBezTo>
                      <a:pt x="129" y="720"/>
                      <a:pt x="88" y="759"/>
                      <a:pt x="145" y="673"/>
                    </a:cubicBezTo>
                    <a:cubicBezTo>
                      <a:pt x="157" y="637"/>
                      <a:pt x="161" y="596"/>
                      <a:pt x="182" y="564"/>
                    </a:cubicBezTo>
                    <a:cubicBezTo>
                      <a:pt x="194" y="546"/>
                      <a:pt x="209" y="529"/>
                      <a:pt x="218" y="509"/>
                    </a:cubicBezTo>
                    <a:cubicBezTo>
                      <a:pt x="292" y="347"/>
                      <a:pt x="255" y="341"/>
                      <a:pt x="382" y="182"/>
                    </a:cubicBezTo>
                    <a:cubicBezTo>
                      <a:pt x="435" y="115"/>
                      <a:pt x="563" y="0"/>
                      <a:pt x="563" y="0"/>
                    </a:cubicBezTo>
                    <a:cubicBezTo>
                      <a:pt x="611" y="10"/>
                      <a:pt x="674" y="12"/>
                      <a:pt x="709" y="55"/>
                    </a:cubicBezTo>
                    <a:cubicBezTo>
                      <a:pt x="721" y="70"/>
                      <a:pt x="720" y="91"/>
                      <a:pt x="727" y="109"/>
                    </a:cubicBezTo>
                    <a:cubicBezTo>
                      <a:pt x="762" y="204"/>
                      <a:pt x="796" y="388"/>
                      <a:pt x="891" y="43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90520" y="2590920"/>
                <a:ext cx="1422720" cy="649800"/>
              </a:xfrm>
              <a:custGeom>
                <a:avLst/>
                <a:gdLst/>
                <a:ahLst/>
                <a:rect l="l" t="t" r="r" b="b"/>
                <a:pathLst>
                  <a:path w="1262" h="255">
                    <a:moveTo>
                      <a:pt x="8" y="255"/>
                    </a:moveTo>
                    <a:cubicBezTo>
                      <a:pt x="78" y="114"/>
                      <a:pt x="0" y="244"/>
                      <a:pt x="117" y="127"/>
                    </a:cubicBezTo>
                    <a:cubicBezTo>
                      <a:pt x="132" y="112"/>
                      <a:pt x="135" y="85"/>
                      <a:pt x="153" y="73"/>
                    </a:cubicBezTo>
                    <a:cubicBezTo>
                      <a:pt x="174" y="59"/>
                      <a:pt x="202" y="62"/>
                      <a:pt x="226" y="55"/>
                    </a:cubicBezTo>
                    <a:cubicBezTo>
                      <a:pt x="263" y="44"/>
                      <a:pt x="299" y="30"/>
                      <a:pt x="335" y="18"/>
                    </a:cubicBezTo>
                    <a:cubicBezTo>
                      <a:pt x="353" y="12"/>
                      <a:pt x="389" y="0"/>
                      <a:pt x="389" y="0"/>
                    </a:cubicBezTo>
                    <a:cubicBezTo>
                      <a:pt x="534" y="47"/>
                      <a:pt x="365" y="0"/>
                      <a:pt x="680" y="0"/>
                    </a:cubicBezTo>
                    <a:cubicBezTo>
                      <a:pt x="814" y="0"/>
                      <a:pt x="946" y="27"/>
                      <a:pt x="1080" y="37"/>
                    </a:cubicBezTo>
                    <a:cubicBezTo>
                      <a:pt x="1137" y="46"/>
                      <a:pt x="1217" y="46"/>
                      <a:pt x="1262" y="9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385520" y="4155120"/>
                <a:ext cx="1938240" cy="1381680"/>
              </a:xfrm>
              <a:custGeom>
                <a:avLst/>
                <a:gdLst/>
                <a:ahLst/>
                <a:rect l="l" t="t" r="r" b="b"/>
                <a:pathLst>
                  <a:path w="1456" h="848">
                    <a:moveTo>
                      <a:pt x="0" y="336"/>
                    </a:moveTo>
                    <a:cubicBezTo>
                      <a:pt x="84" y="176"/>
                      <a:pt x="168" y="16"/>
                      <a:pt x="240" y="48"/>
                    </a:cubicBezTo>
                    <a:cubicBezTo>
                      <a:pt x="312" y="80"/>
                      <a:pt x="312" y="400"/>
                      <a:pt x="432" y="528"/>
                    </a:cubicBezTo>
                    <a:cubicBezTo>
                      <a:pt x="552" y="656"/>
                      <a:pt x="800" y="848"/>
                      <a:pt x="960" y="816"/>
                    </a:cubicBezTo>
                    <a:cubicBezTo>
                      <a:pt x="1120" y="784"/>
                      <a:pt x="1328" y="472"/>
                      <a:pt x="1392" y="336"/>
                    </a:cubicBezTo>
                    <a:cubicBezTo>
                      <a:pt x="1456" y="200"/>
                      <a:pt x="1344" y="56"/>
                      <a:pt x="1344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80880" y="2590920"/>
              <a:ext cx="4173840" cy="2945880"/>
              <a:chOff x="380880" y="2590920"/>
              <a:chExt cx="4173840" cy="2945880"/>
            </a:xfrm>
          </p:grpSpPr>
          <p:sp>
            <p:nvSpPr>
              <p:cNvPr id="251" name=""/>
              <p:cNvSpPr/>
              <p:nvPr/>
            </p:nvSpPr>
            <p:spPr>
              <a:xfrm rot="16200000">
                <a:off x="1818360" y="3571200"/>
                <a:ext cx="698760" cy="77076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80880" y="3607560"/>
                <a:ext cx="1149840" cy="54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380880" y="4076640"/>
                <a:ext cx="114984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30720" y="4077000"/>
                <a:ext cx="1085760" cy="62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52320" y="2825280"/>
                <a:ext cx="1185840" cy="770760"/>
              </a:xfrm>
              <a:custGeom>
                <a:avLst/>
                <a:gdLst/>
                <a:ahLst/>
                <a:rect l="l" t="t" r="r" b="b"/>
                <a:pathLst>
                  <a:path w="891" h="764">
                    <a:moveTo>
                      <a:pt x="0" y="764"/>
                    </a:moveTo>
                    <a:cubicBezTo>
                      <a:pt x="129" y="720"/>
                      <a:pt x="88" y="759"/>
                      <a:pt x="145" y="673"/>
                    </a:cubicBezTo>
                    <a:cubicBezTo>
                      <a:pt x="157" y="637"/>
                      <a:pt x="161" y="596"/>
                      <a:pt x="182" y="564"/>
                    </a:cubicBezTo>
                    <a:cubicBezTo>
                      <a:pt x="194" y="546"/>
                      <a:pt x="209" y="529"/>
                      <a:pt x="218" y="509"/>
                    </a:cubicBezTo>
                    <a:cubicBezTo>
                      <a:pt x="292" y="347"/>
                      <a:pt x="255" y="341"/>
                      <a:pt x="382" y="182"/>
                    </a:cubicBezTo>
                    <a:cubicBezTo>
                      <a:pt x="435" y="115"/>
                      <a:pt x="563" y="0"/>
                      <a:pt x="563" y="0"/>
                    </a:cubicBezTo>
                    <a:cubicBezTo>
                      <a:pt x="611" y="10"/>
                      <a:pt x="674" y="12"/>
                      <a:pt x="709" y="55"/>
                    </a:cubicBezTo>
                    <a:cubicBezTo>
                      <a:pt x="721" y="70"/>
                      <a:pt x="720" y="91"/>
                      <a:pt x="727" y="109"/>
                    </a:cubicBezTo>
                    <a:cubicBezTo>
                      <a:pt x="762" y="204"/>
                      <a:pt x="796" y="388"/>
                      <a:pt x="891" y="43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27360" y="2590920"/>
                <a:ext cx="1422720" cy="649800"/>
              </a:xfrm>
              <a:custGeom>
                <a:avLst/>
                <a:gdLst/>
                <a:ahLst/>
                <a:rect l="l" t="t" r="r" b="b"/>
                <a:pathLst>
                  <a:path w="1262" h="255">
                    <a:moveTo>
                      <a:pt x="8" y="255"/>
                    </a:moveTo>
                    <a:cubicBezTo>
                      <a:pt x="78" y="114"/>
                      <a:pt x="0" y="244"/>
                      <a:pt x="117" y="127"/>
                    </a:cubicBezTo>
                    <a:cubicBezTo>
                      <a:pt x="132" y="112"/>
                      <a:pt x="135" y="85"/>
                      <a:pt x="153" y="73"/>
                    </a:cubicBezTo>
                    <a:cubicBezTo>
                      <a:pt x="174" y="59"/>
                      <a:pt x="202" y="62"/>
                      <a:pt x="226" y="55"/>
                    </a:cubicBezTo>
                    <a:cubicBezTo>
                      <a:pt x="263" y="44"/>
                      <a:pt x="299" y="30"/>
                      <a:pt x="335" y="18"/>
                    </a:cubicBezTo>
                    <a:cubicBezTo>
                      <a:pt x="353" y="12"/>
                      <a:pt x="389" y="0"/>
                      <a:pt x="389" y="0"/>
                    </a:cubicBezTo>
                    <a:cubicBezTo>
                      <a:pt x="534" y="47"/>
                      <a:pt x="365" y="0"/>
                      <a:pt x="680" y="0"/>
                    </a:cubicBezTo>
                    <a:cubicBezTo>
                      <a:pt x="814" y="0"/>
                      <a:pt x="946" y="27"/>
                      <a:pt x="1080" y="37"/>
                    </a:cubicBezTo>
                    <a:cubicBezTo>
                      <a:pt x="1137" y="46"/>
                      <a:pt x="1217" y="46"/>
                      <a:pt x="1262" y="9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6840" y="4155120"/>
                <a:ext cx="1937880" cy="1381680"/>
              </a:xfrm>
              <a:custGeom>
                <a:avLst/>
                <a:gdLst/>
                <a:ahLst/>
                <a:rect l="l" t="t" r="r" b="b"/>
                <a:pathLst>
                  <a:path w="1456" h="848">
                    <a:moveTo>
                      <a:pt x="0" y="336"/>
                    </a:moveTo>
                    <a:cubicBezTo>
                      <a:pt x="84" y="176"/>
                      <a:pt x="168" y="16"/>
                      <a:pt x="240" y="48"/>
                    </a:cubicBezTo>
                    <a:cubicBezTo>
                      <a:pt x="312" y="80"/>
                      <a:pt x="312" y="400"/>
                      <a:pt x="432" y="528"/>
                    </a:cubicBezTo>
                    <a:cubicBezTo>
                      <a:pt x="552" y="656"/>
                      <a:pt x="800" y="848"/>
                      <a:pt x="960" y="816"/>
                    </a:cubicBezTo>
                    <a:cubicBezTo>
                      <a:pt x="1120" y="784"/>
                      <a:pt x="1328" y="472"/>
                      <a:pt x="1392" y="336"/>
                    </a:cubicBezTo>
                    <a:cubicBezTo>
                      <a:pt x="1456" y="200"/>
                      <a:pt x="1344" y="56"/>
                      <a:pt x="1344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4142520" y="2789280"/>
              <a:ext cx="689760" cy="403200"/>
            </a:xfrm>
            <a:custGeom>
              <a:avLst/>
              <a:gdLst/>
              <a:ahLst/>
              <a:rect l="l" t="t" r="r" b="b"/>
              <a:pathLst>
                <a:path w="455" h="254">
                  <a:moveTo>
                    <a:pt x="0" y="36"/>
                  </a:moveTo>
                  <a:cubicBezTo>
                    <a:pt x="87" y="123"/>
                    <a:pt x="40" y="98"/>
                    <a:pt x="128" y="127"/>
                  </a:cubicBezTo>
                  <a:cubicBezTo>
                    <a:pt x="140" y="145"/>
                    <a:pt x="150" y="165"/>
                    <a:pt x="164" y="181"/>
                  </a:cubicBezTo>
                  <a:cubicBezTo>
                    <a:pt x="186" y="207"/>
                    <a:pt x="237" y="254"/>
                    <a:pt x="237" y="254"/>
                  </a:cubicBezTo>
                  <a:cubicBezTo>
                    <a:pt x="333" y="222"/>
                    <a:pt x="350" y="159"/>
                    <a:pt x="419" y="90"/>
                  </a:cubicBezTo>
                  <a:cubicBezTo>
                    <a:pt x="439" y="10"/>
                    <a:pt x="420" y="35"/>
                    <a:pt x="455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52680" y="3124080"/>
            <a:ext cx="2256840" cy="1752840"/>
            <a:chOff x="3352680" y="3124080"/>
            <a:chExt cx="2256840" cy="1752840"/>
          </a:xfrm>
        </p:grpSpPr>
        <p:grpSp>
          <p:nvGrpSpPr>
            <p:cNvPr id="260" name=""/>
            <p:cNvGrpSpPr/>
            <p:nvPr/>
          </p:nvGrpSpPr>
          <p:grpSpPr>
            <a:xfrm>
              <a:off x="3352680" y="3124080"/>
              <a:ext cx="1383120" cy="1752840"/>
              <a:chOff x="3352680" y="3124080"/>
              <a:chExt cx="1383120" cy="175284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2680" y="3809880"/>
                <a:ext cx="951120" cy="106704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2680" y="3124080"/>
                <a:ext cx="432360" cy="68580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39080" y="3429000"/>
                <a:ext cx="1296720" cy="60948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226400" y="3124080"/>
              <a:ext cx="1383120" cy="1752840"/>
              <a:chOff x="4226400" y="3124080"/>
              <a:chExt cx="1383120" cy="175284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4658400" y="3809880"/>
                <a:ext cx="951120" cy="106704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176800" y="3124080"/>
                <a:ext cx="432360" cy="68580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226400" y="3429000"/>
                <a:ext cx="1296720" cy="609480"/>
              </a:xfrm>
              <a:prstGeom prst="ellipse">
                <a:avLst/>
              </a:prstGeom>
              <a:solidFill>
                <a:srgbClr val="b1a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2971800" y="3200400"/>
            <a:ext cx="38088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49840" y="4221000"/>
            <a:ext cx="1158840" cy="965520"/>
          </a:xfrm>
          <a:custGeom>
            <a:avLst/>
            <a:gdLst/>
            <a:ahLst/>
            <a:rect l="l" t="t" r="r" b="b"/>
            <a:pathLst>
              <a:path w="730" h="608">
                <a:moveTo>
                  <a:pt x="65" y="389"/>
                </a:moveTo>
                <a:cubicBezTo>
                  <a:pt x="102" y="446"/>
                  <a:pt x="109" y="465"/>
                  <a:pt x="179" y="479"/>
                </a:cubicBezTo>
                <a:cubicBezTo>
                  <a:pt x="187" y="476"/>
                  <a:pt x="195" y="473"/>
                  <a:pt x="203" y="471"/>
                </a:cubicBezTo>
                <a:cubicBezTo>
                  <a:pt x="235" y="464"/>
                  <a:pt x="269" y="464"/>
                  <a:pt x="300" y="454"/>
                </a:cubicBezTo>
                <a:cubicBezTo>
                  <a:pt x="324" y="446"/>
                  <a:pt x="349" y="438"/>
                  <a:pt x="373" y="430"/>
                </a:cubicBezTo>
                <a:cubicBezTo>
                  <a:pt x="381" y="427"/>
                  <a:pt x="398" y="422"/>
                  <a:pt x="398" y="422"/>
                </a:cubicBezTo>
                <a:cubicBezTo>
                  <a:pt x="428" y="402"/>
                  <a:pt x="461" y="392"/>
                  <a:pt x="495" y="381"/>
                </a:cubicBezTo>
                <a:cubicBezTo>
                  <a:pt x="529" y="347"/>
                  <a:pt x="539" y="321"/>
                  <a:pt x="552" y="276"/>
                </a:cubicBezTo>
                <a:cubicBezTo>
                  <a:pt x="556" y="207"/>
                  <a:pt x="545" y="31"/>
                  <a:pt x="641" y="0"/>
                </a:cubicBezTo>
                <a:cubicBezTo>
                  <a:pt x="702" y="10"/>
                  <a:pt x="686" y="11"/>
                  <a:pt x="730" y="41"/>
                </a:cubicBezTo>
                <a:cubicBezTo>
                  <a:pt x="699" y="151"/>
                  <a:pt x="677" y="268"/>
                  <a:pt x="633" y="373"/>
                </a:cubicBezTo>
                <a:cubicBezTo>
                  <a:pt x="618" y="410"/>
                  <a:pt x="616" y="439"/>
                  <a:pt x="584" y="471"/>
                </a:cubicBezTo>
                <a:cubicBezTo>
                  <a:pt x="536" y="519"/>
                  <a:pt x="476" y="534"/>
                  <a:pt x="414" y="552"/>
                </a:cubicBezTo>
                <a:cubicBezTo>
                  <a:pt x="334" y="576"/>
                  <a:pt x="263" y="598"/>
                  <a:pt x="179" y="608"/>
                </a:cubicBezTo>
                <a:cubicBezTo>
                  <a:pt x="149" y="598"/>
                  <a:pt x="119" y="594"/>
                  <a:pt x="89" y="584"/>
                </a:cubicBezTo>
                <a:cubicBezTo>
                  <a:pt x="51" y="546"/>
                  <a:pt x="17" y="522"/>
                  <a:pt x="0" y="471"/>
                </a:cubicBezTo>
                <a:cubicBezTo>
                  <a:pt x="7" y="435"/>
                  <a:pt x="7" y="407"/>
                  <a:pt x="33" y="381"/>
                </a:cubicBezTo>
                <a:cubicBezTo>
                  <a:pt x="60" y="390"/>
                  <a:pt x="49" y="389"/>
                  <a:pt x="65" y="389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4419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4114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4572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44956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42670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7591400">
            <a:off x="5105520" y="396216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41972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4956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3962520"/>
            <a:ext cx="358560" cy="228600"/>
          </a:xfrm>
          <a:custGeom>
            <a:avLst/>
            <a:gdLst/>
            <a:ahLst/>
            <a:rect l="l" t="t" r="r" b="b"/>
            <a:pathLst>
              <a:path w="130" h="41">
                <a:moveTo>
                  <a:pt x="0" y="41"/>
                </a:moveTo>
                <a:cubicBezTo>
                  <a:pt x="20" y="12"/>
                  <a:pt x="32" y="10"/>
                  <a:pt x="65" y="0"/>
                </a:cubicBezTo>
                <a:cubicBezTo>
                  <a:pt x="70" y="2"/>
                  <a:pt x="108" y="14"/>
                  <a:pt x="113" y="17"/>
                </a:cubicBezTo>
                <a:cubicBezTo>
                  <a:pt x="120" y="21"/>
                  <a:pt x="130" y="33"/>
                  <a:pt x="130" y="3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2670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41148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41972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475800">
            <a:off x="3886200" y="411444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52120" y="4419720"/>
            <a:ext cx="1676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057400" y="4572000"/>
            <a:ext cx="18288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440" y="5448240"/>
            <a:ext cx="186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XTEN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2920" y="4991040"/>
            <a:ext cx="1558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FLEX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373392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344600">
            <a:off x="3505320" y="38854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352680" y="3962160"/>
            <a:ext cx="22860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42900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0"/>
                </a:moveTo>
                <a:cubicBezTo>
                  <a:pt x="76" y="8"/>
                  <a:pt x="152" y="16"/>
                  <a:pt x="192" y="48"/>
                </a:cubicBezTo>
                <a:cubicBezTo>
                  <a:pt x="232" y="80"/>
                  <a:pt x="232" y="168"/>
                  <a:pt x="24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581280" y="40384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41148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962160" y="4267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6240" y="1600200"/>
            <a:ext cx="10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B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2800" y="1638360"/>
            <a:ext cx="18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ICU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666880"/>
            <a:ext cx="11430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123720" y="251460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4572000"/>
            <a:ext cx="16765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648320"/>
            <a:ext cx="12193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3842600">
            <a:off x="4800240" y="419040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4343400"/>
            <a:ext cx="759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37760" y="47656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6080" y="418320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9000" y="3699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08960" y="43084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42480" y="45370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9560" y="5562720"/>
            <a:ext cx="186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EXTEN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69400" y="4952880"/>
            <a:ext cx="1558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FLEX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43560" y="552456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OMED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H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495680" y="50292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MOTOR CORTEX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DING PATH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SOR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AL CODING OF REACHING MO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GANIZATION OF THE MOTOR CORTE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AL EFFERENT ZONES: VERTICAL COLUMNS OF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ZONE CONTROLS ONE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 DIFFERENT LAYERS OF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LAYER IS LAYER 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ITE BOTH ALPHA AND GAMMA MOTOR NEU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TICAL AREAS INVOVED IN MO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motctx" descr=""/>
          <p:cNvPicPr/>
          <p:nvPr/>
        </p:nvPicPr>
        <p:blipFill>
          <a:blip r:embed="rId1"/>
          <a:srcRect l="0" t="0" r="0" b="22722"/>
          <a:stretch/>
        </p:blipFill>
        <p:spPr>
          <a:xfrm>
            <a:off x="838080" y="1819440"/>
            <a:ext cx="76964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dematome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251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ATOTOPIC ORGANIZATION OF THE MOTOR CORT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mothomunc" descr=""/>
          <p:cNvPicPr/>
          <p:nvPr/>
        </p:nvPicPr>
        <p:blipFill>
          <a:blip r:embed="rId1"/>
          <a:stretch/>
        </p:blipFill>
        <p:spPr>
          <a:xfrm>
            <a:off x="3043080" y="1738440"/>
            <a:ext cx="46292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CENDING PATHWAYS FROM THE MOTOR CORTE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PINAL PATH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BULBAR PATH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RAMIDAL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AL CORTICOSPINAL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HWAYS FROM CORTEX FOR MOTOR CONTROL: LATERAL CORTICOSPINAL TRA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854080" y="2133720"/>
            <a:ext cx="3598920" cy="3733200"/>
            <a:chOff x="2854080" y="2133720"/>
            <a:chExt cx="3598920" cy="3733200"/>
          </a:xfrm>
        </p:grpSpPr>
        <p:sp>
          <p:nvSpPr>
            <p:cNvPr id="329" name=""/>
            <p:cNvSpPr/>
            <p:nvPr/>
          </p:nvSpPr>
          <p:spPr>
            <a:xfrm rot="8292000">
              <a:off x="3918600" y="3474000"/>
              <a:ext cx="1008360" cy="106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2880000" y="3795120"/>
              <a:ext cx="733320" cy="33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303000" y="341280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91040" y="433008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5862240" y="3741840"/>
              <a:ext cx="427680" cy="504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5543640" y="28022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43640" y="40856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5653080" y="2014920"/>
              <a:ext cx="681120" cy="91872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5400000">
              <a:off x="5639760" y="5067000"/>
              <a:ext cx="681120" cy="91836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519800" y="44827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4632120" y="28933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817000">
              <a:off x="4858560" y="3519000"/>
              <a:ext cx="806040" cy="22752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5509800">
              <a:off x="4745160" y="4255200"/>
              <a:ext cx="866880" cy="28296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264280" y="2740320"/>
              <a:ext cx="27972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7760" y="4452480"/>
              <a:ext cx="28008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51960" y="2496240"/>
              <a:ext cx="391680" cy="67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9280" y="4952880"/>
              <a:ext cx="573480" cy="52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2854080" y="3963240"/>
              <a:ext cx="3585960" cy="61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5400000">
              <a:off x="5729760" y="4189680"/>
              <a:ext cx="244440" cy="28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rot="5400000">
            <a:off x="4850640" y="3302640"/>
            <a:ext cx="666720" cy="1224000"/>
          </a:xfrm>
          <a:custGeom>
            <a:avLst/>
            <a:gdLst/>
            <a:ahLst/>
            <a:rect l="l" t="t" r="r" b="b"/>
            <a:pathLst>
              <a:path w="569" h="2521">
                <a:moveTo>
                  <a:pt x="569" y="0"/>
                </a:moveTo>
                <a:cubicBezTo>
                  <a:pt x="554" y="44"/>
                  <a:pt x="561" y="73"/>
                  <a:pt x="512" y="89"/>
                </a:cubicBezTo>
                <a:cubicBezTo>
                  <a:pt x="468" y="119"/>
                  <a:pt x="441" y="129"/>
                  <a:pt x="391" y="146"/>
                </a:cubicBezTo>
                <a:cubicBezTo>
                  <a:pt x="382" y="149"/>
                  <a:pt x="375" y="158"/>
                  <a:pt x="366" y="162"/>
                </a:cubicBezTo>
                <a:cubicBezTo>
                  <a:pt x="351" y="169"/>
                  <a:pt x="318" y="178"/>
                  <a:pt x="318" y="178"/>
                </a:cubicBezTo>
                <a:cubicBezTo>
                  <a:pt x="312" y="184"/>
                  <a:pt x="308" y="191"/>
                  <a:pt x="301" y="195"/>
                </a:cubicBezTo>
                <a:cubicBezTo>
                  <a:pt x="286" y="203"/>
                  <a:pt x="253" y="211"/>
                  <a:pt x="253" y="211"/>
                </a:cubicBezTo>
                <a:cubicBezTo>
                  <a:pt x="242" y="219"/>
                  <a:pt x="232" y="228"/>
                  <a:pt x="220" y="235"/>
                </a:cubicBezTo>
                <a:cubicBezTo>
                  <a:pt x="213" y="239"/>
                  <a:pt x="203" y="238"/>
                  <a:pt x="196" y="243"/>
                </a:cubicBezTo>
                <a:cubicBezTo>
                  <a:pt x="188" y="249"/>
                  <a:pt x="187" y="261"/>
                  <a:pt x="180" y="268"/>
                </a:cubicBezTo>
                <a:cubicBezTo>
                  <a:pt x="173" y="275"/>
                  <a:pt x="163" y="279"/>
                  <a:pt x="155" y="284"/>
                </a:cubicBezTo>
                <a:cubicBezTo>
                  <a:pt x="138" y="309"/>
                  <a:pt x="119" y="320"/>
                  <a:pt x="99" y="341"/>
                </a:cubicBezTo>
                <a:cubicBezTo>
                  <a:pt x="87" y="376"/>
                  <a:pt x="70" y="402"/>
                  <a:pt x="58" y="438"/>
                </a:cubicBezTo>
                <a:cubicBezTo>
                  <a:pt x="55" y="446"/>
                  <a:pt x="50" y="462"/>
                  <a:pt x="50" y="462"/>
                </a:cubicBezTo>
                <a:cubicBezTo>
                  <a:pt x="0" y="815"/>
                  <a:pt x="31" y="1176"/>
                  <a:pt x="18" y="1532"/>
                </a:cubicBezTo>
                <a:cubicBezTo>
                  <a:pt x="27" y="2332"/>
                  <a:pt x="26" y="2003"/>
                  <a:pt x="26" y="252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2514600"/>
            <a:ext cx="236232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3733920"/>
            <a:ext cx="2362320" cy="14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200400"/>
            <a:ext cx="3049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96080" y="3048120"/>
            <a:ext cx="30492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7583760" y="3540960"/>
            <a:ext cx="1295640" cy="461880"/>
          </a:xfrm>
          <a:prstGeom prst="triangle">
            <a:avLst>
              <a:gd name="adj" fmla="val 50000"/>
            </a:avLst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915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244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77384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7732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6964560" cy="1003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3352680"/>
            <a:ext cx="7543800" cy="1219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848200" y="4407840"/>
            <a:ext cx="571680" cy="9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200400" y="365760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429000" y="3809880"/>
            <a:ext cx="3808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82400" y="15620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54520" y="560088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60680" y="5791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YRAM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34440" y="1866960"/>
            <a:ext cx="122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0560" y="179388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17160" y="2362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866920" y="304812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4191120"/>
            <a:ext cx="228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629400" y="4724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924680" y="4723920"/>
            <a:ext cx="763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8229600" y="2133720"/>
            <a:ext cx="3808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9000" y="3857760"/>
            <a:ext cx="1119240" cy="441360"/>
          </a:xfrm>
          <a:custGeom>
            <a:avLst/>
            <a:gdLst/>
            <a:ahLst/>
            <a:rect l="l" t="t" r="r" b="b"/>
            <a:pathLst>
              <a:path w="705" h="278">
                <a:moveTo>
                  <a:pt x="705" y="10"/>
                </a:moveTo>
                <a:cubicBezTo>
                  <a:pt x="675" y="7"/>
                  <a:pt x="646" y="0"/>
                  <a:pt x="616" y="2"/>
                </a:cubicBezTo>
                <a:cubicBezTo>
                  <a:pt x="575" y="4"/>
                  <a:pt x="517" y="30"/>
                  <a:pt x="478" y="43"/>
                </a:cubicBezTo>
                <a:cubicBezTo>
                  <a:pt x="457" y="50"/>
                  <a:pt x="434" y="52"/>
                  <a:pt x="413" y="59"/>
                </a:cubicBezTo>
                <a:cubicBezTo>
                  <a:pt x="397" y="64"/>
                  <a:pt x="381" y="70"/>
                  <a:pt x="365" y="75"/>
                </a:cubicBezTo>
                <a:cubicBezTo>
                  <a:pt x="357" y="78"/>
                  <a:pt x="340" y="83"/>
                  <a:pt x="340" y="83"/>
                </a:cubicBezTo>
                <a:cubicBezTo>
                  <a:pt x="320" y="105"/>
                  <a:pt x="303" y="115"/>
                  <a:pt x="275" y="124"/>
                </a:cubicBezTo>
                <a:cubicBezTo>
                  <a:pt x="234" y="154"/>
                  <a:pt x="194" y="189"/>
                  <a:pt x="146" y="205"/>
                </a:cubicBezTo>
                <a:cubicBezTo>
                  <a:pt x="129" y="221"/>
                  <a:pt x="103" y="236"/>
                  <a:pt x="81" y="246"/>
                </a:cubicBezTo>
                <a:cubicBezTo>
                  <a:pt x="56" y="257"/>
                  <a:pt x="20" y="258"/>
                  <a:pt x="0" y="2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HWAYS FROM CORTEX FOR MOTOR CONTROL: CORTICOSPINAL TRAC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854080" y="2133720"/>
            <a:ext cx="3598920" cy="3733200"/>
            <a:chOff x="2854080" y="2133720"/>
            <a:chExt cx="3598920" cy="3733200"/>
          </a:xfrm>
        </p:grpSpPr>
        <p:sp>
          <p:nvSpPr>
            <p:cNvPr id="380" name=""/>
            <p:cNvSpPr/>
            <p:nvPr/>
          </p:nvSpPr>
          <p:spPr>
            <a:xfrm rot="8292000">
              <a:off x="3918600" y="3474000"/>
              <a:ext cx="1008360" cy="1069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2880000" y="3795120"/>
              <a:ext cx="733320" cy="33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303000" y="341280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91040" y="4330080"/>
              <a:ext cx="100836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5862240" y="3741840"/>
              <a:ext cx="427680" cy="504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5543640" y="28022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543640" y="4085640"/>
              <a:ext cx="78444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5653080" y="2014920"/>
              <a:ext cx="681120" cy="91872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639760" y="5067000"/>
              <a:ext cx="681120" cy="918360"/>
            </a:xfrm>
            <a:custGeom>
              <a:avLst/>
              <a:gdLst/>
              <a:ahLst/>
              <a:rect l="l" t="t" r="r" b="b"/>
              <a:pathLst>
                <a:path w="535" h="787">
                  <a:moveTo>
                    <a:pt x="535" y="754"/>
                  </a:moveTo>
                  <a:cubicBezTo>
                    <a:pt x="508" y="763"/>
                    <a:pt x="497" y="778"/>
                    <a:pt x="470" y="787"/>
                  </a:cubicBezTo>
                  <a:cubicBezTo>
                    <a:pt x="413" y="783"/>
                    <a:pt x="324" y="781"/>
                    <a:pt x="267" y="762"/>
                  </a:cubicBezTo>
                  <a:cubicBezTo>
                    <a:pt x="251" y="757"/>
                    <a:pt x="235" y="751"/>
                    <a:pt x="219" y="746"/>
                  </a:cubicBezTo>
                  <a:cubicBezTo>
                    <a:pt x="211" y="743"/>
                    <a:pt x="194" y="738"/>
                    <a:pt x="194" y="738"/>
                  </a:cubicBezTo>
                  <a:cubicBezTo>
                    <a:pt x="119" y="688"/>
                    <a:pt x="245" y="769"/>
                    <a:pt x="121" y="706"/>
                  </a:cubicBezTo>
                  <a:cubicBezTo>
                    <a:pt x="86" y="688"/>
                    <a:pt x="84" y="636"/>
                    <a:pt x="56" y="608"/>
                  </a:cubicBezTo>
                  <a:cubicBezTo>
                    <a:pt x="21" y="502"/>
                    <a:pt x="43" y="539"/>
                    <a:pt x="8" y="487"/>
                  </a:cubicBezTo>
                  <a:cubicBezTo>
                    <a:pt x="5" y="476"/>
                    <a:pt x="0" y="465"/>
                    <a:pt x="0" y="454"/>
                  </a:cubicBezTo>
                  <a:cubicBezTo>
                    <a:pt x="0" y="442"/>
                    <a:pt x="24" y="375"/>
                    <a:pt x="24" y="373"/>
                  </a:cubicBezTo>
                  <a:cubicBezTo>
                    <a:pt x="29" y="341"/>
                    <a:pt x="35" y="308"/>
                    <a:pt x="40" y="276"/>
                  </a:cubicBezTo>
                  <a:cubicBezTo>
                    <a:pt x="43" y="257"/>
                    <a:pt x="73" y="227"/>
                    <a:pt x="73" y="227"/>
                  </a:cubicBezTo>
                  <a:cubicBezTo>
                    <a:pt x="88" y="183"/>
                    <a:pt x="104" y="145"/>
                    <a:pt x="113" y="98"/>
                  </a:cubicBezTo>
                  <a:cubicBezTo>
                    <a:pt x="104" y="61"/>
                    <a:pt x="113" y="39"/>
                    <a:pt x="11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19800" y="44827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632120" y="2893320"/>
              <a:ext cx="366480" cy="67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817000">
              <a:off x="4858560" y="3519000"/>
              <a:ext cx="806040" cy="22752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rot="5509800">
              <a:off x="4745160" y="4255200"/>
              <a:ext cx="866880" cy="282960"/>
            </a:xfrm>
            <a:custGeom>
              <a:avLst/>
              <a:gdLst/>
              <a:ahLst/>
              <a:rect l="l" t="t" r="r" b="b"/>
              <a:pathLst>
                <a:path w="633" h="195">
                  <a:moveTo>
                    <a:pt x="0" y="195"/>
                  </a:moveTo>
                  <a:cubicBezTo>
                    <a:pt x="33" y="163"/>
                    <a:pt x="78" y="151"/>
                    <a:pt x="122" y="138"/>
                  </a:cubicBezTo>
                  <a:cubicBezTo>
                    <a:pt x="213" y="111"/>
                    <a:pt x="304" y="77"/>
                    <a:pt x="398" y="65"/>
                  </a:cubicBezTo>
                  <a:cubicBezTo>
                    <a:pt x="478" y="38"/>
                    <a:pt x="546" y="0"/>
                    <a:pt x="63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264280" y="2740320"/>
              <a:ext cx="27972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07760" y="4452480"/>
              <a:ext cx="28008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151960" y="2496240"/>
              <a:ext cx="391680" cy="67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49280" y="4952880"/>
              <a:ext cx="573480" cy="52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2854080" y="3963240"/>
              <a:ext cx="3585960" cy="61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5729760" y="4189680"/>
              <a:ext cx="244440" cy="28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5400000">
            <a:off x="4850640" y="3302640"/>
            <a:ext cx="666720" cy="1224000"/>
          </a:xfrm>
          <a:custGeom>
            <a:avLst/>
            <a:gdLst/>
            <a:ahLst/>
            <a:rect l="l" t="t" r="r" b="b"/>
            <a:pathLst>
              <a:path w="569" h="2521">
                <a:moveTo>
                  <a:pt x="569" y="0"/>
                </a:moveTo>
                <a:cubicBezTo>
                  <a:pt x="554" y="44"/>
                  <a:pt x="561" y="73"/>
                  <a:pt x="512" y="89"/>
                </a:cubicBezTo>
                <a:cubicBezTo>
                  <a:pt x="468" y="119"/>
                  <a:pt x="441" y="129"/>
                  <a:pt x="391" y="146"/>
                </a:cubicBezTo>
                <a:cubicBezTo>
                  <a:pt x="382" y="149"/>
                  <a:pt x="375" y="158"/>
                  <a:pt x="366" y="162"/>
                </a:cubicBezTo>
                <a:cubicBezTo>
                  <a:pt x="351" y="169"/>
                  <a:pt x="318" y="178"/>
                  <a:pt x="318" y="178"/>
                </a:cubicBezTo>
                <a:cubicBezTo>
                  <a:pt x="312" y="184"/>
                  <a:pt x="308" y="191"/>
                  <a:pt x="301" y="195"/>
                </a:cubicBezTo>
                <a:cubicBezTo>
                  <a:pt x="286" y="203"/>
                  <a:pt x="253" y="211"/>
                  <a:pt x="253" y="211"/>
                </a:cubicBezTo>
                <a:cubicBezTo>
                  <a:pt x="242" y="219"/>
                  <a:pt x="232" y="228"/>
                  <a:pt x="220" y="235"/>
                </a:cubicBezTo>
                <a:cubicBezTo>
                  <a:pt x="213" y="239"/>
                  <a:pt x="203" y="238"/>
                  <a:pt x="196" y="243"/>
                </a:cubicBezTo>
                <a:cubicBezTo>
                  <a:pt x="188" y="249"/>
                  <a:pt x="187" y="261"/>
                  <a:pt x="180" y="268"/>
                </a:cubicBezTo>
                <a:cubicBezTo>
                  <a:pt x="173" y="275"/>
                  <a:pt x="163" y="279"/>
                  <a:pt x="155" y="284"/>
                </a:cubicBezTo>
                <a:cubicBezTo>
                  <a:pt x="138" y="309"/>
                  <a:pt x="119" y="320"/>
                  <a:pt x="99" y="341"/>
                </a:cubicBezTo>
                <a:cubicBezTo>
                  <a:pt x="87" y="376"/>
                  <a:pt x="70" y="402"/>
                  <a:pt x="58" y="438"/>
                </a:cubicBezTo>
                <a:cubicBezTo>
                  <a:pt x="55" y="446"/>
                  <a:pt x="50" y="462"/>
                  <a:pt x="50" y="462"/>
                </a:cubicBezTo>
                <a:cubicBezTo>
                  <a:pt x="0" y="815"/>
                  <a:pt x="31" y="1176"/>
                  <a:pt x="18" y="1532"/>
                </a:cubicBezTo>
                <a:cubicBezTo>
                  <a:pt x="27" y="2332"/>
                  <a:pt x="26" y="2003"/>
                  <a:pt x="26" y="252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2514600"/>
            <a:ext cx="236232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3733920"/>
            <a:ext cx="2362320" cy="1447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67480" y="3200400"/>
            <a:ext cx="3049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96080" y="3048120"/>
            <a:ext cx="304920" cy="1600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7583760" y="3540960"/>
            <a:ext cx="1295640" cy="461880"/>
          </a:xfrm>
          <a:prstGeom prst="triangle">
            <a:avLst>
              <a:gd name="adj" fmla="val 50000"/>
            </a:avLst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0244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384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4197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3809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3352680"/>
            <a:ext cx="6964560" cy="1003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3352680"/>
            <a:ext cx="7543800" cy="1219320"/>
          </a:xfrm>
          <a:custGeom>
            <a:avLst/>
            <a:gdLst/>
            <a:ahLst/>
            <a:rect l="l" t="t" r="r" b="b"/>
            <a:pathLst>
              <a:path w="4387" h="632">
                <a:moveTo>
                  <a:pt x="4387" y="592"/>
                </a:moveTo>
                <a:cubicBezTo>
                  <a:pt x="4215" y="565"/>
                  <a:pt x="3937" y="597"/>
                  <a:pt x="3795" y="600"/>
                </a:cubicBezTo>
                <a:cubicBezTo>
                  <a:pt x="3571" y="610"/>
                  <a:pt x="3346" y="622"/>
                  <a:pt x="3122" y="632"/>
                </a:cubicBezTo>
                <a:cubicBezTo>
                  <a:pt x="2959" y="624"/>
                  <a:pt x="2808" y="599"/>
                  <a:pt x="2643" y="592"/>
                </a:cubicBezTo>
                <a:cubicBezTo>
                  <a:pt x="2585" y="581"/>
                  <a:pt x="2532" y="556"/>
                  <a:pt x="2473" y="551"/>
                </a:cubicBezTo>
                <a:cubicBezTo>
                  <a:pt x="2309" y="536"/>
                  <a:pt x="2148" y="526"/>
                  <a:pt x="1987" y="494"/>
                </a:cubicBezTo>
                <a:cubicBezTo>
                  <a:pt x="1947" y="468"/>
                  <a:pt x="1901" y="469"/>
                  <a:pt x="1857" y="454"/>
                </a:cubicBezTo>
                <a:cubicBezTo>
                  <a:pt x="1807" y="419"/>
                  <a:pt x="1768" y="359"/>
                  <a:pt x="1735" y="308"/>
                </a:cubicBezTo>
                <a:cubicBezTo>
                  <a:pt x="1727" y="295"/>
                  <a:pt x="1699" y="246"/>
                  <a:pt x="1679" y="235"/>
                </a:cubicBezTo>
                <a:cubicBezTo>
                  <a:pt x="1628" y="207"/>
                  <a:pt x="1556" y="208"/>
                  <a:pt x="1500" y="202"/>
                </a:cubicBezTo>
                <a:cubicBezTo>
                  <a:pt x="1402" y="191"/>
                  <a:pt x="1306" y="176"/>
                  <a:pt x="1208" y="162"/>
                </a:cubicBezTo>
                <a:cubicBezTo>
                  <a:pt x="945" y="123"/>
                  <a:pt x="679" y="93"/>
                  <a:pt x="414" y="65"/>
                </a:cubicBezTo>
                <a:cubicBezTo>
                  <a:pt x="300" y="53"/>
                  <a:pt x="186" y="33"/>
                  <a:pt x="73" y="16"/>
                </a:cubicBezTo>
                <a:cubicBezTo>
                  <a:pt x="51" y="13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5848200" y="4407840"/>
            <a:ext cx="571680" cy="9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200400" y="365760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429000" y="3809880"/>
            <a:ext cx="3808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82400" y="15620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54520" y="560088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60680" y="579132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YRAM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34440" y="1866960"/>
            <a:ext cx="122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UM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0560" y="179388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17160" y="2362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866920" y="3048120"/>
            <a:ext cx="228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4191120"/>
            <a:ext cx="2286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629400" y="4724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7924680" y="4723920"/>
            <a:ext cx="763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229600" y="2133720"/>
            <a:ext cx="3808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0120" y="3886200"/>
            <a:ext cx="585720" cy="609480"/>
          </a:xfrm>
          <a:custGeom>
            <a:avLst/>
            <a:gdLst/>
            <a:ahLst/>
            <a:rect l="l" t="t" r="r" b="b"/>
            <a:pathLst>
              <a:path w="705" h="278">
                <a:moveTo>
                  <a:pt x="705" y="10"/>
                </a:moveTo>
                <a:cubicBezTo>
                  <a:pt x="675" y="7"/>
                  <a:pt x="646" y="0"/>
                  <a:pt x="616" y="2"/>
                </a:cubicBezTo>
                <a:cubicBezTo>
                  <a:pt x="575" y="4"/>
                  <a:pt x="517" y="30"/>
                  <a:pt x="478" y="43"/>
                </a:cubicBezTo>
                <a:cubicBezTo>
                  <a:pt x="457" y="50"/>
                  <a:pt x="434" y="52"/>
                  <a:pt x="413" y="59"/>
                </a:cubicBezTo>
                <a:cubicBezTo>
                  <a:pt x="397" y="64"/>
                  <a:pt x="381" y="70"/>
                  <a:pt x="365" y="75"/>
                </a:cubicBezTo>
                <a:cubicBezTo>
                  <a:pt x="357" y="78"/>
                  <a:pt x="340" y="83"/>
                  <a:pt x="340" y="83"/>
                </a:cubicBezTo>
                <a:cubicBezTo>
                  <a:pt x="320" y="105"/>
                  <a:pt x="303" y="115"/>
                  <a:pt x="275" y="124"/>
                </a:cubicBezTo>
                <a:cubicBezTo>
                  <a:pt x="234" y="154"/>
                  <a:pt x="194" y="189"/>
                  <a:pt x="146" y="205"/>
                </a:cubicBezTo>
                <a:cubicBezTo>
                  <a:pt x="129" y="221"/>
                  <a:pt x="103" y="236"/>
                  <a:pt x="81" y="246"/>
                </a:cubicBezTo>
                <a:cubicBezTo>
                  <a:pt x="56" y="257"/>
                  <a:pt x="20" y="258"/>
                  <a:pt x="0" y="2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0520" y="4114440"/>
            <a:ext cx="3581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7920" y="430848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OF POSTURE BY THE BRAIN 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NTROMEDIAL PATH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TERAL RETICULOSPINAL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UBROSPINAL TRAC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NSORY FEEDBACK TO THE MOTOR CORT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 SOMATIC SENSORY CO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ED IN A TOPOGRAPHIC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MOVEMENT AND SMOOTH AND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TICAL CODING OF REACHING MOV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NEURONS CODE FOR RATE OF FORC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ADY STATE FO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ONS CONTROLLING RATE AND DIRECTION OF MOVEMENT ARE DISTRIBUTED (NO ONE NEURON HAS ALL THE INFORM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PLIMENTAL MOTOR AREAS PROGRAM MOV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ALAMUS INVOLVED IN MOTIVATIONAL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T INFORMATION TO SUPPLIMENTAL AND PREMOTOR CO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E THE DESIGN OF THE MOVEMENT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HERSAL OF MOVEMENTS AS W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TERIOR PARIETAL CORTEX INTEGRATES SENSORY STIMULI FOR PURPOSEFUL MOV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BOTH SOMATIC AND VISUAL SENSORY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MITS IT TO SUPPLIMENTAL AND PREMOTOR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TICAL AREAS INVOVED IN MO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0" name="motctx" descr=""/>
          <p:cNvPicPr/>
          <p:nvPr/>
        </p:nvPicPr>
        <p:blipFill>
          <a:blip r:embed="rId1"/>
          <a:srcRect l="0" t="0" r="0" b="22722"/>
          <a:stretch/>
        </p:blipFill>
        <p:spPr>
          <a:xfrm>
            <a:off x="838080" y="1819440"/>
            <a:ext cx="76964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CEREBELLUM AND BASAL GANGLIA COORDINATE MOVE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EREBELLUM IS INVOLVED IN PLANNING, COORDINATION, AND PO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RIOR AND POSTERIOR LOBES INVOLVED IN LIMB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CCULONODULAR LOBE IS INVOLVED IN EQUILIBRIUM AND PO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brainslce" descr="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THE CEREBELL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OF A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OF POSTURE AND EQUILIB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OF SMOOTH LIMB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TYPES AND CIRCUITS IN THE CEREBELL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838080" y="1600200"/>
          <a:ext cx="708660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7086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RKINJE CELLS ARE THE MOST PROMINENT OF ALL THE CEREBELLAR CELL TYP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INPUTS: CLIMBING FIBERS (FROM OLIVARY NUCLEUS) AND PARALLEL FIBERS FROM GRANULE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VARIES ACORDING TO INPUT: CLIMING FIBERS LEAD TO COMPLEX PATTERNS WHILE PARALLEL FIBERS GENERATE SIMPLE PATTER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AIN STEM CENTERS FOR MO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463080" y="28576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0560" y="2705040"/>
            <a:ext cx="15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7200" y="4000680"/>
            <a:ext cx="16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ME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STIB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505320"/>
            <a:ext cx="16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L RETICULAR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057400"/>
            <a:ext cx="380880" cy="533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191120"/>
            <a:ext cx="30492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038480"/>
            <a:ext cx="763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267080" y="4038480"/>
            <a:ext cx="7632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590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560" y="16002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81120" y="19051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029200" y="274284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419360" y="4267080"/>
            <a:ext cx="19810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124080"/>
            <a:ext cx="23619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495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ASAL GANGL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33520" y="1447920"/>
          <a:ext cx="7867440" cy="51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86744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BASAL GANGLIA PLAN MOV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INPUT FROM NEOCO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INPUTS FROM THE THALAMUS AND SUBSTANTIA NIG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US PALLIDUS PROVIDES 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GNITIV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AL GANGLIA: AFFERENT CONNE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2971800" y="1905120"/>
            <a:ext cx="1905120" cy="6858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2438280"/>
            <a:ext cx="1371600" cy="1371600"/>
          </a:xfrm>
          <a:prstGeom prst="ellipse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U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352680"/>
            <a:ext cx="20574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581280" y="3429000"/>
            <a:ext cx="2286000" cy="1219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52680" y="5181480"/>
            <a:ext cx="2362320" cy="13716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4038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267080" y="4343040"/>
            <a:ext cx="3812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95680" y="3580920"/>
            <a:ext cx="25909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8480" y="2438280"/>
            <a:ext cx="38124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971800"/>
            <a:ext cx="2362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33720" y="4114800"/>
            <a:ext cx="167616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7400" y="3428640"/>
            <a:ext cx="4724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AL GANGLIA: INTRINSIC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1905120"/>
            <a:ext cx="1905120" cy="6858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0800" y="2438280"/>
            <a:ext cx="1371600" cy="1371600"/>
          </a:xfrm>
          <a:prstGeom prst="ellipse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U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3352680"/>
            <a:ext cx="20574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3429000"/>
            <a:ext cx="2286000" cy="1219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5181480"/>
            <a:ext cx="2362320" cy="13716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5780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4038120" y="4190760"/>
            <a:ext cx="129564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190760" y="4343400"/>
            <a:ext cx="1143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724280" y="3429000"/>
            <a:ext cx="22860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257800" y="3429000"/>
            <a:ext cx="1828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57360" y="548640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1200" y="457200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LI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AL GANGLIA: EFFERENT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2438280"/>
            <a:ext cx="1371600" cy="1371600"/>
          </a:xfrm>
          <a:prstGeom prst="ellipse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U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352680"/>
            <a:ext cx="20574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81280" y="3429000"/>
            <a:ext cx="2286000" cy="1219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352680" y="5181480"/>
            <a:ext cx="2362320" cy="1371600"/>
          </a:xfrm>
          <a:prstGeom prst="rect">
            <a:avLst/>
          </a:prstGeom>
          <a:solidFill>
            <a:srgbClr val="b1aa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600200" y="4114440"/>
            <a:ext cx="22860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23920" y="4343400"/>
            <a:ext cx="3812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105160" y="3505320"/>
            <a:ext cx="2057400" cy="190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11160" y="4381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LI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AL GANGLIA OUTPUT TO CORTEX VIA THALA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TE DESCENDING COMPONENTS OF THE MOTO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AL OUTPUTS TO SUBSTANTIA NIGRA USE DOPAMINE AS NEUROTRANSMITTER:  THESE DEGENERATE IN PARKINSON’S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VESTIBULAR APPAR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CIRCULAR CANALS: HAIR CELLS SENSE 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COORDINATE PLANES: SUPERIOR, INFERIOR, AND HORIZO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RICLE AND SACCULE DETECT LINEAR ACCELERATION IN HORIZONTAL AND VERTICLE PLA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EASES OF THE MOTOR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-MOTOR-NEURON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PINAL TRACT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R MOTOR NEURON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EBELLAR 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PPER-MOTOR-NEURON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YSIS ON SIDE OF BODY OPPOSITE LE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MUSCLE T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 OF BIG TOE AND BABINSKI 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MUSCLE ATR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TICOSPINAL TRACT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STRENGTH AND MOVEMENT OF MUSCLE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STRENGTH IN VOLUNTARY MUSCLE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BINSKI 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VENTROMEDIAL PATHW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STIBULOSPINAL TRACT:  CARRIES INFORMATION FROM VESTIBULAR NUCLEUS FOR REFLEX CONTROL OF EQUILIBR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OSPINAL TRACT:  ORIGINATES IN TECTUM FOR CONTROL OF HEAD AND EYE M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L RETICULOSPINAL TRACT:  ORIGINATES IN RETICULAR FORMATION FOR MAINTAINING POSTURE BY ACTIVATION OF EXTENS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WER MOTOR NEURON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SOLATERAL HYPOACTIVE REFL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CID MUSCLES WITH PROMINENT ATR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REBELLAR LE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SILATERAL DISTURB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AL LESIONS RESULT IN COORDINATION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IONS IN THE VERMIS PRODUCE ATAXIA (LOSS OF COORDIN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CCULONODULAR LOBE LESIONS PRODUCE EQUILIBRIUM DISTURBANCE AND ATAX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THWAYS FROM BRAINSTEM FOR MOTOR CONTROL: VENTROMED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057400"/>
            <a:ext cx="380880" cy="533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191120"/>
            <a:ext cx="380880" cy="5331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3886200"/>
            <a:ext cx="15228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2600280"/>
            <a:ext cx="803160" cy="4029120"/>
          </a:xfrm>
          <a:custGeom>
            <a:avLst/>
            <a:gdLst/>
            <a:ahLst/>
            <a:rect l="l" t="t" r="r" b="b"/>
            <a:pathLst>
              <a:path w="503" h="2424">
                <a:moveTo>
                  <a:pt x="503" y="0"/>
                </a:moveTo>
                <a:cubicBezTo>
                  <a:pt x="490" y="51"/>
                  <a:pt x="486" y="102"/>
                  <a:pt x="479" y="154"/>
                </a:cubicBezTo>
                <a:cubicBezTo>
                  <a:pt x="477" y="173"/>
                  <a:pt x="490" y="208"/>
                  <a:pt x="471" y="211"/>
                </a:cubicBezTo>
                <a:cubicBezTo>
                  <a:pt x="332" y="235"/>
                  <a:pt x="49" y="227"/>
                  <a:pt x="49" y="227"/>
                </a:cubicBezTo>
                <a:cubicBezTo>
                  <a:pt x="16" y="238"/>
                  <a:pt x="11" y="252"/>
                  <a:pt x="0" y="284"/>
                </a:cubicBezTo>
                <a:cubicBezTo>
                  <a:pt x="27" y="381"/>
                  <a:pt x="15" y="344"/>
                  <a:pt x="33" y="397"/>
                </a:cubicBezTo>
                <a:cubicBezTo>
                  <a:pt x="38" y="448"/>
                  <a:pt x="46" y="499"/>
                  <a:pt x="49" y="551"/>
                </a:cubicBezTo>
                <a:cubicBezTo>
                  <a:pt x="54" y="635"/>
                  <a:pt x="65" y="802"/>
                  <a:pt x="65" y="802"/>
                </a:cubicBezTo>
                <a:cubicBezTo>
                  <a:pt x="52" y="1228"/>
                  <a:pt x="53" y="1623"/>
                  <a:pt x="57" y="2059"/>
                </a:cubicBezTo>
                <a:cubicBezTo>
                  <a:pt x="49" y="2419"/>
                  <a:pt x="49" y="2297"/>
                  <a:pt x="49" y="242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1480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724280"/>
            <a:ext cx="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181480"/>
            <a:ext cx="7596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6160" y="4305240"/>
            <a:ext cx="15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STIBU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029200"/>
            <a:ext cx="12956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76560" y="4381560"/>
            <a:ext cx="13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ICUL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1640" y="5181480"/>
            <a:ext cx="12193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3240" y="2781360"/>
            <a:ext cx="99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T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028840" y="2819160"/>
            <a:ext cx="152388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CATION OF CELL BODIES FOR EXTENSORS AND FLEXOR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2590920"/>
            <a:ext cx="8178840" cy="2945880"/>
            <a:chOff x="380880" y="2590920"/>
            <a:chExt cx="8178840" cy="2945880"/>
          </a:xfrm>
        </p:grpSpPr>
        <p:grpSp>
          <p:nvGrpSpPr>
            <p:cNvPr id="158" name=""/>
            <p:cNvGrpSpPr/>
            <p:nvPr/>
          </p:nvGrpSpPr>
          <p:grpSpPr>
            <a:xfrm>
              <a:off x="380880" y="2590920"/>
              <a:ext cx="8178840" cy="2945880"/>
              <a:chOff x="380880" y="2590920"/>
              <a:chExt cx="8178840" cy="29458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385520" y="2590920"/>
                <a:ext cx="4174200" cy="2945880"/>
                <a:chOff x="4385520" y="2590920"/>
                <a:chExt cx="4174200" cy="29458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rot="5400000">
                  <a:off x="6423120" y="3571200"/>
                  <a:ext cx="698760" cy="7707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09880" y="3607560"/>
                  <a:ext cx="1149840" cy="54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409880" y="4076640"/>
                  <a:ext cx="114984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323760" y="4077000"/>
                  <a:ext cx="108612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6202440" y="2825280"/>
                  <a:ext cx="1185840" cy="770760"/>
                </a:xfrm>
                <a:custGeom>
                  <a:avLst/>
                  <a:gdLst/>
                  <a:ahLst/>
                  <a:rect l="l" t="t" r="r" b="b"/>
                  <a:pathLst>
                    <a:path w="891" h="764">
                      <a:moveTo>
                        <a:pt x="0" y="764"/>
                      </a:moveTo>
                      <a:cubicBezTo>
                        <a:pt x="129" y="720"/>
                        <a:pt x="88" y="759"/>
                        <a:pt x="145" y="673"/>
                      </a:cubicBezTo>
                      <a:cubicBezTo>
                        <a:pt x="157" y="637"/>
                        <a:pt x="161" y="596"/>
                        <a:pt x="182" y="564"/>
                      </a:cubicBezTo>
                      <a:cubicBezTo>
                        <a:pt x="194" y="546"/>
                        <a:pt x="209" y="529"/>
                        <a:pt x="218" y="509"/>
                      </a:cubicBezTo>
                      <a:cubicBezTo>
                        <a:pt x="292" y="347"/>
                        <a:pt x="255" y="341"/>
                        <a:pt x="382" y="182"/>
                      </a:cubicBezTo>
                      <a:cubicBezTo>
                        <a:pt x="435" y="115"/>
                        <a:pt x="563" y="0"/>
                        <a:pt x="563" y="0"/>
                      </a:cubicBezTo>
                      <a:cubicBezTo>
                        <a:pt x="611" y="10"/>
                        <a:pt x="674" y="12"/>
                        <a:pt x="709" y="55"/>
                      </a:cubicBezTo>
                      <a:cubicBezTo>
                        <a:pt x="721" y="70"/>
                        <a:pt x="720" y="91"/>
                        <a:pt x="727" y="109"/>
                      </a:cubicBezTo>
                      <a:cubicBezTo>
                        <a:pt x="762" y="204"/>
                        <a:pt x="796" y="388"/>
                        <a:pt x="891" y="437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4790520" y="2590920"/>
                  <a:ext cx="1422720" cy="649800"/>
                </a:xfrm>
                <a:custGeom>
                  <a:avLst/>
                  <a:gdLst/>
                  <a:ahLst/>
                  <a:rect l="l" t="t" r="r" b="b"/>
                  <a:pathLst>
                    <a:path w="1262" h="255">
                      <a:moveTo>
                        <a:pt x="8" y="255"/>
                      </a:moveTo>
                      <a:cubicBezTo>
                        <a:pt x="78" y="114"/>
                        <a:pt x="0" y="244"/>
                        <a:pt x="117" y="127"/>
                      </a:cubicBezTo>
                      <a:cubicBezTo>
                        <a:pt x="132" y="112"/>
                        <a:pt x="135" y="85"/>
                        <a:pt x="153" y="73"/>
                      </a:cubicBezTo>
                      <a:cubicBezTo>
                        <a:pt x="174" y="59"/>
                        <a:pt x="202" y="62"/>
                        <a:pt x="226" y="55"/>
                      </a:cubicBezTo>
                      <a:cubicBezTo>
                        <a:pt x="263" y="44"/>
                        <a:pt x="299" y="30"/>
                        <a:pt x="335" y="18"/>
                      </a:cubicBezTo>
                      <a:cubicBezTo>
                        <a:pt x="353" y="12"/>
                        <a:pt x="389" y="0"/>
                        <a:pt x="389" y="0"/>
                      </a:cubicBezTo>
                      <a:cubicBezTo>
                        <a:pt x="534" y="47"/>
                        <a:pt x="365" y="0"/>
                        <a:pt x="680" y="0"/>
                      </a:cubicBezTo>
                      <a:cubicBezTo>
                        <a:pt x="814" y="0"/>
                        <a:pt x="946" y="27"/>
                        <a:pt x="1080" y="37"/>
                      </a:cubicBezTo>
                      <a:cubicBezTo>
                        <a:pt x="1137" y="46"/>
                        <a:pt x="1217" y="46"/>
                        <a:pt x="1262" y="9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4385520" y="4155120"/>
                  <a:ext cx="1938240" cy="1381680"/>
                </a:xfrm>
                <a:custGeom>
                  <a:avLst/>
                  <a:gdLst/>
                  <a:ahLst/>
                  <a:rect l="l" t="t" r="r" b="b"/>
                  <a:pathLst>
                    <a:path w="1456" h="848">
                      <a:moveTo>
                        <a:pt x="0" y="336"/>
                      </a:moveTo>
                      <a:cubicBezTo>
                        <a:pt x="84" y="176"/>
                        <a:pt x="168" y="16"/>
                        <a:pt x="240" y="48"/>
                      </a:cubicBezTo>
                      <a:cubicBezTo>
                        <a:pt x="312" y="80"/>
                        <a:pt x="312" y="400"/>
                        <a:pt x="432" y="528"/>
                      </a:cubicBezTo>
                      <a:cubicBezTo>
                        <a:pt x="552" y="656"/>
                        <a:pt x="800" y="848"/>
                        <a:pt x="960" y="816"/>
                      </a:cubicBezTo>
                      <a:cubicBezTo>
                        <a:pt x="1120" y="784"/>
                        <a:pt x="1328" y="472"/>
                        <a:pt x="1392" y="336"/>
                      </a:cubicBezTo>
                      <a:cubicBezTo>
                        <a:pt x="1456" y="200"/>
                        <a:pt x="1344" y="56"/>
                        <a:pt x="1344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80880" y="2590920"/>
                <a:ext cx="4173840" cy="2945880"/>
                <a:chOff x="380880" y="2590920"/>
                <a:chExt cx="4173840" cy="2945880"/>
              </a:xfrm>
            </p:grpSpPr>
            <p:sp>
              <p:nvSpPr>
                <p:cNvPr id="168" name=""/>
                <p:cNvSpPr/>
                <p:nvPr/>
              </p:nvSpPr>
              <p:spPr>
                <a:xfrm rot="16200000">
                  <a:off x="1818360" y="3571200"/>
                  <a:ext cx="698760" cy="7707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380880" y="3607560"/>
                  <a:ext cx="1149840" cy="54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380880" y="4076640"/>
                  <a:ext cx="114984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30720" y="4077000"/>
                  <a:ext cx="1085760" cy="625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52320" y="2825280"/>
                  <a:ext cx="1185840" cy="770760"/>
                </a:xfrm>
                <a:custGeom>
                  <a:avLst/>
                  <a:gdLst/>
                  <a:ahLst/>
                  <a:rect l="l" t="t" r="r" b="b"/>
                  <a:pathLst>
                    <a:path w="891" h="764">
                      <a:moveTo>
                        <a:pt x="0" y="764"/>
                      </a:moveTo>
                      <a:cubicBezTo>
                        <a:pt x="129" y="720"/>
                        <a:pt x="88" y="759"/>
                        <a:pt x="145" y="673"/>
                      </a:cubicBezTo>
                      <a:cubicBezTo>
                        <a:pt x="157" y="637"/>
                        <a:pt x="161" y="596"/>
                        <a:pt x="182" y="564"/>
                      </a:cubicBezTo>
                      <a:cubicBezTo>
                        <a:pt x="194" y="546"/>
                        <a:pt x="209" y="529"/>
                        <a:pt x="218" y="509"/>
                      </a:cubicBezTo>
                      <a:cubicBezTo>
                        <a:pt x="292" y="347"/>
                        <a:pt x="255" y="341"/>
                        <a:pt x="382" y="182"/>
                      </a:cubicBezTo>
                      <a:cubicBezTo>
                        <a:pt x="435" y="115"/>
                        <a:pt x="563" y="0"/>
                        <a:pt x="563" y="0"/>
                      </a:cubicBezTo>
                      <a:cubicBezTo>
                        <a:pt x="611" y="10"/>
                        <a:pt x="674" y="12"/>
                        <a:pt x="709" y="55"/>
                      </a:cubicBezTo>
                      <a:cubicBezTo>
                        <a:pt x="721" y="70"/>
                        <a:pt x="720" y="91"/>
                        <a:pt x="727" y="109"/>
                      </a:cubicBezTo>
                      <a:cubicBezTo>
                        <a:pt x="762" y="204"/>
                        <a:pt x="796" y="388"/>
                        <a:pt x="891" y="437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27360" y="2590920"/>
                  <a:ext cx="1422720" cy="649800"/>
                </a:xfrm>
                <a:custGeom>
                  <a:avLst/>
                  <a:gdLst/>
                  <a:ahLst/>
                  <a:rect l="l" t="t" r="r" b="b"/>
                  <a:pathLst>
                    <a:path w="1262" h="255">
                      <a:moveTo>
                        <a:pt x="8" y="255"/>
                      </a:moveTo>
                      <a:cubicBezTo>
                        <a:pt x="78" y="114"/>
                        <a:pt x="0" y="244"/>
                        <a:pt x="117" y="127"/>
                      </a:cubicBezTo>
                      <a:cubicBezTo>
                        <a:pt x="132" y="112"/>
                        <a:pt x="135" y="85"/>
                        <a:pt x="153" y="73"/>
                      </a:cubicBezTo>
                      <a:cubicBezTo>
                        <a:pt x="174" y="59"/>
                        <a:pt x="202" y="62"/>
                        <a:pt x="226" y="55"/>
                      </a:cubicBezTo>
                      <a:cubicBezTo>
                        <a:pt x="263" y="44"/>
                        <a:pt x="299" y="30"/>
                        <a:pt x="335" y="18"/>
                      </a:cubicBezTo>
                      <a:cubicBezTo>
                        <a:pt x="353" y="12"/>
                        <a:pt x="389" y="0"/>
                        <a:pt x="389" y="0"/>
                      </a:cubicBezTo>
                      <a:cubicBezTo>
                        <a:pt x="534" y="47"/>
                        <a:pt x="365" y="0"/>
                        <a:pt x="680" y="0"/>
                      </a:cubicBezTo>
                      <a:cubicBezTo>
                        <a:pt x="814" y="0"/>
                        <a:pt x="946" y="27"/>
                        <a:pt x="1080" y="37"/>
                      </a:cubicBezTo>
                      <a:cubicBezTo>
                        <a:pt x="1137" y="46"/>
                        <a:pt x="1217" y="46"/>
                        <a:pt x="1262" y="9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616840" y="4155120"/>
                  <a:ext cx="1937880" cy="1381680"/>
                </a:xfrm>
                <a:custGeom>
                  <a:avLst/>
                  <a:gdLst/>
                  <a:ahLst/>
                  <a:rect l="l" t="t" r="r" b="b"/>
                  <a:pathLst>
                    <a:path w="1456" h="848">
                      <a:moveTo>
                        <a:pt x="0" y="336"/>
                      </a:moveTo>
                      <a:cubicBezTo>
                        <a:pt x="84" y="176"/>
                        <a:pt x="168" y="16"/>
                        <a:pt x="240" y="48"/>
                      </a:cubicBezTo>
                      <a:cubicBezTo>
                        <a:pt x="312" y="80"/>
                        <a:pt x="312" y="400"/>
                        <a:pt x="432" y="528"/>
                      </a:cubicBezTo>
                      <a:cubicBezTo>
                        <a:pt x="552" y="656"/>
                        <a:pt x="800" y="848"/>
                        <a:pt x="960" y="816"/>
                      </a:cubicBezTo>
                      <a:cubicBezTo>
                        <a:pt x="1120" y="784"/>
                        <a:pt x="1328" y="472"/>
                        <a:pt x="1392" y="336"/>
                      </a:cubicBezTo>
                      <a:cubicBezTo>
                        <a:pt x="1456" y="200"/>
                        <a:pt x="1344" y="56"/>
                        <a:pt x="1344" y="0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4142520" y="2789280"/>
                <a:ext cx="689760" cy="403200"/>
              </a:xfrm>
              <a:custGeom>
                <a:avLst/>
                <a:gdLst/>
                <a:ahLst/>
                <a:rect l="l" t="t" r="r" b="b"/>
                <a:pathLst>
                  <a:path w="455" h="254">
                    <a:moveTo>
                      <a:pt x="0" y="36"/>
                    </a:moveTo>
                    <a:cubicBezTo>
                      <a:pt x="87" y="123"/>
                      <a:pt x="40" y="98"/>
                      <a:pt x="128" y="127"/>
                    </a:cubicBezTo>
                    <a:cubicBezTo>
                      <a:pt x="140" y="145"/>
                      <a:pt x="150" y="165"/>
                      <a:pt x="164" y="181"/>
                    </a:cubicBezTo>
                    <a:cubicBezTo>
                      <a:pt x="186" y="207"/>
                      <a:pt x="237" y="254"/>
                      <a:pt x="237" y="254"/>
                    </a:cubicBezTo>
                    <a:cubicBezTo>
                      <a:pt x="333" y="222"/>
                      <a:pt x="350" y="159"/>
                      <a:pt x="419" y="90"/>
                    </a:cubicBezTo>
                    <a:cubicBezTo>
                      <a:pt x="439" y="10"/>
                      <a:pt x="420" y="35"/>
                      <a:pt x="455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365640" y="3124440"/>
              <a:ext cx="2256480" cy="1752120"/>
              <a:chOff x="3365640" y="3124440"/>
              <a:chExt cx="2256480" cy="17521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3365640" y="3124440"/>
                <a:ext cx="1383120" cy="1752120"/>
                <a:chOff x="3365640" y="3124440"/>
                <a:chExt cx="1383120" cy="1752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65640" y="3809880"/>
                  <a:ext cx="951120" cy="106668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65640" y="3124440"/>
                  <a:ext cx="432360" cy="68544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452040" y="3429000"/>
                  <a:ext cx="1296720" cy="60912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239000" y="3124440"/>
                <a:ext cx="1383120" cy="1752120"/>
                <a:chOff x="4239000" y="3124440"/>
                <a:chExt cx="1383120" cy="1752120"/>
              </a:xfrm>
            </p:grpSpPr>
            <p:sp>
              <p:nvSpPr>
                <p:cNvPr id="182" name=""/>
                <p:cNvSpPr/>
                <p:nvPr/>
              </p:nvSpPr>
              <p:spPr>
                <a:xfrm flipH="1">
                  <a:off x="4671000" y="3809880"/>
                  <a:ext cx="951120" cy="106668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5189400" y="3124440"/>
                  <a:ext cx="432360" cy="68544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239000" y="3429000"/>
                  <a:ext cx="1296720" cy="609120"/>
                </a:xfrm>
                <a:prstGeom prst="ellipse">
                  <a:avLst/>
                </a:prstGeom>
                <a:solidFill>
                  <a:srgbClr val="5e57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5" name=""/>
          <p:cNvSpPr/>
          <p:nvPr/>
        </p:nvSpPr>
        <p:spPr>
          <a:xfrm flipV="1">
            <a:off x="3352680" y="396252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24280" y="4038480"/>
            <a:ext cx="91440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05320" y="4114800"/>
            <a:ext cx="609480" cy="5335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876920" y="4190400"/>
            <a:ext cx="609480" cy="5331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68840" y="17175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8160" y="5832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28600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581280" y="5029200"/>
            <a:ext cx="1526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ATERAL RETICULOSPINAL TRA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LATERAL RETICULAR NUCL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D IN LATERAL REGION OF THE 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THWAYS FROM BRAINSTEM FOR MOTOR CONTROL:LATERAL RETICULOSPINAL TRAC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 rot="2891400">
            <a:off x="3866760" y="3676320"/>
            <a:ext cx="1371600" cy="13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9144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809520" y="44956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952880" y="46483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1752480"/>
            <a:ext cx="5335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0481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752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14720" y="1582560"/>
            <a:ext cx="849240" cy="124956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19200" y="1600200"/>
            <a:ext cx="849240" cy="1249200"/>
          </a:xfrm>
          <a:custGeom>
            <a:avLst/>
            <a:gdLst/>
            <a:ahLst/>
            <a:rect l="l" t="t" r="r" b="b"/>
            <a:pathLst>
              <a:path w="535" h="787">
                <a:moveTo>
                  <a:pt x="535" y="754"/>
                </a:moveTo>
                <a:cubicBezTo>
                  <a:pt x="508" y="763"/>
                  <a:pt x="497" y="778"/>
                  <a:pt x="470" y="787"/>
                </a:cubicBezTo>
                <a:cubicBezTo>
                  <a:pt x="413" y="783"/>
                  <a:pt x="324" y="781"/>
                  <a:pt x="267" y="762"/>
                </a:cubicBezTo>
                <a:cubicBezTo>
                  <a:pt x="251" y="757"/>
                  <a:pt x="235" y="751"/>
                  <a:pt x="219" y="746"/>
                </a:cubicBezTo>
                <a:cubicBezTo>
                  <a:pt x="211" y="743"/>
                  <a:pt x="194" y="738"/>
                  <a:pt x="194" y="738"/>
                </a:cubicBezTo>
                <a:cubicBezTo>
                  <a:pt x="119" y="688"/>
                  <a:pt x="245" y="769"/>
                  <a:pt x="121" y="706"/>
                </a:cubicBezTo>
                <a:cubicBezTo>
                  <a:pt x="86" y="688"/>
                  <a:pt x="84" y="636"/>
                  <a:pt x="56" y="608"/>
                </a:cubicBezTo>
                <a:cubicBezTo>
                  <a:pt x="21" y="502"/>
                  <a:pt x="43" y="539"/>
                  <a:pt x="8" y="487"/>
                </a:cubicBezTo>
                <a:cubicBezTo>
                  <a:pt x="5" y="476"/>
                  <a:pt x="0" y="465"/>
                  <a:pt x="0" y="454"/>
                </a:cubicBezTo>
                <a:cubicBezTo>
                  <a:pt x="0" y="442"/>
                  <a:pt x="24" y="375"/>
                  <a:pt x="24" y="373"/>
                </a:cubicBezTo>
                <a:cubicBezTo>
                  <a:pt x="29" y="341"/>
                  <a:pt x="35" y="308"/>
                  <a:pt x="40" y="276"/>
                </a:cubicBezTo>
                <a:cubicBezTo>
                  <a:pt x="43" y="257"/>
                  <a:pt x="73" y="227"/>
                  <a:pt x="73" y="227"/>
                </a:cubicBezTo>
                <a:cubicBezTo>
                  <a:pt x="88" y="183"/>
                  <a:pt x="104" y="145"/>
                  <a:pt x="113" y="98"/>
                </a:cubicBezTo>
                <a:cubicBezTo>
                  <a:pt x="104" y="61"/>
                  <a:pt x="113" y="39"/>
                  <a:pt x="11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350532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352680"/>
            <a:ext cx="4572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416400">
            <a:off x="3580920" y="3047760"/>
            <a:ext cx="1005120" cy="30960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rot="110400">
            <a:off x="4495680" y="3122280"/>
            <a:ext cx="1081080" cy="385560"/>
          </a:xfrm>
          <a:custGeom>
            <a:avLst/>
            <a:gdLst/>
            <a:ahLst/>
            <a:rect l="l" t="t" r="r" b="b"/>
            <a:pathLst>
              <a:path w="633" h="195">
                <a:moveTo>
                  <a:pt x="0" y="195"/>
                </a:moveTo>
                <a:cubicBezTo>
                  <a:pt x="33" y="163"/>
                  <a:pt x="78" y="151"/>
                  <a:pt x="122" y="138"/>
                </a:cubicBezTo>
                <a:cubicBezTo>
                  <a:pt x="213" y="111"/>
                  <a:pt x="304" y="77"/>
                  <a:pt x="398" y="65"/>
                </a:cubicBezTo>
                <a:cubicBezTo>
                  <a:pt x="478" y="38"/>
                  <a:pt x="546" y="0"/>
                  <a:pt x="63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971800" y="2819520"/>
            <a:ext cx="9144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105520" y="28951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666520" y="28191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36240" y="2859840"/>
            <a:ext cx="643320" cy="7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95680" y="1600200"/>
            <a:ext cx="76320" cy="4876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733920"/>
            <a:ext cx="7632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50292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3200" y="4537080"/>
            <a:ext cx="178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ICU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RUBROSPINAL TRAC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BERS ORIGINATE IN RED NUCL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D ALONG DORSAL AND LATERAL BORDERS OF CO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VATE DISTAL FLEXOR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3T14:12:34Z</dcterms:created>
  <dc:creator>D. C. Mikule</dc:creator>
  <dc:description/>
  <dc:language>en-US</dc:language>
  <cp:lastModifiedBy>Don Mikulecky</cp:lastModifiedBy>
  <dcterms:modified xsi:type="dcterms:W3CDTF">2000-01-04T19:26:32Z</dcterms:modified>
  <cp:revision>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views.vcu.edu/~mikuleck/</vt:lpwstr>
  </property>
  <property fmtid="{D5CDD505-2E9C-101B-9397-08002B2CF9AE}" pid="9" name="LinkColor">
    <vt:r8>16711782</vt:r8>
  </property>
  <property fmtid="{D5CDD505-2E9C-101B-9397-08002B2CF9AE}" pid="10" name="MailAddress">
    <vt:lpwstr>mikuleck@hsc.vcu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\MyDocsI\DENT\htmlpresentation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