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7C0-175F-42E4-917D-C9C20992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302-64C6-4F86-A455-233556FB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209-6B83-440A-9A99-8CD61173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B3E-39A3-435D-B335-95F05587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61A7-C6D5-4E43-8397-4992E37C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164B-F6EE-49BD-9973-7303C004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23FF-7227-43F5-88C0-DADE5712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D29F-9D67-475C-B63F-4D143B71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C159-1EB5-49E4-AF71-A06F12CD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BAB8-9D88-43C4-8DEE-ADB520C5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E37E-57F2-4658-AF77-D4E1D8E4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686-EF9F-4A1E-B750-35D47536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BF8A-C8A5-48FB-B60D-B4941061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C5BD-60A7-423D-BF23-CFA5833D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F712-ADA5-457C-B73C-F9828306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BB56-7900-4C4F-91CE-9DCAEFA8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0E8D-8D72-482C-AA25-9DE7CA97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A75-FA60-4319-8E70-4202732E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3A7-F2B8-4614-9F1D-F1E059E6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EEA-1B11-4DA8-8F64-FC48A166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086-49CE-4F09-9E03-9CEBEC04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8C4-629E-4271-80F9-9524C89B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8C7-F4E0-443C-B2B0-F58C9C5A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6E3-CC90-4F94-9BB3-9C95726D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46F3-7F67-4A60-BF6F-F7237B27C9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4082-9162-4674-B222-3E3DC0AFE1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TOR SYSTEMS:POSTURE AND LOCOMO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. C. MIKULECK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FESSOR OF PHYSI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ACULTY MENTORING PROGRA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THWAYS FROM BRAINSTEM FOR MOTOR CONTROL: RUBROSPIN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"/>
          <p:cNvSpPr/>
          <p:nvPr/>
        </p:nvSpPr>
        <p:spPr>
          <a:xfrm rot="2891400">
            <a:off x="3866760" y="3676320"/>
            <a:ext cx="1371600" cy="133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5715000"/>
            <a:ext cx="9144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809520" y="44956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952880" y="464832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67080" y="1752480"/>
            <a:ext cx="5335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048120" y="17524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7524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14720" y="1582560"/>
            <a:ext cx="849240" cy="1249560"/>
          </a:xfrm>
          <a:custGeom>
            <a:avLst/>
            <a:gdLst/>
            <a:ahLst/>
            <a:rect l="l" t="t" r="r" b="b"/>
            <a:pathLst>
              <a:path w="535" h="787">
                <a:moveTo>
                  <a:pt x="535" y="754"/>
                </a:moveTo>
                <a:cubicBezTo>
                  <a:pt x="508" y="763"/>
                  <a:pt x="497" y="778"/>
                  <a:pt x="470" y="787"/>
                </a:cubicBezTo>
                <a:cubicBezTo>
                  <a:pt x="413" y="783"/>
                  <a:pt x="324" y="781"/>
                  <a:pt x="267" y="762"/>
                </a:cubicBezTo>
                <a:cubicBezTo>
                  <a:pt x="251" y="757"/>
                  <a:pt x="235" y="751"/>
                  <a:pt x="219" y="746"/>
                </a:cubicBezTo>
                <a:cubicBezTo>
                  <a:pt x="211" y="743"/>
                  <a:pt x="194" y="738"/>
                  <a:pt x="194" y="738"/>
                </a:cubicBezTo>
                <a:cubicBezTo>
                  <a:pt x="119" y="688"/>
                  <a:pt x="245" y="769"/>
                  <a:pt x="121" y="706"/>
                </a:cubicBezTo>
                <a:cubicBezTo>
                  <a:pt x="86" y="688"/>
                  <a:pt x="84" y="636"/>
                  <a:pt x="56" y="608"/>
                </a:cubicBezTo>
                <a:cubicBezTo>
                  <a:pt x="21" y="502"/>
                  <a:pt x="43" y="539"/>
                  <a:pt x="8" y="487"/>
                </a:cubicBezTo>
                <a:cubicBezTo>
                  <a:pt x="5" y="476"/>
                  <a:pt x="0" y="465"/>
                  <a:pt x="0" y="454"/>
                </a:cubicBezTo>
                <a:cubicBezTo>
                  <a:pt x="0" y="442"/>
                  <a:pt x="24" y="375"/>
                  <a:pt x="24" y="373"/>
                </a:cubicBezTo>
                <a:cubicBezTo>
                  <a:pt x="29" y="341"/>
                  <a:pt x="35" y="308"/>
                  <a:pt x="40" y="276"/>
                </a:cubicBezTo>
                <a:cubicBezTo>
                  <a:pt x="43" y="257"/>
                  <a:pt x="73" y="227"/>
                  <a:pt x="73" y="227"/>
                </a:cubicBezTo>
                <a:cubicBezTo>
                  <a:pt x="88" y="183"/>
                  <a:pt x="104" y="145"/>
                  <a:pt x="113" y="98"/>
                </a:cubicBezTo>
                <a:cubicBezTo>
                  <a:pt x="104" y="61"/>
                  <a:pt x="113" y="39"/>
                  <a:pt x="11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019200" y="1600200"/>
            <a:ext cx="849240" cy="1249200"/>
          </a:xfrm>
          <a:custGeom>
            <a:avLst/>
            <a:gdLst/>
            <a:ahLst/>
            <a:rect l="l" t="t" r="r" b="b"/>
            <a:pathLst>
              <a:path w="535" h="787">
                <a:moveTo>
                  <a:pt x="535" y="754"/>
                </a:moveTo>
                <a:cubicBezTo>
                  <a:pt x="508" y="763"/>
                  <a:pt x="497" y="778"/>
                  <a:pt x="470" y="787"/>
                </a:cubicBezTo>
                <a:cubicBezTo>
                  <a:pt x="413" y="783"/>
                  <a:pt x="324" y="781"/>
                  <a:pt x="267" y="762"/>
                </a:cubicBezTo>
                <a:cubicBezTo>
                  <a:pt x="251" y="757"/>
                  <a:pt x="235" y="751"/>
                  <a:pt x="219" y="746"/>
                </a:cubicBezTo>
                <a:cubicBezTo>
                  <a:pt x="211" y="743"/>
                  <a:pt x="194" y="738"/>
                  <a:pt x="194" y="738"/>
                </a:cubicBezTo>
                <a:cubicBezTo>
                  <a:pt x="119" y="688"/>
                  <a:pt x="245" y="769"/>
                  <a:pt x="121" y="706"/>
                </a:cubicBezTo>
                <a:cubicBezTo>
                  <a:pt x="86" y="688"/>
                  <a:pt x="84" y="636"/>
                  <a:pt x="56" y="608"/>
                </a:cubicBezTo>
                <a:cubicBezTo>
                  <a:pt x="21" y="502"/>
                  <a:pt x="43" y="539"/>
                  <a:pt x="8" y="487"/>
                </a:cubicBezTo>
                <a:cubicBezTo>
                  <a:pt x="5" y="476"/>
                  <a:pt x="0" y="465"/>
                  <a:pt x="0" y="454"/>
                </a:cubicBezTo>
                <a:cubicBezTo>
                  <a:pt x="0" y="442"/>
                  <a:pt x="24" y="375"/>
                  <a:pt x="24" y="373"/>
                </a:cubicBezTo>
                <a:cubicBezTo>
                  <a:pt x="29" y="341"/>
                  <a:pt x="35" y="308"/>
                  <a:pt x="40" y="276"/>
                </a:cubicBezTo>
                <a:cubicBezTo>
                  <a:pt x="43" y="257"/>
                  <a:pt x="73" y="227"/>
                  <a:pt x="73" y="227"/>
                </a:cubicBezTo>
                <a:cubicBezTo>
                  <a:pt x="88" y="183"/>
                  <a:pt x="104" y="145"/>
                  <a:pt x="113" y="98"/>
                </a:cubicBezTo>
                <a:cubicBezTo>
                  <a:pt x="104" y="61"/>
                  <a:pt x="113" y="39"/>
                  <a:pt x="11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3505320"/>
            <a:ext cx="4572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3352680"/>
            <a:ext cx="4572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416400">
            <a:off x="3580920" y="3047760"/>
            <a:ext cx="1005120" cy="309600"/>
          </a:xfrm>
          <a:custGeom>
            <a:avLst/>
            <a:gdLst/>
            <a:ahLst/>
            <a:rect l="l" t="t" r="r" b="b"/>
            <a:pathLst>
              <a:path w="633" h="195">
                <a:moveTo>
                  <a:pt x="0" y="195"/>
                </a:moveTo>
                <a:cubicBezTo>
                  <a:pt x="33" y="163"/>
                  <a:pt x="78" y="151"/>
                  <a:pt x="122" y="138"/>
                </a:cubicBezTo>
                <a:cubicBezTo>
                  <a:pt x="213" y="111"/>
                  <a:pt x="304" y="77"/>
                  <a:pt x="398" y="65"/>
                </a:cubicBezTo>
                <a:cubicBezTo>
                  <a:pt x="478" y="38"/>
                  <a:pt x="546" y="0"/>
                  <a:pt x="63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rot="110400">
            <a:off x="4495680" y="3122280"/>
            <a:ext cx="1081080" cy="385560"/>
          </a:xfrm>
          <a:custGeom>
            <a:avLst/>
            <a:gdLst/>
            <a:ahLst/>
            <a:rect l="l" t="t" r="r" b="b"/>
            <a:pathLst>
              <a:path w="633" h="195">
                <a:moveTo>
                  <a:pt x="0" y="195"/>
                </a:moveTo>
                <a:cubicBezTo>
                  <a:pt x="33" y="163"/>
                  <a:pt x="78" y="151"/>
                  <a:pt x="122" y="138"/>
                </a:cubicBezTo>
                <a:cubicBezTo>
                  <a:pt x="213" y="111"/>
                  <a:pt x="304" y="77"/>
                  <a:pt x="398" y="65"/>
                </a:cubicBezTo>
                <a:cubicBezTo>
                  <a:pt x="478" y="38"/>
                  <a:pt x="546" y="0"/>
                  <a:pt x="63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2971800" y="2819520"/>
            <a:ext cx="914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105520" y="2895120"/>
            <a:ext cx="9144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2666520" y="2819160"/>
            <a:ext cx="83844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736240" y="2859840"/>
            <a:ext cx="643320" cy="7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495680" y="1600200"/>
            <a:ext cx="76320" cy="4876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0600" y="2209680"/>
            <a:ext cx="30492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65480" y="2509920"/>
            <a:ext cx="903240" cy="4002120"/>
          </a:xfrm>
          <a:custGeom>
            <a:avLst/>
            <a:gdLst/>
            <a:ahLst/>
            <a:rect l="l" t="t" r="r" b="b"/>
            <a:pathLst>
              <a:path w="569" h="2521">
                <a:moveTo>
                  <a:pt x="569" y="0"/>
                </a:moveTo>
                <a:cubicBezTo>
                  <a:pt x="554" y="44"/>
                  <a:pt x="561" y="73"/>
                  <a:pt x="512" y="89"/>
                </a:cubicBezTo>
                <a:cubicBezTo>
                  <a:pt x="468" y="119"/>
                  <a:pt x="441" y="129"/>
                  <a:pt x="391" y="146"/>
                </a:cubicBezTo>
                <a:cubicBezTo>
                  <a:pt x="382" y="149"/>
                  <a:pt x="375" y="158"/>
                  <a:pt x="366" y="162"/>
                </a:cubicBezTo>
                <a:cubicBezTo>
                  <a:pt x="351" y="169"/>
                  <a:pt x="318" y="178"/>
                  <a:pt x="318" y="178"/>
                </a:cubicBezTo>
                <a:cubicBezTo>
                  <a:pt x="312" y="184"/>
                  <a:pt x="308" y="191"/>
                  <a:pt x="301" y="195"/>
                </a:cubicBezTo>
                <a:cubicBezTo>
                  <a:pt x="286" y="203"/>
                  <a:pt x="253" y="211"/>
                  <a:pt x="253" y="211"/>
                </a:cubicBezTo>
                <a:cubicBezTo>
                  <a:pt x="242" y="219"/>
                  <a:pt x="232" y="228"/>
                  <a:pt x="220" y="235"/>
                </a:cubicBezTo>
                <a:cubicBezTo>
                  <a:pt x="213" y="239"/>
                  <a:pt x="203" y="238"/>
                  <a:pt x="196" y="243"/>
                </a:cubicBezTo>
                <a:cubicBezTo>
                  <a:pt x="188" y="249"/>
                  <a:pt x="187" y="261"/>
                  <a:pt x="180" y="268"/>
                </a:cubicBezTo>
                <a:cubicBezTo>
                  <a:pt x="173" y="275"/>
                  <a:pt x="163" y="279"/>
                  <a:pt x="155" y="284"/>
                </a:cubicBezTo>
                <a:cubicBezTo>
                  <a:pt x="138" y="309"/>
                  <a:pt x="119" y="320"/>
                  <a:pt x="99" y="341"/>
                </a:cubicBezTo>
                <a:cubicBezTo>
                  <a:pt x="87" y="376"/>
                  <a:pt x="70" y="402"/>
                  <a:pt x="58" y="438"/>
                </a:cubicBezTo>
                <a:cubicBezTo>
                  <a:pt x="55" y="446"/>
                  <a:pt x="50" y="462"/>
                  <a:pt x="50" y="462"/>
                </a:cubicBezTo>
                <a:cubicBezTo>
                  <a:pt x="0" y="815"/>
                  <a:pt x="31" y="1176"/>
                  <a:pt x="18" y="1532"/>
                </a:cubicBezTo>
                <a:cubicBezTo>
                  <a:pt x="27" y="2332"/>
                  <a:pt x="26" y="2003"/>
                  <a:pt x="26" y="252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UMMARY OF CONTROL OF SPINAL MOTOR NEURONS BY BRAIN STEM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80880" y="2590920"/>
            <a:ext cx="8178840" cy="2945880"/>
            <a:chOff x="380880" y="2590920"/>
            <a:chExt cx="8178840" cy="2945880"/>
          </a:xfrm>
        </p:grpSpPr>
        <p:grpSp>
          <p:nvGrpSpPr>
            <p:cNvPr id="242" name=""/>
            <p:cNvGrpSpPr/>
            <p:nvPr/>
          </p:nvGrpSpPr>
          <p:grpSpPr>
            <a:xfrm>
              <a:off x="4385520" y="2590920"/>
              <a:ext cx="4174200" cy="2945880"/>
              <a:chOff x="4385520" y="2590920"/>
              <a:chExt cx="4174200" cy="2945880"/>
            </a:xfrm>
          </p:grpSpPr>
          <p:sp>
            <p:nvSpPr>
              <p:cNvPr id="243" name=""/>
              <p:cNvSpPr/>
              <p:nvPr/>
            </p:nvSpPr>
            <p:spPr>
              <a:xfrm flipH="1" rot="5400000">
                <a:off x="6423120" y="3571200"/>
                <a:ext cx="698760" cy="770760"/>
              </a:xfrm>
              <a:prstGeom prst="triangle">
                <a:avLst>
                  <a:gd name="adj" fmla="val 50000"/>
                </a:avLst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409880" y="3607560"/>
                <a:ext cx="1149840" cy="54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7409880" y="4076640"/>
                <a:ext cx="1149840" cy="62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323760" y="4077000"/>
                <a:ext cx="1086120" cy="62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6202440" y="2825280"/>
                <a:ext cx="1185840" cy="770760"/>
              </a:xfrm>
              <a:custGeom>
                <a:avLst/>
                <a:gdLst/>
                <a:ahLst/>
                <a:rect l="l" t="t" r="r" b="b"/>
                <a:pathLst>
                  <a:path w="891" h="764">
                    <a:moveTo>
                      <a:pt x="0" y="764"/>
                    </a:moveTo>
                    <a:cubicBezTo>
                      <a:pt x="129" y="720"/>
                      <a:pt x="88" y="759"/>
                      <a:pt x="145" y="673"/>
                    </a:cubicBezTo>
                    <a:cubicBezTo>
                      <a:pt x="157" y="637"/>
                      <a:pt x="161" y="596"/>
                      <a:pt x="182" y="564"/>
                    </a:cubicBezTo>
                    <a:cubicBezTo>
                      <a:pt x="194" y="546"/>
                      <a:pt x="209" y="529"/>
                      <a:pt x="218" y="509"/>
                    </a:cubicBezTo>
                    <a:cubicBezTo>
                      <a:pt x="292" y="347"/>
                      <a:pt x="255" y="341"/>
                      <a:pt x="382" y="182"/>
                    </a:cubicBezTo>
                    <a:cubicBezTo>
                      <a:pt x="435" y="115"/>
                      <a:pt x="563" y="0"/>
                      <a:pt x="563" y="0"/>
                    </a:cubicBezTo>
                    <a:cubicBezTo>
                      <a:pt x="611" y="10"/>
                      <a:pt x="674" y="12"/>
                      <a:pt x="709" y="55"/>
                    </a:cubicBezTo>
                    <a:cubicBezTo>
                      <a:pt x="721" y="70"/>
                      <a:pt x="720" y="91"/>
                      <a:pt x="727" y="109"/>
                    </a:cubicBezTo>
                    <a:cubicBezTo>
                      <a:pt x="762" y="204"/>
                      <a:pt x="796" y="388"/>
                      <a:pt x="891" y="437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790520" y="2590920"/>
                <a:ext cx="1422720" cy="649800"/>
              </a:xfrm>
              <a:custGeom>
                <a:avLst/>
                <a:gdLst/>
                <a:ahLst/>
                <a:rect l="l" t="t" r="r" b="b"/>
                <a:pathLst>
                  <a:path w="1262" h="255">
                    <a:moveTo>
                      <a:pt x="8" y="255"/>
                    </a:moveTo>
                    <a:cubicBezTo>
                      <a:pt x="78" y="114"/>
                      <a:pt x="0" y="244"/>
                      <a:pt x="117" y="127"/>
                    </a:cubicBezTo>
                    <a:cubicBezTo>
                      <a:pt x="132" y="112"/>
                      <a:pt x="135" y="85"/>
                      <a:pt x="153" y="73"/>
                    </a:cubicBezTo>
                    <a:cubicBezTo>
                      <a:pt x="174" y="59"/>
                      <a:pt x="202" y="62"/>
                      <a:pt x="226" y="55"/>
                    </a:cubicBezTo>
                    <a:cubicBezTo>
                      <a:pt x="263" y="44"/>
                      <a:pt x="299" y="30"/>
                      <a:pt x="335" y="18"/>
                    </a:cubicBezTo>
                    <a:cubicBezTo>
                      <a:pt x="353" y="12"/>
                      <a:pt x="389" y="0"/>
                      <a:pt x="389" y="0"/>
                    </a:cubicBezTo>
                    <a:cubicBezTo>
                      <a:pt x="534" y="47"/>
                      <a:pt x="365" y="0"/>
                      <a:pt x="680" y="0"/>
                    </a:cubicBezTo>
                    <a:cubicBezTo>
                      <a:pt x="814" y="0"/>
                      <a:pt x="946" y="27"/>
                      <a:pt x="1080" y="37"/>
                    </a:cubicBezTo>
                    <a:cubicBezTo>
                      <a:pt x="1137" y="46"/>
                      <a:pt x="1217" y="46"/>
                      <a:pt x="1262" y="9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4385520" y="4155120"/>
                <a:ext cx="1938240" cy="1381680"/>
              </a:xfrm>
              <a:custGeom>
                <a:avLst/>
                <a:gdLst/>
                <a:ahLst/>
                <a:rect l="l" t="t" r="r" b="b"/>
                <a:pathLst>
                  <a:path w="1456" h="848">
                    <a:moveTo>
                      <a:pt x="0" y="336"/>
                    </a:moveTo>
                    <a:cubicBezTo>
                      <a:pt x="84" y="176"/>
                      <a:pt x="168" y="16"/>
                      <a:pt x="240" y="48"/>
                    </a:cubicBezTo>
                    <a:cubicBezTo>
                      <a:pt x="312" y="80"/>
                      <a:pt x="312" y="400"/>
                      <a:pt x="432" y="528"/>
                    </a:cubicBezTo>
                    <a:cubicBezTo>
                      <a:pt x="552" y="656"/>
                      <a:pt x="800" y="848"/>
                      <a:pt x="960" y="816"/>
                    </a:cubicBezTo>
                    <a:cubicBezTo>
                      <a:pt x="1120" y="784"/>
                      <a:pt x="1328" y="472"/>
                      <a:pt x="1392" y="336"/>
                    </a:cubicBezTo>
                    <a:cubicBezTo>
                      <a:pt x="1456" y="200"/>
                      <a:pt x="1344" y="56"/>
                      <a:pt x="1344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80880" y="2590920"/>
              <a:ext cx="4173840" cy="2945880"/>
              <a:chOff x="380880" y="2590920"/>
              <a:chExt cx="4173840" cy="2945880"/>
            </a:xfrm>
          </p:grpSpPr>
          <p:sp>
            <p:nvSpPr>
              <p:cNvPr id="251" name=""/>
              <p:cNvSpPr/>
              <p:nvPr/>
            </p:nvSpPr>
            <p:spPr>
              <a:xfrm rot="16200000">
                <a:off x="1818360" y="3571200"/>
                <a:ext cx="698760" cy="770760"/>
              </a:xfrm>
              <a:prstGeom prst="triangle">
                <a:avLst>
                  <a:gd name="adj" fmla="val 50000"/>
                </a:avLst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380880" y="3607560"/>
                <a:ext cx="1149840" cy="54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380880" y="4076640"/>
                <a:ext cx="1149840" cy="62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30720" y="4077000"/>
                <a:ext cx="1085760" cy="62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552320" y="2825280"/>
                <a:ext cx="1185840" cy="770760"/>
              </a:xfrm>
              <a:custGeom>
                <a:avLst/>
                <a:gdLst/>
                <a:ahLst/>
                <a:rect l="l" t="t" r="r" b="b"/>
                <a:pathLst>
                  <a:path w="891" h="764">
                    <a:moveTo>
                      <a:pt x="0" y="764"/>
                    </a:moveTo>
                    <a:cubicBezTo>
                      <a:pt x="129" y="720"/>
                      <a:pt x="88" y="759"/>
                      <a:pt x="145" y="673"/>
                    </a:cubicBezTo>
                    <a:cubicBezTo>
                      <a:pt x="157" y="637"/>
                      <a:pt x="161" y="596"/>
                      <a:pt x="182" y="564"/>
                    </a:cubicBezTo>
                    <a:cubicBezTo>
                      <a:pt x="194" y="546"/>
                      <a:pt x="209" y="529"/>
                      <a:pt x="218" y="509"/>
                    </a:cubicBezTo>
                    <a:cubicBezTo>
                      <a:pt x="292" y="347"/>
                      <a:pt x="255" y="341"/>
                      <a:pt x="382" y="182"/>
                    </a:cubicBezTo>
                    <a:cubicBezTo>
                      <a:pt x="435" y="115"/>
                      <a:pt x="563" y="0"/>
                      <a:pt x="563" y="0"/>
                    </a:cubicBezTo>
                    <a:cubicBezTo>
                      <a:pt x="611" y="10"/>
                      <a:pt x="674" y="12"/>
                      <a:pt x="709" y="55"/>
                    </a:cubicBezTo>
                    <a:cubicBezTo>
                      <a:pt x="721" y="70"/>
                      <a:pt x="720" y="91"/>
                      <a:pt x="727" y="109"/>
                    </a:cubicBezTo>
                    <a:cubicBezTo>
                      <a:pt x="762" y="204"/>
                      <a:pt x="796" y="388"/>
                      <a:pt x="891" y="437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727360" y="2590920"/>
                <a:ext cx="1422720" cy="649800"/>
              </a:xfrm>
              <a:custGeom>
                <a:avLst/>
                <a:gdLst/>
                <a:ahLst/>
                <a:rect l="l" t="t" r="r" b="b"/>
                <a:pathLst>
                  <a:path w="1262" h="255">
                    <a:moveTo>
                      <a:pt x="8" y="255"/>
                    </a:moveTo>
                    <a:cubicBezTo>
                      <a:pt x="78" y="114"/>
                      <a:pt x="0" y="244"/>
                      <a:pt x="117" y="127"/>
                    </a:cubicBezTo>
                    <a:cubicBezTo>
                      <a:pt x="132" y="112"/>
                      <a:pt x="135" y="85"/>
                      <a:pt x="153" y="73"/>
                    </a:cubicBezTo>
                    <a:cubicBezTo>
                      <a:pt x="174" y="59"/>
                      <a:pt x="202" y="62"/>
                      <a:pt x="226" y="55"/>
                    </a:cubicBezTo>
                    <a:cubicBezTo>
                      <a:pt x="263" y="44"/>
                      <a:pt x="299" y="30"/>
                      <a:pt x="335" y="18"/>
                    </a:cubicBezTo>
                    <a:cubicBezTo>
                      <a:pt x="353" y="12"/>
                      <a:pt x="389" y="0"/>
                      <a:pt x="389" y="0"/>
                    </a:cubicBezTo>
                    <a:cubicBezTo>
                      <a:pt x="534" y="47"/>
                      <a:pt x="365" y="0"/>
                      <a:pt x="680" y="0"/>
                    </a:cubicBezTo>
                    <a:cubicBezTo>
                      <a:pt x="814" y="0"/>
                      <a:pt x="946" y="27"/>
                      <a:pt x="1080" y="37"/>
                    </a:cubicBezTo>
                    <a:cubicBezTo>
                      <a:pt x="1137" y="46"/>
                      <a:pt x="1217" y="46"/>
                      <a:pt x="1262" y="9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16840" y="4155120"/>
                <a:ext cx="1937880" cy="1381680"/>
              </a:xfrm>
              <a:custGeom>
                <a:avLst/>
                <a:gdLst/>
                <a:ahLst/>
                <a:rect l="l" t="t" r="r" b="b"/>
                <a:pathLst>
                  <a:path w="1456" h="848">
                    <a:moveTo>
                      <a:pt x="0" y="336"/>
                    </a:moveTo>
                    <a:cubicBezTo>
                      <a:pt x="84" y="176"/>
                      <a:pt x="168" y="16"/>
                      <a:pt x="240" y="48"/>
                    </a:cubicBezTo>
                    <a:cubicBezTo>
                      <a:pt x="312" y="80"/>
                      <a:pt x="312" y="400"/>
                      <a:pt x="432" y="528"/>
                    </a:cubicBezTo>
                    <a:cubicBezTo>
                      <a:pt x="552" y="656"/>
                      <a:pt x="800" y="848"/>
                      <a:pt x="960" y="816"/>
                    </a:cubicBezTo>
                    <a:cubicBezTo>
                      <a:pt x="1120" y="784"/>
                      <a:pt x="1328" y="472"/>
                      <a:pt x="1392" y="336"/>
                    </a:cubicBezTo>
                    <a:cubicBezTo>
                      <a:pt x="1456" y="200"/>
                      <a:pt x="1344" y="56"/>
                      <a:pt x="1344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4142520" y="2789280"/>
              <a:ext cx="689760" cy="403200"/>
            </a:xfrm>
            <a:custGeom>
              <a:avLst/>
              <a:gdLst/>
              <a:ahLst/>
              <a:rect l="l" t="t" r="r" b="b"/>
              <a:pathLst>
                <a:path w="455" h="254">
                  <a:moveTo>
                    <a:pt x="0" y="36"/>
                  </a:moveTo>
                  <a:cubicBezTo>
                    <a:pt x="87" y="123"/>
                    <a:pt x="40" y="98"/>
                    <a:pt x="128" y="127"/>
                  </a:cubicBezTo>
                  <a:cubicBezTo>
                    <a:pt x="140" y="145"/>
                    <a:pt x="150" y="165"/>
                    <a:pt x="164" y="181"/>
                  </a:cubicBezTo>
                  <a:cubicBezTo>
                    <a:pt x="186" y="207"/>
                    <a:pt x="237" y="254"/>
                    <a:pt x="237" y="254"/>
                  </a:cubicBezTo>
                  <a:cubicBezTo>
                    <a:pt x="333" y="222"/>
                    <a:pt x="350" y="159"/>
                    <a:pt x="419" y="90"/>
                  </a:cubicBezTo>
                  <a:cubicBezTo>
                    <a:pt x="439" y="10"/>
                    <a:pt x="420" y="35"/>
                    <a:pt x="455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352680" y="3124080"/>
            <a:ext cx="2256840" cy="1752840"/>
            <a:chOff x="3352680" y="3124080"/>
            <a:chExt cx="2256840" cy="1752840"/>
          </a:xfrm>
        </p:grpSpPr>
        <p:grpSp>
          <p:nvGrpSpPr>
            <p:cNvPr id="260" name=""/>
            <p:cNvGrpSpPr/>
            <p:nvPr/>
          </p:nvGrpSpPr>
          <p:grpSpPr>
            <a:xfrm>
              <a:off x="3352680" y="3124080"/>
              <a:ext cx="1383120" cy="1752840"/>
              <a:chOff x="3352680" y="3124080"/>
              <a:chExt cx="1383120" cy="1752840"/>
            </a:xfrm>
          </p:grpSpPr>
          <p:sp>
            <p:nvSpPr>
              <p:cNvPr id="261" name=""/>
              <p:cNvSpPr/>
              <p:nvPr/>
            </p:nvSpPr>
            <p:spPr>
              <a:xfrm>
                <a:off x="3352680" y="3809880"/>
                <a:ext cx="951120" cy="1067040"/>
              </a:xfrm>
              <a:prstGeom prst="ellipse">
                <a:avLst/>
              </a:prstGeom>
              <a:solidFill>
                <a:srgbClr val="b1a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52680" y="3124080"/>
                <a:ext cx="432360" cy="685800"/>
              </a:xfrm>
              <a:prstGeom prst="ellipse">
                <a:avLst/>
              </a:prstGeom>
              <a:solidFill>
                <a:srgbClr val="b1a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439080" y="3429000"/>
                <a:ext cx="1296720" cy="609480"/>
              </a:xfrm>
              <a:prstGeom prst="ellipse">
                <a:avLst/>
              </a:prstGeom>
              <a:solidFill>
                <a:srgbClr val="b1a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226400" y="3124080"/>
              <a:ext cx="1383120" cy="1752840"/>
              <a:chOff x="4226400" y="3124080"/>
              <a:chExt cx="1383120" cy="175284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4658400" y="3809880"/>
                <a:ext cx="951120" cy="1067040"/>
              </a:xfrm>
              <a:prstGeom prst="ellipse">
                <a:avLst/>
              </a:prstGeom>
              <a:solidFill>
                <a:srgbClr val="b1a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176800" y="3124080"/>
                <a:ext cx="432360" cy="685800"/>
              </a:xfrm>
              <a:prstGeom prst="ellipse">
                <a:avLst/>
              </a:prstGeom>
              <a:solidFill>
                <a:srgbClr val="b1a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4226400" y="3429000"/>
                <a:ext cx="1296720" cy="609480"/>
              </a:xfrm>
              <a:prstGeom prst="ellipse">
                <a:avLst/>
              </a:prstGeom>
              <a:solidFill>
                <a:srgbClr val="b1a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" name=""/>
          <p:cNvSpPr/>
          <p:nvPr/>
        </p:nvSpPr>
        <p:spPr>
          <a:xfrm>
            <a:off x="2971800" y="3200400"/>
            <a:ext cx="38088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49840" y="4221000"/>
            <a:ext cx="1158840" cy="965520"/>
          </a:xfrm>
          <a:custGeom>
            <a:avLst/>
            <a:gdLst/>
            <a:ahLst/>
            <a:rect l="l" t="t" r="r" b="b"/>
            <a:pathLst>
              <a:path w="730" h="608">
                <a:moveTo>
                  <a:pt x="65" y="389"/>
                </a:moveTo>
                <a:cubicBezTo>
                  <a:pt x="102" y="446"/>
                  <a:pt x="109" y="465"/>
                  <a:pt x="179" y="479"/>
                </a:cubicBezTo>
                <a:cubicBezTo>
                  <a:pt x="187" y="476"/>
                  <a:pt x="195" y="473"/>
                  <a:pt x="203" y="471"/>
                </a:cubicBezTo>
                <a:cubicBezTo>
                  <a:pt x="235" y="464"/>
                  <a:pt x="269" y="464"/>
                  <a:pt x="300" y="454"/>
                </a:cubicBezTo>
                <a:cubicBezTo>
                  <a:pt x="324" y="446"/>
                  <a:pt x="349" y="438"/>
                  <a:pt x="373" y="430"/>
                </a:cubicBezTo>
                <a:cubicBezTo>
                  <a:pt x="381" y="427"/>
                  <a:pt x="398" y="422"/>
                  <a:pt x="398" y="422"/>
                </a:cubicBezTo>
                <a:cubicBezTo>
                  <a:pt x="428" y="402"/>
                  <a:pt x="461" y="392"/>
                  <a:pt x="495" y="381"/>
                </a:cubicBezTo>
                <a:cubicBezTo>
                  <a:pt x="529" y="347"/>
                  <a:pt x="539" y="321"/>
                  <a:pt x="552" y="276"/>
                </a:cubicBezTo>
                <a:cubicBezTo>
                  <a:pt x="556" y="207"/>
                  <a:pt x="545" y="31"/>
                  <a:pt x="641" y="0"/>
                </a:cubicBezTo>
                <a:cubicBezTo>
                  <a:pt x="702" y="10"/>
                  <a:pt x="686" y="11"/>
                  <a:pt x="730" y="41"/>
                </a:cubicBezTo>
                <a:cubicBezTo>
                  <a:pt x="699" y="151"/>
                  <a:pt x="677" y="268"/>
                  <a:pt x="633" y="373"/>
                </a:cubicBezTo>
                <a:cubicBezTo>
                  <a:pt x="618" y="410"/>
                  <a:pt x="616" y="439"/>
                  <a:pt x="584" y="471"/>
                </a:cubicBezTo>
                <a:cubicBezTo>
                  <a:pt x="536" y="519"/>
                  <a:pt x="476" y="534"/>
                  <a:pt x="414" y="552"/>
                </a:cubicBezTo>
                <a:cubicBezTo>
                  <a:pt x="334" y="576"/>
                  <a:pt x="263" y="598"/>
                  <a:pt x="179" y="608"/>
                </a:cubicBezTo>
                <a:cubicBezTo>
                  <a:pt x="149" y="598"/>
                  <a:pt x="119" y="594"/>
                  <a:pt x="89" y="584"/>
                </a:cubicBezTo>
                <a:cubicBezTo>
                  <a:pt x="51" y="546"/>
                  <a:pt x="17" y="522"/>
                  <a:pt x="0" y="471"/>
                </a:cubicBezTo>
                <a:cubicBezTo>
                  <a:pt x="7" y="435"/>
                  <a:pt x="7" y="407"/>
                  <a:pt x="33" y="381"/>
                </a:cubicBezTo>
                <a:cubicBezTo>
                  <a:pt x="60" y="390"/>
                  <a:pt x="49" y="389"/>
                  <a:pt x="65" y="389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4343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4419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814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4191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886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4114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45720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44956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29000" y="42670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7591400">
            <a:off x="5105520" y="396216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441972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4956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76920" y="3962520"/>
            <a:ext cx="358560" cy="228600"/>
          </a:xfrm>
          <a:custGeom>
            <a:avLst/>
            <a:gdLst/>
            <a:ahLst/>
            <a:rect l="l" t="t" r="r" b="b"/>
            <a:pathLst>
              <a:path w="130" h="41">
                <a:moveTo>
                  <a:pt x="0" y="41"/>
                </a:moveTo>
                <a:cubicBezTo>
                  <a:pt x="20" y="12"/>
                  <a:pt x="32" y="10"/>
                  <a:pt x="65" y="0"/>
                </a:cubicBezTo>
                <a:cubicBezTo>
                  <a:pt x="70" y="2"/>
                  <a:pt x="108" y="14"/>
                  <a:pt x="113" y="17"/>
                </a:cubicBezTo>
                <a:cubicBezTo>
                  <a:pt x="120" y="21"/>
                  <a:pt x="130" y="33"/>
                  <a:pt x="130" y="3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42670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411480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41972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8475800">
            <a:off x="3886200" y="411444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752120" y="4419720"/>
            <a:ext cx="1676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057400" y="4572000"/>
            <a:ext cx="18288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440" y="5448240"/>
            <a:ext cx="1863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EXTEN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2920" y="4991040"/>
            <a:ext cx="15584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FLEX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373392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6344600">
            <a:off x="3505320" y="38854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352680" y="3962160"/>
            <a:ext cx="22860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42900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0"/>
                </a:moveTo>
                <a:cubicBezTo>
                  <a:pt x="76" y="8"/>
                  <a:pt x="152" y="16"/>
                  <a:pt x="192" y="48"/>
                </a:cubicBezTo>
                <a:cubicBezTo>
                  <a:pt x="232" y="80"/>
                  <a:pt x="232" y="168"/>
                  <a:pt x="240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581280" y="40384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57600" y="41148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962160" y="4267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6240" y="1600200"/>
            <a:ext cx="10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BR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2800" y="1638360"/>
            <a:ext cx="184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ICUL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INAL 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2666880"/>
            <a:ext cx="11430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123720" y="251460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4572000"/>
            <a:ext cx="1676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4648320"/>
            <a:ext cx="12193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3842600">
            <a:off x="4800240" y="419040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76920" y="4343400"/>
            <a:ext cx="7596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37760" y="476568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6080" y="4183200"/>
            <a:ext cx="18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19000" y="36990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08960" y="430848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42480" y="4537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59560" y="5562720"/>
            <a:ext cx="1863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EXTEN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69400" y="4952880"/>
            <a:ext cx="15584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FLEX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43560" y="5524560"/>
            <a:ext cx="205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OMED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495680" y="502920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MOTOR CORTEX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ENDING PATHW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SOR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TICAL CODING OF REACHING MOV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GANIZATION OF THE MOTOR CORTE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TICAL EFFERENT ZONES: VERTICAL COLUMNS OF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ZONE CONTROLS ONE MUS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 DIFFERENT LAYERS OF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 LAYER IS LAYER 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ITE BOTH ALPHA AND GAMMA MOTOR NEUR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TICAL AREAS INVOVED IN MOT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1" name="motctx" descr=""/>
          <p:cNvPicPr/>
          <p:nvPr/>
        </p:nvPicPr>
        <p:blipFill>
          <a:blip r:embed="rId1"/>
          <a:srcRect l="0" t="0" r="0" b="22722"/>
          <a:stretch/>
        </p:blipFill>
        <p:spPr>
          <a:xfrm>
            <a:off x="838080" y="1819440"/>
            <a:ext cx="769644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dematomes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2518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MATOTOPIC ORGANIZATION OF THE MOTOR CORTE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4" name="mothomunc" descr=""/>
          <p:cNvPicPr/>
          <p:nvPr/>
        </p:nvPicPr>
        <p:blipFill>
          <a:blip r:embed="rId1"/>
          <a:stretch/>
        </p:blipFill>
        <p:spPr>
          <a:xfrm>
            <a:off x="3043080" y="1738440"/>
            <a:ext cx="462924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CENDING PATHWAYS FROM THE MOTOR CORTE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TICOSPINAL PATH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TICOBULBAR PATH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RAMIDAL TR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RAL CORTICOSPINAL TR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THWAYS FROM CORTEX FOR MOTOR CONTROL: LATERAL CORTICOSPINAL TRAC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854080" y="2133720"/>
            <a:ext cx="3598920" cy="3733200"/>
            <a:chOff x="2854080" y="2133720"/>
            <a:chExt cx="3598920" cy="3733200"/>
          </a:xfrm>
        </p:grpSpPr>
        <p:sp>
          <p:nvSpPr>
            <p:cNvPr id="329" name=""/>
            <p:cNvSpPr/>
            <p:nvPr/>
          </p:nvSpPr>
          <p:spPr>
            <a:xfrm rot="8292000">
              <a:off x="3918600" y="3474000"/>
              <a:ext cx="1008360" cy="1069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2880000" y="3795120"/>
              <a:ext cx="733320" cy="33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303000" y="3412800"/>
              <a:ext cx="100836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91040" y="4330080"/>
              <a:ext cx="100836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5862240" y="3741840"/>
              <a:ext cx="427680" cy="504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5543640" y="2802240"/>
              <a:ext cx="784440" cy="11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543640" y="4085640"/>
              <a:ext cx="784440" cy="11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5400000">
              <a:off x="5653080" y="2014920"/>
              <a:ext cx="681120" cy="918720"/>
            </a:xfrm>
            <a:custGeom>
              <a:avLst/>
              <a:gdLst/>
              <a:ahLst/>
              <a:rect l="l" t="t" r="r" b="b"/>
              <a:pathLst>
                <a:path w="535" h="787">
                  <a:moveTo>
                    <a:pt x="535" y="754"/>
                  </a:moveTo>
                  <a:cubicBezTo>
                    <a:pt x="508" y="763"/>
                    <a:pt x="497" y="778"/>
                    <a:pt x="470" y="787"/>
                  </a:cubicBezTo>
                  <a:cubicBezTo>
                    <a:pt x="413" y="783"/>
                    <a:pt x="324" y="781"/>
                    <a:pt x="267" y="762"/>
                  </a:cubicBezTo>
                  <a:cubicBezTo>
                    <a:pt x="251" y="757"/>
                    <a:pt x="235" y="751"/>
                    <a:pt x="219" y="746"/>
                  </a:cubicBezTo>
                  <a:cubicBezTo>
                    <a:pt x="211" y="743"/>
                    <a:pt x="194" y="738"/>
                    <a:pt x="194" y="738"/>
                  </a:cubicBezTo>
                  <a:cubicBezTo>
                    <a:pt x="119" y="688"/>
                    <a:pt x="245" y="769"/>
                    <a:pt x="121" y="706"/>
                  </a:cubicBezTo>
                  <a:cubicBezTo>
                    <a:pt x="86" y="688"/>
                    <a:pt x="84" y="636"/>
                    <a:pt x="56" y="608"/>
                  </a:cubicBezTo>
                  <a:cubicBezTo>
                    <a:pt x="21" y="502"/>
                    <a:pt x="43" y="539"/>
                    <a:pt x="8" y="487"/>
                  </a:cubicBezTo>
                  <a:cubicBezTo>
                    <a:pt x="5" y="476"/>
                    <a:pt x="0" y="465"/>
                    <a:pt x="0" y="454"/>
                  </a:cubicBezTo>
                  <a:cubicBezTo>
                    <a:pt x="0" y="442"/>
                    <a:pt x="24" y="375"/>
                    <a:pt x="24" y="373"/>
                  </a:cubicBezTo>
                  <a:cubicBezTo>
                    <a:pt x="29" y="341"/>
                    <a:pt x="35" y="308"/>
                    <a:pt x="40" y="276"/>
                  </a:cubicBezTo>
                  <a:cubicBezTo>
                    <a:pt x="43" y="257"/>
                    <a:pt x="73" y="227"/>
                    <a:pt x="73" y="227"/>
                  </a:cubicBezTo>
                  <a:cubicBezTo>
                    <a:pt x="88" y="183"/>
                    <a:pt x="104" y="145"/>
                    <a:pt x="113" y="98"/>
                  </a:cubicBezTo>
                  <a:cubicBezTo>
                    <a:pt x="104" y="61"/>
                    <a:pt x="113" y="39"/>
                    <a:pt x="11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rot="5400000">
              <a:off x="5639760" y="5067000"/>
              <a:ext cx="681120" cy="918360"/>
            </a:xfrm>
            <a:custGeom>
              <a:avLst/>
              <a:gdLst/>
              <a:ahLst/>
              <a:rect l="l" t="t" r="r" b="b"/>
              <a:pathLst>
                <a:path w="535" h="787">
                  <a:moveTo>
                    <a:pt x="535" y="754"/>
                  </a:moveTo>
                  <a:cubicBezTo>
                    <a:pt x="508" y="763"/>
                    <a:pt x="497" y="778"/>
                    <a:pt x="470" y="787"/>
                  </a:cubicBezTo>
                  <a:cubicBezTo>
                    <a:pt x="413" y="783"/>
                    <a:pt x="324" y="781"/>
                    <a:pt x="267" y="762"/>
                  </a:cubicBezTo>
                  <a:cubicBezTo>
                    <a:pt x="251" y="757"/>
                    <a:pt x="235" y="751"/>
                    <a:pt x="219" y="746"/>
                  </a:cubicBezTo>
                  <a:cubicBezTo>
                    <a:pt x="211" y="743"/>
                    <a:pt x="194" y="738"/>
                    <a:pt x="194" y="738"/>
                  </a:cubicBezTo>
                  <a:cubicBezTo>
                    <a:pt x="119" y="688"/>
                    <a:pt x="245" y="769"/>
                    <a:pt x="121" y="706"/>
                  </a:cubicBezTo>
                  <a:cubicBezTo>
                    <a:pt x="86" y="688"/>
                    <a:pt x="84" y="636"/>
                    <a:pt x="56" y="608"/>
                  </a:cubicBezTo>
                  <a:cubicBezTo>
                    <a:pt x="21" y="502"/>
                    <a:pt x="43" y="539"/>
                    <a:pt x="8" y="487"/>
                  </a:cubicBezTo>
                  <a:cubicBezTo>
                    <a:pt x="5" y="476"/>
                    <a:pt x="0" y="465"/>
                    <a:pt x="0" y="454"/>
                  </a:cubicBezTo>
                  <a:cubicBezTo>
                    <a:pt x="0" y="442"/>
                    <a:pt x="24" y="375"/>
                    <a:pt x="24" y="373"/>
                  </a:cubicBezTo>
                  <a:cubicBezTo>
                    <a:pt x="29" y="341"/>
                    <a:pt x="35" y="308"/>
                    <a:pt x="40" y="276"/>
                  </a:cubicBezTo>
                  <a:cubicBezTo>
                    <a:pt x="43" y="257"/>
                    <a:pt x="73" y="227"/>
                    <a:pt x="73" y="227"/>
                  </a:cubicBezTo>
                  <a:cubicBezTo>
                    <a:pt x="88" y="183"/>
                    <a:pt x="104" y="145"/>
                    <a:pt x="113" y="98"/>
                  </a:cubicBezTo>
                  <a:cubicBezTo>
                    <a:pt x="104" y="61"/>
                    <a:pt x="113" y="39"/>
                    <a:pt x="11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4519800" y="4482720"/>
              <a:ext cx="366480" cy="672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4632120" y="2893320"/>
              <a:ext cx="366480" cy="672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817000">
              <a:off x="4858560" y="3519000"/>
              <a:ext cx="806040" cy="227520"/>
            </a:xfrm>
            <a:custGeom>
              <a:avLst/>
              <a:gdLst/>
              <a:ahLst/>
              <a:rect l="l" t="t" r="r" b="b"/>
              <a:pathLst>
                <a:path w="633" h="195">
                  <a:moveTo>
                    <a:pt x="0" y="195"/>
                  </a:moveTo>
                  <a:cubicBezTo>
                    <a:pt x="33" y="163"/>
                    <a:pt x="78" y="151"/>
                    <a:pt x="122" y="138"/>
                  </a:cubicBezTo>
                  <a:cubicBezTo>
                    <a:pt x="213" y="111"/>
                    <a:pt x="304" y="77"/>
                    <a:pt x="398" y="65"/>
                  </a:cubicBezTo>
                  <a:cubicBezTo>
                    <a:pt x="478" y="38"/>
                    <a:pt x="546" y="0"/>
                    <a:pt x="63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5509800">
              <a:off x="4745160" y="4255200"/>
              <a:ext cx="866880" cy="282960"/>
            </a:xfrm>
            <a:custGeom>
              <a:avLst/>
              <a:gdLst/>
              <a:ahLst/>
              <a:rect l="l" t="t" r="r" b="b"/>
              <a:pathLst>
                <a:path w="633" h="195">
                  <a:moveTo>
                    <a:pt x="0" y="195"/>
                  </a:moveTo>
                  <a:cubicBezTo>
                    <a:pt x="33" y="163"/>
                    <a:pt x="78" y="151"/>
                    <a:pt x="122" y="138"/>
                  </a:cubicBezTo>
                  <a:cubicBezTo>
                    <a:pt x="213" y="111"/>
                    <a:pt x="304" y="77"/>
                    <a:pt x="398" y="65"/>
                  </a:cubicBezTo>
                  <a:cubicBezTo>
                    <a:pt x="478" y="38"/>
                    <a:pt x="546" y="0"/>
                    <a:pt x="63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264280" y="2740320"/>
              <a:ext cx="27972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07760" y="4452480"/>
              <a:ext cx="28008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151960" y="2496240"/>
              <a:ext cx="391680" cy="67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49280" y="4952880"/>
              <a:ext cx="573480" cy="52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2854080" y="3963240"/>
              <a:ext cx="3585960" cy="61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5400000">
              <a:off x="5729760" y="4189680"/>
              <a:ext cx="244440" cy="28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rot="5400000">
            <a:off x="4850640" y="3302640"/>
            <a:ext cx="666720" cy="1224000"/>
          </a:xfrm>
          <a:custGeom>
            <a:avLst/>
            <a:gdLst/>
            <a:ahLst/>
            <a:rect l="l" t="t" r="r" b="b"/>
            <a:pathLst>
              <a:path w="569" h="2521">
                <a:moveTo>
                  <a:pt x="569" y="0"/>
                </a:moveTo>
                <a:cubicBezTo>
                  <a:pt x="554" y="44"/>
                  <a:pt x="561" y="73"/>
                  <a:pt x="512" y="89"/>
                </a:cubicBezTo>
                <a:cubicBezTo>
                  <a:pt x="468" y="119"/>
                  <a:pt x="441" y="129"/>
                  <a:pt x="391" y="146"/>
                </a:cubicBezTo>
                <a:cubicBezTo>
                  <a:pt x="382" y="149"/>
                  <a:pt x="375" y="158"/>
                  <a:pt x="366" y="162"/>
                </a:cubicBezTo>
                <a:cubicBezTo>
                  <a:pt x="351" y="169"/>
                  <a:pt x="318" y="178"/>
                  <a:pt x="318" y="178"/>
                </a:cubicBezTo>
                <a:cubicBezTo>
                  <a:pt x="312" y="184"/>
                  <a:pt x="308" y="191"/>
                  <a:pt x="301" y="195"/>
                </a:cubicBezTo>
                <a:cubicBezTo>
                  <a:pt x="286" y="203"/>
                  <a:pt x="253" y="211"/>
                  <a:pt x="253" y="211"/>
                </a:cubicBezTo>
                <a:cubicBezTo>
                  <a:pt x="242" y="219"/>
                  <a:pt x="232" y="228"/>
                  <a:pt x="220" y="235"/>
                </a:cubicBezTo>
                <a:cubicBezTo>
                  <a:pt x="213" y="239"/>
                  <a:pt x="203" y="238"/>
                  <a:pt x="196" y="243"/>
                </a:cubicBezTo>
                <a:cubicBezTo>
                  <a:pt x="188" y="249"/>
                  <a:pt x="187" y="261"/>
                  <a:pt x="180" y="268"/>
                </a:cubicBezTo>
                <a:cubicBezTo>
                  <a:pt x="173" y="275"/>
                  <a:pt x="163" y="279"/>
                  <a:pt x="155" y="284"/>
                </a:cubicBezTo>
                <a:cubicBezTo>
                  <a:pt x="138" y="309"/>
                  <a:pt x="119" y="320"/>
                  <a:pt x="99" y="341"/>
                </a:cubicBezTo>
                <a:cubicBezTo>
                  <a:pt x="87" y="376"/>
                  <a:pt x="70" y="402"/>
                  <a:pt x="58" y="438"/>
                </a:cubicBezTo>
                <a:cubicBezTo>
                  <a:pt x="55" y="446"/>
                  <a:pt x="50" y="462"/>
                  <a:pt x="50" y="462"/>
                </a:cubicBezTo>
                <a:cubicBezTo>
                  <a:pt x="0" y="815"/>
                  <a:pt x="31" y="1176"/>
                  <a:pt x="18" y="1532"/>
                </a:cubicBezTo>
                <a:cubicBezTo>
                  <a:pt x="27" y="2332"/>
                  <a:pt x="26" y="2003"/>
                  <a:pt x="26" y="252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81680" y="2514600"/>
            <a:ext cx="2362320" cy="1447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81680" y="3733920"/>
            <a:ext cx="2362320" cy="14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3200400"/>
            <a:ext cx="304920" cy="129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96080" y="3048120"/>
            <a:ext cx="304920" cy="16002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7583760" y="3540960"/>
            <a:ext cx="1295640" cy="461880"/>
          </a:xfrm>
          <a:prstGeom prst="triangle">
            <a:avLst>
              <a:gd name="adj" fmla="val 50000"/>
            </a:avLst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91520" y="38098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02440" y="34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773840" y="3276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46748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960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77320" y="3809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3352680"/>
            <a:ext cx="6964560" cy="1003320"/>
          </a:xfrm>
          <a:custGeom>
            <a:avLst/>
            <a:gdLst/>
            <a:ahLst/>
            <a:rect l="l" t="t" r="r" b="b"/>
            <a:pathLst>
              <a:path w="4387" h="632">
                <a:moveTo>
                  <a:pt x="4387" y="592"/>
                </a:moveTo>
                <a:cubicBezTo>
                  <a:pt x="4215" y="565"/>
                  <a:pt x="3937" y="597"/>
                  <a:pt x="3795" y="600"/>
                </a:cubicBezTo>
                <a:cubicBezTo>
                  <a:pt x="3571" y="610"/>
                  <a:pt x="3346" y="622"/>
                  <a:pt x="3122" y="632"/>
                </a:cubicBezTo>
                <a:cubicBezTo>
                  <a:pt x="2959" y="624"/>
                  <a:pt x="2808" y="599"/>
                  <a:pt x="2643" y="592"/>
                </a:cubicBezTo>
                <a:cubicBezTo>
                  <a:pt x="2585" y="581"/>
                  <a:pt x="2532" y="556"/>
                  <a:pt x="2473" y="551"/>
                </a:cubicBezTo>
                <a:cubicBezTo>
                  <a:pt x="2309" y="536"/>
                  <a:pt x="2148" y="526"/>
                  <a:pt x="1987" y="494"/>
                </a:cubicBezTo>
                <a:cubicBezTo>
                  <a:pt x="1947" y="468"/>
                  <a:pt x="1901" y="469"/>
                  <a:pt x="1857" y="454"/>
                </a:cubicBezTo>
                <a:cubicBezTo>
                  <a:pt x="1807" y="419"/>
                  <a:pt x="1768" y="359"/>
                  <a:pt x="1735" y="308"/>
                </a:cubicBezTo>
                <a:cubicBezTo>
                  <a:pt x="1727" y="295"/>
                  <a:pt x="1699" y="246"/>
                  <a:pt x="1679" y="235"/>
                </a:cubicBezTo>
                <a:cubicBezTo>
                  <a:pt x="1628" y="207"/>
                  <a:pt x="1556" y="208"/>
                  <a:pt x="1500" y="202"/>
                </a:cubicBezTo>
                <a:cubicBezTo>
                  <a:pt x="1402" y="191"/>
                  <a:pt x="1306" y="176"/>
                  <a:pt x="1208" y="162"/>
                </a:cubicBezTo>
                <a:cubicBezTo>
                  <a:pt x="945" y="123"/>
                  <a:pt x="679" y="93"/>
                  <a:pt x="414" y="65"/>
                </a:cubicBezTo>
                <a:cubicBezTo>
                  <a:pt x="300" y="53"/>
                  <a:pt x="186" y="33"/>
                  <a:pt x="73" y="16"/>
                </a:cubicBezTo>
                <a:cubicBezTo>
                  <a:pt x="51" y="13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3352680"/>
            <a:ext cx="7543800" cy="1219320"/>
          </a:xfrm>
          <a:custGeom>
            <a:avLst/>
            <a:gdLst/>
            <a:ahLst/>
            <a:rect l="l" t="t" r="r" b="b"/>
            <a:pathLst>
              <a:path w="4387" h="632">
                <a:moveTo>
                  <a:pt x="4387" y="592"/>
                </a:moveTo>
                <a:cubicBezTo>
                  <a:pt x="4215" y="565"/>
                  <a:pt x="3937" y="597"/>
                  <a:pt x="3795" y="600"/>
                </a:cubicBezTo>
                <a:cubicBezTo>
                  <a:pt x="3571" y="610"/>
                  <a:pt x="3346" y="622"/>
                  <a:pt x="3122" y="632"/>
                </a:cubicBezTo>
                <a:cubicBezTo>
                  <a:pt x="2959" y="624"/>
                  <a:pt x="2808" y="599"/>
                  <a:pt x="2643" y="592"/>
                </a:cubicBezTo>
                <a:cubicBezTo>
                  <a:pt x="2585" y="581"/>
                  <a:pt x="2532" y="556"/>
                  <a:pt x="2473" y="551"/>
                </a:cubicBezTo>
                <a:cubicBezTo>
                  <a:pt x="2309" y="536"/>
                  <a:pt x="2148" y="526"/>
                  <a:pt x="1987" y="494"/>
                </a:cubicBezTo>
                <a:cubicBezTo>
                  <a:pt x="1947" y="468"/>
                  <a:pt x="1901" y="469"/>
                  <a:pt x="1857" y="454"/>
                </a:cubicBezTo>
                <a:cubicBezTo>
                  <a:pt x="1807" y="419"/>
                  <a:pt x="1768" y="359"/>
                  <a:pt x="1735" y="308"/>
                </a:cubicBezTo>
                <a:cubicBezTo>
                  <a:pt x="1727" y="295"/>
                  <a:pt x="1699" y="246"/>
                  <a:pt x="1679" y="235"/>
                </a:cubicBezTo>
                <a:cubicBezTo>
                  <a:pt x="1628" y="207"/>
                  <a:pt x="1556" y="208"/>
                  <a:pt x="1500" y="202"/>
                </a:cubicBezTo>
                <a:cubicBezTo>
                  <a:pt x="1402" y="191"/>
                  <a:pt x="1306" y="176"/>
                  <a:pt x="1208" y="162"/>
                </a:cubicBezTo>
                <a:cubicBezTo>
                  <a:pt x="945" y="123"/>
                  <a:pt x="679" y="93"/>
                  <a:pt x="414" y="65"/>
                </a:cubicBezTo>
                <a:cubicBezTo>
                  <a:pt x="300" y="53"/>
                  <a:pt x="186" y="33"/>
                  <a:pt x="73" y="16"/>
                </a:cubicBezTo>
                <a:cubicBezTo>
                  <a:pt x="51" y="13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5848200" y="4407840"/>
            <a:ext cx="571680" cy="9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200400" y="3657600"/>
            <a:ext cx="4572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429000" y="3809880"/>
            <a:ext cx="38088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82400" y="15620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454520" y="5600880"/>
            <a:ext cx="12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60680" y="579132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YRAMI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34440" y="1866960"/>
            <a:ext cx="122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CL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0560" y="179388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IC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17160" y="23623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5866920" y="3048120"/>
            <a:ext cx="228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77120" y="4191120"/>
            <a:ext cx="2286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629400" y="4724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7924680" y="4723920"/>
            <a:ext cx="763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8229600" y="2133720"/>
            <a:ext cx="3808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9000" y="3857760"/>
            <a:ext cx="1119240" cy="441360"/>
          </a:xfrm>
          <a:custGeom>
            <a:avLst/>
            <a:gdLst/>
            <a:ahLst/>
            <a:rect l="l" t="t" r="r" b="b"/>
            <a:pathLst>
              <a:path w="705" h="278">
                <a:moveTo>
                  <a:pt x="705" y="10"/>
                </a:moveTo>
                <a:cubicBezTo>
                  <a:pt x="675" y="7"/>
                  <a:pt x="646" y="0"/>
                  <a:pt x="616" y="2"/>
                </a:cubicBezTo>
                <a:cubicBezTo>
                  <a:pt x="575" y="4"/>
                  <a:pt x="517" y="30"/>
                  <a:pt x="478" y="43"/>
                </a:cubicBezTo>
                <a:cubicBezTo>
                  <a:pt x="457" y="50"/>
                  <a:pt x="434" y="52"/>
                  <a:pt x="413" y="59"/>
                </a:cubicBezTo>
                <a:cubicBezTo>
                  <a:pt x="397" y="64"/>
                  <a:pt x="381" y="70"/>
                  <a:pt x="365" y="75"/>
                </a:cubicBezTo>
                <a:cubicBezTo>
                  <a:pt x="357" y="78"/>
                  <a:pt x="340" y="83"/>
                  <a:pt x="340" y="83"/>
                </a:cubicBezTo>
                <a:cubicBezTo>
                  <a:pt x="320" y="105"/>
                  <a:pt x="303" y="115"/>
                  <a:pt x="275" y="124"/>
                </a:cubicBezTo>
                <a:cubicBezTo>
                  <a:pt x="234" y="154"/>
                  <a:pt x="194" y="189"/>
                  <a:pt x="146" y="205"/>
                </a:cubicBezTo>
                <a:cubicBezTo>
                  <a:pt x="129" y="221"/>
                  <a:pt x="103" y="236"/>
                  <a:pt x="81" y="246"/>
                </a:cubicBezTo>
                <a:cubicBezTo>
                  <a:pt x="56" y="257"/>
                  <a:pt x="20" y="258"/>
                  <a:pt x="0" y="27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THWAYS FROM CORTEX FOR MOTOR CONTROL: CORTICOSPINAL TRAC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854080" y="2133720"/>
            <a:ext cx="3598920" cy="3733200"/>
            <a:chOff x="2854080" y="2133720"/>
            <a:chExt cx="3598920" cy="3733200"/>
          </a:xfrm>
        </p:grpSpPr>
        <p:sp>
          <p:nvSpPr>
            <p:cNvPr id="380" name=""/>
            <p:cNvSpPr/>
            <p:nvPr/>
          </p:nvSpPr>
          <p:spPr>
            <a:xfrm rot="8292000">
              <a:off x="3918600" y="3474000"/>
              <a:ext cx="1008360" cy="1069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2880000" y="3795120"/>
              <a:ext cx="733320" cy="33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3303000" y="3412800"/>
              <a:ext cx="100836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91040" y="4330080"/>
              <a:ext cx="100836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5400000">
              <a:off x="5862240" y="3741840"/>
              <a:ext cx="427680" cy="504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5543640" y="2802240"/>
              <a:ext cx="784440" cy="11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543640" y="4085640"/>
              <a:ext cx="784440" cy="11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5400000">
              <a:off x="5653080" y="2014920"/>
              <a:ext cx="681120" cy="918720"/>
            </a:xfrm>
            <a:custGeom>
              <a:avLst/>
              <a:gdLst/>
              <a:ahLst/>
              <a:rect l="l" t="t" r="r" b="b"/>
              <a:pathLst>
                <a:path w="535" h="787">
                  <a:moveTo>
                    <a:pt x="535" y="754"/>
                  </a:moveTo>
                  <a:cubicBezTo>
                    <a:pt x="508" y="763"/>
                    <a:pt x="497" y="778"/>
                    <a:pt x="470" y="787"/>
                  </a:cubicBezTo>
                  <a:cubicBezTo>
                    <a:pt x="413" y="783"/>
                    <a:pt x="324" y="781"/>
                    <a:pt x="267" y="762"/>
                  </a:cubicBezTo>
                  <a:cubicBezTo>
                    <a:pt x="251" y="757"/>
                    <a:pt x="235" y="751"/>
                    <a:pt x="219" y="746"/>
                  </a:cubicBezTo>
                  <a:cubicBezTo>
                    <a:pt x="211" y="743"/>
                    <a:pt x="194" y="738"/>
                    <a:pt x="194" y="738"/>
                  </a:cubicBezTo>
                  <a:cubicBezTo>
                    <a:pt x="119" y="688"/>
                    <a:pt x="245" y="769"/>
                    <a:pt x="121" y="706"/>
                  </a:cubicBezTo>
                  <a:cubicBezTo>
                    <a:pt x="86" y="688"/>
                    <a:pt x="84" y="636"/>
                    <a:pt x="56" y="608"/>
                  </a:cubicBezTo>
                  <a:cubicBezTo>
                    <a:pt x="21" y="502"/>
                    <a:pt x="43" y="539"/>
                    <a:pt x="8" y="487"/>
                  </a:cubicBezTo>
                  <a:cubicBezTo>
                    <a:pt x="5" y="476"/>
                    <a:pt x="0" y="465"/>
                    <a:pt x="0" y="454"/>
                  </a:cubicBezTo>
                  <a:cubicBezTo>
                    <a:pt x="0" y="442"/>
                    <a:pt x="24" y="375"/>
                    <a:pt x="24" y="373"/>
                  </a:cubicBezTo>
                  <a:cubicBezTo>
                    <a:pt x="29" y="341"/>
                    <a:pt x="35" y="308"/>
                    <a:pt x="40" y="276"/>
                  </a:cubicBezTo>
                  <a:cubicBezTo>
                    <a:pt x="43" y="257"/>
                    <a:pt x="73" y="227"/>
                    <a:pt x="73" y="227"/>
                  </a:cubicBezTo>
                  <a:cubicBezTo>
                    <a:pt x="88" y="183"/>
                    <a:pt x="104" y="145"/>
                    <a:pt x="113" y="98"/>
                  </a:cubicBezTo>
                  <a:cubicBezTo>
                    <a:pt x="104" y="61"/>
                    <a:pt x="113" y="39"/>
                    <a:pt x="11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rot="5400000">
              <a:off x="5639760" y="5067000"/>
              <a:ext cx="681120" cy="918360"/>
            </a:xfrm>
            <a:custGeom>
              <a:avLst/>
              <a:gdLst/>
              <a:ahLst/>
              <a:rect l="l" t="t" r="r" b="b"/>
              <a:pathLst>
                <a:path w="535" h="787">
                  <a:moveTo>
                    <a:pt x="535" y="754"/>
                  </a:moveTo>
                  <a:cubicBezTo>
                    <a:pt x="508" y="763"/>
                    <a:pt x="497" y="778"/>
                    <a:pt x="470" y="787"/>
                  </a:cubicBezTo>
                  <a:cubicBezTo>
                    <a:pt x="413" y="783"/>
                    <a:pt x="324" y="781"/>
                    <a:pt x="267" y="762"/>
                  </a:cubicBezTo>
                  <a:cubicBezTo>
                    <a:pt x="251" y="757"/>
                    <a:pt x="235" y="751"/>
                    <a:pt x="219" y="746"/>
                  </a:cubicBezTo>
                  <a:cubicBezTo>
                    <a:pt x="211" y="743"/>
                    <a:pt x="194" y="738"/>
                    <a:pt x="194" y="738"/>
                  </a:cubicBezTo>
                  <a:cubicBezTo>
                    <a:pt x="119" y="688"/>
                    <a:pt x="245" y="769"/>
                    <a:pt x="121" y="706"/>
                  </a:cubicBezTo>
                  <a:cubicBezTo>
                    <a:pt x="86" y="688"/>
                    <a:pt x="84" y="636"/>
                    <a:pt x="56" y="608"/>
                  </a:cubicBezTo>
                  <a:cubicBezTo>
                    <a:pt x="21" y="502"/>
                    <a:pt x="43" y="539"/>
                    <a:pt x="8" y="487"/>
                  </a:cubicBezTo>
                  <a:cubicBezTo>
                    <a:pt x="5" y="476"/>
                    <a:pt x="0" y="465"/>
                    <a:pt x="0" y="454"/>
                  </a:cubicBezTo>
                  <a:cubicBezTo>
                    <a:pt x="0" y="442"/>
                    <a:pt x="24" y="375"/>
                    <a:pt x="24" y="373"/>
                  </a:cubicBezTo>
                  <a:cubicBezTo>
                    <a:pt x="29" y="341"/>
                    <a:pt x="35" y="308"/>
                    <a:pt x="40" y="276"/>
                  </a:cubicBezTo>
                  <a:cubicBezTo>
                    <a:pt x="43" y="257"/>
                    <a:pt x="73" y="227"/>
                    <a:pt x="73" y="227"/>
                  </a:cubicBezTo>
                  <a:cubicBezTo>
                    <a:pt x="88" y="183"/>
                    <a:pt x="104" y="145"/>
                    <a:pt x="113" y="98"/>
                  </a:cubicBezTo>
                  <a:cubicBezTo>
                    <a:pt x="104" y="61"/>
                    <a:pt x="113" y="39"/>
                    <a:pt x="11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5400000">
              <a:off x="4519800" y="4482720"/>
              <a:ext cx="366480" cy="672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4632120" y="2893320"/>
              <a:ext cx="366480" cy="672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817000">
              <a:off x="4858560" y="3519000"/>
              <a:ext cx="806040" cy="227520"/>
            </a:xfrm>
            <a:custGeom>
              <a:avLst/>
              <a:gdLst/>
              <a:ahLst/>
              <a:rect l="l" t="t" r="r" b="b"/>
              <a:pathLst>
                <a:path w="633" h="195">
                  <a:moveTo>
                    <a:pt x="0" y="195"/>
                  </a:moveTo>
                  <a:cubicBezTo>
                    <a:pt x="33" y="163"/>
                    <a:pt x="78" y="151"/>
                    <a:pt x="122" y="138"/>
                  </a:cubicBezTo>
                  <a:cubicBezTo>
                    <a:pt x="213" y="111"/>
                    <a:pt x="304" y="77"/>
                    <a:pt x="398" y="65"/>
                  </a:cubicBezTo>
                  <a:cubicBezTo>
                    <a:pt x="478" y="38"/>
                    <a:pt x="546" y="0"/>
                    <a:pt x="63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rot="5509800">
              <a:off x="4745160" y="4255200"/>
              <a:ext cx="866880" cy="282960"/>
            </a:xfrm>
            <a:custGeom>
              <a:avLst/>
              <a:gdLst/>
              <a:ahLst/>
              <a:rect l="l" t="t" r="r" b="b"/>
              <a:pathLst>
                <a:path w="633" h="195">
                  <a:moveTo>
                    <a:pt x="0" y="195"/>
                  </a:moveTo>
                  <a:cubicBezTo>
                    <a:pt x="33" y="163"/>
                    <a:pt x="78" y="151"/>
                    <a:pt x="122" y="138"/>
                  </a:cubicBezTo>
                  <a:cubicBezTo>
                    <a:pt x="213" y="111"/>
                    <a:pt x="304" y="77"/>
                    <a:pt x="398" y="65"/>
                  </a:cubicBezTo>
                  <a:cubicBezTo>
                    <a:pt x="478" y="38"/>
                    <a:pt x="546" y="0"/>
                    <a:pt x="63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5264280" y="2740320"/>
              <a:ext cx="27972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07760" y="4452480"/>
              <a:ext cx="28008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5151960" y="2496240"/>
              <a:ext cx="391680" cy="67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49280" y="4952880"/>
              <a:ext cx="573480" cy="52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2854080" y="3963240"/>
              <a:ext cx="3585960" cy="61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400000">
              <a:off x="5729760" y="4189680"/>
              <a:ext cx="244440" cy="28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rot="5400000">
            <a:off x="4850640" y="3302640"/>
            <a:ext cx="666720" cy="1224000"/>
          </a:xfrm>
          <a:custGeom>
            <a:avLst/>
            <a:gdLst/>
            <a:ahLst/>
            <a:rect l="l" t="t" r="r" b="b"/>
            <a:pathLst>
              <a:path w="569" h="2521">
                <a:moveTo>
                  <a:pt x="569" y="0"/>
                </a:moveTo>
                <a:cubicBezTo>
                  <a:pt x="554" y="44"/>
                  <a:pt x="561" y="73"/>
                  <a:pt x="512" y="89"/>
                </a:cubicBezTo>
                <a:cubicBezTo>
                  <a:pt x="468" y="119"/>
                  <a:pt x="441" y="129"/>
                  <a:pt x="391" y="146"/>
                </a:cubicBezTo>
                <a:cubicBezTo>
                  <a:pt x="382" y="149"/>
                  <a:pt x="375" y="158"/>
                  <a:pt x="366" y="162"/>
                </a:cubicBezTo>
                <a:cubicBezTo>
                  <a:pt x="351" y="169"/>
                  <a:pt x="318" y="178"/>
                  <a:pt x="318" y="178"/>
                </a:cubicBezTo>
                <a:cubicBezTo>
                  <a:pt x="312" y="184"/>
                  <a:pt x="308" y="191"/>
                  <a:pt x="301" y="195"/>
                </a:cubicBezTo>
                <a:cubicBezTo>
                  <a:pt x="286" y="203"/>
                  <a:pt x="253" y="211"/>
                  <a:pt x="253" y="211"/>
                </a:cubicBezTo>
                <a:cubicBezTo>
                  <a:pt x="242" y="219"/>
                  <a:pt x="232" y="228"/>
                  <a:pt x="220" y="235"/>
                </a:cubicBezTo>
                <a:cubicBezTo>
                  <a:pt x="213" y="239"/>
                  <a:pt x="203" y="238"/>
                  <a:pt x="196" y="243"/>
                </a:cubicBezTo>
                <a:cubicBezTo>
                  <a:pt x="188" y="249"/>
                  <a:pt x="187" y="261"/>
                  <a:pt x="180" y="268"/>
                </a:cubicBezTo>
                <a:cubicBezTo>
                  <a:pt x="173" y="275"/>
                  <a:pt x="163" y="279"/>
                  <a:pt x="155" y="284"/>
                </a:cubicBezTo>
                <a:cubicBezTo>
                  <a:pt x="138" y="309"/>
                  <a:pt x="119" y="320"/>
                  <a:pt x="99" y="341"/>
                </a:cubicBezTo>
                <a:cubicBezTo>
                  <a:pt x="87" y="376"/>
                  <a:pt x="70" y="402"/>
                  <a:pt x="58" y="438"/>
                </a:cubicBezTo>
                <a:cubicBezTo>
                  <a:pt x="55" y="446"/>
                  <a:pt x="50" y="462"/>
                  <a:pt x="50" y="462"/>
                </a:cubicBezTo>
                <a:cubicBezTo>
                  <a:pt x="0" y="815"/>
                  <a:pt x="31" y="1176"/>
                  <a:pt x="18" y="1532"/>
                </a:cubicBezTo>
                <a:cubicBezTo>
                  <a:pt x="27" y="2332"/>
                  <a:pt x="26" y="2003"/>
                  <a:pt x="26" y="252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2514600"/>
            <a:ext cx="2362320" cy="1447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81680" y="3733920"/>
            <a:ext cx="2362320" cy="14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67480" y="3200400"/>
            <a:ext cx="304920" cy="129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96080" y="3048120"/>
            <a:ext cx="304920" cy="16002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5400000">
            <a:off x="7583760" y="3540960"/>
            <a:ext cx="1295640" cy="461880"/>
          </a:xfrm>
          <a:prstGeom prst="triangle">
            <a:avLst>
              <a:gd name="adj" fmla="val 50000"/>
            </a:avLst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91520" y="38098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02440" y="34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73840" y="3276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077320" y="3809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3352680"/>
            <a:ext cx="6964560" cy="1003320"/>
          </a:xfrm>
          <a:custGeom>
            <a:avLst/>
            <a:gdLst/>
            <a:ahLst/>
            <a:rect l="l" t="t" r="r" b="b"/>
            <a:pathLst>
              <a:path w="4387" h="632">
                <a:moveTo>
                  <a:pt x="4387" y="592"/>
                </a:moveTo>
                <a:cubicBezTo>
                  <a:pt x="4215" y="565"/>
                  <a:pt x="3937" y="597"/>
                  <a:pt x="3795" y="600"/>
                </a:cubicBezTo>
                <a:cubicBezTo>
                  <a:pt x="3571" y="610"/>
                  <a:pt x="3346" y="622"/>
                  <a:pt x="3122" y="632"/>
                </a:cubicBezTo>
                <a:cubicBezTo>
                  <a:pt x="2959" y="624"/>
                  <a:pt x="2808" y="599"/>
                  <a:pt x="2643" y="592"/>
                </a:cubicBezTo>
                <a:cubicBezTo>
                  <a:pt x="2585" y="581"/>
                  <a:pt x="2532" y="556"/>
                  <a:pt x="2473" y="551"/>
                </a:cubicBezTo>
                <a:cubicBezTo>
                  <a:pt x="2309" y="536"/>
                  <a:pt x="2148" y="526"/>
                  <a:pt x="1987" y="494"/>
                </a:cubicBezTo>
                <a:cubicBezTo>
                  <a:pt x="1947" y="468"/>
                  <a:pt x="1901" y="469"/>
                  <a:pt x="1857" y="454"/>
                </a:cubicBezTo>
                <a:cubicBezTo>
                  <a:pt x="1807" y="419"/>
                  <a:pt x="1768" y="359"/>
                  <a:pt x="1735" y="308"/>
                </a:cubicBezTo>
                <a:cubicBezTo>
                  <a:pt x="1727" y="295"/>
                  <a:pt x="1699" y="246"/>
                  <a:pt x="1679" y="235"/>
                </a:cubicBezTo>
                <a:cubicBezTo>
                  <a:pt x="1628" y="207"/>
                  <a:pt x="1556" y="208"/>
                  <a:pt x="1500" y="202"/>
                </a:cubicBezTo>
                <a:cubicBezTo>
                  <a:pt x="1402" y="191"/>
                  <a:pt x="1306" y="176"/>
                  <a:pt x="1208" y="162"/>
                </a:cubicBezTo>
                <a:cubicBezTo>
                  <a:pt x="945" y="123"/>
                  <a:pt x="679" y="93"/>
                  <a:pt x="414" y="65"/>
                </a:cubicBezTo>
                <a:cubicBezTo>
                  <a:pt x="300" y="53"/>
                  <a:pt x="186" y="33"/>
                  <a:pt x="73" y="16"/>
                </a:cubicBezTo>
                <a:cubicBezTo>
                  <a:pt x="51" y="13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0880" y="3352680"/>
            <a:ext cx="7543800" cy="1219320"/>
          </a:xfrm>
          <a:custGeom>
            <a:avLst/>
            <a:gdLst/>
            <a:ahLst/>
            <a:rect l="l" t="t" r="r" b="b"/>
            <a:pathLst>
              <a:path w="4387" h="632">
                <a:moveTo>
                  <a:pt x="4387" y="592"/>
                </a:moveTo>
                <a:cubicBezTo>
                  <a:pt x="4215" y="565"/>
                  <a:pt x="3937" y="597"/>
                  <a:pt x="3795" y="600"/>
                </a:cubicBezTo>
                <a:cubicBezTo>
                  <a:pt x="3571" y="610"/>
                  <a:pt x="3346" y="622"/>
                  <a:pt x="3122" y="632"/>
                </a:cubicBezTo>
                <a:cubicBezTo>
                  <a:pt x="2959" y="624"/>
                  <a:pt x="2808" y="599"/>
                  <a:pt x="2643" y="592"/>
                </a:cubicBezTo>
                <a:cubicBezTo>
                  <a:pt x="2585" y="581"/>
                  <a:pt x="2532" y="556"/>
                  <a:pt x="2473" y="551"/>
                </a:cubicBezTo>
                <a:cubicBezTo>
                  <a:pt x="2309" y="536"/>
                  <a:pt x="2148" y="526"/>
                  <a:pt x="1987" y="494"/>
                </a:cubicBezTo>
                <a:cubicBezTo>
                  <a:pt x="1947" y="468"/>
                  <a:pt x="1901" y="469"/>
                  <a:pt x="1857" y="454"/>
                </a:cubicBezTo>
                <a:cubicBezTo>
                  <a:pt x="1807" y="419"/>
                  <a:pt x="1768" y="359"/>
                  <a:pt x="1735" y="308"/>
                </a:cubicBezTo>
                <a:cubicBezTo>
                  <a:pt x="1727" y="295"/>
                  <a:pt x="1699" y="246"/>
                  <a:pt x="1679" y="235"/>
                </a:cubicBezTo>
                <a:cubicBezTo>
                  <a:pt x="1628" y="207"/>
                  <a:pt x="1556" y="208"/>
                  <a:pt x="1500" y="202"/>
                </a:cubicBezTo>
                <a:cubicBezTo>
                  <a:pt x="1402" y="191"/>
                  <a:pt x="1306" y="176"/>
                  <a:pt x="1208" y="162"/>
                </a:cubicBezTo>
                <a:cubicBezTo>
                  <a:pt x="945" y="123"/>
                  <a:pt x="679" y="93"/>
                  <a:pt x="414" y="65"/>
                </a:cubicBezTo>
                <a:cubicBezTo>
                  <a:pt x="300" y="53"/>
                  <a:pt x="186" y="33"/>
                  <a:pt x="73" y="16"/>
                </a:cubicBezTo>
                <a:cubicBezTo>
                  <a:pt x="51" y="13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913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5848200" y="4407840"/>
            <a:ext cx="571680" cy="9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200400" y="3657600"/>
            <a:ext cx="4572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429000" y="3809880"/>
            <a:ext cx="38088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82400" y="15620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54520" y="5600880"/>
            <a:ext cx="12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60680" y="579132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YRAMI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34440" y="1866960"/>
            <a:ext cx="122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CL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0560" y="179388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IC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17160" y="23623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866920" y="3048120"/>
            <a:ext cx="228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77120" y="4191120"/>
            <a:ext cx="2286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629400" y="4724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7924680" y="4723920"/>
            <a:ext cx="763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8229600" y="2133720"/>
            <a:ext cx="3808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20120" y="3886200"/>
            <a:ext cx="585720" cy="609480"/>
          </a:xfrm>
          <a:custGeom>
            <a:avLst/>
            <a:gdLst/>
            <a:ahLst/>
            <a:rect l="l" t="t" r="r" b="b"/>
            <a:pathLst>
              <a:path w="705" h="278">
                <a:moveTo>
                  <a:pt x="705" y="10"/>
                </a:moveTo>
                <a:cubicBezTo>
                  <a:pt x="675" y="7"/>
                  <a:pt x="646" y="0"/>
                  <a:pt x="616" y="2"/>
                </a:cubicBezTo>
                <a:cubicBezTo>
                  <a:pt x="575" y="4"/>
                  <a:pt x="517" y="30"/>
                  <a:pt x="478" y="43"/>
                </a:cubicBezTo>
                <a:cubicBezTo>
                  <a:pt x="457" y="50"/>
                  <a:pt x="434" y="52"/>
                  <a:pt x="413" y="59"/>
                </a:cubicBezTo>
                <a:cubicBezTo>
                  <a:pt x="397" y="64"/>
                  <a:pt x="381" y="70"/>
                  <a:pt x="365" y="75"/>
                </a:cubicBezTo>
                <a:cubicBezTo>
                  <a:pt x="357" y="78"/>
                  <a:pt x="340" y="83"/>
                  <a:pt x="340" y="83"/>
                </a:cubicBezTo>
                <a:cubicBezTo>
                  <a:pt x="320" y="105"/>
                  <a:pt x="303" y="115"/>
                  <a:pt x="275" y="124"/>
                </a:cubicBezTo>
                <a:cubicBezTo>
                  <a:pt x="234" y="154"/>
                  <a:pt x="194" y="189"/>
                  <a:pt x="146" y="205"/>
                </a:cubicBezTo>
                <a:cubicBezTo>
                  <a:pt x="129" y="221"/>
                  <a:pt x="103" y="236"/>
                  <a:pt x="81" y="246"/>
                </a:cubicBezTo>
                <a:cubicBezTo>
                  <a:pt x="56" y="257"/>
                  <a:pt x="20" y="258"/>
                  <a:pt x="0" y="27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380520" y="4114440"/>
            <a:ext cx="358164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7920" y="430848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IC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OF POSTURE BY THE BRAIN 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ENTROMEDIAL PATH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TERAL RETICULOSPINAL TR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UBROSPINAL TRAC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NSORY FEEDBACK TO THE MOTOR CORTE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A SOMATIC SENSORY CORT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NECTED IN A TOPOGRAPHIC MA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MOVEMENT AND SMOOTH AND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TICAL CODING OF REACHING MOV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NEURONS CODE FOR RATE OF FORC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ADY STATE FO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RONS CONTROLLING RATE AND DIRECTION OF MOVEMENT ARE DISTRIBUTED (NO ONE NEURON HAS ALL THE INFORMA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PPLIMENTAL MOTOR AREAS PROGRAM MOVEM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THALAMUS INVOLVED IN MOTIVATIONAL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MIT INFORMATION TO SUPPLIMENTAL AND PREMOTOR CORT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E THE DESIGN OF THE MOVEMENT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HERSAL OF MOVEMENTS AS W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STERIOR PARIETAL CORTEX INTEGRATES SENSORY STIMULI FOR PURPOSEFUL MOV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S BOTH SOMATIC AND VISUAL SENSORY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MITS IT TO SUPPLIMENTAL AND PREMOTOR 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TICAL AREAS INVOVED IN MOT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0" name="motctx" descr=""/>
          <p:cNvPicPr/>
          <p:nvPr/>
        </p:nvPicPr>
        <p:blipFill>
          <a:blip r:embed="rId1"/>
          <a:srcRect l="0" t="0" r="0" b="22722"/>
          <a:stretch/>
        </p:blipFill>
        <p:spPr>
          <a:xfrm>
            <a:off x="838080" y="1819440"/>
            <a:ext cx="769644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CEREBELLUM AND BASAL GANGLIA COORDINATE MOVEMEN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EREBELLUM IS INVOLVED IN PLANNING, COORDINATION, AND POS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ERIOR AND POSTERIOR LOBES INVOLVED IN LIMB M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CCULONODULAR LOBE IS INVOLVED IN EQUILIBRIUM AND POS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brainslce" descr=""/>
          <p:cNvPicPr/>
          <p:nvPr/>
        </p:nvPicPr>
        <p:blipFill>
          <a:blip r:embed="rId1"/>
          <a:stretch/>
        </p:blipFill>
        <p:spPr>
          <a:xfrm>
            <a:off x="0" y="-1981080"/>
            <a:ext cx="9144000" cy="88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THE CEREBELL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OF A M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OF POSTURE AND EQUILIBR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OF SMOOTH LIMB M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TYPES AND CIRCUITS IN THE CEREBELL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229280" y="308628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30862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838080" y="1600200"/>
          <a:ext cx="708660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600200"/>
                    <a:ext cx="7086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RKINJE CELLS ARE THE MOST PROMINENT OF ALL THE CEREBELLAR CELL TYP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INPUTS: CLIMBING FIBERS (FROM OLIVARY NUCLEUS) AND PARALLEL FIBERS FROM GRANULE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 VARIES ACORDING TO INPUT: CLIMING FIBERS LEAD TO COMPLEX PATTERNS WHILE PARALLEL FIBERS GENERATE SIMPLE PATTER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AIN STEM CENTERS FOR MOT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6463080" y="28576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0560" y="2705040"/>
            <a:ext cx="153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I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7200" y="4000680"/>
            <a:ext cx="16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MED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STIB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CL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3505320"/>
            <a:ext cx="163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L RETICULAR 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891400">
            <a:off x="3866760" y="3676320"/>
            <a:ext cx="1371600" cy="133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5715000"/>
            <a:ext cx="9144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809520" y="44956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52880" y="464832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1752480"/>
            <a:ext cx="5335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048120" y="17524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17524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14720" y="1582560"/>
            <a:ext cx="849240" cy="1249560"/>
          </a:xfrm>
          <a:custGeom>
            <a:avLst/>
            <a:gdLst/>
            <a:ahLst/>
            <a:rect l="l" t="t" r="r" b="b"/>
            <a:pathLst>
              <a:path w="535" h="787">
                <a:moveTo>
                  <a:pt x="535" y="754"/>
                </a:moveTo>
                <a:cubicBezTo>
                  <a:pt x="508" y="763"/>
                  <a:pt x="497" y="778"/>
                  <a:pt x="470" y="787"/>
                </a:cubicBezTo>
                <a:cubicBezTo>
                  <a:pt x="413" y="783"/>
                  <a:pt x="324" y="781"/>
                  <a:pt x="267" y="762"/>
                </a:cubicBezTo>
                <a:cubicBezTo>
                  <a:pt x="251" y="757"/>
                  <a:pt x="235" y="751"/>
                  <a:pt x="219" y="746"/>
                </a:cubicBezTo>
                <a:cubicBezTo>
                  <a:pt x="211" y="743"/>
                  <a:pt x="194" y="738"/>
                  <a:pt x="194" y="738"/>
                </a:cubicBezTo>
                <a:cubicBezTo>
                  <a:pt x="119" y="688"/>
                  <a:pt x="245" y="769"/>
                  <a:pt x="121" y="706"/>
                </a:cubicBezTo>
                <a:cubicBezTo>
                  <a:pt x="86" y="688"/>
                  <a:pt x="84" y="636"/>
                  <a:pt x="56" y="608"/>
                </a:cubicBezTo>
                <a:cubicBezTo>
                  <a:pt x="21" y="502"/>
                  <a:pt x="43" y="539"/>
                  <a:pt x="8" y="487"/>
                </a:cubicBezTo>
                <a:cubicBezTo>
                  <a:pt x="5" y="476"/>
                  <a:pt x="0" y="465"/>
                  <a:pt x="0" y="454"/>
                </a:cubicBezTo>
                <a:cubicBezTo>
                  <a:pt x="0" y="442"/>
                  <a:pt x="24" y="375"/>
                  <a:pt x="24" y="373"/>
                </a:cubicBezTo>
                <a:cubicBezTo>
                  <a:pt x="29" y="341"/>
                  <a:pt x="35" y="308"/>
                  <a:pt x="40" y="276"/>
                </a:cubicBezTo>
                <a:cubicBezTo>
                  <a:pt x="43" y="257"/>
                  <a:pt x="73" y="227"/>
                  <a:pt x="73" y="227"/>
                </a:cubicBezTo>
                <a:cubicBezTo>
                  <a:pt x="88" y="183"/>
                  <a:pt x="104" y="145"/>
                  <a:pt x="113" y="98"/>
                </a:cubicBezTo>
                <a:cubicBezTo>
                  <a:pt x="104" y="61"/>
                  <a:pt x="113" y="39"/>
                  <a:pt x="11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019200" y="1600200"/>
            <a:ext cx="849240" cy="1249200"/>
          </a:xfrm>
          <a:custGeom>
            <a:avLst/>
            <a:gdLst/>
            <a:ahLst/>
            <a:rect l="l" t="t" r="r" b="b"/>
            <a:pathLst>
              <a:path w="535" h="787">
                <a:moveTo>
                  <a:pt x="535" y="754"/>
                </a:moveTo>
                <a:cubicBezTo>
                  <a:pt x="508" y="763"/>
                  <a:pt x="497" y="778"/>
                  <a:pt x="470" y="787"/>
                </a:cubicBezTo>
                <a:cubicBezTo>
                  <a:pt x="413" y="783"/>
                  <a:pt x="324" y="781"/>
                  <a:pt x="267" y="762"/>
                </a:cubicBezTo>
                <a:cubicBezTo>
                  <a:pt x="251" y="757"/>
                  <a:pt x="235" y="751"/>
                  <a:pt x="219" y="746"/>
                </a:cubicBezTo>
                <a:cubicBezTo>
                  <a:pt x="211" y="743"/>
                  <a:pt x="194" y="738"/>
                  <a:pt x="194" y="738"/>
                </a:cubicBezTo>
                <a:cubicBezTo>
                  <a:pt x="119" y="688"/>
                  <a:pt x="245" y="769"/>
                  <a:pt x="121" y="706"/>
                </a:cubicBezTo>
                <a:cubicBezTo>
                  <a:pt x="86" y="688"/>
                  <a:pt x="84" y="636"/>
                  <a:pt x="56" y="608"/>
                </a:cubicBezTo>
                <a:cubicBezTo>
                  <a:pt x="21" y="502"/>
                  <a:pt x="43" y="539"/>
                  <a:pt x="8" y="487"/>
                </a:cubicBezTo>
                <a:cubicBezTo>
                  <a:pt x="5" y="476"/>
                  <a:pt x="0" y="465"/>
                  <a:pt x="0" y="454"/>
                </a:cubicBezTo>
                <a:cubicBezTo>
                  <a:pt x="0" y="442"/>
                  <a:pt x="24" y="375"/>
                  <a:pt x="24" y="373"/>
                </a:cubicBezTo>
                <a:cubicBezTo>
                  <a:pt x="29" y="341"/>
                  <a:pt x="35" y="308"/>
                  <a:pt x="40" y="276"/>
                </a:cubicBezTo>
                <a:cubicBezTo>
                  <a:pt x="43" y="257"/>
                  <a:pt x="73" y="227"/>
                  <a:pt x="73" y="227"/>
                </a:cubicBezTo>
                <a:cubicBezTo>
                  <a:pt x="88" y="183"/>
                  <a:pt x="104" y="145"/>
                  <a:pt x="113" y="98"/>
                </a:cubicBezTo>
                <a:cubicBezTo>
                  <a:pt x="104" y="61"/>
                  <a:pt x="113" y="39"/>
                  <a:pt x="11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505320"/>
            <a:ext cx="4572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3352680"/>
            <a:ext cx="4572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416400">
            <a:off x="3580920" y="3047760"/>
            <a:ext cx="1005120" cy="309600"/>
          </a:xfrm>
          <a:custGeom>
            <a:avLst/>
            <a:gdLst/>
            <a:ahLst/>
            <a:rect l="l" t="t" r="r" b="b"/>
            <a:pathLst>
              <a:path w="633" h="195">
                <a:moveTo>
                  <a:pt x="0" y="195"/>
                </a:moveTo>
                <a:cubicBezTo>
                  <a:pt x="33" y="163"/>
                  <a:pt x="78" y="151"/>
                  <a:pt x="122" y="138"/>
                </a:cubicBezTo>
                <a:cubicBezTo>
                  <a:pt x="213" y="111"/>
                  <a:pt x="304" y="77"/>
                  <a:pt x="398" y="65"/>
                </a:cubicBezTo>
                <a:cubicBezTo>
                  <a:pt x="478" y="38"/>
                  <a:pt x="546" y="0"/>
                  <a:pt x="63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rot="110400">
            <a:off x="4495680" y="3122280"/>
            <a:ext cx="1081080" cy="385560"/>
          </a:xfrm>
          <a:custGeom>
            <a:avLst/>
            <a:gdLst/>
            <a:ahLst/>
            <a:rect l="l" t="t" r="r" b="b"/>
            <a:pathLst>
              <a:path w="633" h="195">
                <a:moveTo>
                  <a:pt x="0" y="195"/>
                </a:moveTo>
                <a:cubicBezTo>
                  <a:pt x="33" y="163"/>
                  <a:pt x="78" y="151"/>
                  <a:pt x="122" y="138"/>
                </a:cubicBezTo>
                <a:cubicBezTo>
                  <a:pt x="213" y="111"/>
                  <a:pt x="304" y="77"/>
                  <a:pt x="398" y="65"/>
                </a:cubicBezTo>
                <a:cubicBezTo>
                  <a:pt x="478" y="38"/>
                  <a:pt x="546" y="0"/>
                  <a:pt x="63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971800" y="2819520"/>
            <a:ext cx="914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105520" y="2895120"/>
            <a:ext cx="9144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66520" y="2819160"/>
            <a:ext cx="83844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36240" y="2859840"/>
            <a:ext cx="643320" cy="7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495680" y="1600200"/>
            <a:ext cx="76320" cy="4876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057400"/>
            <a:ext cx="380880" cy="533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4191120"/>
            <a:ext cx="30492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4038480"/>
            <a:ext cx="763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267080" y="4038480"/>
            <a:ext cx="7632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2590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560" y="16002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81120" y="19051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029200" y="2742840"/>
            <a:ext cx="1447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419360" y="4267080"/>
            <a:ext cx="198108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3124080"/>
            <a:ext cx="236196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4495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BASAL GANGL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33520" y="1447920"/>
          <a:ext cx="7867440" cy="51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86744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BASAL GANGLIA PLAN MOV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MARY INPUT FROM NEOCORT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INPUTS FROM THE THALAMUS AND SUBSTANTIA NIG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US PALLIDUS PROVIDES 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GNITIVE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AL GANGLIA: AFFERENT CONNE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"/>
          <p:cNvSpPr/>
          <p:nvPr/>
        </p:nvSpPr>
        <p:spPr>
          <a:xfrm>
            <a:off x="2971800" y="1905120"/>
            <a:ext cx="1905120" cy="685800"/>
          </a:xfrm>
          <a:prstGeom prst="rect">
            <a:avLst/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400800" y="2438280"/>
            <a:ext cx="1371600" cy="1371600"/>
          </a:xfrm>
          <a:prstGeom prst="ellipse">
            <a:avLst/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U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3352680"/>
            <a:ext cx="2057400" cy="99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L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581280" y="3429000"/>
            <a:ext cx="2286000" cy="1219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T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352680" y="5181480"/>
            <a:ext cx="2362320" cy="1371600"/>
          </a:xfrm>
          <a:prstGeom prst="rect">
            <a:avLst/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A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9112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4038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4267080" y="4343040"/>
            <a:ext cx="38124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495680" y="3580920"/>
            <a:ext cx="25909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38480" y="2438280"/>
            <a:ext cx="38124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67080" y="2971800"/>
            <a:ext cx="2362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133720" y="4114800"/>
            <a:ext cx="167616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7400" y="3428640"/>
            <a:ext cx="4724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AL GANGLIA: INTRINSIC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"/>
          <p:cNvSpPr/>
          <p:nvPr/>
        </p:nvSpPr>
        <p:spPr>
          <a:xfrm>
            <a:off x="2971800" y="1905120"/>
            <a:ext cx="1905120" cy="685800"/>
          </a:xfrm>
          <a:prstGeom prst="rect">
            <a:avLst/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400800" y="2438280"/>
            <a:ext cx="1371600" cy="1371600"/>
          </a:xfrm>
          <a:prstGeom prst="ellipse">
            <a:avLst/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U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480" y="3352680"/>
            <a:ext cx="2057400" cy="99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L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3429000"/>
            <a:ext cx="2286000" cy="1219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T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52680" y="5181480"/>
            <a:ext cx="2362320" cy="1371600"/>
          </a:xfrm>
          <a:prstGeom prst="rect">
            <a:avLst/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5780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4038120" y="4190760"/>
            <a:ext cx="129564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190760" y="4343400"/>
            <a:ext cx="1143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724280" y="3429000"/>
            <a:ext cx="228600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5257800" y="3429000"/>
            <a:ext cx="18288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57360" y="548640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A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41200" y="457200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LLI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AL GANGLIA: EFFERENT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"/>
          <p:cNvSpPr/>
          <p:nvPr/>
        </p:nvSpPr>
        <p:spPr>
          <a:xfrm>
            <a:off x="6400800" y="2438280"/>
            <a:ext cx="1371600" cy="1371600"/>
          </a:xfrm>
          <a:prstGeom prst="ellipse">
            <a:avLst/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U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3352680"/>
            <a:ext cx="2057400" cy="99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L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81280" y="3429000"/>
            <a:ext cx="2286000" cy="1219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T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352680" y="5181480"/>
            <a:ext cx="2362320" cy="1371600"/>
          </a:xfrm>
          <a:prstGeom prst="rect">
            <a:avLst/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A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09880" y="41911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29200" y="4267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86600" y="3505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1600200" y="4114440"/>
            <a:ext cx="228600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4723920" y="4343400"/>
            <a:ext cx="3812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105160" y="3505320"/>
            <a:ext cx="2057400" cy="1904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11160" y="4381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LLI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AL GANGLIA OUTPUT TO CORTEX VIA THALA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TE DESCENDING COMPONENTS OF THE MOTOR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AL OUTPUTS TO SUBSTANTIA NIGRA USE DOPAMINE AS NEUROTRANSMITTER:  THESE DEGENERATE IN PARKINSON’S DISE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VESTIBULAR APPARATU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CIRCULAR CANALS: HAIR CELLS SENSE MO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COORDINATE PLANES: SUPERIOR, INFERIOR, AND HORIZO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RICLE AND SACCULE DETECT LINEAR ACCELERATION IN HORIZONTAL AND VERTICLE PLA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EASES OF THE MOTOR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PER-MOTOR-NEURON LE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TICOSPINAL TRACT LE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ER MOTOR NEURON LE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REBELLAR LE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PPER-MOTOR-NEURON LE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YSIS ON SIDE OF BODY OPPOSITE LE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MUSCLE T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 OF BIG TOE AND BABINSKI 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K OF MUSCLE ATRO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TICOSPINAL TRACT LE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S OF STRENGTH AND MOVEMENT OF MUSCLE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S OF STRENGTH IN VOLUNTARY MUSCLE CON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BINSKI 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VENTROMEDIAL PATHW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STIBULOSPINAL TRACT:  CARRIES INFORMATION FROM VESTIBULAR NUCLEUS FOR REFLEX CONTROL OF EQUILIBR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TOSPINAL TRACT:  ORIGINATES IN TECTUM FOR CONTROL OF HEAD AND EYE MO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L RETICULOSPINAL TRACT:  ORIGINATES IN RETICULAR FORMATION FOR MAINTAINING POSTURE BY ACTIVATION OF EXTENSO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WER MOTOR NEURON LE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SOLATERAL HYPOACTIVE REFLE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ACID MUSCLES WITH PROMINENT ATRO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REBELLAR LE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SILATERAL DISTURB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RAL LESIONS RESULT IN COORDINATION LO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IONS IN THE VERMIS PRODUCE ATAXIA (LOSS OF COORDINA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CCULONODULAR LOBE LESIONS PRODUCE EQUILIBRIUM DISTURBANCE AND ATAX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THWAYS FROM BRAINSTEM FOR MOTOR CONTROL: VENTROMEDI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 rot="2891400">
            <a:off x="3866760" y="3676320"/>
            <a:ext cx="1371600" cy="133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715000"/>
            <a:ext cx="9144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809520" y="44956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952880" y="464832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1752480"/>
            <a:ext cx="5335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048120" y="17524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17524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14720" y="1582560"/>
            <a:ext cx="849240" cy="1249560"/>
          </a:xfrm>
          <a:custGeom>
            <a:avLst/>
            <a:gdLst/>
            <a:ahLst/>
            <a:rect l="l" t="t" r="r" b="b"/>
            <a:pathLst>
              <a:path w="535" h="787">
                <a:moveTo>
                  <a:pt x="535" y="754"/>
                </a:moveTo>
                <a:cubicBezTo>
                  <a:pt x="508" y="763"/>
                  <a:pt x="497" y="778"/>
                  <a:pt x="470" y="787"/>
                </a:cubicBezTo>
                <a:cubicBezTo>
                  <a:pt x="413" y="783"/>
                  <a:pt x="324" y="781"/>
                  <a:pt x="267" y="762"/>
                </a:cubicBezTo>
                <a:cubicBezTo>
                  <a:pt x="251" y="757"/>
                  <a:pt x="235" y="751"/>
                  <a:pt x="219" y="746"/>
                </a:cubicBezTo>
                <a:cubicBezTo>
                  <a:pt x="211" y="743"/>
                  <a:pt x="194" y="738"/>
                  <a:pt x="194" y="738"/>
                </a:cubicBezTo>
                <a:cubicBezTo>
                  <a:pt x="119" y="688"/>
                  <a:pt x="245" y="769"/>
                  <a:pt x="121" y="706"/>
                </a:cubicBezTo>
                <a:cubicBezTo>
                  <a:pt x="86" y="688"/>
                  <a:pt x="84" y="636"/>
                  <a:pt x="56" y="608"/>
                </a:cubicBezTo>
                <a:cubicBezTo>
                  <a:pt x="21" y="502"/>
                  <a:pt x="43" y="539"/>
                  <a:pt x="8" y="487"/>
                </a:cubicBezTo>
                <a:cubicBezTo>
                  <a:pt x="5" y="476"/>
                  <a:pt x="0" y="465"/>
                  <a:pt x="0" y="454"/>
                </a:cubicBezTo>
                <a:cubicBezTo>
                  <a:pt x="0" y="442"/>
                  <a:pt x="24" y="375"/>
                  <a:pt x="24" y="373"/>
                </a:cubicBezTo>
                <a:cubicBezTo>
                  <a:pt x="29" y="341"/>
                  <a:pt x="35" y="308"/>
                  <a:pt x="40" y="276"/>
                </a:cubicBezTo>
                <a:cubicBezTo>
                  <a:pt x="43" y="257"/>
                  <a:pt x="73" y="227"/>
                  <a:pt x="73" y="227"/>
                </a:cubicBezTo>
                <a:cubicBezTo>
                  <a:pt x="88" y="183"/>
                  <a:pt x="104" y="145"/>
                  <a:pt x="113" y="98"/>
                </a:cubicBezTo>
                <a:cubicBezTo>
                  <a:pt x="104" y="61"/>
                  <a:pt x="113" y="39"/>
                  <a:pt x="11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019200" y="1600200"/>
            <a:ext cx="849240" cy="1249200"/>
          </a:xfrm>
          <a:custGeom>
            <a:avLst/>
            <a:gdLst/>
            <a:ahLst/>
            <a:rect l="l" t="t" r="r" b="b"/>
            <a:pathLst>
              <a:path w="535" h="787">
                <a:moveTo>
                  <a:pt x="535" y="754"/>
                </a:moveTo>
                <a:cubicBezTo>
                  <a:pt x="508" y="763"/>
                  <a:pt x="497" y="778"/>
                  <a:pt x="470" y="787"/>
                </a:cubicBezTo>
                <a:cubicBezTo>
                  <a:pt x="413" y="783"/>
                  <a:pt x="324" y="781"/>
                  <a:pt x="267" y="762"/>
                </a:cubicBezTo>
                <a:cubicBezTo>
                  <a:pt x="251" y="757"/>
                  <a:pt x="235" y="751"/>
                  <a:pt x="219" y="746"/>
                </a:cubicBezTo>
                <a:cubicBezTo>
                  <a:pt x="211" y="743"/>
                  <a:pt x="194" y="738"/>
                  <a:pt x="194" y="738"/>
                </a:cubicBezTo>
                <a:cubicBezTo>
                  <a:pt x="119" y="688"/>
                  <a:pt x="245" y="769"/>
                  <a:pt x="121" y="706"/>
                </a:cubicBezTo>
                <a:cubicBezTo>
                  <a:pt x="86" y="688"/>
                  <a:pt x="84" y="636"/>
                  <a:pt x="56" y="608"/>
                </a:cubicBezTo>
                <a:cubicBezTo>
                  <a:pt x="21" y="502"/>
                  <a:pt x="43" y="539"/>
                  <a:pt x="8" y="487"/>
                </a:cubicBezTo>
                <a:cubicBezTo>
                  <a:pt x="5" y="476"/>
                  <a:pt x="0" y="465"/>
                  <a:pt x="0" y="454"/>
                </a:cubicBezTo>
                <a:cubicBezTo>
                  <a:pt x="0" y="442"/>
                  <a:pt x="24" y="375"/>
                  <a:pt x="24" y="373"/>
                </a:cubicBezTo>
                <a:cubicBezTo>
                  <a:pt x="29" y="341"/>
                  <a:pt x="35" y="308"/>
                  <a:pt x="40" y="276"/>
                </a:cubicBezTo>
                <a:cubicBezTo>
                  <a:pt x="43" y="257"/>
                  <a:pt x="73" y="227"/>
                  <a:pt x="73" y="227"/>
                </a:cubicBezTo>
                <a:cubicBezTo>
                  <a:pt x="88" y="183"/>
                  <a:pt x="104" y="145"/>
                  <a:pt x="113" y="98"/>
                </a:cubicBezTo>
                <a:cubicBezTo>
                  <a:pt x="104" y="61"/>
                  <a:pt x="113" y="39"/>
                  <a:pt x="11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505320"/>
            <a:ext cx="4572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3352680"/>
            <a:ext cx="4572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416400">
            <a:off x="3580920" y="3047760"/>
            <a:ext cx="1005120" cy="309600"/>
          </a:xfrm>
          <a:custGeom>
            <a:avLst/>
            <a:gdLst/>
            <a:ahLst/>
            <a:rect l="l" t="t" r="r" b="b"/>
            <a:pathLst>
              <a:path w="633" h="195">
                <a:moveTo>
                  <a:pt x="0" y="195"/>
                </a:moveTo>
                <a:cubicBezTo>
                  <a:pt x="33" y="163"/>
                  <a:pt x="78" y="151"/>
                  <a:pt x="122" y="138"/>
                </a:cubicBezTo>
                <a:cubicBezTo>
                  <a:pt x="213" y="111"/>
                  <a:pt x="304" y="77"/>
                  <a:pt x="398" y="65"/>
                </a:cubicBezTo>
                <a:cubicBezTo>
                  <a:pt x="478" y="38"/>
                  <a:pt x="546" y="0"/>
                  <a:pt x="63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rot="110400">
            <a:off x="4495680" y="3122280"/>
            <a:ext cx="1081080" cy="385560"/>
          </a:xfrm>
          <a:custGeom>
            <a:avLst/>
            <a:gdLst/>
            <a:ahLst/>
            <a:rect l="l" t="t" r="r" b="b"/>
            <a:pathLst>
              <a:path w="633" h="195">
                <a:moveTo>
                  <a:pt x="0" y="195"/>
                </a:moveTo>
                <a:cubicBezTo>
                  <a:pt x="33" y="163"/>
                  <a:pt x="78" y="151"/>
                  <a:pt x="122" y="138"/>
                </a:cubicBezTo>
                <a:cubicBezTo>
                  <a:pt x="213" y="111"/>
                  <a:pt x="304" y="77"/>
                  <a:pt x="398" y="65"/>
                </a:cubicBezTo>
                <a:cubicBezTo>
                  <a:pt x="478" y="38"/>
                  <a:pt x="546" y="0"/>
                  <a:pt x="63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971800" y="2819520"/>
            <a:ext cx="914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105520" y="2895120"/>
            <a:ext cx="9144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666520" y="2819160"/>
            <a:ext cx="83844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736240" y="2859840"/>
            <a:ext cx="643320" cy="7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495680" y="1600200"/>
            <a:ext cx="76320" cy="4876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2057400"/>
            <a:ext cx="380880" cy="533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4191120"/>
            <a:ext cx="380880" cy="5331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3886200"/>
            <a:ext cx="152280" cy="1295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2600280"/>
            <a:ext cx="803160" cy="4029120"/>
          </a:xfrm>
          <a:custGeom>
            <a:avLst/>
            <a:gdLst/>
            <a:ahLst/>
            <a:rect l="l" t="t" r="r" b="b"/>
            <a:pathLst>
              <a:path w="503" h="2424">
                <a:moveTo>
                  <a:pt x="503" y="0"/>
                </a:moveTo>
                <a:cubicBezTo>
                  <a:pt x="490" y="51"/>
                  <a:pt x="486" y="102"/>
                  <a:pt x="479" y="154"/>
                </a:cubicBezTo>
                <a:cubicBezTo>
                  <a:pt x="477" y="173"/>
                  <a:pt x="490" y="208"/>
                  <a:pt x="471" y="211"/>
                </a:cubicBezTo>
                <a:cubicBezTo>
                  <a:pt x="332" y="235"/>
                  <a:pt x="49" y="227"/>
                  <a:pt x="49" y="227"/>
                </a:cubicBezTo>
                <a:cubicBezTo>
                  <a:pt x="16" y="238"/>
                  <a:pt x="11" y="252"/>
                  <a:pt x="0" y="284"/>
                </a:cubicBezTo>
                <a:cubicBezTo>
                  <a:pt x="27" y="381"/>
                  <a:pt x="15" y="344"/>
                  <a:pt x="33" y="397"/>
                </a:cubicBezTo>
                <a:cubicBezTo>
                  <a:pt x="38" y="448"/>
                  <a:pt x="46" y="499"/>
                  <a:pt x="49" y="551"/>
                </a:cubicBezTo>
                <a:cubicBezTo>
                  <a:pt x="54" y="635"/>
                  <a:pt x="65" y="802"/>
                  <a:pt x="65" y="802"/>
                </a:cubicBezTo>
                <a:cubicBezTo>
                  <a:pt x="52" y="1228"/>
                  <a:pt x="53" y="1623"/>
                  <a:pt x="57" y="2059"/>
                </a:cubicBezTo>
                <a:cubicBezTo>
                  <a:pt x="49" y="2419"/>
                  <a:pt x="49" y="2297"/>
                  <a:pt x="49" y="242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114800" y="4724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724280"/>
            <a:ext cx="0" cy="1600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5181480"/>
            <a:ext cx="7596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6160" y="4305240"/>
            <a:ext cx="152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STIBUL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029200"/>
            <a:ext cx="12956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76560" y="4381560"/>
            <a:ext cx="13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ICUL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571640" y="5181480"/>
            <a:ext cx="12193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43240" y="2781360"/>
            <a:ext cx="99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T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5028840" y="2819160"/>
            <a:ext cx="152388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CATION OF CELL BODIES FOR EXTENSORS AND FLEXOR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2590920"/>
            <a:ext cx="8178840" cy="2945880"/>
            <a:chOff x="380880" y="2590920"/>
            <a:chExt cx="8178840" cy="2945880"/>
          </a:xfrm>
        </p:grpSpPr>
        <p:grpSp>
          <p:nvGrpSpPr>
            <p:cNvPr id="158" name=""/>
            <p:cNvGrpSpPr/>
            <p:nvPr/>
          </p:nvGrpSpPr>
          <p:grpSpPr>
            <a:xfrm>
              <a:off x="380880" y="2590920"/>
              <a:ext cx="8178840" cy="2945880"/>
              <a:chOff x="380880" y="2590920"/>
              <a:chExt cx="8178840" cy="29458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4385520" y="2590920"/>
                <a:ext cx="4174200" cy="2945880"/>
                <a:chOff x="4385520" y="2590920"/>
                <a:chExt cx="4174200" cy="2945880"/>
              </a:xfrm>
            </p:grpSpPr>
            <p:sp>
              <p:nvSpPr>
                <p:cNvPr id="160" name=""/>
                <p:cNvSpPr/>
                <p:nvPr/>
              </p:nvSpPr>
              <p:spPr>
                <a:xfrm flipH="1" rot="5400000">
                  <a:off x="6423120" y="3571200"/>
                  <a:ext cx="698760" cy="770760"/>
                </a:xfrm>
                <a:prstGeom prst="triangle">
                  <a:avLst>
                    <a:gd name="adj" fmla="val 50000"/>
                  </a:avLst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409880" y="3607560"/>
                  <a:ext cx="1149840" cy="54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flipV="1">
                  <a:off x="7409880" y="4076640"/>
                  <a:ext cx="1149840" cy="625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6323760" y="4077000"/>
                  <a:ext cx="1086120" cy="625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6202440" y="2825280"/>
                  <a:ext cx="1185840" cy="770760"/>
                </a:xfrm>
                <a:custGeom>
                  <a:avLst/>
                  <a:gdLst/>
                  <a:ahLst/>
                  <a:rect l="l" t="t" r="r" b="b"/>
                  <a:pathLst>
                    <a:path w="891" h="764">
                      <a:moveTo>
                        <a:pt x="0" y="764"/>
                      </a:moveTo>
                      <a:cubicBezTo>
                        <a:pt x="129" y="720"/>
                        <a:pt x="88" y="759"/>
                        <a:pt x="145" y="673"/>
                      </a:cubicBezTo>
                      <a:cubicBezTo>
                        <a:pt x="157" y="637"/>
                        <a:pt x="161" y="596"/>
                        <a:pt x="182" y="564"/>
                      </a:cubicBezTo>
                      <a:cubicBezTo>
                        <a:pt x="194" y="546"/>
                        <a:pt x="209" y="529"/>
                        <a:pt x="218" y="509"/>
                      </a:cubicBezTo>
                      <a:cubicBezTo>
                        <a:pt x="292" y="347"/>
                        <a:pt x="255" y="341"/>
                        <a:pt x="382" y="182"/>
                      </a:cubicBezTo>
                      <a:cubicBezTo>
                        <a:pt x="435" y="115"/>
                        <a:pt x="563" y="0"/>
                        <a:pt x="563" y="0"/>
                      </a:cubicBezTo>
                      <a:cubicBezTo>
                        <a:pt x="611" y="10"/>
                        <a:pt x="674" y="12"/>
                        <a:pt x="709" y="55"/>
                      </a:cubicBezTo>
                      <a:cubicBezTo>
                        <a:pt x="721" y="70"/>
                        <a:pt x="720" y="91"/>
                        <a:pt x="727" y="109"/>
                      </a:cubicBezTo>
                      <a:cubicBezTo>
                        <a:pt x="762" y="204"/>
                        <a:pt x="796" y="388"/>
                        <a:pt x="891" y="437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4790520" y="2590920"/>
                  <a:ext cx="1422720" cy="649800"/>
                </a:xfrm>
                <a:custGeom>
                  <a:avLst/>
                  <a:gdLst/>
                  <a:ahLst/>
                  <a:rect l="l" t="t" r="r" b="b"/>
                  <a:pathLst>
                    <a:path w="1262" h="255">
                      <a:moveTo>
                        <a:pt x="8" y="255"/>
                      </a:moveTo>
                      <a:cubicBezTo>
                        <a:pt x="78" y="114"/>
                        <a:pt x="0" y="244"/>
                        <a:pt x="117" y="127"/>
                      </a:cubicBezTo>
                      <a:cubicBezTo>
                        <a:pt x="132" y="112"/>
                        <a:pt x="135" y="85"/>
                        <a:pt x="153" y="73"/>
                      </a:cubicBezTo>
                      <a:cubicBezTo>
                        <a:pt x="174" y="59"/>
                        <a:pt x="202" y="62"/>
                        <a:pt x="226" y="55"/>
                      </a:cubicBezTo>
                      <a:cubicBezTo>
                        <a:pt x="263" y="44"/>
                        <a:pt x="299" y="30"/>
                        <a:pt x="335" y="18"/>
                      </a:cubicBezTo>
                      <a:cubicBezTo>
                        <a:pt x="353" y="12"/>
                        <a:pt x="389" y="0"/>
                        <a:pt x="389" y="0"/>
                      </a:cubicBezTo>
                      <a:cubicBezTo>
                        <a:pt x="534" y="47"/>
                        <a:pt x="365" y="0"/>
                        <a:pt x="680" y="0"/>
                      </a:cubicBezTo>
                      <a:cubicBezTo>
                        <a:pt x="814" y="0"/>
                        <a:pt x="946" y="27"/>
                        <a:pt x="1080" y="37"/>
                      </a:cubicBezTo>
                      <a:cubicBezTo>
                        <a:pt x="1137" y="46"/>
                        <a:pt x="1217" y="46"/>
                        <a:pt x="1262" y="91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>
                  <a:off x="4385520" y="4155120"/>
                  <a:ext cx="1938240" cy="1381680"/>
                </a:xfrm>
                <a:custGeom>
                  <a:avLst/>
                  <a:gdLst/>
                  <a:ahLst/>
                  <a:rect l="l" t="t" r="r" b="b"/>
                  <a:pathLst>
                    <a:path w="1456" h="848">
                      <a:moveTo>
                        <a:pt x="0" y="336"/>
                      </a:moveTo>
                      <a:cubicBezTo>
                        <a:pt x="84" y="176"/>
                        <a:pt x="168" y="16"/>
                        <a:pt x="240" y="48"/>
                      </a:cubicBezTo>
                      <a:cubicBezTo>
                        <a:pt x="312" y="80"/>
                        <a:pt x="312" y="400"/>
                        <a:pt x="432" y="528"/>
                      </a:cubicBezTo>
                      <a:cubicBezTo>
                        <a:pt x="552" y="656"/>
                        <a:pt x="800" y="848"/>
                        <a:pt x="960" y="816"/>
                      </a:cubicBezTo>
                      <a:cubicBezTo>
                        <a:pt x="1120" y="784"/>
                        <a:pt x="1328" y="472"/>
                        <a:pt x="1392" y="336"/>
                      </a:cubicBezTo>
                      <a:cubicBezTo>
                        <a:pt x="1456" y="200"/>
                        <a:pt x="1344" y="56"/>
                        <a:pt x="1344" y="0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80880" y="2590920"/>
                <a:ext cx="4173840" cy="2945880"/>
                <a:chOff x="380880" y="2590920"/>
                <a:chExt cx="4173840" cy="2945880"/>
              </a:xfrm>
            </p:grpSpPr>
            <p:sp>
              <p:nvSpPr>
                <p:cNvPr id="168" name=""/>
                <p:cNvSpPr/>
                <p:nvPr/>
              </p:nvSpPr>
              <p:spPr>
                <a:xfrm rot="16200000">
                  <a:off x="1818360" y="3571200"/>
                  <a:ext cx="698760" cy="770760"/>
                </a:xfrm>
                <a:prstGeom prst="triangle">
                  <a:avLst>
                    <a:gd name="adj" fmla="val 50000"/>
                  </a:avLst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380880" y="3607560"/>
                  <a:ext cx="1149840" cy="54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380880" y="4076640"/>
                  <a:ext cx="1149840" cy="625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530720" y="4077000"/>
                  <a:ext cx="1085760" cy="625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552320" y="2825280"/>
                  <a:ext cx="1185840" cy="770760"/>
                </a:xfrm>
                <a:custGeom>
                  <a:avLst/>
                  <a:gdLst/>
                  <a:ahLst/>
                  <a:rect l="l" t="t" r="r" b="b"/>
                  <a:pathLst>
                    <a:path w="891" h="764">
                      <a:moveTo>
                        <a:pt x="0" y="764"/>
                      </a:moveTo>
                      <a:cubicBezTo>
                        <a:pt x="129" y="720"/>
                        <a:pt x="88" y="759"/>
                        <a:pt x="145" y="673"/>
                      </a:cubicBezTo>
                      <a:cubicBezTo>
                        <a:pt x="157" y="637"/>
                        <a:pt x="161" y="596"/>
                        <a:pt x="182" y="564"/>
                      </a:cubicBezTo>
                      <a:cubicBezTo>
                        <a:pt x="194" y="546"/>
                        <a:pt x="209" y="529"/>
                        <a:pt x="218" y="509"/>
                      </a:cubicBezTo>
                      <a:cubicBezTo>
                        <a:pt x="292" y="347"/>
                        <a:pt x="255" y="341"/>
                        <a:pt x="382" y="182"/>
                      </a:cubicBezTo>
                      <a:cubicBezTo>
                        <a:pt x="435" y="115"/>
                        <a:pt x="563" y="0"/>
                        <a:pt x="563" y="0"/>
                      </a:cubicBezTo>
                      <a:cubicBezTo>
                        <a:pt x="611" y="10"/>
                        <a:pt x="674" y="12"/>
                        <a:pt x="709" y="55"/>
                      </a:cubicBezTo>
                      <a:cubicBezTo>
                        <a:pt x="721" y="70"/>
                        <a:pt x="720" y="91"/>
                        <a:pt x="727" y="109"/>
                      </a:cubicBezTo>
                      <a:cubicBezTo>
                        <a:pt x="762" y="204"/>
                        <a:pt x="796" y="388"/>
                        <a:pt x="891" y="437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727360" y="2590920"/>
                  <a:ext cx="1422720" cy="649800"/>
                </a:xfrm>
                <a:custGeom>
                  <a:avLst/>
                  <a:gdLst/>
                  <a:ahLst/>
                  <a:rect l="l" t="t" r="r" b="b"/>
                  <a:pathLst>
                    <a:path w="1262" h="255">
                      <a:moveTo>
                        <a:pt x="8" y="255"/>
                      </a:moveTo>
                      <a:cubicBezTo>
                        <a:pt x="78" y="114"/>
                        <a:pt x="0" y="244"/>
                        <a:pt x="117" y="127"/>
                      </a:cubicBezTo>
                      <a:cubicBezTo>
                        <a:pt x="132" y="112"/>
                        <a:pt x="135" y="85"/>
                        <a:pt x="153" y="73"/>
                      </a:cubicBezTo>
                      <a:cubicBezTo>
                        <a:pt x="174" y="59"/>
                        <a:pt x="202" y="62"/>
                        <a:pt x="226" y="55"/>
                      </a:cubicBezTo>
                      <a:cubicBezTo>
                        <a:pt x="263" y="44"/>
                        <a:pt x="299" y="30"/>
                        <a:pt x="335" y="18"/>
                      </a:cubicBezTo>
                      <a:cubicBezTo>
                        <a:pt x="353" y="12"/>
                        <a:pt x="389" y="0"/>
                        <a:pt x="389" y="0"/>
                      </a:cubicBezTo>
                      <a:cubicBezTo>
                        <a:pt x="534" y="47"/>
                        <a:pt x="365" y="0"/>
                        <a:pt x="680" y="0"/>
                      </a:cubicBezTo>
                      <a:cubicBezTo>
                        <a:pt x="814" y="0"/>
                        <a:pt x="946" y="27"/>
                        <a:pt x="1080" y="37"/>
                      </a:cubicBezTo>
                      <a:cubicBezTo>
                        <a:pt x="1137" y="46"/>
                        <a:pt x="1217" y="46"/>
                        <a:pt x="1262" y="91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616840" y="4155120"/>
                  <a:ext cx="1937880" cy="1381680"/>
                </a:xfrm>
                <a:custGeom>
                  <a:avLst/>
                  <a:gdLst/>
                  <a:ahLst/>
                  <a:rect l="l" t="t" r="r" b="b"/>
                  <a:pathLst>
                    <a:path w="1456" h="848">
                      <a:moveTo>
                        <a:pt x="0" y="336"/>
                      </a:moveTo>
                      <a:cubicBezTo>
                        <a:pt x="84" y="176"/>
                        <a:pt x="168" y="16"/>
                        <a:pt x="240" y="48"/>
                      </a:cubicBezTo>
                      <a:cubicBezTo>
                        <a:pt x="312" y="80"/>
                        <a:pt x="312" y="400"/>
                        <a:pt x="432" y="528"/>
                      </a:cubicBezTo>
                      <a:cubicBezTo>
                        <a:pt x="552" y="656"/>
                        <a:pt x="800" y="848"/>
                        <a:pt x="960" y="816"/>
                      </a:cubicBezTo>
                      <a:cubicBezTo>
                        <a:pt x="1120" y="784"/>
                        <a:pt x="1328" y="472"/>
                        <a:pt x="1392" y="336"/>
                      </a:cubicBezTo>
                      <a:cubicBezTo>
                        <a:pt x="1456" y="200"/>
                        <a:pt x="1344" y="56"/>
                        <a:pt x="1344" y="0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4142520" y="2789280"/>
                <a:ext cx="689760" cy="403200"/>
              </a:xfrm>
              <a:custGeom>
                <a:avLst/>
                <a:gdLst/>
                <a:ahLst/>
                <a:rect l="l" t="t" r="r" b="b"/>
                <a:pathLst>
                  <a:path w="455" h="254">
                    <a:moveTo>
                      <a:pt x="0" y="36"/>
                    </a:moveTo>
                    <a:cubicBezTo>
                      <a:pt x="87" y="123"/>
                      <a:pt x="40" y="98"/>
                      <a:pt x="128" y="127"/>
                    </a:cubicBezTo>
                    <a:cubicBezTo>
                      <a:pt x="140" y="145"/>
                      <a:pt x="150" y="165"/>
                      <a:pt x="164" y="181"/>
                    </a:cubicBezTo>
                    <a:cubicBezTo>
                      <a:pt x="186" y="207"/>
                      <a:pt x="237" y="254"/>
                      <a:pt x="237" y="254"/>
                    </a:cubicBezTo>
                    <a:cubicBezTo>
                      <a:pt x="333" y="222"/>
                      <a:pt x="350" y="159"/>
                      <a:pt x="419" y="90"/>
                    </a:cubicBezTo>
                    <a:cubicBezTo>
                      <a:pt x="439" y="10"/>
                      <a:pt x="420" y="35"/>
                      <a:pt x="455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365640" y="3124440"/>
              <a:ext cx="2256480" cy="1752120"/>
              <a:chOff x="3365640" y="3124440"/>
              <a:chExt cx="2256480" cy="17521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3365640" y="3124440"/>
                <a:ext cx="1383120" cy="1752120"/>
                <a:chOff x="3365640" y="3124440"/>
                <a:chExt cx="1383120" cy="17521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365640" y="3809880"/>
                  <a:ext cx="951120" cy="1066680"/>
                </a:xfrm>
                <a:prstGeom prst="ellipse">
                  <a:avLst/>
                </a:prstGeom>
                <a:solidFill>
                  <a:srgbClr val="5e57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65640" y="3124440"/>
                  <a:ext cx="432360" cy="685440"/>
                </a:xfrm>
                <a:prstGeom prst="ellipse">
                  <a:avLst/>
                </a:prstGeom>
                <a:solidFill>
                  <a:srgbClr val="5e57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452040" y="3429000"/>
                  <a:ext cx="1296720" cy="609120"/>
                </a:xfrm>
                <a:prstGeom prst="ellipse">
                  <a:avLst/>
                </a:prstGeom>
                <a:solidFill>
                  <a:srgbClr val="5e57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239000" y="3124440"/>
                <a:ext cx="1383120" cy="1752120"/>
                <a:chOff x="4239000" y="3124440"/>
                <a:chExt cx="1383120" cy="1752120"/>
              </a:xfrm>
            </p:grpSpPr>
            <p:sp>
              <p:nvSpPr>
                <p:cNvPr id="182" name=""/>
                <p:cNvSpPr/>
                <p:nvPr/>
              </p:nvSpPr>
              <p:spPr>
                <a:xfrm flipH="1">
                  <a:off x="4671000" y="3809880"/>
                  <a:ext cx="951120" cy="1066680"/>
                </a:xfrm>
                <a:prstGeom prst="ellipse">
                  <a:avLst/>
                </a:prstGeom>
                <a:solidFill>
                  <a:srgbClr val="5e57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5189400" y="3124440"/>
                  <a:ext cx="432360" cy="685440"/>
                </a:xfrm>
                <a:prstGeom prst="ellipse">
                  <a:avLst/>
                </a:prstGeom>
                <a:solidFill>
                  <a:srgbClr val="5e57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4239000" y="3429000"/>
                  <a:ext cx="1296720" cy="609120"/>
                </a:xfrm>
                <a:prstGeom prst="ellipse">
                  <a:avLst/>
                </a:prstGeom>
                <a:solidFill>
                  <a:srgbClr val="5e57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5" name=""/>
          <p:cNvSpPr/>
          <p:nvPr/>
        </p:nvSpPr>
        <p:spPr>
          <a:xfrm flipV="1">
            <a:off x="3352680" y="3962520"/>
            <a:ext cx="914400" cy="9144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24280" y="4038480"/>
            <a:ext cx="914400" cy="9144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505320" y="4114800"/>
            <a:ext cx="609480" cy="5335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876920" y="4190400"/>
            <a:ext cx="609480" cy="5331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68840" y="171756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98160" y="583236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2286000"/>
            <a:ext cx="4572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581280" y="5029200"/>
            <a:ext cx="1526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LATERAL RETICULOSPINAL TRA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LATERAL RETICULAR NUCLE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END IN LATERAL REGION OF THE 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THWAYS FROM BRAINSTEM FOR MOTOR CONTROL:LATERAL RETICULOSPINAL TRAC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 rot="2891400">
            <a:off x="3866760" y="3676320"/>
            <a:ext cx="1371600" cy="133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715000"/>
            <a:ext cx="9144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809520" y="44956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952880" y="464832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1752480"/>
            <a:ext cx="5335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048120" y="17524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17524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14720" y="1582560"/>
            <a:ext cx="849240" cy="1249560"/>
          </a:xfrm>
          <a:custGeom>
            <a:avLst/>
            <a:gdLst/>
            <a:ahLst/>
            <a:rect l="l" t="t" r="r" b="b"/>
            <a:pathLst>
              <a:path w="535" h="787">
                <a:moveTo>
                  <a:pt x="535" y="754"/>
                </a:moveTo>
                <a:cubicBezTo>
                  <a:pt x="508" y="763"/>
                  <a:pt x="497" y="778"/>
                  <a:pt x="470" y="787"/>
                </a:cubicBezTo>
                <a:cubicBezTo>
                  <a:pt x="413" y="783"/>
                  <a:pt x="324" y="781"/>
                  <a:pt x="267" y="762"/>
                </a:cubicBezTo>
                <a:cubicBezTo>
                  <a:pt x="251" y="757"/>
                  <a:pt x="235" y="751"/>
                  <a:pt x="219" y="746"/>
                </a:cubicBezTo>
                <a:cubicBezTo>
                  <a:pt x="211" y="743"/>
                  <a:pt x="194" y="738"/>
                  <a:pt x="194" y="738"/>
                </a:cubicBezTo>
                <a:cubicBezTo>
                  <a:pt x="119" y="688"/>
                  <a:pt x="245" y="769"/>
                  <a:pt x="121" y="706"/>
                </a:cubicBezTo>
                <a:cubicBezTo>
                  <a:pt x="86" y="688"/>
                  <a:pt x="84" y="636"/>
                  <a:pt x="56" y="608"/>
                </a:cubicBezTo>
                <a:cubicBezTo>
                  <a:pt x="21" y="502"/>
                  <a:pt x="43" y="539"/>
                  <a:pt x="8" y="487"/>
                </a:cubicBezTo>
                <a:cubicBezTo>
                  <a:pt x="5" y="476"/>
                  <a:pt x="0" y="465"/>
                  <a:pt x="0" y="454"/>
                </a:cubicBezTo>
                <a:cubicBezTo>
                  <a:pt x="0" y="442"/>
                  <a:pt x="24" y="375"/>
                  <a:pt x="24" y="373"/>
                </a:cubicBezTo>
                <a:cubicBezTo>
                  <a:pt x="29" y="341"/>
                  <a:pt x="35" y="308"/>
                  <a:pt x="40" y="276"/>
                </a:cubicBezTo>
                <a:cubicBezTo>
                  <a:pt x="43" y="257"/>
                  <a:pt x="73" y="227"/>
                  <a:pt x="73" y="227"/>
                </a:cubicBezTo>
                <a:cubicBezTo>
                  <a:pt x="88" y="183"/>
                  <a:pt x="104" y="145"/>
                  <a:pt x="113" y="98"/>
                </a:cubicBezTo>
                <a:cubicBezTo>
                  <a:pt x="104" y="61"/>
                  <a:pt x="113" y="39"/>
                  <a:pt x="11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019200" y="1600200"/>
            <a:ext cx="849240" cy="1249200"/>
          </a:xfrm>
          <a:custGeom>
            <a:avLst/>
            <a:gdLst/>
            <a:ahLst/>
            <a:rect l="l" t="t" r="r" b="b"/>
            <a:pathLst>
              <a:path w="535" h="787">
                <a:moveTo>
                  <a:pt x="535" y="754"/>
                </a:moveTo>
                <a:cubicBezTo>
                  <a:pt x="508" y="763"/>
                  <a:pt x="497" y="778"/>
                  <a:pt x="470" y="787"/>
                </a:cubicBezTo>
                <a:cubicBezTo>
                  <a:pt x="413" y="783"/>
                  <a:pt x="324" y="781"/>
                  <a:pt x="267" y="762"/>
                </a:cubicBezTo>
                <a:cubicBezTo>
                  <a:pt x="251" y="757"/>
                  <a:pt x="235" y="751"/>
                  <a:pt x="219" y="746"/>
                </a:cubicBezTo>
                <a:cubicBezTo>
                  <a:pt x="211" y="743"/>
                  <a:pt x="194" y="738"/>
                  <a:pt x="194" y="738"/>
                </a:cubicBezTo>
                <a:cubicBezTo>
                  <a:pt x="119" y="688"/>
                  <a:pt x="245" y="769"/>
                  <a:pt x="121" y="706"/>
                </a:cubicBezTo>
                <a:cubicBezTo>
                  <a:pt x="86" y="688"/>
                  <a:pt x="84" y="636"/>
                  <a:pt x="56" y="608"/>
                </a:cubicBezTo>
                <a:cubicBezTo>
                  <a:pt x="21" y="502"/>
                  <a:pt x="43" y="539"/>
                  <a:pt x="8" y="487"/>
                </a:cubicBezTo>
                <a:cubicBezTo>
                  <a:pt x="5" y="476"/>
                  <a:pt x="0" y="465"/>
                  <a:pt x="0" y="454"/>
                </a:cubicBezTo>
                <a:cubicBezTo>
                  <a:pt x="0" y="442"/>
                  <a:pt x="24" y="375"/>
                  <a:pt x="24" y="373"/>
                </a:cubicBezTo>
                <a:cubicBezTo>
                  <a:pt x="29" y="341"/>
                  <a:pt x="35" y="308"/>
                  <a:pt x="40" y="276"/>
                </a:cubicBezTo>
                <a:cubicBezTo>
                  <a:pt x="43" y="257"/>
                  <a:pt x="73" y="227"/>
                  <a:pt x="73" y="227"/>
                </a:cubicBezTo>
                <a:cubicBezTo>
                  <a:pt x="88" y="183"/>
                  <a:pt x="104" y="145"/>
                  <a:pt x="113" y="98"/>
                </a:cubicBezTo>
                <a:cubicBezTo>
                  <a:pt x="104" y="61"/>
                  <a:pt x="113" y="39"/>
                  <a:pt x="11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4120" y="3505320"/>
            <a:ext cx="4572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3352680"/>
            <a:ext cx="4572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416400">
            <a:off x="3580920" y="3047760"/>
            <a:ext cx="1005120" cy="309600"/>
          </a:xfrm>
          <a:custGeom>
            <a:avLst/>
            <a:gdLst/>
            <a:ahLst/>
            <a:rect l="l" t="t" r="r" b="b"/>
            <a:pathLst>
              <a:path w="633" h="195">
                <a:moveTo>
                  <a:pt x="0" y="195"/>
                </a:moveTo>
                <a:cubicBezTo>
                  <a:pt x="33" y="163"/>
                  <a:pt x="78" y="151"/>
                  <a:pt x="122" y="138"/>
                </a:cubicBezTo>
                <a:cubicBezTo>
                  <a:pt x="213" y="111"/>
                  <a:pt x="304" y="77"/>
                  <a:pt x="398" y="65"/>
                </a:cubicBezTo>
                <a:cubicBezTo>
                  <a:pt x="478" y="38"/>
                  <a:pt x="546" y="0"/>
                  <a:pt x="63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rot="110400">
            <a:off x="4495680" y="3122280"/>
            <a:ext cx="1081080" cy="385560"/>
          </a:xfrm>
          <a:custGeom>
            <a:avLst/>
            <a:gdLst/>
            <a:ahLst/>
            <a:rect l="l" t="t" r="r" b="b"/>
            <a:pathLst>
              <a:path w="633" h="195">
                <a:moveTo>
                  <a:pt x="0" y="195"/>
                </a:moveTo>
                <a:cubicBezTo>
                  <a:pt x="33" y="163"/>
                  <a:pt x="78" y="151"/>
                  <a:pt x="122" y="138"/>
                </a:cubicBezTo>
                <a:cubicBezTo>
                  <a:pt x="213" y="111"/>
                  <a:pt x="304" y="77"/>
                  <a:pt x="398" y="65"/>
                </a:cubicBezTo>
                <a:cubicBezTo>
                  <a:pt x="478" y="38"/>
                  <a:pt x="546" y="0"/>
                  <a:pt x="63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971800" y="2819520"/>
            <a:ext cx="914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105520" y="2895120"/>
            <a:ext cx="9144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2666520" y="2819160"/>
            <a:ext cx="83844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736240" y="2859840"/>
            <a:ext cx="643320" cy="7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495680" y="1600200"/>
            <a:ext cx="76320" cy="4876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3733920"/>
            <a:ext cx="76320" cy="129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5029200"/>
            <a:ext cx="0" cy="144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63200" y="4537080"/>
            <a:ext cx="178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ICUL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RUBROSPINAL TRACT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BERS ORIGINATE IN RED NUCLE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END ALONG DORSAL AND LATERAL BORDERS OF CO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NERVATE DISTAL FLEXOR MUSC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3T14:12:34Z</dcterms:created>
  <dc:creator>D. C. Mikule</dc:creator>
  <dc:description/>
  <dc:language>en-US</dc:language>
  <cp:lastModifiedBy>Don Mikulecky</cp:lastModifiedBy>
  <dcterms:modified xsi:type="dcterms:W3CDTF">2000-01-04T19:26:32Z</dcterms:modified>
  <cp:revision>2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views.vcu.edu/~mikuleck/</vt:lpwstr>
  </property>
  <property fmtid="{D5CDD505-2E9C-101B-9397-08002B2CF9AE}" pid="9" name="LinkColor">
    <vt:r8>16711782</vt:r8>
  </property>
  <property fmtid="{D5CDD505-2E9C-101B-9397-08002B2CF9AE}" pid="10" name="MailAddress">
    <vt:lpwstr>mikuleck@hsc.vcu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\MyDocsI\DENT\htmlpresentation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