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169-5646-4631-9764-77B9854F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28F-202F-477F-96F1-4D1E5742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5D6-3B50-4527-8554-309AFE93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2A6-8921-44D3-B46B-F31C3364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62C6-33D4-402A-A167-ACAFC151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7E2C-EB25-4943-A1C3-0DCF8A85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D8DE-B154-4AA8-BA94-C403087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21D-E676-4334-A3AB-8B61FFA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0089-ACBD-40C1-B010-38F4AE5B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8A51-2CF9-48C2-B247-1C4FB23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ABB-A575-4B0F-B2E0-065BDE8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19D-17FD-4955-A4EF-DDD5BD3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E5AC-A985-4998-AFE1-457A0D5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9158-7B56-40E5-8034-1FFCFF0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EDAE-9657-4B85-80F9-846E4C6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611-AEA0-4E94-BF9E-A49687DC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2E4-B772-4732-9DD9-E7379FB7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9F4-CAC8-41B1-8EB8-362A61AA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DE1-F61C-4403-8B5C-814F36E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078-460A-4930-9A18-CD30AB4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000-8792-4159-97C2-27593F5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AA3-3B4D-421F-997E-277D8BC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4E9-8B05-4A8E-9F8E-CAA90849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0B4-F15B-4D56-96D6-CF310E4F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19F9-0318-4956-93B6-DB49CA1CF3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ADAB-7866-4765-8C74-08E5279FD2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9900"/>
                </a:solidFill>
                <a:latin typeface="Garamond"/>
              </a:rPr>
              <a:t>Myeloproliferative  Lymphoproliferative &amp; Immunoproliferative disorder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Garamond"/>
              </a:rPr>
              <a:t>Waldenstrom’s Macroglobulinem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cytoid lymph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ssive Ig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R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pheresis relieves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lymphoma-l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9900"/>
                </a:solidFill>
                <a:latin typeface="Garamond"/>
              </a:rPr>
              <a:t>Myeloproliferative Disorders (MP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cellular marrow with increased quantities of one or more cellular lineages (RBC, WBC, Pl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ominantly middle-aged or 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idious onset, often asympto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medullary hematopoiesis, primarily in the spl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M fibroblastic prolif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morrhagic and thrombotic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9900"/>
                </a:solidFill>
                <a:latin typeface="Garamond"/>
              </a:rPr>
              <a:t>Examples of MP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Myelogenous Leukemia (C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cythemia Vera (P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sential Thrombocytosis (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nogenic Myeloid Metaplas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M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Lymphoproliferative Disorder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: Malignant proliferation and accumulation in BM and PB of relatively mature cells of the lymphoid line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onic Lymphocytic Leukemia (C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lymphocytic Leukemia (P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iry Cell Leukemia (HC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zary Syndr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Other Leukemia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sma cell leukemia: patients with near end-stage multiple myel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iry cell leuk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zary syndrome: malignant T lymph lymphoma with circulating phase of mycosis fungoides. Skin manifestations s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Immunoproliferative Disorder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 spectrum of conditions from benign to malignant involving immunoglobulin producing lymphocytic and plasmacytic cells (B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lonal when they are produced by cells derived from a single clone: eg.M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clonal :as in the normal antibody reaction to infection (a broad spectrum of globul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9900"/>
                </a:solidFill>
                <a:latin typeface="Garamond"/>
              </a:rPr>
              <a:t>MONOCLONAL GAMMOPATHIES ( PARAPROTEINAEMIAS 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est are the types of myelomat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M type is referred to as macroglobulina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Plasma Cell Dyscrasias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clonal gammopathy: increase in different types of immunoglobul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clonal gammopathy: production of a single type of immunoglobul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ce Jones protein present in u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leaux seen on peripheral blood sm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visco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49568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9900"/>
                </a:solidFill>
                <a:latin typeface="Garamond"/>
              </a:rPr>
              <a:t>Multiple Myeloma  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7:18:42Z</dcterms:created>
  <dc:creator>Authorized User</dc:creator>
  <dc:description/>
  <dc:language>en-US</dc:language>
  <cp:lastModifiedBy>Dr.abdel-hamid</cp:lastModifiedBy>
  <cp:lastPrinted>1998-10-21T15:48:00Z</cp:lastPrinted>
  <dcterms:modified xsi:type="dcterms:W3CDTF">2006-10-22T04:47:38Z</dcterms:modified>
  <cp:revision>14</cp:revision>
  <dc:subject/>
  <dc:title>Myeloproliferative Disorders (MPD)</dc:title>
</cp:coreProperties>
</file>