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324-F346-4EF5-A5C6-C5F94595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BD0-15A0-4149-9068-F4F07F51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31F-6D78-4D22-8B1E-2EAF3E7B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80B-9219-47CF-8A82-2A7F05B9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3C0-6764-4181-974C-1E8F5717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D43-0E34-4849-97F1-96D5D5EF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D1AA-D3D5-4F1D-A398-CFB0949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675B-A674-4088-B2A9-5F7DD00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0236-8C29-4A98-BB4B-049F8A1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F6F2-67B0-4945-9E4B-0857A209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7C56-BB0B-475F-8D1C-9134C39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F7C-5B7D-4802-AB17-8122DBB0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775-191E-487A-8502-90FE8CA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EF0C-6DE3-47DD-91DB-6462E4A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4EC-7D13-4413-8BC4-5EB0DFA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8800-8BEA-41B2-94C6-CF494802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5BB-7DE0-4163-9E17-55DE5BB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AB9-981D-4F2F-BCA9-62FF846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1AE-D48D-4977-AFEC-D2718B0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583-50A2-4F32-A54A-66BB9FCF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C60-FCFF-4547-948A-0439EEA0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B38-B873-4579-BFC5-BF0B160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D96-39D9-401D-A1EA-8866C91C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2FC-FAD1-4453-8364-B30C321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2FB-E1C1-4F49-A0E3-5FFF0BA1BE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A9A-A5C0-4956-A872-956B3566A1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9900"/>
                </a:solidFill>
                <a:latin typeface="Garamond"/>
              </a:rPr>
              <a:t>Myeloproliferative  Lymphoproliferative &amp; Immunoproliferative disorder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Garamond"/>
              </a:rPr>
              <a:t>Waldenstrom’s Macroglobulinem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smacytoid lymphoc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ssive Ig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R in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smapheresis relieves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lymphoma-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9900"/>
                </a:solidFill>
                <a:latin typeface="Garamond"/>
              </a:rPr>
              <a:t>Myeloproliferative Disorders (MP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cellular marrow with increased quantities of one or more cellular lineages (RBC, WBC, Pl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ominantly middle-aged or o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idious onset, often asympto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medullary hematopoiesis, primarily in the spl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M fibroblastic prolif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morrhagic and thrombotic com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Garamond"/>
              </a:rPr>
              <a:t>Examples of MP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Myelogenous Leukemia (C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cythemia Vera (P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sential Thrombocytosis (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nogenic Myeloid Metaplas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M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Lymphoproliferative Disorder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: Malignant proliferation and accumulation in BM and PB of relatively mature cells of the lymphoid line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onic Lymphocytic Leukemia (C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lymphocytic Leukemia (P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iry Cell Leukemia (HC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zary Syndr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Other Leukemia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sma cell leukemia: patients with near end-stage multiple myel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iry cell leuk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zary syndrome: malignant T lymph lymphoma with circulating phase of mycosis fungoides. Skin manifestations s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Immunoproliferative Disorder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 spectrum of conditions from benign to malignant involving immunoglobulin producing lymphocytic and plasmacytic cells (B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lonal when they are produced by cells derived from a single clone: eg.M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clonal :as in the normal antibody reaction to infection (a broad spectrum of globul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9900"/>
                </a:solidFill>
                <a:latin typeface="Garamond"/>
              </a:rPr>
              <a:t>MONOCLONAL GAMMOPATHIES ( PARAPROTEINAEMIAS 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est are the types of myeloma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M type is referred to as macroglobulina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Plasma Cell Dyscrasia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clonal gammopathy: increase in different types of immunoglobul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clonal gammopathy: production of a single type of immunoglobul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ce Jones protein present in u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leaux seen on peripheral blood sm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visco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49568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Multiple Myeloma  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7:18:42Z</dcterms:created>
  <dc:creator>Authorized User</dc:creator>
  <dc:description/>
  <dc:language>en-US</dc:language>
  <cp:lastModifiedBy>Dr.abdel-hamid</cp:lastModifiedBy>
  <cp:lastPrinted>1998-10-21T15:48:00Z</cp:lastPrinted>
  <dcterms:modified xsi:type="dcterms:W3CDTF">2006-10-22T04:47:38Z</dcterms:modified>
  <cp:revision>14</cp:revision>
  <dc:subject/>
  <dc:title>Myeloproliferative Disorders (MPD)</dc:title>
</cp:coreProperties>
</file>