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5591-818F-42D3-9D08-AF9AFC79BCA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عنصر نائب لرقم الشريحة 4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4D36-5B17-469C-BCA0-6A704EEEDD9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عنصر نائب للتذييل 7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عنصر نائب لرقم الشريحة 4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E676-DC47-4DBC-80FC-0AE4014C861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عنصر نائب للتذييل 7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7949-26B4-4492-A77F-15147FBA9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4B99-C2FF-4C00-861D-53BA862A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2893-B6A6-40FF-9791-05B9DCC9C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33D6-683F-4707-A75C-DC875C7A9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68F2-591A-45E5-A5D9-49790D35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A143-38E1-4EF0-B9AD-DAD1B3E3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6B67-024C-4E54-B468-B61BB3D8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E8C1-649C-4478-B800-BBC17F0D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81AA-F9E9-472F-887F-25FD522C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85AD-C2D4-4C18-A669-87598A35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15F0-65C6-4658-923A-4C5AE9DC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63F1-C2A8-4E4E-87E2-554CA7DB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170F-FCC6-4470-BBA5-E4E2A3016E9A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ar-SA" sz="6000" spc="-1" strike="noStrike">
                <a:solidFill>
                  <a:srgbClr val="604a7b"/>
                </a:solidFill>
                <a:latin typeface="Arial"/>
              </a:rPr>
              <a:t>شرائح تدريسية من كتاب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604a7b"/>
                </a:solidFill>
                <a:latin typeface="Arial"/>
              </a:rPr>
              <a:t>     السلوك التنظيمي </a:t>
            </a: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1f497d"/>
                </a:solidFill>
                <a:latin typeface="Arial"/>
              </a:rPr>
              <a:t>     </a:t>
            </a:r>
            <a:r>
              <a:rPr b="1" lang="ar-SA" sz="6600" spc="-1" strike="noStrike">
                <a:solidFill>
                  <a:srgbClr val="003300"/>
                </a:solidFill>
                <a:latin typeface="Arial"/>
              </a:rPr>
              <a:t>(مدخل بناء المهارات)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3300"/>
                </a:solidFill>
                <a:latin typeface="Arial"/>
              </a:rPr>
              <a:t>    د.أحمد ماهر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1f497d"/>
                </a:solidFill>
                <a:latin typeface="Arial"/>
              </a:rPr>
              <a:t>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عنصر نائب لرقم الشريحة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3F75-A80D-4901-A5A8-4219D6C980A6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ar-SA" sz="4800" spc="-1" strike="noStrike" u="sng">
                <a:solidFill>
                  <a:srgbClr val="000000"/>
                </a:solidFill>
                <a:uFillTx/>
                <a:latin typeface="Arial"/>
              </a:rPr>
              <a:t>- التطور التاريخي لدراسة السلوك التنظيمي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يحاول الإنسان منذ الأزل أن يقدم تفسير للسلوك الانسان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الأديان السماوية قدمت لنا نظريات متكاملة للسلوك الانسان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لم توضع في قالب متكامل يخدم العمل الإداري والمدري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التطور العلمي لم يبدأ إلا في بداية القرن العشر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- ميكيافيل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عدم الثقة والشك ولابد من القسوة والخداع أو أي وسيلة أخر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المبدأ الأساسي ”الغاية تبرر الوسيلة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هل بعض المدريين كذلك؟؟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هل بعض المنظمات كذلك؟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0E62-A7E5-4128-8BE6-FABA2B5F2659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ar-SA" sz="4800" spc="-1" strike="noStrike" u="sng">
                <a:solidFill>
                  <a:srgbClr val="000000"/>
                </a:solidFill>
                <a:uFillTx/>
                <a:latin typeface="Arial"/>
              </a:rPr>
              <a:t>- النظرية الكلاسيكي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800080"/>
                </a:solidFill>
                <a:uFillTx/>
                <a:latin typeface="Arial"/>
              </a:rPr>
              <a:t>فرضيات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ar-SA" sz="3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الأفراد</a:t>
            </a:r>
            <a:r>
              <a:rPr b="1" lang="ar-SA" sz="3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كسالى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غير قادرين على تنظيم وتخطيط العمل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غير عقلانيين وانفعالين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غير قادرين على أداء العمل بصورة  سليمة وفعا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800080"/>
                </a:solidFill>
                <a:uFillTx/>
                <a:latin typeface="Arial"/>
              </a:rPr>
              <a:t>فلابد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فرض نموذج عقلاني ورشيد وقوي على العامل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(سيطرة وتحكم على السلو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F3F7-A4BE-417E-9431-39318453FB44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3300"/>
                </a:solidFill>
                <a:uFillTx/>
                <a:latin typeface="Arial"/>
              </a:rPr>
              <a:t>اولا :</a:t>
            </a:r>
            <a:r>
              <a:rPr b="1" lang="ar-SA" sz="5400" spc="-1" strike="noStrike" u="sng">
                <a:solidFill>
                  <a:srgbClr val="000000"/>
                </a:solidFill>
                <a:uFillTx/>
                <a:latin typeface="Arial"/>
              </a:rPr>
              <a:t> نموذج الإدارة العلمي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أشهر روادها فردريك تايلور,فرانك وليليان جيلبرث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يمكن السيطرة على سلوك الأفراد داخل أعمالهم من خلال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تصميم مثالي للوظائف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حوافز أجرية (مالية)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 تصميم طريقة واحدة ومثال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003300"/>
                </a:solidFill>
                <a:uFillTx/>
                <a:latin typeface="Arial"/>
              </a:rPr>
              <a:t>أهم مبادئها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يجب تجزئة الوظيفة لمهام صغيرة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يجب اختيار الفرد بطريقة تناسب العمل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يجب تنظيم العمل في المنظمة بين الإدارة والعمال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يجب تقديم الحوافز المادية عن طريق الأجو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دراسة الحركة والوق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9882-4F77-4BC0-9A66-677DA64923AB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 u="sng">
                <a:solidFill>
                  <a:srgbClr val="003300"/>
                </a:solidFill>
                <a:uFillTx/>
                <a:latin typeface="Arial"/>
              </a:rPr>
              <a:t>ثانياً :</a:t>
            </a:r>
            <a:r>
              <a:rPr b="1" lang="ar-SA" sz="5400" spc="-1" strike="noStrike" u="sng">
                <a:solidFill>
                  <a:srgbClr val="000000"/>
                </a:solidFill>
                <a:uFillTx/>
                <a:latin typeface="Arial"/>
              </a:rPr>
              <a:t> نموذج العملية الاداري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يمكن السيطرة على السلوك الإنساني من خلال العمل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الإدارية والقواعد والأم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 u="sng">
                <a:solidFill>
                  <a:srgbClr val="003300"/>
                </a:solidFill>
                <a:uFillTx/>
                <a:latin typeface="Arial"/>
              </a:rPr>
              <a:t>أشهر الرواد هنري فايو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قسم العملية الإدارية إلى خمسة انشط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التخطي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التنظي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الأم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التنسي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الرقاب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003E-4A77-46A5-8858-E36273727CA1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قدم</a:t>
            </a:r>
            <a:r>
              <a:rPr b="1" lang="ar-SA" sz="9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14</a:t>
            </a:r>
            <a:r>
              <a:rPr b="1" lang="ar-SA" sz="1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مبدأ يمكن  من خلال الاضطلاع بانشطةالادارة على خير وج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تقسيم العمل والتخص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السلطة والمسئو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الضبط والرب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وحدة الامر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وحدة الهد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اولوية المصالح العامة على المصالح الشخص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عوائد العامل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المركز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التسلسل الرئاس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النظ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11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العدا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12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استقرار العما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13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المباد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14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تنمية روح الجماع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773F-55D5-4F44-9AD2-7D1933D72342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 u="sng">
                <a:solidFill>
                  <a:srgbClr val="003300"/>
                </a:solidFill>
                <a:uFillTx/>
                <a:latin typeface="Arial"/>
              </a:rPr>
              <a:t>ثالثاً : </a:t>
            </a:r>
            <a:r>
              <a:rPr b="1" lang="ar-SA" sz="5400" spc="-1" strike="noStrike" u="sng">
                <a:solidFill>
                  <a:srgbClr val="000000"/>
                </a:solidFill>
                <a:uFillTx/>
                <a:latin typeface="Arial"/>
              </a:rPr>
              <a:t>النموذج البيروقراطي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Arial"/>
              </a:rPr>
              <a:t>يعتبر ماكس ويبر أكثر العلماء قرباً من الاتجاه البيروقراط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Arial"/>
              </a:rPr>
              <a:t>- بنى نظريته في البيروقراطية على المبادئ الاتيه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التخصص والتقسيم العمل .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التسلسل الرئاسي . 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نظام القواعد .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نظام الاجراءات . 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نظام من العلاقات غير الشخصية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نظام اختيار وترقية العاملين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61D0-F872-4F74-BB7F-D458D3DAAD48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000000"/>
                </a:solidFill>
                <a:uFillTx/>
                <a:latin typeface="Arial"/>
              </a:rPr>
              <a:t>أهم العيوب (نتائج سلبية غير متوقعة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تضخم الأعباء الروتينية . 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عدم اعتناء العاملون بصالح المنظمات و اهتمامهم بالإجراء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شعور العاملون بأنهم يعملون كآلات وانتقال نفس الشعور لم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يتعامل معهم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تشابه في السلوك وتوحده .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القضاء على روح المبادرة والابتكار والنمو الشخصي .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3C2A-5955-4BC2-BA7D-8AB0FA9F72CB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835280" y="189000"/>
            <a:ext cx="7129440" cy="72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- نظرية العلاقات الانسانية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النقد إلى الكلاسيكية أدى إلى ظهور اتجاه جديد يهتم بالعلاقات الإنسان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نظرية أن الأنسان مخلوق اجتماعي يسعى الى علاقات أفضل مع الآخر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التعاون وليس التنافس  </a:t>
            </a:r>
            <a:r>
              <a:rPr b="1" lang="ar-SA" sz="3200" spc="-1" strike="noStrike">
                <a:solidFill>
                  <a:srgbClr val="1f497d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9CA5-FF95-4DB5-9EB3-A6BDCD34FD82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Arial"/>
              </a:rPr>
              <a:t>أهم المبادئ: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يتأثر الناس في سلوكهم بالحاجات الاجتماع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يشعر الناس بأهميتهم من خلال علاقتهم الاجتماع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التخصص وتقسيم العمل يفقد الجوانب اجتماع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يتأثر الناس بعلاقتهم الاجتماعية اكثر من التنظيم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على الإدارة أن تأخذ المبادئ الأربعة في الاعتبا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5E35-C0F0-459E-BF88-31A0B7F005A0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1" lang="ar-SA" sz="5400" spc="-1" strike="noStrike" u="sng">
                <a:solidFill>
                  <a:srgbClr val="000000"/>
                </a:solidFill>
                <a:uFillTx/>
                <a:latin typeface="Arial"/>
              </a:rPr>
              <a:t>- نظرية النظام المفتو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- المنظمات ليست ساكنة بل متحركة وتحصل على مواردها من المجتم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من خلال عمليات و أنشطة المنظمة تقوم بتحويل هذه الموارد إلى نتائج يحص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 عليها المجتمع مرة أخرى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ويوضح الشكل التالي هذه الفكرة وهي ما تسمى بالنظام المفتو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6877080" y="3716280"/>
            <a:ext cx="2087640" cy="1657440"/>
          </a:xfrm>
          <a:prstGeom prst="flowChartProcess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المدخ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مثل الموارد الماد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والموارد البش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3492360" y="3716280"/>
            <a:ext cx="2159280" cy="1657440"/>
          </a:xfrm>
          <a:prstGeom prst="flowChartProcess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العملي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مثل الانتا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والتدري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250920" y="3716280"/>
            <a:ext cx="2017440" cy="1584360"/>
          </a:xfrm>
          <a:prstGeom prst="flowChartProcess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مخرجا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مث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المنتجات والادا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والحافز والرض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5796000" y="4221000"/>
            <a:ext cx="792000" cy="432000"/>
          </a:xfrm>
          <a:prstGeom prst="leftArrow">
            <a:avLst>
              <a:gd name="adj1" fmla="val 50000"/>
              <a:gd name="adj2" fmla="val 45833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2411280" y="4221000"/>
            <a:ext cx="792360" cy="432000"/>
          </a:xfrm>
          <a:prstGeom prst="leftArrow">
            <a:avLst>
              <a:gd name="adj1" fmla="val 50000"/>
              <a:gd name="adj2" fmla="val 45854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عنصر نائب لرقم الشريحة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192A-4296-419F-AF78-79CAC8905188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</a:rPr>
              <a:t>الفصل الأو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27AF-0B70-4F20-8CAF-E0B355412386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1" lang="ar-SA" sz="5400" spc="-1" strike="noStrike" u="sng">
                <a:solidFill>
                  <a:srgbClr val="000000"/>
                </a:solidFill>
                <a:uFillTx/>
                <a:latin typeface="Arial"/>
              </a:rPr>
              <a:t>- النظرية الموقفية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السلوك الإنساني يتأثر بالعديد من العناصر الموجودة في الموقف الخا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بهذا السلو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ويوضح الشكل التالي العناصر الخاصة بالموق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5940360" y="2997360"/>
            <a:ext cx="2016360" cy="504720"/>
          </a:xfrm>
          <a:prstGeom prst="flowChartProcess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عناصر في الفر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5940360" y="3789360"/>
            <a:ext cx="2016360" cy="576360"/>
          </a:xfrm>
          <a:prstGeom prst="flowChartProcess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عناصر في الجماع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5940360" y="4653000"/>
            <a:ext cx="2017800" cy="576360"/>
          </a:xfrm>
          <a:prstGeom prst="flowChartProcess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عناصر في المنظم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5940360" y="5516640"/>
            <a:ext cx="2087640" cy="576360"/>
          </a:xfrm>
          <a:prstGeom prst="flowChartProcess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عناصر في البيئ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1042920" y="3645000"/>
            <a:ext cx="1584360" cy="1728720"/>
          </a:xfrm>
          <a:prstGeom prst="flowChartProcess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سلوك النا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داخل المنظم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H="1">
            <a:off x="5292360" y="3213000"/>
            <a:ext cx="6476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 flipH="1">
            <a:off x="5292360" y="4076640"/>
            <a:ext cx="647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2"/>
          <p:cNvSpPr/>
          <p:nvPr/>
        </p:nvSpPr>
        <p:spPr>
          <a:xfrm>
            <a:off x="5292720" y="3213000"/>
            <a:ext cx="0" cy="2592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"/>
          <p:cNvSpPr/>
          <p:nvPr/>
        </p:nvSpPr>
        <p:spPr>
          <a:xfrm flipH="1">
            <a:off x="2916000" y="4508640"/>
            <a:ext cx="2376360" cy="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4"/>
          <p:cNvSpPr/>
          <p:nvPr/>
        </p:nvSpPr>
        <p:spPr>
          <a:xfrm flipH="1">
            <a:off x="5292360" y="4941720"/>
            <a:ext cx="647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5"/>
          <p:cNvSpPr/>
          <p:nvPr/>
        </p:nvSpPr>
        <p:spPr>
          <a:xfrm flipH="1">
            <a:off x="5292360" y="5805360"/>
            <a:ext cx="647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عنصر نائب لرقم الشريحة 1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A3E8-81B3-4E52-9B4B-74ECDDE1B24C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5400" spc="-1" strike="noStrike" u="sng">
                <a:solidFill>
                  <a:srgbClr val="000000"/>
                </a:solidFill>
                <a:uFillTx/>
                <a:latin typeface="Arial"/>
              </a:rPr>
              <a:t>العولمة وأثرها على السلوك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العولمة حقيقة نعيش فيها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شركات اجنبية تعمل في الداخ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شركات داخلية تعمل في الخارج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يجب فهم الاتصال الثقافي(بين الحضارات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العمل تحت قيادة اجنب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العمل بقيادة اجانب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السلوك المختلف في الحضار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التفاوض.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فهم اللغة بانواعها.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ar-SA" sz="5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فهم نمط اتخاذ القرارات.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7856-0143-4C1C-A2DB-B222EA392D92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r>
              <a:rPr b="1" lang="ar-SA" sz="6000" spc="-1" strike="noStrike" u="sng">
                <a:solidFill>
                  <a:srgbClr val="000000"/>
                </a:solidFill>
                <a:uFillTx/>
                <a:latin typeface="Arial"/>
              </a:rPr>
              <a:t>- نظرية العلوم السلوكية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ركزت نظرية العلاقات الإنسانية على الاهتمام بمشاعر الن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بينما ركزت نظرية العلوم السلوكية على إعطاء تفسيرات واقع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3300"/>
                </a:solidFill>
                <a:uFillTx/>
                <a:latin typeface="Arial"/>
              </a:rPr>
              <a:t>أهم الرواد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1f49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كريس ارجير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 دوجلاس ماكجريجو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 رنسيس ليكرت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 ابراهام مازلو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- فردريك هرزبرج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0706-3F42-4481-9BC5-16889590E758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يمكن تجميع أراء هؤلاء المساهمين وتلخيصه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في المبادئ الاتيه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- اختلاف الناس في حاجتهم (مادية- معنوية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- يسعى الناس إلى أن يكونوا ناضجين وناجحين في العم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- يسعى الأفراد إلى أن يكونوا منظمين في العمل.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- يتميز الناس بأن لديهم قدر من الحماس  والدافعية الداخل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- تتضافر عناصر آخرى تؤثر في سلوك الفرد (طريقة الفهم, اسلوب الاتص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بالاخرين, القدرة على القيادة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F0A4-2B30-4260-A120-D13010D87279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يسعى الأفراد لتحقيق تقابل وتماثل بين أهدافه وأهداف المنظمة التي يعمل به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يختلف سلوك الأفراد حسب الموقف الذي يتعرضون له.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يختلف السلوك الفردي والإداري من دولة لآخرى.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إن إعتراف المنظمات بالمبادئ الثمانية السابقة يعني اقتناعها بضرورة وضع ممارس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إدارية تتمشى مع هذه المبادئ.</a:t>
            </a:r>
            <a:r>
              <a:rPr b="1" lang="ar-SA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1f497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3300"/>
                </a:solidFill>
                <a:uFillTx/>
                <a:latin typeface="Arial"/>
              </a:rPr>
              <a:t>”اهتمت بالجوانب السلوكية مع إغفال العمليات الادارية والتنظيمية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69B8-C835-4AB2-A918-67BB1357D500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</a:rPr>
              <a:t>أثر الاتجاهات الحديثة في الادارة على السلوك التنظيمي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Arial"/>
              </a:rPr>
              <a:t>تمثل العولمة أحد الاتجاهات الحديثة في الادارة المؤثرة على السلوك التنظيم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Arial"/>
              </a:rPr>
              <a:t>بالاضافة الى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- التنوع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Diversity</a:t>
            </a: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-ترتيبات جديدة في العم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Arial"/>
              </a:rPr>
              <a:t>الظروف الاقتصادية تؤدي إلى مايل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أ-تقليل العمال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ب-التعاقد مع الغ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ج -العمل من المنز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- أنظمة الجو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إدارة الجودة الشاملة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Total Qu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Arial"/>
              </a:rPr>
              <a:t>الايزو</a:t>
            </a: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ISO</a:t>
            </a: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Arial"/>
              </a:rPr>
              <a:t>إعادة بناء المنظمات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Re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السلوك الاخلاقي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Ethical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582B-97CF-4B3C-AD6B-D8423EE193CF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دور المهارات السلوكية في عمل المدي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3300"/>
                </a:solidFill>
                <a:latin typeface="Arial"/>
              </a:rPr>
              <a:t>ثلاثة مهارات أساسية ومطلوبة لكل مدي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المهارات الفن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المهارات السلوك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المهارات العق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1619280" y="3141720"/>
            <a:ext cx="5400720" cy="1944720"/>
          </a:xfrm>
          <a:prstGeom prst="flowChartProcess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                                                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مهارات العق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مهارات السلوك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مهارات الفني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 flipV="1">
            <a:off x="1619280" y="4149360"/>
            <a:ext cx="5400720" cy="865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 flipV="1">
            <a:off x="1619280" y="3284640"/>
            <a:ext cx="5400720" cy="720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6227640" y="5157720"/>
            <a:ext cx="10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5580000" y="5157720"/>
            <a:ext cx="1370160" cy="432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ادارة الاشراف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3564000" y="5157720"/>
            <a:ext cx="1369800" cy="433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ادارة الوسط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1619280" y="5157720"/>
            <a:ext cx="1222200" cy="432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ادارة العلي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عنصر نائب لرقم الشريحة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F8D8-9804-442F-B5B6-626EBFC1C3AC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مقدمة في السلوك التنظيم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ماهية السلوك التنظيم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الهدف من دراسة السلوك التنظيمي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التطور التاريخي لدراسة السلوك التنظيم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دور المهارات السلوكية في عمل المدي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خطة الكتاب.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F178-4641-496D-930F-731391C0DB5D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ar-SA" sz="4800" spc="-1" strike="noStrike" u="sng">
                <a:solidFill>
                  <a:srgbClr val="000000"/>
                </a:solidFill>
                <a:uFillTx/>
                <a:latin typeface="Arial"/>
              </a:rPr>
              <a:t>- ماهية السلوك التنظيم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00"/>
                </a:solidFill>
                <a:latin typeface="Arial"/>
              </a:rPr>
              <a:t>السلوك التنظيمي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سلوك الأفراد داخل المنظمات أي الأستجابات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لتي تصدر عن الفرد نتيجة لإحتكاكه بغيره من الأفراد أو نتيجة لإتصال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البيئة الخارجية من حول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 - تتضمن كل ما يصدر عن الفرد من عمل حركي و تفكير أو حتى - سلوك لغو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أو مشاعر أو انفعالات أو إدرا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 - أمثلة للتدليل على أهمية السلوك -  الإنساني وأهمية تفسير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9C83-6BE3-44B8-B835-A590A476C1EE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 يقصد بالمنظمات تلك المؤسسات التي تنتمي اليها وتهد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 إلى تقدم نفع وقيمة جديدة(امثلة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Arial"/>
              </a:rPr>
              <a:t>-هناك نوعين من سلوك الافر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فردي (علم النفس) إجتماعي ( علم الإجتماع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التنظيمي تفاعل علم النفس مع علم الإجتماع مع علو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آخرى(إدارة ,إقتصاد,سياسة...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 ويهتم بسلوك الناس داخل المنظم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26C9-DD2F-4F47-B4AF-AF5B0C0C5EEF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 مجال نامي للمعرفة ولكنه ليس علماً بالمعنى المعتر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به ليس مستقلاً وله مجال محدد خاص به لا يخرج أناسا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ذوي مستقبل وظيفي مميز(( هو محصلة علوم اخرى )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Arial"/>
              </a:rPr>
              <a:t>-علم النفس (تفسير سلوك الأفراد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Arial"/>
              </a:rPr>
              <a:t>-علم الاجتماع (التفاعلات الإنسانية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Arial"/>
              </a:rPr>
              <a:t>تساؤل: هل السلوك التنظيمي علم أم فن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E791-65E0-48B6-98C8-FFBC29E79BA8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خلاصة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أن علم السلوك التنظيمي هو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هو العلم الذي يدرس سلوك الأفراد داخل المنظمات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محصلة علوم أخرى (هما علم النفس وعلم الاجتماع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علم وف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B97C-1641-428A-A64D-11A193968FF1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ar-SA" sz="5400" spc="-1" strike="noStrike" u="sng">
                <a:solidFill>
                  <a:srgbClr val="000000"/>
                </a:solidFill>
                <a:uFillTx/>
                <a:latin typeface="Arial"/>
              </a:rPr>
              <a:t>-الهدف من دارسة السلوك التنظيمي :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Arial"/>
              </a:rPr>
              <a:t>التنبؤ بالسلوك المتوقع لشخص معين والتحكم في هذا السلو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Arial"/>
              </a:rPr>
              <a:t> عن طري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أ- التعرف عن مسببات السلوك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ب- التنبؤ بالسلوك في حالة التعرف على هذه المسبب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ج- التوجيه والسيطرة والتحكم في السلوك من خلال التأثير في المسبب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3C3D-AD0B-4EDF-A3FA-C80EFA3A52CC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Arial"/>
              </a:rPr>
              <a:t>هل يمكن تفسير وتحليل السلوك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Arial"/>
              </a:rPr>
              <a:t>هل يمكن التعرف على مسببات السلوك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Arial"/>
              </a:rPr>
              <a:t>كيف تعمل مسببات السلوك بالتأثير عليه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Arial"/>
              </a:rPr>
              <a:t>هل يمكن السيطرة عليه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إجابة : </a:t>
            </a:r>
            <a:r>
              <a:rPr b="1" lang="ar-SA" sz="4000" spc="-1" strike="noStrike">
                <a:solidFill>
                  <a:srgbClr val="0033cc"/>
                </a:solidFill>
                <a:latin typeface="Arial"/>
              </a:rPr>
              <a:t>بالإيجاب النسب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cc"/>
                </a:solidFill>
                <a:latin typeface="Arial"/>
              </a:rPr>
              <a:t>- يتطلب وجود نماذج ونظري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cc"/>
                </a:solidFill>
                <a:latin typeface="Arial"/>
              </a:rPr>
              <a:t>”مثل شركة الاسكندريه وجدوال العمل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6742-35B3-4227-9333-A39A1DB7D64A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4T13:16:01Z</dcterms:created>
  <dc:creator>admin</dc:creator>
  <dc:description/>
  <dc:language>en-US</dc:language>
  <cp:lastModifiedBy>Mehdi HAJRI</cp:lastModifiedBy>
  <dcterms:modified xsi:type="dcterms:W3CDTF">2014-09-18T23:35:50Z</dcterms:modified>
  <cp:revision>464</cp:revision>
  <dc:subject/>
  <dc:title>Slide 1</dc:title>
</cp:coreProperties>
</file>