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C7C8-2C19-46E6-AC45-C2EC131643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306-846B-4144-A8CE-42AE8D54E1D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عنصر نائب لرقم الشريحة 4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5500-5EB6-4261-B18F-0C78A19FC1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عنصر نائب للتذييل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3B7-A737-4067-B1AA-8C69C48A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D66-D3C9-4E68-9BB7-D4DAF565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9016-9870-496C-A3EF-730B65B2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EE5-14B6-45EB-8406-06AEA3EC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C77-CD5A-40CB-A577-42984A4C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459-A1B2-4039-8619-7019707D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A007-DF1E-40E9-BF27-9F4446C0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A73-7C99-45DE-A2DF-BC16D658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319-FE90-4980-9EB6-D8BE7CCC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12B-2CEB-401C-93F6-19AA9F0D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69E-EE71-479D-83CF-662DB510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84B-CFAC-4248-95B0-DF128AEA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FB6D-61A5-43CB-8973-BE341101898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شرائح تدريسية من كتاب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604a7b"/>
                </a:solidFill>
                <a:latin typeface="Arial"/>
              </a:rPr>
              <a:t>     السلوك التنظيمي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</a:t>
            </a: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(مدخل بناء المهارات)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03300"/>
                </a:solidFill>
                <a:latin typeface="Arial"/>
              </a:rPr>
              <a:t>    د.أحمد ماهر 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1f497d"/>
                </a:solidFill>
                <a:latin typeface="Arial"/>
              </a:rPr>
              <a:t>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عنصر نائب لرقم الشريحة 7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B245-3CC6-4C0B-862A-E57E3EDBD72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تطور التاريخي لدراسة السلوك التنظيم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حاول الإنسان منذ الأزل أن يقدم تفسير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أديان السماوية قدمت لنا نظريات متكاملة للسلوك الانسان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لم توضع في قالب متكامل يخدم العمل الإداري والمدري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طور العلمي لم يبدأ إلا في بداية القرن العش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ميكيافيل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عدم الثقة والشك ولابد من القسوة والخداع أو أي وسيلة 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مبدأ الأساسي ”الغاية تبرر الوسيلة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دريين كذلك؟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هل بعض المنظمات كذلك؟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494-7E95-4ABC-89B8-F907C599D17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كلاسيك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رضيات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أفراد</a:t>
            </a:r>
            <a:r>
              <a:rPr b="1" lang="ar-SA" sz="3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كسالى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تنظيم وتخطيط العمل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غير عقلانيين وانفعالين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غير قادرين على أداء العمل بصورة  سليمة وفعا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800080"/>
                </a:solidFill>
                <a:uFillTx/>
                <a:latin typeface="Arial"/>
              </a:rPr>
              <a:t>فلابد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فرض نموذج عقلاني ورشيد وقوي على العامل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(سيطرة وتحكم على السلو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F0DC-2096-414E-952C-C302B9AEF7B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اولا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إدارة العلم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أشهر روادها فردريك تايلور,فرانك وليليان جيلبرث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يمكن السيطرة على سلوك الأفراد داخل أعمالهم من خلال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تصميم مثالي للوظائف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حوافز أجرية (مالية)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تصميم طريقة واحدة ومثا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 u="sng">
                <a:solidFill>
                  <a:srgbClr val="003300"/>
                </a:solidFill>
                <a:uFillTx/>
                <a:latin typeface="Arial"/>
              </a:rPr>
              <a:t>أهم مبادئها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جزئة الوظيفة لمهام صغيرة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اختيار الفرد بطريقة تناسب العمل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تنظيم العمل في المنظمة بين الإدارة والعمال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جب تقديم الحوافز المادية عن طريق الأجو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راسة الحركة والوق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9F97-BC33-4C1E-BB2B-CA2DD3C3C1D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نياً :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 نموذج العملية الاداري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يمكن السيطرة على السلوك الإنساني من خلال العمل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إدارية والقواعد و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أشهر الرواد هنري فايو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قسم العملية الإدارية إلى خمسة انشط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ط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ظ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أم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تنسي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الرقا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D572-9498-476E-8FF1-340BF7B2049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قدم</a:t>
            </a:r>
            <a:r>
              <a:rPr b="1" lang="ar-SA" sz="9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1" lang="ar-SA" sz="1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بدأ يمكن  من خلال الاضطلاع بانشطةالادارة على خير وج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قسيم العمل والتخص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سلطة والمسئو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ضبط والرب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امر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وحدة الهد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ولوية المصالح العامة على المصالح الشخص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عوائد العاملي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ركز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تسلسل الرئ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عد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ستقرار العما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المبادا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تنمية روح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EA6F-889E-4F70-B516-BECDE7F0E19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 u="sng">
                <a:solidFill>
                  <a:srgbClr val="003300"/>
                </a:solidFill>
                <a:uFillTx/>
                <a:latin typeface="Arial"/>
              </a:rPr>
              <a:t>ثالثاً :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نموذج البيروقراطي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3300"/>
                </a:solidFill>
                <a:latin typeface="Arial"/>
              </a:rPr>
              <a:t>يعتبر ماكس ويبر أكثر العلماء قرباً من الاتجاه البيروقراط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- بنى نظريته في البيروقراطية على المبادئ الاتيه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خصص والتقسيم العمل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سلسل الرئاسي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قواعد .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لاجراءات .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من العلاقات غير الشخصية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نظام اختيار وترقية العاملين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5C44-C324-46C8-8688-B16671FAF73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أهم العيوب (نتائج سلبية غير متوقعة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ضخم الأعباء الروتينية .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عدم اعتناء العاملون بصالح المنظمات و اهتمامهم بالإجراء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شعور العاملون بأنهم يعملون كآلات وانتقال نفس الشعور لم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يتعامل معهم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تشابه في السلوك وتوحده 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قضاء على روح المبادرة والابتكار والنمو الشخصي 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EE94-E3D9-4F20-87D4-72DA3B915F0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835280" y="189000"/>
            <a:ext cx="7129440" cy="72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اقات الانساني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نقد إلى الكلاسيكية أدى إلى ظهور اتجاه جديد يهتم بالعلاقات الإنسا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نظرية أن الأنسان مخلوق اجتماعي يسعى الى علاقات أفضل مع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عاون وليس التنافس  </a:t>
            </a: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6672-BAAF-4B67-878F-EC6F7DB0B5E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أهم المبادئ: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في سلوكهم بالحاجات ال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شعر الناس بأهميتهم من خلال علاقتهم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تخصص وتقسيم العمل يفقد الجوانب اجتماع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يتأثر الناس بعلاقتهم الاجتماعية اكثر من التنظيم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على الإدارة أن تأخذ المبادئ الأربعة في الاعتبا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FDEA-8A08-448E-9059-0EEA6E09E95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نظرية النظام المفتو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منظمات ليست ساكنة بل متحركة وتحصل على مواردها من المجتم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من خلال عمليات و أنشطة المنظمة تقوم بتحويل هذه الموارد إلى نتائج يحص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عليها المجتمع مرة أخر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هذه الفكرة وهي ما تسمى بالنظام المفتو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6642000"/>
                <a:tab algn="l" pos="69976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6877080" y="3716280"/>
            <a:ext cx="208764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مدخل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موارد الما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موارد البشر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492360" y="3716280"/>
            <a:ext cx="2159280" cy="165744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العملي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مثل الا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والتدري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250920" y="3716280"/>
            <a:ext cx="2017440" cy="1584360"/>
          </a:xfrm>
          <a:prstGeom prst="flowChartProcess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خرجا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مث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منتجات والاد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والحافز والرض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5796000" y="422100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2411280" y="4221000"/>
            <a:ext cx="792360" cy="432000"/>
          </a:xfrm>
          <a:prstGeom prst="leftArrow">
            <a:avLst>
              <a:gd name="adj1" fmla="val 50000"/>
              <a:gd name="adj2" fmla="val 45854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عنصر نائب لرقم الشريحة 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F562-7A77-4925-8C87-91CE01FB0D0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</a:rPr>
              <a:t>الفصل الأو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C174-594C-4E4E-BBE5-2C9FDBA6BE3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 النظرية الموقفية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السلوك الإنساني يتأثر بالعديد من العناصر الموجودة في الموقف الخا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هذا السلو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ويوضح الشكل التالي العناصر الخاصة بالموق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5940360" y="2997360"/>
            <a:ext cx="2016360" cy="50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فر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5940360" y="3789360"/>
            <a:ext cx="201636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جماع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5940360" y="4653000"/>
            <a:ext cx="201780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5940360" y="5516640"/>
            <a:ext cx="2087640" cy="57636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عناصر في البيئ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1042920" y="3645000"/>
            <a:ext cx="1584360" cy="1728720"/>
          </a:xfrm>
          <a:prstGeom prst="flowChartProcess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سلوك النا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Arial"/>
              </a:rPr>
              <a:t>داخل المنظم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292360" y="3213000"/>
            <a:ext cx="647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5292360" y="407664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292720" y="3213000"/>
            <a:ext cx="0" cy="25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 flipH="1">
            <a:off x="2916000" y="4508640"/>
            <a:ext cx="237636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 flipH="1">
            <a:off x="5292360" y="494172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5292360" y="5805360"/>
            <a:ext cx="6476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عنصر نائب لرقم الشريحة 1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D065-3B2E-4EF4-BF8B-AE39542D407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العولمة وأثرها على السلوك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ولمة حقيقة نعيش في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اجنبية تعمل في الداخ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شركات داخلية تعمل في الخار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يجب فهم الاتصال الثقافي(بين الحضارات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عمل تحت قيادة اجنب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عمل بقيادة اجانب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سلوك المختلف في الحضا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التفاوض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اللغة بانواعها.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ar-SA" sz="5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فهم نمط اتخاذ القرارات.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22A8-8FED-4753-A2E1-801F4CB3126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ar-SA" sz="6000" spc="-1" strike="noStrike" u="sng">
                <a:solidFill>
                  <a:srgbClr val="000000"/>
                </a:solidFill>
                <a:uFillTx/>
                <a:latin typeface="Arial"/>
              </a:rPr>
              <a:t>- نظرية العلوم السلوكية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ركزت نظرية العلاقات الإنسانية على الاهتمام بمشاعر الن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ينما ركزت نظرية العلوم السلوكية على إعطاء تفسيرات واق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3300"/>
                </a:solidFill>
                <a:uFillTx/>
                <a:latin typeface="Arial"/>
              </a:rPr>
              <a:t>أهم الرواد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1f49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كريس ارجير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دوجلاس ماكجريج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رنسيس ليكرت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ابراهام مازل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فردريك هرزبرج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029E-00AC-42A3-9708-5839ACC2D4F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يمكن تجميع أراء هؤلاء المساهمين وتلخيصه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في المبادئ الاتي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ختلاف الناس في حاجتهم (مادية- معنوي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ناس إلى أن يكونوا ناضجين وناجحين في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سعى الأفراد إلى أن يكونوا منظمين في العمل.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يتميز الناس بأن لديهم قدر من الحماس  والدافعية الداخل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تتضافر عناصر آخرى تؤثر في سلوك الفرد (طريقة الفهم, اسلوب الاتص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الاخرين, القدرة على القياد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1AC9-090E-406D-B701-0EDFBC64198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سعى الأفراد لتحقيق تقابل وتماثل بين أهدافه وأهداف المنظمة التي يعمل ب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سلوك الأفراد حسب الموقف الذي يتعرضون له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يختلف السلوك الفردي والإداري من دولة لآخرى.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- إن إعتراف المنظمات بالمبادئ الثمانية السابقة يعني اقتناعها بضرورة وضع ممارس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إدارية تتمشى مع هذه المبادئ.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3300"/>
                </a:solidFill>
                <a:uFillTx/>
                <a:latin typeface="Arial"/>
              </a:rPr>
              <a:t>”اهتمت بالجوانب السلوكية مع إغفال العمليات الادارية والتنظيمية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3C3D-C053-4B35-918F-3380239BEC9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 u="sng">
                <a:solidFill>
                  <a:srgbClr val="000000"/>
                </a:solidFill>
                <a:uFillTx/>
                <a:latin typeface="Arial"/>
              </a:rPr>
              <a:t>أثر الاتجاهات الحديثة في الادارة على السلوك التنظيم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تمثل العولمة أحد الاتجاهات الحديثة في الادارة المؤثرة على السلوك التنظيم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بالاضافة ال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التنوع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Diversity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ترتيبات جديدة في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الظروف الاقتصادية تؤدي إلى ما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-تقليل العما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ب-التعاقد مع الغ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 -العمل من المنز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- أنظمة الجو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إدارة الجودة الشاملة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Total Qu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الايزو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SO</a:t>
            </a: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Arial"/>
              </a:rPr>
              <a:t>إعادة بناء المنظمات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Re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سلوك الاخلاقي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7C6E-F3DE-4F36-B38B-9476DF6F50A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 u="sng">
                <a:solidFill>
                  <a:srgbClr val="000000"/>
                </a:solidFill>
                <a:uFillTx/>
                <a:latin typeface="Arial"/>
              </a:rPr>
              <a:t>دور المهارات السلوكية في عمل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ثلاثة مهارات أساسية ومطلوبة لكل مدي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فن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مهارات السلوك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مهارات العق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1619280" y="3141720"/>
            <a:ext cx="5400720" cy="1944720"/>
          </a:xfrm>
          <a:prstGeom prst="flowChartProcess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                                               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عق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سلوك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مهارات الفني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V="1">
            <a:off x="1619280" y="4149360"/>
            <a:ext cx="5400720" cy="865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1619280" y="3284640"/>
            <a:ext cx="5400720" cy="720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227640" y="515772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5580000" y="5157720"/>
            <a:ext cx="137016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اشراف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564000" y="5157720"/>
            <a:ext cx="1369800" cy="433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وسط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619280" y="5157720"/>
            <a:ext cx="1222200" cy="432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ادارة العلي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عنصر نائب لرقم الشريحة 1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0827-127E-4AE3-8A82-60873D6BBC5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Arial"/>
              </a:rPr>
              <a:t>مقدمة في السلوك التنظيم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ماهي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الهدف من دراسة السلوك التنظيم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التطور التاريخي لدراسة السلوك التنظيم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دور المهارات السلوكية في عمل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- خطة الكتاب.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عنصر نائب لرقم الشريحة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85C6-9ADF-4DC6-B518-0BDAFB06DEC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ar-SA" sz="4800" spc="-1" strike="noStrike" u="sng">
                <a:solidFill>
                  <a:srgbClr val="000000"/>
                </a:solidFill>
                <a:uFillTx/>
                <a:latin typeface="Arial"/>
              </a:rPr>
              <a:t>- ماهية السلوك التنظيم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00"/>
                </a:solidFill>
                <a:latin typeface="Arial"/>
              </a:rPr>
              <a:t>السلوك التنظيمي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لوك الأفراد داخل المنظمات أي الأستجابات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تي تصدر عن الفرد نتيجة لإحتكاكه بغيره من الأفراد أو نتيجة لإتصا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البيئة الخارجية من حو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تتضمن كل ما يصدر عن الفرد من عمل حركي و تفكير أو حتى - سلوك لغو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أو مشاعر أو انفعالات أو إدرا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 - أمثلة للتدليل على أهمية السلوك -  الإنساني وأهمية تفسير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7B66-8A2D-4A61-8985-35D78494E6B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يقصد بالمنظمات تلك المؤسسات التي تنتمي اليها وتهد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إلى تقدم نفع وقيمة جديدة(امثل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هناك نوعين من سلوك الافر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فردي (علم النفس) إجتماعي ( علم الإ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التنظيمي تفاعل علم النفس مع علم الإجتماع مع علو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آخرى(إدارة ,إقتصاد,سياسة..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 ويهتم بسلوك الناس داخل المنظ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8F55-D3A9-42D8-B7BF-8F2AF9126BB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 مجال نامي للمعرفة ولكنه ليس علماً بالمعنى المعتر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به ليس مستقلاً وله مجال محدد خاص به لا يخرج أناس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ذوي مستقبل وظيفي مميز(( هو محصلة علوم اخرى )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نفس (تفسير سلوك الأفرا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Arial"/>
              </a:rPr>
              <a:t>-علم الاجتماع (التفاعلات الإنسانية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تساؤل: هل السلوك التنظيمي علم أم فن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750D-4401-4DCC-AF84-FC140003CCF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</a:rPr>
              <a:t>خلاصة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أن علم السلوك التنظيمي هو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هو العلم الذي يدرس سلوك الأفراد داخل المنظما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محصلة علوم أخرى (هما علم النفس وعلم الاجتما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- علم وف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9AD9-1061-44A5-B3EF-957E9492AE4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ar-SA" sz="5400" spc="-1" strike="noStrike" u="sng">
                <a:solidFill>
                  <a:srgbClr val="000000"/>
                </a:solidFill>
                <a:uFillTx/>
                <a:latin typeface="Arial"/>
              </a:rPr>
              <a:t>-الهدف من دارسة السلوك التنظيمي :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التنبؤ بالسلوك المتوقع لشخص معين والتحكم في هذا السلو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Arial"/>
              </a:rPr>
              <a:t> عن طري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أ- التعرف عن مسببات السلوك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ب- التنبؤ بالسلوك في حالة التعرف على هذه المسبب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Arial"/>
              </a:rPr>
              <a:t>ج- التوجيه والسيطرة والتحكم في السلوك من خلال التأثير في المسب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86A7-63C7-4952-B0A8-AEEA731FD13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تفسير وتحليل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تعرف على مسببات السلوك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كيف تعمل مسببات السلوك بالتأثير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Arial"/>
              </a:rPr>
              <a:t>هل يمكن السيطرة عليه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إجابة : </a:t>
            </a: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بالإيجاب النس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- يتطلب وجود نماذج ونظري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”مثل شركة الاسكندريه وجدوال العمل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عنصر نائب لرقم الشريحة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9891-262A-446E-8402-71718ABEC9C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3:16:01Z</dcterms:created>
  <dc:creator>admin</dc:creator>
  <dc:description/>
  <dc:language>en-US</dc:language>
  <cp:lastModifiedBy>Mehdi HAJRI</cp:lastModifiedBy>
  <dcterms:modified xsi:type="dcterms:W3CDTF">2014-09-18T23:35:50Z</dcterms:modified>
  <cp:revision>464</cp:revision>
  <dc:subject/>
  <dc:title>Slide 1</dc:title>
</cp:coreProperties>
</file>