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322-EDE9-49CD-BD58-0EDC2076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74C-7512-4A37-8F65-C7685E5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D1D-6A20-457F-8874-DD434839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B56-E943-4C33-B194-4CAE836B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F11-3884-4F62-A063-4D0C31A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8AB-0105-469D-940E-B56C52E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DC2-60B4-4AEB-B46B-FA84257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BF3-7686-4BF4-B1DD-E086311A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569-8EF6-4A1B-822F-DA2118A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354-A27A-456E-8382-23E2A12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77B-4691-4928-99BD-84FA253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AA2-C5F3-47D6-821F-2ECC025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AC07-21E0-4ECF-9441-49076FFEF256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F1F4-2CD4-4D29-AE96-C9580132C8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0280" y="1599480"/>
            <a:ext cx="8143920" cy="2531880"/>
            <a:chOff x="530280" y="1599480"/>
            <a:chExt cx="8143920" cy="2531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0280" y="1901880"/>
              <a:ext cx="81439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159948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قدمة في أصول الفقه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1365480"/>
            <a:chOff x="1311120" y="3767040"/>
            <a:chExt cx="6516720" cy="136548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المحاضرة الأول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9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موضوع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صورة 3" descr="$8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C809-CB65-41FB-9B93-3497850E03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9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فضل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صورة 3" descr="$6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7D4C-ACC0-411E-B7D7-7A606F4D5C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0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4a452a"/>
                  </a:solidFill>
                  <a:latin typeface="Arial"/>
                  <a:cs typeface="PT Bold Heading"/>
                </a:rPr>
                <a:t>فائدة علم أصول ا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صورة 3" descr="$7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1EF-F93B-415A-9996-70FB4CBDA5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1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كم تعلم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B39-204A-4598-BF5B-48255645E1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02480"/>
            <a:ext cx="8229600" cy="411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لم أصول الفقه أحد علوم الشريعة  التي أمر الله بالنفرة لتعلمها  وتعليمها لتعلق حاجة الأمة بها،  فيأخذ حكم تعلم العلم الشرعي عامة،  وهو أنه فرض كفاي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عنصر نائب للنص 2"/>
          <p:cNvGrpSpPr/>
          <p:nvPr/>
        </p:nvGrpSpPr>
        <p:grpSpPr>
          <a:xfrm>
            <a:off x="92160" y="3541680"/>
            <a:ext cx="8850240" cy="2679480"/>
            <a:chOff x="92160" y="3541680"/>
            <a:chExt cx="8850240" cy="2679480"/>
          </a:xfrm>
        </p:grpSpPr>
        <p:pic>
          <p:nvPicPr>
            <p:cNvPr id="117" name="عنصر نائب للنص 2" descr=""/>
            <p:cNvPicPr/>
            <p:nvPr/>
          </p:nvPicPr>
          <p:blipFill>
            <a:blip r:embed="rId1"/>
            <a:stretch/>
          </p:blipFill>
          <p:spPr>
            <a:xfrm>
              <a:off x="92160" y="3541680"/>
              <a:ext cx="88502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3689280"/>
              <a:ext cx="82296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 rtl="1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Andalus"/>
                  <a:cs typeface="Andalus"/>
                </a:rPr>
                <a:t>قال تعالى: "فلولا نفر من كل فرقة منهم طائفة ليتفقهوا في  الدين ولينذروا قومهم إذا رجعوا إليهم لعلهم يحذرون"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EA96-D51D-4A17-B9C0-61FE57010A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12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نسبته ل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9E1-243A-43A5-BF3A-CC9E03EE4C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2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ستمداد هذا العلم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صورة 3" descr="$4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29A0-462E-4C24-B6F4-B164C0817C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عنوان 1"/>
          <p:cNvGrpSpPr/>
          <p:nvPr/>
        </p:nvGrpSpPr>
        <p:grpSpPr>
          <a:xfrm>
            <a:off x="396720" y="189720"/>
            <a:ext cx="8345520" cy="1312920"/>
            <a:chOff x="396720" y="189720"/>
            <a:chExt cx="8345520" cy="1312920"/>
          </a:xfrm>
        </p:grpSpPr>
        <p:pic>
          <p:nvPicPr>
            <p:cNvPr id="13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53880"/>
              <a:ext cx="83455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8972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يستمد علم أصول الفقه  من ثلاثة أشياء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865160"/>
            <a:ext cx="8229600" cy="52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أصول الدين، وتشمل الكتاب والسنة والإجم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لغة العربية، من جهة دلالة الألفاظ على الأحكا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تصور الأحكام، أي التصور العقلي ككون الامر  للوجوب والحكم على الشيء فرع عن تصور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328-0AAE-45A7-8E8A-3186D86B2C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4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دوين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4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5BED-C60D-4DBA-8FFC-A910FC3CE6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حول المقرر (أصول فقه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 -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317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وصف المختصر للمقرر: التعريف بعلم أصول الفقه، ومباحث الأدلة الشرعي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التعريف بطرق استنباط الأحكام الشرعية من مصادرها الأصلية وفق ضوابط، وموازين علمية دقيق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مقاصد الشريعة، والمصالح الكلية التي جعلها الشارع في تشريع الأحكام، وبيان شموليتها وقدرتها على استيعاب قضايا الناس المتجددة وإيجاد الحلول الشرعية لها والمستندة على الكتاب والسنة والقواعد العام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عميق المعرفة في الفقه وأصوله بالأدلة والقواعد الأصولية العامة، وكيفية الترجيح في المسائل الخلافي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سهام في تكوين الملكة الفقهية التي تعين على الاجتهاد في قضايا النوازل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الأسباب العلمية التي أدت إلى الاختلاف والاتفاق في الأحكام الفقهية مما يكسب سعة في التفكير، ومرونة في التعامل مع الخلاف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FB90-7E3F-400E-B19A-41DFDE433F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  <a:cs typeface="PT Bold Broken"/>
                </a:rPr>
                <a:t>مقاصد الشريع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2975-BC1D-4409-A244-C1318121FD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wafa\Dropbox\سارة\تدريس الفصل الدراسي الثاني-1435هـ\أصول فقه- ملفات سابقة\أصول فقه1-1433هـ\خرائط ذهنية\علم مقاصد الشريعة.jpg"/>
          <p:cNvPicPr/>
          <p:nvPr/>
        </p:nvPicPr>
        <p:blipFill>
          <a:blip r:embed="rId2"/>
          <a:stretch/>
        </p:blipFill>
        <p:spPr>
          <a:xfrm>
            <a:off x="457200" y="1741320"/>
            <a:ext cx="8229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7E8-C903-44E5-9705-B2E977EB30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wafa\Dropbox\سارة\تدريس الفصل الدراسي الثاني-1435هـ\أصول فقه- ملفات سابقة\أصول فقه1-1433هـ\خرائط ذهنية\أقسام المقاصد باعتبار المصالح التي جاءت بحفظها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BE5-0790-4AE4-87C3-B271EEDDBC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wafa\Dropbox\سارة\تدريس الفصل الدراسي الثاني-1435هـ\أصول فقه- ملفات سابقة\أصول فقه1-1433هـ\خرائط ذهنية\القسم الأول من المقاصد الضروريات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333333"/>
                  </a:solidFill>
                  <a:latin typeface="Sakkal Majalla"/>
                  <a:cs typeface="Sakkal Majalla"/>
                </a:rPr>
                <a:t>مقدمة في أصول الفق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2D1B-CC61-41EB-8601-F61946192B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7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E27-9F11-41A2-8C7F-46580E28A9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864800"/>
            <a:ext cx="9144000" cy="65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أص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: 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جمع أصل، وهو ما يبنى عليه غيره،  كالأساس فإنه أصل للجدار، وكعروق الشجرة  فهي أصل لها، يتفرع منها ساقها، وأغصا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قال تعالى: "ألم تر كيف  ضرب الله مثلاً كلمة طيبة  كشجرة طيبة أصلها ثابت  وفرعها في السماء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: يطلق  على عدة معا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قاعدة العامة، كقولهم الأمر  للوجوب والنهي يقتضي التحر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دليل: كقولهم أصل وجوب الحج  قوله تعالى: "ولله على الناس حج  البيت من استطاع إليه سبيلا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فق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الفهم، ومنه قوله تعالى: "واحلل عقدة من لساني يفقهوا قولي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معرفة الأحكام الشرعية العملية من أدلتها التفصي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8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 مفردي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387-FF81-4BA6-BE66-A2B02D2C90E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لم يبحث عن أدلة الفقه الإجمالية، وكيفية الاستفادة منها، وحال المستفي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8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ه لقباً على هذا الفن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90D-E21A-48D5-B131-D861359972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08:53Z</dcterms:created>
  <dc:creator>وفاء بنت محمد العيسى</dc:creator>
  <dc:description/>
  <dc:language>en-US</dc:language>
  <cp:lastModifiedBy>seven</cp:lastModifiedBy>
  <dcterms:modified xsi:type="dcterms:W3CDTF">2014-02-03T06:14:14Z</dcterms:modified>
  <cp:revision>4</cp:revision>
  <dc:subject/>
  <dc:title>مقدمة في أصول الفقه</dc:title>
</cp:coreProperties>
</file>