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887-6E94-493E-980D-63BDDD56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4A3-2068-4DF4-A175-5B0814A4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B86-1A59-414F-B3C4-2760D25D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29F-9334-43FB-B9B6-EDF7C26E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DBA-5D1B-425B-A75D-699336A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168-00F2-42E3-BF21-F9B8DB7D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AF8-D114-4853-9C9B-90BEEFF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ECF-DB6F-4812-A959-7624AD9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79E-6211-4876-8624-569234B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7BE-C556-4CC0-9E60-213964B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318-6AAC-4E1B-A39B-7D3A805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757-6891-4DD2-8175-1AF6A49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A8E1-8794-46A5-9071-901B403DF758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2D9D-1647-4B9F-B165-543239E059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0280" y="1599480"/>
            <a:ext cx="8143920" cy="2531880"/>
            <a:chOff x="530280" y="1599480"/>
            <a:chExt cx="8143920" cy="2531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0280" y="1901880"/>
              <a:ext cx="81439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159948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قدمة في أصول الفقه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1365480"/>
            <a:chOff x="1311120" y="3767040"/>
            <a:chExt cx="6516720" cy="136548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المحاضرة الأول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9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موضوع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صورة 3" descr="$8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780-97A1-4820-BCC9-8091616676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9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فضل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صورة 3" descr="$6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6D4-86E4-46DD-8326-35F1EE66B6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0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4a452a"/>
                  </a:solidFill>
                  <a:latin typeface="Arial"/>
                  <a:cs typeface="PT Bold Heading"/>
                </a:rPr>
                <a:t>فائدة علم أصول ا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صورة 3" descr="$7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285C-A7E1-49AD-BC07-39A86F5FBE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1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كم تعلم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DF1-EE6B-4F8C-882A-5AC84A085B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02480"/>
            <a:ext cx="8229600" cy="411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لم أصول الفقه أحد علوم الشريعة  التي أمر الله بالنفرة لتعلمها  وتعليمها لتعلق حاجة الأمة بها،  فيأخذ حكم تعلم العلم الشرعي عامة،  وهو أنه فرض كفاي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عنصر نائب للنص 2"/>
          <p:cNvGrpSpPr/>
          <p:nvPr/>
        </p:nvGrpSpPr>
        <p:grpSpPr>
          <a:xfrm>
            <a:off x="92160" y="3541680"/>
            <a:ext cx="8850240" cy="2679480"/>
            <a:chOff x="92160" y="3541680"/>
            <a:chExt cx="8850240" cy="2679480"/>
          </a:xfrm>
        </p:grpSpPr>
        <p:pic>
          <p:nvPicPr>
            <p:cNvPr id="117" name="عنصر نائب للنص 2" descr=""/>
            <p:cNvPicPr/>
            <p:nvPr/>
          </p:nvPicPr>
          <p:blipFill>
            <a:blip r:embed="rId1"/>
            <a:stretch/>
          </p:blipFill>
          <p:spPr>
            <a:xfrm>
              <a:off x="92160" y="3541680"/>
              <a:ext cx="88502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3689280"/>
              <a:ext cx="82296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 rtl="1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Andalus"/>
                  <a:cs typeface="Andalus"/>
                </a:rPr>
                <a:t>قال تعالى: "فلولا نفر من كل فرقة منهم طائفة ليتفقهوا في  الدين ولينذروا قومهم إذا رجعوا إليهم لعلهم يحذرون"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248-FAE4-458B-A51B-4A5D627875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12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نسبته ل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10A-A629-4294-826E-DCC12C7321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2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ستمداد هذا العلم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صورة 3" descr="$4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5907-0E7C-41E1-8206-2CF0235448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عنوان 1"/>
          <p:cNvGrpSpPr/>
          <p:nvPr/>
        </p:nvGrpSpPr>
        <p:grpSpPr>
          <a:xfrm>
            <a:off x="396720" y="189720"/>
            <a:ext cx="8345520" cy="1312920"/>
            <a:chOff x="396720" y="189720"/>
            <a:chExt cx="8345520" cy="1312920"/>
          </a:xfrm>
        </p:grpSpPr>
        <p:pic>
          <p:nvPicPr>
            <p:cNvPr id="13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53880"/>
              <a:ext cx="83455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8972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يستمد علم أصول الفقه  من ثلاثة أشياء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865160"/>
            <a:ext cx="8229600" cy="52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أصول الدين، وتشمل الكتاب والسنة والإجم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لغة العربية، من جهة دلالة الألفاظ على الأحكا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تصور الأحكام، أي التصور العقلي ككون الامر  للوجوب والحكم على الشيء فرع عن تصور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FFE-7A23-4C76-85CE-116AA4AE64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4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دوين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4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A5C-866F-4842-BAC1-2BF99967D7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حول المقرر (أصول فقه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 -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317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وصف المختصر للمقرر: التعريف بعلم أصول الفقه، ومباحث الأدلة الشرعي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التعريف بطرق استنباط الأحكام الشرعية من مصادرها الأصلية وفق ضوابط، وموازين علمية دقيق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مقاصد الشريعة، والمصالح الكلية التي جعلها الشارع في تشريع الأحكام، وبيان شموليتها وقدرتها على استيعاب قضايا الناس المتجددة وإيجاد الحلول الشرعية لها والمستندة على الكتاب والسنة والقواعد العام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عميق المعرفة في الفقه وأصوله بالأدلة والقواعد الأصولية العامة، وكيفية الترجيح في المسائل الخلافي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سهام في تكوين الملكة الفقهية التي تعين على الاجتهاد في قضايا النوازل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الأسباب العلمية التي أدت إلى الاختلاف والاتفاق في الأحكام الفقهية مما يكسب سعة في التفكير، ومرونة في التعامل مع الخلاف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5DCB-7544-40C0-90F5-42C0660AF4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  <a:cs typeface="PT Bold Broken"/>
                </a:rPr>
                <a:t>مقاصد الشريع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0DE-8533-4FD6-9A31-B4F2E4844C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wafa\Dropbox\سارة\تدريس الفصل الدراسي الثاني-1435هـ\أصول فقه- ملفات سابقة\أصول فقه1-1433هـ\خرائط ذهنية\علم مقاصد الشريعة.jpg"/>
          <p:cNvPicPr/>
          <p:nvPr/>
        </p:nvPicPr>
        <p:blipFill>
          <a:blip r:embed="rId2"/>
          <a:stretch/>
        </p:blipFill>
        <p:spPr>
          <a:xfrm>
            <a:off x="457200" y="1741320"/>
            <a:ext cx="8229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098-5343-4D1F-A901-B3BA0E61EC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wafa\Dropbox\سارة\تدريس الفصل الدراسي الثاني-1435هـ\أصول فقه- ملفات سابقة\أصول فقه1-1433هـ\خرائط ذهنية\أقسام المقاصد باعتبار المصالح التي جاءت بحفظها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828-2F5E-48E2-9F28-A50E0E287D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wafa\Dropbox\سارة\تدريس الفصل الدراسي الثاني-1435هـ\أصول فقه- ملفات سابقة\أصول فقه1-1433هـ\خرائط ذهنية\القسم الأول من المقاصد الضروريات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333333"/>
                  </a:solidFill>
                  <a:latin typeface="Sakkal Majalla"/>
                  <a:cs typeface="Sakkal Majalla"/>
                </a:rPr>
                <a:t>مقدمة في أصول الفق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4013-D92E-4E26-BF6A-CAA222E1E3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7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80C-F350-4DC9-BA23-1B4E619338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864800"/>
            <a:ext cx="9144000" cy="65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أص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: 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جمع أصل، وهو ما يبنى عليه غيره،  كالأساس فإنه أصل للجدار، وكعروق الشجرة  فهي أصل لها، يتفرع منها ساقها، وأغصا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قال تعالى: "ألم تر كيف  ضرب الله مثلاً كلمة طيبة  كشجرة طيبة أصلها ثابت  وفرعها في السماء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: يطلق  على عدة معا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قاعدة العامة، كقولهم الأمر  للوجوب والنهي يقتضي التحر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دليل: كقولهم أصل وجوب الحج  قوله تعالى: "ولله على الناس حج  البيت من استطاع إليه سبيلا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فق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الفهم، ومنه قوله تعالى: "واحلل عقدة من لساني يفقهوا قولي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معرفة الأحكام الشرعية العملية من أدلتها التفصي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8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 مفردي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839-75B1-4B8C-A7A1-60569C4DE7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لم يبحث عن أدلة الفقه الإجمالية، وكيفية الاستفادة منها، وحال المستفي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8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ه لقباً على هذا الفن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6456-5961-4A60-95EC-4BD97A8265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08:53Z</dcterms:created>
  <dc:creator>وفاء بنت محمد العيسى</dc:creator>
  <dc:description/>
  <dc:language>en-US</dc:language>
  <cp:lastModifiedBy>seven</cp:lastModifiedBy>
  <dcterms:modified xsi:type="dcterms:W3CDTF">2014-02-03T06:14:14Z</dcterms:modified>
  <cp:revision>4</cp:revision>
  <dc:subject/>
  <dc:title>مقدمة في أصول الفقه</dc:title>
</cp:coreProperties>
</file>