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B3A7-5FF2-4DBD-B4BB-36243F17D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E6BF-B67F-43C3-BF17-8482040F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9B26-CAFB-406C-BB97-20D66D5AD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D577-232C-4D2B-AE7E-B3D3ED24D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FA1F-CCBB-422E-A39B-C3D3B5A2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5BD2-500F-4CF2-BD12-7E182760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8C39-6054-4F47-AE9A-F7A7A7BD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B09E-F098-424B-8D27-3102593E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58D1-E40F-4D07-8935-051F1646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BA10-2C5F-4A5B-82B2-B91A9D34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4542-E87F-48AD-8946-24FAAD7A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2077-E317-46CC-83B0-4D0FCCD0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0634-4B60-4016-8810-D1F6D1E563E9}" type="datetime">
              <a:rPr b="0" lang="ar-SA" sz="1200" spc="-1" strike="noStrike">
                <a:solidFill>
                  <a:srgbClr val="898989"/>
                </a:solidFill>
                <a:latin typeface="Calibri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B712C-F33B-4502-BFCE-D7B1788DBC3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عنوان 1"/>
          <p:cNvGrpSpPr/>
          <p:nvPr/>
        </p:nvGrpSpPr>
        <p:grpSpPr>
          <a:xfrm>
            <a:off x="530280" y="1599480"/>
            <a:ext cx="8143920" cy="2531880"/>
            <a:chOff x="530280" y="1599480"/>
            <a:chExt cx="8143920" cy="2531880"/>
          </a:xfrm>
        </p:grpSpPr>
        <p:pic>
          <p:nvPicPr>
            <p:cNvPr id="42" name="عنوان 1" descr=""/>
            <p:cNvPicPr/>
            <p:nvPr/>
          </p:nvPicPr>
          <p:blipFill>
            <a:blip r:embed="rId1"/>
            <a:stretch/>
          </p:blipFill>
          <p:spPr>
            <a:xfrm>
              <a:off x="530280" y="1901880"/>
              <a:ext cx="8143920" cy="17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85800" y="1599480"/>
              <a:ext cx="777240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000" spc="-1" strike="noStrike">
                  <a:solidFill>
                    <a:srgbClr val="333333"/>
                  </a:solidFill>
                  <a:latin typeface="Andalus"/>
                  <a:cs typeface="Andalus"/>
                </a:rPr>
                <a:t>مقدمة في أصول الفقه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" name="عنوان فرعي 2"/>
          <p:cNvGrpSpPr/>
          <p:nvPr/>
        </p:nvGrpSpPr>
        <p:grpSpPr>
          <a:xfrm>
            <a:off x="1311120" y="3767040"/>
            <a:ext cx="6516720" cy="1365480"/>
            <a:chOff x="1311120" y="3767040"/>
            <a:chExt cx="6516720" cy="1365480"/>
          </a:xfrm>
        </p:grpSpPr>
        <p:pic>
          <p:nvPicPr>
            <p:cNvPr id="45" name="عنوان فرعي 2" descr=""/>
            <p:cNvPicPr/>
            <p:nvPr/>
          </p:nvPicPr>
          <p:blipFill>
            <a:blip r:embed="rId2"/>
            <a:stretch/>
          </p:blipFill>
          <p:spPr>
            <a:xfrm>
              <a:off x="1311120" y="3767040"/>
              <a:ext cx="6516720" cy="136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1371600" y="3886200"/>
              <a:ext cx="6400800" cy="117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404040"/>
                  </a:solidFill>
                  <a:latin typeface="Sakkal Majalla"/>
                  <a:cs typeface="Sakkal Majalla"/>
                </a:rPr>
                <a:t>وفاء بنت محمد العيسى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404040"/>
                  </a:solidFill>
                  <a:latin typeface="Sakkal Majalla"/>
                  <a:cs typeface="Sakkal Majalla"/>
                </a:rPr>
                <a:t>المحاضرة الأولى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عنوان 1"/>
          <p:cNvGrpSpPr/>
          <p:nvPr/>
        </p:nvGrpSpPr>
        <p:grpSpPr>
          <a:xfrm>
            <a:off x="396720" y="311040"/>
            <a:ext cx="8345520" cy="1000080"/>
            <a:chOff x="396720" y="311040"/>
            <a:chExt cx="8345520" cy="1000080"/>
          </a:xfrm>
        </p:grpSpPr>
        <p:pic>
          <p:nvPicPr>
            <p:cNvPr id="92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11040"/>
              <a:ext cx="83455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57200" y="464040"/>
              <a:ext cx="8229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ffffff"/>
                  </a:solidFill>
                  <a:latin typeface="Arial"/>
                  <a:cs typeface="PT Bold Heading"/>
                </a:rPr>
                <a:t>موضوعه: 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4" name="صورة 3" descr="$8$.gif"/>
          <p:cNvPicPr/>
          <p:nvPr/>
        </p:nvPicPr>
        <p:blipFill>
          <a:blip r:embed="rId2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  <p:sp>
        <p:nvSpPr>
          <p:cNvPr id="95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10DE-408B-41E2-A024-2BF289DB53E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عنوان 1"/>
          <p:cNvGrpSpPr/>
          <p:nvPr/>
        </p:nvGrpSpPr>
        <p:grpSpPr>
          <a:xfrm>
            <a:off x="396720" y="317520"/>
            <a:ext cx="8345520" cy="987480"/>
            <a:chOff x="396720" y="317520"/>
            <a:chExt cx="8345520" cy="987480"/>
          </a:xfrm>
        </p:grpSpPr>
        <p:pic>
          <p:nvPicPr>
            <p:cNvPr id="98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17520"/>
              <a:ext cx="83455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57200" y="464040"/>
              <a:ext cx="8229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ffffff"/>
                  </a:solidFill>
                  <a:latin typeface="Arial"/>
                  <a:cs typeface="PT Bold Heading"/>
                </a:rPr>
                <a:t>فضله: 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0" name="صورة 3" descr="$6$.gif"/>
          <p:cNvPicPr/>
          <p:nvPr/>
        </p:nvPicPr>
        <p:blipFill>
          <a:blip r:embed="rId2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  <p:sp>
        <p:nvSpPr>
          <p:cNvPr id="101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AB43-EFB0-4ABB-A6D4-B992E1BB37B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عنوان 1"/>
          <p:cNvGrpSpPr/>
          <p:nvPr/>
        </p:nvGrpSpPr>
        <p:grpSpPr>
          <a:xfrm>
            <a:off x="396720" y="317520"/>
            <a:ext cx="8345520" cy="987480"/>
            <a:chOff x="396720" y="317520"/>
            <a:chExt cx="8345520" cy="987480"/>
          </a:xfrm>
        </p:grpSpPr>
        <p:pic>
          <p:nvPicPr>
            <p:cNvPr id="104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17520"/>
              <a:ext cx="83455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57200" y="464040"/>
              <a:ext cx="8229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4a452a"/>
                  </a:solidFill>
                  <a:latin typeface="Arial"/>
                  <a:cs typeface="PT Bold Heading"/>
                </a:rPr>
                <a:t>فائدة علم أصول الفقه: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6" name="صورة 3" descr="$7$.gif"/>
          <p:cNvPicPr/>
          <p:nvPr/>
        </p:nvPicPr>
        <p:blipFill>
          <a:blip r:embed="rId2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  <p:sp>
        <p:nvSpPr>
          <p:cNvPr id="107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21EC-2FE3-4B27-8BD3-EA30C4730D8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عنوان 1"/>
          <p:cNvGrpSpPr/>
          <p:nvPr/>
        </p:nvGrpSpPr>
        <p:grpSpPr>
          <a:xfrm>
            <a:off x="396720" y="317520"/>
            <a:ext cx="8345520" cy="987480"/>
            <a:chOff x="396720" y="317520"/>
            <a:chExt cx="8345520" cy="987480"/>
          </a:xfrm>
        </p:grpSpPr>
        <p:pic>
          <p:nvPicPr>
            <p:cNvPr id="110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17520"/>
              <a:ext cx="83455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457200" y="464040"/>
              <a:ext cx="8229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حكم تعلمه: 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2" name="صورة 3" descr="$2$.gif"/>
          <p:cNvPicPr/>
          <p:nvPr/>
        </p:nvPicPr>
        <p:blipFill>
          <a:blip r:embed="rId2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  <p:sp>
        <p:nvSpPr>
          <p:cNvPr id="113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12CE-0827-4E45-8D7F-287F6C43EAA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402480"/>
            <a:ext cx="8229600" cy="4113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علم أصول الفقه أحد علوم الشريعة  التي أمر الله بالنفرة لتعلمها  وتعليمها لتعلق حاجة الأمة بها،  فيأخذ حكم تعلم العلم الشرعي عامة،  وهو أنه فرض كفاية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" name="عنصر نائب للنص 2"/>
          <p:cNvGrpSpPr/>
          <p:nvPr/>
        </p:nvGrpSpPr>
        <p:grpSpPr>
          <a:xfrm>
            <a:off x="92160" y="3541680"/>
            <a:ext cx="8850240" cy="2679480"/>
            <a:chOff x="92160" y="3541680"/>
            <a:chExt cx="8850240" cy="2679480"/>
          </a:xfrm>
        </p:grpSpPr>
        <p:pic>
          <p:nvPicPr>
            <p:cNvPr id="117" name="عنصر نائب للنص 2" descr=""/>
            <p:cNvPicPr/>
            <p:nvPr/>
          </p:nvPicPr>
          <p:blipFill>
            <a:blip r:embed="rId1"/>
            <a:stretch/>
          </p:blipFill>
          <p:spPr>
            <a:xfrm>
              <a:off x="92160" y="3541680"/>
              <a:ext cx="8850240" cy="21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457200" y="3689280"/>
              <a:ext cx="822960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r" rtl="1">
                <a:lnSpc>
                  <a:spcPct val="100000"/>
                </a:lnSpc>
                <a:spcBef>
                  <a:spcPts val="10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000" spc="-1" strike="noStrike">
                  <a:solidFill>
                    <a:srgbClr val="ffffff"/>
                  </a:solidFill>
                  <a:latin typeface="Andalus"/>
                  <a:cs typeface="Andalus"/>
                </a:rPr>
                <a:t>قال تعالى: "فلولا نفر من كل فرقة منهم طائفة ليتفقهوا في  الدين ولينذروا قومهم إذا رجعوا إليهم لعلهم يحذرون"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9" name="عنصر نائب لرقم الشريحة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A0F1-0A1F-406F-8787-C5FDAFB7830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عنوان 1"/>
          <p:cNvGrpSpPr/>
          <p:nvPr/>
        </p:nvGrpSpPr>
        <p:grpSpPr>
          <a:xfrm>
            <a:off x="396720" y="311040"/>
            <a:ext cx="8345520" cy="1000080"/>
            <a:chOff x="396720" y="311040"/>
            <a:chExt cx="8345520" cy="1000080"/>
          </a:xfrm>
        </p:grpSpPr>
        <p:pic>
          <p:nvPicPr>
            <p:cNvPr id="122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11040"/>
              <a:ext cx="83455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457200" y="464040"/>
              <a:ext cx="8229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ffffff"/>
                  </a:solidFill>
                  <a:latin typeface="Arial"/>
                  <a:cs typeface="PT Bold Heading"/>
                </a:rPr>
                <a:t>نسبته للفقه: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4" name="صورة 3" descr="$3$.gif"/>
          <p:cNvPicPr/>
          <p:nvPr/>
        </p:nvPicPr>
        <p:blipFill>
          <a:blip r:embed="rId2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  <p:sp>
        <p:nvSpPr>
          <p:cNvPr id="125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B523-383A-4DF6-A940-663D45DAE31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عنوان 1"/>
          <p:cNvGrpSpPr/>
          <p:nvPr/>
        </p:nvGrpSpPr>
        <p:grpSpPr>
          <a:xfrm>
            <a:off x="396720" y="317520"/>
            <a:ext cx="8345520" cy="987480"/>
            <a:chOff x="396720" y="317520"/>
            <a:chExt cx="8345520" cy="987480"/>
          </a:xfrm>
        </p:grpSpPr>
        <p:pic>
          <p:nvPicPr>
            <p:cNvPr id="128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17520"/>
              <a:ext cx="83455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457200" y="464040"/>
              <a:ext cx="8229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ffffff"/>
                  </a:solidFill>
                  <a:latin typeface="Arial"/>
                  <a:cs typeface="PT Bold Heading"/>
                </a:rPr>
                <a:t>استمداد هذا العلم: 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0" name="صورة 3" descr="$4$.gif"/>
          <p:cNvPicPr/>
          <p:nvPr/>
        </p:nvPicPr>
        <p:blipFill>
          <a:blip r:embed="rId2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  <p:sp>
        <p:nvSpPr>
          <p:cNvPr id="131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ABF0-20F1-4F10-A3B2-7BC79B654DE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عنوان 1"/>
          <p:cNvGrpSpPr/>
          <p:nvPr/>
        </p:nvGrpSpPr>
        <p:grpSpPr>
          <a:xfrm>
            <a:off x="396720" y="189720"/>
            <a:ext cx="8345520" cy="1312920"/>
            <a:chOff x="396720" y="189720"/>
            <a:chExt cx="8345520" cy="1312920"/>
          </a:xfrm>
        </p:grpSpPr>
        <p:pic>
          <p:nvPicPr>
            <p:cNvPr id="134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53880"/>
              <a:ext cx="834552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457200" y="189720"/>
              <a:ext cx="8229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يستمد علم أصول الفقه  من ثلاثة أشياء: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865160"/>
            <a:ext cx="8229600" cy="522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1</a:t>
            </a:r>
            <a:r>
              <a:rPr b="1" lang="ar-SA" sz="40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. أصول الدين، وتشمل الكتاب والسنة والإجما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2</a:t>
            </a:r>
            <a:r>
              <a:rPr b="1" lang="ar-SA" sz="40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. اللغة العربية، من جهة دلالة الألفاظ على الأحكا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3</a:t>
            </a:r>
            <a:r>
              <a:rPr b="1" lang="ar-SA" sz="40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. تصور الأحكام، أي التصور العقلي ككون الامر  للوجوب والحكم على الشيء فرع عن تصور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عنصر نائب لرقم الشريحة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173E-CB29-4F84-97F8-7E5435CFA8D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عنوان 1"/>
          <p:cNvGrpSpPr/>
          <p:nvPr/>
        </p:nvGrpSpPr>
        <p:grpSpPr>
          <a:xfrm>
            <a:off x="396720" y="317520"/>
            <a:ext cx="8345520" cy="987480"/>
            <a:chOff x="396720" y="317520"/>
            <a:chExt cx="8345520" cy="987480"/>
          </a:xfrm>
        </p:grpSpPr>
        <p:pic>
          <p:nvPicPr>
            <p:cNvPr id="140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17520"/>
              <a:ext cx="83455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457200" y="464040"/>
              <a:ext cx="8229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ffffff"/>
                  </a:solidFill>
                  <a:latin typeface="Arial"/>
                  <a:cs typeface="PT Bold Heading"/>
                </a:rPr>
                <a:t>تدوينه: 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2" name="صورة 3" descr="$5$.gif"/>
          <p:cNvPicPr/>
          <p:nvPr/>
        </p:nvPicPr>
        <p:blipFill>
          <a:blip r:embed="rId2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  <p:sp>
        <p:nvSpPr>
          <p:cNvPr id="143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CF34-3319-4A0F-BA65-FE1D88F78AB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Calibri"/>
                <a:cs typeface="PT Bold Broken"/>
              </a:rPr>
              <a:t>حول المقرر (أصول فقه</a:t>
            </a:r>
            <a:r>
              <a:rPr b="1" lang="ar-SA" sz="4400" spc="-1" strike="noStrike">
                <a:solidFill>
                  <a:srgbClr val="ffffff"/>
                </a:solidFill>
                <a:latin typeface="Calibri"/>
                <a:ea typeface="PT Bold Broken"/>
              </a:rPr>
              <a:t>1</a:t>
            </a:r>
            <a:r>
              <a:rPr b="1" lang="ar-SA" sz="4400" spc="-1" strike="noStrike">
                <a:solidFill>
                  <a:srgbClr val="ffffff"/>
                </a:solidFill>
                <a:latin typeface="Calibri"/>
                <a:ea typeface="PT Bold Broken"/>
              </a:rPr>
              <a:t> -</a:t>
            </a:r>
            <a:r>
              <a:rPr b="1" lang="ar-SA" sz="4400" spc="-1" strike="noStrike">
                <a:solidFill>
                  <a:srgbClr val="ffffff"/>
                </a:solidFill>
                <a:latin typeface="Calibri"/>
                <a:ea typeface="PT Bold Broken"/>
              </a:rPr>
              <a:t>317</a:t>
            </a:r>
            <a:r>
              <a:rPr b="1" lang="ar-SA" sz="4400" spc="-1" strike="noStrike">
                <a:solidFill>
                  <a:srgbClr val="ffffff"/>
                </a:solidFill>
                <a:latin typeface="Calibri"/>
                <a:cs typeface="PT Bold Broken"/>
              </a:rPr>
              <a:t>سلم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وصف المختصر للمقرر: التعريف بعلم أصول الفقه، ومباحث الأدلة الشرعية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 التعريف بطرق استنباط الأحكام الشرعية من مصادرها الأصلية وفق ضوابط، وموازين علمية دقيقة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تعريف بمقاصد الشريعة، والمصالح الكلية التي جعلها الشارع في تشريع الأحكام، وبيان شموليتها وقدرتها على استيعاب قضايا الناس المتجددة وإيجاد الحلول الشرعية لها والمستندة على الكتاب والسنة والقواعد العامة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تعميق المعرفة في الفقه وأصوله بالأدلة والقواعد الأصولية العامة، وكيفية الترجيح في المسائل الخلافية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إسهام في تكوين الملكة الفقهية التي تعين على الاجتهاد في قضايا النوازل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تعريف بالأسباب العلمية التي أدت إلى الاختلاف والاتفاق في الأحكام الفقهية مما يكسب سعة في التفكير، ومرونة في التعامل مع الخلاف.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صر نائب للتذييل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221F-8BB4-45C1-8565-C81390EB636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عنوان 1"/>
          <p:cNvGrpSpPr/>
          <p:nvPr/>
        </p:nvGrpSpPr>
        <p:grpSpPr>
          <a:xfrm>
            <a:off x="396720" y="237960"/>
            <a:ext cx="8345520" cy="1256040"/>
            <a:chOff x="396720" y="237960"/>
            <a:chExt cx="8345520" cy="1256040"/>
          </a:xfrm>
        </p:grpSpPr>
        <p:pic>
          <p:nvPicPr>
            <p:cNvPr id="52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237960"/>
              <a:ext cx="8345520" cy="12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ffffff"/>
                  </a:solidFill>
                  <a:latin typeface="Calibri"/>
                  <a:cs typeface="PT Bold Broken"/>
                </a:rPr>
                <a:t>مقاصد الشريعة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" name="عنصر نائب للتذييل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C66C-C1E6-47F9-AB24-46AED5905A2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Users\wafa\Dropbox\سارة\تدريس الفصل الدراسي الثاني-1435هـ\أصول فقه- ملفات سابقة\أصول فقه1-1433هـ\خرائط ذهنية\علم مقاصد الشريعة.jpg"/>
          <p:cNvPicPr/>
          <p:nvPr/>
        </p:nvPicPr>
        <p:blipFill>
          <a:blip r:embed="rId2"/>
          <a:stretch/>
        </p:blipFill>
        <p:spPr>
          <a:xfrm>
            <a:off x="457200" y="1741320"/>
            <a:ext cx="8229600" cy="42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صر نائب للتذييل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5541-BAFA-4D71-8E9A-01D2B0C7CA3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wafa\Dropbox\سارة\تدريس الفصل الدراسي الثاني-1435هـ\أصول فقه- ملفات سابقة\أصول فقه1-1433هـ\خرائط ذهنية\أقسام المقاصد باعتبار المصالح التي جاءت بحفظها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صر نائب للتذييل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F746-EE5E-4964-953F-D7936FF2562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Users\wafa\Dropbox\سارة\تدريس الفصل الدراسي الثاني-1435هـ\أصول فقه- ملفات سابقة\أصول فقه1-1433هـ\خرائط ذهنية\القسم الأول من المقاصد الضروريات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عنوان 1"/>
          <p:cNvGrpSpPr/>
          <p:nvPr/>
        </p:nvGrpSpPr>
        <p:grpSpPr>
          <a:xfrm>
            <a:off x="396720" y="304920"/>
            <a:ext cx="8345520" cy="1006200"/>
            <a:chOff x="396720" y="304920"/>
            <a:chExt cx="8345520" cy="1006200"/>
          </a:xfrm>
        </p:grpSpPr>
        <p:pic>
          <p:nvPicPr>
            <p:cNvPr id="66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04920"/>
              <a:ext cx="8345520" cy="100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57200" y="464040"/>
              <a:ext cx="8229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333333"/>
                  </a:solidFill>
                  <a:latin typeface="Sakkal Majalla"/>
                  <a:cs typeface="Sakkal Majalla"/>
                </a:rPr>
                <a:t>مقدمة في أصول الفقه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8" name="صورة 3" descr="$0$.gif"/>
          <p:cNvPicPr/>
          <p:nvPr/>
        </p:nvPicPr>
        <p:blipFill>
          <a:blip r:embed="rId2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  <p:sp>
        <p:nvSpPr>
          <p:cNvPr id="69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A291-9C80-443D-93A8-6080F7A8003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عنوان 1"/>
          <p:cNvGrpSpPr/>
          <p:nvPr/>
        </p:nvGrpSpPr>
        <p:grpSpPr>
          <a:xfrm>
            <a:off x="396720" y="311040"/>
            <a:ext cx="8345520" cy="1000080"/>
            <a:chOff x="396720" y="311040"/>
            <a:chExt cx="8345520" cy="1000080"/>
          </a:xfrm>
        </p:grpSpPr>
        <p:pic>
          <p:nvPicPr>
            <p:cNvPr id="72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11040"/>
              <a:ext cx="83455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457200" y="464040"/>
              <a:ext cx="8229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ffffff"/>
                  </a:solidFill>
                  <a:latin typeface="Arial"/>
                  <a:cs typeface="PT Bold Heading"/>
                </a:rPr>
                <a:t>تعريفه: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4" name="صورة 3" descr="$1$.gif"/>
          <p:cNvPicPr/>
          <p:nvPr/>
        </p:nvPicPr>
        <p:blipFill>
          <a:blip r:embed="rId2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  <p:sp>
        <p:nvSpPr>
          <p:cNvPr id="75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1CA0-1D33-41DC-8517-5A00F00BF27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0" y="1864800"/>
            <a:ext cx="9144000" cy="65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Sakkal Majalla"/>
                <a:cs typeface="Sakkal Majalla"/>
              </a:rPr>
              <a:t>تعريف الأصو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b050"/>
                </a:solidFill>
                <a:latin typeface="Sakkal Majalla"/>
                <a:cs typeface="Sakkal Majalla"/>
              </a:rPr>
              <a:t>لغة: </a:t>
            </a:r>
            <a:r>
              <a:rPr b="1" lang="ar-SA" sz="24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جمع أصل، وهو ما يبنى عليه غيره،  كالأساس فإنه أصل للجدار، وكعروق الشجرة  فهي أصل لها، يتفرع منها ساقها، وأغصانه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قال تعالى: "ألم تر كيف  ضرب الله مثلاً كلمة طيبة  كشجرة طيبة أصلها ثابت  وفرعها في السماء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b050"/>
                </a:solidFill>
                <a:latin typeface="Sakkal Majalla"/>
                <a:cs typeface="Sakkal Majalla"/>
              </a:rPr>
              <a:t>اصطلاحاً: يطلق  على عدة معان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. القاعدة العامة، كقولهم الأمر  للوجوب والنهي يقتضي التحري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. الدليل: كقولهم أصل وجوب الحج  قوله تعالى: "ولله على الناس حج  البيت من استطاع إليه سبيلاً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Sakkal Majalla"/>
                <a:cs typeface="Sakkal Majalla"/>
              </a:rPr>
              <a:t>تعريف الفق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b050"/>
                </a:solidFill>
                <a:latin typeface="Sakkal Majalla"/>
                <a:cs typeface="Sakkal Majalla"/>
              </a:rPr>
              <a:t>لغة</a:t>
            </a:r>
            <a:r>
              <a:rPr b="1" lang="ar-SA" sz="24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: الفهم، ومنه قوله تعالى: "واحلل عقدة من لساني يفقهوا قولي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b050"/>
                </a:solidFill>
                <a:latin typeface="Sakkal Majalla"/>
                <a:cs typeface="Sakkal Majalla"/>
              </a:rPr>
              <a:t>اصطلاحاً</a:t>
            </a:r>
            <a:r>
              <a:rPr b="1" lang="ar-SA" sz="24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: معرفة الأحكام الشرعية العملية من أدلتها التفصيل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عنوان 1"/>
          <p:cNvGrpSpPr/>
          <p:nvPr/>
        </p:nvGrpSpPr>
        <p:grpSpPr>
          <a:xfrm>
            <a:off x="396720" y="311040"/>
            <a:ext cx="8345520" cy="1000080"/>
            <a:chOff x="396720" y="311040"/>
            <a:chExt cx="8345520" cy="1000080"/>
          </a:xfrm>
        </p:grpSpPr>
        <p:pic>
          <p:nvPicPr>
            <p:cNvPr id="80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11040"/>
              <a:ext cx="83455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457200" y="464040"/>
              <a:ext cx="8229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ffffff"/>
                  </a:solidFill>
                  <a:latin typeface="Arial"/>
                  <a:cs typeface="PT Bold Heading"/>
                </a:rPr>
                <a:t>تعريفه باعتبار مفرديه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DC27-17DC-42E3-8AA0-FE6E3B04F80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صر نائب للتذييل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68360" y="2997360"/>
            <a:ext cx="8229600" cy="21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هو علم يبحث عن أدلة الفقه الإجمالية، وكيفية الاستفادة منها، وحال المستفي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عنوان 1"/>
          <p:cNvGrpSpPr/>
          <p:nvPr/>
        </p:nvGrpSpPr>
        <p:grpSpPr>
          <a:xfrm>
            <a:off x="396720" y="128880"/>
            <a:ext cx="8345520" cy="1434600"/>
            <a:chOff x="396720" y="128880"/>
            <a:chExt cx="8345520" cy="1434600"/>
          </a:xfrm>
        </p:grpSpPr>
        <p:pic>
          <p:nvPicPr>
            <p:cNvPr id="87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11040"/>
              <a:ext cx="83455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457200" y="128880"/>
              <a:ext cx="8229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ffffff"/>
                  </a:solidFill>
                  <a:latin typeface="Arial"/>
                  <a:cs typeface="PT Bold Heading"/>
                </a:rPr>
                <a:t>تعريفه باعتباره لقباً على هذا الفن: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2F61-BF9D-4572-B62A-5606B487FCE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صر نائب للتذييل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15:08:53Z</dcterms:created>
  <dc:creator>وفاء بنت محمد العيسى</dc:creator>
  <dc:description/>
  <dc:language>en-US</dc:language>
  <cp:lastModifiedBy>seven</cp:lastModifiedBy>
  <dcterms:modified xsi:type="dcterms:W3CDTF">2014-02-03T06:14:14Z</dcterms:modified>
  <cp:revision>4</cp:revision>
  <dc:subject/>
  <dc:title>مقدمة في أصول الفقه</dc:title>
</cp:coreProperties>
</file>