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87B-2731-4A22-8846-8217A941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D3A-928C-4AAC-A042-EDEC10F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84B-FB50-4B1E-8119-E0575DDF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6FF-6F57-4188-94B8-5CE6277B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FE8-429D-4A10-AE25-D84C605A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ADD-B66F-4388-9FDB-B950954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E20-C151-4748-901E-930CBBF6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003-8FD2-4CAD-82E6-27D688F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AF6-CA3D-4DEB-96AE-A679D44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EEE-A340-4311-94DE-4C87E94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6BC-59E6-470D-8DCC-5592BAC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C68-E16C-48D4-AD08-E09B06B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55D-CC9A-44A1-8CA3-3A4BC0ADECC0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57DB-885E-432A-BA73-3702BA9C12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0280" y="1599480"/>
            <a:ext cx="8143920" cy="2531880"/>
            <a:chOff x="530280" y="1599480"/>
            <a:chExt cx="8143920" cy="2531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0280" y="1901880"/>
              <a:ext cx="81439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159948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قدمة في أصول الفقه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1365480"/>
            <a:chOff x="1311120" y="3767040"/>
            <a:chExt cx="6516720" cy="136548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المحاضرة الأول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9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موضوع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صورة 3" descr="$8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06C-1FCE-4C77-B249-65FC6A3DAA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9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فضل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صورة 3" descr="$6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A9A9-7BF3-46FF-9A32-DD254D03A24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0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4a452a"/>
                  </a:solidFill>
                  <a:latin typeface="Arial"/>
                  <a:cs typeface="PT Bold Heading"/>
                </a:rPr>
                <a:t>فائدة علم أصول ا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صورة 3" descr="$7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C9D-2B22-450D-A09A-5289784CEB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1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كم تعلم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1A1-4F11-4BEA-85D0-BC690F8785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02480"/>
            <a:ext cx="8229600" cy="411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لم أصول الفقه أحد علوم الشريعة  التي أمر الله بالنفرة لتعلمها  وتعليمها لتعلق حاجة الأمة بها،  فيأخذ حكم تعلم العلم الشرعي عامة،  وهو أنه فرض كفاي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عنصر نائب للنص 2"/>
          <p:cNvGrpSpPr/>
          <p:nvPr/>
        </p:nvGrpSpPr>
        <p:grpSpPr>
          <a:xfrm>
            <a:off x="92160" y="3541680"/>
            <a:ext cx="8850240" cy="2679480"/>
            <a:chOff x="92160" y="3541680"/>
            <a:chExt cx="8850240" cy="2679480"/>
          </a:xfrm>
        </p:grpSpPr>
        <p:pic>
          <p:nvPicPr>
            <p:cNvPr id="117" name="عنصر نائب للنص 2" descr=""/>
            <p:cNvPicPr/>
            <p:nvPr/>
          </p:nvPicPr>
          <p:blipFill>
            <a:blip r:embed="rId1"/>
            <a:stretch/>
          </p:blipFill>
          <p:spPr>
            <a:xfrm>
              <a:off x="92160" y="3541680"/>
              <a:ext cx="88502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3689280"/>
              <a:ext cx="82296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 rtl="1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Andalus"/>
                  <a:cs typeface="Andalus"/>
                </a:rPr>
                <a:t>قال تعالى: "فلولا نفر من كل فرقة منهم طائفة ليتفقهوا في  الدين ولينذروا قومهم إذا رجعوا إليهم لعلهم يحذرون"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FDBC-303C-4A55-BC7D-DD78AF1807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12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نسبته ل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6F27-B08F-4726-BE46-4996FFB4B2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2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ستمداد هذا العلم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صورة 3" descr="$4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79B0-FD87-4E01-BB98-7166AD480AE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عنوان 1"/>
          <p:cNvGrpSpPr/>
          <p:nvPr/>
        </p:nvGrpSpPr>
        <p:grpSpPr>
          <a:xfrm>
            <a:off x="396720" y="189720"/>
            <a:ext cx="8345520" cy="1312920"/>
            <a:chOff x="396720" y="189720"/>
            <a:chExt cx="8345520" cy="1312920"/>
          </a:xfrm>
        </p:grpSpPr>
        <p:pic>
          <p:nvPicPr>
            <p:cNvPr id="13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53880"/>
              <a:ext cx="83455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8972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يستمد علم أصول الفقه  من ثلاثة أشياء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865160"/>
            <a:ext cx="8229600" cy="52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أصول الدين، وتشمل الكتاب والسنة والإجم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لغة العربية، من جهة دلالة الألفاظ على الأحكا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تصور الأحكام، أي التصور العقلي ككون الامر  للوجوب والحكم على الشيء فرع عن تصور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8299-2FA0-48BB-9E45-C333536A32C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4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دوين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4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0B99-5370-4045-9B43-F09C1379BD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حول المقرر (أصول فقه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 -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317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وصف المختصر للمقرر: التعريف بعلم أصول الفقه، ومباحث الأدلة الشرعي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التعريف بطرق استنباط الأحكام الشرعية من مصادرها الأصلية وفق ضوابط، وموازين علمية دقيق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مقاصد الشريعة، والمصالح الكلية التي جعلها الشارع في تشريع الأحكام، وبيان شموليتها وقدرتها على استيعاب قضايا الناس المتجددة وإيجاد الحلول الشرعية لها والمستندة على الكتاب والسنة والقواعد العام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عميق المعرفة في الفقه وأصوله بالأدلة والقواعد الأصولية العامة، وكيفية الترجيح في المسائل الخلافي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سهام في تكوين الملكة الفقهية التي تعين على الاجتهاد في قضايا النوازل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الأسباب العلمية التي أدت إلى الاختلاف والاتفاق في الأحكام الفقهية مما يكسب سعة في التفكير، ومرونة في التعامل مع الخلاف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A39E-A8A7-467C-BEE5-C634000C44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  <a:cs typeface="PT Bold Broken"/>
                </a:rPr>
                <a:t>مقاصد الشريع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908-7F90-4527-8797-80FFB4B545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wafa\Dropbox\سارة\تدريس الفصل الدراسي الثاني-1435هـ\أصول فقه- ملفات سابقة\أصول فقه1-1433هـ\خرائط ذهنية\علم مقاصد الشريعة.jpg"/>
          <p:cNvPicPr/>
          <p:nvPr/>
        </p:nvPicPr>
        <p:blipFill>
          <a:blip r:embed="rId2"/>
          <a:stretch/>
        </p:blipFill>
        <p:spPr>
          <a:xfrm>
            <a:off x="457200" y="1741320"/>
            <a:ext cx="8229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11DA-4316-4DF7-A76B-3A841D9E9B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wafa\Dropbox\سارة\تدريس الفصل الدراسي الثاني-1435هـ\أصول فقه- ملفات سابقة\أصول فقه1-1433هـ\خرائط ذهنية\أقسام المقاصد باعتبار المصالح التي جاءت بحفظها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45E-ED25-4259-9F9C-32D7D8E4ED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wafa\Dropbox\سارة\تدريس الفصل الدراسي الثاني-1435هـ\أصول فقه- ملفات سابقة\أصول فقه1-1433هـ\خرائط ذهنية\القسم الأول من المقاصد الضروريات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333333"/>
                  </a:solidFill>
                  <a:latin typeface="Sakkal Majalla"/>
                  <a:cs typeface="Sakkal Majalla"/>
                </a:rPr>
                <a:t>مقدمة في أصول الفق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CDE-CB35-4AFB-9C42-9461E15E9E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7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F86-99B8-469F-8E70-26E8C730FA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864800"/>
            <a:ext cx="9144000" cy="65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أص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: 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جمع أصل، وهو ما يبنى عليه غيره،  كالأساس فإنه أصل للجدار، وكعروق الشجرة  فهي أصل لها، يتفرع منها ساقها، وأغصا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قال تعالى: "ألم تر كيف  ضرب الله مثلاً كلمة طيبة  كشجرة طيبة أصلها ثابت  وفرعها في السماء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: يطلق  على عدة معا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قاعدة العامة، كقولهم الأمر  للوجوب والنهي يقتضي التحر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دليل: كقولهم أصل وجوب الحج  قوله تعالى: "ولله على الناس حج  البيت من استطاع إليه سبيلا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فق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الفهم، ومنه قوله تعالى: "واحلل عقدة من لساني يفقهوا قولي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معرفة الأحكام الشرعية العملية من أدلتها التفصي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8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 مفردي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479E-FC5F-45C4-B696-C940EC2E4C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لم يبحث عن أدلة الفقه الإجمالية، وكيفية الاستفادة منها، وحال المستفي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8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ه لقباً على هذا الفن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C0F-3470-4A03-AB34-2E44A2436E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08:53Z</dcterms:created>
  <dc:creator>وفاء بنت محمد العيسى</dc:creator>
  <dc:description/>
  <dc:language>en-US</dc:language>
  <cp:lastModifiedBy>seven</cp:lastModifiedBy>
  <dcterms:modified xsi:type="dcterms:W3CDTF">2014-02-03T06:14:14Z</dcterms:modified>
  <cp:revision>4</cp:revision>
  <dc:subject/>
  <dc:title>مقدمة في أصول الفقه</dc:title>
</cp:coreProperties>
</file>