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697-EC7B-45C9-92A3-C2C9647EC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2D0A-A51E-4454-B742-BA9A40985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17A-4035-4330-AE77-FB88D395A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B1BA-9657-404E-921D-70B71C469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FB0-8CA1-45D9-9CBD-5382046F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378-ABAB-4EFB-90C3-3AB8B3C1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AA4-6133-4813-A21A-ADD932D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3DB-CAB6-4E61-B71B-38C15A49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6ED-9B6A-42BD-B5CF-A5FBA065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5DA9-5D4B-45A1-9C44-421A3C03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EEA-3925-4AB1-84D4-D0DA836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D764-DD19-4BF0-BCF4-107ADD4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B5E-4AEC-4E07-89A9-C7E8FF2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2C8C-4833-4EB4-B266-6E7DE837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90F5-31A6-43B3-B657-524AE1B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7153-4570-4958-BC3C-36AF711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556-E557-45D8-B71C-6B438373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B572-9FAB-4114-BF81-D75D821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F78B-4CB5-4136-98EA-3AEDFF4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96C-DDF1-440C-AAF4-3747D594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EDFE-8A76-4395-AFD5-CC2763B1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677-CDC0-4526-AAFD-D3DEB77D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6E278-C467-4727-861F-D385EEB6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0EBED-526A-49ED-9F50-FBF83CA5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8B926-ACB1-40BA-8E9D-C35B86D0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C23BE-0EEA-4EED-AED0-BCE2F59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55DEA-BD31-4DD5-9D18-8173696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EE4-F16C-4F57-BFBB-2E54FD5B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DFE30-E1D4-4B24-97C6-93B16104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CD17A-C229-43A8-8449-7E27E13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A1680-3938-4EAA-93AD-8C009DB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F581E-259F-4948-9442-FE41D20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96F3F-3BC4-4E9F-91D9-D2A84B6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E48B9-9465-4776-935A-CED980DC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DE7AA-6F7C-476D-A5A2-1E94848A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BA5F-11C9-4B28-AD17-E9436984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3586D-2D85-42C1-A2F0-F67D3AE3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5DEB-55DA-409B-9D6C-E381CD56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3ED-3111-4779-8029-54F01851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8F7E-7C82-40F6-B196-00587E8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28601-578C-41BF-BA23-F8528C3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6BAE-9A94-4FDF-97B9-EBF6F05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18B5-D56F-47A0-9BBF-0634A9E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6F06-FD98-4312-9710-319DBCFB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B13A-782B-4135-B306-DB7F21C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39C7-09A6-46FC-8A15-EFE895E0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3CA6F-42EE-44F0-B7B1-774C5283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DD12-0E96-4A26-97A6-B2E5D82B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1502D-3C06-45B1-B0D3-EBCBB3B7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528-3D14-45B4-94FD-6259F563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C8DB8-129E-41F1-9D43-1CFDBE24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A17BD-6C53-448B-B7EF-25816F54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789DD-45E3-479B-AC51-D21FCF7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A661F-9EA0-463E-B73B-AB6A502C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A5941-1CCB-4F5F-9F06-A0F82E5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A5017-86D1-466E-A808-CFD8F83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A08FB-5964-4890-AF0E-0AB8EB19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5C77E-C3CA-4DFD-A7FA-34FC26B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68D27-1DD1-4045-8CD3-88818417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70220-981C-4188-85F9-A6439376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E8E-3945-4BEC-A998-059F901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4727B-B0E0-4CFB-8FB6-C4334A1E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8E9E4-1D93-43FA-A16E-1EA05DCF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C82D5-2A49-4AD3-B1DC-08CF9A9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AC1272-87ED-4A6B-A121-1E2944C2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550F1-0860-4BCE-97FA-3E61BD7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AA81F-15BE-4455-999C-8755E6D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3F2AC-E80A-4D60-A845-B72E2B2F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DB2F0-CBAD-45C9-AD77-3CE239F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223BA-CEDE-4DA9-8EAD-14152913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7E3CB-74D9-4EAF-A3F4-0D5533A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E1A-30E5-404B-A2B4-CC7251E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BC81F-739A-4C67-9436-725FD3C8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93C6F-1995-4E08-9224-10F8A09C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7A011-5727-4A26-8F84-5D4D5664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C8711-B38E-46DE-81A6-2858641D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D5346-DBD0-400F-BC44-1764760C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0800F-F5A1-4F70-8D35-F581DE0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4A70F-64F1-400A-8169-F84D084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485EF-1F13-4FEA-947F-9FF777A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3E715-EBEE-4831-AA86-D362DEB3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17FBA-60F1-4B7A-AFA4-B33CF4C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737-34EE-4DD6-B9E5-9BF74A6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247DD-0584-43EE-B53A-5363EBBD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70AF2-FF9A-4092-803D-44A641D8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37A0C-0685-48B4-8A2D-7CAA2FBF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98701-54C5-41B9-B1E7-D9396329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48E9C-1BD9-476C-B1DC-217BF283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1EB-22A9-4CFF-81E2-0A822F7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C398-359E-431F-B813-BB563B7EBA5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4B4-B488-497E-A4B7-F10C572ADE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f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f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f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f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1C07-096E-4BEC-B512-386B109B97EE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AC3-FBB1-4988-A953-AD9EACE710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B160-73FD-406F-BB78-01594EACC08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EDB6-C4B5-47AE-A8D9-96EAAE6B97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f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f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f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f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5DA6-AD9F-425D-AD80-3C9C571FECDB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1184-ED8A-41DB-9D72-DDD38276AA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E94-2FA6-444F-B888-5B4EC418CC7F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B32-05DB-464F-B242-4042B902B5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0B85-D3B7-4943-B129-A36D79A1929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1406-6895-4AA9-BC3F-C3349BC300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f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f8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6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f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E745-9891-49B7-A0FF-76818CEE1B1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9C8-D1A4-4A72-A8E3-10DF03A336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قدمة لمعمل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45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يز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By : Ahlam Alam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KS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f8b"/>
                </a:solidFill>
                <a:latin typeface="Gabriola"/>
              </a:rPr>
              <a:t>143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6850-5306-4AC4-835D-50D1D92A56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مشاركة و التفاعل مع الأستاذة و أفراد المجموع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icture 3" descr="C:\Users\11\AppData\Local\Microsoft\Windows\Temporary Internet Files\Content.IE5\L2YRV76H\MC900436161[1].wmf"/>
          <p:cNvPicPr/>
          <p:nvPr/>
        </p:nvPicPr>
        <p:blipFill>
          <a:blip r:embed="rId1"/>
          <a:stretch/>
        </p:blipFill>
        <p:spPr>
          <a:xfrm>
            <a:off x="1603440" y="2101680"/>
            <a:ext cx="5330880" cy="384192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D2A-13B2-40D5-9547-0BF7264A92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5" descr=""/>
          <p:cNvPicPr/>
          <p:nvPr/>
        </p:nvPicPr>
        <p:blipFill>
          <a:blip r:embed="rId1"/>
          <a:stretch/>
        </p:blipFill>
        <p:spPr>
          <a:xfrm>
            <a:off x="85680" y="231840"/>
            <a:ext cx="8508960" cy="6705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سيم الدرجات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87B-428D-4C37-B903-E9F0FE1688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ي يوم المع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428640" y="106668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تواجدي على وقت المعم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خذي مكانك في المعمل , أخرجي أدواتك كاملة و التزمي الهدو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ستقوم الأستاذة بالتحضير, بعد التحضير قومي بتسليم تقرير التجربة السابقة لأستاذتك , تذكري أنه عن كل يوم تأخير في التسليم ستخصم درجت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ركزي مع أستاذتك و إن لم تفهمي نقطة ما  أطلبي الإعادة , التزمي بتوجيهاتها عند تعاملك مع الأجهزة حفاظا على سلامت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تفاعلي مع زميلاتك في المجموعة  خلال العمل  , جربي بيدك و لا تعتمدي على إحداهن في أداء التجربة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بل خروجك من المعمل تأكدي من أستيعابك لمفردات التجربة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سيكون لديك أسبوع كامل حتى يوم التجربة القادمة لإكمال تقريرك و ترتيبه , إذا واجهتي صعوبات بإمكانك الحضور لمكتب أستاذتك في ساعاتها المكتبية خلال الأسبو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28960" indent="-2289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سلم تقرير التجربة السابقة يدا بيد لأستاذة المعمل خلال الدقائق الأولى من يوم التجربة الجديدة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http://www.englishexercises.org/makeagame/my_documents/my_pictures/2011/ago/AF4_4.jpg"/>
          <p:cNvPicPr/>
          <p:nvPr/>
        </p:nvPicPr>
        <p:blipFill>
          <a:blip r:embed="rId1"/>
          <a:stretch/>
        </p:blipFill>
        <p:spPr>
          <a:xfrm>
            <a:off x="228600" y="1523880"/>
            <a:ext cx="3200400" cy="3886200"/>
          </a:xfrm>
          <a:prstGeom prst="rect">
            <a:avLst/>
          </a:prstGeom>
          <a:ln w="0">
            <a:noFill/>
          </a:ln>
        </p:spPr>
      </p:pic>
      <p:sp>
        <p:nvSpPr>
          <p:cNvPr id="39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FD01-14CA-40D1-8381-D3427A7C79E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4114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كان لديك استفسار أو واجهتك مشكلة توجهي لأستاذتك و إن لم تحل فـ توجهي لمشرفة المعا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2" descr="http://vistaproblems.com/wp-content/uploads/2011/11/problems.jpg"/>
          <p:cNvPicPr/>
          <p:nvPr/>
        </p:nvPicPr>
        <p:blipFill>
          <a:blip r:embed="rId1"/>
          <a:stretch/>
        </p:blipFill>
        <p:spPr>
          <a:xfrm>
            <a:off x="2819520" y="272880"/>
            <a:ext cx="3108240" cy="3613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2819520" y="272880"/>
            <a:ext cx="3352680" cy="3613320"/>
          </a:xfrm>
          <a:prstGeom prst="rect">
            <a:avLst/>
          </a:prstGeom>
          <a:noFill/>
          <a:ln w="25560">
            <a:solidFill>
              <a:srgbClr val="bc2c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5248-A074-4ED5-9FB4-83A6EE0F45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ثبيت درجة المعم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657600" y="15998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يحق للطالبة التي رسبت في مقرر الفيزياء و لكنها نجحت في المعمل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( أقل درجة نجاح في المعمل هي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20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 من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30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ea typeface="Times New Roman"/>
              </a:rPr>
              <a:t> )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ن تثبت درجته لمدة ثلاثة فصول دراسية  متتالية منذ رسوبه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بد من طلب التثبيت عن كل فصل دراسي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ثبيت يتم عن طريق ارسال طلب تثبيت </a:t>
            </a:r>
            <a:r>
              <a:rPr b="1" lang="ar-SA" sz="2400" spc="-1" strike="noStrike">
                <a:solidFill>
                  <a:srgbClr val="ff3f8b"/>
                </a:solidFill>
                <a:latin typeface="Century Schoolbook"/>
                <a:cs typeface="Times New Roman"/>
              </a:rPr>
              <a:t>من بريد الطالبة الجامعي إلى بريد مشرفة المعامل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وضحة فيه ( اسمها – رقمها الجامعي – درجتها في المعمل – السنة التي درست فيها المعمل و اسم استاذة المعمل آنذاك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2" descr="http://www.boysontrial.com/wp-content/uploads/2012/02/write31.jpg"/>
          <p:cNvPicPr/>
          <p:nvPr/>
        </p:nvPicPr>
        <p:blipFill>
          <a:blip r:embed="rId1"/>
          <a:stretch/>
        </p:blipFill>
        <p:spPr>
          <a:xfrm>
            <a:off x="371520" y="1676520"/>
            <a:ext cx="3133800" cy="3962160"/>
          </a:xfrm>
          <a:prstGeom prst="rect">
            <a:avLst/>
          </a:prstGeom>
          <a:ln w="0">
            <a:noFill/>
          </a:ln>
        </p:spPr>
      </p:pic>
      <p:sp>
        <p:nvSpPr>
          <p:cNvPr id="40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26C-A010-4A05-A3EA-544CAA6599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3"/>
          <p:cNvSpPr/>
          <p:nvPr/>
        </p:nvSpPr>
        <p:spPr>
          <a:xfrm>
            <a:off x="4800600" y="838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قدمة تمهيدية للتجارب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img.ehowcdn.com/article-new/ehow/images/a07/hk/24/electricity-conductor-science-projects-800x800.jpg"/>
          <p:cNvPicPr/>
          <p:nvPr/>
        </p:nvPicPr>
        <p:blipFill>
          <a:blip r:embed="rId2"/>
          <a:stretch/>
        </p:blipFill>
        <p:spPr>
          <a:xfrm>
            <a:off x="5181480" y="2286000"/>
            <a:ext cx="3505320" cy="3000240"/>
          </a:xfrm>
          <a:prstGeom prst="rect">
            <a:avLst/>
          </a:prstGeom>
          <a:ln w="0">
            <a:noFill/>
          </a:ln>
        </p:spPr>
      </p:pic>
      <p:sp>
        <p:nvSpPr>
          <p:cNvPr id="41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803-223C-4ECF-BC9E-6C9D0CEA5C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حدات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UNIT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)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457200" y="27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63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66680" y="2209680"/>
          <a:ext cx="6705720" cy="285768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Schoolbook"/>
                          <a:cs typeface="Times New Roman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f8b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مت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طو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يلوغر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ت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ث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ز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أم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تيار كهرب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كلف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Times New Roman"/>
                        </a:rPr>
                        <a:t>درجة الحرارة المطل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a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ff1574"/>
                          </a:solidFill>
                          <a:uFillTx/>
                          <a:latin typeface="Century Schoolbook"/>
                          <a:cs typeface="Times New Roman"/>
                        </a:rPr>
                        <a:t>فول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o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ff1574"/>
                          </a:solidFill>
                          <a:uFillTx/>
                          <a:latin typeface="Century Schoolbook"/>
                          <a:cs typeface="Times New Roman"/>
                        </a:rPr>
                        <a:t>الجه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sp>
        <p:nvSpPr>
          <p:cNvPr id="41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A97-6596-42A1-A868-9DC8C583EA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بادئات (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FIXES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7" name="Content Placeholder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03848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DD9-BAFA-4501-A662-5AFB4F0D21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val 7"/>
          <p:cNvSpPr/>
          <p:nvPr/>
        </p:nvSpPr>
        <p:spPr>
          <a:xfrm>
            <a:off x="1371600" y="3581280"/>
            <a:ext cx="2666880" cy="2514600"/>
          </a:xfrm>
          <a:prstGeom prst="ellipse">
            <a:avLst/>
          </a:prstGeom>
          <a:noFill/>
          <a:ln w="255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حويلات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شكل العام لكتابة أي قراءة هي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b2d1"/>
                </a:solidFill>
                <a:latin typeface="Century Schoolbook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b2d1"/>
                </a:solidFill>
                <a:latin typeface="Century Schoolbook"/>
              </a:rPr>
              <a:t>Number + prefix + un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590920" y="2255760"/>
            <a:ext cx="3733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وحدة   +     البادئة     +       العدد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7B37-B94F-4A3A-99C4-79C560B44C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1447920" y="434340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بد من تواجد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عدد + الوحدة دائما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ما البادئة قد توجد أو تنعد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Content Placeholder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515440" cy="327672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E7BA-4EE4-4B22-93DA-23B6EDC2D24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3"/>
          <p:cNvSpPr/>
          <p:nvPr/>
        </p:nvSpPr>
        <p:spPr>
          <a:xfrm>
            <a:off x="5029200" y="838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سلامة في المعام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5813280" y="2343240"/>
            <a:ext cx="2514600" cy="32954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EF9-157F-4B9F-A08C-0C42981482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053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يف أرسم 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09040" algn="r" rtl="1">
              <a:spcBef>
                <a:spcPts val="601"/>
              </a:spcBef>
              <a:buClr>
                <a:srgbClr val="ff3f8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ستخدمي ورق الرسم البياني للر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533520" y="16765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lnSpc>
                <a:spcPct val="80000"/>
              </a:lnSpc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القلم الرصاص و المسطرة ارسمي المحاور و ضعي سهما نهاية كل محو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8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ند السهم الذي وضعتيه</a:t>
            </a:r>
            <a:r>
              <a:rPr b="0" lang="ar-SA" sz="19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ابقا قومي بتسمية المحور بالطريقة التالية 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  الكمية ( الوحدة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5256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جهد ( فولت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52560" indent="-514440" algn="r" rtl="1">
              <a:lnSpc>
                <a:spcPct val="80000"/>
              </a:lnSpc>
              <a:spcBef>
                <a:spcPts val="550"/>
              </a:spcBef>
              <a:buClr>
                <a:srgbClr val="ff3f8b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زمن ( ثانية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Content Placeholder 2"/>
          <p:cNvSpPr/>
          <p:nvPr/>
        </p:nvSpPr>
        <p:spPr>
          <a:xfrm>
            <a:off x="533520" y="35053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ومي بتقسيم المحاور حسب القراءات التي لدي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احتاج المحور لكسره ,, فضعي علامة الكس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ددي النقاط بوضع نقطة و حولها دائر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صلي النقاط بواسطة المسطرة و حاولي أن يكون الخط المستقيم متوسطا بين النقاط إن لم تستطيعي جعلها كلها تمر بالخط المستقيم , أما إذا كان الرسم منحنى فـ صلي النقاط بيد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buClr>
                <a:srgbClr val="ff3f8b"/>
              </a:buClr>
              <a:buSzPct val="8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77800" indent="-514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29C2-63C8-4922-8AF0-5FB9308902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61760" y="5257800"/>
            <a:ext cx="7334280" cy="1371600"/>
          </a:xfrm>
          <a:prstGeom prst="rect">
            <a:avLst/>
          </a:prstGeom>
          <a:solidFill>
            <a:srgbClr val="ff3f8b">
              <a:alpha val="1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رسم يكون بالقلم الرصاص فقط و يمنع الرسم بالحبر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وصيل النقاط يكون باليد إذا كانت الرسمة منحنى بينما يكون التوصيل بالمسطرة إذا كانت الرسمة خطا مستقيما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85840" indent="-285840" algn="r" rtl="1"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ضعي دائرة حول كل نقطة ترسميها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4" descr="C:\Users\11\Desktop\Scatterplot of C10 vs C11.jpg"/>
          <p:cNvPicPr/>
          <p:nvPr/>
        </p:nvPicPr>
        <p:blipFill>
          <a:blip r:embed="rId1"/>
          <a:stretch/>
        </p:blipFill>
        <p:spPr>
          <a:xfrm>
            <a:off x="685800" y="22860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4356-F937-4ECF-8B16-71808068879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Content Placeholder 5" descr=""/>
          <p:cNvPicPr/>
          <p:nvPr/>
        </p:nvPicPr>
        <p:blipFill>
          <a:blip r:embed="rId1"/>
          <a:stretch/>
        </p:blipFill>
        <p:spPr>
          <a:xfrm>
            <a:off x="91440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9CB-199D-43D1-8BF3-F561AA2B3C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تقريب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عندما يُطلب منك التقريب لــ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عشرة : أي خانة واحدة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مائة : أي خانتين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ألف : أي ثلاث خانات بعد الفاصل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قرب جزء من عشرة آلآف : أي أربع خانات بعد الفاصلة و هكذا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7B54-2C58-4EF2-83DE-8A2028EA92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كيف أقرّب 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دينا العد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68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و نريد تقريبه لأقرب جزء من مائة 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ن نحن نريد خانتين بعد الفاصلة ( أي إلى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قط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ضع عيني على العدد الذي بعد هذين الخانتين و أرى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كان هذا العدد هو</a:t>
            </a:r>
            <a:r>
              <a:rPr b="1" lang="ar-SA" sz="2800" spc="-1" strike="noStrike">
                <a:solidFill>
                  <a:srgbClr val="ef005e"/>
                </a:solidFill>
                <a:latin typeface="Century Schoolbook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5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6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7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8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9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أضيف واحد لــ العدد الذي يسبقه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أما إذا كان</a:t>
            </a:r>
            <a:r>
              <a:rPr b="1" lang="ar-SA" sz="2800" spc="-1" strike="noStrike">
                <a:solidFill>
                  <a:srgbClr val="ef005e"/>
                </a:solidFill>
                <a:latin typeface="Century Schoolbook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4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3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2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1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أو 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0</a:t>
            </a:r>
            <a:r>
              <a:rPr b="1" lang="ar-SA" sz="2800" spc="-1" strike="noStrike" u="sng">
                <a:solidFill>
                  <a:srgbClr val="ef005e"/>
                </a:solidFill>
                <a:uFillTx/>
                <a:latin typeface="Century Schoolbook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لا نضيف شيئ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78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فيصبح تقريب العد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268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لأقرب جزء من مائة هو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42.5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CC1-0C8A-4644-A5BF-0744DDDDA3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9A5-B410-4F41-AEEC-1FFBEAED82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8" descr="C:\Users\11\AppData\Local\Microsoft\Windows\Temporary Internet Files\Content.IE5\84NXX4A9\MP900438521[1].jpg"/>
          <p:cNvPicPr/>
          <p:nvPr/>
        </p:nvPicPr>
        <p:blipFill>
          <a:blip r:embed="rId1"/>
          <a:stretch/>
        </p:blipFill>
        <p:spPr>
          <a:xfrm>
            <a:off x="1143000" y="1752480"/>
            <a:ext cx="6400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324480" y="274320"/>
            <a:ext cx="24386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لا تقومي بتوصيل أي جهاز أو دائرة كهربائية بمصدر الكهرباء    ( مقابس الكهرباء )  إلا بعلم أستاذتك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أكدي من خط الجهاز (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110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ولت أو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220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فولت ) قبل توصيله بمصدر الكهرباء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0" algn="r" rtl="1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Content Placeholder 6" descr=""/>
          <p:cNvPicPr/>
          <p:nvPr/>
        </p:nvPicPr>
        <p:blipFill>
          <a:blip r:embed="rId1"/>
          <a:stretch/>
        </p:blipFill>
        <p:spPr>
          <a:xfrm>
            <a:off x="757080" y="762120"/>
            <a:ext cx="4789800" cy="495288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A8D-310C-4BB5-B8F8-59FB8C47B7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400800" y="274320"/>
            <a:ext cx="22096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ذا واجهتك مشكلة  أثناء العملي , لا تتصرفي من نفسك بل استدعي أستاذتك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1360" indent="-171360" algn="r" rtl="1">
              <a:spcBef>
                <a:spcPts val="400"/>
              </a:spcBef>
              <a:spcAft>
                <a:spcPts val="1001"/>
              </a:spcAft>
              <a:buClr>
                <a:srgbClr val="ff3f8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عرفي مخارج الطوارىء في المعمل و أماكن سطول الرمل و أدوات السلامة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1360" indent="0" algn="r" rtl="1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http://www.psdgraphics.com/wp-content/uploads/2011/05/exit-sign.jpg"/>
          <p:cNvPicPr/>
          <p:nvPr/>
        </p:nvPicPr>
        <p:blipFill>
          <a:blip r:embed="rId1"/>
          <a:stretch/>
        </p:blipFill>
        <p:spPr>
          <a:xfrm>
            <a:off x="1447920" y="1752480"/>
            <a:ext cx="3754440" cy="2819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C00-0F48-4E5C-B4D3-2165E5450C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أكدي</a:t>
            </a: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905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بإتباعك لتوجيهات و نصائح أستاذتك خلال المعمل , تضمنين لنفسك و زميلاتك السلامة و الأمان بإذن الله 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429000" y="609480"/>
            <a:ext cx="1600200" cy="990720"/>
          </a:xfrm>
          <a:prstGeom prst="rect">
            <a:avLst/>
          </a:prstGeom>
          <a:noFill/>
          <a:ln w="25560">
            <a:solidFill>
              <a:srgbClr val="ff3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http://www.proprofs.com/quiz-school/upload/yuiupload/1011487234.jpg"/>
          <p:cNvPicPr/>
          <p:nvPr/>
        </p:nvPicPr>
        <p:blipFill>
          <a:blip r:embed="rId1"/>
          <a:stretch/>
        </p:blipFill>
        <p:spPr>
          <a:xfrm>
            <a:off x="2705040" y="2990880"/>
            <a:ext cx="3467160" cy="32576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AFA9-CA3C-42BA-ACAF-E27D672B684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5486400" y="8380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نظام المعام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3" descr="C:\Users\11\AppData\Local\Microsoft\Windows\Temporary Internet Files\Content.IE5\96QYBE5E\MC900440320[1].jpg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1.bp.blogspot.com/-qUCymOmQkRM/TWABt-BjdKI/AAAAAAAAAE4/g3XiHQkj7Hg/s1600/rule_book1.gif"/>
          <p:cNvPicPr/>
          <p:nvPr/>
        </p:nvPicPr>
        <p:blipFill>
          <a:blip r:embed="rId2"/>
          <a:stretch/>
        </p:blipFill>
        <p:spPr>
          <a:xfrm>
            <a:off x="5334120" y="2895480"/>
            <a:ext cx="3195360" cy="215136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0E9A-6A14-40E4-A7B4-6DF586776F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الالتزام بوقت المعمل حضورا و انصرافا , يمنع تأخرك عن المعمل كما يمنع خروجك منه بدون إذن أستاذت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http://1.bp.blogspot.com/-Pu7KbHtDguQ/T-3ua1A-zeI/AAAAAAAAEHA/S_ada1kNhfQ/s1600/a1.jpg"/>
          <p:cNvPicPr/>
          <p:nvPr/>
        </p:nvPicPr>
        <p:blipFill>
          <a:blip r:embed="rId1"/>
          <a:stretch/>
        </p:blipFill>
        <p:spPr>
          <a:xfrm>
            <a:off x="2133720" y="21718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6311-037B-4194-B3F2-C624C6877E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إحضار أدواتك كامل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Content Placeholder 7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21080" cy="5943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لزمة المعمل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تقرير التجر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قلم رصا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آلة حاسب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ورق رسم بيان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f3f8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مسطرة طويل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21E8-725D-43CB-A9F9-5F046E5E4A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731880"/>
            <a:ext cx="74674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-457200" algn="r" rtl="1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سيتم تقسيم الشعبة إلى مجموعات صغيرة تحتوي على 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3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أو 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4</a:t>
            </a:r>
            <a:r>
              <a:rPr b="0" lang="ar-SA" sz="27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طالبات , كل مجموعة ستقوم بأداء التجربة معا , يجب على كل طالبة في المجموعة الواحدة المشاركة في أداء التجارب و التفاعل مع أفراد المجموعة و عدم الاعتماد على طالبة معينة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http://3.bp.blogspot.com/_bg6tnuddnYw/TBPTpEchwYI/AAAAAAAAAbU/tGandqdFR6o/s1600/Relationship-Marketing.jpg"/>
          <p:cNvPicPr/>
          <p:nvPr/>
        </p:nvPicPr>
        <p:blipFill>
          <a:blip r:embed="rId1"/>
          <a:stretch/>
        </p:blipFill>
        <p:spPr>
          <a:xfrm>
            <a:off x="1676520" y="2459160"/>
            <a:ext cx="5254560" cy="3941640"/>
          </a:xfrm>
          <a:prstGeom prst="rect">
            <a:avLst/>
          </a:prstGeom>
          <a:ln w="0">
            <a:noFill/>
          </a:ln>
        </p:spPr>
      </p:pic>
      <p:sp>
        <p:nvSpPr>
          <p:cNvPr id="38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6DC3-028B-4EBA-96EE-336BD3F2B0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6:42:20Z</dcterms:created>
  <dc:creator>11</dc:creator>
  <dc:description/>
  <dc:language>en-US</dc:language>
  <cp:lastModifiedBy>11</cp:lastModifiedBy>
  <dcterms:modified xsi:type="dcterms:W3CDTF">2014-09-01T05:39:10Z</dcterms:modified>
  <cp:revision>47</cp:revision>
  <dc:subject/>
  <dc:title>مقدمة لمعامل الاعداد   ( 101فيز – 110فيز – 102فيز – 104 فيز – 111فيز – 145فيز – 101 اشع )</dc:title>
</cp:coreProperties>
</file>