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2.png" ContentType="image/png"/>
  <Override PartName="/ppt/media/image10.wmf" ContentType="image/x-wmf"/>
  <Override PartName="/ppt/media/image12.jpeg" ContentType="image/jpeg"/>
  <Override PartName="/ppt/media/image11.wmf" ContentType="image/x-wmf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3902E-C34F-49F2-AC40-C2D73C49E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4DE81-143E-4908-A7CA-CBE15F16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B315E-1700-4136-98DB-E4D9AEB7C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64819-542C-483D-A37A-36B5BC114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4C1B-0092-4F50-A461-721868F2D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B2BD-E71E-440B-87A2-2143B684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DECA-8A44-4E64-A6EA-DF6CCF3F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6D9A-73C9-4BCE-A55A-2CFFD254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ED11A-55E3-4C61-A102-87FCB84D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49251-3FA6-4380-B8C6-67E405FA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2614-F109-47DD-8DAC-DFAB5FDB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347B8-AB81-49EC-A719-6726210E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765F-E739-4516-9C70-81F7E147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2236-B91F-4927-A3F8-29687918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7B87-C9D0-4996-A2CD-4AC98B8A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3EC2-132E-4FC7-B770-9150B821F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BDDB-ADD7-46D6-AC75-C61615A82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30A585-EB16-453D-9CC2-4FBE9B25F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9C55D5-7185-446D-B924-8C134CAC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A6622B-1690-4C40-B61C-845CAC7F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C694D9-E3D6-4322-8C0C-7A1B622D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3AC9DC-36DC-4736-B924-59C2DF70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E92B5-CE5B-4766-AB4F-EFF642EB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AF8906-48EC-481D-BF8F-E9905C48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ABE5A1-955E-4E22-B461-CCFFDBDB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C3BBD9-F2E1-4C0B-B41A-09C87E07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EA5C27-A85F-4ACD-9F0D-FFF20BB1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267705-35E6-4EC8-8DE1-90CD1B5A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8F9454-0D3B-44AE-AE3B-2306A5B0D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6C70AF-B003-4D8D-9708-24A9FB30D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F20E5-5020-4204-9A3C-C5852AF5A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7747F-3AF5-457B-87A6-50253CE9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8F01B-E83C-464F-A767-6FE8ECA2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19EB7-AED9-4189-9C50-C6EBD49E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0DBB3-FC90-4DF5-98B8-EAFD46E3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C814E-1D51-4C8E-A74B-09FEFC89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73611-9A0F-44C5-813B-CE2E063C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AAF88-4200-4151-91B6-33ED47F7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39853-36F6-48A9-8C3C-5AC65F6C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588A5-C2FC-4D09-AAB2-7ED06372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9F206-77EE-4FBC-B6C9-A5868038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12C1B-F391-4084-A1ED-6842765F1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69668-A137-4ABB-9511-FBAFF6030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43D6F-18DB-4409-AC7E-74440B678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269D2-C5AD-415C-9369-C3F4D6A6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D5A01-1980-47FE-B4E7-454BAAA5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D836C-16B8-483A-B8E4-95226997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A32AC-895A-4608-B5C5-9EFCE148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142BC-0A61-422C-85CC-DDC4C05E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51F2D-6975-4BE3-AE60-BCC2B3EB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81664-0100-422A-9C22-1DCBA9C6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9C44E-D117-4F9F-8821-465E61B2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DA5FA-9079-43B1-BA8F-58CDD5B2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EB18E-0B28-4024-ABB9-752D1E1A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7EF05-3E52-45A8-98DA-2B50F384C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17499-6B13-4BCF-A956-94393697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6E673-76E4-409F-8F6F-51CB893A2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691C2-AB97-4073-8007-79C7DAFA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14280-3656-4C30-B8C0-A299250D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8D9F7-4BB9-4BAE-8B98-B2F7B5B9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AFE4-4708-48A5-A295-0576B7D1C27C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9" name="Object 16"/>
          <p:cNvGraphicFramePr/>
          <p:nvPr/>
        </p:nvGraphicFramePr>
        <p:xfrm>
          <a:off x="7451640" y="260280"/>
          <a:ext cx="1239840" cy="1052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0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1640" y="260280"/>
                    <a:ext cx="1239840" cy="1052640"/>
                  </a:xfrm>
                  <a:prstGeom prst="rect">
                    <a:avLst/>
                  </a:prstGeom>
                  <a:ln w="38160">
                    <a:solidFill>
                      <a:srgbClr val="ccffcc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61" name="Group 2"/>
          <p:cNvGrpSpPr/>
          <p:nvPr/>
        </p:nvGrpSpPr>
        <p:grpSpPr>
          <a:xfrm>
            <a:off x="3240" y="0"/>
            <a:ext cx="9140760" cy="6850080"/>
            <a:chOff x="3240" y="0"/>
            <a:chExt cx="9140760" cy="6850080"/>
          </a:xfrm>
        </p:grpSpPr>
        <p:grpSp>
          <p:nvGrpSpPr>
            <p:cNvPr id="62" name="Group 3"/>
            <p:cNvGrpSpPr/>
            <p:nvPr/>
          </p:nvGrpSpPr>
          <p:grpSpPr>
            <a:xfrm>
              <a:off x="2746440" y="3540240"/>
              <a:ext cx="6392880" cy="3309840"/>
              <a:chOff x="2746440" y="3540240"/>
              <a:chExt cx="6392880" cy="3309840"/>
            </a:xfrm>
          </p:grpSpPr>
          <p:sp>
            <p:nvSpPr>
              <p:cNvPr id="63" name="Freeform 4"/>
              <p:cNvSpPr/>
              <p:nvPr/>
            </p:nvSpPr>
            <p:spPr>
              <a:xfrm>
                <a:off x="274644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5"/>
              <p:cNvSpPr/>
              <p:nvPr/>
            </p:nvSpPr>
            <p:spPr>
              <a:xfrm>
                <a:off x="662328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Freeform 6"/>
              <p:cNvSpPr/>
              <p:nvPr/>
            </p:nvSpPr>
            <p:spPr>
              <a:xfrm>
                <a:off x="460692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Freeform 7"/>
              <p:cNvSpPr/>
              <p:nvPr/>
            </p:nvSpPr>
            <p:spPr>
              <a:xfrm>
                <a:off x="436572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Freeform 8"/>
              <p:cNvSpPr/>
              <p:nvPr/>
            </p:nvSpPr>
            <p:spPr>
              <a:xfrm>
                <a:off x="714852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" name="Freeform 9"/>
            <p:cNvSpPr/>
            <p:nvPr/>
          </p:nvSpPr>
          <p:spPr>
            <a:xfrm>
              <a:off x="527688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0"/>
            <p:cNvSpPr/>
            <p:nvPr/>
          </p:nvSpPr>
          <p:spPr>
            <a:xfrm>
              <a:off x="324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62E8-1310-4C97-B879-B8DC0EA32952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12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13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86AA-65B7-41A9-96C6-0B4989B1840E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16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62" name="Group 17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63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8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9C6B-B80D-4E12-84CE-AA1E09DA9924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16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12" name="Group 17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13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8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C9C9-2E70-43AD-9037-AFD3FC1F02D0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62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63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8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Rectangle 2" descr=""/>
          <p:cNvPicPr/>
          <p:nvPr/>
        </p:nvPicPr>
        <p:blipFill>
          <a:blip r:embed="rId1"/>
          <a:stretch/>
        </p:blipFill>
        <p:spPr>
          <a:xfrm>
            <a:off x="378000" y="1444680"/>
            <a:ext cx="8388000" cy="51814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6500880" cy="11430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مقدمة </a:t>
            </a:r>
            <a:r>
              <a:rPr b="1" lang="ar-SA" sz="4400" spc="-1" strike="noStrike">
                <a:solidFill>
                  <a:srgbClr val="ffffcc"/>
                </a:solidFill>
                <a:latin typeface="Garamond"/>
                <a:ea typeface="PT Bold Heading"/>
              </a:rPr>
              <a:t>4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29" name="Picture 7" descr="Picture 004"/>
          <p:cNvPicPr/>
          <p:nvPr/>
        </p:nvPicPr>
        <p:blipFill>
          <a:blip r:embed="rId1"/>
          <a:stretch/>
        </p:blipFill>
        <p:spPr>
          <a:xfrm>
            <a:off x="214200" y="1820880"/>
            <a:ext cx="4940280" cy="460836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400360" y="2176560"/>
            <a:ext cx="3600360" cy="40384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ateen"/>
              </a:rPr>
              <a:t>مستويات الحرك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ateen"/>
              </a:rPr>
              <a:t>الأمامي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ateen"/>
              </a:rPr>
              <a:t>الجانبي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ateen"/>
              </a:rPr>
              <a:t>العرضي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ateen"/>
              </a:rPr>
              <a:t>مستويات مائل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ateen"/>
              </a:rPr>
              <a:t>المحاور لكل مستوى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مقدمة </a:t>
            </a:r>
            <a:r>
              <a:rPr b="1" lang="ar-SA" sz="4400" spc="-1" strike="noStrike">
                <a:solidFill>
                  <a:srgbClr val="ffffcc"/>
                </a:solidFill>
                <a:latin typeface="Garamond"/>
                <a:ea typeface="PT Bold Heading"/>
              </a:rPr>
              <a:t>5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5715000" y="2600280"/>
            <a:ext cx="3000240" cy="28288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ctr">
            <a:normAutofit fontScale="94000"/>
          </a:bodyPr>
          <a:p>
            <a:pPr marL="322200" indent="-32220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9ff33"/>
                </a:solidFill>
                <a:latin typeface="Garamond"/>
                <a:cs typeface="AL-Mateen"/>
              </a:rPr>
              <a:t>الإحداثيات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 algn="r" rtl="1">
              <a:spcBef>
                <a:spcPts val="9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Garamond"/>
                <a:cs typeface="AL-Mateen"/>
              </a:rPr>
              <a:t>بعد واحد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 algn="r" rtl="1">
              <a:spcBef>
                <a:spcPts val="9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Garamond"/>
                <a:cs typeface="AL-Mateen"/>
              </a:rPr>
              <a:t>بعدان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 algn="r" rtl="1">
              <a:spcBef>
                <a:spcPts val="9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Garamond"/>
                <a:cs typeface="AL-Mateen"/>
              </a:rPr>
              <a:t>ثلاثة ابعاد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33" name="Group 11"/>
          <p:cNvGrpSpPr/>
          <p:nvPr/>
        </p:nvGrpSpPr>
        <p:grpSpPr>
          <a:xfrm>
            <a:off x="714240" y="2714400"/>
            <a:ext cx="3786480" cy="2880000"/>
            <a:chOff x="714240" y="2714400"/>
            <a:chExt cx="3786480" cy="2880000"/>
          </a:xfrm>
        </p:grpSpPr>
        <p:sp>
          <p:nvSpPr>
            <p:cNvPr id="334" name="Line 9"/>
            <p:cNvSpPr/>
            <p:nvPr/>
          </p:nvSpPr>
          <p:spPr>
            <a:xfrm>
              <a:off x="2370240" y="4299120"/>
              <a:ext cx="2130480" cy="4572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10"/>
            <p:cNvSpPr/>
            <p:nvPr/>
          </p:nvSpPr>
          <p:spPr>
            <a:xfrm flipH="1">
              <a:off x="714240" y="4299120"/>
              <a:ext cx="1656000" cy="12952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Line 11"/>
            <p:cNvSpPr/>
            <p:nvPr/>
          </p:nvSpPr>
          <p:spPr>
            <a:xfrm flipV="1">
              <a:off x="2370240" y="2714400"/>
              <a:ext cx="0" cy="15843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7" name="Text Box 12"/>
          <p:cNvSpPr/>
          <p:nvPr/>
        </p:nvSpPr>
        <p:spPr>
          <a:xfrm>
            <a:off x="2000160" y="1796040"/>
            <a:ext cx="10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Arial"/>
                <a:ea typeface="AL-Mateen"/>
              </a:rPr>
              <a:t>+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12"/>
          <p:cNvSpPr/>
          <p:nvPr/>
        </p:nvSpPr>
        <p:spPr>
          <a:xfrm>
            <a:off x="142920" y="5502240"/>
            <a:ext cx="10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Arial"/>
                <a:ea typeface="AL-Mateen"/>
              </a:rPr>
              <a:t>+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4495680" y="3653280"/>
            <a:ext cx="10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ff33"/>
                </a:solidFill>
                <a:latin typeface="Arial"/>
                <a:ea typeface="AL-Mateen"/>
              </a:rPr>
              <a:t>+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686640" cy="11430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الكميات المتجه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0" y="1785960"/>
            <a:ext cx="4214880" cy="45957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  <a:cs typeface="AL-Mateen"/>
              </a:rPr>
              <a:t>تعريف </a:t>
            </a:r>
            <a:r>
              <a:rPr b="0" lang="ar-SA" sz="2000" spc="-1" strike="noStrike">
                <a:solidFill>
                  <a:srgbClr val="ffffff"/>
                </a:solidFill>
                <a:latin typeface="Garamond"/>
                <a:ea typeface="AL-Mateen"/>
              </a:rPr>
              <a:t>(مفهوم ميكانيكي له مقدار و اتجاه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  <a:cs typeface="AL-Mateen"/>
              </a:rPr>
              <a:t>طرق ايجاد المحصلة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  <a:cs typeface="AL-Mateen"/>
              </a:rPr>
              <a:t>متوازي الأضلا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  <a:cs typeface="AL-Mateen"/>
              </a:rPr>
              <a:t>الرأس على الذيل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  <a:cs typeface="AL-Mateen"/>
              </a:rPr>
              <a:t>الحسابي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Garamond"/>
                <a:cs typeface="AL-Mateen"/>
              </a:rPr>
              <a:t>معادلات المثلث القائم الزاوية</a:t>
            </a:r>
            <a:r>
              <a:rPr b="0" lang="ar-SA" sz="2400" spc="-1" strike="noStrike">
                <a:solidFill>
                  <a:srgbClr val="ffffff"/>
                </a:solidFill>
                <a:latin typeface="Garamond"/>
                <a:ea typeface="AL-Matee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4"/>
              <p:cNvSpPr txBox="1"/>
              <p:nvPr/>
            </p:nvSpPr>
            <p:spPr>
              <a:xfrm>
                <a:off x="214200" y="1714680"/>
                <a:ext cx="4221360" cy="464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op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hyp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dj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Hyp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Op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dj</m:t>
                            </m:r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3" name="Line 6"/>
          <p:cNvSpPr/>
          <p:nvPr/>
        </p:nvSpPr>
        <p:spPr>
          <a:xfrm>
            <a:off x="6129360" y="4797360"/>
            <a:ext cx="1800360" cy="115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Line 7"/>
          <p:cNvSpPr/>
          <p:nvPr/>
        </p:nvSpPr>
        <p:spPr>
          <a:xfrm flipH="1">
            <a:off x="6129000" y="595008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8"/>
          <p:cNvSpPr/>
          <p:nvPr/>
        </p:nvSpPr>
        <p:spPr>
          <a:xfrm flipV="1">
            <a:off x="6129360" y="4797360"/>
            <a:ext cx="0" cy="115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9"/>
          <p:cNvSpPr/>
          <p:nvPr/>
        </p:nvSpPr>
        <p:spPr>
          <a:xfrm>
            <a:off x="6215040" y="5950080"/>
            <a:ext cx="108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dj (B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10"/>
          <p:cNvSpPr/>
          <p:nvPr/>
        </p:nvSpPr>
        <p:spPr>
          <a:xfrm>
            <a:off x="5192640" y="537372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Opp (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11"/>
          <p:cNvSpPr/>
          <p:nvPr/>
        </p:nvSpPr>
        <p:spPr>
          <a:xfrm>
            <a:off x="6777000" y="501336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Hypo (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12"/>
          <p:cNvSpPr/>
          <p:nvPr/>
        </p:nvSpPr>
        <p:spPr>
          <a:xfrm>
            <a:off x="8172360" y="4221000"/>
            <a:ext cx="5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13"/>
          <p:cNvSpPr/>
          <p:nvPr/>
        </p:nvSpPr>
        <p:spPr>
          <a:xfrm flipV="1">
            <a:off x="7353360" y="565884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Verdana"/>
              </a:rPr>
              <a:t>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043680" cy="11430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الكينيماتيكا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Garamond"/>
                <a:cs typeface="AL-Mateen"/>
              </a:rPr>
              <a:t>تعريف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 algn="r" rtl="1">
              <a:spcBef>
                <a:spcPts val="799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ateen"/>
              </a:rPr>
              <a:t>الكينيماتيكا الخطي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 algn="r" rtl="1">
              <a:spcBef>
                <a:spcPts val="799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ateen"/>
              </a:rPr>
              <a:t>الكينيماتيكا الدوراني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 algn="r" rtl="1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209680" indent="-380880" algn="r" rtl="1">
              <a:spcBef>
                <a:spcPts val="601"/>
              </a:spcBef>
              <a:buClr>
                <a:srgbClr val="ffff00"/>
              </a:buClr>
              <a:buFont typeface="Garamond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Garamond"/>
                <a:cs typeface="PT Bold Heading"/>
              </a:rPr>
              <a:t>الخطي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752480" indent="-380880" algn="r" rtl="1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  <a:cs typeface="AL-Mateen"/>
              </a:rPr>
              <a:t>الحركة في خط مستقيم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752480" indent="-380880" algn="r" rtl="1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  <a:cs typeface="AL-Mateen"/>
              </a:rPr>
              <a:t>الحركة في خط منحني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752480" indent="-380880" algn="r" rtl="1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  <a:cs typeface="AL-Mateen"/>
              </a:rPr>
              <a:t>الحركة في خط متعرج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3" name="Line 4"/>
          <p:cNvSpPr/>
          <p:nvPr/>
        </p:nvSpPr>
        <p:spPr>
          <a:xfrm flipH="1">
            <a:off x="2556000" y="4508640"/>
            <a:ext cx="194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Freeform 10"/>
          <p:cNvSpPr/>
          <p:nvPr/>
        </p:nvSpPr>
        <p:spPr>
          <a:xfrm rot="1186800">
            <a:off x="2496960" y="4578480"/>
            <a:ext cx="2338560" cy="1368360"/>
          </a:xfrm>
          <a:custGeom>
            <a:avLst/>
            <a:gdLst>
              <a:gd name="textAreaLeft" fmla="*/ 0 w 2338560"/>
              <a:gd name="textAreaRight" fmla="*/ 2338920 w 233856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1519" h="846">
                <a:moveTo>
                  <a:pt x="1519" y="121"/>
                </a:moveTo>
                <a:cubicBezTo>
                  <a:pt x="1008" y="60"/>
                  <a:pt x="498" y="0"/>
                  <a:pt x="249" y="121"/>
                </a:cubicBezTo>
                <a:cubicBezTo>
                  <a:pt x="0" y="242"/>
                  <a:pt x="60" y="725"/>
                  <a:pt x="22" y="84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Freeform 11"/>
          <p:cNvSpPr/>
          <p:nvPr/>
        </p:nvSpPr>
        <p:spPr>
          <a:xfrm>
            <a:off x="2362320" y="5427720"/>
            <a:ext cx="2412720" cy="345960"/>
          </a:xfrm>
          <a:custGeom>
            <a:avLst/>
            <a:gdLst>
              <a:gd name="textAreaLeft" fmla="*/ 0 w 2412720"/>
              <a:gd name="textAreaRight" fmla="*/ 2413080 w 241272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1520" h="218">
                <a:moveTo>
                  <a:pt x="1520" y="69"/>
                </a:moveTo>
                <a:cubicBezTo>
                  <a:pt x="1451" y="23"/>
                  <a:pt x="1379" y="9"/>
                  <a:pt x="1296" y="0"/>
                </a:cubicBezTo>
                <a:cubicBezTo>
                  <a:pt x="1275" y="2"/>
                  <a:pt x="1253" y="1"/>
                  <a:pt x="1232" y="5"/>
                </a:cubicBezTo>
                <a:cubicBezTo>
                  <a:pt x="1207" y="10"/>
                  <a:pt x="1199" y="89"/>
                  <a:pt x="1189" y="112"/>
                </a:cubicBezTo>
                <a:cubicBezTo>
                  <a:pt x="1177" y="141"/>
                  <a:pt x="1169" y="146"/>
                  <a:pt x="1141" y="165"/>
                </a:cubicBezTo>
                <a:cubicBezTo>
                  <a:pt x="1136" y="169"/>
                  <a:pt x="1125" y="176"/>
                  <a:pt x="1125" y="176"/>
                </a:cubicBezTo>
                <a:cubicBezTo>
                  <a:pt x="1066" y="173"/>
                  <a:pt x="1035" y="175"/>
                  <a:pt x="987" y="160"/>
                </a:cubicBezTo>
                <a:cubicBezTo>
                  <a:pt x="918" y="112"/>
                  <a:pt x="856" y="45"/>
                  <a:pt x="773" y="26"/>
                </a:cubicBezTo>
                <a:cubicBezTo>
                  <a:pt x="757" y="28"/>
                  <a:pt x="740" y="26"/>
                  <a:pt x="725" y="32"/>
                </a:cubicBezTo>
                <a:cubicBezTo>
                  <a:pt x="719" y="34"/>
                  <a:pt x="711" y="59"/>
                  <a:pt x="709" y="64"/>
                </a:cubicBezTo>
                <a:cubicBezTo>
                  <a:pt x="699" y="94"/>
                  <a:pt x="701" y="138"/>
                  <a:pt x="683" y="165"/>
                </a:cubicBezTo>
                <a:cubicBezTo>
                  <a:pt x="678" y="172"/>
                  <a:pt x="660" y="188"/>
                  <a:pt x="651" y="192"/>
                </a:cubicBezTo>
                <a:cubicBezTo>
                  <a:pt x="641" y="196"/>
                  <a:pt x="619" y="202"/>
                  <a:pt x="619" y="202"/>
                </a:cubicBezTo>
                <a:cubicBezTo>
                  <a:pt x="590" y="200"/>
                  <a:pt x="561" y="203"/>
                  <a:pt x="533" y="197"/>
                </a:cubicBezTo>
                <a:cubicBezTo>
                  <a:pt x="486" y="187"/>
                  <a:pt x="461" y="123"/>
                  <a:pt x="416" y="106"/>
                </a:cubicBezTo>
                <a:cubicBezTo>
                  <a:pt x="381" y="71"/>
                  <a:pt x="368" y="86"/>
                  <a:pt x="309" y="90"/>
                </a:cubicBezTo>
                <a:cubicBezTo>
                  <a:pt x="290" y="119"/>
                  <a:pt x="268" y="166"/>
                  <a:pt x="240" y="186"/>
                </a:cubicBezTo>
                <a:cubicBezTo>
                  <a:pt x="215" y="204"/>
                  <a:pt x="227" y="200"/>
                  <a:pt x="203" y="208"/>
                </a:cubicBezTo>
                <a:cubicBezTo>
                  <a:pt x="192" y="212"/>
                  <a:pt x="171" y="218"/>
                  <a:pt x="171" y="218"/>
                </a:cubicBezTo>
                <a:cubicBezTo>
                  <a:pt x="148" y="216"/>
                  <a:pt x="124" y="216"/>
                  <a:pt x="101" y="213"/>
                </a:cubicBezTo>
                <a:cubicBezTo>
                  <a:pt x="66" y="209"/>
                  <a:pt x="36" y="192"/>
                  <a:pt x="0" y="19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28120" y="1356840"/>
            <a:ext cx="6758280" cy="11430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مفاهيم كينيماتيكية خطي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2814480"/>
            <a:ext cx="8229600" cy="304344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ctr">
            <a:normAutofit fontScale="79000"/>
          </a:bodyPr>
          <a:p>
            <a:pPr marL="270720" indent="-27072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المسافة ( تتبع مباشر للمسار من البداية الى النهاية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الإزاحة (الفرق بين البداية و النهاية فقط)= [م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-م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السرعة= (المسافة /الزمن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 السرعة المتجهة =(الإزاحة / </a:t>
            </a:r>
            <a:r>
              <a:rPr b="1" lang="el-GR" sz="3200" spc="-1" strike="noStrike">
                <a:solidFill>
                  <a:srgbClr val="ffffff"/>
                </a:solidFill>
                <a:latin typeface="Garamond"/>
              </a:rPr>
              <a:t>Δ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الزمن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العجلة = (</a:t>
            </a:r>
            <a:r>
              <a:rPr b="1" lang="el-GR" sz="3200" spc="-1" strike="noStrike">
                <a:solidFill>
                  <a:srgbClr val="ffffff"/>
                </a:solidFill>
                <a:latin typeface="Garamond"/>
              </a:rPr>
              <a:t>Δ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 السرعة المتجهة/ </a:t>
            </a:r>
            <a:r>
              <a:rPr b="1" lang="el-GR" sz="3200" spc="-1" strike="noStrike">
                <a:solidFill>
                  <a:srgbClr val="ffffff"/>
                </a:solidFill>
                <a:latin typeface="Garamond"/>
              </a:rPr>
              <a:t>Δ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 الزمن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13880" y="214200"/>
            <a:ext cx="6443640" cy="150048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كينيماتيكا العجلة الثابتة</a:t>
            </a:r>
            <a:br>
              <a:rPr sz="4400"/>
            </a:b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تطبيق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467040" y="1785960"/>
            <a:ext cx="2605320" cy="60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 algn="ct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ateen"/>
              </a:rPr>
              <a:t>معادلات الحرك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4"/>
              <p:cNvSpPr txBox="1"/>
              <p:nvPr/>
            </p:nvSpPr>
            <p:spPr>
              <a:xfrm>
                <a:off x="642960" y="2500200"/>
                <a:ext cx="7858080" cy="421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:</m:t>
                        </m:r>
                        <m:r>
                          <m:t xml:space="preserve">V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:</m:t>
                        </m:r>
                        <m:r>
                          <m:t xml:space="preserve">V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V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: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1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slow"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99760" y="142560"/>
            <a:ext cx="5643720" cy="11430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تطبيقات </a:t>
            </a:r>
            <a:r>
              <a:rPr b="1" lang="ar-SA" sz="4400" spc="-1" strike="noStrike">
                <a:solidFill>
                  <a:srgbClr val="ffffcc"/>
                </a:solidFill>
                <a:latin typeface="Garamond"/>
                <a:ea typeface="PT Bold Heading"/>
              </a:rPr>
              <a:t>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471320" y="1428840"/>
            <a:ext cx="6172200" cy="528624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ctr">
            <a:normAutofit fontScale="92000"/>
          </a:bodyPr>
          <a:p>
            <a:pPr marL="473040" indent="-47304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ateen"/>
              </a:rPr>
              <a:t>سرعة تردد كاميرا التصوي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06040" indent="-38520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ateen"/>
              </a:rPr>
              <a:t>اسقاط كرة حديدية من ارتفاع محدد (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L-Mateen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ateen"/>
              </a:rPr>
              <a:t>م مثلا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06040" indent="-38520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ateen"/>
              </a:rPr>
              <a:t>يمكن حساب زمن التردد كما يلي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77160" indent="-31536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ateen"/>
              </a:rPr>
              <a:t>المعطيات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998000" indent="-31536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L-Mateen"/>
              </a:rPr>
              <a:t>V1=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998000" indent="-31536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L-Mateen"/>
              </a:rPr>
              <a:t>a=-9.8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998000" indent="-31536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L-Mateen"/>
              </a:rPr>
              <a:t>d=-2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L-Matee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91600" indent="-350280" algn="r" rtl="1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ateen"/>
              </a:rPr>
              <a:t>المعادلة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L-Mateen"/>
              </a:rPr>
              <a:t>d=V1t+1/2at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  <a:ea typeface="AL-Matee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strips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6757920" cy="11430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تطبيقات </a:t>
            </a:r>
            <a:r>
              <a:rPr b="1" lang="ar-SA" sz="4400" spc="-1" strike="noStrike">
                <a:solidFill>
                  <a:srgbClr val="ffffcc"/>
                </a:solidFill>
                <a:latin typeface="Garamond"/>
                <a:ea typeface="PT Bold Heading"/>
              </a:rPr>
              <a:t>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714640" y="2060280"/>
            <a:ext cx="3071880" cy="6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ateen"/>
              </a:rPr>
              <a:t>التعويض في المعادل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199880" indent="0" algn="r" rtl="1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199880" indent="0" algn="r" rtl="1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199880" indent="0" algn="r" rtl="1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7"/>
              <p:cNvSpPr txBox="1"/>
              <p:nvPr/>
            </p:nvSpPr>
            <p:spPr>
              <a:xfrm>
                <a:off x="714240" y="1542960"/>
                <a:ext cx="3071880" cy="514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1</m:t>
                                </m:r>
                              </m:den>
                            </m:f>
                          </m:e>
                        </m:rad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S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5</m:t>
                        </m:r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9"/>
              <p:cNvSpPr txBox="1"/>
              <p:nvPr/>
            </p:nvSpPr>
            <p:spPr>
              <a:xfrm>
                <a:off x="4143240" y="3214800"/>
                <a:ext cx="4551480" cy="19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×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slow"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23960" y="213840"/>
            <a:ext cx="6276960" cy="11430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تطبيقات</a:t>
            </a:r>
            <a:r>
              <a:rPr b="1" lang="ar-SA" sz="4400" spc="-1" strike="noStrike">
                <a:solidFill>
                  <a:srgbClr val="ffffcc"/>
                </a:solidFill>
                <a:latin typeface="Garamond"/>
                <a:ea typeface="PT Bold Heading"/>
              </a:rPr>
              <a:t>3</a:t>
            </a:r>
            <a:r>
              <a:rPr b="1" lang="ar-SA" sz="4400" spc="-1" strike="noStrike">
                <a:solidFill>
                  <a:srgbClr val="ffffcc"/>
                </a:solidFill>
                <a:latin typeface="Garamond"/>
                <a:ea typeface="PT Bold Heading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Object 5"/>
              <p:cNvSpPr txBox="1"/>
              <p:nvPr/>
            </p:nvSpPr>
            <p:spPr>
              <a:xfrm>
                <a:off x="214200" y="1711440"/>
                <a:ext cx="4535640" cy="478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s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9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971960" y="2619000"/>
            <a:ext cx="4029120" cy="173844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ctr">
            <a:normAutofit fontScale="91000"/>
          </a:bodyPr>
          <a:p>
            <a:pPr marL="312120" indent="-31212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  <a:cs typeface="AL-Mateen"/>
              </a:rPr>
              <a:t>قياس رد الفعل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  <a:ea typeface="AL-Mateen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  <a:cs typeface="AL-Mateen"/>
              </a:rPr>
              <a:t>الغرض قياس المسافة التي تسقطها العصا كمؤشر على رد الفعل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strips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13840"/>
            <a:ext cx="6829560" cy="11430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تطبيقات </a:t>
            </a:r>
            <a:r>
              <a:rPr b="1" lang="ar-SA" sz="4400" spc="-1" strike="noStrike">
                <a:solidFill>
                  <a:srgbClr val="ffffcc"/>
                </a:solidFill>
                <a:latin typeface="Garamond"/>
                <a:ea typeface="PT Bold Heading"/>
              </a:rPr>
              <a:t>4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6360" y="1999800"/>
            <a:ext cx="381636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r" rtl="1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Garamond"/>
                <a:cs typeface="AL-Mateen"/>
              </a:rPr>
              <a:t>خطأ استخدام المعادلات في حالات أخرى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 algn="r" rtl="1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  <a:cs typeface="AL-Mateen"/>
              </a:rPr>
              <a:t>حساب السرعة الأفقية المطلوبة في الارتقاء في الوثب الطويل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4"/>
              <p:cNvSpPr txBox="1"/>
              <p:nvPr/>
            </p:nvSpPr>
            <p:spPr>
              <a:xfrm>
                <a:off x="285840" y="1414440"/>
                <a:ext cx="3857400" cy="524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m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m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s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×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t xml:space="preserve">a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t xml:space="preserve">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3" name="Text Box 6"/>
          <p:cNvSpPr/>
          <p:nvPr/>
        </p:nvSpPr>
        <p:spPr>
          <a:xfrm>
            <a:off x="5129280" y="2905200"/>
            <a:ext cx="2943000" cy="1068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00"/>
                </a:solidFill>
                <a:latin typeface="Arial"/>
                <a:cs typeface="AL-Mateen"/>
              </a:rPr>
              <a:t>حساب العجلة الأفق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5143680" y="5202360"/>
            <a:ext cx="2862000" cy="1068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00"/>
                </a:solidFill>
                <a:latin typeface="Arial"/>
                <a:cs typeface="AL-Mateen"/>
              </a:rPr>
              <a:t>حساب سرعة الارتقا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Left Arrow 8"/>
          <p:cNvSpPr/>
          <p:nvPr/>
        </p:nvSpPr>
        <p:spPr>
          <a:xfrm>
            <a:off x="2643120" y="3157560"/>
            <a:ext cx="2428920" cy="271440"/>
          </a:xfrm>
          <a:prstGeom prst="leftArrow">
            <a:avLst>
              <a:gd name="adj1" fmla="val 50000"/>
              <a:gd name="adj2" fmla="val 101704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eft Arrow 9"/>
          <p:cNvSpPr/>
          <p:nvPr/>
        </p:nvSpPr>
        <p:spPr>
          <a:xfrm>
            <a:off x="2143080" y="5386320"/>
            <a:ext cx="2938680" cy="214560"/>
          </a:xfrm>
          <a:prstGeom prst="leftArrow">
            <a:avLst>
              <a:gd name="adj1" fmla="val 50000"/>
              <a:gd name="adj2" fmla="val 101581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6043680" cy="11430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متطلبات المقرر</a:t>
            </a:r>
            <a:r>
              <a:rPr b="1" lang="ar-SA" sz="4400" spc="-1" strike="noStrike">
                <a:solidFill>
                  <a:srgbClr val="ffffcc"/>
                </a:solidFill>
                <a:latin typeface="Garamond"/>
                <a:ea typeface="PT Bold Heading"/>
              </a:rPr>
              <a:t>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69560" y="1500120"/>
            <a:ext cx="8759880" cy="51436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t">
            <a:normAutofit fontScale="99000"/>
          </a:bodyPr>
          <a:p>
            <a:pPr marL="339480" indent="-339480" algn="ctr" rtl="1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r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00"/>
                </a:solidFill>
                <a:latin typeface="Arabic Typesetting"/>
                <a:cs typeface="Arabic Typesetting"/>
              </a:rPr>
              <a:t>المادة: </a:t>
            </a:r>
            <a:r>
              <a:rPr b="1" lang="ar-SA" sz="1800" spc="-1" strike="noStrike">
                <a:solidFill>
                  <a:srgbClr val="ffff00"/>
                </a:solidFill>
                <a:latin typeface="Arabic Typesetting"/>
                <a:ea typeface="Arabic Typesetting"/>
              </a:rPr>
              <a:t>505</a:t>
            </a:r>
            <a:r>
              <a:rPr b="1" lang="ar-SA" sz="1800" spc="-1" strike="noStrike">
                <a:solidFill>
                  <a:srgbClr val="ffff00"/>
                </a:solidFill>
                <a:latin typeface="Arabic Typesetting"/>
                <a:ea typeface="Arabic Typesetting"/>
              </a:rPr>
              <a:t> مسك</a:t>
            </a:r>
            <a:r>
              <a:rPr b="1" lang="ar-SA" sz="18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	</a:t>
            </a:r>
            <a:r>
              <a:rPr b="1" lang="ar-SA" sz="18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	</a:t>
            </a:r>
            <a:r>
              <a:rPr b="1" lang="ar-SA" sz="18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الميكانيكا الحيوية في النشاط الرياضي</a:t>
            </a:r>
            <a:r>
              <a:rPr b="1" lang="ar-SA" sz="18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	</a:t>
            </a:r>
            <a:r>
              <a:rPr b="1" lang="ar-SA" sz="18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	</a:t>
            </a:r>
            <a:r>
              <a:rPr b="1" lang="ar-SA" sz="18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برنامج الماجستير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r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00"/>
                </a:solidFill>
                <a:latin typeface="Arabic Typesetting"/>
                <a:cs typeface="Arabic Typesetting"/>
              </a:rPr>
              <a:t>الفصل الأول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    تهدف هذه المادة إلى تعريف الطالب بالأسس و المبادئ الميكانيكية لمعظم مجالات الميكانيكا الحيوية. سوف يتعرض الطالب إلى الكثير من المعارف الأساسية و المتقدمة والتي تطور قدرته على فهم الحركة و مسبباتها. كما يسعى المقرر إلى استعراض أنسجة الجسم المختلفة و التي لها علاقة مباشرة بالحركة مثل العظم و الرباط  ودراسة تأثير النشاط البدني على هذه الأنسجة و ميكانيكيتها. . كذلك استعراض لبعض الدراسات السابقة . بالإضافة إلى ذلك, سوف يتم التطرق إلى أسلوب التحليل الحركي نظريا وذلك على نماذج من الألعاب الرياضية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00"/>
                </a:solidFill>
                <a:uFillTx/>
                <a:latin typeface="Arabic Typesetting"/>
                <a:cs typeface="Arabic Typesetting"/>
              </a:rPr>
              <a:t>مفردات المقرر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r" rtl="1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66ff33"/>
                </a:solidFill>
                <a:latin typeface="Arabic Typesetting"/>
                <a:ea typeface="Arabic Typesetting"/>
              </a:rPr>
              <a:t>	</a:t>
            </a:r>
            <a:r>
              <a:rPr b="0" lang="ar-SA" sz="1600" spc="-1" strike="noStrike">
                <a:solidFill>
                  <a:srgbClr val="66ff33"/>
                </a:solidFill>
                <a:latin typeface="Arabic Typesetting"/>
                <a:ea typeface="Arabic Typesetting"/>
              </a:rPr>
              <a:t>	</a:t>
            </a:r>
            <a:r>
              <a:rPr b="0" lang="ar-SA" sz="1600" spc="-1" strike="noStrike">
                <a:solidFill>
                  <a:srgbClr val="66ff33"/>
                </a:solidFill>
                <a:latin typeface="Arabic Typesetting"/>
                <a:cs typeface="Arabic Typesetting"/>
              </a:rPr>
              <a:t>الكينماتيكا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r" rtl="1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	</a:t>
            </a: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	</a:t>
            </a: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الكينماتيكا الخطية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r" rtl="1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	</a:t>
            </a: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	</a:t>
            </a: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	</a:t>
            </a: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المسافة والإزاحة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r" rtl="1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	</a:t>
            </a: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	</a:t>
            </a: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	</a:t>
            </a: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السرعة والسرعة المتجهة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r" rtl="1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	</a:t>
            </a: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	</a:t>
            </a: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	</a:t>
            </a: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العجلة (التسارع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r" rtl="1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eef4f9"/>
                </a:solidFill>
                <a:latin typeface="Arabic Typesetting"/>
                <a:ea typeface="Arabic Typesetting"/>
              </a:rPr>
              <a:t>	</a:t>
            </a:r>
            <a:r>
              <a:rPr b="0" lang="ar-SA" sz="1600" spc="-1" strike="noStrike">
                <a:solidFill>
                  <a:srgbClr val="eef4f9"/>
                </a:solidFill>
                <a:latin typeface="Arabic Typesetting"/>
                <a:ea typeface="Arabic Typesetting"/>
              </a:rPr>
              <a:t>	</a:t>
            </a:r>
            <a:r>
              <a:rPr b="0" lang="ar-SA" sz="1600" spc="-1" strike="noStrike">
                <a:solidFill>
                  <a:srgbClr val="eef4f9"/>
                </a:solidFill>
                <a:latin typeface="Arabic Typesetting"/>
                <a:cs typeface="Arabic Typesetting"/>
              </a:rPr>
              <a:t>الكينماتيكا</a:t>
            </a:r>
            <a:r>
              <a:rPr b="0" lang="en-US" sz="1600" spc="-1" strike="noStrike">
                <a:solidFill>
                  <a:srgbClr val="eef4f9"/>
                </a:solidFill>
                <a:latin typeface="Arabic Typesetting"/>
                <a:ea typeface="Arabic Typesetting"/>
              </a:rPr>
              <a:t> </a:t>
            </a:r>
            <a:r>
              <a:rPr b="0" lang="ar-SA" sz="1600" spc="-1" strike="noStrike">
                <a:solidFill>
                  <a:srgbClr val="eef4f9"/>
                </a:solidFill>
                <a:latin typeface="Arabic Typesetting"/>
                <a:ea typeface="Arabic Typesetting"/>
              </a:rPr>
              <a:t> الدورانية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r" rtl="1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	</a:t>
            </a: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	</a:t>
            </a: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	</a:t>
            </a: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المسافة الزاوية و الإزاحة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r" rtl="1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	</a:t>
            </a: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	</a:t>
            </a: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	</a:t>
            </a: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السرعة الزاوية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r" rtl="1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	</a:t>
            </a: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	</a:t>
            </a: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	</a:t>
            </a: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العجلة الزاوية</a:t>
            </a: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trips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273720" cy="167652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كينيماتيكا العجلة الثابتة</a:t>
            </a:r>
            <a:br>
              <a:rPr sz="4400"/>
            </a:br>
            <a:r>
              <a:rPr b="1" i="1" lang="ar-SA" sz="4400" spc="-1" strike="noStrike" u="sng">
                <a:solidFill>
                  <a:srgbClr val="ffffcc"/>
                </a:solidFill>
                <a:uFillTx/>
                <a:latin typeface="Garamond"/>
                <a:cs typeface="PT Bold Heading"/>
              </a:rPr>
              <a:t>المقذوف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28440" y="2000160"/>
            <a:ext cx="7700760" cy="45007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ctr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ateen"/>
              </a:rPr>
              <a:t>ماهي المقذوفة ( الجسم الذي تؤثر علية الجاذبية الأرضية فقط) (افترض عدم تأثير الهواء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Garamond"/>
                <a:cs typeface="AL-Mateen"/>
              </a:rPr>
              <a:t>العوامل المؤثرة على المقذوف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263760" indent="-40788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ateen"/>
              </a:rPr>
              <a:t>مستوى الإطلا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263760" indent="-40788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ateen"/>
              </a:rPr>
              <a:t>زاوية الإطلا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263760" indent="-40788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ateen"/>
              </a:rPr>
              <a:t>سرعة الإطلا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61760" y="142560"/>
            <a:ext cx="5738760" cy="11430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المقذوف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143680" y="1773000"/>
            <a:ext cx="3924000" cy="439236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ctr">
            <a:normAutofit fontScale="89000"/>
          </a:bodyPr>
          <a:p>
            <a:pPr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  <a:cs typeface="AL-Mateen"/>
              </a:rPr>
              <a:t>الجدول يوضح اختلاف الزاوية اعتمادا على التغير في ارتفاع و سرعة الإطلاق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252720" indent="-203400" algn="just" rtl="1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Garamond"/>
                <a:cs typeface="AL-Mateen"/>
              </a:rPr>
              <a:t>الخلاصة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566280" indent="-203400" algn="just" rtl="1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Garamond"/>
                <a:cs typeface="AL-Mateen"/>
              </a:rPr>
              <a:t>الزاوية المثالية دائما اقل من </a:t>
            </a:r>
            <a:r>
              <a:rPr b="0" lang="ar-SA" sz="2000" spc="-1" strike="noStrike">
                <a:solidFill>
                  <a:srgbClr val="ffffff"/>
                </a:solidFill>
                <a:latin typeface="Garamond"/>
                <a:ea typeface="AL-Mateen"/>
              </a:rPr>
              <a:t>45</a:t>
            </a:r>
            <a:r>
              <a:rPr b="0" lang="ar-SA" sz="2000" spc="-1" strike="noStrike">
                <a:solidFill>
                  <a:srgbClr val="ffffff"/>
                </a:solidFill>
                <a:latin typeface="Garamond"/>
                <a:ea typeface="AL-Mateen"/>
              </a:rPr>
              <a:t> درجة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566280" indent="-203400" algn="just" rtl="1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Garamond"/>
                <a:cs typeface="AL-Mateen"/>
              </a:rPr>
              <a:t>لأي ارتفاع اطلاق، كلما زادت سرعة الاطلاق، قاربت الزاوية من </a:t>
            </a:r>
            <a:r>
              <a:rPr b="0" lang="ar-SA" sz="2000" spc="-1" strike="noStrike">
                <a:solidFill>
                  <a:srgbClr val="ffffff"/>
                </a:solidFill>
                <a:latin typeface="Garamond"/>
                <a:ea typeface="AL-Mateen"/>
              </a:rPr>
              <a:t>4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566280" indent="-203400" algn="just" rtl="1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Garamond"/>
                <a:cs typeface="AL-Mateen"/>
              </a:rPr>
              <a:t>لأي سرعة اطلاق، كلما زاد ارتفاع الاطلاق، كلما قل الزاوية المثالية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566280" indent="-203400" algn="just" rtl="1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Garamond"/>
                <a:cs typeface="AL-Mateen"/>
              </a:rPr>
              <a:t>أي زيادة في ارتفاع الاطلاق او سرعة الاطلاق لا ينتج عنه تغير ثابت و مساوي للزاوية المثالية او المسافة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1" name="Line 157"/>
          <p:cNvSpPr/>
          <p:nvPr/>
        </p:nvSpPr>
        <p:spPr>
          <a:xfrm>
            <a:off x="1303200" y="1204920"/>
            <a:ext cx="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165"/>
          <p:cNvSpPr/>
          <p:nvPr/>
        </p:nvSpPr>
        <p:spPr>
          <a:xfrm>
            <a:off x="7835760" y="1495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Line 166"/>
          <p:cNvSpPr/>
          <p:nvPr/>
        </p:nvSpPr>
        <p:spPr>
          <a:xfrm>
            <a:off x="1303200" y="1204920"/>
            <a:ext cx="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185"/>
          <p:cNvSpPr/>
          <p:nvPr/>
        </p:nvSpPr>
        <p:spPr>
          <a:xfrm>
            <a:off x="7835760" y="1495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214200" y="1393920"/>
          <a:ext cx="4718160" cy="5278320"/>
        </p:xfrm>
        <a:graphic>
          <a:graphicData uri="http://schemas.openxmlformats.org/drawingml/2006/table">
            <a:tbl>
              <a:tblPr/>
              <a:tblGrid>
                <a:gridCol w="674640"/>
                <a:gridCol w="671760"/>
                <a:gridCol w="674640"/>
                <a:gridCol w="674640"/>
                <a:gridCol w="674640"/>
                <a:gridCol w="671400"/>
                <a:gridCol w="676440"/>
              </a:tblGrid>
              <a:tr h="307080">
                <a:tc rowSpan="2"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gridSpan="6"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cs typeface="Traditional Arabic"/>
                        </a:rPr>
                        <a:t>سرعة الإطلاق (م/ث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42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42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41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41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40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39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(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21.73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cs typeface="Traditional Arabic"/>
                        </a:rPr>
                        <a:t>م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(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8.96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cs typeface="Traditional Arabic"/>
                        </a:rPr>
                        <a:t>م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(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6.40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cs typeface="Traditional Arabic"/>
                        </a:rPr>
                        <a:t>م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(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4.03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 م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(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1.87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 م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(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9.90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 م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42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42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41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41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40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39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2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(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21.91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cs typeface="Traditional Arabic"/>
                        </a:rPr>
                        <a:t>م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(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9.14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cs typeface="Traditional Arabic"/>
                        </a:rPr>
                        <a:t>م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6.57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cs typeface="Traditional Arabic"/>
                        </a:rPr>
                        <a:t>م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(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4.21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cs typeface="Traditional Arabic"/>
                        </a:rPr>
                        <a:t>م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(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2.04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cs typeface="Traditional Arabic"/>
                        </a:rPr>
                        <a:t>م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(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0.07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cs typeface="Traditional Arabic"/>
                        </a:rPr>
                        <a:t>م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42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41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41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40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39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39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2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(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22.09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cs typeface="Traditional Arabic"/>
                        </a:rPr>
                        <a:t>م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(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9.32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cs typeface="Traditional Arabic"/>
                        </a:rPr>
                        <a:t>م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(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6.75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cs typeface="Traditional Arabic"/>
                        </a:rPr>
                        <a:t>م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4.38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cs typeface="Traditional Arabic"/>
                        </a:rPr>
                        <a:t>م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(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2.21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cs typeface="Traditional Arabic"/>
                        </a:rPr>
                        <a:t>م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(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0.23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cs typeface="Traditional Arabic"/>
                        </a:rPr>
                        <a:t>م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41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41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41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40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39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38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2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(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22.27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cs typeface="Traditional Arabic"/>
                        </a:rPr>
                        <a:t>م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(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9.50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cs typeface="Traditional Arabic"/>
                        </a:rPr>
                        <a:t>م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(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6.92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cs typeface="Traditional Arabic"/>
                        </a:rPr>
                        <a:t>م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(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4.55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cs typeface="Traditional Arabic"/>
                        </a:rPr>
                        <a:t>م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(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2.37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cs typeface="Traditional Arabic"/>
                        </a:rPr>
                        <a:t>م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(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0.39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imes New Roman"/>
                          <a:cs typeface="Traditional Arabic"/>
                        </a:rPr>
                        <a:t>م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372680">
                <a:tc gridSpan="7">
                  <a:txBody>
                    <a:bodyPr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a</a:t>
                      </a:r>
                      <a:r>
                        <a:rPr b="1" lang="ar-EG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 المسافات المحصلة من المزيج المشار إليه من سرعة وارتفاع الإطلاق والزاوية المثالية موضح بين القوسين. هذه المسفات لا تتضمن المسافات الإضافية (تقريباً </a:t>
                      </a:r>
                      <a:r>
                        <a:rPr b="1" lang="ar-EG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.3</a:t>
                      </a:r>
                      <a:r>
                        <a:rPr b="1" lang="ar-EG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 م) التي تكون فيها الجلة متقدمة على الحافة الداخلية لأعلى اللوح عند لحظة الإطلاق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strips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6461280" cy="11430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المقذوف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285800" y="1571760"/>
            <a:ext cx="4714920" cy="521496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ctr">
            <a:normAutofit fontScale="84000"/>
          </a:bodyPr>
          <a:p>
            <a:pPr marL="288000" indent="-288000" algn="just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  <a:cs typeface="AL-Mateen"/>
              </a:rPr>
              <a:t>علمنا تأثير الثلاث عوامل مجتمعة في الجدول السابق. الآن سوف نحاول التعرف على تأثير كل واحد من هذه العوامل منفردة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 algn="just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  <a:cs typeface="AL-Mateen"/>
              </a:rPr>
              <a:t>الجدول للاعب دفع جلة بمحاولة سجل بها 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  <a:ea typeface="AL-Mateen"/>
              </a:rPr>
              <a:t>12.03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  <a:cs typeface="AL-Mateen"/>
              </a:rPr>
              <a:t>م مع ارتفاع اطلاق 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  <a:ea typeface="AL-Mateen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  <a:cs typeface="AL-Mateen"/>
              </a:rPr>
              <a:t>م و سرعة اطلاق 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  <a:ea typeface="AL-Mateen"/>
              </a:rPr>
              <a:t>10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  <a:cs typeface="AL-Mateen"/>
              </a:rPr>
              <a:t>م/ث و زاوية اطلاق 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  <a:ea typeface="AL-Mateen"/>
              </a:rPr>
              <a:t>40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  <a:ea typeface="AL-Mateen"/>
              </a:rPr>
              <a:t> درجة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 algn="just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  <a:cs typeface="AL-Mateen"/>
              </a:rPr>
              <a:t>الشكل المقابل يشير الى التغير في المسافة  الأفقية للجلة عند تغيير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Garamond"/>
                <a:cs typeface="AL-Mateen"/>
              </a:rPr>
              <a:t>ارتفاع الاطلاق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  <a:ea typeface="AL-Matee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 algn="just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  <a:cs typeface="AL-Mateen"/>
              </a:rPr>
              <a:t>و ثبات السرعة و الزاوية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 algn="just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  <a:cs typeface="AL-Mateen"/>
              </a:rPr>
              <a:t>التغير بمقدار 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  <a:ea typeface="AL-Mateen"/>
              </a:rPr>
              <a:t>5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  <a:ea typeface="AL-Mateen"/>
              </a:rPr>
              <a:t>% في ارتفاع الاطلاق نتج عنه تغير في المسافة بمقدار 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  <a:ea typeface="AL-Mateen"/>
              </a:rPr>
              <a:t>0.085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  <a:cs typeface="AL-Mateen"/>
              </a:rPr>
              <a:t>م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88" name="Picture 7" descr="3-14"/>
          <p:cNvPicPr/>
          <p:nvPr/>
        </p:nvPicPr>
        <p:blipFill>
          <a:blip r:embed="rId1"/>
          <a:srcRect l="0" t="0" r="0" b="8035"/>
          <a:stretch/>
        </p:blipFill>
        <p:spPr>
          <a:xfrm>
            <a:off x="160200" y="1857240"/>
            <a:ext cx="4054680" cy="47865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389" name="Left Arrow 5"/>
          <p:cNvSpPr/>
          <p:nvPr/>
        </p:nvSpPr>
        <p:spPr>
          <a:xfrm>
            <a:off x="3714840" y="5143680"/>
            <a:ext cx="857160" cy="214200"/>
          </a:xfrm>
          <a:prstGeom prst="leftArrow">
            <a:avLst>
              <a:gd name="adj1" fmla="val 50000"/>
              <a:gd name="adj2" fmla="val 50021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المقذوف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91" name="Picture 8" descr="3-14ب"/>
          <p:cNvPicPr/>
          <p:nvPr/>
        </p:nvPicPr>
        <p:blipFill>
          <a:blip r:embed="rId1"/>
          <a:srcRect l="0" t="4208" r="0" b="3913"/>
          <a:stretch/>
        </p:blipFill>
        <p:spPr>
          <a:xfrm>
            <a:off x="214200" y="1533600"/>
            <a:ext cx="4143600" cy="5073480"/>
          </a:xfrm>
          <a:prstGeom prst="rect">
            <a:avLst/>
          </a:prstGeom>
          <a:ln w="28440">
            <a:solidFill>
              <a:srgbClr val="66ff33"/>
            </a:solidFill>
            <a:miter/>
          </a:ln>
        </p:spPr>
      </p:pic>
      <p:sp>
        <p:nvSpPr>
          <p:cNvPr id="392" name="Text Box 4"/>
          <p:cNvSpPr/>
          <p:nvPr/>
        </p:nvSpPr>
        <p:spPr>
          <a:xfrm>
            <a:off x="4643280" y="1008000"/>
            <a:ext cx="3816360" cy="545292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AL-Mateen"/>
              </a:rPr>
              <a:t>الجدول المقابل يوضح التغير في المسافة الأفقية نتيجة الى تغيير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  <a:cs typeface="AL-Mateen"/>
              </a:rPr>
              <a:t>سرعة الاطلاق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AL-Matee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AL-Mateen"/>
              </a:rPr>
              <a:t>تغيير ايضا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AL-Mateen"/>
              </a:rPr>
              <a:t>5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AL-Mateen"/>
              </a:rPr>
              <a:t>% في السرعة يؤدي الى تغير في المسافة بمقدار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AL-Mateen"/>
              </a:rPr>
              <a:t>1.057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AL-Mateen"/>
              </a:rPr>
              <a:t>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  <a:cs typeface="AL-Mateen"/>
              </a:rPr>
              <a:t>التغير في زاوية الإطلا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eft Arrow 6"/>
          <p:cNvSpPr/>
          <p:nvPr/>
        </p:nvSpPr>
        <p:spPr>
          <a:xfrm>
            <a:off x="3714840" y="3000240"/>
            <a:ext cx="2214360" cy="214560"/>
          </a:xfrm>
          <a:prstGeom prst="leftArrow">
            <a:avLst>
              <a:gd name="adj1" fmla="val 50000"/>
              <a:gd name="adj2" fmla="val 4993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Left Arrow 7"/>
          <p:cNvSpPr/>
          <p:nvPr/>
        </p:nvSpPr>
        <p:spPr>
          <a:xfrm>
            <a:off x="4081320" y="5286240"/>
            <a:ext cx="1847880" cy="214560"/>
          </a:xfrm>
          <a:prstGeom prst="leftArrow">
            <a:avLst>
              <a:gd name="adj1" fmla="val 50000"/>
              <a:gd name="adj2" fmla="val 4996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686640" cy="11430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المقذوف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96" name="Picture 7" descr="3-14ب"/>
          <p:cNvPicPr/>
          <p:nvPr/>
        </p:nvPicPr>
        <p:blipFill>
          <a:blip r:embed="rId1"/>
          <a:srcRect l="0" t="4208" r="0" b="3913"/>
          <a:stretch/>
        </p:blipFill>
        <p:spPr>
          <a:xfrm>
            <a:off x="285840" y="1916280"/>
            <a:ext cx="4246560" cy="45129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397" name="Text Box 4"/>
          <p:cNvSpPr/>
          <p:nvPr/>
        </p:nvSpPr>
        <p:spPr>
          <a:xfrm>
            <a:off x="5076720" y="1916280"/>
            <a:ext cx="33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4643280" y="1916280"/>
            <a:ext cx="4105440" cy="596412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AL-Mateen"/>
              </a:rPr>
              <a:t> الشكل يوضح تقصان في المسافة بمقدار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AL-Mateen"/>
              </a:rPr>
              <a:t>0.015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AL-Mateen"/>
              </a:rPr>
              <a:t>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AL-Mateen"/>
              </a:rPr>
              <a:t>الأشكال الثلاثة توضح ان الزيادة في سرعة الاطلاق انتجت اكبر تغير في المساف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AL-Mateen"/>
              </a:rPr>
              <a:t> الجدول المقابل يوضح التغير في المسافة الأفقية نتيجة الى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AL-Mateen"/>
              </a:rPr>
              <a:t>5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AL-Mateen"/>
              </a:rPr>
              <a:t>% تغير في زاوية الاطلا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6615000" cy="11430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المقذوف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400" name="Group 5"/>
          <p:cNvGrpSpPr/>
          <p:nvPr/>
        </p:nvGrpSpPr>
        <p:grpSpPr>
          <a:xfrm>
            <a:off x="428760" y="1371600"/>
            <a:ext cx="4572000" cy="5402160"/>
            <a:chOff x="428760" y="1371600"/>
            <a:chExt cx="4572000" cy="5402160"/>
          </a:xfrm>
        </p:grpSpPr>
        <p:graphicFrame>
          <p:nvGraphicFramePr>
            <p:cNvPr id="401" name="Object 6"/>
            <p:cNvGraphicFramePr/>
            <p:nvPr/>
          </p:nvGraphicFramePr>
          <p:xfrm>
            <a:off x="474480" y="1371600"/>
            <a:ext cx="4451400" cy="39146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402" name="Object 6" descr="Blue tissue paper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74480" y="1371600"/>
                      <a:ext cx="4451400" cy="391464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03" name="Object 7"/>
            <p:cNvGraphicFramePr/>
            <p:nvPr/>
          </p:nvGraphicFramePr>
          <p:xfrm>
            <a:off x="428760" y="5381640"/>
            <a:ext cx="4572000" cy="139212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404" name="Object 7" descr="Blue tissue paper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8760" y="5381640"/>
                      <a:ext cx="4572000" cy="13921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405" name="Text Box 4"/>
          <p:cNvSpPr/>
          <p:nvPr/>
        </p:nvSpPr>
        <p:spPr>
          <a:xfrm>
            <a:off x="5214960" y="2549520"/>
            <a:ext cx="3676680" cy="283716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L-Mateen"/>
              </a:rPr>
              <a:t>الجدول يوضح نتائج المسافة مع التغير في العوامل الثلاثة المؤثرة على المقذوف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0040" y="274320"/>
            <a:ext cx="6572160" cy="11430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المقذوف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407" name="Picture 5" descr="3-15"/>
          <p:cNvPicPr/>
          <p:nvPr/>
        </p:nvPicPr>
        <p:blipFill>
          <a:blip r:embed="rId1">
            <a:lum contrast="16000"/>
          </a:blip>
          <a:stretch/>
        </p:blipFill>
        <p:spPr>
          <a:xfrm>
            <a:off x="428760" y="1701720"/>
            <a:ext cx="8286480" cy="47275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strips dir="l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29560" cy="11430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المقذوف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409" name="Picture 5" descr="3-16"/>
          <p:cNvPicPr/>
          <p:nvPr/>
        </p:nvPicPr>
        <p:blipFill>
          <a:blip r:embed="rId1"/>
          <a:srcRect l="5234" t="3516" r="0" b="13799"/>
          <a:stretch/>
        </p:blipFill>
        <p:spPr>
          <a:xfrm>
            <a:off x="428760" y="1571760"/>
            <a:ext cx="8286480" cy="52275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strips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686640" cy="151128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كينيماتيكا العجلة الثابتة</a:t>
            </a:r>
            <a:br>
              <a:rPr sz="4400"/>
            </a:br>
            <a:r>
              <a:rPr b="1" i="1" lang="ar-SA" sz="4400" spc="-1" strike="noStrike" u="sng">
                <a:solidFill>
                  <a:srgbClr val="ffffcc"/>
                </a:solidFill>
                <a:uFillTx/>
                <a:latin typeface="Garamond"/>
                <a:cs typeface="PT Bold Heading"/>
              </a:rPr>
              <a:t>المقذوفات</a:t>
            </a:r>
            <a:r>
              <a:rPr b="1" i="1" lang="ar-SA" sz="4400" spc="-1" strike="noStrike" u="sng">
                <a:solidFill>
                  <a:srgbClr val="ffffcc"/>
                </a:solidFill>
                <a:uFillTx/>
                <a:latin typeface="Garamond"/>
                <a:ea typeface="PT Bold Heading"/>
              </a:rPr>
              <a:t>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13"/>
              <p:cNvSpPr txBox="1"/>
              <p:nvPr/>
            </p:nvSpPr>
            <p:spPr>
              <a:xfrm>
                <a:off x="642960" y="2071800"/>
                <a:ext cx="2643120" cy="25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17"/>
              <p:cNvSpPr txBox="1"/>
              <p:nvPr/>
            </p:nvSpPr>
            <p:spPr>
              <a:xfrm>
                <a:off x="642960" y="4797360"/>
                <a:ext cx="264312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×</m:t>
                        </m:r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03600" y="1904760"/>
            <a:ext cx="3454200" cy="445284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ctr">
            <a:normAutofit fontScale="87000"/>
          </a:bodyPr>
          <a:p>
            <a:pPr marL="2984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Garamond"/>
                <a:cs typeface="AL-Mateen"/>
              </a:rPr>
              <a:t>المسار الأفقي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 algn="r" rtl="1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Garamond"/>
                <a:cs typeface="AL-Mateen"/>
              </a:rPr>
              <a:t>المدى الأفقي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 algn="r" rtl="1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Garamond"/>
                <a:cs typeface="AL-Mateen"/>
              </a:rPr>
              <a:t>إيجاد مكونات السرع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0" algn="r" rtl="1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 rtl="1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Garamond"/>
                <a:cs typeface="AL-Mateen"/>
              </a:rPr>
              <a:t>من المعادلة الأخيرة يتضح انه لكي تغير من المدى الأفقي للمقذوف يمكن فقط تغيير زمن الطيران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 rtl="1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Garamond"/>
                <a:cs typeface="AL-Mateen"/>
              </a:rPr>
              <a:t>او السرعة الأفقية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4" name="Line 12"/>
          <p:cNvSpPr/>
          <p:nvPr/>
        </p:nvSpPr>
        <p:spPr>
          <a:xfrm flipH="1">
            <a:off x="3851280" y="2997360"/>
            <a:ext cx="15127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15"/>
          <p:cNvSpPr/>
          <p:nvPr/>
        </p:nvSpPr>
        <p:spPr>
          <a:xfrm>
            <a:off x="3773520" y="5084640"/>
            <a:ext cx="15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AL-Mateen"/>
              </a:rPr>
              <a:t>باستخدام المعادل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19"/>
          <p:cNvSpPr/>
          <p:nvPr/>
        </p:nvSpPr>
        <p:spPr>
          <a:xfrm>
            <a:off x="4492800" y="4076640"/>
            <a:ext cx="93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AL-Mateen"/>
              </a:rPr>
              <a:t>المعطيات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Line 20"/>
          <p:cNvSpPr/>
          <p:nvPr/>
        </p:nvSpPr>
        <p:spPr>
          <a:xfrm flipH="1">
            <a:off x="3420720" y="4292640"/>
            <a:ext cx="1079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Line 12"/>
          <p:cNvSpPr/>
          <p:nvPr/>
        </p:nvSpPr>
        <p:spPr>
          <a:xfrm flipH="1" flipV="1">
            <a:off x="3286080" y="5286240"/>
            <a:ext cx="571680" cy="46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Line 12"/>
          <p:cNvSpPr/>
          <p:nvPr/>
        </p:nvSpPr>
        <p:spPr>
          <a:xfrm flipH="1">
            <a:off x="3429000" y="5786280"/>
            <a:ext cx="2239920" cy="500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المقذوفات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716360" y="1916280"/>
            <a:ext cx="4213440" cy="40384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t">
            <a:normAutofit fontScale="84000"/>
          </a:bodyPr>
          <a:p>
            <a:pPr marL="288000" indent="-288000" algn="r" rtl="1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  <a:cs typeface="AL-Mateen"/>
              </a:rPr>
              <a:t>الحركة العمودي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60120" indent="-191880" algn="r" rtl="1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  <a:cs typeface="AL-Mateen"/>
              </a:rPr>
              <a:t>عندما يكون هناك مسار عمودي للجسم تكون السرعة العمودية هي المسئولة عنه من الطيران ايضا السرعة العمودية هي في الغالب المسئولة عنه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60120" indent="-191880" algn="r" rtl="1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  <a:cs typeface="AL-Mateen"/>
              </a:rPr>
              <a:t>زمن الطيران = زمن الصعود + زمن الهبوط (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AL-Mateen"/>
              </a:rPr>
              <a:t>T=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  <a:ea typeface="AL-Mateen"/>
              </a:rPr>
              <a:t>up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AL-Mateen"/>
              </a:rPr>
              <a:t>+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  <a:ea typeface="AL-Mateen"/>
              </a:rPr>
              <a:t>down</a:t>
            </a:r>
            <a:r>
              <a:rPr b="0" lang="ar-SA" sz="2400" spc="-1" strike="noStrike">
                <a:solidFill>
                  <a:srgbClr val="ffffff"/>
                </a:solidFill>
                <a:latin typeface="Garamond"/>
                <a:ea typeface="AL-Matee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AL-Mateen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60120" indent="-191880" algn="r" rtl="1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  <a:cs typeface="AL-Mateen"/>
              </a:rPr>
              <a:t>يمكن حساب زمن الصعود كما يلي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4"/>
              <p:cNvSpPr txBox="1"/>
              <p:nvPr/>
            </p:nvSpPr>
            <p:spPr>
              <a:xfrm>
                <a:off x="214200" y="1603440"/>
                <a:ext cx="2714760" cy="28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6"/>
              <p:cNvSpPr txBox="1"/>
              <p:nvPr/>
            </p:nvSpPr>
            <p:spPr>
              <a:xfrm>
                <a:off x="214200" y="4538520"/>
                <a:ext cx="2714760" cy="196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4" name="Line 9"/>
          <p:cNvSpPr/>
          <p:nvPr/>
        </p:nvSpPr>
        <p:spPr>
          <a:xfrm flipH="1" flipV="1">
            <a:off x="3780000" y="5013360"/>
            <a:ext cx="792000" cy="27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Line 10"/>
          <p:cNvSpPr/>
          <p:nvPr/>
        </p:nvSpPr>
        <p:spPr>
          <a:xfrm flipH="1" flipV="1">
            <a:off x="2700000" y="4076640"/>
            <a:ext cx="107964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Line 11"/>
          <p:cNvSpPr/>
          <p:nvPr/>
        </p:nvSpPr>
        <p:spPr>
          <a:xfrm flipH="1">
            <a:off x="2484000" y="5013360"/>
            <a:ext cx="129564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12"/>
          <p:cNvSpPr/>
          <p:nvPr/>
        </p:nvSpPr>
        <p:spPr>
          <a:xfrm>
            <a:off x="3057480" y="425304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AL-Mateen"/>
              </a:rPr>
              <a:t>المعطيا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13"/>
          <p:cNvSpPr/>
          <p:nvPr/>
        </p:nvSpPr>
        <p:spPr>
          <a:xfrm>
            <a:off x="2771640" y="5373720"/>
            <a:ext cx="13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AL-Mateen"/>
              </a:rPr>
              <a:t>التعوي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تابع متطلبات المقرر</a:t>
            </a:r>
            <a:r>
              <a:rPr b="1" lang="ar-SA" sz="4400" spc="-1" strike="noStrike">
                <a:solidFill>
                  <a:srgbClr val="ffffcc"/>
                </a:solidFill>
                <a:latin typeface="Garamond"/>
                <a:ea typeface="PT Bold Heading"/>
              </a:rPr>
              <a:t>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ctr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Garamond"/>
                <a:cs typeface="PT Bold Heading"/>
              </a:rPr>
              <a:t>الكيناتيكا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Garamond"/>
                <a:cs typeface="PT Bold Heading"/>
              </a:rPr>
              <a:t>الكيناتيكا الخطي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  <a:cs typeface="AL-Mateen"/>
              </a:rPr>
              <a:t>قوانين نيوتن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  <a:cs typeface="AL-Mateen"/>
              </a:rPr>
              <a:t>الدفع الخطي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  <a:cs typeface="AL-Mateen"/>
              </a:rPr>
              <a:t>قوانين الطاق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Garamond"/>
                <a:cs typeface="PT Bold Heading"/>
              </a:rPr>
              <a:t>الكيناتيكا الدوراني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  <a:cs typeface="AL-Mateen"/>
              </a:rPr>
              <a:t>قوانين نيوتن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  <a:cs typeface="AL-Mateen"/>
              </a:rPr>
              <a:t>مركز الثقل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  <a:cs typeface="AL-Mateen"/>
              </a:rPr>
              <a:t>الدفع الدوراني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ff33"/>
                </a:solidFill>
                <a:latin typeface="Garamond"/>
                <a:cs typeface="AL-Mateen"/>
              </a:rPr>
              <a:t>قوانين الطاق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ff33"/>
                </a:solidFill>
                <a:latin typeface="Garamond"/>
                <a:cs typeface="AL-Mateen"/>
              </a:rPr>
              <a:t>ديناميكا الموائ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456080" indent="-285840" algn="r" rtl="1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Garamond"/>
                <a:cs typeface="AL-Mateen"/>
              </a:rPr>
              <a:t>الهواء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4456080" indent="-285840" algn="r" rtl="1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Garamond"/>
                <a:cs typeface="AL-Mateen"/>
              </a:rPr>
              <a:t>الماء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trips dir="l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6238800" cy="11430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المقذوف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Object 11"/>
              <p:cNvSpPr txBox="1"/>
              <p:nvPr/>
            </p:nvSpPr>
            <p:spPr>
              <a:xfrm>
                <a:off x="1276200" y="2205000"/>
                <a:ext cx="1765440" cy="352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  <m:r>
                          <m:t xml:space="preserve">−</m:t>
                        </m:r>
                        <m:r>
                          <m:t xml:space="preserve">−</m:t>
                        </m:r>
                        <m:r>
                          <m:t xml:space="preserve">−</m:t>
                        </m:r>
                        <m:r>
                          <m:t xml:space="preserve">−</m:t>
                        </m:r>
                        <m:r>
                          <m:t xml:space="preserve">−</m:t>
                        </m:r>
                        <m:r>
                          <m:t xml:space="preserve">↓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t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ow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own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g</m:t>
                                </m:r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435640" y="1905120"/>
            <a:ext cx="302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يمكن حساب زمن الهبوط بدلالة مسافة الهبوط العمودية كما يلي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ffff"/>
                </a:solidFill>
                <a:uFillTx/>
                <a:latin typeface="Garamond"/>
              </a:rPr>
              <a:t>ملاحظة</a:t>
            </a: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: مسافة الهبوط العمودية تعتمد على ارتفاع الهبوط مقارنة بارتفاع الاطلاق [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كرة السلة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aramond"/>
              </a:rPr>
              <a:t>down</a:t>
            </a: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 &gt;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aramond"/>
              </a:rPr>
              <a:t>up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كرة القدم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aramond"/>
              </a:rPr>
              <a:t>down</a:t>
            </a: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aramond"/>
              </a:rPr>
              <a:t>up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،  دفع الجلة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aramond"/>
              </a:rPr>
              <a:t>down</a:t>
            </a: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&gt;</a:t>
            </a:r>
            <a:r>
              <a:rPr b="0" lang="ar-SA" sz="1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aramond"/>
              </a:rPr>
              <a:t>u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2" name="Line 13"/>
          <p:cNvSpPr/>
          <p:nvPr/>
        </p:nvSpPr>
        <p:spPr>
          <a:xfrm flipH="1">
            <a:off x="5435280" y="306864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Line 14"/>
          <p:cNvSpPr/>
          <p:nvPr/>
        </p:nvSpPr>
        <p:spPr>
          <a:xfrm flipH="1" flipV="1">
            <a:off x="3851280" y="2923920"/>
            <a:ext cx="151272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15"/>
          <p:cNvSpPr/>
          <p:nvPr/>
        </p:nvSpPr>
        <p:spPr>
          <a:xfrm flipH="1">
            <a:off x="3780000" y="3141720"/>
            <a:ext cx="158400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16"/>
          <p:cNvSpPr/>
          <p:nvPr/>
        </p:nvSpPr>
        <p:spPr>
          <a:xfrm>
            <a:off x="3995640" y="2708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المعطيات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17"/>
          <p:cNvSpPr/>
          <p:nvPr/>
        </p:nvSpPr>
        <p:spPr>
          <a:xfrm>
            <a:off x="3780000" y="3645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التعوي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757920" cy="11430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المقذوف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76720" y="1915920"/>
            <a:ext cx="3772080" cy="201276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ffff"/>
                </a:solidFill>
                <a:latin typeface="Garamond"/>
                <a:cs typeface="AL-Mateen"/>
              </a:rPr>
              <a:t>بالنسبة الى تساوي الإرتفاعين يمكن حساب </a:t>
            </a:r>
            <a:r>
              <a:rPr b="0" lang="en-US" sz="2700" spc="-1" strike="noStrike">
                <a:solidFill>
                  <a:srgbClr val="ffffff"/>
                </a:solidFill>
                <a:latin typeface="Garamond"/>
                <a:ea typeface="AL-Mateen"/>
              </a:rPr>
              <a:t>d</a:t>
            </a:r>
            <a:r>
              <a:rPr b="0" lang="en-US" sz="2700" spc="-1" strike="noStrike" baseline="-25000">
                <a:solidFill>
                  <a:srgbClr val="ffffff"/>
                </a:solidFill>
                <a:latin typeface="Garamond"/>
                <a:ea typeface="AL-Mateen"/>
              </a:rPr>
              <a:t>up</a:t>
            </a:r>
            <a:r>
              <a:rPr b="0" lang="ar-SA" sz="2700" spc="-1" strike="noStrike" baseline="-25000">
                <a:solidFill>
                  <a:srgbClr val="ffffff"/>
                </a:solidFill>
                <a:latin typeface="Garamond"/>
                <a:ea typeface="AL-Mateen"/>
              </a:rPr>
              <a:t> </a:t>
            </a:r>
            <a:r>
              <a:rPr b="0" lang="ar-SA" sz="2700" spc="-1" strike="noStrike">
                <a:solidFill>
                  <a:srgbClr val="ffffff"/>
                </a:solidFill>
                <a:latin typeface="Garamond"/>
                <a:cs typeface="AL-Mateen"/>
              </a:rPr>
              <a:t>كما يلي: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 algn="r" rtl="1"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 baseline="-25000">
                <a:solidFill>
                  <a:srgbClr val="ffffff"/>
                </a:solidFill>
                <a:latin typeface="Garamond"/>
                <a:cs typeface="AL-Mateen"/>
              </a:rPr>
              <a:t>لأن </a:t>
            </a:r>
            <a:r>
              <a:rPr b="0" lang="en-US" sz="2700" spc="-1" strike="noStrike">
                <a:solidFill>
                  <a:srgbClr val="ffffff"/>
                </a:solidFill>
                <a:latin typeface="Garamond"/>
                <a:ea typeface="AL-Mateen"/>
              </a:rPr>
              <a:t>d</a:t>
            </a:r>
            <a:r>
              <a:rPr b="0" lang="en-US" sz="2700" spc="-1" strike="noStrike" baseline="-25000">
                <a:solidFill>
                  <a:srgbClr val="ffffff"/>
                </a:solidFill>
                <a:latin typeface="Garamond"/>
                <a:ea typeface="AL-Mateen"/>
              </a:rPr>
              <a:t>down</a:t>
            </a:r>
            <a:r>
              <a:rPr b="0" lang="ar-SA" sz="2700" spc="-1" strike="noStrike" baseline="-25000">
                <a:solidFill>
                  <a:srgbClr val="ffffff"/>
                </a:solidFill>
                <a:latin typeface="Garamond"/>
                <a:ea typeface="AL-Mateen"/>
              </a:rPr>
              <a:t>=</a:t>
            </a:r>
            <a:r>
              <a:rPr b="0" lang="en-US" sz="2700" spc="-1" strike="noStrike">
                <a:solidFill>
                  <a:srgbClr val="ffffff"/>
                </a:solidFill>
                <a:latin typeface="Garamond"/>
                <a:ea typeface="AL-Mateen"/>
              </a:rPr>
              <a:t>d</a:t>
            </a:r>
            <a:r>
              <a:rPr b="0" lang="en-US" sz="2700" spc="-1" strike="noStrike" baseline="-25000">
                <a:solidFill>
                  <a:srgbClr val="ffffff"/>
                </a:solidFill>
                <a:latin typeface="Garamond"/>
                <a:ea typeface="AL-Mateen"/>
              </a:rPr>
              <a:t>up</a:t>
            </a:r>
            <a:r>
              <a:rPr b="0" lang="ar-SA" sz="2700" spc="-1" strike="noStrike" baseline="-25000">
                <a:solidFill>
                  <a:srgbClr val="ffffff"/>
                </a:solidFill>
                <a:latin typeface="Garamond"/>
                <a:ea typeface="AL-Mateen"/>
              </a:rPr>
              <a:t>  التعويض بهذه المعادلة في معادلة </a:t>
            </a:r>
            <a:r>
              <a:rPr b="0" lang="en-US" sz="2700" spc="-1" strike="noStrike" baseline="-25000">
                <a:solidFill>
                  <a:srgbClr val="ffffff"/>
                </a:solidFill>
                <a:latin typeface="Garamond"/>
                <a:ea typeface="AL-Mateen"/>
              </a:rPr>
              <a:t>down</a:t>
            </a:r>
            <a:r>
              <a:rPr b="0" lang="ar-SA" sz="2700" spc="-1" strike="noStrike" baseline="-25000">
                <a:solidFill>
                  <a:srgbClr val="ffffff"/>
                </a:solidFill>
                <a:latin typeface="Garamond"/>
                <a:ea typeface="AL-Mateen"/>
              </a:rPr>
              <a:t> </a:t>
            </a:r>
            <a:r>
              <a:rPr b="0" lang="en-US" sz="2700" spc="-1" strike="noStrike" baseline="-25000">
                <a:solidFill>
                  <a:srgbClr val="ffffff"/>
                </a:solidFill>
                <a:latin typeface="Garamond"/>
                <a:ea typeface="AL-Mateen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Garamond"/>
                <a:ea typeface="AL-Mateen"/>
              </a:rPr>
              <a:t>t</a:t>
            </a:r>
            <a:r>
              <a:rPr b="0" lang="ar-SA" sz="2700" spc="-1" strike="noStrike" baseline="-25000">
                <a:solidFill>
                  <a:srgbClr val="ffffff"/>
                </a:solidFill>
                <a:latin typeface="Garamond"/>
                <a:cs typeface="AL-Mateen"/>
              </a:rPr>
              <a:t>يعطي المعادلة التالية: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Object 4"/>
              <p:cNvSpPr txBox="1"/>
              <p:nvPr/>
            </p:nvSpPr>
            <p:spPr>
              <a:xfrm>
                <a:off x="509760" y="3857760"/>
                <a:ext cx="4062240" cy="27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Sup>
                              <m:e>
                                <m:r>
                                  <m:t xml:space="preserve">2</m:t>
                                </m:r>
                              </m:e>
                              <m:sub>
                                <m:r>
                                  <m:t xml:space="preserve">=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sSub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d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6"/>
              <p:cNvSpPr txBox="1"/>
              <p:nvPr/>
            </p:nvSpPr>
            <p:spPr>
              <a:xfrm>
                <a:off x="571680" y="1500120"/>
                <a:ext cx="2500200" cy="219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1" name="Line 8"/>
          <p:cNvSpPr/>
          <p:nvPr/>
        </p:nvSpPr>
        <p:spPr>
          <a:xfrm flipH="1" flipV="1">
            <a:off x="3132000" y="2492280"/>
            <a:ext cx="237672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Line 9"/>
          <p:cNvSpPr/>
          <p:nvPr/>
        </p:nvSpPr>
        <p:spPr>
          <a:xfrm flipH="1">
            <a:off x="3924000" y="2708280"/>
            <a:ext cx="158436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Line 10"/>
          <p:cNvSpPr/>
          <p:nvPr/>
        </p:nvSpPr>
        <p:spPr>
          <a:xfrm flipH="1">
            <a:off x="6470640" y="3789360"/>
            <a:ext cx="46080" cy="282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Object 11"/>
              <p:cNvSpPr txBox="1"/>
              <p:nvPr/>
            </p:nvSpPr>
            <p:spPr>
              <a:xfrm>
                <a:off x="5214960" y="4127400"/>
                <a:ext cx="3500280" cy="251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</m:den>
                            </m:f>
                          </m:e>
                        </m:rad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slow">
    <p:strips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11430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المقذوف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57200" y="1814040"/>
            <a:ext cx="8229600" cy="42577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ctr">
            <a:normAutofit/>
          </a:bodyPr>
          <a:p>
            <a:pPr marL="343080" indent="-343080" algn="just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ateen"/>
              </a:rPr>
              <a:t>الملاحظ انه في حالة تساوي الإرتفاعين يتساوى زمن الصعود و الهبوط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ateen"/>
              </a:rPr>
              <a:t>تطبيق: على لاعب الجمباز الأرضي الراغب في اداء دورتين في الهواء اكمال نصف الأداء لحظة و صولة الى اعلى ارتفاع حتى يتمكن من انجاز المطلوب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ateen"/>
              </a:rPr>
              <a:t>لاعب كرة القدم الراغب في ضرب الكرة برأسه عليه ان يكون في منتصف المسافة عند وصول الكرة الى اعلى ارتفا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trips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29560" cy="11430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المقذوف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078440" y="2285640"/>
            <a:ext cx="4851360" cy="33685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ctr">
            <a:normAutofit fontScale="89000"/>
          </a:bodyPr>
          <a:p>
            <a:pPr marL="305280" indent="-305280" algn="just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ateen"/>
              </a:rPr>
              <a:t>بعد معرفة زمن الصعود و الهبوط، يمكن الآن حساب الزمن الكلي للطيران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just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ateen"/>
              </a:rPr>
              <a:t>ملحوظة: لأن التسارع ثابت، فالزمن الكلي يعتمد فقط على سرعة الإطلاق العمودي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Object 4"/>
              <p:cNvSpPr txBox="1"/>
              <p:nvPr/>
            </p:nvSpPr>
            <p:spPr>
              <a:xfrm>
                <a:off x="187200" y="1916280"/>
                <a:ext cx="3684600" cy="372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slow">
    <p:strips dir="l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686640" cy="11430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المقذوف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642920" y="1844640"/>
            <a:ext cx="4286520" cy="43704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t">
            <a:normAutofit fontScale="84000"/>
          </a:bodyPr>
          <a:p>
            <a:pPr marL="288000" indent="-288000" algn="r" rtl="1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Garamond"/>
                <a:cs typeface="AL-Mateen"/>
              </a:rPr>
              <a:t>عندما يكون مستوى الإطلاق و الهبوط غير متساوي، يمكن حساب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AL-Matee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AL-Mateen"/>
              </a:rPr>
              <a:t>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aramond"/>
                <a:ea typeface="AL-Mateen"/>
              </a:rPr>
              <a:t>dow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 algn="r" rtl="1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AL-Mateen"/>
              </a:rPr>
              <a:t>h</a:t>
            </a:r>
            <a:r>
              <a:rPr b="0" lang="ar-SA" sz="2000" spc="-1" strike="noStrike">
                <a:solidFill>
                  <a:srgbClr val="ffffff"/>
                </a:solidFill>
                <a:latin typeface="Garamond"/>
                <a:ea typeface="AL-Mateen"/>
              </a:rPr>
              <a:t> تعني ارتفاع الاطلاق ناقص ارتفاع الهبوط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 algn="r" rtl="1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Garamond"/>
                <a:cs typeface="AL-Mateen"/>
              </a:rPr>
              <a:t>التعويض بالمعادلة الحالية في معادلة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AL-Mateen"/>
              </a:rPr>
              <a:t>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aramond"/>
                <a:ea typeface="AL-Mateen"/>
              </a:rPr>
              <a:t>down</a:t>
            </a:r>
            <a:r>
              <a:rPr b="0" lang="ar-SA" sz="2000" spc="-1" strike="noStrike" baseline="-25000">
                <a:solidFill>
                  <a:srgbClr val="ffffff"/>
                </a:solidFill>
                <a:latin typeface="Garamond"/>
                <a:ea typeface="AL-Mateen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Garamond"/>
                <a:cs typeface="AL-Mateen"/>
              </a:rPr>
              <a:t>ومن ثم التعويض بها في معادلة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AL-Mateen"/>
              </a:rPr>
              <a:t>T</a:t>
            </a:r>
            <a:r>
              <a:rPr b="0" lang="ar-SA" sz="2000" spc="-1" strike="noStrike">
                <a:solidFill>
                  <a:srgbClr val="ffffff"/>
                </a:solidFill>
                <a:latin typeface="Garamond"/>
                <a:ea typeface="AL-Mateen"/>
              </a:rPr>
              <a:t> يعطي التالي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 algn="r" rtl="1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Garamond"/>
                <a:cs typeface="AL-Mateen"/>
              </a:rPr>
              <a:t>خلاصة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 algn="just" rtl="1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Garamond"/>
                <a:cs typeface="AL-Mateen"/>
              </a:rPr>
              <a:t>عندما يكون ارتفاع الاطلاق و الهبوط غير متساوي، زمن الطيران يمكن تغييره اما عن طريق تغيير السرعة العمودية او تغيير مستوى الاطلا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 algn="just" rtl="1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Garamond"/>
                <a:ea typeface="AL-Mateen"/>
              </a:rPr>
              <a:t> أو كليها معا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4"/>
              <p:cNvSpPr txBox="1"/>
              <p:nvPr/>
            </p:nvSpPr>
            <p:spPr>
              <a:xfrm>
                <a:off x="112680" y="1571760"/>
                <a:ext cx="3568680" cy="22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7"/>
              <p:cNvSpPr txBox="1"/>
              <p:nvPr/>
            </p:nvSpPr>
            <p:spPr>
              <a:xfrm>
                <a:off x="122400" y="3892680"/>
                <a:ext cx="4378320" cy="23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v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gh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</m:den>
                            </m:f>
                          </m:e>
                        </m:rad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v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gh</m:t>
                                </m:r>
                              </m:e>
                            </m:rad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4" name="Line 6"/>
          <p:cNvSpPr/>
          <p:nvPr/>
        </p:nvSpPr>
        <p:spPr>
          <a:xfrm flipH="1">
            <a:off x="3419640" y="2421000"/>
            <a:ext cx="1584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Line 9"/>
          <p:cNvSpPr/>
          <p:nvPr/>
        </p:nvSpPr>
        <p:spPr>
          <a:xfrm flipH="1">
            <a:off x="4500720" y="3645000"/>
            <a:ext cx="72072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29560" cy="11430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المقذوفات </a:t>
            </a:r>
            <a:br>
              <a:rPr sz="4400"/>
            </a:br>
            <a:r>
              <a:rPr b="1" lang="ar-SA" sz="2000" spc="-1" strike="noStrike">
                <a:solidFill>
                  <a:srgbClr val="ffffcc"/>
                </a:solidFill>
                <a:latin typeface="Garamond"/>
                <a:ea typeface="PT Bold Heading"/>
              </a:rPr>
              <a:t>(</a:t>
            </a:r>
            <a:r>
              <a:rPr b="1" lang="ar-SA" sz="1800" spc="-1" strike="noStrike">
                <a:solidFill>
                  <a:srgbClr val="ffffcc"/>
                </a:solidFill>
                <a:latin typeface="Garamond"/>
                <a:cs typeface="PT Bold Heading"/>
              </a:rPr>
              <a:t>المدى الأفقي للمقذوف)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787640" y="1844640"/>
            <a:ext cx="3771720" cy="40384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  <a:cs typeface="AL-Mateen"/>
              </a:rPr>
              <a:t>تم العلم انه يمكن حساب المسافة الأفقية بالمعادلة التالية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  <a:cs typeface="AL-Mateen"/>
              </a:rPr>
              <a:t>التعويض بمعادلة الزمن الكلي في المعادلة الحالية، ينتج المعادلة التالية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  <a:cs typeface="AL-Mateen"/>
              </a:rPr>
              <a:t>بتبسيط المعادلة ينتج المعادلة التالية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Object 4"/>
              <p:cNvSpPr txBox="1"/>
              <p:nvPr/>
            </p:nvSpPr>
            <p:spPr>
              <a:xfrm>
                <a:off x="419040" y="1928880"/>
                <a:ext cx="35528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cosθ</m:t>
                    </m:r>
                    <m:r>
                      <m:t xml:space="preserve">×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Object 7"/>
              <p:cNvSpPr txBox="1"/>
              <p:nvPr/>
            </p:nvSpPr>
            <p:spPr>
              <a:xfrm>
                <a:off x="642960" y="2714760"/>
                <a:ext cx="3338640" cy="22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×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  <m:e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0" name="Line 6"/>
          <p:cNvSpPr/>
          <p:nvPr/>
        </p:nvSpPr>
        <p:spPr>
          <a:xfrm flipH="1" flipV="1">
            <a:off x="4000680" y="2428920"/>
            <a:ext cx="1000080" cy="46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Object 9"/>
              <p:cNvSpPr txBox="1"/>
              <p:nvPr/>
            </p:nvSpPr>
            <p:spPr>
              <a:xfrm>
                <a:off x="571680" y="5227560"/>
                <a:ext cx="2652480" cy="105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2" name="Line 10"/>
          <p:cNvSpPr/>
          <p:nvPr/>
        </p:nvSpPr>
        <p:spPr>
          <a:xfrm flipH="1" flipV="1">
            <a:off x="3214440" y="5254560"/>
            <a:ext cx="3878280" cy="46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Line 11"/>
          <p:cNvSpPr/>
          <p:nvPr/>
        </p:nvSpPr>
        <p:spPr>
          <a:xfrm flipH="1">
            <a:off x="3857760" y="3857760"/>
            <a:ext cx="2808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2080" cy="11430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المقذوف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ctr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ateen"/>
              </a:rPr>
              <a:t>مع ثبات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L-Mateen"/>
              </a:rPr>
              <a:t>g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L-Mateen"/>
              </a:rPr>
              <a:t> ، يبقى التأثير على المدى الأفقي للمقذوف من خلال: السرعة و زاوية الاطلاق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ateen"/>
              </a:rPr>
              <a:t>الزاوية المثالية لتحقيق افضل مسافة افقية هي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L-Mateen"/>
              </a:rPr>
              <a:t>45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L-Mateen"/>
              </a:rPr>
              <a:t> درجة. لماذا؟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ateen"/>
              </a:rPr>
              <a:t>الشرط لذلك تساوي ارتفاع الاطلاق و الهبوط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trips dir="l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6615000" cy="151128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المقذوفات</a:t>
            </a:r>
            <a:br>
              <a:rPr sz="4400"/>
            </a:b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المدى الأفقي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500440" y="2052720"/>
            <a:ext cx="3490920" cy="223344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ctr">
            <a:normAutofit fontScale="89000"/>
          </a:bodyPr>
          <a:p>
            <a:pPr marL="305280" indent="-305280" algn="just" rtl="1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  <a:cs typeface="AL-Mateen"/>
              </a:rPr>
              <a:t>يمكن حساب المدى الأفقي للمقذوف في حال عدم تساوي ارتفاع الاطلاق مع الهبوط بالمعادلة التالية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just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r" rtl="1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  <a:cs typeface="AL-Mateen"/>
              </a:rPr>
              <a:t>بتبسيط المعادلة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Object 5"/>
              <p:cNvSpPr txBox="1"/>
              <p:nvPr/>
            </p:nvSpPr>
            <p:spPr>
              <a:xfrm>
                <a:off x="285840" y="2362320"/>
                <a:ext cx="51292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×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h</m:t>
                            </m:r>
                            <m:r>
                              <m:t xml:space="preserve">)</m:t>
                            </m:r>
                          </m:e>
                        </m:rad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7"/>
              <p:cNvSpPr txBox="1"/>
              <p:nvPr/>
            </p:nvSpPr>
            <p:spPr>
              <a:xfrm>
                <a:off x="642960" y="4505400"/>
                <a:ext cx="7867800" cy="15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h</m:t>
                            </m:r>
                          </m:e>
                        </m:rad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strips dir="l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مفاهيم كينيماتيكية دوراني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893760" y="3060720"/>
            <a:ext cx="4964040" cy="22255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ctr">
            <a:normAutofit fontScale="89000"/>
          </a:bodyPr>
          <a:p>
            <a:pPr marL="305280" indent="-30528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  <a:cs typeface="AL-Mateen"/>
              </a:rPr>
              <a:t>الإزاحة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  <a:cs typeface="AL-Mateen"/>
              </a:rPr>
              <a:t>السرعة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  <a:cs typeface="AL-Mateen"/>
              </a:rPr>
              <a:t>العجلة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 algn="r" rtl="1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  <a:cs typeface="AL-Mateen"/>
              </a:rPr>
              <a:t>العلاقة بين الحركة الخطية و الدورانية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Object 4"/>
              <p:cNvSpPr txBox="1"/>
              <p:nvPr/>
            </p:nvSpPr>
            <p:spPr>
              <a:xfrm>
                <a:off x="857160" y="2357280"/>
                <a:ext cx="272916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θ</m:t>
                    </m:r>
                    <m:r>
                      <m:t xml:space="preserve">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7"/>
              <p:cNvSpPr txBox="1"/>
              <p:nvPr/>
            </p:nvSpPr>
            <p:spPr>
              <a:xfrm>
                <a:off x="785880" y="3328920"/>
                <a:ext cx="2874960" cy="295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ω</m:t>
                        </m:r>
                        <m:r>
                          <m:t xml:space="preserve">∗</m:t>
                        </m:r>
                        <m:r>
                          <m:t xml:space="preserve">r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∗</m:t>
                        </m:r>
                        <m:r>
                          <m:t xml:space="preserve">r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slow">
    <p:strips dir="l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6542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تابع مفاهيم كينيماتيكية دوراني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475" name="Object 3"/>
          <p:cNvGraphicFramePr/>
          <p:nvPr/>
        </p:nvGraphicFramePr>
        <p:xfrm>
          <a:off x="573120" y="2152800"/>
          <a:ext cx="7997760" cy="441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6" name="Object 3" descr="Bouquet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2152800"/>
                    <a:ext cx="7997760" cy="4411440"/>
                  </a:xfrm>
                  <a:prstGeom prst="rect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000160" y="99720"/>
            <a:ext cx="5143680" cy="11430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متطلبات المقرر </a:t>
            </a:r>
            <a:r>
              <a:rPr b="1" lang="ar-SA" sz="4400" spc="-1" strike="noStrike">
                <a:solidFill>
                  <a:srgbClr val="ffffcc"/>
                </a:solidFill>
                <a:latin typeface="Garamond"/>
                <a:ea typeface="PT Bold Heading"/>
              </a:rPr>
              <a:t>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2028960" y="1357200"/>
            <a:ext cx="5114880" cy="54295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99ff33"/>
                </a:solidFill>
                <a:latin typeface="Garamond"/>
                <a:cs typeface="AL-Mateen"/>
              </a:rPr>
              <a:t>التحليل الحركي للألعاب الرياضية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الميدان و المضمار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كرة السلة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المشي و الجري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الأدوات الرياضية في الألعاب الرياضية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الأحذية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الأرضيات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المضارب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أدوات أخرى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solidFill>
            <a:srgbClr val="76003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متطلبات المقرر </a:t>
            </a:r>
            <a:r>
              <a:rPr b="1" lang="ar-SA" sz="4400" spc="-1" strike="noStrike">
                <a:solidFill>
                  <a:srgbClr val="ffffcc"/>
                </a:solidFill>
                <a:latin typeface="Garamond"/>
                <a:ea typeface="PT Bold Heading"/>
              </a:rPr>
              <a:t>3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643040"/>
            <a:ext cx="8229600" cy="49420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ctr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ar-SA" sz="1200" spc="-1" strike="noStrike" u="sng">
                <a:solidFill>
                  <a:srgbClr val="99ff33"/>
                </a:solidFill>
                <a:uFillTx/>
                <a:latin typeface="Garamond"/>
              </a:rPr>
              <a:t>متطلبات المقرر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أ- اختبار فصلي (</a:t>
            </a: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20</a:t>
            </a: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 درجة) (عدد </a:t>
            </a: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ب- ورقة دراسية (</a:t>
            </a: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30</a:t>
            </a: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 درجة) (عدد </a:t>
            </a: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) تقدم تفاصيلها لاحقا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ج- مراجعة لدراسة علمية أجنبية (</a:t>
            </a: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10</a:t>
            </a: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 درجات)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د- اختبار نهائي (</a:t>
            </a: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40</a:t>
            </a: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 درجة)  (عدد </a:t>
            </a: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 u="sng">
                <a:solidFill>
                  <a:srgbClr val="ffffff"/>
                </a:solidFill>
                <a:uFillTx/>
                <a:latin typeface="Garamond"/>
              </a:rPr>
              <a:t>المراجع</a:t>
            </a: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مرجع أساسي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rtl="1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Hay, G. J. (1985) The biomechanics of sports techniques. Third Ed Prentice-Hall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                     (ترجمة د. العنقري)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الميكانيكا الحيوية-الأسس النظرية والتطبيقية- طلحه حسام الدين ( </a:t>
            </a: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1413</a:t>
            </a: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). دار الفكر العربي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الميكانيكا الحيوية والتكامل بين النظرية و التطبيق. عادل عبد البصير علي (</a:t>
            </a: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1990</a:t>
            </a: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). مركز الكتاب للنشر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طرق البحث العلمي في التحليل الحركي. قاسم حسن و إيمان شاكر. (</a:t>
            </a: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1419</a:t>
            </a: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) دار الفكر للطباعة و النشر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علم الحركة التطبيقي. طلحه حسام الدين و آخرون. (</a:t>
            </a: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1998</a:t>
            </a:r>
            <a:r>
              <a:rPr b="1" lang="ar-SA" sz="1200" spc="-1" strike="noStrike">
                <a:solidFill>
                  <a:srgbClr val="ffffff"/>
                </a:solidFill>
                <a:latin typeface="Garamond"/>
              </a:rPr>
              <a:t>). مركز الكتاب للنشر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1- Adrian, M. J. (1989). Biomechanics of human movement. Benchmark press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2- Kreighbaum, E.F., and Smith, M.A. Ed. (1996). Sports and fitness equipment design. Human kinetics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3- Nordin, M., and Frankle, V.H. (1989). Basic biomechanics of the musculoskeletal system. Sec. Ed. Lea and Febiger.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4-Bartlett Roger. (1999). Sports biomechanics :Reducing injury a improving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performance. E&amp; FN Spon.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6757920" cy="11430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مقدم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6840" y="1956960"/>
            <a:ext cx="7186680" cy="39006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ctr">
            <a:normAutofit fontScale="79000"/>
          </a:bodyPr>
          <a:p>
            <a:pPr marL="270720" indent="-27072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Garamond"/>
                <a:cs typeface="AL-Mateen"/>
              </a:rPr>
              <a:t>تعريف علم الميكانيكا الحيوية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Garamond"/>
                <a:cs typeface="AL-Mateen"/>
              </a:rPr>
              <a:t>نبذة مختصرة عن تطور علم الميكانيكا الحيوية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Garamond"/>
                <a:cs typeface="AL-Mateen"/>
              </a:rPr>
              <a:t>علاقة علم الميكانيكا الحيوية بالطب الرياضي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5952960" cy="11430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مقدمة </a:t>
            </a:r>
            <a:r>
              <a:rPr b="1" lang="ar-SA" sz="4400" spc="-1" strike="noStrike">
                <a:solidFill>
                  <a:srgbClr val="ffffcc"/>
                </a:solidFill>
                <a:latin typeface="Garamond"/>
                <a:ea typeface="PT Bold Heading"/>
              </a:rPr>
              <a:t>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20" name="Picture 6" descr="Picture 001"/>
          <p:cNvPicPr/>
          <p:nvPr/>
        </p:nvPicPr>
        <p:blipFill>
          <a:blip r:embed="rId1"/>
          <a:stretch/>
        </p:blipFill>
        <p:spPr>
          <a:xfrm>
            <a:off x="139680" y="1995480"/>
            <a:ext cx="5659560" cy="421956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892840" y="2833200"/>
            <a:ext cx="3106800" cy="24526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  <a:cs typeface="AL-Mateen"/>
              </a:rPr>
              <a:t>الميكانيكا الحيوية و علاقته بعلم الحرك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  <a:cs typeface="AL-Mateen"/>
              </a:rPr>
              <a:t>الفيزياء الميكانيكي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Garamond"/>
                <a:cs typeface="AL-Mateen"/>
              </a:rPr>
              <a:t>خصائص الأنسجة البيولوجي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2120" y="356760"/>
            <a:ext cx="6238800" cy="11430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مقدمة </a:t>
            </a:r>
            <a:r>
              <a:rPr b="1" lang="ar-SA" sz="4400" spc="-1" strike="noStrike">
                <a:solidFill>
                  <a:srgbClr val="ffffcc"/>
                </a:solidFill>
                <a:latin typeface="Garamond"/>
                <a:ea typeface="PT Bold Heading"/>
              </a:rPr>
              <a:t>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23" name="Picture 7" descr="Picture 002"/>
          <p:cNvPicPr/>
          <p:nvPr/>
        </p:nvPicPr>
        <p:blipFill>
          <a:blip r:embed="rId1"/>
          <a:stretch/>
        </p:blipFill>
        <p:spPr>
          <a:xfrm>
            <a:off x="285840" y="1785960"/>
            <a:ext cx="4856040" cy="453708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222520" y="3047760"/>
            <a:ext cx="3778200" cy="22381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ctr">
            <a:normAutofit fontScale="81000"/>
          </a:bodyPr>
          <a:p>
            <a:pPr marL="277560" indent="-27756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  <a:cs typeface="AL-Mateen"/>
              </a:rPr>
              <a:t>تقسيم علم الميكانيكا الحيوية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 algn="r" rtl="1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  <a:cs typeface="AL-Mateen"/>
              </a:rPr>
              <a:t>علم الديناميكا (الحركة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 algn="r" rtl="1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  <a:cs typeface="AL-Mateen"/>
              </a:rPr>
              <a:t>علم الاستاتيكا (السكون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13920" y="142560"/>
            <a:ext cx="5715000" cy="1143000"/>
          </a:xfrm>
          <a:prstGeom prst="rect">
            <a:avLst/>
          </a:prstGeom>
          <a:solidFill>
            <a:srgbClr val="760030"/>
          </a:soli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Garamond"/>
                <a:cs typeface="PT Bold Heading"/>
              </a:rPr>
              <a:t>مقدمة </a:t>
            </a:r>
            <a:r>
              <a:rPr b="1" lang="ar-SA" sz="4400" spc="-1" strike="noStrike">
                <a:solidFill>
                  <a:srgbClr val="ffffcc"/>
                </a:solidFill>
                <a:latin typeface="Garamond"/>
                <a:ea typeface="PT Bold Heading"/>
              </a:rPr>
              <a:t>3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26" name="Picture 7" descr="Picture 003"/>
          <p:cNvPicPr/>
          <p:nvPr/>
        </p:nvPicPr>
        <p:blipFill>
          <a:blip r:embed="rId1"/>
          <a:srcRect l="0" t="0" r="0" b="15041"/>
          <a:stretch/>
        </p:blipFill>
        <p:spPr>
          <a:xfrm>
            <a:off x="1314360" y="2071800"/>
            <a:ext cx="6516720" cy="454968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14960" y="1356840"/>
            <a:ext cx="2671920" cy="7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Garamond"/>
                <a:cs typeface="AL-Mateen"/>
              </a:rPr>
              <a:t>محاور الجسم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3T04:14:37Z</dcterms:created>
  <dc:creator>د.عبدالرحمن العنقري</dc:creator>
  <dc:description/>
  <dc:language>en-US</dc:language>
  <cp:lastModifiedBy>A Alangari</cp:lastModifiedBy>
  <dcterms:modified xsi:type="dcterms:W3CDTF">2017-09-19T06:30:44Z</dcterms:modified>
  <cp:revision>77</cp:revision>
  <dc:subject/>
  <dc:title>مقدمة 1</dc:title>
</cp:coreProperties>
</file>