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4CF8-AC85-4719-8D01-E85E445D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41EE-96C5-4969-B3D6-C3B0FA5B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2126-370C-4FF9-8A14-D092F06F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7BCF-706A-4C0B-8A0D-ABF65B39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578A-BA59-4006-A521-07C16826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6B10-4EEB-4483-9447-2D45AEAB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7BC9-C23B-48BD-AAC0-AA2B7EC0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1F16-96C3-40AF-93F2-58BC9656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A28B-A083-4DE5-BB67-1A5EDB91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1346-1B1D-4828-B55C-65D37492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B069-335F-4FD4-A364-807481F2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1740-F101-4542-B822-E30C312B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EF82-3EAD-4526-91FC-9BA36C7B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B214-07ED-4921-A902-3D7C5D6C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AA27-B878-4FBB-9BB1-45117184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A4B6-0CAD-4A6E-95D2-7ED34810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9E5C-2785-4751-B3F8-321BD8D5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651A9-2DEA-47B3-AEAF-1DF488C6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6DEF2-7072-4886-BB36-85074FB3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A0A51-CE32-4A70-9BED-058C0026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11C8B-3660-4D80-AD31-A412EA4F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96F5F-BA64-4CC0-A8F0-A3FFDE15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ECEB-418D-4506-BFB9-1B4EE59B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862FF-2F26-4DFE-8473-49A66D76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4B044-ADE6-46D9-BB30-A98D87C3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18C6C-4C91-4434-BE1C-2717956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FEB21-62C1-41AE-8BC7-05DD9D3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755B5-FCD1-4E2B-BA17-3126EFF2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54404-F20A-451B-90AE-916955C0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02539-5411-467C-84AD-FD3A3203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9B5BA-AC3B-4CC3-B228-B4F30EC3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541F-145A-4FB8-AFF7-3131131D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8AFD-C1E4-47A2-9A94-A093F50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AD7B-E319-42B3-A02B-A8AA8EF9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E8FD-BDFA-44B2-9486-29EB8839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6BB1-A372-4669-8362-5D4B1B61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EFA5-BD62-40B2-8230-5F861D9C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0E5EE-36BE-4CBF-A801-C99636BD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6F09-8FD9-404C-8244-F8DE111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4671-277A-439D-B5D3-9AA069AE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6489-C8EF-4A99-825A-90E3A3C5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E100-05D4-41CA-BEE2-2AFD117D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1C58-8648-4DD4-8020-16653D00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61F94-D6E0-40B3-95A9-D54668B2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EC34-1B45-40FC-8243-A3C16E63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36F9E-8357-4229-9D8D-7A076F53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754D1-F80C-40B1-94DC-8F4C6E98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251F-256F-424E-850A-62513F43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DF0A-CD01-4F4D-AB8D-F1DC9B9D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9FF7F-A761-4E87-8833-EE16A4CB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D9DD-A17B-4B06-B5F9-C05FCAD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EC5D-5FCD-456D-AEDB-2778D89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2E6F7-ED4F-4628-8E7A-3D0B9C66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5EE29-664C-4865-8803-62A19118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FDC66-2433-4724-8C08-656C38A8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859D-DF16-4B50-A689-A5AAC243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78BF-2522-426F-9528-94840C5D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D9E7-4FEA-436B-9622-2D6998DA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CD81-7D4D-4DA1-B5A5-87B6955C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86D9-DCD1-4532-A902-96E40F6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DC60-98A4-49B3-BE7C-4A45713E970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9" name="Object 16"/>
          <p:cNvGraphicFramePr/>
          <p:nvPr/>
        </p:nvGraphicFramePr>
        <p:xfrm>
          <a:off x="7451640" y="260280"/>
          <a:ext cx="1239840" cy="105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60280"/>
                    <a:ext cx="1239840" cy="1052640"/>
                  </a:xfrm>
                  <a:prstGeom prst="rect">
                    <a:avLst/>
                  </a:prstGeom>
                  <a:ln w="381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" name="Group 2"/>
          <p:cNvGrpSpPr/>
          <p:nvPr/>
        </p:nvGrpSpPr>
        <p:grpSpPr>
          <a:xfrm>
            <a:off x="3240" y="0"/>
            <a:ext cx="9140760" cy="6850080"/>
            <a:chOff x="3240" y="0"/>
            <a:chExt cx="9140760" cy="6850080"/>
          </a:xfrm>
        </p:grpSpPr>
        <p:grpSp>
          <p:nvGrpSpPr>
            <p:cNvPr id="62" name="Group 3"/>
            <p:cNvGrpSpPr/>
            <p:nvPr/>
          </p:nvGrpSpPr>
          <p:grpSpPr>
            <a:xfrm>
              <a:off x="2746440" y="3540240"/>
              <a:ext cx="6392880" cy="3309840"/>
              <a:chOff x="2746440" y="3540240"/>
              <a:chExt cx="6392880" cy="3309840"/>
            </a:xfrm>
          </p:grpSpPr>
          <p:sp>
            <p:nvSpPr>
              <p:cNvPr id="63" name="Freeform 4"/>
              <p:cNvSpPr/>
              <p:nvPr/>
            </p:nvSpPr>
            <p:spPr>
              <a:xfrm>
                <a:off x="274644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662328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>
                <a:off x="460692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>
                <a:off x="436572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>
                <a:off x="714852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" name="Freeform 9"/>
            <p:cNvSpPr/>
            <p:nvPr/>
          </p:nvSpPr>
          <p:spPr>
            <a:xfrm>
              <a:off x="527688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24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413C-F3B8-4695-9259-35FA42E3527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19C-DDF4-4C77-A74F-9B67AC6B859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6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2" name="Group 17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D8B5-D4AB-43AC-A837-4CB7FADA571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6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2" name="Group 17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18D6-4492-4F3C-B1F4-3ADF67E34B6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378000" y="1444680"/>
            <a:ext cx="83880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65008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9" name="Picture 7" descr="Picture 004"/>
          <p:cNvPicPr/>
          <p:nvPr/>
        </p:nvPicPr>
        <p:blipFill>
          <a:blip r:embed="rId1"/>
          <a:stretch/>
        </p:blipFill>
        <p:spPr>
          <a:xfrm>
            <a:off x="214200" y="1820880"/>
            <a:ext cx="4940280" cy="46083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400360" y="2176560"/>
            <a:ext cx="3600360" cy="4038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ستويات الحرك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أمام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جانب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عرض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ستويات مائل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محاور لكل مستو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715000" y="2600280"/>
            <a:ext cx="3000240" cy="2828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94000"/>
          </a:bodyPr>
          <a:p>
            <a:pPr marL="322200" indent="-32220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ff33"/>
                </a:solidFill>
                <a:latin typeface="Garamond"/>
                <a:cs typeface="AL-Mateen"/>
              </a:rPr>
              <a:t>الإحداثي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 algn="r" rtl="1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L-Mateen"/>
              </a:rPr>
              <a:t>بعد واح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 algn="r" rtl="1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L-Mateen"/>
              </a:rPr>
              <a:t>بعدا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 algn="r" rtl="1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L-Mateen"/>
              </a:rPr>
              <a:t>ثلاثة ابعا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714240" y="2714400"/>
            <a:ext cx="3786480" cy="2880000"/>
            <a:chOff x="714240" y="2714400"/>
            <a:chExt cx="3786480" cy="2880000"/>
          </a:xfrm>
        </p:grpSpPr>
        <p:sp>
          <p:nvSpPr>
            <p:cNvPr id="334" name="Line 9"/>
            <p:cNvSpPr/>
            <p:nvPr/>
          </p:nvSpPr>
          <p:spPr>
            <a:xfrm>
              <a:off x="2370240" y="4299120"/>
              <a:ext cx="2130480" cy="45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0"/>
            <p:cNvSpPr/>
            <p:nvPr/>
          </p:nvSpPr>
          <p:spPr>
            <a:xfrm flipH="1">
              <a:off x="714240" y="4299120"/>
              <a:ext cx="165600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1"/>
            <p:cNvSpPr/>
            <p:nvPr/>
          </p:nvSpPr>
          <p:spPr>
            <a:xfrm flipV="1">
              <a:off x="2370240" y="2714400"/>
              <a:ext cx="0" cy="1584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Text Box 12"/>
          <p:cNvSpPr/>
          <p:nvPr/>
        </p:nvSpPr>
        <p:spPr>
          <a:xfrm>
            <a:off x="2000160" y="179604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AL-Mateen"/>
              </a:rPr>
              <a:t>+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142920" y="5502240"/>
            <a:ext cx="10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Arial"/>
                <a:ea typeface="AL-Mateen"/>
              </a:rPr>
              <a:t>+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4495680" y="365328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33"/>
                </a:solidFill>
                <a:latin typeface="Arial"/>
                <a:ea typeface="AL-Mateen"/>
              </a:rPr>
              <a:t>+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كميات المتجه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0" y="1785960"/>
            <a:ext cx="4214880" cy="4595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تعريف 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(مفهوم ميكانيكي له مقدار و اتجاه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طرق ايجاد المحصل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متوازي الأضلا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رأس على الذي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ساب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معادلات المثلث القائم الزاوية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  <a:ea typeface="AL-Matee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214200" y="1714680"/>
                <a:ext cx="4221360" cy="46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Line 6"/>
          <p:cNvSpPr/>
          <p:nvPr/>
        </p:nvSpPr>
        <p:spPr>
          <a:xfrm>
            <a:off x="6129360" y="4797360"/>
            <a:ext cx="180036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7"/>
          <p:cNvSpPr/>
          <p:nvPr/>
        </p:nvSpPr>
        <p:spPr>
          <a:xfrm flipH="1">
            <a:off x="6129000" y="59500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 flipV="1">
            <a:off x="6129360" y="4797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6215040" y="595008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dj (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5192640" y="5373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Opp (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6777000" y="5013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Hypo (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8172360" y="422100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 flipV="1">
            <a:off x="7353360" y="56588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Verdana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436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كينيماتيكا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Garamond"/>
                <a:cs typeface="AL-Mateen"/>
              </a:rPr>
              <a:t>تعري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كينيماتيكا الخط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كينيماتيكا الدوران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 algn="r" rtl="1">
              <a:spcBef>
                <a:spcPts val="601"/>
              </a:spcBef>
              <a:buClr>
                <a:srgbClr val="ffff00"/>
              </a:buClr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Garamond"/>
                <a:cs typeface="PT Bold Heading"/>
              </a:rPr>
              <a:t>الخط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ركة في خط مستقي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ركة في خط منحني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ركة في خط متعرج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Line 4"/>
          <p:cNvSpPr/>
          <p:nvPr/>
        </p:nvSpPr>
        <p:spPr>
          <a:xfrm flipH="1">
            <a:off x="2556000" y="4508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Freeform 10"/>
          <p:cNvSpPr/>
          <p:nvPr/>
        </p:nvSpPr>
        <p:spPr>
          <a:xfrm rot="1186800">
            <a:off x="2496960" y="4578480"/>
            <a:ext cx="2338560" cy="136836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519" h="846">
                <a:moveTo>
                  <a:pt x="1519" y="121"/>
                </a:moveTo>
                <a:cubicBezTo>
                  <a:pt x="1008" y="60"/>
                  <a:pt x="498" y="0"/>
                  <a:pt x="249" y="121"/>
                </a:cubicBezTo>
                <a:cubicBezTo>
                  <a:pt x="0" y="242"/>
                  <a:pt x="60" y="725"/>
                  <a:pt x="22" y="84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reeform 11"/>
          <p:cNvSpPr/>
          <p:nvPr/>
        </p:nvSpPr>
        <p:spPr>
          <a:xfrm>
            <a:off x="2362320" y="5427720"/>
            <a:ext cx="2412720" cy="34596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520" h="218">
                <a:moveTo>
                  <a:pt x="1520" y="69"/>
                </a:moveTo>
                <a:cubicBezTo>
                  <a:pt x="1451" y="23"/>
                  <a:pt x="1379" y="9"/>
                  <a:pt x="1296" y="0"/>
                </a:cubicBezTo>
                <a:cubicBezTo>
                  <a:pt x="1275" y="2"/>
                  <a:pt x="1253" y="1"/>
                  <a:pt x="1232" y="5"/>
                </a:cubicBezTo>
                <a:cubicBezTo>
                  <a:pt x="1207" y="10"/>
                  <a:pt x="1199" y="89"/>
                  <a:pt x="1189" y="112"/>
                </a:cubicBezTo>
                <a:cubicBezTo>
                  <a:pt x="1177" y="141"/>
                  <a:pt x="1169" y="146"/>
                  <a:pt x="1141" y="165"/>
                </a:cubicBezTo>
                <a:cubicBezTo>
                  <a:pt x="1136" y="169"/>
                  <a:pt x="1125" y="176"/>
                  <a:pt x="1125" y="176"/>
                </a:cubicBezTo>
                <a:cubicBezTo>
                  <a:pt x="1066" y="173"/>
                  <a:pt x="1035" y="175"/>
                  <a:pt x="987" y="160"/>
                </a:cubicBezTo>
                <a:cubicBezTo>
                  <a:pt x="918" y="112"/>
                  <a:pt x="856" y="45"/>
                  <a:pt x="773" y="26"/>
                </a:cubicBezTo>
                <a:cubicBezTo>
                  <a:pt x="757" y="28"/>
                  <a:pt x="740" y="26"/>
                  <a:pt x="725" y="32"/>
                </a:cubicBezTo>
                <a:cubicBezTo>
                  <a:pt x="719" y="34"/>
                  <a:pt x="711" y="59"/>
                  <a:pt x="709" y="64"/>
                </a:cubicBezTo>
                <a:cubicBezTo>
                  <a:pt x="699" y="94"/>
                  <a:pt x="701" y="138"/>
                  <a:pt x="683" y="165"/>
                </a:cubicBezTo>
                <a:cubicBezTo>
                  <a:pt x="678" y="172"/>
                  <a:pt x="660" y="188"/>
                  <a:pt x="651" y="192"/>
                </a:cubicBezTo>
                <a:cubicBezTo>
                  <a:pt x="641" y="196"/>
                  <a:pt x="619" y="202"/>
                  <a:pt x="619" y="202"/>
                </a:cubicBezTo>
                <a:cubicBezTo>
                  <a:pt x="590" y="200"/>
                  <a:pt x="561" y="203"/>
                  <a:pt x="533" y="197"/>
                </a:cubicBezTo>
                <a:cubicBezTo>
                  <a:pt x="486" y="187"/>
                  <a:pt x="461" y="123"/>
                  <a:pt x="416" y="106"/>
                </a:cubicBezTo>
                <a:cubicBezTo>
                  <a:pt x="381" y="71"/>
                  <a:pt x="368" y="86"/>
                  <a:pt x="309" y="90"/>
                </a:cubicBezTo>
                <a:cubicBezTo>
                  <a:pt x="290" y="119"/>
                  <a:pt x="268" y="166"/>
                  <a:pt x="240" y="186"/>
                </a:cubicBezTo>
                <a:cubicBezTo>
                  <a:pt x="215" y="204"/>
                  <a:pt x="227" y="200"/>
                  <a:pt x="203" y="208"/>
                </a:cubicBezTo>
                <a:cubicBezTo>
                  <a:pt x="192" y="212"/>
                  <a:pt x="171" y="218"/>
                  <a:pt x="171" y="218"/>
                </a:cubicBezTo>
                <a:cubicBezTo>
                  <a:pt x="148" y="216"/>
                  <a:pt x="124" y="216"/>
                  <a:pt x="101" y="213"/>
                </a:cubicBezTo>
                <a:cubicBezTo>
                  <a:pt x="66" y="209"/>
                  <a:pt x="36" y="192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8120" y="1356840"/>
            <a:ext cx="67582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فاهيم كينيماتيكية خط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2814480"/>
            <a:ext cx="8229600" cy="30434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مسافة ( تتبع مباشر للمسار من البداية الى النهاية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إزاحة (الفرق بين البداية و النهاية فقط)= [م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-م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سرعة= (المسافة /الزمن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السرعة المتجهة =(الإزاحة / </a:t>
            </a:r>
            <a:r>
              <a:rPr b="1" lang="el-GR" sz="32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زمن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عجلة = (</a:t>
            </a:r>
            <a:r>
              <a:rPr b="1" lang="el-GR" sz="32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السرعة المتجهة/ </a:t>
            </a:r>
            <a:r>
              <a:rPr b="1" lang="el-GR" sz="32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الزمن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6443640" cy="150048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كينيماتيكا العجلة الثابتة</a:t>
            </a:r>
            <a:br>
              <a:rPr sz="4400"/>
            </a:b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467040" y="1785960"/>
            <a:ext cx="260532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عادلات الحرك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642960" y="2500200"/>
                <a:ext cx="7858080" cy="421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V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99760" y="142560"/>
            <a:ext cx="56437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71320" y="1428840"/>
            <a:ext cx="6172200" cy="5286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92000"/>
          </a:bodyPr>
          <a:p>
            <a:pPr marL="473040" indent="-473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سرعة تردد كاميرا التصوي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06040" indent="-3852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سقاط كرة حديدية من ارتفاع محدد (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 مثلا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06040" indent="-3852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يمكن حساب زمن التردد كما يلي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77160" indent="-31536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معطي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99800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V1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99800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a=-9.8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99800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d=-2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91600" indent="-35028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معادلة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d=V1t+1/2a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  <a:ea typeface="AL-Matee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67579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4640" y="2060280"/>
            <a:ext cx="30718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تعويض في المعادل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19988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19988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19988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7"/>
              <p:cNvSpPr txBox="1"/>
              <p:nvPr/>
            </p:nvSpPr>
            <p:spPr>
              <a:xfrm>
                <a:off x="714240" y="1542960"/>
                <a:ext cx="3071880" cy="514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S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9"/>
              <p:cNvSpPr txBox="1"/>
              <p:nvPr/>
            </p:nvSpPr>
            <p:spPr>
              <a:xfrm>
                <a:off x="4143240" y="3214800"/>
                <a:ext cx="455148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3960" y="213840"/>
            <a:ext cx="62769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3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5"/>
              <p:cNvSpPr txBox="1"/>
              <p:nvPr/>
            </p:nvSpPr>
            <p:spPr>
              <a:xfrm>
                <a:off x="214200" y="1711440"/>
                <a:ext cx="4535640" cy="47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71960" y="2619000"/>
            <a:ext cx="4029120" cy="17384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قياس رد الفع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غرض قياس المسافة التي تسقطها العصا كمؤشر على رد الفع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68295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6360" y="1999800"/>
            <a:ext cx="38163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خطأ استخدام المعادلات في حالات أخر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حساب السرعة الأفقية المطلوبة في الارتقاء في الوثب الطوي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285840" y="1414440"/>
                <a:ext cx="3857400" cy="524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Text Box 6"/>
          <p:cNvSpPr/>
          <p:nvPr/>
        </p:nvSpPr>
        <p:spPr>
          <a:xfrm>
            <a:off x="5129280" y="2905200"/>
            <a:ext cx="294300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AL-Mateen"/>
              </a:rPr>
              <a:t>حساب العجلة الأفق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5143680" y="5202360"/>
            <a:ext cx="286200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AL-Mateen"/>
              </a:rPr>
              <a:t>حساب سرعة الارتق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eft Arrow 8"/>
          <p:cNvSpPr/>
          <p:nvPr/>
        </p:nvSpPr>
        <p:spPr>
          <a:xfrm>
            <a:off x="2643120" y="3157560"/>
            <a:ext cx="2428920" cy="271440"/>
          </a:xfrm>
          <a:prstGeom prst="leftArrow">
            <a:avLst>
              <a:gd name="adj1" fmla="val 50000"/>
              <a:gd name="adj2" fmla="val 10170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eft Arrow 9"/>
          <p:cNvSpPr/>
          <p:nvPr/>
        </p:nvSpPr>
        <p:spPr>
          <a:xfrm>
            <a:off x="2143080" y="5386320"/>
            <a:ext cx="2938680" cy="214560"/>
          </a:xfrm>
          <a:prstGeom prst="leftArrow">
            <a:avLst>
              <a:gd name="adj1" fmla="val 50000"/>
              <a:gd name="adj2" fmla="val 10158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60436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تطلبات المقرر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69560" y="1500120"/>
            <a:ext cx="8759880" cy="5143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المادة: </a:t>
            </a:r>
            <a:r>
              <a:rPr b="1" lang="ar-SA" sz="1800" spc="-1" strike="noStrike">
                <a:solidFill>
                  <a:srgbClr val="ffff00"/>
                </a:solidFill>
                <a:latin typeface="Arabic Typesetting"/>
                <a:ea typeface="Arabic Typesetting"/>
              </a:rPr>
              <a:t>505</a:t>
            </a:r>
            <a:r>
              <a:rPr b="1" lang="ar-SA" sz="1800" spc="-1" strike="noStrike">
                <a:solidFill>
                  <a:srgbClr val="ffff00"/>
                </a:solidFill>
                <a:latin typeface="Arabic Typesetting"/>
                <a:ea typeface="Arabic Typesetting"/>
              </a:rPr>
              <a:t> مسك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يكانيكا الحيوية في النشاط الرياضي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برنامج الماجستير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الفصل الأول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    تهدف هذه المادة إلى تعريف الطالب بالأسس و المبادئ الميكانيكية لمعظم مجالات الميكانيكا الحيوية. سوف يتعرض الطالب إلى الكثير من المعارف الأساسية و المتقدمة والتي تطور قدرته على فهم الحركة و مسبباتها. كما يسعى المقرر إلى استعراض أنسجة الجسم المختلفة و التي لها علاقة مباشرة بالحركة مثل العظم و الرباط  ودراسة تأثير النشاط البدني على هذه الأنسجة و ميكانيكيتها. . كذلك استعراض لبعض الدراسات السابقة . بالإضافة إلى ذلك, سوف يتم التطرق إلى أسلوب التحليل الحركي نظريا وذلك على نماذج من الألعاب الرياضية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00"/>
                </a:solidFill>
                <a:uFillTx/>
                <a:latin typeface="Arabic Typesetting"/>
                <a:cs typeface="Arabic Typesetting"/>
              </a:rPr>
              <a:t>مفردات المقرر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66ff33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66ff33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66ff33"/>
                </a:solidFill>
                <a:latin typeface="Arabic Typesetting"/>
                <a:cs typeface="Arabic Typesetting"/>
              </a:rPr>
              <a:t>الكينماتيكا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كينماتيكا الخط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سافة والإزاح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سرعة والسرعة المتجه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عجلة (التسارع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eef4f9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eef4f9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eef4f9"/>
                </a:solidFill>
                <a:latin typeface="Arabic Typesetting"/>
                <a:cs typeface="Arabic Typesetting"/>
              </a:rPr>
              <a:t>الكينماتيكا</a:t>
            </a:r>
            <a:r>
              <a:rPr b="0" lang="en-US" sz="1600" spc="-1" strike="noStrike">
                <a:solidFill>
                  <a:srgbClr val="eef4f9"/>
                </a:solidFill>
                <a:latin typeface="Arabic Typesetting"/>
                <a:ea typeface="Arabic Typesetting"/>
              </a:rPr>
              <a:t> </a:t>
            </a:r>
            <a:r>
              <a:rPr b="0" lang="ar-SA" sz="1600" spc="-1" strike="noStrike">
                <a:solidFill>
                  <a:srgbClr val="eef4f9"/>
                </a:solidFill>
                <a:latin typeface="Arabic Typesetting"/>
                <a:ea typeface="Arabic Typesetting"/>
              </a:rPr>
              <a:t> الدوران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سافة الزاوية و الإزاح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سرعة الزاوية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عجلة الزاوية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273720" cy="167652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كينيماتيكا العجلة الثابتة</a:t>
            </a:r>
            <a:br>
              <a:rPr sz="4400"/>
            </a:br>
            <a:r>
              <a:rPr b="1" i="1" lang="ar-SA" sz="4400" spc="-1" strike="noStrike" u="sng">
                <a:solidFill>
                  <a:srgbClr val="ffffcc"/>
                </a:solidFill>
                <a:uFillTx/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28440" y="2000160"/>
            <a:ext cx="7700760" cy="4500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اهي المقذوفة ( الجسم الذي تؤثر علية الجاذبية الأرضية فقط) (افترض عدم تأثير الهواء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Garamond"/>
                <a:cs typeface="AL-Mateen"/>
              </a:rPr>
              <a:t>العوامل المؤثرة على المقذوف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263760" indent="-40788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ستوى الإطلا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263760" indent="-40788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زاوية الإطلا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263760" indent="-40788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سرعة الإطلا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1760" y="142560"/>
            <a:ext cx="57387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143680" y="1773000"/>
            <a:ext cx="3924000" cy="4392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9000"/>
          </a:bodyPr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جدول يوضح اختلاف الزاوية اعتمادا على التغير في ارتفاع و سرعة الإطلا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52720" indent="-203400" algn="just" rtl="1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Garamond"/>
                <a:cs typeface="AL-Mateen"/>
              </a:rPr>
              <a:t>الخلاصة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566280" indent="-203400" algn="just" rtl="1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الزاوية المثالية دائما اقل من 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45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درج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566280" indent="-203400" algn="just" rtl="1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لأي ارتفاع اطلاق، كلما زادت سرعة الاطلاق، قاربت الزاوية من 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566280" indent="-203400" algn="just" rtl="1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لأي سرعة اطلاق، كلما زاد ارتفاع الاطلاق، كلما قل الزاوية المثالي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566280" indent="-203400" algn="just" rtl="1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أي زيادة في ارتفاع الاطلاق او سرعة الاطلاق لا ينتج عنه تغير ثابت و مساوي للزاوية المثالية او المسافة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Line 157"/>
          <p:cNvSpPr/>
          <p:nvPr/>
        </p:nvSpPr>
        <p:spPr>
          <a:xfrm>
            <a:off x="1303200" y="12049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65"/>
          <p:cNvSpPr/>
          <p:nvPr/>
        </p:nvSpPr>
        <p:spPr>
          <a:xfrm>
            <a:off x="7835760" y="1495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66"/>
          <p:cNvSpPr/>
          <p:nvPr/>
        </p:nvSpPr>
        <p:spPr>
          <a:xfrm>
            <a:off x="1303200" y="12049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7835760" y="1495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14200" y="1393920"/>
          <a:ext cx="4718160" cy="5278320"/>
        </p:xfrm>
        <a:graphic>
          <a:graphicData uri="http://schemas.openxmlformats.org/drawingml/2006/table">
            <a:tbl>
              <a:tblPr/>
              <a:tblGrid>
                <a:gridCol w="674640"/>
                <a:gridCol w="671760"/>
                <a:gridCol w="674640"/>
                <a:gridCol w="674640"/>
                <a:gridCol w="674640"/>
                <a:gridCol w="671400"/>
                <a:gridCol w="676440"/>
              </a:tblGrid>
              <a:tr h="307080">
                <a:tc rowSpan="2"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سرعة الإطلاق (م/ث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1.7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8.96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.40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.0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1.8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9.90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1.9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9.1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.5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.2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.0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.0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2.09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9.3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.75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.38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.2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.2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8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2.2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9.50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.9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.55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.3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.39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2680">
                <a:tc gridSpan="7">
                  <a:txBody>
                    <a:bodyPr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a</a:t>
                      </a:r>
                      <a:r>
                        <a:rPr b="1" lang="ar-EG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المسافات المحصلة من المزيج المشار إليه من سرعة وارتفاع الإطلاق والزاوية المثالية موضح بين القوسين. هذه المسفات لا تتضمن المسافات الإضافية (تقريباً </a:t>
                      </a:r>
                      <a:r>
                        <a:rPr b="1" lang="ar-EG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.3</a:t>
                      </a:r>
                      <a:r>
                        <a:rPr b="1" lang="ar-EG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م) التي تكون فيها الجلة متقدمة على الحافة الداخلية لأعلى اللوح عند لحظة الإطلا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4612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285800" y="1571760"/>
            <a:ext cx="4714920" cy="52149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4000"/>
          </a:bodyPr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علمنا تأثير الثلاث عوامل مجتمعة في الجدول السابق. الآن سوف نحاول التعرف على تأثير كل واحد من هذه العوامل منفرد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جدول للاعب دفع جلة بمحاولة سجل بها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12.03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م مع ارتفاع اطلاق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م و سرعة اطلاق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م/ث و زاوية اطلاق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40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 درج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شكل المقابل يشير الى التغير في المسافة  الأفقية للجلة عند تغيير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Garamond"/>
                <a:cs typeface="AL-Mateen"/>
              </a:rPr>
              <a:t>ارتفاع الاطلاق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و ثبات السرعة و الزاو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تغير بمقدار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% في ارتفاع الاطلاق نتج عنه تغير في المسافة بمقدار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0.085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8" name="Picture 7" descr="3-14"/>
          <p:cNvPicPr/>
          <p:nvPr/>
        </p:nvPicPr>
        <p:blipFill>
          <a:blip r:embed="rId1"/>
          <a:srcRect l="0" t="0" r="0" b="8035"/>
          <a:stretch/>
        </p:blipFill>
        <p:spPr>
          <a:xfrm>
            <a:off x="160200" y="1857240"/>
            <a:ext cx="4054680" cy="4786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89" name="Left Arrow 5"/>
          <p:cNvSpPr/>
          <p:nvPr/>
        </p:nvSpPr>
        <p:spPr>
          <a:xfrm>
            <a:off x="3714840" y="5143680"/>
            <a:ext cx="857160" cy="21420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91" name="Picture 8" descr="3-14ب"/>
          <p:cNvPicPr/>
          <p:nvPr/>
        </p:nvPicPr>
        <p:blipFill>
          <a:blip r:embed="rId1"/>
          <a:srcRect l="0" t="4208" r="0" b="3913"/>
          <a:stretch/>
        </p:blipFill>
        <p:spPr>
          <a:xfrm>
            <a:off x="214200" y="1533600"/>
            <a:ext cx="4143600" cy="507348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sp>
        <p:nvSpPr>
          <p:cNvPr id="392" name="Text Box 4"/>
          <p:cNvSpPr/>
          <p:nvPr/>
        </p:nvSpPr>
        <p:spPr>
          <a:xfrm>
            <a:off x="4643280" y="1008000"/>
            <a:ext cx="3816360" cy="545292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L-Mateen"/>
              </a:rPr>
              <a:t>الجدول المقابل يوضح التغير في المسافة الأفقية نتيجة الى تغيير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  <a:cs typeface="AL-Mateen"/>
              </a:rPr>
              <a:t>سرعة الاطلاق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AL-Matee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L-Mateen"/>
              </a:rPr>
              <a:t>تغيير ايضا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AL-Mateen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AL-Mateen"/>
              </a:rPr>
              <a:t>% في السرعة يؤدي الى تغير في المسافة بمقدار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AL-Mateen"/>
              </a:rPr>
              <a:t>1.057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L-Mateen"/>
              </a:rPr>
              <a:t>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  <a:cs typeface="AL-Mateen"/>
              </a:rPr>
              <a:t>التغير في زاوية الإطل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eft Arrow 6"/>
          <p:cNvSpPr/>
          <p:nvPr/>
        </p:nvSpPr>
        <p:spPr>
          <a:xfrm>
            <a:off x="3714840" y="3000240"/>
            <a:ext cx="2214360" cy="214560"/>
          </a:xfrm>
          <a:prstGeom prst="leftArrow">
            <a:avLst>
              <a:gd name="adj1" fmla="val 50000"/>
              <a:gd name="adj2" fmla="val 499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eft Arrow 7"/>
          <p:cNvSpPr/>
          <p:nvPr/>
        </p:nvSpPr>
        <p:spPr>
          <a:xfrm>
            <a:off x="4081320" y="5286240"/>
            <a:ext cx="1847880" cy="214560"/>
          </a:xfrm>
          <a:prstGeom prst="leftArrow">
            <a:avLst>
              <a:gd name="adj1" fmla="val 50000"/>
              <a:gd name="adj2" fmla="val 499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96" name="Picture 7" descr="3-14ب"/>
          <p:cNvPicPr/>
          <p:nvPr/>
        </p:nvPicPr>
        <p:blipFill>
          <a:blip r:embed="rId1"/>
          <a:srcRect l="0" t="4208" r="0" b="3913"/>
          <a:stretch/>
        </p:blipFill>
        <p:spPr>
          <a:xfrm>
            <a:off x="285840" y="1916280"/>
            <a:ext cx="4246560" cy="4512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97" name="Text Box 4"/>
          <p:cNvSpPr/>
          <p:nvPr/>
        </p:nvSpPr>
        <p:spPr>
          <a:xfrm>
            <a:off x="5076720" y="19162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4643280" y="1916280"/>
            <a:ext cx="4105440" cy="596412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 الشكل يوضح تقصان في المسافة بمقدار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0.01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ateen"/>
              </a:rPr>
              <a:t>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أشكال الثلاثة توضح ان الزيادة في سرعة الاطلاق انتجت اكبر تغير في المساف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 الجدول المقابل يوضح التغير في المسافة الأفقية نتيجة الى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% تغير في زاوية الاطلا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66150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400" name="Group 5"/>
          <p:cNvGrpSpPr/>
          <p:nvPr/>
        </p:nvGrpSpPr>
        <p:grpSpPr>
          <a:xfrm>
            <a:off x="428760" y="1371600"/>
            <a:ext cx="4572000" cy="5402160"/>
            <a:chOff x="428760" y="1371600"/>
            <a:chExt cx="4572000" cy="5402160"/>
          </a:xfrm>
        </p:grpSpPr>
        <p:graphicFrame>
          <p:nvGraphicFramePr>
            <p:cNvPr id="401" name="Object 6"/>
            <p:cNvGraphicFramePr/>
            <p:nvPr/>
          </p:nvGraphicFramePr>
          <p:xfrm>
            <a:off x="474480" y="1371600"/>
            <a:ext cx="4451400" cy="3914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02" name="Object 6" descr="Blue tissue paper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480" y="1371600"/>
                      <a:ext cx="4451400" cy="39146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Object 7"/>
            <p:cNvGraphicFramePr/>
            <p:nvPr/>
          </p:nvGraphicFramePr>
          <p:xfrm>
            <a:off x="428760" y="5381640"/>
            <a:ext cx="4572000" cy="1392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04" name="Object 7" descr="Blue tissue paper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8760" y="5381640"/>
                      <a:ext cx="4572000" cy="1392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05" name="Text Box 4"/>
          <p:cNvSpPr/>
          <p:nvPr/>
        </p:nvSpPr>
        <p:spPr>
          <a:xfrm>
            <a:off x="5214960" y="2549520"/>
            <a:ext cx="3676680" cy="283716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Mateen"/>
              </a:rPr>
              <a:t>الجدول يوضح نتائج المسافة مع التغير في العوامل الثلاثة المؤثرة على المقذوف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65721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07" name="Picture 5" descr="3-15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428760" y="1701720"/>
            <a:ext cx="8286480" cy="4727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295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09" name="Picture 5" descr="3-16"/>
          <p:cNvPicPr/>
          <p:nvPr/>
        </p:nvPicPr>
        <p:blipFill>
          <a:blip r:embed="rId1"/>
          <a:srcRect l="5234" t="3516" r="0" b="13799"/>
          <a:stretch/>
        </p:blipFill>
        <p:spPr>
          <a:xfrm>
            <a:off x="428760" y="1571760"/>
            <a:ext cx="8286480" cy="5227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686640" cy="151128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كينيماتيكا العجلة الثابتة</a:t>
            </a:r>
            <a:br>
              <a:rPr sz="4400"/>
            </a:br>
            <a:r>
              <a:rPr b="1" i="1" lang="ar-SA" sz="4400" spc="-1" strike="noStrike" u="sng">
                <a:solidFill>
                  <a:srgbClr val="ffffcc"/>
                </a:solidFill>
                <a:uFillTx/>
                <a:latin typeface="Garamond"/>
                <a:cs typeface="PT Bold Heading"/>
              </a:rPr>
              <a:t>المقذوفات</a:t>
            </a:r>
            <a:r>
              <a:rPr b="1" i="1" lang="ar-SA" sz="4400" spc="-1" strike="noStrike" u="sng">
                <a:solidFill>
                  <a:srgbClr val="ffffcc"/>
                </a:solidFill>
                <a:uFillTx/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3"/>
              <p:cNvSpPr txBox="1"/>
              <p:nvPr/>
            </p:nvSpPr>
            <p:spPr>
              <a:xfrm>
                <a:off x="642960" y="2071800"/>
                <a:ext cx="2643120" cy="25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7"/>
              <p:cNvSpPr txBox="1"/>
              <p:nvPr/>
            </p:nvSpPr>
            <p:spPr>
              <a:xfrm>
                <a:off x="642960" y="4797360"/>
                <a:ext cx="26431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03600" y="1904760"/>
            <a:ext cx="3454200" cy="44528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7000"/>
          </a:bodyPr>
          <a:p>
            <a:pPr marL="298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مسار الأفقي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مدى الأفقي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إيجاد مكونات السرع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Garamond"/>
                <a:cs typeface="AL-Mateen"/>
              </a:rPr>
              <a:t>من المعادلة الأخيرة يتضح انه لكي تغير من المدى الأفقي للمقذوف يمكن فقط تغيير زمن الطيران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Garamond"/>
                <a:cs typeface="AL-Mateen"/>
              </a:rPr>
              <a:t>او السرعة الأفقي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3851280" y="2997360"/>
            <a:ext cx="1512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3773520" y="508464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ateen"/>
              </a:rPr>
              <a:t>باستخدام المعاد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4492800" y="4076640"/>
            <a:ext cx="93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ateen"/>
              </a:rPr>
              <a:t>المعطي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20"/>
          <p:cNvSpPr/>
          <p:nvPr/>
        </p:nvSpPr>
        <p:spPr>
          <a:xfrm flipH="1">
            <a:off x="3420720" y="4292640"/>
            <a:ext cx="1079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 flipH="1" flipV="1">
            <a:off x="3286080" y="5286240"/>
            <a:ext cx="571680" cy="46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2"/>
          <p:cNvSpPr/>
          <p:nvPr/>
        </p:nvSpPr>
        <p:spPr>
          <a:xfrm flipH="1">
            <a:off x="3429000" y="5786280"/>
            <a:ext cx="2239920" cy="500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16360" y="1916280"/>
            <a:ext cx="4213440" cy="4038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ركة العمود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عندما يكون هناك مسار عمودي للجسم تكون السرعة العمودية هي المسئولة عنه من الطيران ايضا السرعة العمودية هي في الغالب المسئولة عنه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زمن الطيران = زمن الصعود + زمن الهبوط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L-Mateen"/>
              </a:rPr>
              <a:t>T=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u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L-Mateen"/>
              </a:rPr>
              <a:t>+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L-Matee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يمكن حساب زمن الصعود كما يلي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214200" y="1603440"/>
                <a:ext cx="2714760" cy="28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6"/>
              <p:cNvSpPr txBox="1"/>
              <p:nvPr/>
            </p:nvSpPr>
            <p:spPr>
              <a:xfrm>
                <a:off x="214200" y="4538520"/>
                <a:ext cx="2714760" cy="19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" name="Line 9"/>
          <p:cNvSpPr/>
          <p:nvPr/>
        </p:nvSpPr>
        <p:spPr>
          <a:xfrm flipH="1" flipV="1">
            <a:off x="3780000" y="5013360"/>
            <a:ext cx="792000" cy="27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H="1" flipV="1">
            <a:off x="2700000" y="407664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11"/>
          <p:cNvSpPr/>
          <p:nvPr/>
        </p:nvSpPr>
        <p:spPr>
          <a:xfrm flipH="1">
            <a:off x="2484000" y="5013360"/>
            <a:ext cx="1295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3057480" y="425304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ateen"/>
              </a:rPr>
              <a:t>المعطي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2771640" y="53737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ateen"/>
              </a:rPr>
              <a:t>التعوي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ابع متطلبات المقرر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Garamond"/>
                <a:cs typeface="PT Bold Heading"/>
              </a:rPr>
              <a:t>الكيناتيك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Garamond"/>
                <a:cs typeface="PT Bold Heading"/>
              </a:rPr>
              <a:t>الكيناتيكا الخط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قوانين نيوت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دفع الخطي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قوانين الطاق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Garamond"/>
                <a:cs typeface="PT Bold Heading"/>
              </a:rPr>
              <a:t>الكيناتيكا الدوران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قوانين نيوت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مركز الثق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دفع الدوراني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ff33"/>
                </a:solidFill>
                <a:latin typeface="Garamond"/>
                <a:cs typeface="AL-Mateen"/>
              </a:rPr>
              <a:t>قوانين الطاق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ff33"/>
                </a:solidFill>
                <a:latin typeface="Garamond"/>
                <a:cs typeface="AL-Mateen"/>
              </a:rPr>
              <a:t>ديناميكا الموائ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456080" indent="-285840" algn="r" rtl="1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الهوا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456080" indent="-285840" algn="r" rtl="1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الما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62388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11"/>
              <p:cNvSpPr txBox="1"/>
              <p:nvPr/>
            </p:nvSpPr>
            <p:spPr>
              <a:xfrm>
                <a:off x="1276200" y="2205000"/>
                <a:ext cx="1765440" cy="35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ow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ow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435640" y="1905120"/>
            <a:ext cx="302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يمكن حساب زمن الهبوط بدلالة مسافة الهبوط العمودية كما يلي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Garamond"/>
              </a:rPr>
              <a:t>ملاحظة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: مسافة الهبوط العمودية تعتمد على ارتفاع الهبوط مقارنة بارتفاع الاطلاق [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رة السلة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down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&gt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رة القدم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down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،  دفع الجلة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down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0" lang="ar-SA" sz="1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u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Line 13"/>
          <p:cNvSpPr/>
          <p:nvPr/>
        </p:nvSpPr>
        <p:spPr>
          <a:xfrm flipH="1">
            <a:off x="5435280" y="3068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 flipV="1">
            <a:off x="3851280" y="2923920"/>
            <a:ext cx="1512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3780000" y="3141720"/>
            <a:ext cx="158400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399564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لمعطي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780000" y="36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لتعوي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79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76720" y="1915920"/>
            <a:ext cx="3772080" cy="20127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Garamond"/>
                <a:cs typeface="AL-Mateen"/>
              </a:rPr>
              <a:t>بالنسبة الى تساوي الإرتفاعين يمكن حساب 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  <a:ea typeface="AL-Mateen"/>
              </a:rPr>
              <a:t>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up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ar-SA" sz="2700" spc="-1" strike="noStrike">
                <a:solidFill>
                  <a:srgbClr val="ffffff"/>
                </a:solidFill>
                <a:latin typeface="Garamond"/>
                <a:cs typeface="AL-Mateen"/>
              </a:rPr>
              <a:t>كما يلي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cs typeface="AL-Mateen"/>
              </a:rPr>
              <a:t>لأن 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  <a:ea typeface="AL-Mateen"/>
              </a:rPr>
              <a:t>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=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  <a:ea typeface="AL-Mateen"/>
              </a:rPr>
              <a:t>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up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 التعويض بهذه المعادلة في معادلة 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  <a:ea typeface="AL-Mateen"/>
              </a:rPr>
              <a:t>t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cs typeface="AL-Mateen"/>
              </a:rPr>
              <a:t>يعطي المعادلة التالية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509760" y="3857760"/>
                <a:ext cx="406224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571680" y="1500120"/>
                <a:ext cx="2500200" cy="21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Line 8"/>
          <p:cNvSpPr/>
          <p:nvPr/>
        </p:nvSpPr>
        <p:spPr>
          <a:xfrm flipH="1" flipV="1">
            <a:off x="3132000" y="2492280"/>
            <a:ext cx="237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9"/>
          <p:cNvSpPr/>
          <p:nvPr/>
        </p:nvSpPr>
        <p:spPr>
          <a:xfrm flipH="1">
            <a:off x="3924000" y="2708280"/>
            <a:ext cx="1584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10"/>
          <p:cNvSpPr/>
          <p:nvPr/>
        </p:nvSpPr>
        <p:spPr>
          <a:xfrm flipH="1">
            <a:off x="6470640" y="3789360"/>
            <a:ext cx="46080" cy="282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1"/>
              <p:cNvSpPr txBox="1"/>
              <p:nvPr/>
            </p:nvSpPr>
            <p:spPr>
              <a:xfrm>
                <a:off x="5214960" y="4127400"/>
                <a:ext cx="3500280" cy="251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814040"/>
            <a:ext cx="8229600" cy="4257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ملاحظ انه في حالة تساوي الإرتفاعين يتساوى زمن الصعود و الهبو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تطبيق: على لاعب الجمباز الأرضي الراغب في اداء دورتين في الهواء اكمال نصف الأداء لحظة و صولة الى اعلى ارتفاع حتى يتمكن من انجاز المطلوب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لاعب كرة القدم الراغب في ضرب الكرة برأسه عليه ان يكون في منتصف المسافة عند وصول الكرة الى اعلى ارتفا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295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78440" y="2285640"/>
            <a:ext cx="4851360" cy="3368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9000"/>
          </a:bodyPr>
          <a:p>
            <a:pPr marL="305280" indent="-305280" algn="just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بعد معرفة زمن الصعود و الهبوط، يمكن الآن حساب الزمن الكلي للطيران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لحوظة: لأن التسارع ثابت، فالزمن الكلي يعتمد فقط على سرعة الإطلاق العمود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187200" y="1916280"/>
                <a:ext cx="368460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286520" cy="4370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عندما يكون مستوى الإطلاق و الهبوط غير متساوي، يمكن حساب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h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تعني ارتفاع الاطلاق ناقص ارتفاع الهبوط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التعويض بالمعادلة الحالية في معادلة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r>
              <a:rPr b="0" lang="ar-SA" sz="20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ومن ثم التعويض بها في معادلة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T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يعطي التالي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Garamond"/>
                <a:cs typeface="AL-Mateen"/>
              </a:rPr>
              <a:t>خلاصة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 algn="just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عندما يكون ارتفاع الاطلاق و الهبوط غير متساوي، زمن الطيران يمكن تغييره اما عن طريق تغيير السرعة العمودية او تغيير مستوى الاطلا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 algn="just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أو كليها معا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4"/>
              <p:cNvSpPr txBox="1"/>
              <p:nvPr/>
            </p:nvSpPr>
            <p:spPr>
              <a:xfrm>
                <a:off x="112680" y="1571760"/>
                <a:ext cx="356868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7"/>
              <p:cNvSpPr txBox="1"/>
              <p:nvPr/>
            </p:nvSpPr>
            <p:spPr>
              <a:xfrm>
                <a:off x="122400" y="3892680"/>
                <a:ext cx="4378320" cy="23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</m:rad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4" name="Line 6"/>
          <p:cNvSpPr/>
          <p:nvPr/>
        </p:nvSpPr>
        <p:spPr>
          <a:xfrm flipH="1">
            <a:off x="3419640" y="2421000"/>
            <a:ext cx="158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4500720" y="3645000"/>
            <a:ext cx="720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295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 </a:t>
            </a:r>
            <a:br>
              <a:rPr sz="4400"/>
            </a:br>
            <a:r>
              <a:rPr b="1" lang="ar-SA" sz="2000" spc="-1" strike="noStrike">
                <a:solidFill>
                  <a:srgbClr val="ffffcc"/>
                </a:solidFill>
                <a:latin typeface="Garamond"/>
                <a:ea typeface="PT Bold Heading"/>
              </a:rPr>
              <a:t>(</a:t>
            </a:r>
            <a:r>
              <a:rPr b="1" lang="ar-SA" sz="18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دى الأفقي للمقذوف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787640" y="1844640"/>
            <a:ext cx="3771720" cy="4038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تم العلم انه يمكن حساب المسافة الأفقية بالمعادلة التالية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تعويض بمعادلة الزمن الكلي في المعادلة الحالية، ينتج المعادلة التالية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بتبسيط المعادلة ينتج المعادلة التالية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419040" y="1928880"/>
                <a:ext cx="3552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cosθ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7"/>
              <p:cNvSpPr txBox="1"/>
              <p:nvPr/>
            </p:nvSpPr>
            <p:spPr>
              <a:xfrm>
                <a:off x="642960" y="2714760"/>
                <a:ext cx="333864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0" name="Line 6"/>
          <p:cNvSpPr/>
          <p:nvPr/>
        </p:nvSpPr>
        <p:spPr>
          <a:xfrm flipH="1" flipV="1">
            <a:off x="4000680" y="2428920"/>
            <a:ext cx="1000080" cy="46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571680" y="5227560"/>
                <a:ext cx="26524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2" name="Line 10"/>
          <p:cNvSpPr/>
          <p:nvPr/>
        </p:nvSpPr>
        <p:spPr>
          <a:xfrm flipH="1" flipV="1">
            <a:off x="3214440" y="5254560"/>
            <a:ext cx="3878280" cy="46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>
            <a:off x="3857760" y="3857760"/>
            <a:ext cx="280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20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ع ثبات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g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 ، يبقى التأثير على المدى الأفقي للمقذوف من خلال: السرعة و زاوية الاطلا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زاوية المثالية لتحقيق افضل مسافة افقية هي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 درجة. لماذا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شرط لذلك تساوي ارتفاع الاطلاق و الهبو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15000" cy="151128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br>
              <a:rPr sz="4400"/>
            </a:b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دى الأفقي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500440" y="2052720"/>
            <a:ext cx="3490920" cy="22334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9000"/>
          </a:bodyPr>
          <a:p>
            <a:pPr marL="305280" indent="-305280" algn="just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يمكن حساب المدى الأفقي للمقذوف في حال عدم تساوي ارتفاع الاطلاق مع الهبوط بالمعادلة التالية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بتبسيط المعادلة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5"/>
              <p:cNvSpPr txBox="1"/>
              <p:nvPr/>
            </p:nvSpPr>
            <p:spPr>
              <a:xfrm>
                <a:off x="285840" y="2362320"/>
                <a:ext cx="5129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×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7"/>
              <p:cNvSpPr txBox="1"/>
              <p:nvPr/>
            </p:nvSpPr>
            <p:spPr>
              <a:xfrm>
                <a:off x="642960" y="4505400"/>
                <a:ext cx="786780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فاهيم كينيماتيكية دوران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93760" y="3060720"/>
            <a:ext cx="4964040" cy="2225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إزاح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سرع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عجل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علاقة بين الحركة الخطية و الدوران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4"/>
              <p:cNvSpPr txBox="1"/>
              <p:nvPr/>
            </p:nvSpPr>
            <p:spPr>
              <a:xfrm>
                <a:off x="857160" y="2357280"/>
                <a:ext cx="27291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7"/>
              <p:cNvSpPr txBox="1"/>
              <p:nvPr/>
            </p:nvSpPr>
            <p:spPr>
              <a:xfrm>
                <a:off x="785880" y="3328920"/>
                <a:ext cx="2874960" cy="295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∗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6542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ابع مفاهيم كينيماتيكية دوران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75" name="Object 3"/>
          <p:cNvGraphicFramePr/>
          <p:nvPr/>
        </p:nvGraphicFramePr>
        <p:xfrm>
          <a:off x="573120" y="2152800"/>
          <a:ext cx="7997760" cy="44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6" name="Object 3" descr="Bouque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152800"/>
                    <a:ext cx="7997760" cy="441144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00160" y="99720"/>
            <a:ext cx="51436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تطلبات المقرر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28960" y="1357200"/>
            <a:ext cx="5114880" cy="5429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99ff33"/>
                </a:solidFill>
                <a:latin typeface="Garamond"/>
                <a:cs typeface="AL-Mateen"/>
              </a:rPr>
              <a:t>التحليل الحركي للألعاب الرياض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يدان و المضمار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كرة السل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شي و الجري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أدوات الرياضية في الألعاب الرياض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أحذ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أرضيات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ضارب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أدوات أخرى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solidFill>
            <a:srgbClr val="76003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تطلبات المقرر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43040"/>
            <a:ext cx="8229600" cy="4942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ar-SA" sz="1200" spc="-1" strike="noStrike" u="sng">
                <a:solidFill>
                  <a:srgbClr val="99ff33"/>
                </a:solidFill>
                <a:uFillTx/>
                <a:latin typeface="Garamond"/>
              </a:rPr>
              <a:t>متطلبات المقرر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أ- اختبار فصلي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درجة) (عدد 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ب- ورقة دراسية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درجة) (عدد 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 تقدم تفاصيلها لاحقا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ج- مراجعة لدراسة علمية أجنبية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درجات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د- اختبار نهائي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4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درجة)  (عدد 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ffffff"/>
                </a:solidFill>
                <a:uFillTx/>
                <a:latin typeface="Garamond"/>
              </a:rPr>
              <a:t>المراجع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مرجع أساسي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rtl="1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Hay, G. J. (1985) The biomechanics of sports techniques. Third Ed Prentice-Hall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                    (ترجمة د. العنقري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الميكانيكا الحيوية-الأسس النظرية والتطبيقية- طلحه حسام الدين ( 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413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. دار الفكر العربي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الميكانيكا الحيوية والتكامل بين النظرية و التطبيق. عادل عبد البصير علي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99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. مركز الكتاب للنشر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طرق البحث العلمي في التحليل الحركي. قاسم حسن و إيمان شاكر.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419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 دار الفكر للطباعة و النشر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علم الحركة التطبيقي. طلحه حسام الدين و آخرون.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998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. مركز الكتاب للنشر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1- Adrian, M. J. (1989). Biomechanics of human movement. Benchmark pres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2- Kreighbaum, E.F., and Smith, M.A. Ed. (1996). Sports and fitness equipment design. Human kinetics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3- Nordin, M., and Frankle, V.H. (1989). Basic biomechanics of the musculoskeletal system. Sec. Ed. Lea and Febiger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4-Bartlett Roger. (1999). Sports biomechanics :Reducing injury a improving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performance. E&amp; FN Spon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67579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956960"/>
            <a:ext cx="7186680" cy="3900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79000"/>
          </a:bodyPr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Garamond"/>
                <a:cs typeface="AL-Mateen"/>
              </a:rPr>
              <a:t>تعريف علم الميكانيكا الحيو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Garamond"/>
                <a:cs typeface="AL-Mateen"/>
              </a:rPr>
              <a:t>نبذة مختصرة عن تطور علم الميكانيكا الحيو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Garamond"/>
                <a:cs typeface="AL-Mateen"/>
              </a:rPr>
              <a:t>علاقة علم الميكانيكا الحيوية بالطب الرياضي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59529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0" name="Picture 6" descr="Picture 001"/>
          <p:cNvPicPr/>
          <p:nvPr/>
        </p:nvPicPr>
        <p:blipFill>
          <a:blip r:embed="rId1"/>
          <a:stretch/>
        </p:blipFill>
        <p:spPr>
          <a:xfrm>
            <a:off x="139680" y="1995480"/>
            <a:ext cx="5659560" cy="42195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892840" y="2833200"/>
            <a:ext cx="3106800" cy="2452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ميكانيكا الحيوية و علاقته بعلم الحرك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فيزياء الميكانيك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خصائص الأنسجة البيولوج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56760"/>
            <a:ext cx="62388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3" name="Picture 7" descr="Picture 002"/>
          <p:cNvPicPr/>
          <p:nvPr/>
        </p:nvPicPr>
        <p:blipFill>
          <a:blip r:embed="rId1"/>
          <a:stretch/>
        </p:blipFill>
        <p:spPr>
          <a:xfrm>
            <a:off x="285840" y="1785960"/>
            <a:ext cx="4856040" cy="45370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222520" y="3047760"/>
            <a:ext cx="3778200" cy="2238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1000"/>
          </a:bodyPr>
          <a:p>
            <a:pPr marL="277560" indent="-27756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تقسيم علم الميكانيكا الحيو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علم الديناميكا (الحركة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علم الاستاتيكا (السكون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3920" y="142560"/>
            <a:ext cx="57150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6" name="Picture 7" descr="Picture 003"/>
          <p:cNvPicPr/>
          <p:nvPr/>
        </p:nvPicPr>
        <p:blipFill>
          <a:blip r:embed="rId1"/>
          <a:srcRect l="0" t="0" r="0" b="15041"/>
          <a:stretch/>
        </p:blipFill>
        <p:spPr>
          <a:xfrm>
            <a:off x="1314360" y="2071800"/>
            <a:ext cx="6516720" cy="45496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14960" y="1356840"/>
            <a:ext cx="267192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L-Mateen"/>
              </a:rPr>
              <a:t>محاور الجس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4:14:37Z</dcterms:created>
  <dc:creator>د.عبدالرحمن العنقري</dc:creator>
  <dc:description/>
  <dc:language>en-US</dc:language>
  <cp:lastModifiedBy>A Alangari</cp:lastModifiedBy>
  <dcterms:modified xsi:type="dcterms:W3CDTF">2017-09-19T06:30:44Z</dcterms:modified>
  <cp:revision>77</cp:revision>
  <dc:subject/>
  <dc:title>مقدمة 1</dc:title>
</cp:coreProperties>
</file>