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F802-3A2E-4B2F-A14F-521B9951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E6D-84F4-42A1-BA47-D1153DAF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F586-682C-47FE-925B-DC1CF915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E0C-D9BF-4817-9BF7-B67E47E9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4C21-D2C4-4B2D-9B35-8CF64978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F8C-A59D-48D4-9730-10A28AE9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072B-371A-44C9-9AF4-AABD12E8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F3D-1B96-4601-BE77-A773EED2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A792-0A4C-4C74-B3D2-14AB6AD0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433-277C-4298-ADD0-51507DE5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3A0-BD09-45E6-970F-44C3D10F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BF27-1592-473B-B415-74FC2897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DEF7-67F2-4E1A-B89F-EED7DC8D1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قر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رشد</a:t>
            </a:r>
            <a:br>
              <a:rPr sz="3600"/>
            </a:b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هارات الات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Arial"/>
              </a:rPr>
              <a:t>أهداف المقر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كساب الطالب القدرة على نقل الرسائل بشكل جي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اكساب الطالب المهارات اللازمة للحديث والاستما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تمكين الطالب من استخدام الادوات الاتصالية بدرجة عالية من الكفاء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اكساب الطالب ملكة الحوار والإقناع للآخري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تابع : نموذج شانون وويف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فسر سميث التشوي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cc00"/>
                </a:solidFill>
                <a:latin typeface="Arial"/>
              </a:rPr>
              <a:t>أ-</a:t>
            </a:r>
            <a:r>
              <a:rPr b="1" i="1" lang="ar-SA" sz="32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i="1" lang="ar-SA" sz="3200" spc="-1" strike="noStrike">
                <a:solidFill>
                  <a:srgbClr val="00cc00"/>
                </a:solidFill>
                <a:latin typeface="Arial"/>
              </a:rPr>
              <a:t>التشويش الطبيعي: </a:t>
            </a: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مثل حدوث صوت في المحيط الاتصالي يؤدي لقطع الاتص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ff"/>
                </a:solidFill>
                <a:latin typeface="Arial"/>
              </a:rPr>
              <a:t>ب- التشويش الدلالي</a:t>
            </a: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: يقصد به اختلاف المعنى بين المرسل والمستقب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600" spc="-1" strike="noStrike" u="sng">
                <a:solidFill>
                  <a:srgbClr val="000000"/>
                </a:solidFill>
                <a:uFillTx/>
                <a:latin typeface="Arial"/>
              </a:rPr>
              <a:t>تابع: النماذج غير اللفظية احادية الاتجا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i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- نموذج بيرلو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S              M              C             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i="1" lang="ar-SA" sz="3200" spc="-1" strike="noStrike">
                <a:solidFill>
                  <a:srgbClr val="0000ff"/>
                </a:solidFill>
                <a:latin typeface="Arial"/>
              </a:rPr>
              <a:t>المستقبل        الوسيلة          رسالة           مرس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400" spc="-1" strike="noStrike">
                <a:solidFill>
                  <a:srgbClr val="0000ff"/>
                </a:solidFill>
                <a:latin typeface="Arial"/>
              </a:rPr>
              <a:t>               مهارات اتصالية                               النظر                                     عناصر                       مهارات اتصال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400" spc="-1" strike="noStrike">
                <a:solidFill>
                  <a:srgbClr val="0000ff"/>
                </a:solidFill>
                <a:latin typeface="Arial"/>
              </a:rPr>
              <a:t>                  ميول                                        السمع                                     محتوى                           ميو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400" spc="-1" strike="noStrike">
                <a:solidFill>
                  <a:srgbClr val="0000ff"/>
                </a:solidFill>
                <a:latin typeface="Arial"/>
              </a:rPr>
              <a:t>                 معرفة                                        اللمس                                     معالجة                           معرف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400" spc="-1" strike="noStrike">
                <a:solidFill>
                  <a:srgbClr val="0000ff"/>
                </a:solidFill>
                <a:latin typeface="Arial"/>
              </a:rPr>
              <a:t>              نظام اجتماعي                                   الشم                                                                     نظام اجتماع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400" spc="-1" strike="noStrike">
                <a:solidFill>
                  <a:srgbClr val="0000ff"/>
                </a:solidFill>
                <a:latin typeface="Arial"/>
              </a:rPr>
              <a:t>                 ثقافة                                                                                                                         ثقافة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36576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ثالثاً: النماذج غير اللفظية ثنائية الاتجا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نموذج ولبرشرام: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(دائرية عملية الاتصال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35053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000000"/>
                </a:solidFill>
                <a:latin typeface="Arial"/>
              </a:rPr>
              <a:t>مرم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000000"/>
                </a:solidFill>
                <a:latin typeface="Arial"/>
              </a:rPr>
              <a:t>مفس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000000"/>
                </a:solidFill>
                <a:latin typeface="Arial"/>
              </a:rPr>
              <a:t>فك رمو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35053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000000"/>
                </a:solidFill>
                <a:latin typeface="Arial"/>
              </a:rPr>
              <a:t>فك رمو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000000"/>
                </a:solidFill>
                <a:latin typeface="Arial"/>
              </a:rPr>
              <a:t>مفس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000000"/>
                </a:solidFill>
                <a:latin typeface="Arial"/>
              </a:rPr>
              <a:t>مرم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20574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رسا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5562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رسا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4419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6019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6095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238880" y="44956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7162920" y="22093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600" y="2286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80720" y="23623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2438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371600" y="3809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371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705720" y="3809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7813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ابع نموذج :ولبرشرا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الخبرة أو الارضية المشترك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الخبرة المشترك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3352680"/>
            <a:ext cx="33526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خبرة المرس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3505320"/>
            <a:ext cx="3200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خبرة المستقب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تابع نموذج:ولبرشرا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Arial"/>
              </a:rPr>
              <a:t>الخبرة المتباعد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خبرة متباع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مترج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962520"/>
            <a:ext cx="2514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اش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3962520"/>
            <a:ext cx="23619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اش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3962520"/>
            <a:ext cx="12189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885840" y="46483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800600" y="342900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نموذج : ساندر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هذا النموذج يمثل الاتصال الانساني بكل مكون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زيادة المعرف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اتخاذ القرا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التجري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التبن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متص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رسا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محتو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هد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معالج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قنا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الحوا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الادرا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المنبه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المفاضلة الذه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اثارة الانتب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المستقب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3915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8672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5720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04776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676520" y="37339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447560" y="3962520"/>
            <a:ext cx="533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294920" y="41911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51460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مفهوم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يشير الاتصال الى العملية أو الطريقة التي تنتقل بها الأفكار والمعلومات بين النا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يعرف الاتصال بأنه“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عملية التي يتم من خلالها تبادل الافكار والحقائق والانطباعات بين شخصين أو أكثر، مؤديا ذلك الى الفهم المشترك بين الطرفين لمعنى أو مغزى الرسالة المتبادلة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تابع: مفهوم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cc00"/>
                </a:solidFill>
                <a:latin typeface="Arial"/>
              </a:rPr>
              <a:t>وهذا يعني أن الاتصال يتضمن 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اتصال انسان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يتضمن وجود رمو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هذه الرموز لفظية وغير لفظ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يحدث بقصد أو بغير قص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يحدث تجاوباً عند المستقب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هذا التجاوب ملحوظ أو غير ملحو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ليس بالضرورة أن يكون كامل الادراك أو يسترعي انتباه المرس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دوافع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اعلا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للحصول على المعلومات والبيانات، أو اعلام الشخص عن نفس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00cc00"/>
                </a:solidFill>
                <a:latin typeface="Arial"/>
              </a:rPr>
              <a:t>الاتصال من أجل التعلي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نقل القيم والأعراف والتقاليد بين الاجيال تتم من خلال الاتصال، في البيت والأسرة أو الجامع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دافع الاتصال من أجل التوجي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بقصد احداث تغييرات فكرية مرغوبة، ويأتي بالغريزة داخل الاسرة أو من أجل التن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تابع: دوافع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4aadb"/>
                </a:solidFill>
                <a:latin typeface="Arial"/>
              </a:rPr>
              <a:t>الاتصال من أجل التثقيف والمعرف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99cc00"/>
                </a:solidFill>
                <a:latin typeface="Arial"/>
              </a:rPr>
              <a:t>دافع الاتصال من أجل الاقنا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663300"/>
                </a:solidFill>
                <a:latin typeface="Arial"/>
              </a:rPr>
              <a:t>الاتصال من أجل الترفيه والتروي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 الاتصال من أجل التعبير العاطف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أهمية الاتصال وبعده الاجتماع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يعد الاتصال ظاهرة وسلوك اجتماع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اتصال عملية مستمرة لا تتوقف عند نقطة محددة مثل النهر المتدف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عملية متشابكة ومتعددة الجوانب ولا تتم في فرا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كفاءة عملية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نعني بالكفاء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قدرة المتصل على نقل الرسالة في أقل وقت، وبأقل جهد ممكن ، وفي أقصر وق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ويمكن تحقيق ذلك من خلال تحقيق الكفاءة في كل عنصر من عناصر عملية الاتصا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التشوي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cc00"/>
                </a:solidFill>
                <a:latin typeface="Arial"/>
              </a:rPr>
              <a:t>المرسل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الرسال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hi-IN" sz="3200" spc="-1" strike="noStrike">
                <a:solidFill>
                  <a:srgbClr val="663300"/>
                </a:solidFill>
                <a:latin typeface="Arial"/>
              </a:rPr>
              <a:t>قناة الاتصا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hi-IN" sz="3200" spc="-1" strike="noStrike">
                <a:solidFill>
                  <a:srgbClr val="009999"/>
                </a:solidFill>
                <a:latin typeface="Arial"/>
              </a:rPr>
              <a:t>المستقب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                   رد الفع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70572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10516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1916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55627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5638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84872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886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لماذا يتصل الانسان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صل الانسان في الأساس كي يلبي حاجاته المتعددة والمتجددة والمستم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كي يتم اشباع تلك الحاجات لابد من تفاعل الانسان مع الاخرين، ولابد من وجود الاخرين في حياة الانسان، وعليه فان الاتصال أمر حتمي لا يستطيع الانسان الاستغناء عن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التسلسل الهرمي لحاجات الانسان</a:t>
            </a:r>
            <a:br>
              <a:rPr sz="4000"/>
            </a:b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” لماسلو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ضع ماسلو هرماً للاحتياجات الانسانية بترتيب تنازلي ك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الحاجات الفسيولو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00cc00"/>
                </a:solidFill>
                <a:latin typeface="Arial"/>
              </a:rPr>
              <a:t>الحاجة الى الام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4aadb"/>
                </a:solidFill>
                <a:latin typeface="Arial"/>
              </a:rPr>
              <a:t>الحاجات الاجتماع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الحاجة الى تقدير الذ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663300"/>
                </a:solidFill>
                <a:latin typeface="Arial"/>
              </a:rPr>
              <a:t>الحاجة الى تأكيد الذ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000000"/>
                </a:solidFill>
                <a:uFillTx/>
                <a:latin typeface="Arial"/>
              </a:rPr>
              <a:t>مهارات الاتصال</a:t>
            </a:r>
            <a:br>
              <a:rPr sz="4000"/>
            </a:br>
            <a:r>
              <a:rPr b="1" lang="hi-IN" sz="4000" spc="-1" strike="noStrike" u="sng">
                <a:solidFill>
                  <a:srgbClr val="ff0000"/>
                </a:solidFill>
                <a:uFillTx/>
                <a:latin typeface="Arial"/>
              </a:rPr>
              <a:t>كفاءة عملية الاتص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لكي تتحقق الكفاءة الاتصالية لابد أن تتوافر مجموعة من الخصائص والمهارات في كل عنصر من عناصر عملية الاتصال نستعرضها في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ff"/>
                </a:solidFill>
                <a:uFillTx/>
                <a:latin typeface="Arial"/>
              </a:rPr>
              <a:t>أولاً: مهارات المصدر ( المتصل 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cc00"/>
                </a:solidFill>
                <a:latin typeface="Arial"/>
              </a:rPr>
              <a:t>يجب أن تتوافر في المصدر السمات التال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لديه مهارات اتصالية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 توجد عدة مهارات مث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الكتابة والكلا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التفك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القراءة والاستم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اللغة والقدرة على استخدام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: </a:t>
            </a:r>
            <a:r>
              <a:rPr b="1" lang="hi-IN" sz="4400" spc="-1" strike="noStrike" u="sng">
                <a:solidFill>
                  <a:srgbClr val="ff0000"/>
                </a:solidFill>
                <a:uFillTx/>
                <a:latin typeface="Arial"/>
              </a:rPr>
              <a:t>كفاءة عملية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مهارات ارسال واستقبال الرسا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جعل مضمون الرسالة مرتبط مع خبرة المتلق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لقدرة على تحديد سمات المتلق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ستخدام أفضل الاساليب والوسائ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مهارة استخدام الوقت والمكان المناسب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مهارة التنبؤ بالمعلومات التي قد تصادف عملية الات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: </a:t>
            </a:r>
            <a:r>
              <a:rPr b="1" lang="hi-IN" sz="4400" spc="-1" strike="noStrike" u="sng">
                <a:solidFill>
                  <a:srgbClr val="ff0000"/>
                </a:solidFill>
                <a:uFillTx/>
                <a:latin typeface="Arial"/>
              </a:rPr>
              <a:t>كفاءة عملية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ff"/>
                </a:solidFill>
                <a:uFillTx/>
                <a:latin typeface="Arial"/>
              </a:rPr>
              <a:t>تابع أولاً: اتجاهات المصد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cc00"/>
                </a:solidFill>
                <a:latin typeface="Arial"/>
              </a:rPr>
              <a:t>اتجاهات المصدر نحو نفس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cc00"/>
                </a:solidFill>
                <a:latin typeface="Arial"/>
              </a:rPr>
              <a:t>اتجاهات المصدر نحو موضوع الات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cc00"/>
                </a:solidFill>
                <a:latin typeface="Arial"/>
              </a:rPr>
              <a:t>اتجاه المصدر نحو المستقب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4aa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4aadb"/>
                </a:solidFill>
                <a:uFillTx/>
                <a:latin typeface="Arial"/>
              </a:rPr>
              <a:t>تابع أولاً: مستوى معرفة المصد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663300"/>
                </a:solidFill>
                <a:uFillTx/>
                <a:latin typeface="Arial"/>
              </a:rPr>
              <a:t>موقع المصدر في النظام الاجتماع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9999"/>
                </a:solidFill>
                <a:uFillTx/>
                <a:latin typeface="Arial"/>
              </a:rPr>
              <a:t>معوقات نجاح المصدر في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صرف المصدر لصالح مصلحته الشخص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سوء اختيار الرموز المعبرة عن الرسا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استخدام قنوات اتصالية غير ملائمة لطبيعة الرسا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تعالي أو تكبر المتصل على المصد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سوء التعبير في الكلام والكتا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عدم مخاطبة المستقبل بلغ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نقص المعلومات الواردة في الرسا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عدم ارسال الرسالة في الوقت المناسب فيتجاهل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 u="sng">
                <a:solidFill>
                  <a:srgbClr val="000000"/>
                </a:solidFill>
                <a:uFillTx/>
                <a:latin typeface="Arial"/>
              </a:rPr>
              <a:t>ثانياً: مهارات المستقب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في الواقع العملي ليس هناك فرق بين مهارات المصدر والمستقبل، فالفرد يكون مصدراً في لحظة ما ومستقبلاً في لحظة أخر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Arial"/>
              </a:rPr>
              <a:t>ثالثاً: الرسالة: 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ش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محتو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معالج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هد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 : كفاءة عملية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ff"/>
                </a:solidFill>
                <a:uFillTx/>
                <a:latin typeface="Arial"/>
              </a:rPr>
              <a:t>رابعاً: قناة الاتصا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باعتبارها الممر الذي يمكن من خلاله تمرير الرسال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يجب مراعاة ماي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ما هي القنوات المتاحة لدى المتص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ما هي التكلفة التي تحتاج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ماهي خصائص المستقبل لتتوافق مع القنا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ما هي مهارات المتصل في استخدام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ماهي القنوات التي يفضلها المستقبلون للرسا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الصور الاولية ل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بدأ الاتصال منذ بدأ الخلي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يولد الاتصال مع مولد الطفل بل قبل ذلك ويتطور مع تطور عمر الطفل الى أن يبلغ مداه ولا ينته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بدأ الاهتمام بالاتصال كعلم وبدوره في الحياة الإنسانية قبل القرن الخامس قبل الميلاد، ولدى البابليين، والقدماء المصريين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 : كفاءة عملية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9999"/>
                </a:solidFill>
                <a:uFillTx/>
                <a:latin typeface="Arial"/>
              </a:rPr>
              <a:t>خامساً: التغذية المرتد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وهي عبارة عن المعلومات التي يتلقاها المصدر من المستقبل وكذلك من البيئة المحيطة، والتي تساعده في الاستمرار أو في تعديل عملية الاتص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أولاً: مهارة الاستم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كيف تحسن من مهارة الاستماع لديك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</a:rPr>
              <a:t>يمكن تحقيق ذلك بإتباع ما ي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استمع الى الاخرين وأنت تحمل نحوهم اتجاهات موج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لا تجعل مشاعرك تؤثر في قدراتك على الحكم السلي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حافظ على تركيز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حاول ايجاد ما يجذب اهتمام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:مهارة الاستم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لا تدخل في حالة ليس عندي وق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ضع نفسك مكان المتحد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الاستماع النشط يعطي معنى للرسا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غربل وافرز ما تستمع الي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كن الحكم على ما تسم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لا تتردد في طلب الاستيضا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ff0000"/>
                </a:solidFill>
                <a:uFillTx/>
                <a:latin typeface="Arial"/>
              </a:rPr>
              <a:t>مراحل عملية الاستم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3300"/>
                </a:solidFill>
                <a:latin typeface="Arial"/>
              </a:rPr>
              <a:t>تتكون عملية الاستماع من المراحل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-استقبال المتلقى لرموز الرسالة من خلال السم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- انتقال هذه الرموز الى مركز التفكير في مخ الانسا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- فهم معنى الرسالة التي يستمع اليها المستقب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- تفسير الكلام والاستجابة الى التفس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- التقويم أو الحكم أي تقييم المحتوى الذي نستمع الي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- التكامل بين خبرات المتصل والمستمع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عوامل المؤثرة في فاعلية عملية الاستم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أولاً: المتحدث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9999"/>
                </a:solidFill>
                <a:latin typeface="Arial"/>
              </a:rPr>
              <a:t>سرعة المتحدث في الكلا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9999"/>
                </a:solidFill>
                <a:latin typeface="Arial"/>
              </a:rPr>
              <a:t>اللهجة التي يتحدث ب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9999"/>
                </a:solidFill>
                <a:latin typeface="Arial"/>
              </a:rPr>
              <a:t>درجة انفعال المتحد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9999"/>
                </a:solidFill>
                <a:latin typeface="Arial"/>
              </a:rPr>
              <a:t>مكانة المتحد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9999"/>
                </a:solidFill>
                <a:latin typeface="Arial"/>
              </a:rPr>
              <a:t>مستوى ثقة المتحدث في نفس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ابع: العوامل المؤثرة في فاعلية عملية الاستم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000000"/>
                </a:solidFill>
                <a:uFillTx/>
                <a:latin typeface="Arial"/>
              </a:rPr>
              <a:t>ثانياً: الرسال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تتأثر فاعلية الاستماع بشكل معالجة الرسالة من حيث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Arial"/>
              </a:rPr>
              <a:t>وضوح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9999"/>
                </a:solidFill>
                <a:latin typeface="Arial"/>
              </a:rPr>
              <a:t>ترابط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663300"/>
                </a:solidFill>
                <a:latin typeface="Arial"/>
              </a:rPr>
              <a:t>سهولة فهمها (أن تقع في مجال خبرة المستمع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ابع: العوامل المؤثرة في فاعلية عملية الاستم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ثالثاً: المستمع نفس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هو الطرف المستفيد والمستهدف من عملية الاتصال، ولذا يجب أن تتوافر فيه مقومات عملية نجاح الاتصال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cc00"/>
                </a:solidFill>
                <a:latin typeface="Arial"/>
              </a:rPr>
              <a:t>القدرة على فهم اللغة الشفهية للمتحد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3300"/>
                </a:solidFill>
                <a:latin typeface="Arial"/>
              </a:rPr>
              <a:t>القدرة على ربط النواحي المرتبطة بالموضو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لقدرة على استدعاء الافكار والمعلومات والخبرات المرتبطة بموضوع الحدي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قدرة على توافر المقدرة اللغوية والدافع للاستما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عوقات الاستماع الج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هناك مجموعة من المعوقات التي تفقد الاستماع فاعليته مثل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99cc00"/>
                </a:solidFill>
                <a:latin typeface="Arial"/>
              </a:rPr>
              <a:t>فقدان الاحساس بالمسئول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فقدان الهد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دم الاعداد الجيد للحديث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663300"/>
                </a:solidFill>
                <a:latin typeface="Arial"/>
              </a:rPr>
              <a:t>وجود عوائق ذهن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f4aadb"/>
                </a:solidFill>
                <a:latin typeface="Arial"/>
              </a:rPr>
              <a:t>وجود عوائق مشاعر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عوقات الاستماع الج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وجود عوائق بيئ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00cc00"/>
                </a:solidFill>
                <a:latin typeface="Arial"/>
              </a:rPr>
              <a:t>التركيز في محاولة السيطرة على الطرف الاخ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اللا مبالاه وعدم الاهتمام بالمتحدث أو بموضوع الحديث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السلوك النقدي المتشدد ضد المتحدث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99cc00"/>
                </a:solidFill>
                <a:latin typeface="Arial"/>
              </a:rPr>
              <a:t>الاتجاه السلبي ضد المتحدث أو عدم قبول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ثانياً: البصر ( الاستماع الى اللغة الصامت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يسمى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بالاتصال غير اللفظ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أي ما لا نسمعه بأذاننا يمكن أن نستدل عليه بأبصارن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فهذا النوع من الاتصال يستخدم رموز غير لفظية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اشا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حركات الجس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عبيرات  الوج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الوان..............ال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نماذج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تعريف النموذج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” هوعملية تمثيل للواقع بصورة رمزية أو تمثيل مادي بهدف تفسير الواقع وتحديد العلاقة بين الأجزاء المكونة للظاهرة محل الدراس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أنواع النماذج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- نماذج بنائية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: تظهر المكونات وحجم وترتيب الاجزا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- نماذج وظيفية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: توضح طبيعة وظائف الاجزاء وعلاقت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ثالثاً: التحد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وهي من أهم الصفات التي يجب أن يتصف بها رجل الاتصال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وهناك اربع قواعد يجب مراعاتها لإجراء المحادث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663300"/>
                </a:solidFill>
                <a:latin typeface="Arial"/>
              </a:rPr>
              <a:t>لا تحاول تسيد المحادثة واحتكار الحديث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009999"/>
                </a:solidFill>
                <a:latin typeface="Arial"/>
              </a:rPr>
              <a:t>لا تغير موضوع المحادث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f4aadb"/>
                </a:solidFill>
                <a:latin typeface="Arial"/>
              </a:rPr>
              <a:t>لا تتدخل وتقاطع المتحدث وتكمل حديث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00cc00"/>
                </a:solidFill>
                <a:latin typeface="Arial"/>
              </a:rPr>
              <a:t>يجب أن تتحكم في أعصابك أثناء الحديث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تابع: التحد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000000"/>
                </a:solidFill>
                <a:uFillTx/>
                <a:latin typeface="Arial"/>
              </a:rPr>
              <a:t>التخطيط الجيد للحديث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هناك ثلاث مراحل للتخطيط الجيد للحديث ه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ff0000"/>
                </a:solidFill>
                <a:latin typeface="Arial"/>
              </a:rPr>
              <a:t>مرحلة الاعداد للحدي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مرحلة توجيه الحدي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99cc00"/>
                </a:solidFill>
                <a:latin typeface="Arial"/>
              </a:rPr>
              <a:t>مرحلة تقييم الحدي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ولا: مرحلة الاعداد للحدي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تشتمل هذه المرحلة على ما يل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حديد الهدف من الحدي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009999"/>
                </a:solidFill>
                <a:latin typeface="Arial"/>
              </a:rPr>
              <a:t>تحليل المستمع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ff0000"/>
                </a:solidFill>
                <a:latin typeface="Arial"/>
              </a:rPr>
              <a:t>اعداد وتجهيز الموضو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333399"/>
                </a:solidFill>
                <a:latin typeface="Arial"/>
              </a:rPr>
              <a:t>اختيار الوقت والمكان المناسب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ثانياً: مرحلة توجيه الحدي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هناك استعدادات يجب على المتحدث أن يؤديها قبل العرض مباشرة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663300"/>
                </a:solidFill>
                <a:latin typeface="Arial"/>
              </a:rPr>
              <a:t>المظهر الجي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00cc00"/>
                </a:solidFill>
                <a:latin typeface="Arial"/>
              </a:rPr>
              <a:t>وضع الجس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تعبيرات الوجه والإيماء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009999"/>
                </a:solidFill>
                <a:latin typeface="Arial"/>
              </a:rPr>
              <a:t>حسن استهلال الحدي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تجنب الافراط في استخدام الاوراق المكتو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4aadb"/>
                </a:solidFill>
                <a:latin typeface="Arial"/>
              </a:rPr>
              <a:t>الصوت والنطق الصحي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رحلة توجيه الحدي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اعداد الجيد للحديث ويشم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00cc00"/>
                </a:solidFill>
                <a:latin typeface="Arial"/>
              </a:rPr>
              <a:t>الالمام الجيد بالمعلومات اللازمة عن موضوع الحدي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663300"/>
                </a:solidFill>
                <a:latin typeface="Arial"/>
              </a:rPr>
              <a:t>توقع ما يمكن أن يثار من نقاط أثناء الحدي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معرفة الطرف الاخر المشارك في الحدي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ثالثاً: مرحلة تقييم الحدي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فيها يقوم المتصل من خلال رجع الصدى (رد الفعل) وملاحظات المستمعين الوقوف على مدى وصول الرسا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وقوف على السلبيات والايجابيات لتجنبها مستقبل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ضع تصور للموضوعات الأكثر احتياجا من قبل الحاض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نواع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أولاً: الاتصال الذا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ثانياً: الاتصال الثنائي ( الشخصي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أهميته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cc00"/>
                </a:solidFill>
                <a:latin typeface="Arial"/>
              </a:rPr>
              <a:t>يعد مصدر من مصادر المعلوم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cc00"/>
                </a:solidFill>
                <a:latin typeface="Arial"/>
              </a:rPr>
              <a:t>- يشكل شبكة من العلاقات التي تربط الناس ببعض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cc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cc00"/>
                </a:solidFill>
                <a:latin typeface="Arial"/>
              </a:rPr>
              <a:t>- يتداخل في جميع مستويات الاتص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cc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cc00"/>
                </a:solidFill>
                <a:latin typeface="Arial"/>
              </a:rPr>
              <a:t>- له دور كبير في حجم زيادة تأثير وسائل الاعلام على النا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نواع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صفات الاتصال الشخص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يشترك فيه فرد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يحدث وجها لوجه – وأحياناً غير مباشر- حيث يتم التفاعل لفظيا فق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يحدث لفظياً وغير لفظي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يمكن تعديل الرسالة من خلال التجاوب السريع وفقاً للموق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مجال الاقناع فيه أكب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وجداني – أي يتأثر بالشعور الداخلي للف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نواع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ثالثاً: الاتصال بالمجموعات الصغير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صفات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663300"/>
                </a:solidFill>
                <a:latin typeface="Arial"/>
              </a:rPr>
              <a:t>يحدث وجها لوج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- يحدث تجاوبا وتفاعل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- متعدد الاتجاه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- لفظي وغير لفظ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- يتراوح العدد من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20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فرد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- يسمح فيه بمشاركة جميع أفراد المجموع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نواع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وظائف الاتصال في المجموعات الصغير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علي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وسيلة علا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وسيلة اقنا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وسيلة لحل المشك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وسيلة لاتخاذ القرا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تابع: نماذج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اعتبارات اختيار النموذج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- الواقعية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: مطابقة بين النموذج والواق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- التركيز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: يكون النموذج بسيط ويمثل الجوانب الاساسية الهامة ويبعد عن التفاصي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- التنبؤ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يمنح الفرصة بإمكانية ادخال التعديل والتحس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نواع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Arial"/>
              </a:rPr>
              <a:t>الاتصال في المؤسسات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كنموذج للاتصال الجماعي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همي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طبيعته: نوع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أ رسم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r" rtl="1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ب غير رسم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تجاه تدفق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الهاب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افق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صاع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نواع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الاتصال الجماهير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صفات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جراء مقارنة بين عناصر الاتصال الشخصي والجماهيري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ن حيث: </a:t>
            </a:r>
            <a:r>
              <a:rPr b="1" lang="hi-IN" sz="3200" spc="-1" strike="noStrike">
                <a:solidFill>
                  <a:srgbClr val="00cc00"/>
                </a:solidFill>
                <a:latin typeface="Arial"/>
              </a:rPr>
              <a:t>المرس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 algn="r" rtl="1">
              <a:spcBef>
                <a:spcPts val="799"/>
              </a:spcBef>
              <a:buClr>
                <a:srgbClr val="66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3300"/>
                </a:solidFill>
                <a:latin typeface="Arial"/>
              </a:rPr>
              <a:t>الرسا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 algn="r" rtl="1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لمستقب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 algn="r" rtl="1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رد الفع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نواع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وظائف الاتصال الجماهير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زويد المجتمع بالمعلومات والاخ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ربط أجزاء المجتم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تس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تعبئ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تابع: نماذج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ff0000"/>
                </a:solidFill>
                <a:uFillTx/>
                <a:latin typeface="Arial"/>
              </a:rPr>
              <a:t>مثال للنموذج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2133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مرس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22096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مستقب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00400" y="25909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44956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مرس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44956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مستقب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0292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428640" y="48006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أولاً: النماذج اللفظ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00cc00"/>
                </a:solidFill>
                <a:uFillTx/>
                <a:latin typeface="Arial"/>
              </a:rPr>
              <a:t>1</a:t>
            </a:r>
            <a:r>
              <a:rPr b="1" i="1" lang="ar-SA" sz="3200" spc="-1" strike="noStrike" u="sng">
                <a:solidFill>
                  <a:srgbClr val="00cc00"/>
                </a:solidFill>
                <a:uFillTx/>
                <a:latin typeface="Arial"/>
              </a:rPr>
              <a:t>- نموذج ارسطو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1" i="1" lang="ar-SA" sz="3200" spc="-1" strike="noStrike">
                <a:solidFill>
                  <a:srgbClr val="ff0000"/>
                </a:solidFill>
                <a:latin typeface="Arial"/>
              </a:rPr>
              <a:t>لخطيب</a:t>
            </a: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ar-SA" sz="3200" spc="-1" strike="noStrike">
                <a:solidFill>
                  <a:srgbClr val="333399"/>
                </a:solidFill>
                <a:latin typeface="Arial"/>
              </a:rPr>
              <a:t> الخطبة </a:t>
            </a: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ar-SA" sz="3200" spc="-1" strike="noStrike">
                <a:solidFill>
                  <a:srgbClr val="99cc00"/>
                </a:solidFill>
                <a:latin typeface="Arial"/>
              </a:rPr>
              <a:t>المستم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*تدفق احادي الاتجا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يعتمد النجاح على قدرة الخطيب في الاقنا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عدم معرفة الكيفية التي استلم بها المستمع الرسا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2485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343400" y="3124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تابع : النماذج اللفظ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نموذج لاسوي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من</a:t>
            </a: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cc00"/>
                </a:solidFill>
                <a:latin typeface="Arial"/>
              </a:rPr>
              <a:t>يقول ماذا (الرسالة)</a:t>
            </a: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ays 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بأي وسيلة</a:t>
            </a: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 ( القناة)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Which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f4aa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4aadb"/>
                </a:solidFill>
                <a:latin typeface="Arial"/>
              </a:rPr>
              <a:t>لمن ( المتلقي)</a:t>
            </a: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 Whom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ff"/>
                </a:solidFill>
                <a:latin typeface="Arial"/>
              </a:rPr>
              <a:t>بأي أثر</a:t>
            </a: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ith what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600" spc="-1" strike="noStrike" u="sng">
                <a:solidFill>
                  <a:srgbClr val="000000"/>
                </a:solidFill>
                <a:uFillTx/>
                <a:latin typeface="Arial"/>
              </a:rPr>
              <a:t>ثانياً: النماذج غير اللفظية أحادية الاتجا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i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- نموذج شانون وويفر: </a:t>
            </a:r>
            <a:r>
              <a:rPr b="1" i="1" lang="ar-SA" sz="2400" spc="-1" strike="noStrike">
                <a:solidFill>
                  <a:srgbClr val="ff0000"/>
                </a:solidFill>
                <a:latin typeface="Arial"/>
              </a:rPr>
              <a:t>(نموذج الاتصال التليفون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ff0000"/>
                </a:solidFill>
                <a:latin typeface="Arial"/>
              </a:rPr>
              <a:t>                           اشارة             اشارة               رسا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48720" y="3276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مستقب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3276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الة استقبا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3276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القنا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3276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مرس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3276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000" spc="-1" strike="noStrike">
                <a:solidFill>
                  <a:srgbClr val="000000"/>
                </a:solidFill>
                <a:latin typeface="Arial"/>
              </a:rPr>
              <a:t>مصد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3809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38880" y="3809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67705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62720" y="4572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التشوي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08:48:01Z</dcterms:created>
  <dc:creator>Administrator</dc:creator>
  <dc:description/>
  <dc:language>en-US</dc:language>
  <cp:lastModifiedBy>Administrator</cp:lastModifiedBy>
  <dcterms:modified xsi:type="dcterms:W3CDTF">2014-12-25T07:28:10Z</dcterms:modified>
  <cp:revision>17</cp:revision>
  <dc:subject/>
  <dc:title>مقرر203 رشد مهارات الاتصال</dc:title>
</cp:coreProperties>
</file>