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D0C-9B5A-4DCC-B957-80D91133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805-AF35-4CF5-BC83-3635A1D4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FD7-C5F4-4749-A3B9-35AA5730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7D3-0FBA-42D8-B4BF-242D5AF9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686-432B-48B3-BE75-21FB80D9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56C-49EB-47FD-9959-8129EE2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736-8C18-4E9D-BE34-5A794B18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334-8ACA-4F2B-9487-08BF17D4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614-BF2D-41B9-8BED-650ED6CB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B18-7CA9-411E-AF1F-BF789D6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A5A-5C93-43B8-A790-D1AFA06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017-E6AD-45B7-A623-DB12AB80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CC6-321B-4E8A-8503-57514800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قر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رشد</a:t>
            </a:r>
            <a:br>
              <a:rPr sz="3600"/>
            </a:b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هارات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أهداف المقر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كساب الطالب القدرة على نقل الرسائل بشكل جي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اكساب الطالب المهارات اللازمة للحديث والاستما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تمكين الطالب من استخدام الادوات الاتصالية بدرجة عالية من الكفاء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اكساب الطالب ملكة الحوار والإقناع للآخري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تابع : نموذج شانون وويف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فسر سميث التشوي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cc00"/>
                </a:solidFill>
                <a:latin typeface="Arial"/>
              </a:rPr>
              <a:t>أ-</a:t>
            </a:r>
            <a:r>
              <a:rPr b="1" i="1" lang="ar-SA" sz="32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i="1" lang="ar-SA" sz="3200" spc="-1" strike="noStrike">
                <a:solidFill>
                  <a:srgbClr val="00cc00"/>
                </a:solidFill>
                <a:latin typeface="Arial"/>
              </a:rPr>
              <a:t>التشويش الطبيعي: 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مثل حدوث صوت في المحيط الاتصالي يؤدي لقطع الاتص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ff"/>
                </a:solidFill>
                <a:latin typeface="Arial"/>
              </a:rPr>
              <a:t>ب- التشويش الدلالي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: يقصد به اختلاف المعنى بين المرسل والمست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تابع: النماذج غير اللفظية احادية الاتج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i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نموذج بيرل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S              M              C          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ar-SA" sz="3200" spc="-1" strike="noStrike">
                <a:solidFill>
                  <a:srgbClr val="0000ff"/>
                </a:solidFill>
                <a:latin typeface="Arial"/>
              </a:rPr>
              <a:t>المستقبل        الوسيلة          رسالة           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مهارات اتصالية                               النظر                                     عناصر                       مهارات اتصا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   ميول                                        السمع                                     محتوى                           ميو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  معرفة                                        اللمس                                     معالجة                           معر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نظام اجتماعي                                   الشم                                                                     نظام اجتماع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400" spc="-1" strike="noStrike">
                <a:solidFill>
                  <a:srgbClr val="0000ff"/>
                </a:solidFill>
                <a:latin typeface="Arial"/>
              </a:rPr>
              <a:t>                 ثقافة                                                                                                                         ثقافة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ثالثاً: النماذج غير اللفظية ثنائية الاتج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نموذج ولبرشرام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دائرية عملية الاتصا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505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رم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فس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فك رمو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فك رمو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فس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مرم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0574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562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6019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238880" y="4495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162920" y="2209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60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0720" y="2362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716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1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7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7813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ابع نموذج :ولبرشر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خبرة أو الارضية المشترك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الخبرة المشت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352680"/>
            <a:ext cx="33526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خبرة ال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505320"/>
            <a:ext cx="3200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خبرة ال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تابع نموذج:ولبرشر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خبرة المتباعد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خبرة متباع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مترج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962520"/>
            <a:ext cx="2514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ش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962520"/>
            <a:ext cx="2361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ش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96252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885840" y="4648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00600" y="342900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نموذج : ساند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ذا النموذج يمثل الاتصال الانساني بكل مكون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زيادة المعرف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اتخاذ القرا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التجري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التبن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تص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حتو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هد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قنا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حو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ادرا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منبه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مفاضلة الذه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ثارة الانتب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91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8672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5720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4776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676520" y="37339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560" y="39625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294920" y="4191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مفهوم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شير الاتصال الى العملية أو الطريقة التي تنتقل بها الأفكار والمعلومات بين النا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عرف الاتصال بأنه“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عملية التي يتم من خلالها تبادل الافكار والحقائق والانطباعات بين شخصين أو أكثر، مؤديا ذلك الى الفهم المشترك بين الطرفين لمعنى أو مغزى الرسالة المتبادلة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مفهوم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cc00"/>
                </a:solidFill>
                <a:latin typeface="Arial"/>
              </a:rPr>
              <a:t>وهذا يعني أن الاتصال يتضمن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تصال انسا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يتضمن وجود رمو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هذه الرموز لفظية وغير لفظ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يحدث بقصد أو بغير قص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يحدث تجاوباً عند المستقب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هذا التجاوب ملحوظ أو غير ملحو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يس بالضرورة أن يكون كامل الادراك أو يسترعي انتباه المرس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دواف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اع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للحصول على المعلومات والبيانات، أو اعلام الشخص عن نفس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00cc00"/>
                </a:solidFill>
                <a:latin typeface="Arial"/>
              </a:rPr>
              <a:t>الاتصال من أجل التعلي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نقل القيم والأعراف والتقاليد بين الاجيال تتم من خلال الاتصال، في البيت والأسرة أو الجام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دافع الاتصال من أجل التوج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بقصد احداث تغييرات فكرية مرغوبة، ويأتي بالغريزة داخل الاسرة أو من أجل التن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دواف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4aadb"/>
                </a:solidFill>
                <a:latin typeface="Arial"/>
              </a:rPr>
              <a:t>الاتصال من أجل التثقيف والمعرف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99cc00"/>
                </a:solidFill>
                <a:latin typeface="Arial"/>
              </a:rPr>
              <a:t>دافع الاتصال من أجل الاقنا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اتصال من أجل الترفيه والتروي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الاتصال من أجل التعبير العاط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أهمية الاتصال وبعده الاجتما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يعد الاتصال ظاهرة وسلوك اجتما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تصال عملية مستمرة لا تتوقف عند نقطة محددة مثل النهر المتد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ملية متشابكة ومتعددة الجوانب ولا تتم في فرا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نعني بالكفاء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درة المتصل على نقل الرسالة في أقل وقت، وبأقل جهد ممكن ، وفي أقصر 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يمكن تحقيق ذلك من خلال تحقيق الكفاءة في كل عنصر من عناصر عملية الاتص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التشو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مرس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رسال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قناة الاتصا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i-IN" sz="3200" spc="-1" strike="noStrike">
                <a:solidFill>
                  <a:srgbClr val="009999"/>
                </a:solidFill>
                <a:latin typeface="Arial"/>
              </a:rPr>
              <a:t>المست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             رد الف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7057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051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191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84872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لماذا يتصل الانسا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صل الانسان في الأساس كي يلبي حاجاته المتعددة والمتجددة والمستم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كي يتم اشباع تلك الحاجات لابد من تفاعل الانسان مع الاخرين، ولابد من وجود الاخرين في حياة الانسان، وعليه فان الاتصال أمر حتمي لا يستطيع الانسان الاستغناء عن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التسلسل الهرمي لحاجات الانسان</a:t>
            </a:r>
            <a:br>
              <a:rPr sz="4000"/>
            </a:b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” لماسلو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ضع ماسلو هرماً للاحتياجات الانسانية بترتيب تنازلي ك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حاجات الفسيولو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cc00"/>
                </a:solidFill>
                <a:latin typeface="Arial"/>
              </a:rPr>
              <a:t>الحاجة الى الا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4aadb"/>
                </a:solidFill>
                <a:latin typeface="Arial"/>
              </a:rPr>
              <a:t>الحاجات الاجتم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حاجة الى تقدير الذ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الحاجة الى تأكيد الذ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مهارات الاتصال</a:t>
            </a:r>
            <a:br>
              <a:rPr sz="4000"/>
            </a:br>
            <a:r>
              <a:rPr b="1" lang="hi-IN" sz="4000" spc="-1" strike="noStrike" u="sng">
                <a:solidFill>
                  <a:srgbClr val="ff0000"/>
                </a:solidFill>
                <a:uFillTx/>
                <a:latin typeface="Arial"/>
              </a:rPr>
              <a:t>كفاءة عملية الاتص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ي تتحقق الكفاءة الاتصالية لابد أن تتوافر مجموعة من الخصائص والمهارات في كل عنصر من عناصر عملية الاتصال نستعرضها في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ff"/>
                </a:solidFill>
                <a:uFillTx/>
                <a:latin typeface="Arial"/>
              </a:rPr>
              <a:t>أولاً: مهارات المصدر ( المتصل 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cc00"/>
                </a:solidFill>
                <a:latin typeface="Arial"/>
              </a:rPr>
              <a:t>يجب أن تتوافر في المصدر السمات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لديه مهارات اتصالية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توجد عدة مهارات 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كتابة والكل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تفك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قراءة والاستم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اللغة والقدرة على استخدام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 u="sng">
                <a:solidFill>
                  <a:srgbClr val="ff0000"/>
                </a:solidFill>
                <a:uFillTx/>
                <a:latin typeface="Arial"/>
              </a:rPr>
              <a:t>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مهارات ارسال واستقبال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جعل مضمون الرسالة مرتبط مع خبرة المتل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قدرة على تحديد سمات المتل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خدام أفضل الاساليب والوس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مهارة استخدام الوقت والمكان المناس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مهارة التنبؤ بالمعلومات التي قد تصادف عملية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 u="sng">
                <a:solidFill>
                  <a:srgbClr val="ff0000"/>
                </a:solidFill>
                <a:uFillTx/>
                <a:latin typeface="Arial"/>
              </a:rPr>
              <a:t>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ff"/>
                </a:solidFill>
                <a:uFillTx/>
                <a:latin typeface="Arial"/>
              </a:rPr>
              <a:t>تابع أولاً: اتجاهات المصد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تجاهات المصدر نحو نفس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تجاهات المصدر نحو موضوع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تجاه المصدر نحو المست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4aa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4aadb"/>
                </a:solidFill>
                <a:uFillTx/>
                <a:latin typeface="Arial"/>
              </a:rPr>
              <a:t>تابع أولاً: مستوى معرفة المص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663300"/>
                </a:solidFill>
                <a:uFillTx/>
                <a:latin typeface="Arial"/>
              </a:rPr>
              <a:t>موقع المصدر في النظام الاجتما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9999"/>
                </a:solidFill>
                <a:uFillTx/>
                <a:latin typeface="Arial"/>
              </a:rPr>
              <a:t>معوقات نجاح المصدر في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صرف المصدر لصالح مصلحته ال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سوء اختيار الرموز المعبرة عن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استخدام قنوات اتصالية غير ملائمة لطبيعة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تعالي أو تكبر المتصل على المص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سوء التعبير في الكلام والكت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عدم مخاطبة المستقبل بلغ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نقص المعلومات الواردة في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عدم ارسال الرسالة في الوقت المناسب فيتجاهل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000000"/>
                </a:solidFill>
                <a:uFillTx/>
                <a:latin typeface="Arial"/>
              </a:rPr>
              <a:t>ثانياً: مهارات المستقب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ي الواقع العملي ليس هناك فرق بين مهارات المصدر والمستقبل، فالفرد يكون مصدراً في لحظة ما ومستقبلاً في لحظة أ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Arial"/>
              </a:rPr>
              <a:t>ثالثاً: الرسالة: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ش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حتو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عالج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هد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: 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ff"/>
                </a:solidFill>
                <a:uFillTx/>
                <a:latin typeface="Arial"/>
              </a:rPr>
              <a:t>رابعاً: قناة الاتصا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باعتبارها الممر الذي يمكن من خلاله تمرير الرسال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جب مراعاة ما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 هي القنوات المتاحة لدى المت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 هي التكلفة التي تحتاج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هي خصائص المستقبل لتتوافق مع القنا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 هي مهارات المتصل في استخدام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ماهي القنوات التي يفضلها المستقبلون ل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الصور الاولية ل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دأ الاتصال منذ بدأ الخل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يولد الاتصال مع مولد الطفل بل قبل ذلك ويتطور مع تطور عمر الطفل الى أن يبلغ مداه ولا ينت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دأ الاهتمام بالاتصال كعلم وبدوره في الحياة الإنسانية قبل القرن الخامس قبل الميلاد، ولدى البابليين، والقدماء المصريين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: كفاءة عملية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9999"/>
                </a:solidFill>
                <a:uFillTx/>
                <a:latin typeface="Arial"/>
              </a:rPr>
              <a:t>خامساً: التغذية المرت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وهي عبارة عن المعلومات التي يتلقاها المصدر من المستقبل وكذلك من البيئة المحيطة، والتي تساعده في الاستمرار أو في تعديل عملية الاتص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أولاً: مهار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يف تحسن من مهارة الاستماع لديك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يمكن تحقيق ذلك بإتباع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ستمع الى الاخرين وأنت تحمل نحوهم اتجاهات موج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لا تجعل مشاعرك تؤثر في قدراتك على الحكم السلي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حافظ على تركيز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حاول ايجاد ما يجذب اهتمام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:مهار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لا تدخل في حالة ليس عندي 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ضع نفسك مكان ا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الاستماع النشط يعطي معنى ل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غربل وافرز ما تستمع ا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كن الحكم على ما تس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لا تتردد في طلب الاستيضا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ff0000"/>
                </a:solidFill>
                <a:uFillTx/>
                <a:latin typeface="Arial"/>
              </a:rPr>
              <a:t>مراحل عملي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3300"/>
                </a:solidFill>
                <a:latin typeface="Arial"/>
              </a:rPr>
              <a:t>تتكون عملية الاستماع من المراحل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استقبال المتلقى لرموز الرسالة من خلال الس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انتقال هذه الرموز الى مركز التفكير في مخ الانس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فهم معنى الرسالة التي يستمع اليها المست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تفسير الكلام والاستجابة الى التفس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التقويم أو الحكم أي تقييم المحتوى الذي نستمع ا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- التكامل بين خبرات المتصل والمستمع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عوامل المؤثرة في فاعلية عملي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أولاً: المتحدث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سرعة المتحدث في الكل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اللهجة التي يتحدث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درجة انفعال ا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مكانة ا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مستوى ثقة المتحدث في 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: العوامل المؤثرة في فاعلية عملية الاستم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ثانياً: الرسال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تتأثر فاعلية الاستماع بشكل معالجة الرسالة من حي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وضوح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99"/>
                </a:solidFill>
                <a:latin typeface="Arial"/>
              </a:rPr>
              <a:t>ترابط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3300"/>
                </a:solidFill>
                <a:latin typeface="Arial"/>
              </a:rPr>
              <a:t>سهولة فهمها (أن تقع في مجال خبرة المستم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: العوامل المؤثرة في فاعلية عملية الاستم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ثالثاً: المستمع نفس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هو الطرف المستفيد والمستهدف من عملية الاتصال، ولذا يجب أن تتوافر فيه مقومات عملية نجاح الاتصال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قدرة على فهم اللغة الشفهية للم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قدرة على ربط النواحي المرتبط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قدرة على استدعاء الافكار والمعلومات والخبرات المرتبطة بموضوع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درة على توافر المقدرة اللغوية والدافع للاس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عوقات الاستماع الج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ناك مجموعة من المعوقات التي تفقد الاستماع فاعليته مث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99cc00"/>
                </a:solidFill>
                <a:latin typeface="Arial"/>
              </a:rPr>
              <a:t>فقدان الاحساس بالمسئول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فقدان الهد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م الاعداد الجيد ل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663300"/>
                </a:solidFill>
                <a:latin typeface="Arial"/>
              </a:rPr>
              <a:t>وجود عوائق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4aadb"/>
                </a:solidFill>
                <a:latin typeface="Arial"/>
              </a:rPr>
              <a:t>وجود عوائق مشاع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عوقات الاستماع الج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وجود عوائق بيئ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cc00"/>
                </a:solidFill>
                <a:latin typeface="Arial"/>
              </a:rPr>
              <a:t>التركيز في محاولة السيطرة على الطرف الا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لا مبالاه وعدم الاهتمام بالمتحدث أو بموضوع ا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سلوك النقدي المتشدد ضد ا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99cc00"/>
                </a:solidFill>
                <a:latin typeface="Arial"/>
              </a:rPr>
              <a:t>الاتجاه السلبي ضد المتحدث أو عدم قبول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ثانياً: البصر ( الاستماع الى اللغة الصامت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سمى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بالاتصال غير اللفظ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أي ما لا نسمعه بأذاننا يمكن أن نستدل عليه بأبصارن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فهذا النوع من الاتصال يستخدم رموز غير لفظي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ش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حركات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بيرات  الوج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لوان..............ال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نماذج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عريف النموذج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” هوعملية تمثيل للواقع بصورة رمزية أو تمثيل مادي بهدف تفسير الواقع وتحديد العلاقة بين الأجزاء المكونة للظاهرة محل الدرا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أنواع النماذ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نماذج بنائية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تظهر المكونات وحجم وترتيب الاجز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- نماذج وظيفية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توضح طبيعة وظائف الاجزاء وعلاقت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ثالثاً: الت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هي من أهم الصفات التي يجب أن يتصف بها رجل الاتصا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هناك اربع قواعد يجب مراعاتها لإجراء المحادث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663300"/>
                </a:solidFill>
                <a:latin typeface="Arial"/>
              </a:rPr>
              <a:t>لا تحاول تسيد المحادثة واحتكار ا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9999"/>
                </a:solidFill>
                <a:latin typeface="Arial"/>
              </a:rPr>
              <a:t>لا تغير موضوع المحادث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f4aadb"/>
                </a:solidFill>
                <a:latin typeface="Arial"/>
              </a:rPr>
              <a:t>لا تتدخل وتقاطع المتحدث وتكمل حديث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cc00"/>
                </a:solidFill>
                <a:latin typeface="Arial"/>
              </a:rPr>
              <a:t>يجب أن تتحكم في أعصابك أثناء الحدي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الت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التخطيط الجيد للحدي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هناك ثلاث مراحل للتخطيط الجيد للحديث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مرحلة الاعداد ل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مرحلة توجيه ا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99cc00"/>
                </a:solidFill>
                <a:latin typeface="Arial"/>
              </a:rPr>
              <a:t>مرحلة تقييم ا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لا: مرحلة الاعداد ل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تشتمل هذه المرحلة على ما ي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حديد الهدف من الحدي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9999"/>
                </a:solidFill>
                <a:latin typeface="Arial"/>
              </a:rPr>
              <a:t>تحليل المستمع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اعداد وتجهيز الموضو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اختيار الوقت والمكان المناسب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نياً: مرحلة توجيه ا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ناك استعدادات يجب على المتحدث أن يؤديها قبل العرض مباشر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مظهر الج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وضع الج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تعبيرات الوجه والإيماء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9999"/>
                </a:solidFill>
                <a:latin typeface="Arial"/>
              </a:rPr>
              <a:t>حسن استهلال ال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تجنب الافراط في استخدام الاوراق المكت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4aadb"/>
                </a:solidFill>
                <a:latin typeface="Arial"/>
              </a:rPr>
              <a:t>الصوت والنطق الصحي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رحلة توجيه ا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عداد الجيد للحديث ويشم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المام الجيد بالمعلومات اللازمة عن موضوع الحدي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توقع ما يمكن أن يثار من نقاط أثناء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عرفة الطرف الاخر المشارك في ال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لثاً: مرحلة تقييم الحدي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فيها يقوم المتصل من خلال رجع الصدى (رد الفعل) وملاحظات المستمعين الوقوف على مدى وصول ا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قوف على السلبيات والايجابيات لتجنبها مستقب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ضع تصور للموضوعات الأكثر احتياجا من قبل الحاض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ولاً: الاتصال الذا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ثانياً: الاتصال الثنائي ( الشخصي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هميت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يعد مصدر من مصادر المعلو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- يشكل شبكة من العلاقات التي تربط الناس ببعض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- يتداخل في جميع مستويات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cc00"/>
                </a:solidFill>
                <a:latin typeface="Arial"/>
              </a:rPr>
              <a:t>- له دور كبير في حجم زيادة تأثير وسائل الاعلام على ا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صفات الاتصال الشخص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يشترك فيه فرد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يحدث وجها لوجه – وأحياناً غير مباشر- حيث يتم التفاعل لفظيا فق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يحدث لفظياً وغير لفظ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يمكن تعديل الرسالة من خلال التجاوب السريع وفقاً للموق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مجال الاقناع فيه أكب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وجداني – أي يتأثر بالشعور الداخلي ل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ثالثاً: الاتصال بالمجموعات الصغي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صفات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663300"/>
                </a:solidFill>
                <a:latin typeface="Arial"/>
              </a:rPr>
              <a:t>يحدث وجها لوج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يحدث تجاوبا وتفاعل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متعدد الاتجاه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لفظي وغير لفظ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يتراوح العدد من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فرد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- يسمح فيه بمشاركة جميع أفراد المجمو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وظائف الاتصال في المجموعات الصغي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علي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علا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اق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لحل المشك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سيلة لاتخاذ القر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نماذج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عتبارات اختيار النموذ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الواقعية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مطابقة بين النموذج والواق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التركيز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يكون النموذج بسيط ويمثل الجوانب الاساسية الهامة ويبعد عن التفاص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- التنبؤ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يمنح الفرصة بإمكانية ادخال التعديل والتح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اتصال في المؤسسات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كنموذج للاتصال الجماعي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همي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طبيعته: نوع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أ رس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r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ب غير رس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تجاه تدفق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الهاب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اف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صاع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اتصال الجماهير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صفات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جراء مقارنة بين عناصر الاتصال الشخصي والجماهير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حيث: </a:t>
            </a:r>
            <a:r>
              <a:rPr b="1" lang="hi-IN" sz="3200" spc="-1" strike="noStrike">
                <a:solidFill>
                  <a:srgbClr val="00cc00"/>
                </a:solidFill>
                <a:latin typeface="Arial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r" rtl="1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3300"/>
                </a:solidFill>
                <a:latin typeface="Arial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r" rtl="1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مست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r" rtl="1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رد الف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نواع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وظائف الاتصال الجماهير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زويد المجتمع بالمعلومات والاخ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ربط أجزاء المج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تس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تعب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: نماذج الاتص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ff0000"/>
                </a:solidFill>
                <a:uFillTx/>
                <a:latin typeface="Arial"/>
              </a:rPr>
              <a:t>مثال للنموذ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2133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2096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00400" y="2590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4956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4956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029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428640" y="4800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أولاً: النماذج اللفظ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cc00"/>
                </a:solidFill>
                <a:uFillTx/>
                <a:latin typeface="Arial"/>
              </a:rPr>
              <a:t>1</a:t>
            </a:r>
            <a:r>
              <a:rPr b="1" i="1" lang="ar-SA" sz="3200" spc="-1" strike="noStrike" u="sng">
                <a:solidFill>
                  <a:srgbClr val="00cc00"/>
                </a:solidFill>
                <a:uFillTx/>
                <a:latin typeface="Arial"/>
              </a:rPr>
              <a:t>- نموذج ارسط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i="1" lang="ar-SA" sz="3200" spc="-1" strike="noStrike">
                <a:solidFill>
                  <a:srgbClr val="ff0000"/>
                </a:solidFill>
                <a:latin typeface="Arial"/>
              </a:rPr>
              <a:t>لخطيب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ar-SA" sz="3200" spc="-1" strike="noStrike">
                <a:solidFill>
                  <a:srgbClr val="333399"/>
                </a:solidFill>
                <a:latin typeface="Arial"/>
              </a:rPr>
              <a:t> الخطبة 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ar-SA" sz="3200" spc="-1" strike="noStrike">
                <a:solidFill>
                  <a:srgbClr val="99cc00"/>
                </a:solidFill>
                <a:latin typeface="Arial"/>
              </a:rPr>
              <a:t>المس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*تدفق احادي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يعتمد النجاح على قدرة الخطيب في الاقن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عدم معرفة الكيفية التي استلم بها المستمع الرسا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2485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4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تابع : النماذج اللفظ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نموذج لاسوي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cc00"/>
                </a:solidFill>
                <a:latin typeface="Arial"/>
              </a:rPr>
              <a:t>يقول ماذا (الرسالة)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ys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بأي وسيلة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( القناة)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Which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f4aa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4aadb"/>
                </a:solidFill>
                <a:latin typeface="Arial"/>
              </a:rPr>
              <a:t>لمن ( المتلقي)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Arial"/>
              </a:rPr>
              <a:t>بأي أثر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wha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 u="sng">
                <a:solidFill>
                  <a:srgbClr val="000000"/>
                </a:solidFill>
                <a:uFillTx/>
                <a:latin typeface="Arial"/>
              </a:rPr>
              <a:t>ثانياً: النماذج غير اللفظية أحادية الاتج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نموذج شانون وويفر: </a:t>
            </a: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(نموذج الاتصال التليفون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Arial"/>
              </a:rPr>
              <a:t>                           اشارة             اشارة               رس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ة استقب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قنا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276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000000"/>
                </a:solidFill>
                <a:latin typeface="Arial"/>
              </a:rPr>
              <a:t>مص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67705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4572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000000"/>
                </a:solidFill>
                <a:latin typeface="Arial"/>
              </a:rPr>
              <a:t>التشوي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8:48:01Z</dcterms:created>
  <dc:creator>Administrator</dc:creator>
  <dc:description/>
  <dc:language>en-US</dc:language>
  <cp:lastModifiedBy>Administrator</cp:lastModifiedBy>
  <dcterms:modified xsi:type="dcterms:W3CDTF">2014-12-25T07:28:10Z</dcterms:modified>
  <cp:revision>17</cp:revision>
  <dc:subject/>
  <dc:title>مقرر203 رشد مهارات الاتصال</dc:title>
</cp:coreProperties>
</file>