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6F0-332F-4F41-99E6-C8B30C0D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5E4-3413-4010-B1A8-FD45FD1A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008-ACD7-4D4D-8ECF-94DA6183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487-23DA-40EC-90A6-15FACB97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354-1662-4572-9C5E-2968F3FC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8313-76AF-41DF-B059-64B28EF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0F24-8C59-4EB4-91E9-645D8AF8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B63-5D89-42DF-81C7-1901B75F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4499-9540-4716-B54D-483E8DCE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4A60-5F5C-4DB6-9560-7C9EA878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D831-0690-43BA-BB9F-69261DF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5EB-ED9B-4128-B33A-02D6A10F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E68-5521-45CF-812D-E57395CB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1511-0374-4F32-99D5-5375B52C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8C58-F4CC-4460-A865-1C211BB7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F80-76FE-4745-93B0-6FC31E22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C892-20AF-4DB6-B254-5B4DE2B8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2153-994F-4425-A471-44073AE4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46CE-FD3D-4AFC-A021-DDA2830D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557B-838D-4445-9A9C-ACF3375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47D0A-A6AC-49BB-87B5-5F0D51B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77E2-43C0-4CFF-A3BF-5EC92601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861-7507-4020-8657-7868EA32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110D-F0F8-4314-8025-91A46E82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172A-B167-434A-89AC-EE7A7A9A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8904-665E-42A4-93A2-7025079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4F9D-FD03-4F6D-8BA0-B607EEA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BD48-1B18-480D-AFF7-6B6607BD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0F6B-472C-4A26-AD54-D4689842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2B6F-03D5-4FE3-8027-EF45EA0F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0753-413A-4D17-8D06-888F6178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B111-B443-459F-A74A-1C959634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5205-3232-4860-A39D-AB191955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F71-E657-49E8-9946-DAE8276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077A8-81B7-48A3-BD5E-1C69718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481D-BE79-4CE2-9DEC-9A15760A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58C0-F3AD-405F-86C1-2F51177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5C59-F176-4A0A-AED5-65A283E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DDB0-E6B1-4909-8876-67C8E88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E6D4-EEDB-4DC5-B19C-562D8B9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309C-5645-415A-9321-B80B30E4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3087-BD70-47EC-B5BB-B1FECCEE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0F9C6-F79D-478D-8DB5-48D47BDD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7828-1B58-439B-9B6F-D91C261B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381-FEA6-46E0-A6C6-2DC70F06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914B-5290-4F0A-97DC-4666150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29E8-B30B-44EE-870A-BADB2C12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AE460-ECBD-49B4-AC4A-65131B87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4B0E-F856-42A4-A0D3-3B3CDD4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AB15-C8F6-4739-99A8-83C1B2C2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BD89-A6EF-402A-992A-893752A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A446-7579-4941-8A55-261B226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1BA8C-91B6-4EE7-B7F9-8DA771B0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03592-EFA5-4E01-8BAA-3F548EC8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38BCD-3F17-460A-832A-C962CFE9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294-625F-477C-A1CD-23188E36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A2802-A884-4E90-B246-1D73A8B5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C54F-5F82-426B-B668-6430DDD3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B363-6B72-441A-B4F9-86A8C42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47409-8577-491B-9EFD-95DADDA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9894E-1DF6-4A51-85AA-73AFE5A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444B0-A4C1-47DF-A848-B392866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F5DB-4627-456B-8F64-21E89CE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C881-137E-498E-8824-AB2193E5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E130-0BED-45C1-A7E3-A495C0C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35EC-9CA5-489A-B198-DBAFA4B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B91-9F69-4E69-871E-A0E5FF36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A37FA-70BD-4C89-81A5-101DC1F2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54AF0-B0EA-4A25-A431-BD1F2B3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B84A-5832-4E6F-AA79-78639E5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0A6D4-F293-48A7-B202-C8A88E3C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2FD75-2C24-497E-A52C-140D64E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566CB-11CD-4F31-A4B0-7182AD54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CE58-9B40-4B90-BA55-37D49F00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131F2-96B9-4E4A-B5E2-514CA76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C598-70EA-40EE-BABB-28806E5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6C280-C239-455B-A2C2-55E23C5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B71-AB5D-440F-9522-89BE0A8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FA1E-4F00-4CBA-9BA6-5CC7FB3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B0AD1-36E4-4B94-BAFB-DC0E37A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A9D74-3774-48BE-A77D-DFDCDA62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37E0B-45BE-4076-842B-573365F6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14B8-A652-488B-B5FD-50BA9B75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1FBAD-7DCA-4768-87A4-C34DABBC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7C14D-3BF2-499C-9F2C-05A7FF1B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B6F17-401E-4570-9E71-46E31714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E95CB-BC75-4168-9AA0-5E7B01E3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534C-5DB6-4795-9952-1129B06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19B-5C6F-4FD9-B0BE-966F6B1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68EB6-30FF-4B47-830D-47894D2E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C8C9-3896-4A95-8082-AEFC000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C4AB3-9AFC-4B62-A0FA-68050F9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C667-F67D-4009-AFD0-B0814F0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303E7-2127-4C5B-A87E-43429702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8A290-04ED-4684-979B-E15C5C79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C82FE-75A4-4D46-BF7F-AAAED9EC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5AE-28EB-462A-A71B-EC33F23C90FD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10DA-13FD-4434-808E-E4FB0BBDC9E7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9A89-4536-42B8-A7C1-242535C93F88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3FA5-4652-4F15-BCB4-3F40B2736649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F7A-F052-4210-A494-DAC2A154A376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F7A-ACD4-41A7-AC56-2D380FEFA012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AA7A-E81F-4FD7-9914-CF4AC83D9281}" type="slidenum">
              <a:rPr b="0" lang="ar-SA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385B-F843-4A09-9B44-1189E1B1FF5A}" type="slidenum">
              <a:rPr b="0" lang="ar-SA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64653"/>
                </a:solidFill>
                <a:latin typeface="Times New Roman"/>
                <a:cs typeface="Times New Roman"/>
              </a:rPr>
              <a:t>مقاييس ذكاء الجزء العملي – المحاضرة الثالثة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مستطيل 3"/>
          <p:cNvSpPr/>
          <p:nvPr/>
        </p:nvSpPr>
        <p:spPr>
          <a:xfrm>
            <a:off x="1832040" y="4071960"/>
            <a:ext cx="49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مقيـاس فاينلاند للنضج ال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64360"/>
          </a:xfrm>
          <a:prstGeom prst="rect">
            <a:avLst/>
          </a:prstGeom>
          <a:ln w="0">
            <a:noFill/>
          </a:ln>
        </p:spPr>
      </p:pic>
      <p:sp>
        <p:nvSpPr>
          <p:cNvPr id="380" name="مستطيل 2"/>
          <p:cNvSpPr/>
          <p:nvPr/>
        </p:nvSpPr>
        <p:spPr>
          <a:xfrm>
            <a:off x="2050920" y="242100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مستطيل 3"/>
          <p:cNvSpPr/>
          <p:nvPr/>
        </p:nvSpPr>
        <p:spPr>
          <a:xfrm>
            <a:off x="1979640" y="306864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مستطيل 4"/>
          <p:cNvSpPr/>
          <p:nvPr/>
        </p:nvSpPr>
        <p:spPr>
          <a:xfrm>
            <a:off x="1619280" y="371628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مستطيل 5"/>
          <p:cNvSpPr/>
          <p:nvPr/>
        </p:nvSpPr>
        <p:spPr>
          <a:xfrm flipV="1">
            <a:off x="2050920" y="4365720"/>
            <a:ext cx="513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مستطيل 6"/>
          <p:cNvSpPr/>
          <p:nvPr/>
        </p:nvSpPr>
        <p:spPr>
          <a:xfrm>
            <a:off x="1979640" y="5013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ستطيل 7"/>
          <p:cNvSpPr/>
          <p:nvPr/>
        </p:nvSpPr>
        <p:spPr>
          <a:xfrm>
            <a:off x="1979640" y="5589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387" name="مستطيل 3"/>
          <p:cNvSpPr/>
          <p:nvPr/>
        </p:nvSpPr>
        <p:spPr>
          <a:xfrm>
            <a:off x="1979640" y="2133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مستطيل 4"/>
          <p:cNvSpPr/>
          <p:nvPr/>
        </p:nvSpPr>
        <p:spPr>
          <a:xfrm>
            <a:off x="1908000" y="2781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مستطيل 5"/>
          <p:cNvSpPr/>
          <p:nvPr/>
        </p:nvSpPr>
        <p:spPr>
          <a:xfrm>
            <a:off x="1908000" y="3429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ستطيل 6"/>
          <p:cNvSpPr/>
          <p:nvPr/>
        </p:nvSpPr>
        <p:spPr>
          <a:xfrm>
            <a:off x="1908000" y="4221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مستطيل 7"/>
          <p:cNvSpPr/>
          <p:nvPr/>
        </p:nvSpPr>
        <p:spPr>
          <a:xfrm>
            <a:off x="1908000" y="4797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ستطيل 8"/>
          <p:cNvSpPr/>
          <p:nvPr/>
        </p:nvSpPr>
        <p:spPr>
          <a:xfrm>
            <a:off x="1979640" y="5516640"/>
            <a:ext cx="50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PT Bold Heading"/>
              </a:rPr>
              <a:t>3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PT Bold Heading"/>
              </a:rPr>
              <a:t>.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cs typeface="Mudir MT"/>
              </a:rPr>
              <a:t>تحديد العمر القاعدي و سقف الاختبار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   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كيف نعرف العمر القاعدي ، وسقف الاختبار ؟؟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عمر القاعدي  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cs typeface="Mudir MT"/>
              </a:rPr>
              <a:t>هو الجدول الذي تكون إجابات الأم فيه كلها (نعم ) أي أن المفحوص يستطيع القيام بجميع البنود في ذلك الجدول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سقف الاختبار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cs typeface="Mudir MT"/>
              </a:rPr>
              <a:t>، هو الجدول الذي تكون إجابات الأم فيه كلها (لا ) أي أن المفحوص لا يستطيع أن يقوم بهذه الفقرات من هذا البن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71680" y="1428480"/>
            <a:ext cx="8183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1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تحديد العمر القاعدي وسقف الاختبار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عمر القاعدي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udir MT"/>
              </a:rPr>
              <a:t>سنتين –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سنوات إذ سيكون العمر القاعدي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 سنوات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سقف الاختبار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سنوات إذ سيكون سقف الاختبار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5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Mudir MT"/>
              </a:rPr>
              <a:t> سنوات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528693"/>
                </a:solidFill>
                <a:latin typeface="Times New Roman"/>
                <a:ea typeface="Mudir MT"/>
              </a:rPr>
              <a:t>2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تحويل العمر القاعدي إلى الأشهر عن طريق ضربها في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ea typeface="Mudir MT"/>
              </a:rPr>
              <a:t>12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ea typeface="Mudir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x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Mudir MT"/>
              </a:rPr>
              <a:t> 12 = 3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Mudir MT"/>
              </a:rPr>
              <a:t>شه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حساب الأيام المضافة عن طريق القانون التالي : (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درجة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x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وزن البند 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عنصر نائب للمحتوى 2"/>
          <p:cNvSpPr/>
          <p:nvPr/>
        </p:nvSpPr>
        <p:spPr>
          <a:xfrm>
            <a:off x="684360" y="1700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عنصر نائب للمحتوى 2"/>
          <p:cNvSpPr/>
          <p:nvPr/>
        </p:nvSpPr>
        <p:spPr>
          <a:xfrm>
            <a:off x="642960" y="335772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عنصر نائب للمحتوى 2"/>
          <p:cNvSpPr/>
          <p:nvPr/>
        </p:nvSpPr>
        <p:spPr>
          <a:xfrm>
            <a:off x="960480" y="4786200"/>
            <a:ext cx="8183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71680" y="1428480"/>
            <a:ext cx="8183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3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حساب الأيام المضافة عن طريق القانون التالي : (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درجة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x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وزن البند </a:t>
            </a:r>
            <a:r>
              <a:rPr b="0" lang="ar-SA" sz="2000" spc="-1" strike="noStrike">
                <a:solidFill>
                  <a:srgbClr val="727ca3"/>
                </a:solidFill>
                <a:latin typeface="Times New Roman"/>
                <a:ea typeface="Mudir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عنصر نائب للمحتوى 2"/>
          <p:cNvSpPr/>
          <p:nvPr/>
        </p:nvSpPr>
        <p:spPr>
          <a:xfrm>
            <a:off x="684360" y="1700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عنصر نائب للمحتوى 2"/>
          <p:cNvSpPr/>
          <p:nvPr/>
        </p:nvSpPr>
        <p:spPr>
          <a:xfrm>
            <a:off x="642960" y="335772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عنصر نائب للمحتوى 2"/>
          <p:cNvSpPr/>
          <p:nvPr/>
        </p:nvSpPr>
        <p:spPr>
          <a:xfrm>
            <a:off x="960480" y="4786200"/>
            <a:ext cx="8183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14200" y="2643120"/>
          <a:ext cx="8569440" cy="1859040"/>
        </p:xfrm>
        <a:graphic>
          <a:graphicData uri="http://schemas.openxmlformats.org/drawingml/2006/table">
            <a:tbl>
              <a:tblPr/>
              <a:tblGrid>
                <a:gridCol w="3084480"/>
                <a:gridCol w="1854360"/>
                <a:gridCol w="1990800"/>
                <a:gridCol w="1639800"/>
              </a:tblGrid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درجة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Gill Sans MT"/>
                          <a:ea typeface="Mudir MT"/>
                        </a:rPr>
                        <a:t>x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Gill Sans MT"/>
                          <a:ea typeface="Mudir M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c00000"/>
                          </a:solidFill>
                          <a:latin typeface="Gill Sans MT"/>
                          <a:ea typeface="Mudir MT"/>
                        </a:rPr>
                        <a:t> وزن البن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وزن البن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درج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بن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12240">
                      <a:solidFill>
                        <a:srgbClr val="b8847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3</a:t>
                      </a: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- </a:t>
                      </a: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1224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solidFill>
                      <a:srgbClr val="b88472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404040"/>
                          </a:solidFill>
                          <a:latin typeface="Gill Sans MT"/>
                          <a:ea typeface="Mudir MT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c00000"/>
                          </a:solidFill>
                          <a:latin typeface="Gill Sans MT"/>
                          <a:cs typeface="Mudir MT"/>
                        </a:rPr>
                        <a:t>المـــــــــــــــــجــــــــــــو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88472"/>
                      </a:solidFill>
                    </a:lnL>
                    <a:lnR w="5760">
                      <a:solidFill>
                        <a:srgbClr val="b88472"/>
                      </a:solidFill>
                    </a:lnR>
                    <a:lnT w="5760">
                      <a:solidFill>
                        <a:srgbClr val="b88472"/>
                      </a:solidFill>
                    </a:lnT>
                    <a:lnB w="5760">
                      <a:solidFill>
                        <a:srgbClr val="b88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64296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4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 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cs typeface="Mudir MT"/>
              </a:rPr>
              <a:t>تحويل الأيام المضافة إلى أشهر وذلك عن طريق قسمتها على 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ea typeface="Mudir MT"/>
              </a:rPr>
              <a:t>30</a:t>
            </a:r>
            <a:r>
              <a:rPr b="0" lang="ar-SA" sz="2400" spc="-1" strike="noStrike">
                <a:solidFill>
                  <a:srgbClr val="727ca3"/>
                </a:solidFill>
                <a:latin typeface="Times New Roman"/>
                <a:ea typeface="Mudir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21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/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=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 تسمى 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أشهر المضاف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5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cs typeface="Mudir MT"/>
              </a:rPr>
              <a:t>نحسب العمر الاجتماعي (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أشهر المضافة + العمر القاعد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+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3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=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4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6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 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cs typeface="Mudir MT"/>
              </a:rPr>
              <a:t>تحويل العمر الزمني إلى أشهر عن طريق </a:t>
            </a:r>
            <a:r>
              <a:rPr b="0" lang="ar-SA" sz="2400" spc="-1" strike="noStrike" u="sng">
                <a:solidFill>
                  <a:srgbClr val="c00000"/>
                </a:solidFill>
                <a:uFillTx/>
                <a:latin typeface="Times New Roman"/>
                <a:cs typeface="Mudir MT"/>
              </a:rPr>
              <a:t>ضربها في </a:t>
            </a:r>
            <a:r>
              <a:rPr b="0" lang="ar-SA" sz="2400" spc="-1" strike="noStrike" u="sng">
                <a:solidFill>
                  <a:srgbClr val="c00000"/>
                </a:solidFill>
                <a:uFillTx/>
                <a:latin typeface="Times New Roman"/>
                <a:ea typeface="Mudir MT"/>
              </a:rPr>
              <a:t>12</a:t>
            </a:r>
            <a:r>
              <a:rPr b="0" lang="ar-SA" sz="2400" spc="-1" strike="noStrike" u="sng">
                <a:solidFill>
                  <a:srgbClr val="595959"/>
                </a:solidFill>
                <a:uFillTx/>
                <a:latin typeface="Times New Roman"/>
                <a:ea typeface="Mudir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x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12 = 4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Mudir MT"/>
              </a:rPr>
              <a:t> شهرا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6680" indent="-256680" algn="r" rtl="1">
              <a:lnSpc>
                <a:spcPct val="9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عنصر نائب للمحتوى 2"/>
          <p:cNvSpPr/>
          <p:nvPr/>
        </p:nvSpPr>
        <p:spPr>
          <a:xfrm>
            <a:off x="684360" y="1700280"/>
            <a:ext cx="8183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عنصر نائب للمحتوى 2"/>
          <p:cNvSpPr/>
          <p:nvPr/>
        </p:nvSpPr>
        <p:spPr>
          <a:xfrm>
            <a:off x="500040" y="2000160"/>
            <a:ext cx="81835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7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ea typeface="Mudir MT"/>
              </a:rPr>
              <a:t>. </a:t>
            </a:r>
            <a:r>
              <a:rPr b="0" lang="ar-SA" sz="20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حساب نسبة الذكاء الاجتماعي</a:t>
            </a:r>
            <a:r>
              <a:rPr b="0" lang="ar-SA" sz="2000" spc="-1" strike="noStrike">
                <a:solidFill>
                  <a:srgbClr val="404040"/>
                </a:solidFill>
                <a:latin typeface="Times New Roman"/>
                <a:ea typeface="Mudir MT"/>
              </a:rPr>
              <a:t>: (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العمر الاجتماعي / العمر الزمني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x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 100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43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/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48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x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=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89.6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تقريباً 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90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8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. </a:t>
            </a:r>
            <a:r>
              <a:rPr b="0" lang="ar-SA" sz="2400" spc="-1" strike="noStrike" u="sng">
                <a:solidFill>
                  <a:srgbClr val="404040"/>
                </a:solidFill>
                <a:uFillTx/>
                <a:latin typeface="Times New Roman"/>
                <a:cs typeface="Mudir MT"/>
              </a:rPr>
              <a:t>التصنيف</a:t>
            </a:r>
            <a:r>
              <a:rPr b="0" lang="ar-SA" sz="2400" spc="-1" strike="noStrike">
                <a:solidFill>
                  <a:srgbClr val="404040"/>
                </a:solidFill>
                <a:latin typeface="Times New Roman"/>
                <a:ea typeface="Mudir MT"/>
              </a:rPr>
              <a:t> /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صنف أن الطفل </a:t>
            </a: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أقل من المتوس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357200"/>
            <a:ext cx="81835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وضعه دول لتقدير القدرة الاجتماعية وهو يتكون من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117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 بند مرتبة من حيث صعوبتها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27ca3"/>
                </a:solidFill>
                <a:latin typeface="Times New Roman"/>
                <a:cs typeface="Mudir MT"/>
              </a:rPr>
              <a:t>تغطي ثمانية جوانب رئيسية في النضج الاجتماعي للسلوك بوصفه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الاعتماد على النفس بوجه عام.                                                      *الانشغال بأعمال ( المهنة 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الاعتماد على النفس في الطعام والشراب.                                   *الاتصال ( التخاطب 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الاعتماد على النفس في الملبس.              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      *  الحركة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* توجيه النفس.                              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      * التطبيع الاجتماعي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خماسي 3"/>
          <p:cNvSpPr/>
          <p:nvPr/>
        </p:nvSpPr>
        <p:spPr>
          <a:xfrm flipH="1">
            <a:off x="5643000" y="571680"/>
            <a:ext cx="3500280" cy="92844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28693"/>
                </a:solidFill>
                <a:latin typeface="Monotype Koufi"/>
                <a:cs typeface="Monotype Koufi"/>
              </a:rPr>
              <a:t>نبذة عن المقي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9640" y="1357200"/>
            <a:ext cx="81835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Times New Roman"/>
                <a:cs typeface="Mudir MT"/>
              </a:rPr>
              <a:t>يقيس الاختبار الارتقاء منذ الميلاد وحتى السنة الخامسة والعشرين للمتخلفين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Times New Roman"/>
                <a:cs typeface="Mudir MT"/>
              </a:rPr>
              <a:t>ويقيس منذ الميلاد حتى السنة الحادي عشر فقط للعاديين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Times New Roman"/>
                <a:cs typeface="Mudir MT"/>
              </a:rPr>
              <a:t>الاختبار يعتمد على المعلومات مصدرها الأم أو الممرضة أو المربية القائمة على رعاية الطفل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خماسي 3"/>
          <p:cNvSpPr/>
          <p:nvPr/>
        </p:nvSpPr>
        <p:spPr>
          <a:xfrm flipH="1">
            <a:off x="5643000" y="571680"/>
            <a:ext cx="3500280" cy="92844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28693"/>
                </a:solidFill>
                <a:latin typeface="Monotype Koufi"/>
                <a:cs typeface="Monotype Koufi"/>
              </a:rPr>
              <a:t>نبذة عن المقي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أولا : </a:t>
            </a:r>
            <a:r>
              <a:rPr b="0" lang="ar-SA" sz="2000" spc="-1" strike="noStrike">
                <a:solidFill>
                  <a:srgbClr val="7f7f7f"/>
                </a:solidFill>
                <a:latin typeface="Times New Roman"/>
                <a:cs typeface="Mudir MT"/>
              </a:rPr>
              <a:t>عند بداية تطبيق الاختبار لابد من البدء من العمر الذي يسبق العمر الزمني بسنة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ثانيا :</a:t>
            </a:r>
            <a:r>
              <a:rPr b="0" lang="ar-SA" sz="2000" spc="-1" strike="noStrike">
                <a:solidFill>
                  <a:srgbClr val="7f7f7f"/>
                </a:solidFill>
                <a:latin typeface="Times New Roman"/>
                <a:cs typeface="Mudir MT"/>
              </a:rPr>
              <a:t>احتمالات الاجابة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غالباً أو نعم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+ 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ea typeface="Mudir MT"/>
              </a:rPr>
              <a:t>) ـــــــــــــ تحصل على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درجة واحدة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لا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-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ea typeface="Mudir MT"/>
              </a:rPr>
              <a:t> )  ـــــــــــــــ تحصل على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صفر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أحياناً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+ / - 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ea typeface="Mudir MT"/>
              </a:rPr>
              <a:t>)  ــــــــــــ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نصف درجة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احتمال (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ea typeface="Mudir MT"/>
              </a:rPr>
              <a:t>+ / ؟ )  </a:t>
            </a:r>
            <a:r>
              <a:rPr b="0" lang="ar-SA" sz="2000" spc="-1" strike="noStrike">
                <a:solidFill>
                  <a:srgbClr val="a6a6a6"/>
                </a:solidFill>
                <a:latin typeface="Times New Roman"/>
                <a:cs typeface="Mudir MT"/>
              </a:rPr>
              <a:t>ــــــــــــــــــــ لها عدة </a:t>
            </a:r>
            <a:r>
              <a:rPr b="0" lang="ar-SA" sz="2000" spc="-1" strike="noStrike">
                <a:solidFill>
                  <a:srgbClr val="c00000"/>
                </a:solidFill>
                <a:latin typeface="Times New Roman"/>
                <a:cs typeface="Mudir MT"/>
              </a:rPr>
              <a:t>حالات كالتالي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نصف درجة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إذا كانت أول أو اخر بند في الجدول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درجة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إذا كان الموجب اكثر من السالب او إذا كانا متساويان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صفر 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ea typeface="Mudir MT"/>
              </a:rPr>
              <a:t>	</a:t>
            </a:r>
            <a:r>
              <a:rPr b="0" lang="ar-SA" sz="1800" spc="-1" strike="noStrike">
                <a:solidFill>
                  <a:srgbClr val="262626"/>
                </a:solidFill>
                <a:latin typeface="Times New Roman"/>
                <a:cs typeface="Mudir MT"/>
              </a:rPr>
              <a:t>إذا كان السالب اكثر من الموجب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خماسي 3"/>
          <p:cNvSpPr/>
          <p:nvPr/>
        </p:nvSpPr>
        <p:spPr>
          <a:xfrm flipH="1">
            <a:off x="5643000" y="500040"/>
            <a:ext cx="3500280" cy="92880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Monotype Koufi"/>
                <a:cs typeface="Monotype Koufi"/>
              </a:rPr>
              <a:t>التطبيق و التصحي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رابط كسهم مستقيم 5" descr=""/>
          <p:cNvPicPr/>
          <p:nvPr/>
        </p:nvPicPr>
        <p:blipFill>
          <a:blip r:embed="rId1"/>
          <a:stretch/>
        </p:blipFill>
        <p:spPr>
          <a:xfrm>
            <a:off x="5888160" y="5430960"/>
            <a:ext cx="1463400" cy="360360"/>
          </a:xfrm>
          <a:prstGeom prst="rect">
            <a:avLst/>
          </a:prstGeom>
          <a:ln w="0">
            <a:noFill/>
          </a:ln>
        </p:spPr>
      </p:pic>
      <p:pic>
        <p:nvPicPr>
          <p:cNvPr id="361" name="رابط كسهم مستقيم 6" descr=""/>
          <p:cNvPicPr/>
          <p:nvPr/>
        </p:nvPicPr>
        <p:blipFill>
          <a:blip r:embed="rId2"/>
          <a:stretch/>
        </p:blipFill>
        <p:spPr>
          <a:xfrm>
            <a:off x="5888160" y="4718160"/>
            <a:ext cx="1463400" cy="360360"/>
          </a:xfrm>
          <a:prstGeom prst="rect">
            <a:avLst/>
          </a:prstGeom>
          <a:ln w="0">
            <a:noFill/>
          </a:ln>
        </p:spPr>
      </p:pic>
      <p:pic>
        <p:nvPicPr>
          <p:cNvPr id="362" name="رابط كسهم مستقيم 7" descr=""/>
          <p:cNvPicPr/>
          <p:nvPr/>
        </p:nvPicPr>
        <p:blipFill>
          <a:blip r:embed="rId3"/>
          <a:stretch/>
        </p:blipFill>
        <p:spPr>
          <a:xfrm>
            <a:off x="5888160" y="5072040"/>
            <a:ext cx="1463400" cy="35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rcRect l="7033" t="0" r="7813" b="0"/>
          <a:stretch/>
        </p:blipFill>
        <p:spPr>
          <a:xfrm rot="21444000">
            <a:off x="642600" y="316080"/>
            <a:ext cx="778680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1428480"/>
            <a:ext cx="818352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Times New Roman"/>
                <a:cs typeface="Mudir MT"/>
              </a:rPr>
              <a:t>تحديد العمر الزمني</a:t>
            </a:r>
            <a:r>
              <a:rPr b="0" lang="ar-SA" sz="2400" spc="-1" strike="noStrike">
                <a:solidFill>
                  <a:srgbClr val="595959"/>
                </a:solidFill>
                <a:latin typeface="Times New Roman"/>
                <a:ea typeface="Mudir MT"/>
              </a:rPr>
              <a:t>( عمر المفحوص في هذا المثال  أربع سنوات و </a:t>
            </a:r>
            <a:r>
              <a:rPr b="0" lang="ar-SA" sz="2400" spc="-1" strike="noStrike">
                <a:solidFill>
                  <a:srgbClr val="595959"/>
                </a:solidFill>
                <a:latin typeface="Times New Roman"/>
                <a:ea typeface="Mudir MT"/>
              </a:rPr>
              <a:t>4</a:t>
            </a:r>
            <a:r>
              <a:rPr b="0" lang="ar-SA" sz="2400" spc="-1" strike="noStrike">
                <a:solidFill>
                  <a:srgbClr val="595959"/>
                </a:solidFill>
                <a:latin typeface="Times New Roman"/>
                <a:ea typeface="Mudir MT"/>
              </a:rPr>
              <a:t> أيام 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95959"/>
                </a:solidFill>
                <a:latin typeface="Times New Roman"/>
                <a:cs typeface="Mudir MT"/>
              </a:rPr>
              <a:t>نبدأ التطبيق قبل عمر المفحوص بسن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خماسي 3"/>
          <p:cNvSpPr/>
          <p:nvPr/>
        </p:nvSpPr>
        <p:spPr>
          <a:xfrm flipH="1">
            <a:off x="5643000" y="500040"/>
            <a:ext cx="3500280" cy="928800"/>
          </a:xfrm>
          <a:custGeom>
            <a:avLst/>
            <a:gdLst>
              <a:gd name="textAreaLeft" fmla="*/ -360 w 3500280"/>
              <a:gd name="textAreaRight" fmla="*/ 3500280 w 35002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f1f5"/>
          </a:soli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Monotype Koufi"/>
                <a:cs typeface="Monotype Koufi"/>
              </a:rPr>
              <a:t>مثال على خطوات التطب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369" name="مستطيل 3"/>
          <p:cNvSpPr/>
          <p:nvPr/>
        </p:nvSpPr>
        <p:spPr>
          <a:xfrm>
            <a:off x="2268360" y="1916280"/>
            <a:ext cx="503280" cy="43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مستطيل 4"/>
          <p:cNvSpPr/>
          <p:nvPr/>
        </p:nvSpPr>
        <p:spPr>
          <a:xfrm>
            <a:off x="2268360" y="242100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ستطيل 8"/>
          <p:cNvSpPr/>
          <p:nvPr/>
        </p:nvSpPr>
        <p:spPr>
          <a:xfrm>
            <a:off x="2340000" y="422100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مستطيل 9"/>
          <p:cNvSpPr/>
          <p:nvPr/>
        </p:nvSpPr>
        <p:spPr>
          <a:xfrm>
            <a:off x="2340000" y="458136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ستطيل 13"/>
          <p:cNvSpPr/>
          <p:nvPr/>
        </p:nvSpPr>
        <p:spPr>
          <a:xfrm>
            <a:off x="2357280" y="292896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مستطيل 14"/>
          <p:cNvSpPr/>
          <p:nvPr/>
        </p:nvSpPr>
        <p:spPr>
          <a:xfrm>
            <a:off x="2357280" y="328608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مستطيل 15"/>
          <p:cNvSpPr/>
          <p:nvPr/>
        </p:nvSpPr>
        <p:spPr>
          <a:xfrm>
            <a:off x="2214720" y="5500800"/>
            <a:ext cx="502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ستطيل 16"/>
          <p:cNvSpPr/>
          <p:nvPr/>
        </p:nvSpPr>
        <p:spPr>
          <a:xfrm>
            <a:off x="2214720" y="5929200"/>
            <a:ext cx="502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مستطيل 17"/>
          <p:cNvSpPr/>
          <p:nvPr/>
        </p:nvSpPr>
        <p:spPr>
          <a:xfrm>
            <a:off x="2214720" y="5072040"/>
            <a:ext cx="502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ستطيل 18"/>
          <p:cNvSpPr/>
          <p:nvPr/>
        </p:nvSpPr>
        <p:spPr>
          <a:xfrm>
            <a:off x="2286000" y="378612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Gill Sans M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49:32Z</dcterms:created>
  <dc:creator>Micro</dc:creator>
  <dc:description/>
  <dc:language>en-US</dc:language>
  <cp:lastModifiedBy>المستخدم</cp:lastModifiedBy>
  <dcterms:modified xsi:type="dcterms:W3CDTF">2016-10-11T21:36:13Z</dcterms:modified>
  <cp:revision>16</cp:revision>
  <dc:subject/>
  <dc:title>مقيـاس الطمــوح</dc:title>
</cp:coreProperties>
</file>