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9FE-B0CE-4393-B8A4-1EB5C1B9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B46-B713-417B-B485-D5DF1E8B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83E-338F-4F3E-A6EB-5791E84F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BF8-F081-4DE5-BE17-85FB70B7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3C2-5E3C-4AB3-8611-876AF38C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4AF7-D066-4D29-8558-0EDEDFB7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1777-AB71-4C0B-98DA-AA3F62A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4A9C-95C1-400C-93CB-CD95F17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0BC9-5EFE-448D-BE6A-6549F7E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8333-D159-4AC5-8539-6E6809C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4E5-7B5E-410C-83BA-FA3C950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276-465C-410F-B4DD-F558EE30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DA9B-4D3D-47E8-BDD4-FA96B93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D22A-AB25-42C6-B72B-FC3F064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FAB5-8B6E-4DF1-9E23-B120352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8F40-34C5-49F2-97AE-9A418A20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1BB5-E8B1-43AB-B168-7F4CBC8B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CBFA-340E-458E-BA3B-695ABC72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D532-8675-4BD7-9E95-221C3C8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E9BE-75EE-49BF-BF96-AFA0A11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9C13-9A3D-4308-81C9-51B5C281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650A-BF2F-455A-B6DF-AEC4894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07A-D6C9-40D2-82FC-A47C05C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00E1-D403-4794-B1AB-7333898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0DD4-AAE3-4704-9B6F-F6A65D4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9D34-FA8B-416C-A834-DF35797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844A-98B7-4A95-8356-8423791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34EE-1677-4595-9A3B-7EA1C512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034D-2245-477E-B329-E9A2DF23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019B-BD16-4B7C-95D2-884A4D3F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FF0E-8119-4129-AC35-87125105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FDA7-6FC8-44DC-9949-C41552C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E960-939E-460D-B66C-E5AA7FB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D55-67CC-41B1-9BB6-4A9265C7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CE7A-E209-4674-AE30-CBCC30F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2146-C12D-4AC3-84D0-12078EC4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E448-08A8-4B3A-9887-33E72FD2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EE4B-3A3E-49ED-9CC0-07F119C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2D1A-74A3-4B55-8F4E-604B00C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3185-510F-4213-8190-D50A186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353B-C01B-47BB-88D7-9392A098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A5C6-481A-4185-85D5-BE465CC8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0AEE-C19B-4B6D-B87E-A40328FE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1CF2-8240-4746-B2E9-A722447C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139-4B42-4E01-B062-05B85893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E532-DBC2-44C9-8B3C-1853C9A6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34BDD-A54B-4F42-8E25-26AFCFF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5BE2-D93D-47CC-8B35-AE4F93C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D3F6C-3889-4A3C-AF57-0E2E03C4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28F5-7763-4E7E-ADFB-188E26FA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E33A-7D56-4073-9307-E488275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E281D-9295-4F10-8FC1-3F8F427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80F3-6E08-43A1-8DEF-1665AA77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FE19-2453-45E9-84C9-761D6D8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BA1F-E704-45B2-8B75-F87F1B1E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BBA-7F03-44CA-952B-F6882AA2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1E1F-1A56-4030-8DF6-49C217AE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AC721-68E0-4ADA-9A95-CF2B9310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4B506-F9A7-492B-B68D-DAD2C95D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7F78-A8AF-4C35-9314-B678039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6D0D-AD53-4F48-9D82-535FDABE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D9940-E0B1-4F06-AEFC-0F9384A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67FE-C57E-41EB-B3BA-E9914350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31F1-EC42-48B5-B3E6-0A97835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B31C-968A-4AFB-856C-C9025C6A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41A8-0B3E-43DC-BA34-23DC60D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5E0-8040-40BB-A121-39DBA320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CEF1F-C65D-4D2E-B081-10B95BB0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240B-2C89-401D-959C-43491A4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C7795-2D5F-48DD-94C6-363011E7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3596-D21B-4255-8608-61E1D1BC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0325-7ED5-49E2-9D48-11CD518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F761-1849-4C74-B72E-0F76F5F5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7B49-29DA-4D2B-84C5-03BE2E1C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207B0-3A98-44DF-80C1-9743F31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E71D-C13B-4D1A-A515-3DD5C682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DB54-2DB4-4020-9612-C65F15B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496-49D9-48DB-9795-B756C76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FE09F-E1F4-486E-85D4-DEFF20F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164A9-BA5F-4A2A-B762-86DF0943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E738B-6724-4513-90E7-45D456B5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AE7F9-0B20-4EE8-8E05-231453A3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48FC-CCAE-47CA-9B84-FB46D40A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5EC38-C199-4F7B-A32F-D6959950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A14A6-EA29-47E9-9B76-B5A37AF3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6ED8-7038-4EA0-A148-11460A9E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F892-23F3-430C-A559-EC3944C3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BE8E-DC9F-48F7-84B5-16C69B55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BB5-5A63-4094-BD03-CF81760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A74FA-F3CC-42AC-8C54-8BACEFD8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2CAEB-E624-4A63-8654-13F8F59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00CD7-CBE1-4B14-AADB-9F72C72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8C7DA-D813-46CE-9AF2-931F9B3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B9A48-9803-45B0-9D02-1C2695DD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44863-48DF-42F6-A584-34F6AC9B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239C-683B-4113-A1DA-1BEE6E2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BE2A-7D59-47FF-8317-9629A8310E7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D3F-7656-4270-8E14-270AB597F22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69FA-6CA1-4722-9204-5BC9B365D135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67B-6844-4ED0-8544-7447BF8BFEB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9A1-1FB0-4074-8B30-2914BDC6AFA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1141-AEA0-4D53-8DE2-1EC3F0C5F14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57F8-EDEE-4BEE-B006-A1AA469428D4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8A4-E2D7-4F68-9230-4B7646D1602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64653"/>
                </a:solidFill>
                <a:latin typeface="Times New Roman"/>
                <a:cs typeface="Times New Roman"/>
              </a:rPr>
              <a:t>مقاييس ذكاء الجزء العملي – المحاضرة الثالثة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1832040" y="4071960"/>
            <a:ext cx="49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مقيـاس فاينلاند للنضج ال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64360"/>
          </a:xfrm>
          <a:prstGeom prst="rect">
            <a:avLst/>
          </a:prstGeom>
          <a:ln w="0">
            <a:noFill/>
          </a:ln>
        </p:spPr>
      </p:pic>
      <p:sp>
        <p:nvSpPr>
          <p:cNvPr id="380" name="مستطيل 2"/>
          <p:cNvSpPr/>
          <p:nvPr/>
        </p:nvSpPr>
        <p:spPr>
          <a:xfrm>
            <a:off x="2050920" y="242100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3"/>
          <p:cNvSpPr/>
          <p:nvPr/>
        </p:nvSpPr>
        <p:spPr>
          <a:xfrm>
            <a:off x="1979640" y="306864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مستطيل 4"/>
          <p:cNvSpPr/>
          <p:nvPr/>
        </p:nvSpPr>
        <p:spPr>
          <a:xfrm>
            <a:off x="1619280" y="371628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مستطيل 5"/>
          <p:cNvSpPr/>
          <p:nvPr/>
        </p:nvSpPr>
        <p:spPr>
          <a:xfrm flipV="1">
            <a:off x="2050920" y="4365720"/>
            <a:ext cx="513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مستطيل 6"/>
          <p:cNvSpPr/>
          <p:nvPr/>
        </p:nvSpPr>
        <p:spPr>
          <a:xfrm>
            <a:off x="1979640" y="5013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ستطيل 7"/>
          <p:cNvSpPr/>
          <p:nvPr/>
        </p:nvSpPr>
        <p:spPr>
          <a:xfrm>
            <a:off x="1979640" y="5589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387" name="مستطيل 3"/>
          <p:cNvSpPr/>
          <p:nvPr/>
        </p:nvSpPr>
        <p:spPr>
          <a:xfrm>
            <a:off x="1979640" y="2133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مستطيل 4"/>
          <p:cNvSpPr/>
          <p:nvPr/>
        </p:nvSpPr>
        <p:spPr>
          <a:xfrm>
            <a:off x="1908000" y="2781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مستطيل 5"/>
          <p:cNvSpPr/>
          <p:nvPr/>
        </p:nvSpPr>
        <p:spPr>
          <a:xfrm>
            <a:off x="1908000" y="3429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6"/>
          <p:cNvSpPr/>
          <p:nvPr/>
        </p:nvSpPr>
        <p:spPr>
          <a:xfrm>
            <a:off x="1908000" y="4221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مستطيل 7"/>
          <p:cNvSpPr/>
          <p:nvPr/>
        </p:nvSpPr>
        <p:spPr>
          <a:xfrm>
            <a:off x="1908000" y="4797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ستطيل 8"/>
          <p:cNvSpPr/>
          <p:nvPr/>
        </p:nvSpPr>
        <p:spPr>
          <a:xfrm>
            <a:off x="1979640" y="5516640"/>
            <a:ext cx="50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cs typeface="Mudir MT"/>
              </a:rPr>
              <a:t>تحديد العمر القاعدي و سقف الاختبار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   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كيف نعرف العمر القاعدي ، وسقف الاختبار ؟؟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عمر القاعدي  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cs typeface="Mudir MT"/>
              </a:rPr>
              <a:t>هو الجدول الذي تكون إجابات الأم فيه كلها (نعم ) أي أن المفحوص يستطيع القيام بجميع البنود في ذلك الجدول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سقف الاختبار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cs typeface="Mudir MT"/>
              </a:rPr>
              <a:t>، هو الجدول الذي تكون إجابات الأم فيه كلها (لا ) أي أن المفحوص لا يستطيع أن يقوم بهذه الفقرات من هذا البن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71680" y="1428480"/>
            <a:ext cx="8183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1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تحديد العمر القاعدي وسقف الاختبار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عمر القاعدي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udir MT"/>
              </a:rPr>
              <a:t>سنتين –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سنوات إذ سيكون العمر القاعدي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 سنوات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سقف الاختبار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سنوات إذ سيكون سقف الاختبار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5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 سنوات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28693"/>
                </a:solidFill>
                <a:latin typeface="Times New Roman"/>
                <a:ea typeface="Mudir MT"/>
              </a:rPr>
              <a:t>2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تحويل العمر القاعدي إلى الأشهر عن طريق ضربها في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ea typeface="Mudir MT"/>
              </a:rPr>
              <a:t>12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ea typeface="Mudir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12 = 3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udir MT"/>
              </a:rPr>
              <a:t>شه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حساب الأيام المضافة عن طريق القانون التالي : (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درجة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x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وزن البند 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عنصر نائب للمحتوى 2"/>
          <p:cNvSpPr/>
          <p:nvPr/>
        </p:nvSpPr>
        <p:spPr>
          <a:xfrm>
            <a:off x="684360" y="1700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عنصر نائب للمحتوى 2"/>
          <p:cNvSpPr/>
          <p:nvPr/>
        </p:nvSpPr>
        <p:spPr>
          <a:xfrm>
            <a:off x="642960" y="335772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عنصر نائب للمحتوى 2"/>
          <p:cNvSpPr/>
          <p:nvPr/>
        </p:nvSpPr>
        <p:spPr>
          <a:xfrm>
            <a:off x="960480" y="4786200"/>
            <a:ext cx="8183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71680" y="1428480"/>
            <a:ext cx="8183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حساب الأيام المضافة عن طريق القانون التالي : (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درجة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x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وزن البند 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عنصر نائب للمحتوى 2"/>
          <p:cNvSpPr/>
          <p:nvPr/>
        </p:nvSpPr>
        <p:spPr>
          <a:xfrm>
            <a:off x="684360" y="1700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عنصر نائب للمحتوى 2"/>
          <p:cNvSpPr/>
          <p:nvPr/>
        </p:nvSpPr>
        <p:spPr>
          <a:xfrm>
            <a:off x="642960" y="335772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عنصر نائب للمحتوى 2"/>
          <p:cNvSpPr/>
          <p:nvPr/>
        </p:nvSpPr>
        <p:spPr>
          <a:xfrm>
            <a:off x="960480" y="4786200"/>
            <a:ext cx="8183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14200" y="2643120"/>
          <a:ext cx="8569440" cy="1859040"/>
        </p:xfrm>
        <a:graphic>
          <a:graphicData uri="http://schemas.openxmlformats.org/drawingml/2006/table">
            <a:tbl>
              <a:tblPr/>
              <a:tblGrid>
                <a:gridCol w="3084480"/>
                <a:gridCol w="1854360"/>
                <a:gridCol w="1990800"/>
                <a:gridCol w="1639800"/>
              </a:tblGrid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درجة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Gill Sans MT"/>
                          <a:ea typeface="Mudir MT"/>
                        </a:rPr>
                        <a:t>x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Gill Sans MT"/>
                          <a:ea typeface="Mudir M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Gill Sans MT"/>
                          <a:ea typeface="Mudir MT"/>
                        </a:rPr>
                        <a:t> وزن البن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وزن البن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درج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بن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3</a:t>
                      </a: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- </a:t>
                      </a: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مـــــــــــــــــجــــــــــــو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64296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4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 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cs typeface="Mudir MT"/>
              </a:rPr>
              <a:t>تحويل الأيام المضافة إلى أشهر وذلك عن طريق قسمتها على 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ea typeface="Mudir MT"/>
              </a:rPr>
              <a:t>30</a:t>
            </a:r>
            <a:r>
              <a:rPr b="0" lang="ar-SA" sz="2400" spc="-1" strike="noStrike">
                <a:solidFill>
                  <a:srgbClr val="727ca3"/>
                </a:solidFill>
                <a:latin typeface="Times New Roman"/>
                <a:ea typeface="Mudir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21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/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=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 تسمى 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أشهر المضاف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5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cs typeface="Mudir MT"/>
              </a:rPr>
              <a:t>نحسب العمر الاجتماعي (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أشهر المضافة + العمر القاعد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+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3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=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4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6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 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cs typeface="Mudir MT"/>
              </a:rPr>
              <a:t>تحويل العمر الزمني إلى أشهر عن طريق </a:t>
            </a:r>
            <a:r>
              <a:rPr b="0" lang="ar-SA" sz="2400" spc="-1" strike="noStrike" u="sng">
                <a:solidFill>
                  <a:srgbClr val="c00000"/>
                </a:solidFill>
                <a:uFillTx/>
                <a:latin typeface="Times New Roman"/>
                <a:cs typeface="Mudir MT"/>
              </a:rPr>
              <a:t>ضربها في </a:t>
            </a:r>
            <a:r>
              <a:rPr b="0" lang="ar-SA" sz="2400" spc="-1" strike="noStrike" u="sng">
                <a:solidFill>
                  <a:srgbClr val="c00000"/>
                </a:solidFill>
                <a:uFillTx/>
                <a:latin typeface="Times New Roman"/>
                <a:ea typeface="Mudir MT"/>
              </a:rPr>
              <a:t>12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ea typeface="Mudir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x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12 = 4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شهرا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عنصر نائب للمحتوى 2"/>
          <p:cNvSpPr/>
          <p:nvPr/>
        </p:nvSpPr>
        <p:spPr>
          <a:xfrm>
            <a:off x="684360" y="1700280"/>
            <a:ext cx="8183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عنصر نائب للمحتوى 2"/>
          <p:cNvSpPr/>
          <p:nvPr/>
        </p:nvSpPr>
        <p:spPr>
          <a:xfrm>
            <a:off x="500040" y="2000160"/>
            <a:ext cx="81835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7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حساب نسبة الذكاء الاجتماعي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: (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عمر الاجتماعي / العمر الزمني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x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100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43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/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48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x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=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89.6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تقريباً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90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8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. </a:t>
            </a:r>
            <a:r>
              <a:rPr b="0" lang="ar-SA" sz="24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التصنيف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/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صنف أن الطفل 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أقل من ال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357200"/>
            <a:ext cx="81835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وضعه دول لتقدير القدرة الاجتماعية وهو يتكون من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117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 بند مرتبة من حيث صعوبتها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27ca3"/>
                </a:solidFill>
                <a:latin typeface="Times New Roman"/>
                <a:cs typeface="Mudir MT"/>
              </a:rPr>
              <a:t>تغطي ثمانية جوانب رئيسية في النضج الاجتماعي للسلوك بوصفه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الاعتماد على النفس بوجه عام.                                                      *الانشغال بأعمال ( المهنة 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الاعتماد على النفس في الطعام والشراب.                                   *الاتصال ( التخاطب 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الاعتماد على النفس في الملبس.              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      *  الحركة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 توجيه النفس.                              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      * التطبيع الاجتماعي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خماسي 3"/>
          <p:cNvSpPr/>
          <p:nvPr/>
        </p:nvSpPr>
        <p:spPr>
          <a:xfrm flipH="1">
            <a:off x="5643000" y="571680"/>
            <a:ext cx="3500280" cy="92844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28693"/>
                </a:solidFill>
                <a:latin typeface="Monotype Koufi"/>
                <a:cs typeface="Monotype Koufi"/>
              </a:rPr>
              <a:t>نبذة عن المقي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9640" y="1357200"/>
            <a:ext cx="81835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Times New Roman"/>
                <a:cs typeface="Mudir MT"/>
              </a:rPr>
              <a:t>يقيس الاختبار الارتقاء منذ الميلاد وحتى السنة الخامسة والعشرين للمتخلفين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Times New Roman"/>
                <a:cs typeface="Mudir MT"/>
              </a:rPr>
              <a:t>ويقيس منذ الميلاد حتى السنة الحادي عشر فقط للعاديين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Times New Roman"/>
                <a:cs typeface="Mudir MT"/>
              </a:rPr>
              <a:t>الاختبار يعتمد على المعلومات مصدرها الأم أو الممرضة أو المربية القائمة على رعاية الطفل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خماسي 3"/>
          <p:cNvSpPr/>
          <p:nvPr/>
        </p:nvSpPr>
        <p:spPr>
          <a:xfrm flipH="1">
            <a:off x="5643000" y="571680"/>
            <a:ext cx="3500280" cy="92844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28693"/>
                </a:solidFill>
                <a:latin typeface="Monotype Koufi"/>
                <a:cs typeface="Monotype Koufi"/>
              </a:rPr>
              <a:t>نبذة عن المقي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أولا : </a:t>
            </a:r>
            <a:r>
              <a:rPr b="0" lang="ar-SA" sz="2000" spc="-1" strike="noStrike">
                <a:solidFill>
                  <a:srgbClr val="7f7f7f"/>
                </a:solidFill>
                <a:latin typeface="Times New Roman"/>
                <a:cs typeface="Mudir MT"/>
              </a:rPr>
              <a:t>عند بداية تطبيق الاختبار لابد من البدء من العمر الذي يسبق العمر الزمني بسنة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ثانيا :</a:t>
            </a:r>
            <a:r>
              <a:rPr b="0" lang="ar-SA" sz="2000" spc="-1" strike="noStrike">
                <a:solidFill>
                  <a:srgbClr val="7f7f7f"/>
                </a:solidFill>
                <a:latin typeface="Times New Roman"/>
                <a:cs typeface="Mudir MT"/>
              </a:rPr>
              <a:t>احتمالات الاجابة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غالباً أو نعم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+ 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ea typeface="Mudir MT"/>
              </a:rPr>
              <a:t>) ـــــــــــــ تحصل على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درجة واحدة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لا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-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ea typeface="Mudir MT"/>
              </a:rPr>
              <a:t> )  ـــــــــــــــ تحصل على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صفر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أحياناً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+ / - 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ea typeface="Mudir MT"/>
              </a:rPr>
              <a:t>)  ــــــــــــ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نصف درجة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احتمال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+ / ؟ )  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ــــــــــــــــــــ لها عدة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حالات كالتالي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نصف درجة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إذا كانت أول أو اخر بند في الجدول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درجة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إذا كان الموجب اكثر من السالب او إذا كانا متساويان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صفر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إذا كان السالب اكثر من الموجب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خماسي 3"/>
          <p:cNvSpPr/>
          <p:nvPr/>
        </p:nvSpPr>
        <p:spPr>
          <a:xfrm flipH="1">
            <a:off x="5643000" y="500040"/>
            <a:ext cx="3500280" cy="92880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Monotype Koufi"/>
                <a:cs typeface="Monotype Koufi"/>
              </a:rPr>
              <a:t>التطبيق و التصحي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رابط كسهم مستقيم 5" descr=""/>
          <p:cNvPicPr/>
          <p:nvPr/>
        </p:nvPicPr>
        <p:blipFill>
          <a:blip r:embed="rId1"/>
          <a:stretch/>
        </p:blipFill>
        <p:spPr>
          <a:xfrm>
            <a:off x="5888160" y="5430960"/>
            <a:ext cx="1463400" cy="360360"/>
          </a:xfrm>
          <a:prstGeom prst="rect">
            <a:avLst/>
          </a:prstGeom>
          <a:ln w="0">
            <a:noFill/>
          </a:ln>
        </p:spPr>
      </p:pic>
      <p:pic>
        <p:nvPicPr>
          <p:cNvPr id="361" name="رابط كسهم مستقيم 6" descr=""/>
          <p:cNvPicPr/>
          <p:nvPr/>
        </p:nvPicPr>
        <p:blipFill>
          <a:blip r:embed="rId2"/>
          <a:stretch/>
        </p:blipFill>
        <p:spPr>
          <a:xfrm>
            <a:off x="5888160" y="4718160"/>
            <a:ext cx="1463400" cy="360360"/>
          </a:xfrm>
          <a:prstGeom prst="rect">
            <a:avLst/>
          </a:prstGeom>
          <a:ln w="0">
            <a:noFill/>
          </a:ln>
        </p:spPr>
      </p:pic>
      <p:pic>
        <p:nvPicPr>
          <p:cNvPr id="362" name="رابط كسهم مستقيم 7" descr=""/>
          <p:cNvPicPr/>
          <p:nvPr/>
        </p:nvPicPr>
        <p:blipFill>
          <a:blip r:embed="rId3"/>
          <a:stretch/>
        </p:blipFill>
        <p:spPr>
          <a:xfrm>
            <a:off x="5888160" y="5072040"/>
            <a:ext cx="1463400" cy="35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rcRect l="7033" t="0" r="7813" b="0"/>
          <a:stretch/>
        </p:blipFill>
        <p:spPr>
          <a:xfrm rot="21444000">
            <a:off x="642600" y="316080"/>
            <a:ext cx="778680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1428480"/>
            <a:ext cx="818352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تحديد العمر الزمني</a:t>
            </a:r>
            <a:r>
              <a:rPr b="0" lang="ar-SA" sz="2400" spc="-1" strike="noStrike">
                <a:solidFill>
                  <a:srgbClr val="595959"/>
                </a:solidFill>
                <a:latin typeface="Times New Roman"/>
                <a:ea typeface="Mudir MT"/>
              </a:rPr>
              <a:t>( عمر المفحوص في هذا المثال  أربع سنوات و </a:t>
            </a:r>
            <a:r>
              <a:rPr b="0" lang="ar-SA" sz="2400" spc="-1" strike="noStrike">
                <a:solidFill>
                  <a:srgbClr val="595959"/>
                </a:solidFill>
                <a:latin typeface="Times New Roman"/>
                <a:ea typeface="Mudir MT"/>
              </a:rPr>
              <a:t>4</a:t>
            </a:r>
            <a:r>
              <a:rPr b="0" lang="ar-SA" sz="2400" spc="-1" strike="noStrike">
                <a:solidFill>
                  <a:srgbClr val="595959"/>
                </a:solidFill>
                <a:latin typeface="Times New Roman"/>
                <a:ea typeface="Mudir MT"/>
              </a:rPr>
              <a:t> أيام 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95959"/>
                </a:solidFill>
                <a:latin typeface="Times New Roman"/>
                <a:cs typeface="Mudir MT"/>
              </a:rPr>
              <a:t>نبدأ التطبيق قبل عمر المفحوص بسن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خماسي 3"/>
          <p:cNvSpPr/>
          <p:nvPr/>
        </p:nvSpPr>
        <p:spPr>
          <a:xfrm flipH="1">
            <a:off x="5643000" y="500040"/>
            <a:ext cx="3500280" cy="92880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Monotype Koufi"/>
                <a:cs typeface="Monotype Koufi"/>
              </a:rPr>
              <a:t>مثال على خطوات التطب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369" name="مستطيل 3"/>
          <p:cNvSpPr/>
          <p:nvPr/>
        </p:nvSpPr>
        <p:spPr>
          <a:xfrm>
            <a:off x="2268360" y="1916280"/>
            <a:ext cx="503280" cy="43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4"/>
          <p:cNvSpPr/>
          <p:nvPr/>
        </p:nvSpPr>
        <p:spPr>
          <a:xfrm>
            <a:off x="2268360" y="242100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ستطيل 8"/>
          <p:cNvSpPr/>
          <p:nvPr/>
        </p:nvSpPr>
        <p:spPr>
          <a:xfrm>
            <a:off x="2340000" y="422100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9"/>
          <p:cNvSpPr/>
          <p:nvPr/>
        </p:nvSpPr>
        <p:spPr>
          <a:xfrm>
            <a:off x="2340000" y="458136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ستطيل 13"/>
          <p:cNvSpPr/>
          <p:nvPr/>
        </p:nvSpPr>
        <p:spPr>
          <a:xfrm>
            <a:off x="2357280" y="292896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مستطيل 14"/>
          <p:cNvSpPr/>
          <p:nvPr/>
        </p:nvSpPr>
        <p:spPr>
          <a:xfrm>
            <a:off x="2357280" y="328608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15"/>
          <p:cNvSpPr/>
          <p:nvPr/>
        </p:nvSpPr>
        <p:spPr>
          <a:xfrm>
            <a:off x="2214720" y="5500800"/>
            <a:ext cx="502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ستطيل 16"/>
          <p:cNvSpPr/>
          <p:nvPr/>
        </p:nvSpPr>
        <p:spPr>
          <a:xfrm>
            <a:off x="2214720" y="5929200"/>
            <a:ext cx="502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17"/>
          <p:cNvSpPr/>
          <p:nvPr/>
        </p:nvSpPr>
        <p:spPr>
          <a:xfrm>
            <a:off x="2214720" y="5072040"/>
            <a:ext cx="502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18"/>
          <p:cNvSpPr/>
          <p:nvPr/>
        </p:nvSpPr>
        <p:spPr>
          <a:xfrm>
            <a:off x="2286000" y="378612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49:32Z</dcterms:created>
  <dc:creator>Micro</dc:creator>
  <dc:description/>
  <dc:language>en-US</dc:language>
  <cp:lastModifiedBy>المستخدم</cp:lastModifiedBy>
  <dcterms:modified xsi:type="dcterms:W3CDTF">2016-10-11T21:36:13Z</dcterms:modified>
  <cp:revision>16</cp:revision>
  <dc:subject/>
  <dc:title>مقيـاس الطمــوح</dc:title>
</cp:coreProperties>
</file>