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56B-24D0-4D67-9626-5077DD1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BEC-9FA8-4E78-A4CE-0FA1436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A50-B920-466F-B4F1-F1830462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E34-967F-461D-9B0C-C21C6751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0DB-1FDC-4A21-9B83-6A21F9C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E134-DAF1-44D6-A42F-3780612D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4243-FC2C-4394-98E4-CFBB4269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DBB6-01D3-417F-A3C6-BBEF5DD4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A54B-EDAD-4EFE-AB2F-853A2F59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92C-751D-43D2-BD0E-FBC32BE8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660B-0DF2-46A5-B96D-8A3B45A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29E-26D1-41E4-9AB8-3BB15240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0862-4A47-4C1F-8FAD-5C4E2F0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A10-996C-4ABC-8253-D9E46DF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B70-44F1-487A-BF0B-8541988B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FB2-72B9-4F30-8A83-6108145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A3F0-35D4-4AFC-8C09-78842C6D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463E-AEB3-470D-94BD-11849F44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219F-946F-42BC-AD7B-B6F9208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8FE3-3425-4DD0-9F07-DD78AD1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8A13-4E11-435A-A1EF-EB788515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0BBA-D84C-4436-BDAD-131E7433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631-F5A9-42B8-B39B-BC866D7B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7AD6-CD54-4C0C-BCF7-2EA4DB1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CD4F-72CC-4FE4-8B58-DB0B615C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7A9B-F524-4BE1-A690-F5901775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99A4-F532-4EB2-8163-25D55D1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3A97-8BFE-428C-B750-DEB1DBC8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56A1-D8A9-4BA2-946B-59A92D4E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D717-A0BD-420A-A465-80C4E3B6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356C-03DA-4FA7-9C90-B4FE118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44EF-0256-47C1-912E-8EDEBD3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31C0-D5FA-49FD-ACD9-FBA9660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A82-1A67-4283-AA56-36B9154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EF99-1821-4B84-917A-97BFD73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52AE-AC3A-4767-8B40-F66A2030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6CB39-A998-4389-86F8-2EF36BE6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AACD-AB81-4CEF-B27E-F16D25CF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08E80-5E61-488C-831A-4B84E6F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4F1C-F55F-4B6B-AF64-5E8F2B2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4AA5-BFEB-4840-88C7-604251B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F0BA-8BD9-4C12-8501-F6DFECE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C4763-3B55-42DA-8CE0-447A1A31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2221-B685-4FA4-B9A3-F773A83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87F-138A-4950-AD42-CF8779E2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8736-BF9B-42E3-930F-E4B75647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432F-9130-4AC1-8618-EA8010F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1C1B7-978A-48C6-8F59-4BBADCA6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D76F-27A6-4323-8305-577F4250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2BE6-022B-41C3-9D2D-A9C66B01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91BF-7666-4441-9BA7-59EADDD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EF27-5D67-4196-88CC-F527C85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CA7C-1198-4F09-8AB5-EFD8805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485B-AF75-451B-89BF-CB4F54D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D708-E9EB-409F-820C-496C2E50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3FD-EA9A-4B0A-9657-3F60369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A73F-E974-4B2E-82FF-CE0D90A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C3AE-4137-4DFB-A13F-6140929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74E4-D616-4AA5-AD25-A40E4227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1A79E-4954-4EEE-AAA1-6EFA141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D71E-A9DB-41D4-8B44-D2BB1B2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83663-5E8F-4461-BA50-D355445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A028-B74D-42CE-A66B-B006D801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715D-E28B-48E8-904C-07EB950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F2001-925E-41D4-B4EB-41C277B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1B62-806E-4622-A447-E9191D4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E44-390B-420A-AA7B-58DA1DC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4343-CA35-4D25-BB96-3EFB4A9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96A1-F6B3-4665-9C5C-736D10F8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8EA6-0718-477D-A20C-651FF150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A742-B42F-4508-A030-5FEE6A27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34B2F-7A7F-4F1E-A422-07F472D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EE26-E970-4455-A386-BE7CBA2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BCDB9-FE88-4583-915F-ABD6E03D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E330A-7D1D-4808-BFAC-C0CD565D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82491-9962-44E0-B58E-CC816899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B2EB-FDD4-48AD-A8E5-50D9488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DA6-1977-4D6D-A870-7B8D60F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7D7EC-C9AB-4729-A9E4-C231145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C9F7-4AAE-4970-98C3-30B32B6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61CE-FDDB-4A41-96C0-E62C11A9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7EA80-C024-4A9B-B0DF-C09151C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82564-26EF-4D2C-87DD-14859183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B2A6-E7E4-482E-8BA6-7972357A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C44E-C31C-4FF8-8D59-A9C50C0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3908-8D5D-4E87-B18A-C38F5DF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DD92-4816-4471-B48F-E5CE4926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F9BBB-A8A7-4B62-8D67-3E967A8B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7D2-1699-4650-BBDD-DED4727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F8B9-CCBF-463D-8FFE-8E0B6F2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F9B34-7394-4161-A102-9B428D6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37CA2-8C56-490D-B2D9-C4AEAA4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B1B0-E8D2-44CA-9387-DDD4546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0C7D-BC72-4E88-8A0B-369B902A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7998-8AE1-4912-84F8-B721083C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23D4-C59F-446D-BE0C-7B8D6F6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A8D-225A-4E0C-B4D0-055C5C7EF433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A20-830E-4780-9A62-4F8DB4E57A21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ff39d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339-15DE-4D13-9561-6C15DE9CC98F}" type="slidenum"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9C3-22F1-48FC-A608-3CBB057D1B91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CFC3-8951-4CA0-AA5F-C5EFEFB358A3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0F1-75C7-4A92-BAD5-3B53230D31D0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ff39d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393C-86B5-4F23-B277-3BD5BBCA39C7}" type="slidenum">
              <a:rPr b="0" lang="ar-SA" sz="14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7598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6685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A31-1FEF-4BAC-94D1-E55CBF480DD8}" type="slidenum">
              <a:rPr b="0" lang="ar-SA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Bookman Old Style"/>
                <a:cs typeface="Farsi Simple Bold"/>
              </a:rPr>
              <a:t>مقياس الدافع للإنجاز </a:t>
            </a:r>
            <a:endParaRPr b="0" lang="en-US" sz="3200" spc="-1" strike="noStrike">
              <a:solidFill>
                <a:srgbClr val="575f6d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75f6d"/>
                </a:solidFill>
                <a:latin typeface="Bookman Old Style"/>
                <a:cs typeface="Times New Roman"/>
              </a:rPr>
              <a:t>مقاييس شخصية عملي – محاضرة (</a:t>
            </a:r>
            <a:r>
              <a:rPr b="0" lang="ar-SA" sz="2000" spc="-1" strike="noStrike">
                <a:solidFill>
                  <a:srgbClr val="575f6d"/>
                </a:solidFill>
                <a:latin typeface="Bookman Old Style"/>
                <a:ea typeface="Times New Roman"/>
              </a:rPr>
              <a:t>3</a:t>
            </a:r>
            <a:r>
              <a:rPr b="0" lang="ar-SA" sz="2000" spc="-1" strike="noStrike">
                <a:solidFill>
                  <a:srgbClr val="575f6d"/>
                </a:solidFill>
                <a:latin typeface="Bookman Old Style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صورة 4" descr="تنزيل (2).jpg"/>
          <p:cNvPicPr/>
          <p:nvPr/>
        </p:nvPicPr>
        <p:blipFill>
          <a:blip r:embed="rId1"/>
          <a:stretch/>
        </p:blipFill>
        <p:spPr>
          <a:xfrm>
            <a:off x="1762200" y="353880"/>
            <a:ext cx="59068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00040" y="25714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75f6d"/>
                </a:solidFill>
                <a:latin typeface="Gill Sans MT"/>
                <a:cs typeface="Akhbar MT"/>
              </a:rPr>
              <a:t>هو الرغبة في الأداء الجيد وتحقيق ، وهو هدف ذاتي ينشط ويوجه السلوك ويعتبر من المكونات الهامة للنجاح المدرسي للطلبة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7" name="خماسي 3"/>
          <p:cNvGrpSpPr/>
          <p:nvPr/>
        </p:nvGrpSpPr>
        <p:grpSpPr>
          <a:xfrm>
            <a:off x="-12600" y="1274760"/>
            <a:ext cx="7248600" cy="955800"/>
            <a:chOff x="-12600" y="1274760"/>
            <a:chExt cx="7248600" cy="955800"/>
          </a:xfrm>
        </p:grpSpPr>
        <p:pic>
          <p:nvPicPr>
            <p:cNvPr id="358" name="خماسي 3" descr=""/>
            <p:cNvPicPr/>
            <p:nvPr/>
          </p:nvPicPr>
          <p:blipFill>
            <a:blip r:embed="rId1"/>
            <a:stretch/>
          </p:blipFill>
          <p:spPr>
            <a:xfrm>
              <a:off x="-12600" y="1274760"/>
              <a:ext cx="724860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85920"/>
              <a:ext cx="6983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c00000"/>
                  </a:solidFill>
                  <a:latin typeface="Gill Sans MT"/>
                  <a:cs typeface="Farsi Simple Bold"/>
                </a:rPr>
                <a:t>ماذا نعني بالدافع للإنجاز ؟ وما اهميتة في حياتنا 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مقياس من إعداد هـ. ج.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هيرمانز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ترجم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للعربية بواسطة الدكتور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فاروق موسى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تكون المقياس من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فقرة ، تمثل الصفات التي تميز الأفراد مرتفعي ومنخفضي التحصيل .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لكل فقرة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أو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بدائل ، تأخذ التسلسل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أ، ب، ج، د ، هـ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جيب المفحوص على كل فقرة باختيار بديل واحد فقط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يحتوي المقياس على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9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عبارات عكس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9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0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5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6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7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مخطط انسيابي: مهلة 3"/>
          <p:cNvSpPr/>
          <p:nvPr/>
        </p:nvSpPr>
        <p:spPr>
          <a:xfrm flipH="1">
            <a:off x="5000040" y="714240"/>
            <a:ext cx="4143240" cy="100044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أول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فقرات الخماس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كونه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 بدائل للإجاب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يتم تصحيحها بالشك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طبيعية ( أ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هـ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عكسية ( أ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هـ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5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ثاني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فقرات الرباعية (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كونة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 بدائل للإجاب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يتم تصحيحها بالشك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طبيعية ( أ 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العبارات العكسية ( أ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1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ب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2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ج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3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، د=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4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مخطط انسيابي: مهلة 3"/>
          <p:cNvSpPr/>
          <p:nvPr/>
        </p:nvSpPr>
        <p:spPr>
          <a:xfrm flipH="1">
            <a:off x="4714200" y="714240"/>
            <a:ext cx="4429080" cy="107172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طريقة تصحيح 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2214360"/>
            <a:ext cx="82296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ثالث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بعد جمع الدرجات ، يتم تحويل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الدرجة الخام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إلى درجة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مئينية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من الجدول (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ص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3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) ، علما أن الدرجة الكلية للمقياس تتراوح من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28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إلى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ea typeface="Akhbar MT"/>
              </a:rPr>
              <a:t>130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ea typeface="Akhbar MT"/>
              </a:rPr>
              <a:t> درجة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رابعا :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بعد تحويل الدرجة الخام إلى درجة مئينية ، </a:t>
            </a:r>
            <a:r>
              <a:rPr b="0" lang="ar-SA" sz="2600" spc="-1" strike="noStrike">
                <a:solidFill>
                  <a:srgbClr val="c00000"/>
                </a:solidFill>
                <a:latin typeface="Gill Sans MT"/>
                <a:cs typeface="Akhbar MT"/>
              </a:rPr>
              <a:t>يتم تصنيفها </a:t>
            </a:r>
            <a:r>
              <a:rPr b="0" lang="ar-SA" sz="2600" spc="-1" strike="noStrike">
                <a:solidFill>
                  <a:srgbClr val="3c3e42"/>
                </a:solidFill>
                <a:latin typeface="Gill Sans MT"/>
                <a:cs typeface="Akhbar MT"/>
              </a:rPr>
              <a:t>وفق الجدول التالي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مخطط انسيابي: مهلة 3"/>
          <p:cNvSpPr/>
          <p:nvPr/>
        </p:nvSpPr>
        <p:spPr>
          <a:xfrm flipH="1">
            <a:off x="4714200" y="714240"/>
            <a:ext cx="4429080" cy="1071720"/>
          </a:xfrm>
          <a:prstGeom prst="flowChartDelay">
            <a:avLst/>
          </a:prstGeom>
          <a:solidFill>
            <a:srgbClr val="d9d9d9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Gill Sans MT"/>
                <a:cs typeface="Led Italic Font"/>
              </a:rPr>
              <a:t>طريقة تصحيح  المقيا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714680" y="4214880"/>
          <a:ext cx="6095880" cy="1854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التصني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الدرج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1224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رتف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1224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فوق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-7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تحت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b32c16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ضع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فا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20:10:44Z</dcterms:created>
  <dc:creator>المستخدم</dc:creator>
  <dc:description/>
  <dc:language>en-US</dc:language>
  <cp:lastModifiedBy>المستخدم</cp:lastModifiedBy>
  <dcterms:modified xsi:type="dcterms:W3CDTF">2016-10-10T20:42:43Z</dcterms:modified>
  <cp:revision>4</cp:revision>
  <dc:subject/>
  <dc:title>مقياس الدافع للإنجاز</dc:title>
</cp:coreProperties>
</file>