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181-732E-4FF1-B197-4533B6D6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D57-13DD-44EF-A0C2-DFAC9151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2C9-E52C-4F8D-BF46-20C46BFF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9B8-AD54-4485-929D-201AC6B2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BB9F-56AF-4CAB-8BBF-31ED8C94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0714-9940-4121-8A29-5313EEF0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05B5-867B-4018-9C4B-EDFE8578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7933-0092-42A9-BE28-63E11926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1C3D-00EC-4DA2-8C18-BEE69A90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9D4E-C0D3-4239-9F70-25BA19C5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B0F2-7A59-4948-9BE7-B4C0FFC9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AD5-FCA4-4A49-85C6-721C7148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FEDB-218F-47D3-95BA-8CD6622C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93B4-0130-4F52-9B52-60416719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AB6D-7545-415F-BEF0-7270F9E5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0B7C-0070-4C15-8EE4-C0DE14B9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040C-1BD0-4CF8-BA5E-0BCB2EBB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5F9CD-E460-4DE2-9625-F20695F4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644D2-02A8-45CE-A1ED-C22CB3F4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DD7D8-399D-43E0-AFDF-DB22D3DE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DE8B3-94B2-4A6D-97EC-AA980AAE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3E95E-2572-465F-AB41-ECEBD934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DBF-B247-4543-96F7-16391EF3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85E1-9278-4EF4-BB14-7953A584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16B12-FA70-4E7D-B4FB-691FB7F3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42AE3-BAA7-4769-9015-D3F2BE84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085C4-5623-401F-8B4D-C36E3390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62F34-EA9D-4BCC-9CE6-8284D197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FEA1B-65A5-4B2D-B2FF-A4BA6184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6ADCC-1AD8-46EE-9BD1-141CBE41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B116C-6DDC-4065-A6A4-CD3D6D12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A2F4A-3667-49E9-9F03-5A2B75F3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6B6D8-9055-415A-B47C-5BFA14A5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6C4-F41B-4C4A-B3B0-D69EF4C3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D5B61-F1A8-4703-8927-5D8C9CB8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C5952-5BBA-40BE-9F0C-AB65A9A3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6E620-744D-4DBD-A0DF-013F039E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E7047-FD61-4F04-B779-3A70C537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6611A-7B55-4B5E-B5A1-1091FEFE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98CA3-E94F-452C-B92D-1104D978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89AD6-9FA4-49A8-B1EC-811F64F6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8BAFE-6E13-4CBD-A7D9-4186B282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E056-08D9-4B73-AB33-0B0D58F9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08EDA-7219-47CC-82C8-4CEFFC38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59F-3C56-4479-BFC1-898771CD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A65D2-A18A-4B24-AADF-6BCB4502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C422A-F002-48FA-A50D-33C6A8E4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F0FF8-EB55-4DF9-9FEB-2C060D2A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3FB86-7B97-4D2C-8BCB-843CC526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7E4ED-98BA-4365-8500-07B4AE92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141F3-6D77-4EF8-AF9F-B09D8943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71B0F-0BA8-4082-8199-744D25A3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5BF41-B624-404F-9B96-9B8F5C03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A8341-E520-448E-AFA4-AD3C831E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692FC-2641-487C-AB67-7D859A3F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D80-DB83-4FE8-8B63-8BF42080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E5CF2-E94E-4F5F-AF77-33C30EB3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13417-CA37-410C-B716-7630C0C7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FE7AA-C588-4602-A893-51780415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A6F76-91A9-453E-9BCF-D3BEC3ED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2C63C-F132-4BA8-87E0-C213CA34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9FDCB-A1CE-4034-9620-1EC1229E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22B9E-D611-4E89-99B9-F2FBB0F4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02A55-1E1E-4E72-94F9-481CFC1B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E15BB-F6E9-484D-9012-7B67F6A0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637A9-1E3B-4807-81D1-363729F3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27D-86AC-4FA3-B02A-E3ED9321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05D65-112E-47A8-9513-57B679D3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02FA1-BAAC-4C6F-B6DC-CD25A6C5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C8E07-5F1B-413A-B293-9FEB680B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1DF52-79F3-446F-89F1-019E8658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C8448-043B-4649-96BA-960A2419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3EB16-0D2C-4429-B00B-F3C251BA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4A279-4F2E-4D9C-8D2A-75D87674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14E1D-6D4C-4D9B-867B-88408A60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C3808-FB09-4C0B-A8A7-F40A29F2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A936D-464B-47DA-B0C6-D451C386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F02-A553-4301-BBE4-0B801289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D4E84-C066-40C1-8864-3EDD4090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CECF7-F476-45EF-8683-8135ED47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D64E6-45E7-4BD2-A028-3782F42F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C7F14-EBAE-426A-BC1A-A7C6005B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A3A81-4AFD-4587-A4C7-414D5F8C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AB193-79B5-458D-985E-74E29151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E1548-DC73-4D4D-903B-21DC65DC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9E3B8-7AA1-411F-9500-D70F69E6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D4EF9-5DF9-4B64-AF1F-F54077C9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4BB23-D410-4BCA-B59B-F2237140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7AF-0A69-49B0-9607-7752B4EF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EC3F9-6AF3-485A-AA78-DF80845B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CAFC1-DD16-4F60-8966-18670AAB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89FA3-D60D-43BB-9B0D-435B726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E7AF1-90F5-4F6C-B69A-1D10CA2E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37DED-13BB-4A0B-8174-00E9569A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48EA9-50FA-4991-B95B-59984516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131E5-8D8D-4C2D-8E85-F82F2EB0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7598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6685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CFBE-0447-4B34-AB1D-69CF45FBE228}" type="slidenum"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7598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6685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7A20-AB62-48D2-9450-35F85E1E9D88}" type="slidenum"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fff39d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7598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6685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957A-87D8-494A-B5FB-07E8FEE3F444}" type="slidenum">
              <a:rPr b="0" lang="ar-SA" sz="14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7598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6685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CBE3-C23E-4F0F-A601-8B7EF1C15246}" type="slidenum"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7598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6685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394E-2019-4ED9-9643-50CF6758AADF}" type="slidenum"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7598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6685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0A79-8D7B-4E41-9D4D-8476E7D3E02B}" type="slidenum"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fff39d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7598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6685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BAD0-FFE1-442B-B242-D4EE2162B5F3}" type="slidenum">
              <a:rPr b="0" lang="ar-SA" sz="14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7598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6685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2022-4D52-4C6D-A141-33E3C7AA2689}" type="slidenum"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Bookman Old Style"/>
                <a:cs typeface="Farsi Simple Bold"/>
              </a:rPr>
              <a:t>مقياس الدافع للإنجاز </a:t>
            </a: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75f6d"/>
                </a:solidFill>
                <a:latin typeface="Bookman Old Style"/>
                <a:cs typeface="Times New Roman"/>
              </a:rPr>
              <a:t>مقاييس شخصية عملي – محاضرة (</a:t>
            </a:r>
            <a:r>
              <a:rPr b="0" lang="ar-SA" sz="2000" spc="-1" strike="noStrike">
                <a:solidFill>
                  <a:srgbClr val="575f6d"/>
                </a:solidFill>
                <a:latin typeface="Bookman Old Style"/>
                <a:ea typeface="Times New Roman"/>
              </a:rPr>
              <a:t>3</a:t>
            </a:r>
            <a:r>
              <a:rPr b="0" lang="ar-SA" sz="2000" spc="-1" strike="noStrike">
                <a:solidFill>
                  <a:srgbClr val="575f6d"/>
                </a:solidFill>
                <a:latin typeface="Bookman Old Style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AutoShape 2"/>
          <p:cNvSpPr/>
          <p:nvPr/>
        </p:nvSpPr>
        <p:spPr>
          <a:xfrm>
            <a:off x="89233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5" name="صورة 4" descr="تنزيل (2).jpg"/>
          <p:cNvPicPr/>
          <p:nvPr/>
        </p:nvPicPr>
        <p:blipFill>
          <a:blip r:embed="rId1"/>
          <a:stretch/>
        </p:blipFill>
        <p:spPr>
          <a:xfrm>
            <a:off x="1762200" y="353880"/>
            <a:ext cx="590688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00040" y="25714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75f6d"/>
                </a:solidFill>
                <a:latin typeface="Gill Sans MT"/>
                <a:cs typeface="Akhbar MT"/>
              </a:rPr>
              <a:t>هو الرغبة في الأداء الجيد وتحقيق ، وهو هدف ذاتي ينشط ويوجه السلوك ويعتبر من المكونات الهامة للنجاح المدرسي للطلبة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57" name="خماسي 3"/>
          <p:cNvGrpSpPr/>
          <p:nvPr/>
        </p:nvGrpSpPr>
        <p:grpSpPr>
          <a:xfrm>
            <a:off x="-12600" y="1274760"/>
            <a:ext cx="7248600" cy="955800"/>
            <a:chOff x="-12600" y="1274760"/>
            <a:chExt cx="7248600" cy="955800"/>
          </a:xfrm>
        </p:grpSpPr>
        <p:pic>
          <p:nvPicPr>
            <p:cNvPr id="358" name="خماسي 3" descr=""/>
            <p:cNvPicPr/>
            <p:nvPr/>
          </p:nvPicPr>
          <p:blipFill>
            <a:blip r:embed="rId1"/>
            <a:stretch/>
          </p:blipFill>
          <p:spPr>
            <a:xfrm>
              <a:off x="-12600" y="1274760"/>
              <a:ext cx="724860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85920"/>
              <a:ext cx="698328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c00000"/>
                  </a:solidFill>
                  <a:latin typeface="Gill Sans MT"/>
                  <a:cs typeface="Farsi Simple Bold"/>
                </a:rPr>
                <a:t>ماذا نعني بالدافع للإنجاز ؟ وما اهميتة في حياتنا 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221436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المقياس من إعداد هـ. ج.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هيرمانز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ترجم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للعربية بواسطة الدكتور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فاروق موسى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يتكون المقياس من (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28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فقرة ، تمثل الصفات التي تميز الأفراد مرتفعي ومنخفضي التحصيل .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لكل فقرة (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4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أو (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5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بدائل ، تأخذ التسلسل (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أ، ب، ج، د ، هـ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يجيب المفحوص على كل فقرة باختيار بديل واحد فقط 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يحتوي المقياس على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9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عبارات عكسية (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1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3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4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9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10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15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16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27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28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مخطط انسيابي: مهلة 3"/>
          <p:cNvSpPr/>
          <p:nvPr/>
        </p:nvSpPr>
        <p:spPr>
          <a:xfrm flipH="1">
            <a:off x="5000040" y="714240"/>
            <a:ext cx="4143240" cy="1000440"/>
          </a:xfrm>
          <a:prstGeom prst="flowChartDelay">
            <a:avLst/>
          </a:prstGeom>
          <a:solidFill>
            <a:srgbClr val="d9d9d9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Gill Sans MT"/>
                <a:cs typeface="Led Italic Font"/>
              </a:rPr>
              <a:t>نبذة عن المقياس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7200" y="221436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أولا :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الفقرات الخماسية (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مكونه من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5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 بدائل للإجابة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، يتم تصحيحها بالشكل التالي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 algn="r" rtl="1">
              <a:spcBef>
                <a:spcPts val="601"/>
              </a:spcBef>
              <a:buClr>
                <a:srgbClr val="fe8637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العبارات الطبيعية ( أ 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5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ب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4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ج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3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د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2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هـ 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1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 algn="r" rtl="1">
              <a:spcBef>
                <a:spcPts val="601"/>
              </a:spcBef>
              <a:buClr>
                <a:srgbClr val="fe8637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العبارات العكسية ( أ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1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ب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2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ج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3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د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4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هـ 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5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 algn="r" rtl="1">
              <a:spcBef>
                <a:spcPts val="601"/>
              </a:spcBef>
              <a:buClr>
                <a:srgbClr val="fe8637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ثانيا :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الفقرات الرباعية (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مكونة من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4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 بدائل للإجابة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، يتم تصحيحها بالشكل التالي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 algn="r" rtl="1">
              <a:spcBef>
                <a:spcPts val="601"/>
              </a:spcBef>
              <a:buClr>
                <a:srgbClr val="fe8637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العبارات الطبيعية ( أ 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4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ب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3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ج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2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د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1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 algn="r" rtl="1">
              <a:spcBef>
                <a:spcPts val="601"/>
              </a:spcBef>
              <a:buClr>
                <a:srgbClr val="fe8637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العبارات العكسية ( أ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1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ب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2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ج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3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د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4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 algn="r" rtl="1">
              <a:spcBef>
                <a:spcPts val="601"/>
              </a:spcBef>
              <a:buClr>
                <a:srgbClr val="fe8637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مخطط انسيابي: مهلة 3"/>
          <p:cNvSpPr/>
          <p:nvPr/>
        </p:nvSpPr>
        <p:spPr>
          <a:xfrm flipH="1">
            <a:off x="4714200" y="714240"/>
            <a:ext cx="4429080" cy="1071720"/>
          </a:xfrm>
          <a:prstGeom prst="flowChartDelay">
            <a:avLst/>
          </a:prstGeom>
          <a:solidFill>
            <a:srgbClr val="d9d9d9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Gill Sans MT"/>
                <a:cs typeface="Led Italic Font"/>
              </a:rPr>
              <a:t>طريقة تصحيح  المقياس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7200" y="221436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ثالثا :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بعد جمع الدرجات ، يتم تحويل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الدرجة الخام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إلى درجة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مئينية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من الجدول (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ص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38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، علما أن الدرجة الكلية للمقياس تتراوح من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28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إلى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130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درجة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رابعا :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بعد تحويل الدرجة الخام إلى درجة مئينية 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يتم تصنيفها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وفق الجدول التالي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مخطط انسيابي: مهلة 3"/>
          <p:cNvSpPr/>
          <p:nvPr/>
        </p:nvSpPr>
        <p:spPr>
          <a:xfrm flipH="1">
            <a:off x="4714200" y="714240"/>
            <a:ext cx="4429080" cy="1071720"/>
          </a:xfrm>
          <a:prstGeom prst="flowChartDelay">
            <a:avLst/>
          </a:prstGeom>
          <a:solidFill>
            <a:srgbClr val="d9d9d9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Gill Sans MT"/>
                <a:cs typeface="Led Italic Font"/>
              </a:rPr>
              <a:t>طريقة تصحيح  المقياس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714680" y="4214880"/>
          <a:ext cx="6095880" cy="18540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التصني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الدرج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مرتف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فوق المتوس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-7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تحت المتوس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فاق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0T20:10:44Z</dcterms:created>
  <dc:creator>المستخدم</dc:creator>
  <dc:description/>
  <dc:language>en-US</dc:language>
  <cp:lastModifiedBy>المستخدم</cp:lastModifiedBy>
  <dcterms:modified xsi:type="dcterms:W3CDTF">2016-10-10T20:42:43Z</dcterms:modified>
  <cp:revision>4</cp:revision>
  <dc:subject/>
  <dc:title>مقياس الدافع للإنجاز</dc:title>
</cp:coreProperties>
</file>