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4C4-0C7F-4ADF-99F2-314F930A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0AB-7E39-4DF7-90E0-43886A27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C43-7A6A-4246-9A8D-43C2C37D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C8BF-51F9-4F62-B1DD-0790FD80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4CDB-6DE4-4EBA-B05B-631DF0F3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FBA4-CF68-4EC5-BFA8-5544D5BF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A1C3-BB98-4539-9D40-BBA8B447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C93E-CDC9-4958-8ECF-0878C638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36FE-DEE9-4409-A768-44EA1B5F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7A78-29E5-431C-9CA8-CB80E685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463C-2AC6-494C-AA9C-CE133B23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482-3CFF-4E3E-9D85-2B9D6994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DA30-8EBA-44F8-803C-1D4292CC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BC83-7E75-4D17-B1DA-66577C4C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A1DA-C0DB-46BC-9DB7-E93A8441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8BFB-BE61-4AD8-A2A7-FDBF63AC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216B-97FC-49E7-A6CF-8EDF2A73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7C104-156A-42DA-B853-56E29B93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D65C3-281A-4BB6-8EEB-EDE2AF6E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8B287-3E80-4A83-9370-4EC2F1A1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F12A6-B279-4FEB-9F59-36F959B9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4C467-1B4F-4FBF-84AB-F9F4BD91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ECBE-1C86-40F9-8780-6E45EC90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09726-CEB4-4EA5-B5A5-DFC022EC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30900-8188-426E-A58D-C6A4A62C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C8590-2523-448B-9FAC-231799BC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2C901-3905-41AD-B7E1-6383940E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AB7D7-437E-4199-9E36-DA3D6687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AA473-C9F6-4F4E-963E-0D743E8B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E76B4-AB5E-4A90-BC86-6586BD23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280F2-48BE-46E7-989C-0E916E4B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40102-1DFE-4E16-BE5B-CDBAB6CC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9B387-E4D4-4AF7-92AE-4A25BA17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C7F-F217-4C43-B4D2-B5D2BC61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178EA-0A67-430B-B8A7-925B434D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85AB7-A7C8-4CE3-9808-E4D8CA2F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9D8F0-AEE7-4D54-81A8-A705F1E1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8EF6A-B173-4D39-9035-92792D20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3161C-22D2-4644-9524-C313DC1C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73D42-A682-46A5-B4F4-9459A815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6DCB7-8870-438D-A168-3E539C0D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D0D03-53A3-47D8-8D69-0A5E43DE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8EBAD-904A-4D9A-BB9C-D8441EF2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1A5F8-69F0-4D56-B212-6E6FBF2F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5CC2-8610-4459-A8BD-ED530326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7DD42-0103-4DCF-A08D-75D2A2C3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EAC9C-14FB-47BB-B13D-CE7538BD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F4673-AD7B-40BE-B36C-D1FB9755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D516E-955A-46D8-8E27-F06C7AAE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C3F52-3FA8-4A97-9DFC-96D6E7BB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36580-0F9A-48A4-866A-955084B9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7FE71-C32D-4281-94CD-96E5DF79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C38E2-05FE-44DD-8852-CEBE5366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9A86A-78FD-4D87-9D3A-212942B5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C8614-53EB-4C48-841D-EF66DF91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51AA-6906-48F3-A6FC-9B617B83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22B18-34FE-4BAE-9560-9D7BA3E6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F793F-7C43-472F-8211-AD52FD0A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D7047-7311-481A-84FF-7B8AE9CB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0B92F-330E-40AA-8E87-D89BF984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5810A-4AC8-4F96-BA26-3328178D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B43C4-7D02-4D48-B4F0-2E753386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97610-1C1A-490F-ADC2-35739631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4389B-113C-4299-91B1-995FCE75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320F7-2930-4D68-8BDE-1898F5DF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55A4D-EC13-4548-BA78-66C137A1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2CE-7B45-4A44-A5EE-C696165E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A222E-BCCA-4490-AE86-A983BD5B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B706C-B290-4F49-A6DB-04EC388C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68E44-F619-4D30-9DD3-1BD4AC35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1A5BC-AEC0-4C89-8D61-89B75900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F4712-B2CB-4DD4-9975-8295A7DD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88F8E-70DE-45BC-B695-BC8D6ECB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5A566-3431-4D1C-9F68-F5815572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4641A-EE37-48E2-8C0A-037293FA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34C87-A439-4847-927B-CE07AA5F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406DD-105E-4684-AB0D-4288C1D5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C10C-7F9E-4C07-B468-A034E53B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80E7F-10FB-4D35-A2EF-900F2802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A5393-8FDC-4C13-B465-07C1223E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864C3-65EB-4FA3-9512-ED6BB387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AD7ED-B82B-4ACD-80A5-04287250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1E1DA-7889-4586-86D1-BA37EE1E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E40EA-F62F-4718-87B2-232115DC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0621A-05C6-4C0D-8510-1D88BAA5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36C60-114C-401B-BA15-665B8217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64C6E-E547-497B-8C20-BFAE0391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4B6C5-EA6E-4386-9161-25CAFFBA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2C68-49F0-44E5-9E37-905ADBCF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3EA93-2378-4C6F-8170-86E6F43C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256DF-A914-4C41-B923-BD937640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135D9-6BE9-486C-9F5F-BDF169F4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32782-EEF5-4F61-8E8E-C91DCE63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E8E48-964E-474F-A93F-A42B9C73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5306C-F416-4077-8CF7-A870E976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C7BE7-9927-42E4-8523-AE54A08B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6BC5-20D6-4EDA-B955-73E362123199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5C96-725A-48B4-BAC8-46F62EEEB3DC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45D4-1152-46C6-9851-72C0834DF857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3ECA-4A63-4518-91A6-C9E016A60A40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0C73-DE85-4764-95E3-3A53499BA483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0CE9-6272-4245-9F99-7830DED386E6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45CD-D4F5-4E47-A925-EBD00473537E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4D51-DBAA-43B2-AAA7-4344E88C58D3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Bookman Old Style"/>
              </a:rPr>
              <a:t>مقياس الطموح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64653"/>
                </a:solidFill>
                <a:latin typeface="Bookman Old Style"/>
                <a:cs typeface="Times New Roman"/>
              </a:rPr>
              <a:t>مقاييس شخصية عملي – محاضرة رقم (</a:t>
            </a:r>
            <a:r>
              <a:rPr b="0" lang="ar-SA" sz="20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4</a:t>
            </a:r>
            <a:r>
              <a:rPr b="0" lang="ar-SA" sz="20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89233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AutoShape 8"/>
          <p:cNvSpPr/>
          <p:nvPr/>
        </p:nvSpPr>
        <p:spPr>
          <a:xfrm>
            <a:off x="89233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AutoShape 10"/>
          <p:cNvSpPr/>
          <p:nvPr/>
        </p:nvSpPr>
        <p:spPr>
          <a:xfrm>
            <a:off x="89233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صورة 14" descr="images (1).jpg"/>
          <p:cNvPicPr/>
          <p:nvPr/>
        </p:nvPicPr>
        <p:blipFill>
          <a:blip r:embed="rId1"/>
          <a:stretch/>
        </p:blipFill>
        <p:spPr>
          <a:xfrm>
            <a:off x="1214280" y="428760"/>
            <a:ext cx="6858000" cy="3000240"/>
          </a:xfrm>
          <a:prstGeom prst="rect">
            <a:avLst/>
          </a:prstGeom>
          <a:ln w="9360">
            <a:solidFill>
              <a:srgbClr val="727ca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صورة 4" descr="تنزيل (3).jpg"/>
          <p:cNvPicPr/>
          <p:nvPr/>
        </p:nvPicPr>
        <p:blipFill>
          <a:blip r:embed="rId1"/>
          <a:stretch/>
        </p:blipFill>
        <p:spPr>
          <a:xfrm>
            <a:off x="2286000" y="3143160"/>
            <a:ext cx="6429240" cy="30006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cc"/>
                </a:solidFill>
                <a:latin typeface="Segoe UI"/>
                <a:cs typeface="Diwani Letter"/>
              </a:rPr>
              <a:t>تعريف الطموح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f7f7f"/>
                </a:solidFill>
                <a:latin typeface="Gill Sans MT"/>
                <a:cs typeface="Akhbar MT"/>
              </a:rPr>
              <a:t>هو </a:t>
            </a:r>
            <a:r>
              <a:rPr b="0" lang="ar-SA" sz="2800" spc="-1" strike="noStrike">
                <a:solidFill>
                  <a:srgbClr val="0099cc"/>
                </a:solidFill>
                <a:latin typeface="Gill Sans MT"/>
                <a:cs typeface="Akhbar MT"/>
              </a:rPr>
              <a:t>الهدف</a:t>
            </a:r>
            <a:r>
              <a:rPr b="0" lang="ar-SA" sz="2800" spc="-1" strike="noStrike">
                <a:solidFill>
                  <a:srgbClr val="7f7f7f"/>
                </a:solidFill>
                <a:latin typeface="Gill Sans MT"/>
                <a:ea typeface="Akhbar MT"/>
              </a:rPr>
              <a:t> الذي يعمل الفرد على تحقيقة والميل إلى </a:t>
            </a:r>
            <a:r>
              <a:rPr b="0" lang="ar-SA" sz="2800" spc="-1" strike="noStrike">
                <a:solidFill>
                  <a:srgbClr val="0099cc"/>
                </a:solidFill>
                <a:latin typeface="Gill Sans MT"/>
                <a:cs typeface="Akhbar MT"/>
              </a:rPr>
              <a:t>الكفاح</a:t>
            </a:r>
            <a:r>
              <a:rPr b="0" lang="ar-SA" sz="2800" spc="-1" strike="noStrike">
                <a:solidFill>
                  <a:srgbClr val="7f7f7f"/>
                </a:solidFill>
                <a:latin typeface="Gill Sans MT"/>
                <a:ea typeface="Akhbar MT"/>
              </a:rPr>
              <a:t> ، والتطلع إلى ا</a:t>
            </a:r>
            <a:r>
              <a:rPr b="0" lang="ar-SA" sz="2800" spc="-1" strike="noStrike">
                <a:solidFill>
                  <a:srgbClr val="0099cc"/>
                </a:solidFill>
                <a:latin typeface="Gill Sans MT"/>
                <a:cs typeface="Akhbar MT"/>
              </a:rPr>
              <a:t>لأفضل </a:t>
            </a:r>
            <a:r>
              <a:rPr b="0" lang="ar-SA" sz="2800" spc="-1" strike="noStrike">
                <a:solidFill>
                  <a:srgbClr val="7f7f7f"/>
                </a:solidFill>
                <a:latin typeface="Gill Sans MT"/>
                <a:ea typeface="Akhbar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7200" y="1428840"/>
            <a:ext cx="822960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المقياس من إعداد الدكتورة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كامليليا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عبد الفتاح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يقيس الاستبيان مستوى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الطموح</a:t>
            </a:r>
            <a:r>
              <a:rPr b="0" lang="ar-SA" sz="2600" spc="-1" strike="noStrike">
                <a:solidFill>
                  <a:srgbClr val="9fb8cd"/>
                </a:solidFill>
                <a:latin typeface="Gill Sans MT"/>
                <a:ea typeface="Akhbar MT"/>
              </a:rPr>
              <a:t>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عند الفرد من خلال مجموعة من السمات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يحتوي المقياس على (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ea typeface="Akhbar MT"/>
              </a:rPr>
              <a:t>79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ea typeface="Akhbar MT"/>
              </a:rPr>
              <a:t>) سؤال ، لكل سؤال بديلين (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نعم ، لا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ea typeface="Akhbar MT"/>
              </a:rPr>
              <a:t>) 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يقوم المفحوص ب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الإجابة</a:t>
            </a:r>
            <a:r>
              <a:rPr b="0" lang="ar-SA" sz="2600" spc="-1" strike="noStrike">
                <a:solidFill>
                  <a:srgbClr val="9fb8cd"/>
                </a:solidFill>
                <a:latin typeface="Gill Sans MT"/>
                <a:ea typeface="Akhbar MT"/>
              </a:rPr>
              <a:t>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على المقياس من خلال اختيار إحدى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بدائل</a:t>
            </a:r>
            <a:r>
              <a:rPr b="0" lang="ar-SA" sz="2600" spc="-1" strike="noStrike">
                <a:solidFill>
                  <a:srgbClr val="9fb8cd"/>
                </a:solidFill>
                <a:latin typeface="Gill Sans MT"/>
                <a:ea typeface="Akhbar MT"/>
              </a:rPr>
              <a:t>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الإجابة (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نعم ، لا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ea typeface="Akhbar MT"/>
              </a:rPr>
              <a:t>) 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خماسي 4"/>
          <p:cNvSpPr/>
          <p:nvPr/>
        </p:nvSpPr>
        <p:spPr>
          <a:xfrm flipH="1">
            <a:off x="4643280" y="571680"/>
            <a:ext cx="4500720" cy="1143000"/>
          </a:xfrm>
          <a:custGeom>
            <a:avLst/>
            <a:gdLst>
              <a:gd name="textAreaLeft" fmla="*/ 360 w 4500720"/>
              <a:gd name="textAreaRight" fmla="*/ 4501440 w 45007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57" y="0"/>
                </a:lnTo>
                <a:lnTo>
                  <a:pt x="21600" y="10800"/>
                </a:lnTo>
                <a:lnTo>
                  <a:pt x="188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cf1f5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99cc"/>
                </a:solidFill>
                <a:latin typeface="Gill Sans MT"/>
                <a:cs typeface="Led Italic Font"/>
              </a:rPr>
              <a:t>نبذة عن المقياس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7200" y="1428840"/>
            <a:ext cx="822960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يصحح المقياس بالمطابقة بين إجابات المفحوص ،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ومفتاح التصحيح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ea typeface="Akhbar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كل إجابة تطابق (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مفتاح التصحيح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ea typeface="Akhbar MT"/>
              </a:rPr>
              <a:t>) تحصل على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درجة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واحدة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تجمع الدرجات لنحصل على الدرجة الكلية (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الدرجة الخام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ea typeface="Akhbar MT"/>
              </a:rPr>
              <a:t>) 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f7f7f"/>
                </a:solidFill>
                <a:latin typeface="Gill Sans MT"/>
                <a:ea typeface="Akhbar MT"/>
              </a:rPr>
              <a:t> يتم تحويل الدرجة الخام إلى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درجة مئينية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وفقا للجدول صفحة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ea typeface="Akhbar MT"/>
              </a:rPr>
              <a:t>27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ea typeface="Akhbar MT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خماسي 4"/>
          <p:cNvSpPr/>
          <p:nvPr/>
        </p:nvSpPr>
        <p:spPr>
          <a:xfrm flipH="1">
            <a:off x="4643280" y="500040"/>
            <a:ext cx="4500720" cy="1285920"/>
          </a:xfrm>
          <a:custGeom>
            <a:avLst/>
            <a:gdLst>
              <a:gd name="textAreaLeft" fmla="*/ 360 w 4500720"/>
              <a:gd name="textAreaRight" fmla="*/ 4501440 w 450072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cf1f5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99cc"/>
                </a:solidFill>
                <a:latin typeface="Gill Sans MT"/>
                <a:cs typeface="Diwani Letter"/>
              </a:rPr>
              <a:t>طريقة تصحيح المقياس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7200" y="1428840"/>
            <a:ext cx="822960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بعد تحويل الدرجة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الخام إلى مئينية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، يتم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تصنيفها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وفقا للجدول التالي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خماسي 4"/>
          <p:cNvSpPr/>
          <p:nvPr/>
        </p:nvSpPr>
        <p:spPr>
          <a:xfrm flipH="1">
            <a:off x="4643280" y="500040"/>
            <a:ext cx="4500720" cy="1285920"/>
          </a:xfrm>
          <a:custGeom>
            <a:avLst/>
            <a:gdLst>
              <a:gd name="textAreaLeft" fmla="*/ 360 w 4500720"/>
              <a:gd name="textAreaRight" fmla="*/ 4501440 w 450072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cf1f5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99cc"/>
                </a:solidFill>
                <a:latin typeface="Gill Sans MT"/>
                <a:cs typeface="Diwani Letter"/>
              </a:rPr>
              <a:t>طريقة تصحيح المقياس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14680" y="3286080"/>
          <a:ext cx="6095880" cy="18543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99cc"/>
                          </a:solidFill>
                          <a:latin typeface="Gill Sans MT"/>
                        </a:rPr>
                        <a:t>التصن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12240">
                      <a:solidFill>
                        <a:srgbClr val="9fb8c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99cc"/>
                          </a:solidFill>
                          <a:latin typeface="Gill Sans MT"/>
                        </a:rPr>
                        <a:t>الدرجة المئيني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12240">
                      <a:solidFill>
                        <a:srgbClr val="9fb8cd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منخفض جدا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1224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9fb8c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فاق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1224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9fb8cd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منخفض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متوس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9fb8c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9fb8cd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مرتف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1-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6T15:20:33Z</dcterms:created>
  <dc:creator>المستخدم</dc:creator>
  <dc:description/>
  <dc:language>en-US</dc:language>
  <cp:lastModifiedBy>المستخدم</cp:lastModifiedBy>
  <dcterms:modified xsi:type="dcterms:W3CDTF">2016-10-16T16:03:55Z</dcterms:modified>
  <cp:revision>6</cp:revision>
  <dc:subject/>
  <dc:title>مقياس الطموح</dc:title>
</cp:coreProperties>
</file>