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2AB4-59F6-4244-959B-1AF6CA392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544F-509A-4C94-87DF-2D8A18BE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A290-88DB-4BC0-B63E-83480EFFC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5912-2544-4207-813C-BD14E7978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4332-2AD6-40C5-A710-F1A4F0476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C12D-B95C-4AD1-9745-17F7E76D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A61A-3972-4ED0-80FB-FC697E67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44C1-E8FD-4C37-98EF-298AEDAC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E863-E9B4-4C4A-ADD3-BF2F0B55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79C2-62DA-4789-A1D9-37FF94A8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7ECB-3851-43BD-9077-D7F75DA0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D884-775C-4381-A3DB-BF37258A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BF73-EEC7-4D70-A925-3233AB29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F513-2013-482B-8FAC-5E5B8739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CA10-F761-4D66-B99A-F88029B3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6671-E012-40AA-BD45-2F78498E7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3C2A-4513-4E74-85E4-EFA27A72B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6F0CF-DE5B-4F61-9468-2E9134E23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C6AC5-8A96-4EDD-8456-541F4A50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74CBC-0E9A-46EC-BAF7-8DF394AA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87581-C2C9-405C-A45D-75662B7A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19D42-03EC-4350-84AB-11533799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9091-1390-4AB7-825D-09F1960C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DC636-9ECE-4388-A33F-8A0CA5E4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A51DC-3B67-4CEC-830D-59EE0C6C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03E9A-41A2-4EF3-BE28-0E48046E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4DDBE-423C-446E-9D1D-4A700676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7DDE2-C582-46A4-A80B-F7674B45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D16C3-D366-4B1A-8B8B-99724315E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6189C-9A11-4050-8438-312BD47BF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A0138-B27C-4C84-B52A-430DB0E2F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05619-DA0B-4AF4-ABCA-395AB1D9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980F2-A06D-4B35-97D5-930ADECE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DDC4-2F5A-447B-B976-EB4FD367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99CD1-23C2-44B0-9292-7F3C05B5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0A151-F337-4575-A788-99DAF47F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F3026-5EC3-41AC-8706-CD3E14C8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D176F-4245-444C-9B8B-F89659D7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96FF5-1FED-4177-A694-2553FE36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E323B-A6ED-4059-A010-F0E76256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1788F-51A5-4A00-AB2A-6531E055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631D0-2595-4D1C-A278-3181F602A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134E7-5A02-44CD-AB6A-2F0D249D6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41140-C16D-4FF5-9B5C-5C21049E2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21F0-7F4B-49E1-8D75-139BBFF8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917CE-A4EB-4E9A-A7E4-E7FF2100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3A7C9-7271-494E-A1F8-9642B07C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C3BEC-21B8-4A63-AF00-9B3781FC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CDFAF-49B3-4786-AE52-BF653869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9396A-858C-4CED-AEA9-AB1E1BE3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86DCD-115E-41A6-8B5F-58027803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978EA-D779-4193-BB3D-11628924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264A6-7A0B-4795-9E23-82AEC6C1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9C99F-3633-463B-843B-46347A69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0246D-684E-4E11-A063-92E2ECE24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0096-ED85-4048-A9B2-C97D5075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31128-A8F7-4D97-8696-9F8C3FEC6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6058B-DEFD-4E0B-A406-7B9702AFD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B3651-80F6-4007-9D58-82B9F8DE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F585D-2CED-4FA8-87EE-7EBA6717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1E795-4649-4F10-8563-C81BED3F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41F7B-794C-4125-B1EA-C1CC497A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726FA-146E-4900-9A27-F7BAED70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0FD7C-5FAB-4716-B8CF-378B0010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E0133-D813-4F2E-93C4-2170EE77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AA308-485C-4A68-ADF4-371A979A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952E-1A95-46D0-8A04-A2C63C59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BC6AC-730E-4DB8-AAC7-52DFCF8F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FF58E-6E04-4204-B677-9A9496DAD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5A17C-6E0E-4664-B416-41898A98C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0E535-94D1-4082-AE0D-5F11E6530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8DCD7-7B74-4E6A-AB43-E0D97A74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A4EAF-826E-4170-83D2-C3972338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95E26-C101-49DF-81D2-E3D26DE2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A0972-34E3-4477-B8EC-4A431637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103AD-FC50-44A3-A5C0-33107DA3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DB9B7-3722-4ABE-9FEA-ABA9C0ED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ABD6-83AC-4DD5-A14E-A626122E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77B67-FAD9-4C89-BBD9-AB122442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2109A-84F9-4572-9FA1-10AC6760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DB1AE-4802-46D2-8C55-F57F4934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59DEA-98E3-4C4C-A848-B1FC8DF2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B7951-06FF-49AE-A175-EBCD55975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0386A-441C-44A2-9533-6732BF896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6E79E-A9A4-4D4E-AF7E-F566984D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45E72-6FBC-4ED3-8BCD-A2BFE22C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F6D84-6F79-4D4A-892D-2A7F2BD4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47B39-338C-415F-9026-99D71A36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B7BE-9705-4F20-89D3-666B3291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14A89-DD1A-4409-9C09-B6FF32AC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12D39-73C6-47A4-AF18-1CCF715A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31F4C-54D4-445D-8212-66D995C3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B8646-7BE8-4265-989D-45E5A6DF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6F1FC-DBD3-4C35-A8CD-81A0732D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24BCF-69AF-40A0-BD6E-9AAA9BF18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E021B-1DB9-4327-8004-7E14BE01C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2853-B522-43F7-AF00-314D37936407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مستطيل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مستطيل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مستطيل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F10B-EDE9-405D-99DC-58448103963A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مستطيل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4856-7371-4086-B521-A3319D215BE5}" type="slidenum"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مثلث متساوي الساقين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CEF5-3A8B-4A3C-BAD6-0F8AF56139C4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E046-2F5D-4791-9A16-40DAE100B19B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رابط مستقيم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مثلث متساوي الساقين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9215-903D-431D-9A0A-F226DFA60742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مستطيل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A459-9F14-4E0F-A73F-137DD7BDFEE8}" type="slidenum"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رابط مستقيم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9A91-95D3-4166-810A-E2DBBEC0D933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Bookman Old Style"/>
              </a:rPr>
              <a:t>مقياس الطموح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64653"/>
                </a:solidFill>
                <a:latin typeface="Bookman Old Style"/>
                <a:cs typeface="Times New Roman"/>
              </a:rPr>
              <a:t>مقاييس شخصية عملي – محاضرة رقم (</a:t>
            </a:r>
            <a:r>
              <a:rPr b="0" lang="ar-SA" sz="2000" spc="-1" strike="noStrike">
                <a:solidFill>
                  <a:srgbClr val="464653"/>
                </a:solidFill>
                <a:latin typeface="Bookman Old Style"/>
                <a:ea typeface="Times New Roman"/>
              </a:rPr>
              <a:t>4</a:t>
            </a:r>
            <a:r>
              <a:rPr b="0" lang="ar-SA" sz="2000" spc="-1" strike="noStrike">
                <a:solidFill>
                  <a:srgbClr val="464653"/>
                </a:solidFill>
                <a:latin typeface="Bookman Old Style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AutoShape 6"/>
          <p:cNvSpPr/>
          <p:nvPr/>
        </p:nvSpPr>
        <p:spPr>
          <a:xfrm>
            <a:off x="89233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AutoShape 8"/>
          <p:cNvSpPr/>
          <p:nvPr/>
        </p:nvSpPr>
        <p:spPr>
          <a:xfrm>
            <a:off x="89233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AutoShape 10"/>
          <p:cNvSpPr/>
          <p:nvPr/>
        </p:nvSpPr>
        <p:spPr>
          <a:xfrm>
            <a:off x="89233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7" name="صورة 14" descr="images (1).jpg"/>
          <p:cNvPicPr/>
          <p:nvPr/>
        </p:nvPicPr>
        <p:blipFill>
          <a:blip r:embed="rId1"/>
          <a:stretch/>
        </p:blipFill>
        <p:spPr>
          <a:xfrm>
            <a:off x="1214280" y="428760"/>
            <a:ext cx="6858000" cy="3000240"/>
          </a:xfrm>
          <a:prstGeom prst="rect">
            <a:avLst/>
          </a:prstGeom>
          <a:ln w="9360">
            <a:solidFill>
              <a:srgbClr val="727ca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صورة 4" descr="تنزيل (3).jpg"/>
          <p:cNvPicPr/>
          <p:nvPr/>
        </p:nvPicPr>
        <p:blipFill>
          <a:blip r:embed="rId1"/>
          <a:stretch/>
        </p:blipFill>
        <p:spPr>
          <a:xfrm>
            <a:off x="2286000" y="3143160"/>
            <a:ext cx="6429240" cy="300060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cc"/>
                </a:solidFill>
                <a:latin typeface="Segoe UI"/>
                <a:cs typeface="Diwani Letter"/>
              </a:rPr>
              <a:t>تعريف الطموح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f7f7f"/>
                </a:solidFill>
                <a:latin typeface="Gill Sans MT"/>
                <a:cs typeface="Akhbar MT"/>
              </a:rPr>
              <a:t>هو </a:t>
            </a:r>
            <a:r>
              <a:rPr b="0" lang="ar-SA" sz="2800" spc="-1" strike="noStrike">
                <a:solidFill>
                  <a:srgbClr val="0099cc"/>
                </a:solidFill>
                <a:latin typeface="Gill Sans MT"/>
                <a:cs typeface="Akhbar MT"/>
              </a:rPr>
              <a:t>الهدف</a:t>
            </a:r>
            <a:r>
              <a:rPr b="0" lang="ar-SA" sz="2800" spc="-1" strike="noStrike">
                <a:solidFill>
                  <a:srgbClr val="7f7f7f"/>
                </a:solidFill>
                <a:latin typeface="Gill Sans MT"/>
                <a:ea typeface="Akhbar MT"/>
              </a:rPr>
              <a:t> الذي يعمل الفرد على تحقيقة والميل إلى </a:t>
            </a:r>
            <a:r>
              <a:rPr b="0" lang="ar-SA" sz="2800" spc="-1" strike="noStrike">
                <a:solidFill>
                  <a:srgbClr val="0099cc"/>
                </a:solidFill>
                <a:latin typeface="Gill Sans MT"/>
                <a:cs typeface="Akhbar MT"/>
              </a:rPr>
              <a:t>الكفاح</a:t>
            </a:r>
            <a:r>
              <a:rPr b="0" lang="ar-SA" sz="2800" spc="-1" strike="noStrike">
                <a:solidFill>
                  <a:srgbClr val="7f7f7f"/>
                </a:solidFill>
                <a:latin typeface="Gill Sans MT"/>
                <a:ea typeface="Akhbar MT"/>
              </a:rPr>
              <a:t> ، والتطلع إلى ا</a:t>
            </a:r>
            <a:r>
              <a:rPr b="0" lang="ar-SA" sz="2800" spc="-1" strike="noStrike">
                <a:solidFill>
                  <a:srgbClr val="0099cc"/>
                </a:solidFill>
                <a:latin typeface="Gill Sans MT"/>
                <a:cs typeface="Akhbar MT"/>
              </a:rPr>
              <a:t>لأفضل </a:t>
            </a:r>
            <a:r>
              <a:rPr b="0" lang="ar-SA" sz="2800" spc="-1" strike="noStrike">
                <a:solidFill>
                  <a:srgbClr val="7f7f7f"/>
                </a:solidFill>
                <a:latin typeface="Gill Sans MT"/>
                <a:ea typeface="Akhbar MT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7200" y="1428840"/>
            <a:ext cx="8229600" cy="47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7f7f7f"/>
                </a:solidFill>
                <a:latin typeface="Gill Sans MT"/>
                <a:cs typeface="Akhbar MT"/>
              </a:rPr>
              <a:t>المقياس من إعداد الدكتورة </a:t>
            </a:r>
            <a:r>
              <a:rPr b="0" lang="ar-SA" sz="2600" spc="-1" strike="noStrike">
                <a:solidFill>
                  <a:srgbClr val="0099cc"/>
                </a:solidFill>
                <a:latin typeface="Gill Sans MT"/>
                <a:cs typeface="Akhbar MT"/>
              </a:rPr>
              <a:t>كامليليا </a:t>
            </a:r>
            <a:r>
              <a:rPr b="0" lang="ar-SA" sz="2600" spc="-1" strike="noStrike">
                <a:solidFill>
                  <a:srgbClr val="7f7f7f"/>
                </a:solidFill>
                <a:latin typeface="Gill Sans MT"/>
                <a:cs typeface="Akhbar MT"/>
              </a:rPr>
              <a:t>عبد الفتاح 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7f7f7f"/>
                </a:solidFill>
                <a:latin typeface="Gill Sans MT"/>
                <a:cs typeface="Akhbar MT"/>
              </a:rPr>
              <a:t>يقيس الاستبيان مستوى </a:t>
            </a:r>
            <a:r>
              <a:rPr b="0" lang="ar-SA" sz="2600" spc="-1" strike="noStrike">
                <a:solidFill>
                  <a:srgbClr val="0099cc"/>
                </a:solidFill>
                <a:latin typeface="Gill Sans MT"/>
                <a:cs typeface="Akhbar MT"/>
              </a:rPr>
              <a:t>الطموح</a:t>
            </a:r>
            <a:r>
              <a:rPr b="0" lang="ar-SA" sz="2600" spc="-1" strike="noStrike">
                <a:solidFill>
                  <a:srgbClr val="9fb8cd"/>
                </a:solidFill>
                <a:latin typeface="Gill Sans MT"/>
                <a:ea typeface="Akhbar MT"/>
              </a:rPr>
              <a:t> </a:t>
            </a:r>
            <a:r>
              <a:rPr b="0" lang="ar-SA" sz="2600" spc="-1" strike="noStrike">
                <a:solidFill>
                  <a:srgbClr val="7f7f7f"/>
                </a:solidFill>
                <a:latin typeface="Gill Sans MT"/>
                <a:cs typeface="Akhbar MT"/>
              </a:rPr>
              <a:t>عند الفرد من خلال مجموعة من السمات </a:t>
            </a:r>
            <a:r>
              <a:rPr b="0" lang="ar-SA" sz="2600" spc="-1" strike="noStrike">
                <a:solidFill>
                  <a:srgbClr val="7f7f7f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7f7f7f"/>
                </a:solidFill>
                <a:latin typeface="Gill Sans MT"/>
                <a:cs typeface="Akhbar MT"/>
              </a:rPr>
              <a:t>يحتوي المقياس على (</a:t>
            </a:r>
            <a:r>
              <a:rPr b="0" lang="ar-SA" sz="2600" spc="-1" strike="noStrike">
                <a:solidFill>
                  <a:srgbClr val="0099cc"/>
                </a:solidFill>
                <a:latin typeface="Gill Sans MT"/>
                <a:ea typeface="Akhbar MT"/>
              </a:rPr>
              <a:t>79</a:t>
            </a:r>
            <a:r>
              <a:rPr b="0" lang="ar-SA" sz="2600" spc="-1" strike="noStrike">
                <a:solidFill>
                  <a:srgbClr val="7f7f7f"/>
                </a:solidFill>
                <a:latin typeface="Gill Sans MT"/>
                <a:ea typeface="Akhbar MT"/>
              </a:rPr>
              <a:t>) سؤال ، لكل سؤال بديلين ( </a:t>
            </a:r>
            <a:r>
              <a:rPr b="0" lang="ar-SA" sz="2600" spc="-1" strike="noStrike">
                <a:solidFill>
                  <a:srgbClr val="0099cc"/>
                </a:solidFill>
                <a:latin typeface="Gill Sans MT"/>
                <a:cs typeface="Akhbar MT"/>
              </a:rPr>
              <a:t>نعم ، لا </a:t>
            </a:r>
            <a:r>
              <a:rPr b="0" lang="ar-SA" sz="2600" spc="-1" strike="noStrike">
                <a:solidFill>
                  <a:srgbClr val="7f7f7f"/>
                </a:solidFill>
                <a:latin typeface="Gill Sans MT"/>
                <a:ea typeface="Akhbar MT"/>
              </a:rPr>
              <a:t>) 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7f7f7f"/>
                </a:solidFill>
                <a:latin typeface="Gill Sans MT"/>
                <a:cs typeface="Akhbar MT"/>
              </a:rPr>
              <a:t>يقوم المفحوص ب</a:t>
            </a:r>
            <a:r>
              <a:rPr b="0" lang="ar-SA" sz="2600" spc="-1" strike="noStrike">
                <a:solidFill>
                  <a:srgbClr val="0099cc"/>
                </a:solidFill>
                <a:latin typeface="Gill Sans MT"/>
                <a:cs typeface="Akhbar MT"/>
              </a:rPr>
              <a:t>الإجابة</a:t>
            </a:r>
            <a:r>
              <a:rPr b="0" lang="ar-SA" sz="2600" spc="-1" strike="noStrike">
                <a:solidFill>
                  <a:srgbClr val="9fb8cd"/>
                </a:solidFill>
                <a:latin typeface="Gill Sans MT"/>
                <a:ea typeface="Akhbar MT"/>
              </a:rPr>
              <a:t> </a:t>
            </a:r>
            <a:r>
              <a:rPr b="0" lang="ar-SA" sz="2600" spc="-1" strike="noStrike">
                <a:solidFill>
                  <a:srgbClr val="7f7f7f"/>
                </a:solidFill>
                <a:latin typeface="Gill Sans MT"/>
                <a:cs typeface="Akhbar MT"/>
              </a:rPr>
              <a:t>على المقياس من خلال اختيار إحدى </a:t>
            </a:r>
            <a:r>
              <a:rPr b="0" lang="ar-SA" sz="2600" spc="-1" strike="noStrike">
                <a:solidFill>
                  <a:srgbClr val="0099cc"/>
                </a:solidFill>
                <a:latin typeface="Gill Sans MT"/>
                <a:cs typeface="Akhbar MT"/>
              </a:rPr>
              <a:t>بدائل</a:t>
            </a:r>
            <a:r>
              <a:rPr b="0" lang="ar-SA" sz="2600" spc="-1" strike="noStrike">
                <a:solidFill>
                  <a:srgbClr val="9fb8cd"/>
                </a:solidFill>
                <a:latin typeface="Gill Sans MT"/>
                <a:ea typeface="Akhbar MT"/>
              </a:rPr>
              <a:t> </a:t>
            </a:r>
            <a:r>
              <a:rPr b="0" lang="ar-SA" sz="2600" spc="-1" strike="noStrike">
                <a:solidFill>
                  <a:srgbClr val="7f7f7f"/>
                </a:solidFill>
                <a:latin typeface="Gill Sans MT"/>
                <a:cs typeface="Akhbar MT"/>
              </a:rPr>
              <a:t>الإجابة ( </a:t>
            </a:r>
            <a:r>
              <a:rPr b="0" lang="ar-SA" sz="2600" spc="-1" strike="noStrike">
                <a:solidFill>
                  <a:srgbClr val="0099cc"/>
                </a:solidFill>
                <a:latin typeface="Gill Sans MT"/>
                <a:cs typeface="Akhbar MT"/>
              </a:rPr>
              <a:t>نعم ، لا </a:t>
            </a:r>
            <a:r>
              <a:rPr b="0" lang="ar-SA" sz="2600" spc="-1" strike="noStrike">
                <a:solidFill>
                  <a:srgbClr val="7f7f7f"/>
                </a:solidFill>
                <a:latin typeface="Gill Sans MT"/>
                <a:ea typeface="Akhbar MT"/>
              </a:rPr>
              <a:t>) 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خماسي 4"/>
          <p:cNvSpPr/>
          <p:nvPr/>
        </p:nvSpPr>
        <p:spPr>
          <a:xfrm flipH="1">
            <a:off x="4643280" y="571680"/>
            <a:ext cx="4500720" cy="1143000"/>
          </a:xfrm>
          <a:custGeom>
            <a:avLst/>
            <a:gdLst>
              <a:gd name="textAreaLeft" fmla="*/ 360 w 4500720"/>
              <a:gd name="textAreaRight" fmla="*/ 4501440 w 45007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57" y="0"/>
                </a:lnTo>
                <a:lnTo>
                  <a:pt x="21600" y="10800"/>
                </a:lnTo>
                <a:lnTo>
                  <a:pt x="188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cf1f5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99cc"/>
                </a:solidFill>
                <a:latin typeface="Gill Sans MT"/>
                <a:cs typeface="Led Italic Font"/>
              </a:rPr>
              <a:t>نبذة عن المقياس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7200" y="1428840"/>
            <a:ext cx="8229600" cy="47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7f7f7f"/>
                </a:solidFill>
                <a:latin typeface="Gill Sans MT"/>
                <a:cs typeface="Akhbar MT"/>
              </a:rPr>
              <a:t>يصحح المقياس بالمطابقة بين إجابات المفحوص ، </a:t>
            </a:r>
            <a:r>
              <a:rPr b="0" lang="ar-SA" sz="2600" spc="-1" strike="noStrike">
                <a:solidFill>
                  <a:srgbClr val="0099cc"/>
                </a:solidFill>
                <a:latin typeface="Gill Sans MT"/>
                <a:cs typeface="Akhbar MT"/>
              </a:rPr>
              <a:t>ومفتاح التصحيح </a:t>
            </a:r>
            <a:r>
              <a:rPr b="0" lang="ar-SA" sz="2600" spc="-1" strike="noStrike">
                <a:solidFill>
                  <a:srgbClr val="7f7f7f"/>
                </a:solidFill>
                <a:latin typeface="Gill Sans MT"/>
                <a:ea typeface="Akhbar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7f7f7f"/>
                </a:solidFill>
                <a:latin typeface="Gill Sans MT"/>
                <a:cs typeface="Akhbar MT"/>
              </a:rPr>
              <a:t>كل إجابة تطابق ( </a:t>
            </a:r>
            <a:r>
              <a:rPr b="0" lang="ar-SA" sz="2600" spc="-1" strike="noStrike">
                <a:solidFill>
                  <a:srgbClr val="0099cc"/>
                </a:solidFill>
                <a:latin typeface="Gill Sans MT"/>
                <a:cs typeface="Akhbar MT"/>
              </a:rPr>
              <a:t>مفتاح التصحيح </a:t>
            </a:r>
            <a:r>
              <a:rPr b="0" lang="ar-SA" sz="2600" spc="-1" strike="noStrike">
                <a:solidFill>
                  <a:srgbClr val="7f7f7f"/>
                </a:solidFill>
                <a:latin typeface="Gill Sans MT"/>
                <a:ea typeface="Akhbar MT"/>
              </a:rPr>
              <a:t>) تحصل على </a:t>
            </a:r>
            <a:r>
              <a:rPr b="0" lang="ar-SA" sz="2600" spc="-1" strike="noStrike">
                <a:solidFill>
                  <a:srgbClr val="0099cc"/>
                </a:solidFill>
                <a:latin typeface="Gill Sans MT"/>
                <a:cs typeface="Akhbar MT"/>
              </a:rPr>
              <a:t>درجة </a:t>
            </a:r>
            <a:r>
              <a:rPr b="0" lang="ar-SA" sz="2600" spc="-1" strike="noStrike">
                <a:solidFill>
                  <a:srgbClr val="7f7f7f"/>
                </a:solidFill>
                <a:latin typeface="Gill Sans MT"/>
                <a:cs typeface="Akhbar MT"/>
              </a:rPr>
              <a:t>واحدة 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7f7f7f"/>
                </a:solidFill>
                <a:latin typeface="Gill Sans MT"/>
                <a:cs typeface="Akhbar MT"/>
              </a:rPr>
              <a:t>تجمع الدرجات لنحصل على الدرجة الكلية ( </a:t>
            </a:r>
            <a:r>
              <a:rPr b="0" lang="ar-SA" sz="2600" spc="-1" strike="noStrike">
                <a:solidFill>
                  <a:srgbClr val="0099cc"/>
                </a:solidFill>
                <a:latin typeface="Gill Sans MT"/>
                <a:cs typeface="Akhbar MT"/>
              </a:rPr>
              <a:t>الدرجة الخام </a:t>
            </a:r>
            <a:r>
              <a:rPr b="0" lang="ar-SA" sz="2600" spc="-1" strike="noStrike">
                <a:solidFill>
                  <a:srgbClr val="7f7f7f"/>
                </a:solidFill>
                <a:latin typeface="Gill Sans MT"/>
                <a:ea typeface="Akhbar MT"/>
              </a:rPr>
              <a:t>) 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7f7f7f"/>
                </a:solidFill>
                <a:latin typeface="Gill Sans MT"/>
                <a:ea typeface="Akhbar MT"/>
              </a:rPr>
              <a:t> يتم تحويل الدرجة الخام إلى </a:t>
            </a:r>
            <a:r>
              <a:rPr b="0" lang="ar-SA" sz="2600" spc="-1" strike="noStrike">
                <a:solidFill>
                  <a:srgbClr val="0099cc"/>
                </a:solidFill>
                <a:latin typeface="Gill Sans MT"/>
                <a:cs typeface="Akhbar MT"/>
              </a:rPr>
              <a:t>درجة مئينية </a:t>
            </a:r>
            <a:r>
              <a:rPr b="0" lang="ar-SA" sz="2600" spc="-1" strike="noStrike">
                <a:solidFill>
                  <a:srgbClr val="7f7f7f"/>
                </a:solidFill>
                <a:latin typeface="Gill Sans MT"/>
                <a:cs typeface="Akhbar MT"/>
              </a:rPr>
              <a:t>وفقا للجدول صفحة </a:t>
            </a:r>
            <a:r>
              <a:rPr b="0" lang="ar-SA" sz="2600" spc="-1" strike="noStrike">
                <a:solidFill>
                  <a:srgbClr val="7f7f7f"/>
                </a:solidFill>
                <a:latin typeface="Gill Sans MT"/>
                <a:ea typeface="Akhbar MT"/>
              </a:rPr>
              <a:t>27</a:t>
            </a:r>
            <a:r>
              <a:rPr b="0" lang="ar-SA" sz="2600" spc="-1" strike="noStrike">
                <a:solidFill>
                  <a:srgbClr val="7f7f7f"/>
                </a:solidFill>
                <a:latin typeface="Gill Sans MT"/>
                <a:ea typeface="Akhbar MT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خماسي 4"/>
          <p:cNvSpPr/>
          <p:nvPr/>
        </p:nvSpPr>
        <p:spPr>
          <a:xfrm flipH="1">
            <a:off x="4643280" y="500040"/>
            <a:ext cx="4500720" cy="1285920"/>
          </a:xfrm>
          <a:custGeom>
            <a:avLst/>
            <a:gdLst>
              <a:gd name="textAreaLeft" fmla="*/ 360 w 4500720"/>
              <a:gd name="textAreaRight" fmla="*/ 4501440 w 450072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cf1f5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99cc"/>
                </a:solidFill>
                <a:latin typeface="Gill Sans MT"/>
                <a:cs typeface="Diwani Letter"/>
              </a:rPr>
              <a:t>طريقة تصحيح المقياس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457200" y="1428840"/>
            <a:ext cx="8229600" cy="47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7f7f7f"/>
                </a:solidFill>
                <a:latin typeface="Gill Sans MT"/>
                <a:cs typeface="Akhbar MT"/>
              </a:rPr>
              <a:t>بعد تحويل الدرجة </a:t>
            </a:r>
            <a:r>
              <a:rPr b="0" lang="ar-SA" sz="2600" spc="-1" strike="noStrike">
                <a:solidFill>
                  <a:srgbClr val="0099cc"/>
                </a:solidFill>
                <a:latin typeface="Gill Sans MT"/>
                <a:cs typeface="Akhbar MT"/>
              </a:rPr>
              <a:t>الخام إلى مئينية </a:t>
            </a:r>
            <a:r>
              <a:rPr b="0" lang="ar-SA" sz="2600" spc="-1" strike="noStrike">
                <a:solidFill>
                  <a:srgbClr val="7f7f7f"/>
                </a:solidFill>
                <a:latin typeface="Gill Sans MT"/>
                <a:cs typeface="Akhbar MT"/>
              </a:rPr>
              <a:t>، يتم </a:t>
            </a:r>
            <a:r>
              <a:rPr b="0" lang="ar-SA" sz="2600" spc="-1" strike="noStrike">
                <a:solidFill>
                  <a:srgbClr val="0099cc"/>
                </a:solidFill>
                <a:latin typeface="Gill Sans MT"/>
                <a:cs typeface="Akhbar MT"/>
              </a:rPr>
              <a:t>تصنيفها </a:t>
            </a:r>
            <a:r>
              <a:rPr b="0" lang="ar-SA" sz="2600" spc="-1" strike="noStrike">
                <a:solidFill>
                  <a:srgbClr val="7f7f7f"/>
                </a:solidFill>
                <a:latin typeface="Gill Sans MT"/>
                <a:cs typeface="Akhbar MT"/>
              </a:rPr>
              <a:t>وفقا للجدول التالي 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خماسي 4"/>
          <p:cNvSpPr/>
          <p:nvPr/>
        </p:nvSpPr>
        <p:spPr>
          <a:xfrm flipH="1">
            <a:off x="4643280" y="500040"/>
            <a:ext cx="4500720" cy="1285920"/>
          </a:xfrm>
          <a:custGeom>
            <a:avLst/>
            <a:gdLst>
              <a:gd name="textAreaLeft" fmla="*/ 360 w 4500720"/>
              <a:gd name="textAreaRight" fmla="*/ 4501440 w 450072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cf1f5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99cc"/>
                </a:solidFill>
                <a:latin typeface="Gill Sans MT"/>
                <a:cs typeface="Diwani Letter"/>
              </a:rPr>
              <a:t>طريقة تصحيح المقياس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714680" y="3286080"/>
          <a:ext cx="6095880" cy="185436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99cc"/>
                          </a:solidFill>
                          <a:latin typeface="Gill Sans MT"/>
                        </a:rPr>
                        <a:t>التصني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5760">
                      <a:solidFill>
                        <a:srgbClr val="9fb8cd"/>
                      </a:solidFill>
                    </a:lnT>
                    <a:lnB w="12240">
                      <a:solidFill>
                        <a:srgbClr val="9fb8c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99cc"/>
                          </a:solidFill>
                          <a:latin typeface="Gill Sans MT"/>
                        </a:rPr>
                        <a:t>الدرجة المئيني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5760">
                      <a:solidFill>
                        <a:srgbClr val="9fb8cd"/>
                      </a:solidFill>
                    </a:lnT>
                    <a:lnB w="12240">
                      <a:solidFill>
                        <a:srgbClr val="9fb8cd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منخفض جدا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12240">
                      <a:solidFill>
                        <a:srgbClr val="9fb8cd"/>
                      </a:solidFill>
                    </a:lnT>
                    <a:lnB w="5760">
                      <a:solidFill>
                        <a:srgbClr val="9fb8cd"/>
                      </a:solidFill>
                    </a:lnB>
                    <a:solidFill>
                      <a:srgbClr val="9fb8c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فاقل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12240">
                      <a:solidFill>
                        <a:srgbClr val="9fb8cd"/>
                      </a:solidFill>
                    </a:lnT>
                    <a:lnB w="5760">
                      <a:solidFill>
                        <a:srgbClr val="9fb8cd"/>
                      </a:solidFill>
                    </a:lnB>
                    <a:solidFill>
                      <a:srgbClr val="9fb8cd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منخفض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5760">
                      <a:solidFill>
                        <a:srgbClr val="9fb8cd"/>
                      </a:solidFill>
                    </a:lnT>
                    <a:lnB w="5760">
                      <a:solidFill>
                        <a:srgbClr val="9fb8c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-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5760">
                      <a:solidFill>
                        <a:srgbClr val="9fb8cd"/>
                      </a:solidFill>
                    </a:lnT>
                    <a:lnB w="5760">
                      <a:solidFill>
                        <a:srgbClr val="9fb8cd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متوسط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5760">
                      <a:solidFill>
                        <a:srgbClr val="9fb8cd"/>
                      </a:solidFill>
                    </a:lnT>
                    <a:lnB w="5760">
                      <a:solidFill>
                        <a:srgbClr val="9fb8cd"/>
                      </a:solidFill>
                    </a:lnB>
                    <a:solidFill>
                      <a:srgbClr val="9fb8c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-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5760">
                      <a:solidFill>
                        <a:srgbClr val="9fb8cd"/>
                      </a:solidFill>
                    </a:lnT>
                    <a:lnB w="5760">
                      <a:solidFill>
                        <a:srgbClr val="9fb8cd"/>
                      </a:solidFill>
                    </a:lnB>
                    <a:solidFill>
                      <a:srgbClr val="9fb8cd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مرتف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5760">
                      <a:solidFill>
                        <a:srgbClr val="9fb8cd"/>
                      </a:solidFill>
                    </a:lnT>
                    <a:lnB w="5760">
                      <a:solidFill>
                        <a:srgbClr val="9fb8c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1-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9fb8cd"/>
                      </a:solidFill>
                    </a:lnL>
                    <a:lnR w="5760">
                      <a:solidFill>
                        <a:srgbClr val="9fb8cd"/>
                      </a:solidFill>
                    </a:lnR>
                    <a:lnT w="5760">
                      <a:solidFill>
                        <a:srgbClr val="9fb8cd"/>
                      </a:solidFill>
                    </a:lnT>
                    <a:lnB w="5760">
                      <a:solidFill>
                        <a:srgbClr val="9fb8c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6T15:20:33Z</dcterms:created>
  <dc:creator>المستخدم</dc:creator>
  <dc:description/>
  <dc:language>en-US</dc:language>
  <cp:lastModifiedBy>المستخدم</cp:lastModifiedBy>
  <dcterms:modified xsi:type="dcterms:W3CDTF">2016-10-16T16:03:55Z</dcterms:modified>
  <cp:revision>6</cp:revision>
  <dc:subject/>
  <dc:title>مقياس الطموح</dc:title>
</cp:coreProperties>
</file>