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5D6-F849-43C0-B1F4-5D84F7F5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74E-413E-4EED-ACA6-AC53F960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473-937A-4402-B0A4-94E3E6E0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D8D-101F-4354-BB42-B7C45FD8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946-4890-4A6E-8553-631B8AB3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74B-61D0-4393-8274-48D5EB1D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A5B-D21A-467D-94EE-CE3F6081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EBA-B5A0-4A9D-BCD6-9A10879C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95F-F009-4749-804E-A7CDE680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188-7943-4A8D-AA5B-0F78BDCE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649-779D-4BF4-BCD4-4EFA9F15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39F-9DD1-4BB7-A131-4E2B7C08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5A34-79E4-49E5-B931-8A4F6BC06F1B}" type="slidenum">
              <a:rPr b="0" lang="ar-E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مقاييس الحركة والاتصا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علماً بأن المسافات أ  ب 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سم &amp; أ  د 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سم &amp; ب جـ 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سم &amp; د هـ 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سم &amp; جـ د 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س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Dr- Mohamed Shawqy\Desktop\1.png"/>
          <p:cNvPicPr/>
          <p:nvPr/>
        </p:nvPicPr>
        <p:blipFill>
          <a:blip r:embed="rId1"/>
          <a:stretch/>
        </p:blipFill>
        <p:spPr>
          <a:xfrm>
            <a:off x="1500120" y="2290680"/>
            <a:ext cx="6000840" cy="3138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    إذا نظرنا إلى الشكل فإنه يمكن الانتقال من النقطة أ إلى ب دون أن تغير الطريق أو الوسيلة المستخدمة ، كذلك الحال بين أى نقطتين متتاليتين ، لكن عند الانتقال من أ إلى جـ مثلاً فلابد من المرور من النقطة ب وتغيير الطريق وهكذ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استناداً لذلك يمكن بناء مصفوفة توضح عدد التغيرات عند الانتقال بين النقاط والتى تلزم للوصول بين كل نقطة من هذه النقاط كما يلى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84360" y="1052640"/>
          <a:ext cx="7704000" cy="5113080"/>
        </p:xfrm>
        <a:graphic>
          <a:graphicData uri="http://schemas.openxmlformats.org/drawingml/2006/table">
            <a:tbl>
              <a:tblPr/>
              <a:tblGrid>
                <a:gridCol w="1287360"/>
                <a:gridCol w="1287360"/>
                <a:gridCol w="800280"/>
                <a:gridCol w="799920"/>
                <a:gridCol w="800280"/>
                <a:gridCol w="799920"/>
                <a:gridCol w="798480"/>
                <a:gridCol w="1130400"/>
              </a:tblGrid>
              <a:tr h="744120"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إمكـــــانية الوصـــــــ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ج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ق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11360">
                <a:tc>
                  <a:txBody>
                    <a:bodyPr lIns="0" rIns="0" tIns="0" bIns="0" anchor="t">
                      <a:noAutofit/>
                    </a:bodyPr>
                    <a:p>
                      <a:pPr algn="ctr" rtl="1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رت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م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9840"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120"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1880"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2000"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9760"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ف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936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ه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  وتبين هذه المصفوفة عدد التغيرات اللازمة فى وسائل النقل للاتصال بين النقاط ، وأقلهم فى الرتبة هى أكثر النقاط أفضلية وهى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نقطة د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حيث يمكن أن تتصل ببقية المراكز دون حاجة سوى إلى تغيير واحد ، وتعتبر هذه النقطة عقدة أو مركزاً لبقية النقاط تحقق سهولة الاتص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تمري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  أ ، ب ، جـ ، د ، هـ ، و نقاط مختلفة . يبين الشكل التغير فى وسائل النقل للاتصال بينها ، والمطلوب معرفة أكثر النقاط أفضلية من حيث امكانية الوصو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2" descr=""/>
          <p:cNvPicPr/>
          <p:nvPr/>
        </p:nvPicPr>
        <p:blipFill>
          <a:blip r:embed="rId1"/>
          <a:stretch/>
        </p:blipFill>
        <p:spPr>
          <a:xfrm>
            <a:off x="1611360" y="2125800"/>
            <a:ext cx="5921280" cy="2423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أدنى مسافة يمكن أن تقطع للوصول بين نقطتي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إذا نحينا جانباً وسائل التغيرات فى طرق النقل وتعاملنا مع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مساف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باعتبارها متغير له دور فى وسائل الاتص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عتماداً على الشكل الأول فإن المسافة بين أ ، ب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كم ( بعد التحويل بمقياس الرسم ) ، ثم إلى د تصبح أطول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ك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من ثم يمكن بناء مصفوفة تبين أقصر مسافة ممكنة بين هذه النقاط على النحو التالى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2" descr=""/>
          <p:cNvPicPr/>
          <p:nvPr/>
        </p:nvPicPr>
        <p:blipFill>
          <a:blip r:embed="rId1"/>
          <a:stretch/>
        </p:blipFill>
        <p:spPr>
          <a:xfrm>
            <a:off x="-1476360" y="1268280"/>
            <a:ext cx="10152000" cy="5037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يلاحظ هنا أن المصفوفة هدفها إظهار دور المسافة فى إمكانية الاتصال بين المراكز المختلفة بغض النظر عن الاعتبارات الأخرى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فى هذه الحالة تمثل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نقطة جـ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46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كم ) والتى تحتل المرتبة الأولى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علاقة المسافة بالأهمية النسبية لكل نقط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قد لا تتساوى هذه النقاط فى أهميتها على الطبيعة إذ أنها تمثل خمس مدن متفاوتة فى الحجم السكانى بحيث تكون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،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ألف نسمة لكل واحدة منها على الترتيب مثلاً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ابد هنا من إدخال قيمة كل حجم من هذه الأحجام لإبراز الأهمية النسبية لكل منها بجانب عامل المساف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دور النقل فى تحقيق التنمي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    يعد النقل على كافة فروعه مؤشراً مهماً لقياس تقدم الدول على اختلاف مستوياتها ، ويرتبط النقل ارتباطاً وثيقاً بالتنمية فالحركة من مكان لأخر سواء للأفراد أو للمواد الخام أو للمنتجات لها أهميتها في تحقيق مطالب التنمية الاقتصادية ، وفى تلبية حاجات الأفراد وأهداف المجتم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إذا فرض أن مصنعاً للألبان سيقام لخدمة هذه المراكز الخمس ، وأن حجم السكان هو المتغير الرئيس المؤثر على توزيع هذه المنتجات وتريد الجهة المسئولة عن إقامته معرفة أنسب هذه المدن من حيث إمكانية توزيع أو توصيل المنتجات فإنه يمكن ادخال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حجم السكان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فى كل مدينة كمتغير لمعايرة القيمة الفعلية للاستهلاك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ويمكن بناء المصفوفة التالي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857160"/>
          <a:ext cx="8229600" cy="5534280"/>
        </p:xfrm>
        <a:graphic>
          <a:graphicData uri="http://schemas.openxmlformats.org/drawingml/2006/table">
            <a:tbl>
              <a:tblPr/>
              <a:tblGrid>
                <a:gridCol w="1047600"/>
                <a:gridCol w="100980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وصو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رت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إمكانية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جم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ج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النقط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1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6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9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3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9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4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9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ج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4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8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6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9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3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1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ه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هذه المصفوفة تبين دور المسافة والحجم السكانى لهذه المدن الخمس ، بحيث يتم معايرة المسافة بالأهمية النسبية لكل مدينة سكانياً ، وذلك بضرب بُعد المدينة الأولى فى وزنها السكانى والذى يمكن أن يشار إليه باعتباره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وفى الحالة الثاني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، حسب أحجام المد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وبذلك فإن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مدينة د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هى التى تحقق أقل التكاليف فى توزيع منتجات الألبان بفرض عدم تأثير متغيرات أخرى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محاولة ادماج أكثر من نوع من الأنواع السابقة ومعرفة دوره فى النقل</a:t>
            </a:r>
            <a:br>
              <a:rPr sz="2800"/>
            </a:b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المسافة والتغيير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هدف هذه الطريقة إلى عمل أكثر من مصفوفة مثل التغيير والمسافة مثلاً ، فيميل المسافر أو من ينقل السلع والمنتجات إلى التقليل بقدر الإمكان من المسافة والتغيير فى وسائل النق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فإذا فرضنا أن التغيير فى وسائل النقل يساوى فى تكلفته إضاف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كم للمسافة ورجعنا إلى الجدول الذى يبين عدد مرات التغيير فى وسائل النقل فممكن أن نجمع النتائج فى مصفوفتين كما يلى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57200" y="857160"/>
          <a:ext cx="8229600" cy="5337360"/>
        </p:xfrm>
        <a:graphic>
          <a:graphicData uri="http://schemas.openxmlformats.org/drawingml/2006/table">
            <a:tbl>
              <a:tblPr/>
              <a:tblGrid>
                <a:gridCol w="1646280"/>
                <a:gridCol w="1260360"/>
                <a:gridCol w="2030400"/>
                <a:gridCol w="2141640"/>
                <a:gridCol w="1150920"/>
              </a:tblGrid>
              <a:tr h="21042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وص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رت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إمكان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س + 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مجموع المسافات الفعلية  ( المصفوفة الثانية )      ( ص 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التغير بين النقاط كما هو فى المصفوفة الأولى    ( س 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Simplified Arabic"/>
                        </a:rPr>
                        <a:t>النق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69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 =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65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=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65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 =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ج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65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=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65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×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0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=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735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ه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0000"/>
                </a:solidFill>
                <a:latin typeface="Calibri"/>
              </a:rPr>
              <a:t>تمرين واجب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    الجدول التالى يمثل المسافات بالكم بين خمس من المدن المصرية ، فحدد إمكانية الوصول بينها بالطرق على فرض أن هذه المدن متساوية الحجم السكانى ، ثم إذا علمت أن أحجامها السكانية هى على الترتيب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 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٫3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 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٫3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 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٫15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يون نسم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دخلها كمعيارللأهمية النسبية لكل مدينة، وبين أيضاً إمكانية الاتصال بينها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714240"/>
          <a:ext cx="8391600" cy="56581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53360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كفر الدو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دمنهو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طنط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إسكندر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قاه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دين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752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قاه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1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إسكندر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71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طنط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1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منهو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752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كفر الدو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     والنقل عصب رئيس فى العملية الإنتاجية ومقوم جوهرى لعمليات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تنمية الإقتصادي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سواء كانت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تنمية زراعي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م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صناعي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كما ينشط حركة التجارة والسياحة ، بالإضافة أن النقل يقوم بدور مهم فى تحقيق أهداف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تنمية الإجتماعي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فشبكات النقل وخطوط الكهرباء وأنابيب نقل المياة والغاز الطبيعى وشبكات الإتصالات السلكية والبريد تمثل شرايين حياة المدن ونموها العمرانى والسكانى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    كما يساعد النقل فى تحقيق الترابط بين المراكز     العمرانية ، بالإضافة إلى دوره فى خدمة الأنشطة التعليمية والصحية والترفيهية والثقافية التى تستهدف تنمية السكان والإرتقاء بمستواهم الحضارى وتأهلهم فى المشاركة الإيجابية فى مجالات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تنمية الشامل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حيث تنقل الحركة والنشاط إلى المناطق التى تمتد إليها ، وبدون النقل يقف أى إقليم عاجزاً عن التنم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     تُمثل قنوات النقل على الخريطة بخطوط تعرف بخطوط الحركة ، وعندما يلتقى خطان أو أكثر في نقطة تسمى عقدة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od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أما الخطوط التي تصل إليها تسمى روابط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inks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وعندما يتكون نظاماً متكاملاً تسمى شبكات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etworks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 وفيما يلى بعض أساليب التحليل الكمى المستخدمة فى دراسة الشبكات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14316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- امكانية الاتصال بين مراكز الحرك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3840" y="571320"/>
            <a:ext cx="8472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هى تُدرس من خلال عدد الطرق التى تصل إلى مركز معين ، أى من خلال تدفق الحركة إلى هذا المركز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ذلك يمكن قيا س مدى الدور المركزى الذى تلعبه مدينة ما فى أداء وظائف محددة للمناطق التى تحيط بها من خلال عدد الطرق التى تربطها بهذه المناطق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يعد بناء مصفوفات الاتصال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ccessibility Matrix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سهل الطرق المستخدمة فى قياس دور كل مركز لتجمع طرق النقل كمياً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وتبنى هذه المصفوفات من خلال أربع متغيرات أساسية هى 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- عدد التغيرات التى تحدث فى وسائل النقل للوصول بين نقطت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ب- أدنى مسافة يمكن أن تقطع للوصول بين نقطت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جـ- علاقة المسافة بالأهمية النسبية لكل نقط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د- محاولة ادماج أكثر من نوع من الأنواع السابقة ومعرفة دوره فى النق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عدد التغيرات التى تحدث فى وسائل النقل للوصول بين نقطتين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   أ ، ب ، جـ ، د ، هـ ، و نقاط مختلفة . يبين الشكل التغير فى وسائل النقل للاتصال بينها ، والمطلوب معرفة أكثر النقاط أفضلية من حيث امكانية الوصو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4T19:31:28Z</dcterms:created>
  <dc:creator>Dr- Mohamed Shawqy</dc:creator>
  <dc:description/>
  <dc:language>en-US</dc:language>
  <cp:lastModifiedBy>user</cp:lastModifiedBy>
  <dcterms:modified xsi:type="dcterms:W3CDTF">2017-10-23T17:24:22Z</dcterms:modified>
  <cp:revision>13</cp:revision>
  <dc:subject/>
  <dc:title>مقاييس الحركة والاتصال</dc:title>
</cp:coreProperties>
</file>