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4A2695-B27A-48BB-B64D-2404F51362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2D9A06-3C2E-4B15-AAD2-B6692FB076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BBE461-632E-44B2-907D-DC74A0C28DE0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5CE9D5-E2D2-4F73-9743-B463EADC195D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C301CF-2CF8-4EE4-806D-289024FBAEF2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2609D0-EB43-4233-93EF-6E5D5551F7C2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E5DB-DB52-47B5-887B-8A19DE106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D8B3-F51E-4BF7-AA31-1338A0B7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1C4CE1-FB7E-44ED-9AC6-D67FE674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D78AFC-9EFB-4495-BB5F-E68A7667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C1186-ACD8-4AB6-AE48-DA52F269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E1F29-7ECA-4564-AF79-FF86BC82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04DB8F-3222-4A63-82CE-F9D355D7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9596C-FA2D-4246-A82D-BBF66053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1E7A6-EB7B-4FC8-84B1-591E54FF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C2FE2-0221-4A0A-B8B8-2E17A5530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BE4DE5-AAB4-436A-857C-CBAFFD6DE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96AF89-52D6-49BE-B7E0-F87591861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D49B-BF9A-44ED-9FC3-53953A1DD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E8C11C-287C-4890-963B-7E657662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7DDA8C-56E0-4617-8AB3-DDE026ED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725D4-999D-401C-B261-36C44978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BA66A-F37B-426D-B841-76593C48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2B1E12-BEF1-4847-BFA9-5F94F7F3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B60352-F7A4-46C6-8EAD-50CDBD66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30F3DC-8A0C-4F03-8E64-D8608932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CEC001-CA5C-4807-8337-C4FB083D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981DAD-120B-4E11-BB0A-0E251783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9618F-C5CB-4622-A075-10353642D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B9ED-4831-4907-B3A6-D03904DE4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BBD01F-6A26-4297-B995-E9C619A39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7B1BB-152D-4A78-9365-5969326C3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0A79AD-BF94-4AC8-9100-1960118C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960AE-8A5E-48EB-9614-3E56F79E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06AAC-7635-443C-9AD5-6B5B47BD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34D13-4C35-49F4-884A-DDF4C643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A7023-3E6F-421E-9D90-A9FECC74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5B0ECA-F31F-4CF1-9D25-64878681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D20AB-5CDF-408D-936F-964FE18C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E7C02-0031-448E-AEC5-DD5B2CD1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E54F-EB5C-4334-90BD-2141E3C7C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27732-49F7-4755-A0C8-CFDDD3AA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D50C7-B45E-4E06-8891-1BF7141C4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D2672-F546-4F85-8551-E5DACFA46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42835E-5E72-4707-938A-BC103FFA8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473C7D-DE90-4030-B035-C4D2923C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F2BE12-72E5-40EF-BD15-500992C9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C55FA7-ACBB-4DD6-8B55-BFD63301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9779A4-DDE9-46DB-A100-3FF97CAE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2DE2FE-44BF-4CC7-BAA6-325D3BB6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CC0AC8-ECA7-49A6-B3C1-2CBB596B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3D43-8F8F-4A71-A47C-EBF59E20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7C5246-70AD-461D-AB0B-6B01951E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02159F-FC27-4953-8170-3FD1C78F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80A941-58D6-4E92-8097-362A40B6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EB9EDE-0FFD-45C7-8543-9F531AB5C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47BAC1-BC7C-4F17-BEBD-84C52301E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F72BD0-3DE7-4D2A-98B0-4221FA3A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B18AA2-E7DB-4D4A-B665-62DA3EDE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00F317-361A-4EED-9967-2C7BFEB0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4ADB64-6677-4306-B4D0-3AD96220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B7D5E4-FC56-4152-872F-040EA2CF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5086-57EC-4AE4-9796-8211F7DE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8281CC-984E-438F-B9A1-726F93B8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2635DD-10BC-4791-97FF-1FA26125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BE4786-0A77-4BD9-AA1D-F3C88E65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7B82CE-6EE3-469B-AE31-ED3AE8EC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67678F-8BB8-4B07-BDAF-5550B2DB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B2AA13-C759-4916-8C79-E5706390C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67D587-9F69-4223-BE51-464F60B05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EC1956-7ED0-4E25-81C6-BBBA2A1A6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515E05-77D2-44CF-B537-ACDF1ACD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D90829-A92A-4439-B5ED-52687DF2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E828-92E1-4DD0-94B4-FDA06B12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862E7A-AFF5-4468-A878-84F18DF6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8F82C0-E50C-46CA-9CA7-B278E794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6D4FD9-236A-4D3A-B915-5CCB2622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D0889A-4600-4447-8E2D-CBE619DA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35AA49-0063-4B8B-8263-3CA283B6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E11D21-1EBE-4500-8206-0A5155F8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0CD3E8-49CF-48DB-BDD7-F388D6C6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C11B05-46F4-4C6E-A539-8A257DD73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260517-94F2-446A-A77F-4C74BE3A3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A46D04-9965-48AC-97EF-2F9F36530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C1DF-10BD-46C6-B298-52E3DEB7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C592B6-ADEA-4723-8BA1-34CA1643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8A37D3-C914-48DE-AE58-F26CD364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6622D5-F8D0-494F-9D52-326257DD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333EE7-77AE-4037-8381-CCC5E2D2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8DC9D8-EE37-4C03-9E4A-959C9FDB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4033B3-1DA5-45DF-AE46-96F08B5E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CDB32E-C253-41EC-ACC2-FF94F365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1BAED5-4AA8-45DC-AEBA-596F348A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EE11D2-312C-47F5-BD8C-8EEDAD11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17CDFA-2930-4D9F-9436-E18DB41A5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13AF1-C8C5-4EAC-9167-F221D094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C00A67-1074-4F82-8A84-935990229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90E18B-1D45-4730-AC75-C6B88EFDB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65316F-C2C2-4905-8722-307D8245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6181BF-52A6-4A39-A0C1-861B4A59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9B1362-2EAA-480F-ACE7-50F84D76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0E38E1-0545-49BC-AFFA-FC9151D9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2AF535-625D-4BED-97C1-9A29A443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FDB9DF-5023-4FD4-9CC6-C3E2C671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72DCAA-E34A-4D1B-A597-0C89C0F3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2191C2-9F91-4E8C-8254-58C8C5C6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95B8-A5CE-4002-B5F6-05B92208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3CAE4C-CEF6-4FAF-844B-7281ED7E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EF1F32-18DE-46D2-A3B7-433297BF4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44521F-6115-46BD-8FCE-54F2B889E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0B86AB-77FF-496B-9859-3822ED772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9A45DA-0456-4260-A817-0B4D6E74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A6C760-24D2-4EAE-8FB2-FB6EE829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71DBD3-FEA3-4CBB-8322-C7F02F23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47415C-E6D8-409F-8D8F-75EDD2CC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DAAA12-0FC9-4EFB-A675-A72BF3E6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046AC0-0A31-417C-8ADF-B584EB3F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1267-E897-4ABB-962F-3D220DEA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F5B3-266E-4865-89E7-647AA347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FA8A7E-9AB6-48B9-99DF-D4F2F1C4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266872-C565-49D5-AD15-DEAD54BC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107C40-589F-4A27-851B-AD7C3334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0946C8-AF84-4E69-908A-2439547DC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B07A12-E7C4-40D1-874F-80FC9A33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DDAF-10B1-43D8-BE2F-0E6702B5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013C-61ED-4710-BB0E-52E62F58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ABE8-C233-4402-AF84-B330F10D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2CC6-9444-4E26-AC53-1E5B3EA36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E9280-829C-4D1C-A913-47D8E82DE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704B6-7D8C-4C92-B1AA-E9C6DB42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31180-6503-4284-855C-0FE6CF8F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3C0D5-15E2-4462-9DEB-2A7B89C7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04924-F5F2-454A-A8ED-0C6C1AA5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C216-3D66-4FDB-969F-A4A73339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5E2C8-97AE-43B3-B197-8AD14B8A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E09DB-694E-47D3-A527-63EBE4CB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6D570-D6EC-4DE0-A327-3E29063D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BBDC5-D864-4252-902C-1C064F04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4FE57-4672-4975-8F14-58C61029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82E9E-13B0-44EC-94A3-C79A2A410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2084D-5CED-434D-9990-BD2A423BE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CBD0A-52A1-42BA-92FB-B683793B2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7E6A9-FDAF-4969-B9FE-16C0F585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84D35-1165-40E8-A255-5446410C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7490-70CF-4450-B965-5EF043FF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1FDAB-7F69-417E-907D-AC32BCE2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4669E-EDA1-4508-9A6C-71155CA2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73C0B-B2CC-4151-9487-701E20AB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93D27-E74B-4805-9D9E-C1CE8952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04ED8-61AB-4A8C-8A9F-7BB98777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49048-1148-4D7D-A3F8-E5AA4DA6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C0CEA-6A44-475D-8CA3-7EF8C896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1BE50-0636-4096-AB2B-CE74C9BD5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B6203-3A7C-45DA-8332-A985DA42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8475D-050F-48B9-AEC1-F6C0E2466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7B17-47F6-459E-A667-94ECAC58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F04D0-6DB4-48E8-A2A0-B90656F7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BB538-1157-4F37-A35E-C2FAB8BF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B0243-4AEB-4D06-9D54-337A1460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9EC01-F51F-4180-96F2-5C4F4C86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AE4C3-4C8B-4718-A914-DD15E336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15B3C-A168-4E82-AF20-63E188E5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73CDC-5A29-4EA2-916C-A0DA5CA0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7E600-0943-42AA-9FCA-E0AF73CB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BA1A7-5330-4936-B442-EB106181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152D4-45BA-4352-8795-9A95B106E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EFA7-226A-4402-BBF6-21FA1F5B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2F07A-88AA-40FD-995E-F10002DAC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B9C30-7C80-4026-9668-2A0170451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389F5-5300-4585-B6B6-C13E3CB4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DF203-A19E-4924-B4C6-4B0478CE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59AAA-78EF-492B-BD31-06F898F2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19D13-76E8-4249-9409-8FC998D8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292CA-ED68-4766-AA63-BB7DC3D1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C7DDE-14AE-4524-812A-BE4BAE58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31B2F-498F-4D64-9ACF-ADE09CA1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6D339-1211-4308-82E1-BC8ECE0F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59C9-E173-4E10-A00F-F060ADB9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2555F-ADF8-4110-9034-95BD8FE1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89EA0-5397-42A2-BAED-968017456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8FD9B-87B9-4B3F-ADB4-CBB7F28A5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E9F5D-DC53-4217-A3A5-229EF9404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1280B-4AB0-41C0-BBD1-728A26B1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857CD-02F4-4EA5-8E2E-3735284E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8C4E6-C3FE-4C37-ADEC-4F4C03DD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702A3-482D-4B5B-89A7-2BEEE973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9764E-BC13-4C45-A60E-F759F43F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96A47-6758-4734-8417-DF36B92E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654E-5601-4157-9F6B-424D1D38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686AD-D41E-40FF-B7D3-13CF3B8D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F0ED8-38EE-4B73-984C-E93911B1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E509D-F809-407F-91F3-12F9D769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C7EFA-0E50-495B-89F7-FD19EB071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BFB06-C07B-4E22-918C-85D2E5726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F20B2-5B87-4CF3-91BE-6276FDD95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81053-702C-4044-9656-78B3B52E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D0AD4-8EE1-4E97-AA3B-4F97BD3A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AA608-5857-4719-BD6B-CADEB005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63283-FB46-4806-BF78-6CF791A8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FF12-B53E-4DAA-8751-C9A44538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31F17-5F7D-4CC9-8EEB-768C19B1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6EAA0-D5DE-476A-81CB-136CCB8E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25628-66A2-4936-948D-B5C11E55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12A01-F9C1-4E74-BC17-FC1E67FB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5BE75-6ADB-4905-8DA1-85135BC8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3BE72-ACC5-4061-9CAA-BC5BAFD7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DD688-C7E1-4A01-A365-42E611B97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214B2-82F1-44A3-B50C-D93CF0489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B9650-9386-4F09-9FAA-447340EA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EB796-04BC-4E36-A4FE-29E4A93F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002D35-3119-4B76-A1F1-D11432003917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DE9037-C648-4294-B49F-0B1BAE33B844}" type="slidenum">
              <a:rPr b="1" lang="en-US" sz="14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6"/>
          <p:cNvGrpSpPr/>
          <p:nvPr/>
        </p:nvGrpSpPr>
        <p:grpSpPr>
          <a:xfrm>
            <a:off x="284040" y="452520"/>
            <a:ext cx="8575920" cy="137880"/>
            <a:chOff x="284040" y="452520"/>
            <a:chExt cx="8575920" cy="137880"/>
          </a:xfrm>
        </p:grpSpPr>
        <p:sp>
          <p:nvSpPr>
            <p:cNvPr id="415" name="Rectangle 7"/>
            <p:cNvSpPr/>
            <p:nvPr/>
          </p:nvSpPr>
          <p:spPr>
            <a:xfrm>
              <a:off x="284040" y="452520"/>
              <a:ext cx="1600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1884240" y="452520"/>
              <a:ext cx="2743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4626000" y="45252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608373-C93B-4D36-BC53-5C08F8F7DD2B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F4F630-4293-4397-BEEA-19156CE101FE}" type="slidenum">
              <a:rPr b="1" lang="en-US" sz="14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6"/>
          <p:cNvGrpSpPr/>
          <p:nvPr/>
        </p:nvGrpSpPr>
        <p:grpSpPr>
          <a:xfrm>
            <a:off x="284040" y="452520"/>
            <a:ext cx="8575920" cy="137880"/>
            <a:chOff x="284040" y="452520"/>
            <a:chExt cx="8575920" cy="137880"/>
          </a:xfrm>
        </p:grpSpPr>
        <p:sp>
          <p:nvSpPr>
            <p:cNvPr id="460" name="Rectangle 7"/>
            <p:cNvSpPr/>
            <p:nvPr/>
          </p:nvSpPr>
          <p:spPr>
            <a:xfrm>
              <a:off x="284040" y="452520"/>
              <a:ext cx="1600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1884240" y="452520"/>
              <a:ext cx="2743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4626000" y="45252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1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ED2908-9DF8-44E7-B2D5-5496A0F38090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2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3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C4C2CD-10DD-43B5-9062-C0EFF05BD3B8}" type="slidenum">
              <a:rPr b="1" lang="en-US" sz="14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506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4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A5E66B-D0EE-43A3-886C-3D7ED67C3D0E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5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6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34EEA0-DFD7-40D6-936D-B134FCBBAFFD}" type="slidenum">
              <a:rPr b="1" lang="en-US" sz="14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8"/>
          <p:cNvGrpSpPr/>
          <p:nvPr/>
        </p:nvGrpSpPr>
        <p:grpSpPr>
          <a:xfrm>
            <a:off x="284040" y="4280040"/>
            <a:ext cx="8575920" cy="137880"/>
            <a:chOff x="284040" y="4280040"/>
            <a:chExt cx="8575920" cy="137880"/>
          </a:xfrm>
        </p:grpSpPr>
        <p:sp>
          <p:nvSpPr>
            <p:cNvPr id="551" name="Rectangle 7"/>
            <p:cNvSpPr/>
            <p:nvPr/>
          </p:nvSpPr>
          <p:spPr>
            <a:xfrm>
              <a:off x="284040" y="4280040"/>
              <a:ext cx="2743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8"/>
            <p:cNvSpPr/>
            <p:nvPr/>
          </p:nvSpPr>
          <p:spPr>
            <a:xfrm>
              <a:off x="3025800" y="4280040"/>
              <a:ext cx="1600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9"/>
            <p:cNvSpPr/>
            <p:nvPr/>
          </p:nvSpPr>
          <p:spPr>
            <a:xfrm>
              <a:off x="4626000" y="428004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7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D73ECB-5997-43F7-BACD-8C6EA795F770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8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9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BD8EE0-2994-476E-9C94-245EC56DA43A}" type="slidenum">
              <a:rPr b="1" lang="en-US" sz="14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6"/>
          <p:cNvSpPr/>
          <p:nvPr/>
        </p:nvSpPr>
        <p:spPr>
          <a:xfrm>
            <a:off x="284040" y="4267080"/>
            <a:ext cx="2743200" cy="212112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14"/>
          <p:cNvGrpSpPr/>
          <p:nvPr/>
        </p:nvGrpSpPr>
        <p:grpSpPr>
          <a:xfrm>
            <a:off x="284040" y="461880"/>
            <a:ext cx="8575920" cy="136440"/>
            <a:chOff x="284040" y="461880"/>
            <a:chExt cx="8575920" cy="136440"/>
          </a:xfrm>
        </p:grpSpPr>
        <p:sp>
          <p:nvSpPr>
            <p:cNvPr id="597" name="Rectangle 8"/>
            <p:cNvSpPr/>
            <p:nvPr/>
          </p:nvSpPr>
          <p:spPr>
            <a:xfrm>
              <a:off x="284040" y="461880"/>
              <a:ext cx="2743200" cy="136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9"/>
            <p:cNvSpPr/>
            <p:nvPr/>
          </p:nvSpPr>
          <p:spPr>
            <a:xfrm>
              <a:off x="3025800" y="461880"/>
              <a:ext cx="1600200" cy="1364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10"/>
            <p:cNvSpPr/>
            <p:nvPr/>
          </p:nvSpPr>
          <p:spPr>
            <a:xfrm>
              <a:off x="4626000" y="461880"/>
              <a:ext cx="4233960" cy="136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40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169735-B99B-41C4-9CC4-5798E10999AF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41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42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8E2C9F-3F59-4DB1-B7FA-9D2D8C0ABE35}" type="slidenum">
              <a:rPr b="1" lang="en-US" sz="14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6"/>
          <p:cNvSpPr/>
          <p:nvPr/>
        </p:nvSpPr>
        <p:spPr>
          <a:xfrm>
            <a:off x="3021120" y="4802040"/>
            <a:ext cx="583704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643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3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AE3100-DF8B-4593-ACEE-75A675161CF6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4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5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0A437E-D24F-4BB0-A57A-A0CDC2C195F9}" type="slidenum">
              <a:rPr b="1" lang="en-US" sz="14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689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dt" idx="46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8B0DCE-10D3-45E9-BA76-A7F542BB4DF2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ftr" idx="47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sldNum" idx="48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328FB0-3A13-4146-BB14-DA3DDCB720A5}" type="slidenum">
              <a:rPr b="1" lang="en-US" sz="14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6"/>
          <p:cNvSpPr/>
          <p:nvPr/>
        </p:nvSpPr>
        <p:spPr>
          <a:xfrm rot="5400000">
            <a:off x="5313600" y="2856600"/>
            <a:ext cx="5934240" cy="11350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Group 7"/>
          <p:cNvGrpSpPr/>
          <p:nvPr/>
        </p:nvGrpSpPr>
        <p:grpSpPr>
          <a:xfrm>
            <a:off x="7556400" y="457200"/>
            <a:ext cx="138240" cy="5934240"/>
            <a:chOff x="7556400" y="457200"/>
            <a:chExt cx="138240" cy="5934240"/>
          </a:xfrm>
        </p:grpSpPr>
        <p:sp>
          <p:nvSpPr>
            <p:cNvPr id="735" name="Rectangle 8"/>
            <p:cNvSpPr/>
            <p:nvPr/>
          </p:nvSpPr>
          <p:spPr>
            <a:xfrm rot="5400000">
              <a:off x="7072200" y="941040"/>
              <a:ext cx="110628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9"/>
            <p:cNvSpPr/>
            <p:nvPr/>
          </p:nvSpPr>
          <p:spPr>
            <a:xfrm rot="5400000">
              <a:off x="6676920" y="2444760"/>
              <a:ext cx="1897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10"/>
            <p:cNvSpPr/>
            <p:nvPr/>
          </p:nvSpPr>
          <p:spPr>
            <a:xfrm rot="5400000">
              <a:off x="6161040" y="4857840"/>
              <a:ext cx="2928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49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62EE39-927E-44B1-9EA6-C668F42C8352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0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1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C59301-2266-4051-9364-CBA21C398E83}" type="slidenum">
              <a:rPr b="1" lang="en-US" sz="14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4040" y="44460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6"/>
          <p:cNvGrpSpPr/>
          <p:nvPr/>
        </p:nvGrpSpPr>
        <p:grpSpPr>
          <a:xfrm>
            <a:off x="284040" y="1906560"/>
            <a:ext cx="8575920" cy="138240"/>
            <a:chOff x="284040" y="1906560"/>
            <a:chExt cx="8575920" cy="138240"/>
          </a:xfrm>
        </p:grpSpPr>
        <p:sp>
          <p:nvSpPr>
            <p:cNvPr id="43" name="Rectangle 8"/>
            <p:cNvSpPr/>
            <p:nvPr/>
          </p:nvSpPr>
          <p:spPr>
            <a:xfrm>
              <a:off x="284040" y="1906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9"/>
            <p:cNvSpPr/>
            <p:nvPr/>
          </p:nvSpPr>
          <p:spPr>
            <a:xfrm>
              <a:off x="3025800" y="1906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4626000" y="1906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TextBox 11"/>
          <p:cNvSpPr/>
          <p:nvPr/>
        </p:nvSpPr>
        <p:spPr>
          <a:xfrm>
            <a:off x="8205840" y="444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284040" y="6227640"/>
            <a:ext cx="8574120" cy="17316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C66BEF-5DD1-4C63-8322-63C9E5300B21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8B9CB5-5CA4-401A-9D51-6AED3841CF09}" type="slidenum">
              <a:rPr b="1" lang="en-US" sz="14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91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75AF03-D370-4DDA-BF72-FA7BA4B14532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BBD7FF-E83F-47DA-8D36-57633A6FB221}" type="slidenum">
              <a:rPr b="1" lang="en-US" sz="14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284040" y="44460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6"/>
          <p:cNvGrpSpPr/>
          <p:nvPr/>
        </p:nvGrpSpPr>
        <p:grpSpPr>
          <a:xfrm>
            <a:off x="284040" y="1906560"/>
            <a:ext cx="8575920" cy="138240"/>
            <a:chOff x="284040" y="1906560"/>
            <a:chExt cx="8575920" cy="138240"/>
          </a:xfrm>
        </p:grpSpPr>
        <p:sp>
          <p:nvSpPr>
            <p:cNvPr id="137" name="Rectangle 8"/>
            <p:cNvSpPr/>
            <p:nvPr/>
          </p:nvSpPr>
          <p:spPr>
            <a:xfrm>
              <a:off x="284040" y="1906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9"/>
            <p:cNvSpPr/>
            <p:nvPr/>
          </p:nvSpPr>
          <p:spPr>
            <a:xfrm>
              <a:off x="3025800" y="1906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4626000" y="1906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Box 11"/>
          <p:cNvSpPr/>
          <p:nvPr/>
        </p:nvSpPr>
        <p:spPr>
          <a:xfrm>
            <a:off x="8205840" y="444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5C367F-F3A4-4B4D-A80B-0015A587EFAA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76E99D-2D54-40F2-A24E-D09EBF4699AA}" type="slidenum">
              <a:rPr b="1" lang="en-US" sz="14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8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184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Box 11"/>
          <p:cNvSpPr/>
          <p:nvPr/>
        </p:nvSpPr>
        <p:spPr>
          <a:xfrm>
            <a:off x="8205840" y="4802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4AC4C3-84CF-41B4-95BA-F8FC9CF1A0E8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741A7E-1430-4EDA-8402-6F58D107C436}" type="slidenum">
              <a:rPr b="1" lang="en-US" sz="14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231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11"/>
          <p:cNvSpPr/>
          <p:nvPr/>
        </p:nvSpPr>
        <p:spPr>
          <a:xfrm>
            <a:off x="8205840" y="4802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96B7C1-2B81-4CC1-B8A5-8E9E99CC46DF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671AC3-9B86-4179-878E-39EFAB932B00}" type="slidenum">
              <a:rPr b="1" lang="en-US" sz="14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278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A24D4A-6D2D-48F8-B2A7-C793CD7F4AFA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510888-F765-43F5-ACAB-FE66DE2070F3}" type="slidenum">
              <a:rPr b="1" lang="en-US" sz="14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324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647013-E8AD-4728-9581-B2AFCADA9E4D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0BF8A9-6E4E-4BAA-BE97-D11FF6B4BC45}" type="slidenum">
              <a:rPr b="1" lang="en-US" sz="14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370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13905A-6677-4186-83D3-C6F932A76A1F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DEDE9E-BAAE-4BAD-BBA7-A944ACECD78D}" type="slidenum">
              <a:rPr b="1" lang="en-US" sz="14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20480" y="584280"/>
            <a:ext cx="7808760" cy="108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Tahoma"/>
                <a:cs typeface="Tahoma"/>
              </a:rPr>
              <a:t>مقاييس تلوث التربة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 txBox="1"/>
          <p:nvPr/>
        </p:nvSpPr>
        <p:spPr>
          <a:xfrm>
            <a:off x="457200" y="4792680"/>
            <a:ext cx="8229600" cy="15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 algn="r" rtl="1">
              <a:lnSpc>
                <a:spcPct val="100000"/>
              </a:lnSpc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Arial"/>
                <a:cs typeface="Arial"/>
              </a:rPr>
              <a:t>أضاف المقياس الدنماركي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Arial"/>
              </a:rPr>
              <a:t>Cut-off</a:t>
            </a:r>
            <a:r>
              <a:rPr b="0" lang="ar-SA" sz="2400" spc="-1" strike="noStrike">
                <a:solidFill>
                  <a:srgbClr val="262626"/>
                </a:solidFill>
                <a:latin typeface="Arial"/>
                <a:ea typeface="Arial"/>
              </a:rPr>
              <a:t> خاص للملوثات الضعيفة أو غير المتحركة أو غير المتحللة (</a:t>
            </a:r>
            <a:r>
              <a:rPr b="0" lang="ar-SA" sz="2000" spc="-1" strike="noStrike">
                <a:solidFill>
                  <a:srgbClr val="262626"/>
                </a:solidFill>
                <a:latin typeface="Arial"/>
                <a:cs typeface="Arial"/>
              </a:rPr>
              <a:t>تعني لا بد من إعادة تأهيل المنطقة خاصة المناطق السكنية والحدائق (المنتزهات).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 algn="r" rtl="1">
              <a:lnSpc>
                <a:spcPct val="100000"/>
              </a:lnSpc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Arial"/>
                <a:cs typeface="Arial"/>
              </a:rPr>
              <a:t>بالإضافة إلى مقاييس للمياه الجوفية والهواء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812" name="Picture 2" descr=""/>
          <p:cNvPicPr/>
          <p:nvPr/>
        </p:nvPicPr>
        <p:blipFill>
          <a:blip r:embed="rId1"/>
          <a:stretch/>
        </p:blipFill>
        <p:spPr>
          <a:xfrm>
            <a:off x="457200" y="1782720"/>
            <a:ext cx="5553000" cy="2870280"/>
          </a:xfrm>
          <a:prstGeom prst="rect">
            <a:avLst/>
          </a:prstGeom>
          <a:ln w="0">
            <a:noFill/>
          </a:ln>
        </p:spPr>
      </p:pic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ea typeface="Tahoma"/>
              </a:rPr>
              <a:t> مثال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  <a:ea typeface="Tahoma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  <a:ea typeface="Tahoma"/>
              </a:rPr>
              <a:t>: العناصر الثقيلة في الدنمارك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 txBox="1"/>
          <p:nvPr/>
        </p:nvSpPr>
        <p:spPr>
          <a:xfrm>
            <a:off x="6257520" y="1731960"/>
            <a:ext cx="242892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62626"/>
                </a:solidFill>
                <a:latin typeface="Arial"/>
                <a:cs typeface="Arial"/>
              </a:rPr>
              <a:t>الجرعة المرجعية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 algn="r" rtl="1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62626"/>
                </a:solidFill>
                <a:latin typeface="Arial"/>
                <a:cs typeface="Arial"/>
              </a:rPr>
              <a:t>لكل عنصر.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 algn="r" rtl="1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62626"/>
                </a:solidFill>
                <a:latin typeface="Arial"/>
                <a:cs typeface="Arial"/>
              </a:rPr>
              <a:t>لكل مسلك.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 algn="r" rtl="1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62626"/>
                </a:solidFill>
                <a:latin typeface="Arial"/>
                <a:cs typeface="Arial"/>
              </a:rPr>
              <a:t>المجموع لكل عنصر.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 algn="r" rtl="1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62626"/>
                </a:solidFill>
                <a:latin typeface="Arial"/>
                <a:cs typeface="Arial"/>
              </a:rPr>
              <a:t>المجموع لجميع العناصر.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815" name="Picture 2" descr=""/>
          <p:cNvPicPr/>
          <p:nvPr/>
        </p:nvPicPr>
        <p:blipFill>
          <a:blip r:embed="rId1"/>
          <a:stretch/>
        </p:blipFill>
        <p:spPr>
          <a:xfrm>
            <a:off x="325440" y="1731960"/>
            <a:ext cx="5932440" cy="33274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5" descr=""/>
          <p:cNvPicPr/>
          <p:nvPr/>
        </p:nvPicPr>
        <p:blipFill>
          <a:blip r:embed="rId2"/>
          <a:stretch/>
        </p:blipFill>
        <p:spPr>
          <a:xfrm>
            <a:off x="468360" y="5059440"/>
            <a:ext cx="5635440" cy="1614240"/>
          </a:xfrm>
          <a:prstGeom prst="rect">
            <a:avLst/>
          </a:prstGeom>
          <a:ln w="0">
            <a:noFill/>
          </a:ln>
        </p:spPr>
      </p:pic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ffffff"/>
                </a:solidFill>
                <a:latin typeface="Tahoma"/>
                <a:cs typeface="Tahoma"/>
              </a:rPr>
              <a:t>الخطر الصحي: الجرعة المرجعية مقارنة بالجرعة اليومية</a:t>
            </a: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  <a:cs typeface="Arial"/>
              </a:rPr>
              <a:t>حساب الجرعة اليومية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819" name="Picture 4" descr=""/>
          <p:cNvPicPr/>
          <p:nvPr/>
        </p:nvPicPr>
        <p:blipFill>
          <a:blip r:embed="rId1"/>
          <a:stretch/>
        </p:blipFill>
        <p:spPr>
          <a:xfrm>
            <a:off x="731880" y="1946160"/>
            <a:ext cx="7839000" cy="81936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" descr=""/>
          <p:cNvPicPr/>
          <p:nvPr/>
        </p:nvPicPr>
        <p:blipFill>
          <a:blip r:embed="rId2"/>
          <a:stretch/>
        </p:blipFill>
        <p:spPr>
          <a:xfrm>
            <a:off x="1685880" y="2765520"/>
            <a:ext cx="58053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  <a:cs typeface="Arial"/>
              </a:rPr>
              <a:t>حساب الجرعة اليومية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822" name="Picture 4" descr=""/>
          <p:cNvPicPr/>
          <p:nvPr/>
        </p:nvPicPr>
        <p:blipFill>
          <a:blip r:embed="rId1"/>
          <a:stretch/>
        </p:blipFill>
        <p:spPr>
          <a:xfrm>
            <a:off x="731880" y="1946160"/>
            <a:ext cx="7839000" cy="81936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" descr=""/>
          <p:cNvPicPr/>
          <p:nvPr/>
        </p:nvPicPr>
        <p:blipFill>
          <a:blip r:embed="rId2"/>
          <a:stretch/>
        </p:blipFill>
        <p:spPr>
          <a:xfrm>
            <a:off x="731880" y="2765520"/>
            <a:ext cx="74818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  <a:cs typeface="Arial"/>
              </a:rPr>
              <a:t>اسئلة مهمة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401760" y="2133720"/>
            <a:ext cx="84564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3920" indent="-403920" algn="r" rtl="1">
              <a:lnSpc>
                <a:spcPct val="100000"/>
              </a:lnSpc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Arial"/>
                <a:cs typeface="Arial"/>
              </a:rPr>
              <a:t>هل توجد مصادر التلوث؟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03920" indent="-403920" algn="r" rtl="1">
              <a:lnSpc>
                <a:spcPct val="100000"/>
              </a:lnSpc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Arial"/>
                <a:cs typeface="Arial"/>
              </a:rPr>
              <a:t>ما هي المواد السامة التي تسببها تلك المصادر؟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03920" indent="-403920" algn="r" rtl="1">
              <a:lnSpc>
                <a:spcPct val="100000"/>
              </a:lnSpc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Arial"/>
                <a:cs typeface="Arial"/>
              </a:rPr>
              <a:t>ما هو التوزيع الحالي للملوثات والنقاط الساخنة؟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03920" indent="-403920" algn="r" rtl="1">
              <a:lnSpc>
                <a:spcPct val="100000"/>
              </a:lnSpc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Arial"/>
                <a:cs typeface="Arial"/>
              </a:rPr>
              <a:t>هل النتائج التحليلية تتجاوز المستويات القياسية ومعايير الجودة؟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03920" indent="-403920" algn="r" rtl="1">
              <a:lnSpc>
                <a:spcPct val="100000"/>
              </a:lnSpc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Arial"/>
                <a:cs typeface="Arial"/>
              </a:rPr>
              <a:t>ما هي القيم المرجعية للمقارنة مع النتائج التحليلية؟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03920" indent="-403920" algn="r" rtl="1">
              <a:lnSpc>
                <a:spcPct val="100000"/>
              </a:lnSpc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Arial"/>
                <a:cs typeface="Arial"/>
              </a:rPr>
              <a:t>ما هي الخصائص التي تؤثر في حركة الملوثات (خواص التربة والمياه، ونمط استخدام الأرض ... الخ)؟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03920" indent="-403920" algn="r" rtl="1">
              <a:lnSpc>
                <a:spcPct val="100000"/>
              </a:lnSpc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Arial"/>
                <a:cs typeface="Arial"/>
              </a:rPr>
              <a:t>ما هي مسارات الحركة المحتملة وعمليات النقل التي تسهم في انتشار الملوثات؟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03920" indent="-403920" algn="r" rtl="1">
              <a:lnSpc>
                <a:spcPct val="100000"/>
              </a:lnSpc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Arial"/>
                <a:cs typeface="Arial"/>
              </a:rPr>
              <a:t>هل هناك مستقبلات محتملة حالية أو مستقبلية يمكن أن تتأثر (النظم الإيكولوجية)؟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03920" indent="-403920" algn="r" rtl="1">
              <a:lnSpc>
                <a:spcPct val="100000"/>
              </a:lnSpc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Arial"/>
                <a:cs typeface="Arial"/>
              </a:rPr>
              <a:t>هل يوجد خطر حاضر يهدد الحياة؟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Tahoma"/>
              </a:rPr>
              <a:t>مقاييس تلوث التربة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0" name="Rectangle 3"/>
          <p:cNvSpPr/>
          <p:nvPr/>
        </p:nvSpPr>
        <p:spPr>
          <a:xfrm>
            <a:off x="468360" y="1676520"/>
            <a:ext cx="82612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ولاً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Traditional Arabic"/>
              </a:rPr>
              <a:t>مقاييس عام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Traditional Arabic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 algn="r" rtl="1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قارنة التركيز في التربة مع المدى العام للترب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 algn="r" rtl="1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غير التركيز مع البعد أو القرب من مصدر التلوث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 algn="r" rtl="1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دى الوفرة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Enrichment factor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 algn="r" rtl="1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عامل الاختلاف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Coefficient Variation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 algn="r" rtl="1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ختلاف التركيز مع البعد عن مصدر التلوث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 algn="r" rtl="1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زيادة التلوث في الطبقات السطحية عنه في تحت السطح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دى التعرض للتلوث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lution load index (PLI)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المقارنة مع التركيز العام في الترب</a:t>
            </a:r>
            <a:r>
              <a:rPr b="0" lang="ar-SA" sz="27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LINDSAY, 1979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graphicFrame>
        <p:nvGraphicFramePr>
          <p:cNvPr id="792" name=""/>
          <p:cNvGraphicFramePr/>
          <p:nvPr/>
        </p:nvGraphicFramePr>
        <p:xfrm>
          <a:off x="4714920" y="2071800"/>
          <a:ext cx="3786120" cy="3800520"/>
        </p:xfrm>
        <a:graphic>
          <a:graphicData uri="http://schemas.openxmlformats.org/drawingml/2006/table">
            <a:tbl>
              <a:tblPr/>
              <a:tblGrid>
                <a:gridCol w="534960"/>
                <a:gridCol w="958680"/>
                <a:gridCol w="1081080"/>
                <a:gridCol w="1211400"/>
              </a:tblGrid>
              <a:tr h="379440">
                <a:tc rowSpan="2">
                  <a:txBody>
                    <a:bodyPr tIns="46800" bIns="46800" anchor="ctr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on range in soi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Min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Ave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9440"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80880"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79440"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79440"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6600"/>
                          </a:solidFill>
                          <a:latin typeface="Times New Roman"/>
                          <a:ea typeface="Arial Unicode MS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80880"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79440"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81240"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79440"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6600"/>
                          </a:solidFill>
                          <a:latin typeface="Times New Roman"/>
                          <a:ea typeface="Arial Unicode MS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3" name=""/>
          <p:cNvGraphicFramePr/>
          <p:nvPr/>
        </p:nvGraphicFramePr>
        <p:xfrm>
          <a:off x="642960" y="2071800"/>
          <a:ext cx="3786120" cy="3800520"/>
        </p:xfrm>
        <a:graphic>
          <a:graphicData uri="http://schemas.openxmlformats.org/drawingml/2006/table">
            <a:tbl>
              <a:tblPr/>
              <a:tblGrid>
                <a:gridCol w="639720"/>
                <a:gridCol w="974880"/>
                <a:gridCol w="960480"/>
                <a:gridCol w="1211040"/>
              </a:tblGrid>
              <a:tr h="379440">
                <a:tc rowSpan="2">
                  <a:txBody>
                    <a:bodyPr tIns="46800" bIns="46800" anchor="ctr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on range in soi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Min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Ave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9440"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6600"/>
                          </a:solidFill>
                          <a:latin typeface="Times New Roman"/>
                          <a:ea typeface="Arial Unicode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80880"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6600"/>
                          </a:solidFill>
                          <a:latin typeface="Times New Roman"/>
                          <a:ea typeface="Arial Unicode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79440"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79440"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6600"/>
                          </a:solidFill>
                          <a:latin typeface="Times New Roman"/>
                          <a:ea typeface="Arial Unicode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80880"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79440"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81240"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3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79440"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5"/>
          <p:cNvSpPr/>
          <p:nvPr/>
        </p:nvSpPr>
        <p:spPr>
          <a:xfrm>
            <a:off x="0" y="1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Picture 4" descr="Map 2 (a, b, c, d)"/>
          <p:cNvPicPr/>
          <p:nvPr/>
        </p:nvPicPr>
        <p:blipFill>
          <a:blip r:embed="rId1"/>
          <a:stretch/>
        </p:blipFill>
        <p:spPr>
          <a:xfrm>
            <a:off x="108000" y="100080"/>
            <a:ext cx="5276880" cy="665784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7"/>
          <p:cNvSpPr/>
          <p:nvPr/>
        </p:nvSpPr>
        <p:spPr>
          <a:xfrm>
            <a:off x="190440" y="260280"/>
            <a:ext cx="148608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جميع الأعما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8"/>
          <p:cNvSpPr/>
          <p:nvPr/>
        </p:nvSpPr>
        <p:spPr>
          <a:xfrm>
            <a:off x="190440" y="3460680"/>
            <a:ext cx="148608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5-30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س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9"/>
          <p:cNvSpPr/>
          <p:nvPr/>
        </p:nvSpPr>
        <p:spPr>
          <a:xfrm>
            <a:off x="2819520" y="3460680"/>
            <a:ext cx="14857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مق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0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س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10"/>
          <p:cNvSpPr/>
          <p:nvPr/>
        </p:nvSpPr>
        <p:spPr>
          <a:xfrm>
            <a:off x="2819520" y="260280"/>
            <a:ext cx="14857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مق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5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س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11"/>
          <p:cNvSpPr/>
          <p:nvPr/>
        </p:nvSpPr>
        <p:spPr>
          <a:xfrm>
            <a:off x="5435640" y="765000"/>
            <a:ext cx="347832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Traditional Arabic"/>
              </a:rPr>
              <a:t>ثانياً: التغير مع القرب والبعد عن مصدر التلوث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Traditional Arabic"/>
              </a:rPr>
              <a:t>ثالثاً: بين الطبقات السطحية وتحت السطح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Traditional Arabic"/>
              </a:rPr>
              <a:t>رابعاً: معامل الاختلاف: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V = (STDEV/Average)*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 txBox="1"/>
          <p:nvPr/>
        </p:nvSpPr>
        <p:spPr>
          <a:xfrm>
            <a:off x="617040" y="1112760"/>
            <a:ext cx="7844040" cy="4980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62626"/>
                </a:solidFill>
                <a:latin typeface="Times New Roman"/>
                <a:cs typeface="Traditional Arabic"/>
              </a:rPr>
              <a:t>خامساً : مدى الوفرة </a:t>
            </a:r>
            <a:r>
              <a:rPr b="0" lang="en-US" sz="2400" spc="-1" strike="noStrike">
                <a:solidFill>
                  <a:srgbClr val="262626"/>
                </a:solidFill>
                <a:latin typeface="Times New Roman"/>
                <a:ea typeface="Traditional Arabic"/>
              </a:rPr>
              <a:t>Enrichment factor (EF)</a:t>
            </a:r>
            <a:r>
              <a:rPr b="1" lang="ar-SA" sz="2400" spc="-1" strike="noStrike">
                <a:solidFill>
                  <a:srgbClr val="262626"/>
                </a:solidFill>
                <a:latin typeface="Times New Roman"/>
                <a:ea typeface="Traditional Arabic"/>
              </a:rPr>
              <a:t>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514440" indent="-514440"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F = ((C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C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F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sediment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((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F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Earth's crus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514440" indent="-514440"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62626"/>
                </a:solidFill>
                <a:latin typeface="Times New Roman"/>
                <a:cs typeface="Traditional Arabic"/>
              </a:rPr>
              <a:t>سادساً: </a:t>
            </a:r>
            <a:r>
              <a:rPr b="0" lang="en-US" sz="2400" spc="-1" strike="noStrike">
                <a:solidFill>
                  <a:srgbClr val="262626"/>
                </a:solidFill>
                <a:latin typeface="Times New Roman"/>
                <a:ea typeface="Traditional Arabic"/>
              </a:rPr>
              <a:t>Pollution load index (PLI)</a:t>
            </a:r>
            <a:r>
              <a:rPr b="1" lang="ar-SA" sz="2400" spc="-1" strike="noStrike">
                <a:solidFill>
                  <a:srgbClr val="262626"/>
                </a:solidFill>
                <a:latin typeface="Times New Roman"/>
                <a:ea typeface="Traditional Arabic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514440" indent="-514440"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ناتج قسمة تركيز العنصر الحالي على تركيز العنصر المرجعي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514440" indent="-514440"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62626"/>
                </a:solidFill>
                <a:latin typeface="Times New Roman"/>
                <a:cs typeface="Traditional Arabic"/>
              </a:rPr>
              <a:t>سابعاً: مدى التلوث </a:t>
            </a:r>
            <a:r>
              <a:rPr b="0" lang="en-US" sz="2400" spc="-1" strike="noStrike">
                <a:solidFill>
                  <a:srgbClr val="262626"/>
                </a:solidFill>
                <a:latin typeface="Times New Roman"/>
                <a:ea typeface="Traditional Arabic"/>
              </a:rPr>
              <a:t>Contamination factor</a:t>
            </a:r>
            <a:r>
              <a:rPr b="1" lang="ar-SA" sz="2400" spc="-1" strike="noStrike">
                <a:solidFill>
                  <a:srgbClr val="262626"/>
                </a:solidFill>
                <a:latin typeface="Times New Roman"/>
                <a:ea typeface="Traditional Arabic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514440" indent="-514440"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graphicFrame>
        <p:nvGraphicFramePr>
          <p:cNvPr id="802" name=""/>
          <p:cNvGraphicFramePr/>
          <p:nvPr/>
        </p:nvGraphicFramePr>
        <p:xfrm>
          <a:off x="1476360" y="4797360"/>
          <a:ext cx="6624720" cy="1036800"/>
        </p:xfrm>
        <a:graphic>
          <a:graphicData uri="http://schemas.openxmlformats.org/drawingml/2006/table">
            <a:tbl>
              <a:tblPr/>
              <a:tblGrid>
                <a:gridCol w="1582920"/>
                <a:gridCol w="1512720"/>
                <a:gridCol w="1728720"/>
                <a:gridCol w="1800360"/>
              </a:tblGrid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&gt; </a:t>
                      </a: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dfff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dfff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dfff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</a:t>
                      </a: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 &gt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dfff3"/>
                    </a:solidFill>
                  </a:tcPr>
                </a:tc>
              </a:tr>
              <a:tr h="945000"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عالي جد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bffc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كبي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bffc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متوس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bffc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منخف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bffc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Tahoma"/>
              </a:rPr>
              <a:t>ثامناً: المقاييس الدولية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928800" y="1643040"/>
          <a:ext cx="7385040" cy="4267080"/>
        </p:xfrm>
        <a:graphic>
          <a:graphicData uri="http://schemas.openxmlformats.org/drawingml/2006/table">
            <a:tbl>
              <a:tblPr/>
              <a:tblGrid>
                <a:gridCol w="571320"/>
                <a:gridCol w="671760"/>
                <a:gridCol w="742680"/>
                <a:gridCol w="627120"/>
                <a:gridCol w="811080"/>
                <a:gridCol w="671760"/>
                <a:gridCol w="671400"/>
                <a:gridCol w="673200"/>
                <a:gridCol w="671400"/>
                <a:gridCol w="601560"/>
                <a:gridCol w="671760"/>
              </a:tblGrid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fe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fe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fe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fe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fe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fe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fe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fec6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fe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.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fe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</a:tbl>
          </a:graphicData>
        </a:graphic>
      </p:graphicFrame>
      <p:sp>
        <p:nvSpPr>
          <p:cNvPr id="805" name="Rectangle 308"/>
          <p:cNvSpPr/>
          <p:nvPr/>
        </p:nvSpPr>
        <p:spPr>
          <a:xfrm>
            <a:off x="468360" y="5999760"/>
            <a:ext cx="82152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alibri"/>
              </a:rPr>
              <a:t>A: China; B: Taiwan; C: Australia; , D: Belgium; E: France; F: Italy; G: Norway; H: S. Africa; K: Sweden; L: 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Tahoma"/>
              </a:rPr>
              <a:t>اعتبارات لوضع المقاييس والاختيار بينها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851120"/>
            <a:ext cx="8291520" cy="450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78000"/>
          </a:bodyPr>
          <a:p>
            <a:pPr marL="415800" indent="-415800" algn="r" rtl="1">
              <a:lnSpc>
                <a:spcPct val="130000"/>
              </a:lnSpc>
              <a:spcBef>
                <a:spcPts val="601"/>
              </a:spcBef>
              <a:buClr>
                <a:srgbClr val="a6a6a6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262626"/>
                </a:solidFill>
                <a:latin typeface="Calibri"/>
                <a:cs typeface="Traditional Arabic"/>
              </a:rPr>
              <a:t>خصائص التربة الكيميائية والمعدنية والفيزيائية لما له من أثر كبير في سلوك الملوثات في التربة.</a:t>
            </a:r>
            <a:endParaRPr b="0" lang="en-US" sz="3000" spc="-1" strike="noStrike">
              <a:solidFill>
                <a:srgbClr val="262626"/>
              </a:solidFill>
              <a:latin typeface="Calibri"/>
            </a:endParaRPr>
          </a:p>
          <a:p>
            <a:pPr marL="415800" indent="-415800" algn="r" rtl="1">
              <a:lnSpc>
                <a:spcPct val="130000"/>
              </a:lnSpc>
              <a:spcBef>
                <a:spcPts val="601"/>
              </a:spcBef>
              <a:buClr>
                <a:srgbClr val="a6a6a6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262626"/>
                </a:solidFill>
                <a:latin typeface="Calibri"/>
                <a:cs typeface="Traditional Arabic"/>
              </a:rPr>
              <a:t>الاستخدام المتوقع للتربة مثل أن تكون معدة للسكنى أو حدائق للنزهة أو مناطق تجارية أو صناعية أو زراعية أو مراعي.</a:t>
            </a:r>
            <a:endParaRPr b="0" lang="en-US" sz="3000" spc="-1" strike="noStrike">
              <a:solidFill>
                <a:srgbClr val="262626"/>
              </a:solidFill>
              <a:latin typeface="Calibri"/>
            </a:endParaRPr>
          </a:p>
          <a:p>
            <a:pPr marL="415800" indent="-415800" algn="r" rtl="1">
              <a:lnSpc>
                <a:spcPct val="130000"/>
              </a:lnSpc>
              <a:spcBef>
                <a:spcPts val="601"/>
              </a:spcBef>
              <a:buClr>
                <a:srgbClr val="a6a6a6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262626"/>
                </a:solidFill>
                <a:latin typeface="Calibri"/>
                <a:cs typeface="Traditional Arabic"/>
              </a:rPr>
              <a:t>الظروف المناخية من حيث درجات الحرارة والأمطار واتجاهات الرياح.</a:t>
            </a:r>
            <a:endParaRPr b="0" lang="en-US" sz="3000" spc="-1" strike="noStrike">
              <a:solidFill>
                <a:srgbClr val="262626"/>
              </a:solidFill>
              <a:latin typeface="Calibri"/>
            </a:endParaRPr>
          </a:p>
          <a:p>
            <a:pPr marL="415800" indent="-415800" algn="r" rtl="1">
              <a:lnSpc>
                <a:spcPct val="130000"/>
              </a:lnSpc>
              <a:spcBef>
                <a:spcPts val="601"/>
              </a:spcBef>
              <a:buClr>
                <a:srgbClr val="a6a6a6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262626"/>
                </a:solidFill>
                <a:latin typeface="Calibri"/>
                <a:cs typeface="Traditional Arabic"/>
              </a:rPr>
              <a:t>قرب المناطق السكنية من تلك المناطق وإن لم تكن مهيأة لأي نشاط بشري.</a:t>
            </a:r>
            <a:r>
              <a:rPr b="1" lang="en-US" sz="3000" spc="-1" strike="noStrike">
                <a:solidFill>
                  <a:srgbClr val="262626"/>
                </a:solidFill>
                <a:latin typeface="Calibri"/>
                <a:ea typeface="Traditional Arabic"/>
              </a:rPr>
              <a:t> </a:t>
            </a:r>
            <a:endParaRPr b="0" lang="en-US" sz="3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ea typeface="Tahoma"/>
              </a:rPr>
              <a:t> مثال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  <a:ea typeface="Tahoma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  <a:ea typeface="Tahoma"/>
              </a:rPr>
              <a:t>: الكادميوم في هولندا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284040" y="1839600"/>
            <a:ext cx="8359920" cy="18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914400" indent="-457200" algn="r" rtl="1">
              <a:lnSpc>
                <a:spcPct val="150000"/>
              </a:lnSpc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262626"/>
                </a:solidFill>
                <a:latin typeface="Times New Roman"/>
                <a:cs typeface="Traditional Arabic"/>
              </a:rPr>
              <a:t>الحد الحرج لتركيز الكادميوم في ترب هولندا </a:t>
            </a:r>
            <a:r>
              <a:rPr b="1" lang="ar-SA" sz="2200" spc="-1" strike="noStrike">
                <a:solidFill>
                  <a:srgbClr val="262626"/>
                </a:solidFill>
                <a:latin typeface="Times New Roman"/>
                <a:ea typeface="Traditional Arabic"/>
              </a:rPr>
              <a:t>3.2</a:t>
            </a:r>
            <a:r>
              <a:rPr b="1" lang="ar-SA" sz="2200" spc="-1" strike="noStrike">
                <a:solidFill>
                  <a:srgbClr val="262626"/>
                </a:solidFill>
                <a:latin typeface="Times New Roman"/>
                <a:ea typeface="Traditional Arabic"/>
              </a:rPr>
              <a:t>-</a:t>
            </a:r>
            <a:r>
              <a:rPr b="1" lang="ar-SA" sz="2200" spc="-1" strike="noStrike">
                <a:solidFill>
                  <a:srgbClr val="262626"/>
                </a:solidFill>
                <a:latin typeface="Times New Roman"/>
                <a:ea typeface="Traditional Arabic"/>
              </a:rPr>
              <a:t>18</a:t>
            </a:r>
            <a:r>
              <a:rPr b="1" lang="ar-SA" sz="2200" spc="-1" strike="noStrike">
                <a:solidFill>
                  <a:srgbClr val="262626"/>
                </a:solidFill>
                <a:latin typeface="Times New Roman"/>
                <a:ea typeface="Traditional Arabic"/>
              </a:rPr>
              <a:t> ملجم كجم</a:t>
            </a:r>
            <a:r>
              <a:rPr b="1" lang="ar-SA" sz="2200" spc="-1" strike="noStrike" baseline="30000">
                <a:solidFill>
                  <a:srgbClr val="262626"/>
                </a:solidFill>
                <a:latin typeface="Times New Roman"/>
                <a:ea typeface="Traditional Arabic"/>
              </a:rPr>
              <a:t>-</a:t>
            </a:r>
            <a:r>
              <a:rPr b="1" lang="ar-SA" sz="2200" spc="-1" strike="noStrike" baseline="30000">
                <a:solidFill>
                  <a:srgbClr val="262626"/>
                </a:solidFill>
                <a:latin typeface="Times New Roman"/>
                <a:ea typeface="Traditional Arabic"/>
              </a:rPr>
              <a:t>1</a:t>
            </a:r>
            <a:r>
              <a:rPr b="0" lang="ar-SA" sz="2000" spc="-1" strike="noStrike">
                <a:solidFill>
                  <a:srgbClr val="262626"/>
                </a:solidFill>
                <a:latin typeface="Times New Roman"/>
                <a:ea typeface="Traditional Arabic"/>
              </a:rPr>
              <a:t> </a:t>
            </a:r>
            <a:r>
              <a:rPr b="1" lang="en-US" sz="2600" spc="-1" strike="noStrike">
                <a:solidFill>
                  <a:srgbClr val="262626"/>
                </a:solidFill>
                <a:latin typeface="Times New Roman"/>
                <a:ea typeface="Traditional Arabic"/>
              </a:rPr>
              <a:t>(</a:t>
            </a:r>
            <a:r>
              <a:rPr b="1" lang="en-GB" sz="2600" spc="-1" strike="noStrike">
                <a:solidFill>
                  <a:srgbClr val="262626"/>
                </a:solidFill>
                <a:latin typeface="Times New Roman"/>
                <a:ea typeface="Traditional Arabic"/>
              </a:rPr>
              <a:t>Brus, et al., 2002</a:t>
            </a:r>
            <a:r>
              <a:rPr b="1" lang="en-GB" sz="2600" spc="-1" strike="noStrike">
                <a:solidFill>
                  <a:srgbClr val="262626"/>
                </a:solidFill>
                <a:latin typeface="Times New Roman"/>
                <a:ea typeface="Traditional Arabic"/>
              </a:rPr>
              <a:t>)</a:t>
            </a:r>
            <a:r>
              <a:rPr b="0" lang="ar-SA" sz="2000" spc="-1" strike="noStrike">
                <a:solidFill>
                  <a:srgbClr val="262626"/>
                </a:solidFill>
                <a:latin typeface="Times New Roman"/>
                <a:ea typeface="Traditional Arabic"/>
              </a:rPr>
              <a:t>.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lvl="1" marL="914400" indent="-457200" algn="r" rtl="1">
              <a:lnSpc>
                <a:spcPct val="150000"/>
              </a:lnSpc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262626"/>
                </a:solidFill>
                <a:latin typeface="Times New Roman"/>
                <a:cs typeface="Traditional Arabic"/>
              </a:rPr>
              <a:t>وزارة الزراعة الهولندية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914400" indent="-457200" algn="r" rtl="1">
              <a:lnSpc>
                <a:spcPct val="150000"/>
              </a:lnSpc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914400" indent="-457200" algn="r" rtl="1">
              <a:lnSpc>
                <a:spcPct val="150000"/>
              </a:lnSpc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</p:txBody>
      </p:sp>
      <p:graphicFrame>
        <p:nvGraphicFramePr>
          <p:cNvPr id="810" name=""/>
          <p:cNvGraphicFramePr/>
          <p:nvPr/>
        </p:nvGraphicFramePr>
        <p:xfrm>
          <a:off x="500040" y="3857760"/>
          <a:ext cx="8143920" cy="2286000"/>
        </p:xfrm>
        <a:graphic>
          <a:graphicData uri="http://schemas.openxmlformats.org/drawingml/2006/table">
            <a:tbl>
              <a:tblPr/>
              <a:tblGrid>
                <a:gridCol w="5170680"/>
                <a:gridCol w="1085760"/>
                <a:gridCol w="896760"/>
                <a:gridCol w="9907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ss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nd (Fodder for cattl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nd (Food for human consump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nd (Flower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0:04:16Z</dcterms:created>
  <dc:creator>Client Admin</dc:creator>
  <dc:description/>
  <dc:language>en-US</dc:language>
  <cp:lastModifiedBy>Abdullah Al-Farraj</cp:lastModifiedBy>
  <dcterms:modified xsi:type="dcterms:W3CDTF">2014-10-12T04:55:52Z</dcterms:modified>
  <cp:revision>79</cp:revision>
  <dc:subject/>
  <dc:title>Soil                                 : soil degradation</dc:title>
</cp:coreProperties>
</file>