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3C727A-1ADC-4188-8079-64329981A3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85A53-9EFD-4C84-B345-8B8ADD4F1F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4C7EB-AB9C-429D-9124-CC85C7569D5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47256-04C4-4A9D-9CB2-68F5A427E00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71F62-25D5-4AE0-BE70-802BF8E43C0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6582A-ED0D-419B-82F7-3801A14F5C1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E3C-5AA9-4060-B30C-0ADAFD22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4A0-ED23-4A85-B236-7A8E548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B2F0B-B707-49CE-AA81-2E1C4782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DA98F-3828-41BF-AC84-9A97B9B2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925ED-6F38-4BE4-87C6-54E05986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BA117-18BA-483F-BD2E-41F76718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6C87F-3A97-4E99-B67F-7FE3E5F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1601D-515D-454D-8BC2-7042825E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7521B-0538-43E5-9A8F-DA4FE6E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8D6B1-726C-4F33-A227-374EDE71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72480-6C8D-49B9-9C59-D906A81D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4D655-E9A9-4922-A22C-EEE1CCEA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3DA-DF82-46FE-889B-76CEBD7C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299BD-E730-4EAA-B0B9-08539ACD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6B537-6758-4313-A1CC-8A82165F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BC00A-8B9C-4E6D-B5DC-091855DA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550E2-8A59-453F-BB0E-D8CD5F0F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2C4ED-0C40-4DB3-8989-ECFD77AC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92C49-3E1C-47CB-8173-8BDCF8A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52F19-745A-4937-BF99-4118792D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D8413-DF6C-4178-9485-A760E510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9130C-E05E-4D39-9132-B3BAE629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208A0-DC90-41AC-B056-81D2B0C7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33A-0E1F-4AFE-807D-04F3F661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69EDF-56C7-4F16-9A7B-4D3F8950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3E103-2D6B-46DF-A2F5-6FD45DA8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3B347-43F8-4355-8D89-7784AAF0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5116A-FAA4-496F-8770-3434E6AF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58E19-F61F-4119-92CA-2FE4EA13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13C39-6FB0-45DB-9789-1F91AB09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E766C-F53B-4390-A2B7-F78B532B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93E19-56DC-4FD5-B0BF-9B18DC0C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981DA-D04A-4935-81AF-933AE00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2C96B-B4A7-4F6E-80E6-25A20E7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3C81-767A-4E58-A7DC-BC39F696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F9E5A-1AD8-4773-8C87-B86B7BFD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08BDF-42A2-48E6-8971-75068191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AE6E3-FC57-426D-B068-CA2C3D00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19D11-DDA6-468E-BC4A-C97CB6EB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83129-F4E0-4B34-9840-91B207B3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F1CA1-44BD-4E44-BF42-029985EF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2FF84-BA4F-433A-A0B1-84359475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12B0C-FF4A-41D9-9359-1CFA0481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6FFBC-86DF-4015-84D5-BB26F802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3D954-4788-4789-BE4B-E951ED2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45F-A5DC-4FC6-AF57-BDD625A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46F2-5347-4D48-ABE6-F15980E4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AD796-58A9-41FC-934F-6B152DB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F5F32-2CA3-4F14-AC49-5FBA4B90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D5080-9D65-4EDF-921C-BA9D8AE3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97968-3A51-402B-A8EB-6DA5EA7B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E32FC5-3E72-4FA5-8050-9E530424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20D0F-8A4D-4CFE-A1AA-8F6CF4F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B0C27-FDC8-4EC4-B764-3F586710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3156F-65D6-4778-BDB0-8B04487F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4AF00-8A4A-4183-B291-4147386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A039-0AE8-41C7-8AE7-F7783635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B2076-47F8-4ACB-B814-ACDFAB65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62DB2-7FAA-4516-B111-4730454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6E393-4C3E-434D-8A2F-EB1F66D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3735E-7A5D-46FC-B1D5-B89EF5A1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BFA88-0437-4649-994F-EFF57789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EF7B6-2CC2-4D7F-B87F-55E00829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36E5D-4BF4-4B52-902C-E0B57164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489B6-BE8A-4A83-85C0-11E5ED77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DDF166-B5B4-4657-A85B-11C1F9B5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FED5C-8D19-45F1-8D77-2B9C6392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ABDA-5DC3-4013-96B1-EAABA6E3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F7A69-332C-4525-9292-97C91658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403D4-B798-4B2F-B232-B28BEC3E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C0971A-4EDE-43E1-9CE2-79CC78B6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749C8-4C47-493D-86D0-DC3B02E7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80361-7CE4-4D28-9D76-1F1BCBCD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EFE61-9EA2-4FB5-9F8F-F2D60C25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C1451-255C-4840-B848-8CBAD650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A441A-256B-497C-9693-5F53588E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A9CEF-7091-4BF7-A601-7D5D6BEB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8CD8A-0A78-4950-A7FA-62E0EE47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F75C-3027-4824-A04F-C64E5D70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245CE-6853-4044-A502-4D6C8799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9BC24-1467-40D6-BDA7-C81BBFD7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0C1E5-6BD1-4110-B6C5-FC9B7C36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384AE-F0A7-4E1A-B1FE-999D5119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22B4A-1633-4FD9-B3C4-0ECCB5AC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9F0D8-4C6D-496C-937E-0E4C3109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577D2A-565E-47E9-90FE-0337AA6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963E44-BBB9-46C5-A80D-AD197A12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522DB-599B-47E7-972F-4C749995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AA415-EFE0-4EC9-A838-2E85022D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5892-CE64-4DEE-B02D-B9F2C485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04AF1-DD62-4F11-A401-8E659C44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C010E-19FF-4ADC-BAB5-DFA963FD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AD294-4AED-4841-AFC1-D6E5E511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BE5F29-88DE-4BFE-A05D-3F703974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50FC7A-2983-44CE-8BB2-EB80C8B8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4603AB-48A5-4B38-8C81-4B68F228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62016-B1D7-46B0-86BD-2356544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B1370-A06D-4759-A736-8E1E004B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2F031-C971-4717-8572-93D44F36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A97DD-1153-4FB0-B25B-8A39F85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0BEA-DCE8-4319-9509-B47B1E4E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81787-F76C-4589-B114-DC31363A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D1BF4-444F-415D-90F5-DA10E4F3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2F152E-781B-4D0A-8FA8-04ACD329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24BC39-EAD2-4D93-9DEC-0BF0A219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AB17FB-7C3F-41FE-BD83-7353C39B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F962D8-C1D9-40DC-8A3C-006B3A8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251D5B-92D9-42AD-ABEC-D37EC626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3E4985-4E6F-4747-ADE7-D696F4E4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7EED0-AACD-4955-BD24-261165BE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0A96B9-6201-43AC-B134-EF1D4BE4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B27-036E-4CFC-8133-2B6DE7A6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D82C-4566-4D8F-969F-C7D5632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F0B214-BCB6-4A87-98A7-D7992A38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C7B5A-0CCE-4B3F-A089-739E764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E4F2BD-15D0-494C-A72D-6C665756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84C412-5C0A-48AC-8C67-E3DD8598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6B98F0-878F-49A5-A038-4448C869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01E0-6EC0-472A-922D-C003BD16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956C-FCF4-4F20-8AA4-1F0E7B70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5E5E-5156-42F4-BD76-3B656380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C6E0-9816-41E1-81FB-83DF5F87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8EFC-D356-4BE4-B747-DF6712D3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1DDF7-5687-45AA-B0E7-EB804C67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6C64-9C79-4514-8AE4-551DE458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B656-D922-460D-B0AE-350BBE9D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C0A7-07C2-4EEA-9D52-2267F77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EEC0-E192-4363-89AA-4A4E1F07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C575-5939-435A-BB0B-C32C771E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8CE6-DA5F-4604-9888-EA76CF5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2142-DC4A-4ED4-8967-E40CE794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D036-542B-4485-9F06-44761709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4D1F-CA4B-45AF-BE0A-69EDFEB1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F432-2B8B-48C7-8C0D-5A320EDA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D5464-AFD4-4025-AC2E-C2C16D4B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90043-0863-4C27-B2DE-1585396F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7346-7C73-4390-8732-F969C170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4167-3246-4E58-B176-D1B99C66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6778-B90A-4B90-AADE-B27908A1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10F2-0D6D-4B64-863B-6269AD5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947D2-B605-4D04-BFC9-AA60C0D4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88D14-D97A-48C9-BBB4-B170558C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DDAB-BD7A-4121-AA47-41039ECC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289E-2B3E-4A2D-A5A2-8D40C0D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538F-C0C9-449B-A181-FDB7342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D1933-05B4-4007-ABA9-AE86D7BA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71879-B323-492C-B566-EFCBD42E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DDCE-2E6B-4770-8B5F-A556388E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01F3-F137-46CA-BDE6-E66F5524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0F4-039B-4671-8AA5-529EBC7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F469E-4624-4487-8577-EFFE170F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E43A5-11D8-47C3-8468-A6502941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C5463-1D79-4F56-BE25-AB57B4D4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677C-EB45-43B1-B094-1F483E1A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08A0C-C070-4F1E-B378-505DD3F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709B1-CDD9-428B-981B-3F10EDE3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06E94-3781-4FA9-B0C9-538DF761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ACC2C-BCEC-4855-BE10-D0B464FA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2A17-397C-4DDA-BAE5-50B39132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4E7B4-F813-41CB-BE54-691D0D00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E6A6-3BE3-414E-9CE9-DB444A39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C180-713C-419E-9E10-22C337A2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E17DF-58B8-4C61-9DAB-1A7E02E9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FCA5D-9B96-476F-8CF2-E2A9FF37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D0F8F-C042-4D3E-9FF9-8B787571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1A592-9301-48F6-BBAA-B78E50FE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B78E-F97A-40E0-8FD4-553C50DE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F2567-0162-4068-A26F-5E7CB834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D79DF-754F-40DA-BBD5-702ABF7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0D787-9356-4A9B-948E-3B764315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02C0-94EC-4898-A93B-46C5A697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AE3B-788D-4414-842C-CF47A8C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4EA4-83A0-46D0-92D7-33B4A9CE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E085E-61F8-4B2A-902A-D8FB8774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1D12-28AC-49D3-868A-B0285752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8BDED-5573-44E5-9567-E8424170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1200-5069-4012-ADFB-011EDF5F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22DD1-86AF-4B1E-85E9-88E02CDC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23B3-1291-40E5-9192-03E49DF5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867A8-6FDF-448D-9A4F-F3B73AAE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2DE77-7BFB-46F2-B080-BBA00DD6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8F5E1-02BE-4B06-A7C4-4CF9ACEC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3A7-0370-4560-9002-EC561DE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1895F-5F54-47A1-95A9-2499545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28773-754D-49CF-8F1D-301EF03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89FA6-6D09-4301-A8C2-36A36757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2EFCE-72F8-4FEB-A0FF-59BE3EB2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4E219-F2C6-4396-A72A-DEF57DA5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50226-560D-44EE-8ECC-F0B5B0D8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328DC-B776-44F2-8527-DF4F3BE8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CB331-04B2-4C77-8D11-61AB7248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700B-6E43-4CCC-9BF1-D8F0E860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A90B-79F5-4B4D-BA24-AB311699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6C6-568C-4480-9579-F7BF6F1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283680" y="630360"/>
            <a:ext cx="857412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CB36A-E593-4654-9F3B-BB9F1F03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B060F-3089-43FC-9FA2-AB373E8D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45507-9B14-493F-BA2A-8EEF9121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1658C-5EF4-4C79-BB03-EE9E9455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1781280" y="4219200"/>
            <a:ext cx="7076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8A44-C7E5-4825-9AD4-545B822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407920" y="213372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78128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407920" y="4219200"/>
            <a:ext cx="34534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3D42-BB10-4AD9-8E1D-7B5D0AF27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17420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66760" y="213372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178128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417420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566760" y="4219200"/>
            <a:ext cx="227844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533FD-AF67-43A9-A39A-57B8A7EB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BCA9D-E2E8-4A70-8BAC-B7ADECAB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229F5-559B-45A0-9D71-E26F18B6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E969C-E105-4A6A-927E-74E73FA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1CF47A-D63B-4A28-AAE4-5171F96AD5D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83CDF-EBB5-419B-B80C-88923161CE37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15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29590-935F-42EA-BF5F-CCC34323039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A5A30B-E163-4A57-B3A6-1DB97AC0AC49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6"/>
          <p:cNvGrpSpPr/>
          <p:nvPr/>
        </p:nvGrpSpPr>
        <p:grpSpPr>
          <a:xfrm>
            <a:off x="284040" y="452520"/>
            <a:ext cx="8575920" cy="137880"/>
            <a:chOff x="284040" y="452520"/>
            <a:chExt cx="8575920" cy="137880"/>
          </a:xfrm>
        </p:grpSpPr>
        <p:sp>
          <p:nvSpPr>
            <p:cNvPr id="460" name="Rectangle 7"/>
            <p:cNvSpPr/>
            <p:nvPr/>
          </p:nvSpPr>
          <p:spPr>
            <a:xfrm>
              <a:off x="284040" y="452520"/>
              <a:ext cx="1600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1884240" y="452520"/>
              <a:ext cx="2743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4626000" y="45252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1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86F71E-851E-4521-BCD4-52614109BF92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2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3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A3CA6-E23F-425C-B680-91BCB89E1954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506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3974E-DB5E-4463-BDD0-DF57DC988D9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54D54-5CBD-4A8C-BC7B-809D3519382C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8"/>
          <p:cNvGrpSpPr/>
          <p:nvPr/>
        </p:nvGrpSpPr>
        <p:grpSpPr>
          <a:xfrm>
            <a:off x="284040" y="4280040"/>
            <a:ext cx="8575920" cy="137880"/>
            <a:chOff x="284040" y="4280040"/>
            <a:chExt cx="8575920" cy="137880"/>
          </a:xfrm>
        </p:grpSpPr>
        <p:sp>
          <p:nvSpPr>
            <p:cNvPr id="551" name="Rectangle 7"/>
            <p:cNvSpPr/>
            <p:nvPr/>
          </p:nvSpPr>
          <p:spPr>
            <a:xfrm>
              <a:off x="284040" y="4280040"/>
              <a:ext cx="2743200" cy="137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8"/>
            <p:cNvSpPr/>
            <p:nvPr/>
          </p:nvSpPr>
          <p:spPr>
            <a:xfrm>
              <a:off x="3025800" y="4280040"/>
              <a:ext cx="1600200" cy="1378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9"/>
            <p:cNvSpPr/>
            <p:nvPr/>
          </p:nvSpPr>
          <p:spPr>
            <a:xfrm>
              <a:off x="4626000" y="4280040"/>
              <a:ext cx="4233960" cy="1378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DF42A-B7D2-4CD8-8498-D51E2583CDA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67809-0E94-4E52-991F-C7613900B605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284040" y="4267080"/>
            <a:ext cx="2743200" cy="212112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14"/>
          <p:cNvGrpSpPr/>
          <p:nvPr/>
        </p:nvGrpSpPr>
        <p:grpSpPr>
          <a:xfrm>
            <a:off x="284040" y="461880"/>
            <a:ext cx="8575920" cy="136440"/>
            <a:chOff x="284040" y="461880"/>
            <a:chExt cx="8575920" cy="136440"/>
          </a:xfrm>
        </p:grpSpPr>
        <p:sp>
          <p:nvSpPr>
            <p:cNvPr id="597" name="Rectangle 8"/>
            <p:cNvSpPr/>
            <p:nvPr/>
          </p:nvSpPr>
          <p:spPr>
            <a:xfrm>
              <a:off x="284040" y="461880"/>
              <a:ext cx="274320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9"/>
            <p:cNvSpPr/>
            <p:nvPr/>
          </p:nvSpPr>
          <p:spPr>
            <a:xfrm>
              <a:off x="3025800" y="461880"/>
              <a:ext cx="1600200" cy="13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"/>
            <p:cNvSpPr/>
            <p:nvPr/>
          </p:nvSpPr>
          <p:spPr>
            <a:xfrm>
              <a:off x="4626000" y="461880"/>
              <a:ext cx="4233960" cy="136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0FD9C-3255-4528-9099-CBDF7F47530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F313D-D898-4F4F-9837-848783E77C03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3021120" y="4802040"/>
            <a:ext cx="583704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643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BB482-58FB-4377-B540-31DC005FDF7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C8862-2151-47A5-9275-EB824723F732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689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B5C7D-25DE-4F9E-B283-10135E76B5F1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74147-A0E1-4009-8BAD-964CB02136DF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6"/>
          <p:cNvSpPr/>
          <p:nvPr/>
        </p:nvSpPr>
        <p:spPr>
          <a:xfrm rot="5400000">
            <a:off x="5313600" y="2856600"/>
            <a:ext cx="5934240" cy="11350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7"/>
          <p:cNvGrpSpPr/>
          <p:nvPr/>
        </p:nvGrpSpPr>
        <p:grpSpPr>
          <a:xfrm>
            <a:off x="7556400" y="457200"/>
            <a:ext cx="138240" cy="5934240"/>
            <a:chOff x="7556400" y="457200"/>
            <a:chExt cx="138240" cy="5934240"/>
          </a:xfrm>
        </p:grpSpPr>
        <p:sp>
          <p:nvSpPr>
            <p:cNvPr id="735" name="Rectangle 8"/>
            <p:cNvSpPr/>
            <p:nvPr/>
          </p:nvSpPr>
          <p:spPr>
            <a:xfrm rot="5400000">
              <a:off x="7072200" y="941040"/>
              <a:ext cx="11062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"/>
            <p:cNvSpPr/>
            <p:nvPr/>
          </p:nvSpPr>
          <p:spPr>
            <a:xfrm rot="5400000">
              <a:off x="6676920" y="2444760"/>
              <a:ext cx="1897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0"/>
            <p:cNvSpPr/>
            <p:nvPr/>
          </p:nvSpPr>
          <p:spPr>
            <a:xfrm rot="5400000">
              <a:off x="6161040" y="4857840"/>
              <a:ext cx="2928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4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8DCF1-E5D3-44D2-96E1-B146F16B47B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A9A65-9C24-456D-9E80-032EEA869A00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43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84040" y="6227640"/>
            <a:ext cx="8574120" cy="17316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867CD-DDCA-4F67-BB7A-A8096F5997C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8DEEBB-EE20-4292-8149-1001B92656A9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91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01E77-AC82-4034-B22C-73B4ED1D4C6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A1ED8-50EA-4CCD-86E3-4B3CD4BAC8F0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284040" y="44460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6"/>
          <p:cNvGrpSpPr/>
          <p:nvPr/>
        </p:nvGrpSpPr>
        <p:grpSpPr>
          <a:xfrm>
            <a:off x="284040" y="1906560"/>
            <a:ext cx="8575920" cy="138240"/>
            <a:chOff x="284040" y="1906560"/>
            <a:chExt cx="8575920" cy="138240"/>
          </a:xfrm>
        </p:grpSpPr>
        <p:sp>
          <p:nvSpPr>
            <p:cNvPr id="137" name="Rectangle 8"/>
            <p:cNvSpPr/>
            <p:nvPr/>
          </p:nvSpPr>
          <p:spPr>
            <a:xfrm>
              <a:off x="284040" y="1906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"/>
            <p:cNvSpPr/>
            <p:nvPr/>
          </p:nvSpPr>
          <p:spPr>
            <a:xfrm>
              <a:off x="3025800" y="1906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0"/>
            <p:cNvSpPr/>
            <p:nvPr/>
          </p:nvSpPr>
          <p:spPr>
            <a:xfrm>
              <a:off x="4626000" y="1906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11"/>
          <p:cNvSpPr/>
          <p:nvPr/>
        </p:nvSpPr>
        <p:spPr>
          <a:xfrm>
            <a:off x="8205840" y="4446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1A503-7828-4DDA-93DF-2F83481DDAC8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A0C4A-A316-4FC6-83D3-7EAD7719E88D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184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95760-CCDF-43F7-9034-8F5D3CDDC8A0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92E6D-B27B-4C8E-BBA2-896AD77054EA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284040" y="4802040"/>
            <a:ext cx="8574120" cy="1468440"/>
          </a:xfrm>
          <a:prstGeom prst="rect">
            <a:avLst/>
          </a:prstGeom>
          <a:solidFill>
            <a:srgbClr val="2626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2880" tIns="46800" bIns="3657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284040" y="6262560"/>
            <a:ext cx="8575920" cy="138240"/>
            <a:chOff x="284040" y="6262560"/>
            <a:chExt cx="8575920" cy="138240"/>
          </a:xfrm>
        </p:grpSpPr>
        <p:sp>
          <p:nvSpPr>
            <p:cNvPr id="231" name="Rectangle 8"/>
            <p:cNvSpPr/>
            <p:nvPr/>
          </p:nvSpPr>
          <p:spPr>
            <a:xfrm>
              <a:off x="284040" y="6262560"/>
              <a:ext cx="274320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9"/>
            <p:cNvSpPr/>
            <p:nvPr/>
          </p:nvSpPr>
          <p:spPr>
            <a:xfrm>
              <a:off x="3025800" y="6262560"/>
              <a:ext cx="1600200" cy="1382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"/>
            <p:cNvSpPr/>
            <p:nvPr/>
          </p:nvSpPr>
          <p:spPr>
            <a:xfrm>
              <a:off x="4626000" y="6262560"/>
              <a:ext cx="423396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8205840" y="4802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4AF3C-B433-4219-B5A4-EE5F9C053F03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03557B-C5AA-4D9C-953D-E5FDFF932E36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278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0E0D0-F5DA-4A8E-A945-D0FDA93BB6E9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00988-AAD0-4BA3-A634-CD0DB23D9FA2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24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D2C65-7D2E-4159-9AB0-83CAEFF6CA25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6645D-FA3C-44C0-B6B4-4AB62AC38622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284040" y="455760"/>
            <a:ext cx="8574120" cy="113328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284040" y="1577880"/>
            <a:ext cx="8575920" cy="136800"/>
            <a:chOff x="284040" y="1577880"/>
            <a:chExt cx="8575920" cy="136800"/>
          </a:xfrm>
        </p:grpSpPr>
        <p:sp>
          <p:nvSpPr>
            <p:cNvPr id="370" name="Rectangle 8"/>
            <p:cNvSpPr/>
            <p:nvPr/>
          </p:nvSpPr>
          <p:spPr>
            <a:xfrm>
              <a:off x="284040" y="1577880"/>
              <a:ext cx="1600200" cy="136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9"/>
            <p:cNvSpPr/>
            <p:nvPr/>
          </p:nvSpPr>
          <p:spPr>
            <a:xfrm>
              <a:off x="1884240" y="1577880"/>
              <a:ext cx="2743200" cy="136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0"/>
            <p:cNvSpPr/>
            <p:nvPr/>
          </p:nvSpPr>
          <p:spPr>
            <a:xfrm>
              <a:off x="4626000" y="1577880"/>
              <a:ext cx="4233960" cy="136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1781280" y="2133720"/>
            <a:ext cx="7076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0920" indent="-4309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868680" indent="-4341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2" marL="1197000" indent="-32832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3" marL="1519920" indent="-322560">
              <a:spcBef>
                <a:spcPts val="2001"/>
              </a:spcBef>
              <a:buClr>
                <a:srgbClr val="40404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4" marL="1842840" indent="-315000"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5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6" marL="1842840" indent="-3150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6794640" y="64368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E060C9-542B-4025-968C-A8ECCD495F6F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00160" y="6436800"/>
            <a:ext cx="61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8305560" y="166320"/>
            <a:ext cx="631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26262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C7F3F-AC2E-42C9-93BA-9B00B47E8639}" type="slidenum">
              <a:rPr b="1" lang="en-US" sz="14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20480" y="584280"/>
            <a:ext cx="7808760" cy="108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ts val="4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Tahoma"/>
                <a:cs typeface="Tahoma"/>
              </a:rPr>
              <a:t>مقاييس تلوث التربة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457200" y="479268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أضاف المقياس الدنماركي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  <a:ea typeface="Arial"/>
              </a:rPr>
              <a:t>Cut-off</a:t>
            </a:r>
            <a:r>
              <a:rPr b="0" lang="ar-SA" sz="2400" spc="-1" strike="noStrike">
                <a:solidFill>
                  <a:srgbClr val="262626"/>
                </a:solidFill>
                <a:latin typeface="Arial"/>
                <a:ea typeface="Arial"/>
              </a:rPr>
              <a:t> خاص للملوثات الضعيفة أو غير المتحركة أو غير المتحللة (</a:t>
            </a: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تعني لا بد من إعادة تأهيل المنطقة خاصة المناطق السكنية والحدائق (المنتزهات)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بالإضافة إلى مقاييس للمياه الجوفية والهواء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457200" y="1782720"/>
            <a:ext cx="5553000" cy="287028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 مثال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: العناصر الثقيلة في الدنمارك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6257520" y="1731960"/>
            <a:ext cx="24289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الجرعة المرجعية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لكل عنص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لكل مسلك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المجموع لكل عنص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3960" indent="-453960" algn="r" rtl="1">
              <a:lnSpc>
                <a:spcPct val="100000"/>
              </a:lnSpc>
              <a:spcBef>
                <a:spcPts val="2001"/>
              </a:spcBef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62626"/>
                </a:solidFill>
                <a:latin typeface="Arial"/>
                <a:cs typeface="Arial"/>
              </a:rPr>
              <a:t>المجموع لجميع العناص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1"/>
          <a:stretch/>
        </p:blipFill>
        <p:spPr>
          <a:xfrm>
            <a:off x="325440" y="1731960"/>
            <a:ext cx="5932440" cy="33274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5" descr=""/>
          <p:cNvPicPr/>
          <p:nvPr/>
        </p:nvPicPr>
        <p:blipFill>
          <a:blip r:embed="rId2"/>
          <a:stretch/>
        </p:blipFill>
        <p:spPr>
          <a:xfrm>
            <a:off x="468360" y="5059440"/>
            <a:ext cx="5635440" cy="161424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ffffff"/>
                </a:solidFill>
                <a:latin typeface="Tahoma"/>
                <a:cs typeface="Tahoma"/>
              </a:rPr>
              <a:t>الخطر الصحي: الجرعة المرجعية مقارنة بالجرعة اليومية</a:t>
            </a:r>
            <a:endParaRPr b="0" lang="en-US" sz="2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  <a:cs typeface="Arial"/>
              </a:rPr>
              <a:t>حساب الجرعة اليومية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19" name="Picture 4" descr=""/>
          <p:cNvPicPr/>
          <p:nvPr/>
        </p:nvPicPr>
        <p:blipFill>
          <a:blip r:embed="rId1"/>
          <a:stretch/>
        </p:blipFill>
        <p:spPr>
          <a:xfrm>
            <a:off x="731880" y="1946160"/>
            <a:ext cx="7839000" cy="8193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" descr=""/>
          <p:cNvPicPr/>
          <p:nvPr/>
        </p:nvPicPr>
        <p:blipFill>
          <a:blip r:embed="rId2"/>
          <a:stretch/>
        </p:blipFill>
        <p:spPr>
          <a:xfrm>
            <a:off x="1685880" y="2765520"/>
            <a:ext cx="5805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  <a:cs typeface="Arial"/>
              </a:rPr>
              <a:t>حساب الجرعة اليومية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822" name="Picture 4" descr=""/>
          <p:cNvPicPr/>
          <p:nvPr/>
        </p:nvPicPr>
        <p:blipFill>
          <a:blip r:embed="rId1"/>
          <a:stretch/>
        </p:blipFill>
        <p:spPr>
          <a:xfrm>
            <a:off x="731880" y="1946160"/>
            <a:ext cx="783900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731880" y="2765520"/>
            <a:ext cx="74818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solidFill>
            <a:srgbClr val="262626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ffffff"/>
                </a:solidFill>
                <a:latin typeface="Arial"/>
                <a:cs typeface="Arial"/>
              </a:rPr>
              <a:t>اسئلة مهمة</a:t>
            </a:r>
            <a:r>
              <a:rPr b="0" lang="ar-SA" sz="4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4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401760" y="2133720"/>
            <a:ext cx="8456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توجد مصادر التلوث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المواد السامة التي تسببها تلك المصادر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و التوزيع الحالي للملوثات والنقاط الساخن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النتائج التحليلية تتجاوز المستويات القياسية ومعايير الجود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القيم المرجعية للمقارنة مع النتائج التحليلي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الخصائص التي تؤثر في حركة الملوثات (خواص التربة والمياه، ونمط استخدام الأرض ... الخ)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ما هي مسارات الحركة المحتملة وعمليات النقل التي تسهم في انتشار الملوثات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هناك مستقبلات محتملة حالية أو مستقبلية يمكن أن تتأثر (النظم الإيكولوجية)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03920" indent="-403920" algn="r" rtl="1">
              <a:lnSpc>
                <a:spcPct val="100000"/>
              </a:lnSpc>
              <a:buClr>
                <a:srgbClr val="a6a6a6"/>
              </a:buClr>
              <a:buSzPct val="90000"/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Arial"/>
                <a:cs typeface="Arial"/>
              </a:rPr>
              <a:t>هل يوجد خطر حاضر يهدد الحياة؟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مقاييس تلوث التربة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0" name="Rectangle 3"/>
          <p:cNvSpPr/>
          <p:nvPr/>
        </p:nvSpPr>
        <p:spPr>
          <a:xfrm>
            <a:off x="468360" y="1676520"/>
            <a:ext cx="82612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ولاً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مقاييس عام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قارنة التركيز في التربة مع المدى العام للترب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تغير التركيز مع البعد أو القرب من مصدر التلوث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دى الوفرة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Enrichment factor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عامل الاختلاف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Coefficient Variation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ختلاف التركيز مع البعد عن مصدر التل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زيادة التلوث في الطبقات السطحية عنه في تحت السطح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دى التعرض للتلوث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lution load index (PLI)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المقارنة مع التركيز العام في الترب</a:t>
            </a:r>
            <a:r>
              <a:rPr b="0" lang="ar-SA" sz="27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INDSAY, 197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4714920" y="2071800"/>
          <a:ext cx="3786120" cy="3800520"/>
        </p:xfrm>
        <a:graphic>
          <a:graphicData uri="http://schemas.openxmlformats.org/drawingml/2006/table">
            <a:tbl>
              <a:tblPr/>
              <a:tblGrid>
                <a:gridCol w="534960"/>
                <a:gridCol w="958680"/>
                <a:gridCol w="1081080"/>
                <a:gridCol w="1211400"/>
              </a:tblGrid>
              <a:tr h="379440">
                <a:tc rowSpan="2"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range in 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in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642960" y="2071800"/>
          <a:ext cx="3786120" cy="3800520"/>
        </p:xfrm>
        <a:graphic>
          <a:graphicData uri="http://schemas.openxmlformats.org/drawingml/2006/table">
            <a:tbl>
              <a:tblPr/>
              <a:tblGrid>
                <a:gridCol w="639720"/>
                <a:gridCol w="974880"/>
                <a:gridCol w="960480"/>
                <a:gridCol w="1211040"/>
              </a:tblGrid>
              <a:tr h="379440">
                <a:tc rowSpan="2">
                  <a:txBody>
                    <a:bodyPr tIns="46800" bIns="46800" anchor="ctr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n range in soi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Min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A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0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66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08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812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3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794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5"/>
          <p:cNvSpPr/>
          <p:nvPr/>
        </p:nvSpPr>
        <p:spPr>
          <a:xfrm>
            <a:off x="0" y="1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Map 2 (a, b, c, d)"/>
          <p:cNvPicPr/>
          <p:nvPr/>
        </p:nvPicPr>
        <p:blipFill>
          <a:blip r:embed="rId1"/>
          <a:stretch/>
        </p:blipFill>
        <p:spPr>
          <a:xfrm>
            <a:off x="108000" y="100080"/>
            <a:ext cx="5276880" cy="665784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7"/>
          <p:cNvSpPr/>
          <p:nvPr/>
        </p:nvSpPr>
        <p:spPr>
          <a:xfrm>
            <a:off x="190440" y="260280"/>
            <a:ext cx="14860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جميع الأعما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190440" y="3460680"/>
            <a:ext cx="14860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5-30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9"/>
          <p:cNvSpPr/>
          <p:nvPr/>
        </p:nvSpPr>
        <p:spPr>
          <a:xfrm>
            <a:off x="2819520" y="3460680"/>
            <a:ext cx="1485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مق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30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2819520" y="260280"/>
            <a:ext cx="1485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مق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15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1"/>
          <p:cNvSpPr/>
          <p:nvPr/>
        </p:nvSpPr>
        <p:spPr>
          <a:xfrm>
            <a:off x="5435640" y="765000"/>
            <a:ext cx="34783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ثانياً: التغير مع القرب والبعد عن مصدر التل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ثالثاً: بين الطبقات السطحية وتحت السطح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raditional Arabic"/>
              </a:rPr>
              <a:t>رابعاً: معامل الاختلاف: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raditional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V = (STDEV/Average)*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617040" y="1112760"/>
            <a:ext cx="7844040" cy="4980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خامساً : مدى الوفرة </a:t>
            </a: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Enrichment factor (EF)</a:t>
            </a:r>
            <a:r>
              <a:rPr b="1" lang="ar-SA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 = ((C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C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e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ediment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((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arth's crus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سادساً: </a:t>
            </a: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Pollution load index (PLI)</a:t>
            </a:r>
            <a:r>
              <a:rPr b="1" lang="ar-SA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raditional Arabic"/>
              </a:rPr>
              <a:t>ناتج قسمة تركيز العنصر الحالي على تركيز العنصر المرجعي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سابعاً: مدى التلوث </a:t>
            </a:r>
            <a:r>
              <a:rPr b="0" lang="en-US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Contamination factor</a:t>
            </a:r>
            <a:r>
              <a:rPr b="1" lang="ar-SA" sz="24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14440" indent="-514440"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476360" y="4797360"/>
          <a:ext cx="6624720" cy="1036800"/>
        </p:xfrm>
        <a:graphic>
          <a:graphicData uri="http://schemas.openxmlformats.org/drawingml/2006/table">
            <a:tbl>
              <a:tblPr/>
              <a:tblGrid>
                <a:gridCol w="1582920"/>
                <a:gridCol w="1512720"/>
                <a:gridCol w="1728720"/>
                <a:gridCol w="180036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&gt; 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3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1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ea typeface="Traditional Arabic"/>
                        </a:rPr>
                        <a:t> 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dfff3"/>
                    </a:solidFill>
                  </a:tcPr>
                </a:tc>
              </a:tr>
              <a:tr h="94500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عالي جد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كبي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توس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Calibri"/>
                          <a:cs typeface="Traditional Arabic"/>
                        </a:rPr>
                        <a:t>منخف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ffc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ثامناً: المقاييس الدولية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928800" y="1643040"/>
          <a:ext cx="7385040" cy="4267080"/>
        </p:xfrm>
        <a:graphic>
          <a:graphicData uri="http://schemas.openxmlformats.org/drawingml/2006/table">
            <a:tbl>
              <a:tblPr/>
              <a:tblGrid>
                <a:gridCol w="571320"/>
                <a:gridCol w="671760"/>
                <a:gridCol w="742680"/>
                <a:gridCol w="627120"/>
                <a:gridCol w="811080"/>
                <a:gridCol w="671760"/>
                <a:gridCol w="671400"/>
                <a:gridCol w="673200"/>
                <a:gridCol w="671400"/>
                <a:gridCol w="601560"/>
                <a:gridCol w="67176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fe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fdfdf"/>
                    </a:solidFill>
                  </a:tcPr>
                </a:tc>
              </a:tr>
            </a:tbl>
          </a:graphicData>
        </a:graphic>
      </p:graphicFrame>
      <p:sp>
        <p:nvSpPr>
          <p:cNvPr id="805" name="Rectangle 308"/>
          <p:cNvSpPr/>
          <p:nvPr/>
        </p:nvSpPr>
        <p:spPr>
          <a:xfrm>
            <a:off x="468360" y="5999760"/>
            <a:ext cx="8215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Calibri"/>
              </a:rPr>
              <a:t>A: China; B: Taiwan; C: Australia; , D: Belgium; E: France; F: Italy; G: Norway; H: S. Africa; K: Sweden; L: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Tahoma"/>
              </a:rPr>
              <a:t>اعتبارات لوضع المقاييس والاختيار بينها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851120"/>
            <a:ext cx="8291520" cy="450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78000"/>
          </a:bodyPr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خصائص التربة الكيميائية والمعدنية والفيزيائية لما له من أثر كبير في سلوك الملوثات في التربة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الاستخدام المتوقع للتربة مثل أن تكون معدة للسكنى أو حدائق للنزهة أو مناطق تجارية أو صناعية أو زراعية أو مراعي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الظروف المناخية من حيث درجات الحرارة والأمطار واتجاهات الرياح.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  <a:p>
            <a:pPr marL="415800" indent="-415800" algn="r" rtl="1">
              <a:lnSpc>
                <a:spcPct val="130000"/>
              </a:lnSpc>
              <a:spcBef>
                <a:spcPts val="601"/>
              </a:spcBef>
              <a:buClr>
                <a:srgbClr val="a6a6a6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262626"/>
                </a:solidFill>
                <a:latin typeface="Calibri"/>
                <a:cs typeface="Traditional Arabic"/>
              </a:rPr>
              <a:t>قرب المناطق السكنية من تلك المناطق وإن لم تكن مهيأة لأي نشاط بشري.</a:t>
            </a:r>
            <a:r>
              <a:rPr b="1" lang="en-US" sz="3000" spc="-1" strike="noStrike">
                <a:solidFill>
                  <a:srgbClr val="262626"/>
                </a:solidFill>
                <a:latin typeface="Calibri"/>
                <a:ea typeface="Traditional Arabic"/>
              </a:rPr>
              <a:t> </a:t>
            </a:r>
            <a:endParaRPr b="0" lang="en-US" sz="3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83680" y="630360"/>
            <a:ext cx="857412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 مثال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  <a:ea typeface="Tahoma"/>
              </a:rPr>
              <a:t>: الكادميوم في هولندا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84040" y="1839600"/>
            <a:ext cx="83599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الحد الحرج لتركيز الكادميوم في ترب هولندا 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3.2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-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18</a:t>
            </a:r>
            <a:r>
              <a:rPr b="1" lang="ar-SA" sz="22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 ملجم كجم</a:t>
            </a:r>
            <a:r>
              <a:rPr b="1" lang="ar-SA" sz="2200" spc="-1" strike="noStrike" baseline="30000">
                <a:solidFill>
                  <a:srgbClr val="262626"/>
                </a:solidFill>
                <a:latin typeface="Times New Roman"/>
                <a:ea typeface="Traditional Arabic"/>
              </a:rPr>
              <a:t>-</a:t>
            </a:r>
            <a:r>
              <a:rPr b="1" lang="ar-SA" sz="2200" spc="-1" strike="noStrike" baseline="30000">
                <a:solidFill>
                  <a:srgbClr val="262626"/>
                </a:solidFill>
                <a:latin typeface="Times New Roman"/>
                <a:ea typeface="Traditional Arabic"/>
              </a:rPr>
              <a:t>1</a:t>
            </a:r>
            <a:r>
              <a:rPr b="0" lang="ar-SA" sz="20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 </a:t>
            </a:r>
            <a:r>
              <a:rPr b="1" lang="en-US" sz="26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(</a:t>
            </a:r>
            <a:r>
              <a:rPr b="1" lang="en-GB" sz="26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Brus, et al., 2002</a:t>
            </a:r>
            <a:r>
              <a:rPr b="1" lang="en-GB" sz="26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)</a:t>
            </a:r>
            <a:r>
              <a:rPr b="0" lang="ar-SA" sz="2000" spc="-1" strike="noStrike">
                <a:solidFill>
                  <a:srgbClr val="262626"/>
                </a:solidFill>
                <a:latin typeface="Times New Roman"/>
                <a:ea typeface="Traditional Arabic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262626"/>
                </a:solidFill>
                <a:latin typeface="Times New Roman"/>
                <a:cs typeface="Traditional Arabic"/>
              </a:rPr>
              <a:t>وزارة الزراعة الهولندية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914400" indent="-457200" algn="r" rtl="1">
              <a:lnSpc>
                <a:spcPct val="150000"/>
              </a:lnSpc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500040" y="3857760"/>
          <a:ext cx="8143920" cy="2286000"/>
        </p:xfrm>
        <a:graphic>
          <a:graphicData uri="http://schemas.openxmlformats.org/drawingml/2006/table">
            <a:tbl>
              <a:tblPr/>
              <a:tblGrid>
                <a:gridCol w="5170680"/>
                <a:gridCol w="1085760"/>
                <a:gridCol w="896760"/>
                <a:gridCol w="99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(Fodder for cattl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(Food for human consump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 (Flow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0:04:16Z</dcterms:created>
  <dc:creator>Client Admin</dc:creator>
  <dc:description/>
  <dc:language>en-US</dc:language>
  <cp:lastModifiedBy>Abdullah Al-Farraj</cp:lastModifiedBy>
  <dcterms:modified xsi:type="dcterms:W3CDTF">2014-10-12T04:55:52Z</dcterms:modified>
  <cp:revision>79</cp:revision>
  <dc:subject/>
  <dc:title>Soil                                 : soil degradation</dc:title>
</cp:coreProperties>
</file>