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9BF-0A72-4DC1-883D-9E2C172B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B50-76A4-4219-986F-F156F695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649-5795-431E-9289-F05F3EED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05F-2FB2-4BD7-ACEC-03A30588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8F9C-EEC8-4130-B850-2C1BE4C0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EAE7-F8F9-4391-9FB6-1E56FDA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35E8-41FB-4407-AD14-A84AADD6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81BE-9737-4FD4-93E8-A61D4762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32F7-F430-4855-B06B-CC4091AE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19CD-54F2-48C7-97B9-55909424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1A60-6C67-48F8-8AEC-DF1A8395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D61-4124-4AA7-AEC4-E81BE192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0350-349D-4952-AE7B-8B0FFAE0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4866-5FDE-40DA-9AF3-E7B311A7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68F0-0C46-4DF8-9D31-00C8C37E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ADD0-6A9D-489D-865C-F8013601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B789-47EA-4570-B132-8B51E299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1065B-9B3A-4352-AC5D-E3E85DF8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DEEA7-0CDF-4E57-A9FD-FECF470A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F8ADB-6917-4233-BD66-8FABB626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3687E-0E93-4571-911F-9B38CA71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C363D-269D-4245-B512-07741811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20C-CBBE-41F4-A958-4B1091F9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2A433-609F-42EE-9E04-B3BAD7F2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08BA4-3F12-47DF-93C9-EC87AA2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12498-BAC3-486E-BDCC-FC0EB66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D3FA6-BCED-4C9F-9B0A-15FD46A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A50D6-FC0C-4445-B67C-64710E82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A0BD7-6E59-40F3-AD86-5C621FEE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132D3-ABD7-4AA8-B0BB-C875E956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44E44-0720-456A-AB57-65829C36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140FE-997E-44CD-BB5C-89DFE48C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51FF1-12AD-40CF-850A-85B3E22B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8ED-4437-46DB-814A-D8E00491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70144-3983-4796-84D5-7C6C5B79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A7DE3-6F80-4684-B467-9B93BD74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C2666-ECE4-4EE3-B361-9E25EB97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91AD1-BA11-41ED-9C57-7EE109D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B7751-A96F-4361-B13E-0C7E1798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B01998-7D8B-40DE-BFE7-9859B28E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35E4A-10A5-4B26-9003-F76298D7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2DF2D-D844-428A-9DB0-E238EDD7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42759-E724-4384-B760-0C333FD6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5B65F-32A4-4E33-B056-E910E73E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89F-3303-44A3-8331-B57F7392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9711B-06A7-4336-ACB9-B399B4CD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B6BEA-D5BE-44D5-939B-42D9B3E5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76456-C324-4B0C-AE5C-EBE81805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508E9-0645-4ED9-ABD4-3FDE7102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3FC4E-D205-475C-8D41-3D2D181E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0479C-CFDE-467E-809E-46FAE9C2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252F6-EA51-412C-AD32-C2EE483D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59CC9-7477-42A5-9665-B4A4418A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EC8D0-0622-4608-8CA0-43205CDE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3CFAF-E949-4D0C-9F68-D89189CB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BE4-2441-451A-B4A1-B9ED1DA7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1D6FA-5AAD-46C6-91FE-C4BDE6F3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3BA99-58C6-48CB-A951-AADEE358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5D798-C30E-471A-8B12-6E179DD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58CD5-BEC6-444A-9D7B-5AF3DCC1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292D-276B-4B34-BDE1-A974FE29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2D4C0-C276-460A-866E-0E1C8875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56999-7505-4074-9367-8FCF1526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7395-FCBB-4D1F-AEDC-1BAC443A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23EC0-CD2F-4FF2-B3A6-5BE46340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2B86C-CBCE-4023-8542-F118650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071-B93B-4D1C-A250-0C35B26C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2D09-7BA5-4FDB-A304-F50C9730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9F48-6CF7-45B7-92B4-B572E4F2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9B3F-6E1C-4984-B968-75D86780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CCE8C-74C3-4A12-ACAB-73AA8C9F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38788-EBEA-4F16-86AD-00240157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F78BB-A91B-48A6-A828-DBFA921D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5B8A0-76B2-4748-AD2C-FC0CE85F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7B249-DC45-4E1A-9957-F3FB352B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EF5F4-9A62-47D1-9085-BF6B4C1A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CDEE8-7CBC-461F-A4AC-CD4EEB6F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576-BDCA-4744-B20A-6D998285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AD668-6586-4468-A4F8-B82BB68C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A108E-BBC3-4620-9001-ADDCA4A5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A4AA4-8D0E-48E4-A8A5-DDC487D6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EB458-3D39-4E82-BE17-46CD3F2F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394A0-6580-4323-B39F-CFA630DD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818BA-1658-4DD5-94BB-487EC34E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E88A6-D580-4E96-BCEA-341D5E9C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0525E-BCFB-4FE0-860E-72A6DEBE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50B9A-53BB-4747-AF59-FE97D2EB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650CA-F6F1-414C-B877-76ACF309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07D-F764-477A-B6F4-5DFCEA97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319BE-886B-422C-ACED-8AA21BD8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7FFF2-6C32-468B-9473-5CA16267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C24C3-7C39-4A98-BFD8-BB1BCB94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8D37-1C68-47D9-A62C-BD812E6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15227-D525-4205-A6B9-745FBF2D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D1766-ED8D-4077-9476-18693DA9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7CD28-7F72-45C9-AFF2-8C4C842D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7551-30B1-4ACB-B8D2-BB641863B123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814A-0B5E-4AE2-A2C6-C616DBD0F385}" type="slidenum">
              <a:rPr b="1" lang="ar-S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3DC9-A85C-468F-8868-548272ED7B70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394B-21E5-4FAC-B03C-42A3F32F361F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E5CD-0DD4-4FF7-B12D-47F7198FA009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9385-EEB7-4349-B8B7-C90A7429466F}" type="slidenum">
              <a:rPr b="1" lang="ar-S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5ECD-95CF-4FB4-A147-C02C12DF8FB4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F679-E1F1-4A37-9451-91A4BF02F96B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عنوان 3" descr=""/>
          <p:cNvPicPr/>
          <p:nvPr/>
        </p:nvPicPr>
        <p:blipFill>
          <a:blip r:embed="rId1"/>
          <a:stretch/>
        </p:blipFill>
        <p:spPr>
          <a:xfrm>
            <a:off x="1262160" y="334800"/>
            <a:ext cx="6473880" cy="10004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11640" y="1988640"/>
            <a:ext cx="1655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مصادر موجودة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 داخل الصف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عنوان فرعي 4"/>
          <p:cNvSpPr/>
          <p:nvPr/>
        </p:nvSpPr>
        <p:spPr>
          <a:xfrm>
            <a:off x="3203640" y="1989000"/>
            <a:ext cx="345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مصادر موجو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داخل المدرس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عنوان فرعي 4"/>
          <p:cNvSpPr/>
          <p:nvPr/>
        </p:nvSpPr>
        <p:spPr>
          <a:xfrm>
            <a:off x="395280" y="1916280"/>
            <a:ext cx="345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مصادر موجو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خارج المدرس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03280" y="2637000"/>
            <a:ext cx="647712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txBody>
          <a:bodyPr anchor="b">
            <a:noAutofit/>
          </a:bodyPr>
          <a:p>
            <a:pPr algn="r" rtl="1"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ستخدام جهاز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M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سافة 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58560" y="549000"/>
            <a:ext cx="6705720" cy="685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مقترحات للتقليل من مصادر الضوضاء في البيئة التعليمية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عنوان فرعي 2"/>
          <p:cNvSpPr/>
          <p:nvPr/>
        </p:nvSpPr>
        <p:spPr>
          <a:xfrm>
            <a:off x="971640" y="1773360"/>
            <a:ext cx="6705360" cy="685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مقترحات تتعلق بالطالب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عنوان فرعي 2"/>
          <p:cNvSpPr/>
          <p:nvPr/>
        </p:nvSpPr>
        <p:spPr>
          <a:xfrm>
            <a:off x="1258920" y="476280"/>
            <a:ext cx="6705720" cy="685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مقترحات تتعلق بالص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1116000" y="1484280"/>
            <a:ext cx="647712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Tw Cen MT"/>
              </a:rPr>
              <a:t>الحائط  - الركائز المطاطية – إغلاق النوافذ والأبواب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Tw Cen MT"/>
              </a:rPr>
              <a:t>أخذ الدور في الحديث – الشريط المطاطي للباب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عنوان فرعي 2"/>
          <p:cNvSpPr/>
          <p:nvPr/>
        </p:nvSpPr>
        <p:spPr>
          <a:xfrm>
            <a:off x="1403280" y="2781360"/>
            <a:ext cx="6705720" cy="685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مقترحات تتعلق بالمدرسة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403280" y="3429000"/>
            <a:ext cx="648180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Tw Cen MT"/>
              </a:rPr>
              <a:t>مكان أجهزة التدفئ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Tw Cen MT"/>
              </a:rPr>
              <a:t>زرع الأشجار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Tw Cen MT"/>
              </a:rPr>
              <a:t>بناء واختيار المدرسة (المكان </a:t>
            </a:r>
            <a:r>
              <a:rPr b="0" lang="ar-SA" sz="11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779640" y="1483920"/>
            <a:ext cx="2160360" cy="685800"/>
          </a:xfrm>
          <a:prstGeom prst="rect">
            <a:avLst/>
          </a:prstGeom>
          <a:solidFill>
            <a:srgbClr val="efe0be"/>
          </a:solidFill>
          <a:ln w="0">
            <a:noFill/>
          </a:ln>
        </p:spPr>
        <p:txBody>
          <a:bodyPr anchor="ctr">
            <a:no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b95b22"/>
                </a:solidFill>
                <a:latin typeface="Tw Cen MT"/>
              </a:rPr>
              <a:t>الإلقاء والتواصل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عنوان فرعي 2"/>
          <p:cNvSpPr/>
          <p:nvPr/>
        </p:nvSpPr>
        <p:spPr>
          <a:xfrm>
            <a:off x="1258920" y="476280"/>
            <a:ext cx="6705720" cy="685800"/>
          </a:xfrm>
          <a:prstGeom prst="rect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الاستراتيجيات السمعي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77120" cy="290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عدم المبالغة في تحريك الشفاة.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- الإشارة إلى الطالب المتكلم.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-إبعاد الأدوات التعليمية عن وجه المعلم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-إعطاء الطالب التعليمات المتسلسلة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-مواجهة الطلاب عند الكلام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-استخدام البروجكتر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عنوان فرعي 2"/>
          <p:cNvSpPr/>
          <p:nvPr/>
        </p:nvSpPr>
        <p:spPr>
          <a:xfrm>
            <a:off x="3492360" y="836640"/>
            <a:ext cx="2159280" cy="685800"/>
          </a:xfrm>
          <a:prstGeom prst="rect">
            <a:avLst/>
          </a:prstGeom>
          <a:solidFill>
            <a:srgbClr val="efe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95b22"/>
                </a:solidFill>
                <a:latin typeface="Tw Cen MT"/>
              </a:rPr>
              <a:t>الاستجواب والتوضي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1403280" y="1989000"/>
            <a:ext cx="6477120" cy="290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 - لفت انتباه الطالب لتغير الموضو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- التأكد من فهم المهمة قبل التطبي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- التشجيع على استراتيجيات التصليح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w Cen MT"/>
              </a:rPr>
              <a:t>- التكرار ,والإعادة بطريقة أخر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عنوان فرعي 2"/>
          <p:cNvSpPr/>
          <p:nvPr/>
        </p:nvSpPr>
        <p:spPr>
          <a:xfrm>
            <a:off x="3492360" y="836640"/>
            <a:ext cx="2159280" cy="685800"/>
          </a:xfrm>
          <a:prstGeom prst="rect">
            <a:avLst/>
          </a:prstGeom>
          <a:solidFill>
            <a:srgbClr val="efe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b95b22"/>
                </a:solidFill>
                <a:latin typeface="Tw Cen MT"/>
              </a:rPr>
              <a:t>المحتو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عنوان 1"/>
          <p:cNvSpPr/>
          <p:nvPr/>
        </p:nvSpPr>
        <p:spPr>
          <a:xfrm>
            <a:off x="1403280" y="1989000"/>
            <a:ext cx="6477120" cy="290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ar-SA" sz="4300" spc="-1" strike="noStrike">
                <a:solidFill>
                  <a:srgbClr val="000000"/>
                </a:solidFill>
                <a:latin typeface="Tw Cen MT"/>
              </a:rPr>
              <a:t> - التحضير المسبق 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000000"/>
                </a:solidFill>
                <a:latin typeface="Tw Cen MT"/>
              </a:rPr>
              <a:t>- استخدام السياق البصري 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عنوان فرعي 2"/>
          <p:cNvSpPr/>
          <p:nvPr/>
        </p:nvSpPr>
        <p:spPr>
          <a:xfrm>
            <a:off x="3635280" y="836640"/>
            <a:ext cx="2160720" cy="685800"/>
          </a:xfrm>
          <a:prstGeom prst="rect">
            <a:avLst/>
          </a:prstGeom>
          <a:solidFill>
            <a:srgbClr val="efe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95b22"/>
                </a:solidFill>
                <a:latin typeface="Tw Cen MT"/>
              </a:rPr>
              <a:t>تطبيق الأهداف السمعي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عنوان 1"/>
          <p:cNvSpPr/>
          <p:nvPr/>
        </p:nvSpPr>
        <p:spPr>
          <a:xfrm>
            <a:off x="1403280" y="2276640"/>
            <a:ext cx="6121440" cy="158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ar-SA" sz="33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استخدام الورقة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- تغيير التعليمات الروتيني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7:29:41Z</dcterms:created>
  <dc:creator>MAHA</dc:creator>
  <dc:description/>
  <dc:language>en-US</dc:language>
  <cp:lastModifiedBy>Maha Alhajri</cp:lastModifiedBy>
  <dcterms:modified xsi:type="dcterms:W3CDTF">2016-10-24T04:28:30Z</dcterms:modified>
  <cp:revision>9</cp:revision>
  <dc:subject/>
  <dc:title>مصادر الضوضاء في البيئة التعليمية للطفل </dc:title>
</cp:coreProperties>
</file>