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C5D2-9B4A-4896-ADE8-94725F892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61AE-41E0-4ED6-85A0-7621A0F65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FF0B-59AE-464E-A813-425BF94C3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6750-8CE0-4C64-B52F-F3E431A4A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948D1-6259-4822-93CC-3536A2D25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04F89-5326-4A13-ACB4-FD728AE60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3359A-82C2-4590-AE89-913F695B0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8CA63-0B91-4921-A2EA-E1B69BDC6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E6D92-9F94-479C-A524-8009CFDBD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A5B28-85AA-4FDF-AC4B-EBF9186CF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CAD7A-4B67-4BFD-8D1A-7869D66C3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B38F-C454-4B31-A1C3-ED0306331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C81BA-96BE-4225-939D-AF5CFDAB7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30836-FBBC-4D05-AC91-627908648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82097-F535-4CAC-AEC5-338E3E828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40A56-B977-4817-8EFF-42AB4DBAF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4E374-A25B-4DE0-9593-7B522E394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3D35ED-8E28-4FAC-9542-833A6CC85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99C53F-BB9A-4FA0-94E9-EDA6645EF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5B9CF6-27A0-4E9E-B494-8D3C0D26F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913CB2-19A8-4BE7-945F-499F18CDA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BA476A-10F6-4EAE-BDBE-2189E18F0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6436-2F76-45C8-AFF0-B5CB5BA63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1E56B9-40C5-4D75-AE02-FB6B5867C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20D26F-9C05-4F6F-996E-E88CB43F6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D89F3B-28C3-4472-9F17-554E2E103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08BE56-BCB2-4DBF-88DF-46E6CE1D6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502D50-B538-4984-82C0-C5AAA4562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F054DB-7A7D-4954-B114-5F2C8A0BF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412272-E345-4BEE-921C-68C84AB67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DEBB098-B2C3-493D-9D23-5A55DE378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291CBC0-0AF9-4D8F-BA87-C6E1E1EBC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A34CE71-36FC-47D3-80CB-3A55F7517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8A9E-3AE6-45F2-8039-D93BB9DE8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51B9820-39F5-49E6-895F-3A3F2CF0A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4B77203-157C-413D-BAD9-0F0431AD3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0381B1E-7C6D-43AA-A4F5-AFA765BC6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18AD51C-3A07-4449-91C5-925016DD0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5C8B281-4AA2-4DA0-8002-1BAE841D3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9D68051-5619-4818-8F4A-702B2F3D6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031C19-1E2A-4C5E-AFB1-BC35C4B74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86BAF63-2CC0-46C4-B2F9-75460AC42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26ECA0-4E0A-45A5-BA9C-A6A210DC9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A0509D-E914-49EB-B729-46F72EEA1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A4DA-2C91-41C1-BF1C-C34C6880A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AD69BE-E999-4919-BF8E-5152C67E1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01B168-3467-4AF5-9707-481F289C3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E0478C-2184-48F3-BC6E-9364AC902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9673C8-6041-46E5-B700-C5C3936EA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56EEA9-42CF-4999-83B0-67E7EAEAA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5A076E-040E-432D-9BB3-9059946BE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8EB9D0-8922-4189-94F8-79290BC02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B41D73D-AF4A-47C0-8771-F006E7630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2EAA7D-38A2-4665-8533-57D5E7BB2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E1581E-144A-4F13-85EC-2B8F15CE9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71A3-A777-4DCA-90CF-55A959ED4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4198AA-828F-405A-9026-D37C9C1EA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3BB2CF-6952-4D61-9E42-F959D9F68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76E882-5CEB-4734-946F-0B7DB22B8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E3BD1A-A7D2-4C09-9480-E7505ADDF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A14E5D-EA2E-4547-A966-A530D44BB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1D1F4F-C878-4FB0-8327-DF50EE7CE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D49193-E8F8-490A-A26D-954476F5E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FFE2BD-BB67-4F0B-86C8-2ED5C1183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82E6CC-066D-44D7-BDDB-906E42461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F906A3-0837-4DF9-9151-EBD4117DA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3917-1E1D-4FA5-9813-A758CEEBE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B9D665-813B-4BFD-A2EB-A1F815106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3CA3F0-B350-4BE6-A32E-97AD61AAD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B8946D-6D69-4AAE-843B-D15D8F246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00D8F4C-76B9-4BB3-BCB6-E21D3089E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5C68966-A24A-48D2-924C-B6FC2B68C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0058807-6702-431B-8E49-B51AC7AA4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B69CDB0-A677-4773-8834-DA9070F31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4E1F9E4-1FBF-4835-B218-F065BDC63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FFE7D3F-AA1A-42D6-8582-FD09AA44A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1B51E30-51FB-4426-8565-F6808051E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5B0F-C5BE-4111-A4DE-8F3714E74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70C22B6-BCC4-4184-938F-053B2D537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D04ABB2-FA07-403A-A33E-E72E4A264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1C641E8-4717-459F-BA8B-DEB066514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91E56B0-30CF-473B-9337-5F5CE953D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C23EE4A-7F5D-42B8-A1D0-46D4AAD41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813098-762A-4557-89C5-A05E7116F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0290F3-8A57-4264-93F6-70E89270C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2E23CB-C991-40FE-B675-FAF2A6E29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92FDAD-26EC-4C7E-B788-CD590345E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A6DA7B-D5C8-4F85-9F52-E880418E8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D831-1900-4DA9-B948-B72FD7011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C63E20-4AC2-4E1B-AA54-C70F69F0A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6B5536-1DED-430D-8504-3978D143D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045DD4-F53D-40E4-94F9-A25A16A7D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4B0209-466D-4AA6-AC92-384E17B86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2B7429-CF33-495C-8355-CAA4247C2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CF960D-BBB7-4115-BE66-8279F710E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67744F-5029-4E16-80A7-3FD0C7838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مستطيل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مستطيل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مستطيل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DB47A-9B3E-4820-A50B-C5A71AC4BDE1}" type="slidenum">
              <a:rPr b="1" lang="ar-SA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مستطيل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مستطيل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مستطيل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D7E40-6579-4CAD-B8D3-A438F9D363A8}" type="slidenum">
              <a:rPr b="1" lang="ar-SA" sz="1400" spc="-1" strike="noStrike">
                <a:solidFill>
                  <a:srgbClr val="ebddc3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مستطيل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مستطيل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مستطيل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86CB2-0581-4904-9644-B44F5FB05396}" type="slidenum">
              <a:rPr b="1" lang="ar-SA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مستطيل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مستطيل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مستطيل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68422-CECF-4704-B2D1-A1F012871927}" type="slidenum">
              <a:rPr b="1" lang="ar-SA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مستطيل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مستطيل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مستطيل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7A10E-0DE3-486C-8244-26354B5D3D38}" type="slidenum">
              <a:rPr b="1" lang="ar-SA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6B1EC-5A52-4932-9908-4BE776E8C86E}" type="slidenum">
              <a:rPr b="1" lang="ar-SA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مستطيل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مستطيل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مستطيل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مستطيل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D32FE-5096-4022-828A-5B7D6BB26C4B}" type="slidenum">
              <a:rPr b="1" lang="ar-SA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مستطيل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مستطيل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مستطيل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2A079-BBA5-4B44-B6DB-5EA1B5BF3BA8}" type="slidenum">
              <a:rPr b="1" lang="ar-SA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عنوان 3" descr=""/>
          <p:cNvPicPr/>
          <p:nvPr/>
        </p:nvPicPr>
        <p:blipFill>
          <a:blip r:embed="rId1"/>
          <a:stretch/>
        </p:blipFill>
        <p:spPr>
          <a:xfrm>
            <a:off x="1262160" y="334800"/>
            <a:ext cx="6473880" cy="1000440"/>
          </a:xfrm>
          <a:prstGeom prst="rect">
            <a:avLst/>
          </a:prstGeom>
          <a:ln w="0">
            <a:noFill/>
          </a:ln>
        </p:spPr>
      </p:pic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6011640" y="1988640"/>
            <a:ext cx="1655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Tw Cen MT"/>
              </a:rPr>
              <a:t>مصادر موجودة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Tw Cen MT"/>
              </a:rPr>
              <a:t> داخل الصف 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52" name="عنوان فرعي 4"/>
          <p:cNvSpPr/>
          <p:nvPr/>
        </p:nvSpPr>
        <p:spPr>
          <a:xfrm>
            <a:off x="3203640" y="1989000"/>
            <a:ext cx="3456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Tw Cen MT"/>
              </a:rPr>
              <a:t>مصادر موجود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Tw Cen MT"/>
              </a:rPr>
              <a:t>داخل المدرسة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عنوان فرعي 4"/>
          <p:cNvSpPr/>
          <p:nvPr/>
        </p:nvSpPr>
        <p:spPr>
          <a:xfrm>
            <a:off x="395280" y="1916280"/>
            <a:ext cx="3456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Tw Cen MT"/>
              </a:rPr>
              <a:t>مصادر موجود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Tw Cen MT"/>
              </a:rPr>
              <a:t>خارج المدرسة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03280" y="2637000"/>
            <a:ext cx="6477120" cy="1828800"/>
          </a:xfrm>
          <a:prstGeom prst="rect">
            <a:avLst/>
          </a:prstGeom>
          <a:solidFill>
            <a:srgbClr val="ffffff"/>
          </a:solidFill>
          <a:ln w="19080">
            <a:solidFill>
              <a:srgbClr val="dd8047"/>
            </a:solidFill>
            <a:miter/>
          </a:ln>
        </p:spPr>
        <p:txBody>
          <a:bodyPr anchor="b">
            <a:noAutofit/>
          </a:bodyPr>
          <a:p>
            <a:pPr algn="r" rtl="1">
              <a:buClr>
                <a:srgbClr val="000000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w Cen MT"/>
              </a:rPr>
              <a:t>استخدام جهاز 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FM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ar-SA" sz="2800" spc="-1" strike="noStrike">
                <a:solidFill>
                  <a:srgbClr val="000000"/>
                </a:solidFill>
                <a:latin typeface="Tw Cen MT"/>
              </a:rPr>
              <a:t>المسافة </a:t>
            </a:r>
            <a:endParaRPr b="0" lang="en-US" sz="28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1258560" y="549000"/>
            <a:ext cx="6705720" cy="685800"/>
          </a:xfrm>
          <a:prstGeom prst="rect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txBody>
          <a:bodyPr anchor="ctr">
            <a:noAutofit/>
          </a:bodyPr>
          <a:p>
            <a:pPr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ffffff"/>
                </a:solidFill>
                <a:latin typeface="Tw Cen MT"/>
              </a:rPr>
              <a:t>مقترحات للتقليل من مصادر الضوضاء في البيئة التعليمية 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56" name="عنوان فرعي 2"/>
          <p:cNvSpPr/>
          <p:nvPr/>
        </p:nvSpPr>
        <p:spPr>
          <a:xfrm>
            <a:off x="971640" y="1773360"/>
            <a:ext cx="6705360" cy="685800"/>
          </a:xfrm>
          <a:prstGeom prst="rect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ffffff"/>
                </a:solidFill>
                <a:latin typeface="Tw Cen MT"/>
              </a:rPr>
              <a:t>مقترحات تتعلق بالطالب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2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59" name="عنوان فرعي 2"/>
          <p:cNvSpPr/>
          <p:nvPr/>
        </p:nvSpPr>
        <p:spPr>
          <a:xfrm>
            <a:off x="1258920" y="476280"/>
            <a:ext cx="6705720" cy="685800"/>
          </a:xfrm>
          <a:prstGeom prst="rect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ffffff"/>
                </a:solidFill>
                <a:latin typeface="Tw Cen MT"/>
              </a:rPr>
              <a:t>مقترحات تتعلق بالصف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عنوان 1"/>
          <p:cNvSpPr/>
          <p:nvPr/>
        </p:nvSpPr>
        <p:spPr>
          <a:xfrm>
            <a:off x="1116000" y="1484280"/>
            <a:ext cx="6477120" cy="576360"/>
          </a:xfrm>
          <a:prstGeom prst="rect">
            <a:avLst/>
          </a:prstGeom>
          <a:solidFill>
            <a:srgbClr val="ffffff"/>
          </a:solidFill>
          <a:ln w="19080">
            <a:solidFill>
              <a:srgbClr val="dd80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700" spc="-1" strike="noStrike">
                <a:solidFill>
                  <a:srgbClr val="000000"/>
                </a:solidFill>
                <a:latin typeface="Tw Cen MT"/>
              </a:rPr>
              <a:t>الحائط  - الركائز المطاطية – إغلاق النوافذ والأبواب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700" spc="-1" strike="noStrike">
                <a:solidFill>
                  <a:srgbClr val="000000"/>
                </a:solidFill>
                <a:latin typeface="Tw Cen MT"/>
              </a:rPr>
              <a:t>أخذ الدور في الحديث – الشريط المطاطي للباب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عنوان فرعي 2"/>
          <p:cNvSpPr/>
          <p:nvPr/>
        </p:nvSpPr>
        <p:spPr>
          <a:xfrm>
            <a:off x="1403280" y="2781360"/>
            <a:ext cx="6705720" cy="685800"/>
          </a:xfrm>
          <a:prstGeom prst="rect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ffffff"/>
                </a:solidFill>
                <a:latin typeface="Tw Cen MT"/>
              </a:rPr>
              <a:t>مقترحات تتعلق بالمدرسة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عنوان 1"/>
          <p:cNvSpPr/>
          <p:nvPr/>
        </p:nvSpPr>
        <p:spPr>
          <a:xfrm>
            <a:off x="1403280" y="3429000"/>
            <a:ext cx="6481800" cy="863640"/>
          </a:xfrm>
          <a:prstGeom prst="rect">
            <a:avLst/>
          </a:prstGeom>
          <a:solidFill>
            <a:srgbClr val="ffffff"/>
          </a:solidFill>
          <a:ln w="19080">
            <a:solidFill>
              <a:srgbClr val="dd80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700" spc="-1" strike="noStrike">
                <a:solidFill>
                  <a:srgbClr val="000000"/>
                </a:solidFill>
                <a:latin typeface="Tw Cen MT"/>
              </a:rPr>
              <a:t>مكان أجهزة التدفئة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700" spc="-1" strike="noStrike">
                <a:solidFill>
                  <a:srgbClr val="000000"/>
                </a:solidFill>
                <a:latin typeface="Tw Cen MT"/>
              </a:rPr>
              <a:t>زرع الأشجار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700" spc="-1" strike="noStrike">
                <a:solidFill>
                  <a:srgbClr val="000000"/>
                </a:solidFill>
                <a:latin typeface="Tw Cen MT"/>
              </a:rPr>
              <a:t>بناء واختيار المدرسة (المكان </a:t>
            </a:r>
            <a:r>
              <a:rPr b="0" lang="ar-SA" sz="1100" spc="-1" strike="noStrike">
                <a:solidFill>
                  <a:srgbClr val="000000"/>
                </a:solidFill>
                <a:latin typeface="Tw Cen MT"/>
              </a:rPr>
              <a:t>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3779640" y="1483920"/>
            <a:ext cx="2160360" cy="685800"/>
          </a:xfrm>
          <a:prstGeom prst="rect">
            <a:avLst/>
          </a:prstGeom>
          <a:solidFill>
            <a:srgbClr val="efe0be"/>
          </a:solidFill>
          <a:ln w="0">
            <a:noFill/>
          </a:ln>
        </p:spPr>
        <p:txBody>
          <a:bodyPr anchor="ctr">
            <a:noAutofit/>
          </a:bodyPr>
          <a:p>
            <a:pPr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b95b22"/>
                </a:solidFill>
                <a:latin typeface="Tw Cen MT"/>
              </a:rPr>
              <a:t>الإلقاء والتواصل 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64" name="عنوان فرعي 2"/>
          <p:cNvSpPr/>
          <p:nvPr/>
        </p:nvSpPr>
        <p:spPr>
          <a:xfrm>
            <a:off x="1258920" y="476280"/>
            <a:ext cx="6705720" cy="685800"/>
          </a:xfrm>
          <a:prstGeom prst="rect">
            <a:avLst/>
          </a:prstGeom>
          <a:solidFill>
            <a:srgbClr val="dd8047"/>
          </a:solidFill>
          <a:ln w="47520">
            <a:solidFill>
              <a:srgbClr val="ffffff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ffffff"/>
                </a:solidFill>
                <a:latin typeface="Tw Cen MT"/>
              </a:rPr>
              <a:t>الاستراتيجيات السمعية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title"/>
          </p:nvPr>
        </p:nvSpPr>
        <p:spPr>
          <a:xfrm>
            <a:off x="1763640" y="2349000"/>
            <a:ext cx="6477120" cy="2908440"/>
          </a:xfrm>
          <a:prstGeom prst="rect">
            <a:avLst/>
          </a:prstGeom>
          <a:solidFill>
            <a:srgbClr val="ffffff"/>
          </a:solidFill>
          <a:ln w="19080">
            <a:solidFill>
              <a:srgbClr val="dd8047"/>
            </a:solidFill>
            <a:miter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ar-SA" sz="4000" spc="-1" strike="noStrike">
                <a:solidFill>
                  <a:srgbClr val="000000"/>
                </a:solidFill>
                <a:latin typeface="Tw Cen MT"/>
              </a:rPr>
              <a:t>-</a:t>
            </a:r>
            <a:r>
              <a:rPr b="0" lang="ar-SA" sz="2000" spc="-1" strike="noStrike">
                <a:solidFill>
                  <a:srgbClr val="000000"/>
                </a:solidFill>
                <a:latin typeface="Tw Cen MT"/>
              </a:rPr>
              <a:t> عدم المبالغة في تحريك الشفاة.</a:t>
            </a:r>
            <a:br>
              <a:rPr sz="2000"/>
            </a:br>
            <a:r>
              <a:rPr b="0" lang="ar-SA" sz="2000" spc="-1" strike="noStrike">
                <a:solidFill>
                  <a:srgbClr val="000000"/>
                </a:solidFill>
                <a:latin typeface="Tw Cen MT"/>
              </a:rPr>
              <a:t>- الإشارة إلى الطالب المتكلم.</a:t>
            </a:r>
            <a:br>
              <a:rPr sz="2000"/>
            </a:br>
            <a:r>
              <a:rPr b="0" lang="ar-SA" sz="2000" spc="-1" strike="noStrike">
                <a:solidFill>
                  <a:srgbClr val="000000"/>
                </a:solidFill>
                <a:latin typeface="Tw Cen MT"/>
              </a:rPr>
              <a:t>-إبعاد الأدوات التعليمية عن وجه المعلم </a:t>
            </a:r>
            <a:br>
              <a:rPr sz="2000"/>
            </a:br>
            <a:r>
              <a:rPr b="0" lang="ar-SA" sz="2000" spc="-1" strike="noStrike">
                <a:solidFill>
                  <a:srgbClr val="000000"/>
                </a:solidFill>
                <a:latin typeface="Tw Cen MT"/>
              </a:rPr>
              <a:t>-إعطاء الطالب التعليمات المتسلسلة</a:t>
            </a:r>
            <a:br>
              <a:rPr sz="2000"/>
            </a:br>
            <a:r>
              <a:rPr b="0" lang="ar-SA" sz="2000" spc="-1" strike="noStrike">
                <a:solidFill>
                  <a:srgbClr val="000000"/>
                </a:solidFill>
                <a:latin typeface="Tw Cen MT"/>
              </a:rPr>
              <a:t>-مواجهة الطلاب عند الكلام </a:t>
            </a:r>
            <a:br>
              <a:rPr sz="2000"/>
            </a:br>
            <a:r>
              <a:rPr b="0" lang="ar-SA" sz="2000" spc="-1" strike="noStrike">
                <a:solidFill>
                  <a:srgbClr val="000000"/>
                </a:solidFill>
                <a:latin typeface="Tw Cen MT"/>
              </a:rPr>
              <a:t>-استخدام البروجكتر </a:t>
            </a:r>
            <a:br>
              <a:rPr sz="4000"/>
            </a:br>
            <a:r>
              <a:rPr b="0" lang="ar-SA" sz="40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4000" spc="-1" strike="noStrike">
              <a:solidFill>
                <a:srgbClr val="ebddc3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2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68" name="عنوان فرعي 2"/>
          <p:cNvSpPr/>
          <p:nvPr/>
        </p:nvSpPr>
        <p:spPr>
          <a:xfrm>
            <a:off x="3492360" y="836640"/>
            <a:ext cx="2159280" cy="685800"/>
          </a:xfrm>
          <a:prstGeom prst="rect">
            <a:avLst/>
          </a:prstGeom>
          <a:solidFill>
            <a:srgbClr val="efe0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b95b22"/>
                </a:solidFill>
                <a:latin typeface="Tw Cen MT"/>
              </a:rPr>
              <a:t>الاستجواب والتوضي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عنوان 1"/>
          <p:cNvSpPr/>
          <p:nvPr/>
        </p:nvSpPr>
        <p:spPr>
          <a:xfrm>
            <a:off x="1403280" y="1989000"/>
            <a:ext cx="6477120" cy="2908440"/>
          </a:xfrm>
          <a:prstGeom prst="rect">
            <a:avLst/>
          </a:prstGeom>
          <a:solidFill>
            <a:srgbClr val="ffffff"/>
          </a:solidFill>
          <a:ln w="19080">
            <a:solidFill>
              <a:srgbClr val="dd80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ar-SA" sz="4000" spc="-1" strike="noStrike">
                <a:solidFill>
                  <a:srgbClr val="000000"/>
                </a:solidFill>
                <a:latin typeface="Tw Cen MT"/>
              </a:rPr>
              <a:t> - لفت انتباه الطالب لتغير الموضوع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w Cen MT"/>
              </a:rPr>
              <a:t>- التأكد من فهم المهمة قبل التطبي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w Cen MT"/>
              </a:rPr>
              <a:t>- التشجيع على استراتيجيات التصليح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w Cen MT"/>
              </a:rPr>
              <a:t>- التكرار ,والإعادة بطريقة أخرى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2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72" name="عنوان فرعي 2"/>
          <p:cNvSpPr/>
          <p:nvPr/>
        </p:nvSpPr>
        <p:spPr>
          <a:xfrm>
            <a:off x="3492360" y="836640"/>
            <a:ext cx="2159280" cy="685800"/>
          </a:xfrm>
          <a:prstGeom prst="rect">
            <a:avLst/>
          </a:prstGeom>
          <a:solidFill>
            <a:srgbClr val="efe0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b95b22"/>
                </a:solidFill>
                <a:latin typeface="Tw Cen MT"/>
              </a:rPr>
              <a:t>المحتوى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عنوان 1"/>
          <p:cNvSpPr/>
          <p:nvPr/>
        </p:nvSpPr>
        <p:spPr>
          <a:xfrm>
            <a:off x="1403280" y="1989000"/>
            <a:ext cx="6477120" cy="2908440"/>
          </a:xfrm>
          <a:prstGeom prst="rect">
            <a:avLst/>
          </a:prstGeom>
          <a:solidFill>
            <a:srgbClr val="ffffff"/>
          </a:solidFill>
          <a:ln w="19080">
            <a:solidFill>
              <a:srgbClr val="dd80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300"/>
            </a:br>
            <a:r>
              <a:rPr b="0" lang="ar-SA" sz="4300" spc="-1" strike="noStrike">
                <a:solidFill>
                  <a:srgbClr val="000000"/>
                </a:solidFill>
                <a:latin typeface="Tw Cen MT"/>
              </a:rPr>
              <a:t> - التحضير المسبق .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300" spc="-1" strike="noStrike">
                <a:solidFill>
                  <a:srgbClr val="000000"/>
                </a:solidFill>
                <a:latin typeface="Tw Cen MT"/>
              </a:rPr>
              <a:t>- استخدام السياق البصري .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2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76" name="عنوان فرعي 2"/>
          <p:cNvSpPr/>
          <p:nvPr/>
        </p:nvSpPr>
        <p:spPr>
          <a:xfrm>
            <a:off x="3635280" y="836640"/>
            <a:ext cx="2160720" cy="685800"/>
          </a:xfrm>
          <a:prstGeom prst="rect">
            <a:avLst/>
          </a:prstGeom>
          <a:solidFill>
            <a:srgbClr val="efe0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b95b22"/>
                </a:solidFill>
                <a:latin typeface="Tw Cen MT"/>
              </a:rPr>
              <a:t>تطبيق الأهداف السمعية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عنوان 1"/>
          <p:cNvSpPr/>
          <p:nvPr/>
        </p:nvSpPr>
        <p:spPr>
          <a:xfrm>
            <a:off x="1403280" y="2276640"/>
            <a:ext cx="6121440" cy="1584000"/>
          </a:xfrm>
          <a:prstGeom prst="rect">
            <a:avLst/>
          </a:prstGeom>
          <a:solidFill>
            <a:srgbClr val="ffffff"/>
          </a:solidFill>
          <a:ln w="19080">
            <a:solidFill>
              <a:srgbClr val="dd80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300"/>
            </a:br>
            <a:r>
              <a:rPr b="0" lang="ar-SA" sz="33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300" spc="-1" strike="noStrike">
                <a:solidFill>
                  <a:srgbClr val="000000"/>
                </a:solidFill>
                <a:latin typeface="Tw Cen MT"/>
              </a:rPr>
              <a:t>- </a:t>
            </a:r>
            <a:r>
              <a:rPr b="0" lang="ar-SA" sz="2200" spc="-1" strike="noStrike">
                <a:solidFill>
                  <a:srgbClr val="000000"/>
                </a:solidFill>
                <a:latin typeface="Tw Cen MT"/>
              </a:rPr>
              <a:t>استخدام الورقة 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w Cen MT"/>
              </a:rPr>
              <a:t>- تغيير التعليمات الروتينية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6T17:29:41Z</dcterms:created>
  <dc:creator>MAHA</dc:creator>
  <dc:description/>
  <dc:language>en-US</dc:language>
  <cp:lastModifiedBy>Maha Alhajri</cp:lastModifiedBy>
  <dcterms:modified xsi:type="dcterms:W3CDTF">2016-10-24T04:28:30Z</dcterms:modified>
  <cp:revision>9</cp:revision>
  <dc:subject/>
  <dc:title>مصادر الضوضاء في البيئة التعليمية للطفل </dc:title>
</cp:coreProperties>
</file>