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010F-02E5-4CC2-9846-35A825CB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5D3-9E91-4086-85F5-2689ED82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DB0-1F2B-4E72-A7B4-A413EAEA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4C6-8939-4CB3-8A5A-EFBB9507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9B71-53C1-441C-8B4A-2CA3BA60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54E6-601E-4936-8D10-53D6DB3F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E57F-7308-4E5A-9B26-71649893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307E-40DC-4DFC-9314-D5B19D02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95D6-7870-4C1D-A0DF-E1B0E699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4844-7CC3-4C28-9554-3C0C5A8D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A1C3-432E-4C23-8B16-25F35B90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A06-F4FF-479D-B62B-5E7E1A78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B8FB-0F3B-4E01-9030-AA171A67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7941-46D7-46ED-BFCA-4A42F91B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6036-DDE0-441A-B78C-DC2C32A0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24EF-1B1E-4ED7-8E2F-C8932C18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2E33-E1D6-43C3-9A00-CF8913E0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E2B-2CCA-4104-9EEC-DEDD49D7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FA53-C21F-4E77-876A-D3329388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1503-80D8-43A9-99A5-7B781982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DA39-E5A8-43B7-A36D-F89D9E01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7C4D-C450-4B7F-8269-B951B82D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6AC-C2EE-4426-B547-5F710115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17B2-15D4-4B5E-AC47-0CF2A97B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D181-485A-4DA9-B5D8-BAC62DBAAF0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E135-C62E-42BB-B47C-2B17E749C23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225360" y="420840"/>
            <a:ext cx="8686800" cy="1925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160" y="28951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ook Antiqua"/>
                <a:cs typeface="Tahoma"/>
              </a:rPr>
              <a:t>تقدم الطالبة مشروع عبارة عن دراسة جغرافية فلورية للمنطقة التي تنحدر منها او لاي منطقة من مناطق المملكة العربية السعودية يتضمن الاتي</a:t>
            </a:r>
            <a:r>
              <a:rPr b="1" lang="ar-SA" sz="2400" spc="-1" strike="noStrike">
                <a:solidFill>
                  <a:srgbClr val="ffffff"/>
                </a:solidFill>
                <a:latin typeface="Book Antiqua"/>
                <a:ea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Book Antiqua"/>
                <a:ea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 rtl="1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ook Antiqua"/>
                <a:cs typeface="Tahoma"/>
              </a:rPr>
              <a:t>موقع المنطقة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 rtl="1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ook Antiqua"/>
                <a:cs typeface="Tahoma"/>
              </a:rPr>
              <a:t>تضاريس المنطقة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 rtl="1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ook Antiqua"/>
                <a:cs typeface="Tahoma"/>
              </a:rPr>
              <a:t>فلورا المنطقة موضحة الاسم العلمي والشائع لكل نبات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 rtl="1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ook Antiqua"/>
                <a:cs typeface="Tahoma"/>
              </a:rPr>
              <a:t>ترفق الطالبة صور توضيحية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8:04:49Z</dcterms:created>
  <dc:creator>hhanan</dc:creator>
  <dc:description/>
  <dc:language>en-US</dc:language>
  <cp:lastModifiedBy>hhanan</cp:lastModifiedBy>
  <dcterms:modified xsi:type="dcterms:W3CDTF">2016-01-25T08:13:37Z</dcterms:modified>
  <cp:revision>1</cp:revision>
  <dc:subject/>
  <dc:title>مشروع تطبيقي لمادة الجغرافيا النباتية  (20 درجة )</dc:title>
</cp:coreProperties>
</file>