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5DA-D27E-48E5-9228-93B3200C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CE5-E02D-4A30-8525-F6E73AF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5F6-35FB-41C4-874B-9A12B8DB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0CA-A4BF-4A25-8877-5D222806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AA0A-5E3D-4537-B771-2C71CE0B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9337-E7B4-4B46-BF59-EAAE9ADF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0FA-0B30-47A5-A4DE-33D50EF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B84-1AA9-41C0-8868-48D20C5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D57-1EFD-414C-9A88-2185A0E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309E-39E2-470A-BFA2-A0B17CD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028C-E4F0-4272-AB67-02D6658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6D4-5B64-4CB1-8BD6-991EDE12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0412-361E-4B5E-923F-8524B66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5C1D-D217-4360-8DEF-A7A79733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4F47-E7C7-4117-B8F1-408FD2C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9A34-BB80-4FC8-83E0-559DFE6D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2BFE-CB36-47B1-814A-851AFC9F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6D0-E167-4025-90DB-4AD95586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37B-147D-4EFF-AA8C-87565CC9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8A1-5C8B-4653-96B5-8330947F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018-85EE-4E61-A845-426C3A42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A3C-8B52-4596-8523-0C1214D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110-D02E-4D06-970C-05569E1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058-38AA-4564-BBE0-D9B2EBD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A76-467B-4EA5-BF34-744441E996D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80C-7FBF-4D88-93BA-161632D0332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686800" cy="192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قدم الطالبة مشروع عبارة عن دراسة جغرافية فلورية للمنطقة التي تنحدر منها او لاي منطقة من مناطق المملكة العربية السعودية يتضمن الاتي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موقع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ضاريس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فلورا المنطقة موضحة الاسم العلمي والشائع لكل نبات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رفق الطالبة صور توضيحي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8:04:49Z</dcterms:created>
  <dc:creator>hhanan</dc:creator>
  <dc:description/>
  <dc:language>en-US</dc:language>
  <cp:lastModifiedBy>hhanan</cp:lastModifiedBy>
  <dcterms:modified xsi:type="dcterms:W3CDTF">2016-01-25T08:13:37Z</dcterms:modified>
  <cp:revision>1</cp:revision>
  <dc:subject/>
  <dc:title>مشروع تطبيقي لمادة الجغرافيا النباتية  (20 درجة )</dc:title>
</cp:coreProperties>
</file>