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D859-F5EF-45AD-95D7-F2F4E5A1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C454-62C8-4D63-B2E4-E09976B9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7E4B-02B5-4DE2-9B0F-F4E325454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E38D-4A72-49E5-B17C-54C1C2CA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374B-9E4E-4332-A406-99C62D9A3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7B71-D31F-4429-910B-BBD107FB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321E-D7E6-46C7-97AC-B225D990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B820-1BD4-43C0-9E7E-A9DE7247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8F6C-E42D-4481-AD61-AB898826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23CC-A09B-4D41-A279-47C7EC28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D2C8-ED75-4504-A951-17E80DDA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96DC-0E92-4753-A50B-6046D471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8CD1-80AD-4A97-AF03-E18B6FDF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905D-CF62-49D3-A956-DD729635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5442-26C5-4519-B1A9-74C27169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EF84-41B2-4431-A7F8-1D116FAF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45D9-5CFC-4451-BE61-ABF279C91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FD92-CE2B-4EA9-BF33-7AE7C28F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94FD-2C08-44F3-B745-CE102113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F62B-B673-4BBE-9CB2-EF945969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81CB-6FB3-470C-81FF-20D781B2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684B-C19A-4D47-90F5-777FCC42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0780-4B6B-4671-AE77-084330A9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B1C5-DFCD-40CE-A4E7-271F7D90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B2A5-02BC-45E5-AFDC-1ACF063C0062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3EFB-7145-477A-A988-1525FE4C3DAD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225360" y="420840"/>
            <a:ext cx="8686800" cy="1925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33160" y="289512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Book Antiqua"/>
                <a:cs typeface="Tahoma"/>
              </a:rPr>
              <a:t>تقدم الطالبة مشروع عبارة عن دراسة جغرافية فلورية للمنطقة التي تنحدر منها او لاي منطقة من مناطق المملكة العربية السعودية يتضمن الاتي</a:t>
            </a:r>
            <a:r>
              <a:rPr b="1" lang="ar-SA" sz="2400" spc="-1" strike="noStrike">
                <a:solidFill>
                  <a:srgbClr val="ffffff"/>
                </a:solidFill>
                <a:latin typeface="Book Antiqua"/>
                <a:ea typeface="Tahoma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Book Antiqua"/>
                <a:ea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 rtl="1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Book Antiqua"/>
                <a:cs typeface="Tahoma"/>
              </a:rPr>
              <a:t>موقع المنطقة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 rtl="1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Book Antiqua"/>
                <a:cs typeface="Tahoma"/>
              </a:rPr>
              <a:t>تضاريس المنطقة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 rtl="1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Book Antiqua"/>
                <a:cs typeface="Tahoma"/>
              </a:rPr>
              <a:t>فلورا المنطقة موضحة الاسم العلمي والشائع لكل نبات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 rtl="1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Book Antiqua"/>
                <a:cs typeface="Tahoma"/>
              </a:rPr>
              <a:t>ترفق الطالبة صور توضيحية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5T08:04:49Z</dcterms:created>
  <dc:creator>hhanan</dc:creator>
  <dc:description/>
  <dc:language>en-US</dc:language>
  <cp:lastModifiedBy>hhanan</cp:lastModifiedBy>
  <dcterms:modified xsi:type="dcterms:W3CDTF">2016-01-25T08:13:37Z</dcterms:modified>
  <cp:revision>1</cp:revision>
  <dc:subject/>
  <dc:title>مشروع تطبيقي لمادة الجغرافيا النباتية  (20 درجة )</dc:title>
</cp:coreProperties>
</file>