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854-7B5C-47AA-9282-D843C8D1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B1C-146F-44F1-B715-67FC7EC2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9A5-1885-4823-BD23-3D3A5B96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6C1D-8EBA-489E-8A0F-9E93DC6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EBE-4576-4A71-B3B3-3D6E2EDB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3A73-882B-45A8-8228-C3875095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AC1F-2D41-497A-86D0-C34C7E4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439-B7E2-4EC3-91DD-F9B21C0B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77A-A79C-4102-8036-3DF0A5D7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9529-4CF0-4962-827A-B7C6AC4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3BFF-AEBE-42EF-8C94-9189C3D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991-48D5-4051-94C7-904C104B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C31-5027-4CC0-86A4-988C6F7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4CCC-33D5-4570-8287-E905A7F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446-BFE7-4036-926B-DBC3235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C91-8E83-48F8-9B75-B2D8125C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6F23-BEAE-4BF9-804C-C7CCA212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E76-B61F-47B9-9A18-8A5E4F12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31F-B1DE-4032-8FC1-AE2B4806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6D7-D5AE-4584-AEC7-5ACCFA7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D76-E346-4081-BB99-93B4DB9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D8E-7FFA-4B28-94B5-67B542A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E4C-53C7-4A2B-872C-4EC980E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7B-6376-4484-AA42-FFF0A6E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2897-C87C-419D-8BAB-695CB16980E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6FEB-C3C7-4218-9102-89FDCC65B25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420840"/>
            <a:ext cx="8686800" cy="1925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قدم الطالبة مشروع عبارة عن دراسة جغرافية فلورية للمنطقة التي تنحدر منها او لاي منطقة من مناطق المملكة العربية السعودية يتضمن الاتي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Book Antiqua"/>
                <a:ea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موقع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ضاريس المنطق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فلورا المنطقة موضحة الاسم العلمي والشائع لكل نبات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 rtl="1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Book Antiqua"/>
                <a:cs typeface="Tahoma"/>
              </a:rPr>
              <a:t>ترفق الطالبة صور توضيحية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8:04:49Z</dcterms:created>
  <dc:creator>hhanan</dc:creator>
  <dc:description/>
  <dc:language>en-US</dc:language>
  <cp:lastModifiedBy>hhanan</cp:lastModifiedBy>
  <dcterms:modified xsi:type="dcterms:W3CDTF">2016-01-25T08:13:37Z</dcterms:modified>
  <cp:revision>1</cp:revision>
  <dc:subject/>
  <dc:title>مشروع تطبيقي لمادة الجغرافيا النباتية  (20 درجة )</dc:title>
</cp:coreProperties>
</file>