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9CA-FD7E-4137-9EB3-9324284F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AA2-2060-48ED-B4E8-809F10A9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026-2681-4628-8E46-B9047AE2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733-EA34-46D4-9619-11EA3918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7AC-1035-4544-9823-63369B5C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434-3D41-41CE-9B6B-8F80FC31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E3F-F54E-4945-859B-90DE333A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03C-7AD4-47BC-95B6-AB44232B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198-46D6-4E5C-B7DB-34E03113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D039-EEF8-46D6-93F9-FC84FD8C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5C5-55F1-494E-A61C-EA9D66D0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D48-5A1E-4274-B0BE-A134DD5E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B10F-0649-4D08-B46E-5E44623CFF30}" type="slidenum">
              <a:rPr b="0" lang="en-CA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50000">
                <a:srgbClr val="003366"/>
              </a:gs>
              <a:gs pos="100000">
                <a:srgbClr val="00182f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ntraocular L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bdullah Al-assiri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nsour Farooqui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bdulrahman Al-Muammar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Text Box 23"/>
          <p:cNvSpPr/>
          <p:nvPr/>
        </p:nvSpPr>
        <p:spPr>
          <a:xfrm>
            <a:off x="2658240" y="4038480"/>
            <a:ext cx="39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Saudi Ophthalmology Meeting 2009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existing astigmat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rgeons using MIOL should manage pre-existing regular astigmatism in order to allow patients to gain the full benefit of MIOL technolog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vailable options ar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&lt; 0.75 D Cyl, perform on axis incis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0.75-1.5 D Cyl, perform intraoperative limbal relaxing incis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gt; 1.5 D Cyl, perform intraoperative limbal relaxing incision + pot-op laser refractive surger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WWW.LRIcalculator.com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stigmatic keratotomy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rease postoperative visual acu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ost common causes of decrease visual acuity after MIOLs implantation ar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sidual refractive error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osterior capsular opacific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ystoid macular edem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cular surface disea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oor adapt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uznego et al, curr Opinion in ophthalmology 2009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gical t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urgical tips for MIOLs implant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ell dilated pupi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per capsulorrhexis size with good centr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per cortical cleanin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ens implant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 of posterior capsular opacification in patients with MI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sterior capsular opacification (PCO) causes forward and backward light scattering and reduces visual acuity and contrast sensitiv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nce MIOLS reduces contrast sensitivity, it is not known if this can be exacerbated by the development of PCO, which may lead to an increased rate of Nd:YAG capsulotomy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 of posterior capsular opacification in patients with MI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cidence of PCO with MIOLs is about 10 %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e Vries at al, J Cataract Refract surg 2008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lgohary found that the effect of PCO on visual function in patients with monofocal and multifocal IOLs is comparabl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lgohary et al, Eye 2008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ct of posterior capsular opacification in patients with MIO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cent literatures didn’t report complication with Nd:YAG capsulotomy in patients with MIOLS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urgeons should proceed with capsulotomy only if the possibility of IOL exchange has been excluded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toperative residual refractive err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mmetropia is critical to a good performance of multifocal I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ot all patients achieve emmetropia with lens surgery alon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aser refractive surgery can be done to correct residual erro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toperative residual refractive err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Knorz had reported good outcome using wavefront-guided ablation in patients with diffractive multifocal IO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Knorz et al, J Refract surg 2008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mpbell performed wavefront measurements in an artificial eye and found that diffractive IOLs could be measured reliably whereas refractive multifocal IOLs could no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mpbell, J Refract Surg 2008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versi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euroadaptatio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IOLS by definition, deliver more than one simultaneous image to the visual cortex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urgeons must consider patients ability to neuroadap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versial issu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Mixing and Matching MIOL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ixing different MIOLs designs is not generally agreed upon concep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ilateral implantation of the same design and mixing different designs are viable op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cision regarding which MIOL should be used for the second eye should be based on the result of the first ey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art I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Optical principles of multifocal lense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Designs of multifocal lense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atient selection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Intraocular lenses calculation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art II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Visual results following implantation of multifocal lense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Personal data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Arial"/>
              </a:rPr>
              <a:t>Literature review</a:t>
            </a:r>
            <a:endParaRPr b="0" lang="en-US" sz="1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Part III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ultifocal IOLs and pupil size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ultifocal IOLs and preoperative corneal astigmatism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Multifocal IOLs and posterior capsular opacification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Postoperative residual refractive error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8009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Controversial issues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versi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atients with Unilateral catarac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atients with monofocal IOL in the first ey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ime between first and second eye surge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roversial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mplicated surgery in the second ey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atients who may have diabetes or glaucoma after cataract surge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uture vitreo-retina surge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im et al, Ophthalmology 2000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ediatric cataract surge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Jacobi et al, Ophthalmology 2001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361600" y="3200400"/>
            <a:ext cx="42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ank you for your atten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OLs and pupil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eoperative evaluation and inclusion/exclusion criteria for MIOL must include pupil siz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upil size affects various visual functions in pseudophakic patients with MIOLs includ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lare and haloes disabilit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inocular vi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trast sensitivit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ar and near VA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OLs and pupil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revious studies have shown that pupil size decreases as age increases in a linear fashion to all luminanc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Winn et al, Invest Ophthalmol Vis Sci 1994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akamura found that photopic and scotopic pupil sizes decreased with age up to 60 year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akamura et al, J Cataract Refract Surg 2009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OLs and pupil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Kurz measured monocular and binocular pupil sizes and reported that pupil diameters were larger when the measurement was monocula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Kurz et al, J Cataract Refract Surg 2004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OLs and pupil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stoperative pupil size cannot always be predicted from the preoperative diameter because the pupil can be substantially impaired by cataract surger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Koch et al,J Cataract Refract Surg 1996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ewer phacoemulsification surgical techniques have shown unchanged pupils after surger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ayashi at al, J Cataract Refract Surg 2004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focal IOLs and pupil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upil size under mesopic and photopic conditions must be determined prior to surgery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9" name="Picture 4" descr="ReSTOR Beauty"/>
          <p:cNvPicPr/>
          <p:nvPr/>
        </p:nvPicPr>
        <p:blipFill>
          <a:blip r:embed="rId1"/>
          <a:stretch/>
        </p:blipFill>
        <p:spPr>
          <a:xfrm>
            <a:off x="762120" y="2057400"/>
            <a:ext cx="236196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GetAttachment[10]"/>
          <p:cNvPicPr/>
          <p:nvPr/>
        </p:nvPicPr>
        <p:blipFill>
          <a:blip r:embed="rId2"/>
          <a:stretch/>
        </p:blipFill>
        <p:spPr>
          <a:xfrm>
            <a:off x="3200400" y="205740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GetAttachment[9]"/>
          <p:cNvPicPr/>
          <p:nvPr/>
        </p:nvPicPr>
        <p:blipFill>
          <a:blip r:embed="rId3"/>
          <a:stretch/>
        </p:blipFill>
        <p:spPr>
          <a:xfrm>
            <a:off x="5791320" y="2057400"/>
            <a:ext cx="2628720" cy="2847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1450080" y="5257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Restor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812400" y="53341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Rezoom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707880" y="53341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Tecnis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existing astigmat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pproximately 30% of cataract surgical patients will have pre-existing astigmatis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outine corneal topography to qualify the type of astigmatism and to quantify the amount of astigmatism should be done preoperativel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rregular astigmatism should eliminate patients as candidates for MIO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1T21:00:31Z</dcterms:created>
  <dc:creator>ABDULRAHMAN AL-MUAMMAR</dc:creator>
  <dc:description/>
  <dc:language>en-US</dc:language>
  <cp:lastModifiedBy>Safa</cp:lastModifiedBy>
  <dcterms:modified xsi:type="dcterms:W3CDTF">2015-12-28T08:55:44Z</dcterms:modified>
  <cp:revision>269</cp:revision>
  <dc:subject/>
  <dc:title>REFRACTIVE SURGERY</dc:title>
</cp:coreProperties>
</file>