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C7D-1754-4E62-9878-C09401F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B77-3A68-4942-A37F-895A650F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6D6-3C38-46C3-ADAA-611ED16E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540-DC6C-437D-91DC-C1CE1A4D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220-27BF-433C-998A-F4E33286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F2B-7420-4731-AF23-85F2411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E460-DB56-4012-919A-80D457F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4C8-5B4D-4447-9EEA-DE32D13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6EC6-9807-4FB2-A976-6BED64CA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6C74-D936-43F2-8205-69AF224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C21-B195-46E7-8728-8AABDA0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E59-5B6B-4FBC-86EA-F01AF81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5284-43ED-4864-8461-ACEF626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EEF6-DB86-4010-ABCE-3CC80B4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D699-893F-4536-BB0F-39DDF69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6412-00DD-4C1F-ADB8-D2E93087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B476-A5F2-4D5B-AED9-BBBF67B3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E9F-C897-4904-9933-D8924B8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992-9CB9-4125-983D-9F2C89E5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67F-EFDC-4CDA-9780-BF673E0F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BD0-9AE1-41E2-B58B-D51D53C0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521-423D-49F2-AF9A-C9145BD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85C-B65E-4B21-8E1B-A73F51F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E4B-3C36-4045-B4B4-6F1600A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DD5B-3EE8-43DF-877A-CB12F9B13E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A20E-415C-4A1B-A416-8E6E433B41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ultiple Myeloma 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324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ultiple myeloma: lesion in rib – Lab 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905120"/>
            <a:ext cx="838080" cy="22096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685800"/>
            <a:ext cx="838440" cy="22096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244800">
            <a:off x="1828800" y="1828800"/>
            <a:ext cx="5638680" cy="1905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486040" y="3657240"/>
            <a:ext cx="762120" cy="152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es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60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rmal b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880" y="914400"/>
            <a:ext cx="1447920" cy="10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914400"/>
            <a:ext cx="4572000" cy="152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6324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ultiple myeloma: multiple lesions in skull – Lab 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nal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Cr Elevated in 50% and &gt;2 in 20% at Diagn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st Nephropathy (Myeloma Kidne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, Waxy Casts in Distal Tubules composed of Precipitated Light Chai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-20772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ot detected on Dipstick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SA Test – Positive detected as the degree of turbidity when SSA added to urine suggests presence of non-albumin prote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ercalc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ase Report of Myeloma nephropath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e marrow biopsy: 70% cellularity, increased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typical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ising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60%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ellular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c/w multiple myel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5947" r="16669" b="14332"/>
          <a:stretch/>
        </p:blipFill>
        <p:spPr>
          <a:xfrm>
            <a:off x="762120" y="3352680"/>
            <a:ext cx="3809880" cy="2895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14213" r="16669" b="5789"/>
          <a:stretch/>
        </p:blipFill>
        <p:spPr>
          <a:xfrm>
            <a:off x="4724280" y="335268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pidemiology  of Myeloma nephropath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wo large multiple myeloma studies,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43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of 998 pts) had a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eatinine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2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of 423 pts) had a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.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one-year survival was 80% in pts with Cr &lt; 1.5 compared to 50% in pts with a Cr &gt; 2.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gnosis is especially poor in pts who require di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uses of renal failure in M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t nephropat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chain deposition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amyloid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ercalc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al tubular dys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lume depl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V contrast dye, nephrotoxic me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yeloma Kidne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main pathogenetic mechanism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cellular cast 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 tubular toxicity by light ch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ibuting factors to presence of renal failure due to multiple myelom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 rate of light chain excretion (tumor loa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iochemical characteristics of light ch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urrent volume deple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common pathological diagnosis on renal biopsy in multiple myel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light chains binding with Tamm-Horsfall mucoprotein, which is secreted by tubular cells in ascending loop of Henle, forming c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nucleated giant cells surround the c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hydration worsens cast nephropathy due to decreased flow in tubules, increased concentration of light ch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261" b="39663"/>
          <a:stretch/>
        </p:blipFill>
        <p:spPr>
          <a:xfrm>
            <a:off x="1219320" y="1752480"/>
            <a:ext cx="6781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27274"/>
          <a:stretch/>
        </p:blipFill>
        <p:spPr>
          <a:xfrm>
            <a:off x="1143000" y="1752480"/>
            <a:ext cx="6858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Multiple Myelom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finition: Malignant proliferation of plasma cells derived from a single cl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ology: radiation;mutations in oncogenes; familial causes;role of IL 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idence/Prevalence: 14,400 cases in 1996; incidence 30/1,0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idence increases with 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es&gt; females ; Blacks &gt; Wh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33718"/>
          <a:stretch/>
        </p:blipFill>
        <p:spPr>
          <a:xfrm>
            <a:off x="1066680" y="167652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Minimal diagnostic criteria for myelom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10% Plasma cells in bone marrow or plasmacytoma on biop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nical features of myel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us at least one of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M band (IgG &gt;30 g/l; IgA &gt;20 g/l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ine M band (Bence Jones proteinur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steolytic lesions on skeletal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itial Work-u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BC w/diff – peripheral sm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ocytic, Normochromic Anemia most 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uleaux Formation &gt;50% of pati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stry (ca, alb, cr, LD, CRP, B2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P – Monoclonal Prote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Viscosity (if M-protein conc. Is high, &gt;5g/dL) or sx of hyperviscosity are pres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A and UPE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astatic bone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ne Marrow Biops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ouleaux form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22664"/>
          <a:stretch/>
        </p:blipFill>
        <p:spPr>
          <a:xfrm>
            <a:off x="609480" y="1523880"/>
            <a:ext cx="7848720" cy="49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 prote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ount of the M protein -marker of tumor lo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e variab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y be an intact molecule or a frag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ramedullary  / Solitary plasmacytomas &lt;1/3 have M spik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% of Myelomas _ only Light Chains produ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 Secretory Myelomas_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cy of myelomas : Ig G&gt; IgA &gt; Ig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30714" r="0" b="0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1.Normal Plasma 2.Polyclonal Hyperglobulinemia 3.Monoclonal Spike4.Bence Jones proteins in urin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pheresis in M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agnostic Crite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an M-Protein in serum and/or ur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clonal bone marrow plasma cells or plasmacyt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Related Organ/Tissue invol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ercalcemia, renal insufficiency, anemia, lytic bone le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 and Diagno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and urine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erized Tomography (C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e marrow examin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ne pain and pathological frac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mia and bone marrow fail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ction due to immune-paresis and neutropen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nal impair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ss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ute hypercalcem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mptomatic hypervisc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uropat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agulopat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rmal Cell  (5%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Illustration of plasma cells and antibodies attached to foreign substances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yeloma Cells (10%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Illustration of too many plasma cells (myeloma cells)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Ce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866960"/>
            <a:ext cx="69343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Bone Marrow Aspirat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53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Marrow Aspira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&gt;10% plasma Cells, but can be from 5-100%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≥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0% involvement – worse progn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munoperoxid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aining detects either kappa or lambda light chains, NOT both (confirming proliferation is monoclona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munophenotyp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Malignant Plasma Cells stain positive for CD38, CD56, and CD13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Marrow Biops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43800" cy="49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1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um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3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kidney 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kidney 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national Staging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 – B2M &lt;3.5 mg/L and serum alb ≥ 3.5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I – neither stage I nor Stage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II – B2M ≥ 5.5 mg/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b/Serum Ca/M component level/rad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: Hb &gt;10;Serum Ca &lt; 12;Normal Bone survey;Low M component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II: HB &lt; 8.5, Serum Ca &gt;12;Lytic lesions+;High M component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I : Intermedi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vided into A or B depending on Serum Creatinine level &lt; or &gt; than 2 mg/d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 2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b2 microglobulin lev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&lt; 0.004 g/L : Stage 1; Median survival 43 month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&gt;0.004 g/L: Stage II; Median survival 12 month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ne Pai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0%,Precipitated b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thological frac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tivation of Osteoclasts by OAF produced by myeloma c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sceptibility to infec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use hypogammaglob. If the M spike is exclu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Antibody responses ,Neutrophil dys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neumococcus,S.aureus,GN aerobes-Pneumonia,Pyelonephr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gnostic Facto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formance status 3 0r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albumin &lt; 3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C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≥ 2.0 m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atelet Count &lt;1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e ≥ 70 yea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ta-2-microglobulin &gt;4 mg/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um Calcium ≥ 11 m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emoglobin &lt;10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 with or without prednis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usional chemotherapy - vincristine and adriamycin infusion plus either dexamethasone all methylprednisol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bination therapy - for example, adriamycin, carmustine, cyclophosphamide, and melpha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ekly cyclophosphamide (“C weekly”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mpt reduction in bone pain,anemia,hypercalcem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component lags behind -4-6 weeks to f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0% of patients will acieve a 75% reduction in tumor m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 q 4-6 weeks for 1-2 ye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ads to a plateau phase- relapse within a ye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enance: alpha Interferon ??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portive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ges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hyd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and any hypercalc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of any renal impair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of any inf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cal radiotherapy if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othera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ion of further bone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 and Prednisone (Or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ferred Tx in pts NOT going for B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day course repeated q 6weeks (x 3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jective response in 50-60%, MS of 2-3 y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, prednisone, and Thalido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R of 93% with 26% C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compared to above regimen, had better CR and RR; however, more toxic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lidomide with or w/o Dexamethas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ferred in Candidates for B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pts with Relapsed or Resisten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D (Vincristine, Dex, and Adriamyci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diation – Reserved for pts with focal process that has not responded to chem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Outc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e – Not yet been Achie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lecular Complete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vidence of Dise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te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detectable M protein AND nml % of Plasma cells in Bone Marr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gressiv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gt;25% increase in M Protein, new bony lesions, or a new plasmacyt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GUS:  Monoclonal gammopathy of undetermined significance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xplained symptoms suggestive of myel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M protein concentration &lt; 30 g/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lt; 5 percent plasma cells in bone marr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ttle or no M protein in ur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bone le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anemia, hypercalcemia, or renal impair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protein concentration and other results stable on prolonged obser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nal failure: 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e contributory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ypercalcemia,Hyperuricemia,recuurent Inf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ubular damage produced by Light ch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2 proximal RTA,Non selective proteinu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emia: 8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ochromic/Normocy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elophthisis;Inhibition by cytokines produced by plasma cell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ukopenia/thrombocytopenia only in advanced cas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ytic Lesions – 6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teoporosis, Fx, Compression Fx – 2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ma Cells Produce Cytokines tha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imulate Osteoclastic A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hibit Osteoblastic A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Detected by Plain X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Lytic lesions(Punched out lesions) on X Ray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00480" y="1752480"/>
            <a:ext cx="468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Vertebral collapse secondary to osteoporosis/pathological fractur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333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4T17:35:10Z</dcterms:created>
  <dc:creator>Prasad</dc:creator>
  <dc:description/>
  <cp:keywords>multiple myeloma</cp:keywords>
  <dc:language>en-US</dc:language>
  <cp:lastModifiedBy>Dr.abdel-hamid</cp:lastModifiedBy>
  <dcterms:modified xsi:type="dcterms:W3CDTF">2006-10-21T23:02:38Z</dcterms:modified>
  <cp:revision>32</cp:revision>
  <dc:subject/>
  <dc:title>Multiple Myeloma     </dc:title>
</cp:coreProperties>
</file>