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92A-5388-4F89-8C71-CC09630B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A66-CAEE-47FE-87A4-B3ECE686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86A-7A78-49EC-9501-2BB50736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DEC-0E3F-46CD-8F6E-358AAEE6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C257-ED9D-4340-97D0-802F0106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8608-731C-4AF5-85ED-13317841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E664-350F-4BE6-9AD9-9D69C6A3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D374-E4BE-4619-B1D2-9CA28E8D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D1D9-62BB-44BD-9BC0-A804F956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3921-0F93-4767-A0D2-42D1CA51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BE2C-AF7C-4841-879D-76420B73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196-85DE-45BB-B60B-7E2401AA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E846-0F84-406D-B9DE-C1962670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096A-1D23-4740-9AD3-EBF0897C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3265-F8CA-443A-AE21-F04A2F27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6DA9-8334-4D01-99BE-3BD6F22D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4279-E0B3-48B6-B2D5-14DDF149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DED-91B8-4E29-8D2D-997492AE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8DB-2A68-4388-83E6-27681822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1FF-726C-419D-A2AA-44AF3388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38B-2D74-4465-89F1-F5B86F68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000-D5E7-48D5-B117-D3DE0468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9FB-69F9-41B0-A66E-18D6D1A6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80E-A347-4021-A9B5-2ACE198F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8E79-1D22-4D4E-A5C3-39AA382357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3CC7-8A21-4405-9601-6D9DF7ACFD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ultiple Myeloma   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63244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ultiple myeloma: lesion in rib – Lab 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905120"/>
            <a:ext cx="838080" cy="22096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67480" y="685800"/>
            <a:ext cx="838440" cy="22096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1244800">
            <a:off x="1828800" y="1828800"/>
            <a:ext cx="5638680" cy="19051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486040" y="3657240"/>
            <a:ext cx="762120" cy="1523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5181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Les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609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Normal bon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23880" y="914400"/>
            <a:ext cx="1447920" cy="1066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914400"/>
            <a:ext cx="4572000" cy="152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63244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ultiple myeloma: multiple lesions in skull – Lab 1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nal Disea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um Cr Elevated in 50% and &gt;2 in 20% at Diagno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st Nephropathy (Myeloma Kidne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, Waxy Casts in Distal Tubules composed of Precipitated Light Chai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-20772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Not detected on Dipstick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SA Test – Positive detected as the degree of turbidity when SSA added to urine suggests presence of non-albumin prote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percalcem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yloido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ase Report of Myeloma nephropath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ne marrow biopsy: 70% cellularity, increased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typical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lasma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ells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mprising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60%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f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ellular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c/w multiple myelo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5947" r="16669" b="14332"/>
          <a:stretch/>
        </p:blipFill>
        <p:spPr>
          <a:xfrm>
            <a:off x="762120" y="3352680"/>
            <a:ext cx="3809880" cy="2895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0" t="14213" r="16669" b="5789"/>
          <a:stretch/>
        </p:blipFill>
        <p:spPr>
          <a:xfrm>
            <a:off x="4724280" y="3352680"/>
            <a:ext cx="3810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pidemiology  of Myeloma nephropath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wo large multiple myeloma studies,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43%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of 998 pts) had a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reatinine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.5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2%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of 423 pts) had a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r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.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one-year survival was 80% in pts with Cr &lt; 1.5 compared to 50% in pts with a Cr &gt; 2.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gnosis is especially poor in pts who require dialy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uses of renal failure in M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t nephropat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chain deposition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mary amyloid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ypercalcem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nal tubular dys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olume deple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V contrast dye, nephrotoxic me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yeloma Kidne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main pathogenetic mechanism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racellular cast form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rect tubular toxicity by light cha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ibuting factors to presence of renal failure due to multiple myelom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 rate of light chain excretion (tumor loa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iochemical characteristics of light cha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current volume deple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st Nephropat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st common pathological diagnosis on renal biopsy in multiple myelom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e to light chains binding with Tamm-Horsfall mucoprotein, which is secreted by tubular cells in ascending loop of Henle, forming ca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ltinucleated giant cells surround the ca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hydration worsens cast nephropathy due to decreased flow in tubules, increased concentration of light ch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st Nephropat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261" b="39663"/>
          <a:stretch/>
        </p:blipFill>
        <p:spPr>
          <a:xfrm>
            <a:off x="1219320" y="1752480"/>
            <a:ext cx="67816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st Nephropat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27274"/>
          <a:stretch/>
        </p:blipFill>
        <p:spPr>
          <a:xfrm>
            <a:off x="1143000" y="1752480"/>
            <a:ext cx="6858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Multiple Myelom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finition: Malignant proliferation of plasma cells derived from a single cl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tiology: radiation;mutations in oncogenes; familial causes;role of IL 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idence/Prevalence: 14,400 cases in 1996; incidence 30/1,00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idence increases with 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les&gt; females ; Blacks &gt; Wh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ast Nephropat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33718"/>
          <a:stretch/>
        </p:blipFill>
        <p:spPr>
          <a:xfrm>
            <a:off x="1066680" y="1676520"/>
            <a:ext cx="7010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Minimal diagnostic criteria for myelom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10% Plasma cells in bone marrow or plasmacytoma on biop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nical features of myelo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us at least one of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um M band (IgG &gt;30 g/l; IgA &gt;20 g/l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rine M band (Bence Jones proteinuri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steolytic lesions on skeletal surve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itial Work-u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BC w/diff – peripheral sm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mocytic, Normochromic Anemia most comm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uleaux Formation &gt;50% of pati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istry (ca, alb, cr, LD, CRP, B2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P – Monoclonal Prote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um Viscosity (if M-protein conc. Is high, &gt;5g/dL) or sx of hyperviscosity are pres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A and UPE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astatic bone Surve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ne Marrow Biops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ouleaux form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0" b="22664"/>
          <a:stretch/>
        </p:blipFill>
        <p:spPr>
          <a:xfrm>
            <a:off x="609480" y="1523880"/>
            <a:ext cx="7848720" cy="49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 prote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ount of the M protein -marker of tumor lo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ture variabl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y be an intact molecule or a frag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ramedullary  / Solitary plasmacytomas &lt;1/3 have M spik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% of Myelomas _ only Light Chains produc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n Secretory Myelomas_r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quency of myelomas : Ig G&gt; IgA &gt; Ig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30714" r="0" b="0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1.Normal Plasma 2.Polyclonal Hyperglobulinemia 3.Monoclonal Spike4.Bence Jones proteins in urine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23888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smapheresis in M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agnostic Criter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sence of an M-Protein in serum and/or ur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sence of clonal bone marrow plasma cells or plasmacyto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sence of Related Organ/Tissue involv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percalcemia, renal insufficiency, anemia, lytic bone les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creening and Diagno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 and urine te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gnetic Resonance Imaging (MR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uterized Tomography (C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ne marrow examin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nical Manifest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ne pain and pathological fract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emia and bone marrow fail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fection due to immune-paresis and neutropen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nal impair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ss comm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ute hypercalcem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mptomatic hypervisc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europath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myloid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agulopath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ormal Cell  (5%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" descr="Illustration of plasma cells and antibodies attached to foreign substances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yeloma Cells (10%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Illustration of too many plasma cells (myeloma cells)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sma Cel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1866960"/>
            <a:ext cx="69343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Bone Marrow Aspirat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55344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one Marrow Aspira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ually &gt;10% plasma Cells, but can be from 5-100%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≥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0% involvement – worse progno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mmunoperoxid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taining detects either kappa or lambda light chains, NOT both (confirming proliferation is monoclona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mmunophenotyp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Malignant Plasma Cells stain positive for CD38, CD56, and CD13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one Marrow Biops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543800" cy="49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ag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ge 1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w amount of myelo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ge 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dium amount of myelo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ge 3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 amount of myelo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mal kidney 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normal kidney 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rnational Staging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ge I – B2M &lt;3.5 mg/L and serum alb ≥ 3.5 g/d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ge II – neither stage I nor Stage I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ge III – B2M ≥ 5.5 mg/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aging 1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b/Serum Ca/M component level/radi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ge I: Hb &gt;10;Serum Ca &lt; 12;Normal Bone survey;Low M component leve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ge III: HB &lt; 8.5, Serum Ca &gt;12;Lytic lesions+;High M component leve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ge II : Intermedi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vided into A or B depending on Serum Creatinine level &lt; or &gt; than 2 mg/d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aging 2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rum b2 microglobulin lev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&lt; 0.004 g/L : Stage 1; Median survival 43 month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&gt;0.004 g/L: Stage II; Median survival 12 month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nical Manifest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ne Pain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0%,Precipitated by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thological fract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tivation of Osteoclasts by OAF produced by myeloma c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sceptibility to infection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ffuse hypogammaglob. If the M spike is exclu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or Antibody responses ,Neutrophil dys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neumococcus,S.aureus,GN aerobes-Pneumonia,Pyelonephri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gnostic Facto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formance status 3 0r 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rum albumin &lt; 3 g/d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rum Cr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≥ 2.0 mg/d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latelet Count &lt;15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ge ≥ 70 yea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ta-2-microglobulin &gt;4 mg/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um Calcium ≥ 11 mg/d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emoglobin &lt;10 g/d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eatment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tion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lphalan with or without prednis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usional chemotherapy - vincristine and adriamycin infusion plus either dexamethasone all methylprednisol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bination therapy - for example, adriamycin, carmustine, cyclophosphamide, and melphal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ekly cyclophosphamide (“C weekly”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eat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mpt reduction in bone pain,anemia,hypercalcemi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 component lags behind -4-6 weeks to f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60% of patients will acieve a 75% reduction in tumor m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eat q 4-6 weeks for 1-2 yea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ads to a plateau phase- relapse within a yea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intenance: alpha Interferon ??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eat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portive therap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alges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hyd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eatment and any hypercalcem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eatment of any renal impair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eatment of any infe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cal radiotherapy if 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otherap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vention of further bone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eatment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lphalan and Prednisone (Ora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ferred Tx in pts NOT going for BM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 day course repeated q 6weeks (x 3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bjective response in 50-60%, MS of 2-3 y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lphalan, prednisone, and Thalidom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R of 93% with 26% C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compared to above regimen, had better CR and RR; however, more toxic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alidomide with or w/o Dexamethas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ferred in Candidates for BM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pts with Relapsed or Resisten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D (Vincristine, Dex, and Adriamyci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adiation – Reserved for pts with focal process that has not responded to chem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eatment Outco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e – Not yet been Achiev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lecular Complete Respon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evidence of Disea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lete Respon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detectable M protein AND nml % of Plasma cells in Bone Marr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gressiv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&gt;25% increase in M Protein, new bony lesions, or a new plasmacytom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MGUS:  Monoclonal gammopathy of undetermined significance</a:t>
            </a:r>
            <a:br>
              <a:rPr sz="4000"/>
            </a:b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explained symptoms suggestive of myelom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um M protein concentration &lt; 30 g/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&lt; 5 percent plasma cells in bone marr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ttle or no M protein in ur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bone les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anemia, hypercalcemia, or renal impair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 protein concentration and other results stable on prolonged observ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Clinical Manifestation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nal failure: 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ultiple contributory facto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ypercalcemia,Hyperuricemia,recuurent Inf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ubular damage produced by Light cha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ype 2 proximal RTA,Non selective proteinu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emia: 8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mochromic/Normocyt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elophthisis;Inhibition by cytokines produced by plasma cell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ukopenia/thrombocytopenia only in advanced cas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one Disea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ytic Lesions – 60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steoporosis, Fx, Compression Fx – 20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eloma Cells Produce Cytokines tha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imulate Osteoclastic Activ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hibit Osteoblastic Activ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be Detected by Plain Xr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Lytic lesions(Punched out lesions) on X Ray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00480" y="1752480"/>
            <a:ext cx="4686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Vertebral collapse secondary to osteoporosis/pathological fractur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333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674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4T17:35:10Z</dcterms:created>
  <dc:creator>Prasad</dc:creator>
  <dc:description/>
  <cp:keywords>multiple myeloma</cp:keywords>
  <dc:language>en-US</dc:language>
  <cp:lastModifiedBy>Dr.abdel-hamid</cp:lastModifiedBy>
  <dcterms:modified xsi:type="dcterms:W3CDTF">2006-10-21T23:02:38Z</dcterms:modified>
  <cp:revision>32</cp:revision>
  <dc:subject/>
  <dc:title>Multiple Myeloma     </dc:title>
</cp:coreProperties>
</file>