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210-1452-4917-855D-0C779423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778-D487-4EE9-9072-3FCC0427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7FC-4BB5-4147-B94E-2214B307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47B-BC62-42A0-8E38-12EB3C45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140-4E60-475E-89AD-A0CE4AF1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B2B-AF0C-4800-A18B-60884473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80D-8399-4642-91CE-4F8C4F8F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65E-5DD0-4CB3-8C76-CBFCBFE4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703-72D5-476A-9DF3-2E570D84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D2B-35F7-4706-8240-DE1D47FD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87C-226D-4E32-A246-7B22C9A9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189-6196-44E0-95D6-BAC4844A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5C39-C9CB-4549-A145-B92A5B1B8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6836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66"/>
                </a:solidFill>
                <a:latin typeface="Calibri"/>
                <a:cs typeface="Times New Roman"/>
              </a:rPr>
              <a:t>الطفرة   </a:t>
            </a:r>
            <a:r>
              <a:rPr b="1" lang="en-US" sz="3600" spc="-1" strike="noStrike">
                <a:solidFill>
                  <a:srgbClr val="ff0066"/>
                </a:solidFill>
                <a:latin typeface="Calibri"/>
              </a:rPr>
              <a:t>Mu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609480"/>
            <a:ext cx="914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تعريف الطفرة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utations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alibri"/>
                <a:ea typeface="Arial"/>
              </a:rPr>
              <a:t>    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يعتمد التوارث على الجينات التي تنتقل بدقة من الآباء إلى النسل في عملية التكاثر و التي توجد على كروموسومات الكائن ، وتكون هذه الجينات من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DNA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و يتمثل محتواها الشفري في تتابعات من أزواج القواعد التي تتكرر بدقة خلال عملية التناسخ شبه المحافظ . و تشتمل إنزيمات بلمرة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DNA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التي تساعد عملية تكرره على نشاط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Exonuclease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لهدم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DNA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من طرفه في الاتجاه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´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إلى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´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مما يمكنها من مراجعة جزيئات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DNA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الناتجة وتصحيح الأخطاء الحادثة خلال تفاعل البلمرة الأولى . أي أن هناك ميكانيكات قد نشأت لتسهيل النقل الصحيح للمعلومات الوراثية من جيل إلى آخر ومع ذلك تحدث بعض التغيرات في مادة الوراثة و التي تعرف بالاختلافات الوراثية و هذه التغيرات المفاجئة و المتوارثة في مادة الوراثة تسمى بالطفرات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Mutations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و مصطلح طفرة 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Mutation</a:t>
            </a:r>
            <a:r>
              <a:rPr b="1" lang="ar-SA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يشير إلى كل من التغيرات الحادثة في المادة الوراثية و العملية التي تحدث عن طريقها هذا التغير .</a:t>
            </a:r>
            <a:r>
              <a:rPr b="1" lang="en-US" sz="28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68360" y="189000"/>
            <a:ext cx="850752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1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/ الطفرة التلقائية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pontaneous  mutation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2860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فرة التلقائية هي التي تظهر على شكل تغيرات فجائية و راثية طبيعياً ، وتعاود الظهور بين الحين و الآخر و معدل حدوثها ضئيل جداً . ويتراوح بين واحد في المائه ألف إلى واحد في العشرة مليون ، وتختلف من جيل إلى آخر و يعتمد معدل حدوث الطفرة التلقائية على الحالة الفسيولوجية و الكيموحيوية للخلي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مثلاً وجد أن البيورنيات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rines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 مشتقاتها يزيد معدل حدوث الطفرة التلقائية بينما البيرميدنيات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yrimidines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مشتقاتها لا تقوم كما أثبتت التجارب أ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rine ribosides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قلل من حدوث الطفرة أي أنه مثبط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timutagen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هذه المواد من المنتجات التي توجد في الخلية نتيجة لعملية الهدم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280" y="765000"/>
            <a:ext cx="8839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فرات التلقائية نادرة الحدوث ، برغم أن تكرارها يتخلف من جين إلى آخر ، و من كائن إلى آخر و تتراوح قياسات تكرارات الطفرات التقدمية التلقائية لمختلف الجينات في البكتيريوفاج بي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¹º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, 108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ل زوج من أزواج النيوكليوتيدات في الجيل الواحد . وفي الكائنات حقيقة النواة يترواح معدل الطفرات التقدمية بين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ل زوج من النيوكليوتيدات في الجين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زيد المعاملة بالمطفرات تكرارت الطفرات بدرجات كبيرة ، فتكرار الطفرات لكل جين في البكتيريا و الفيروسات على سبيل المثال يتعدى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% عند المعاملة بمطفر كيميائي قوي ، أي أن ما يزيد عن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% من جينات الكائنات المعاملة ستتضمن الطفرات . أو بصورة أخرى يمكن أن نقول أن أكثر من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% من أفراد عشيرة الفيروسات أو البكتيريا المعاملة ستحتوي على طفرة في أي جين </a:t>
            </a:r>
            <a:r>
              <a:rPr b="1" lang="ar-SA" sz="2800" spc="-1" strike="noStrike">
                <a:solidFill>
                  <a:srgbClr val="000066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68360" y="117360"/>
            <a:ext cx="822960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2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/ الطفرة المستحدثة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Induced mutation</a:t>
            </a: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79280" y="177336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alibri"/>
                <a:ea typeface="Arial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هي الطفرة التي تنتج صناعياً من المعاملة بالمواد المطفرة ، وقد كان العالم مولر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uller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ا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920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فضل في اكتشاف أثر الأشعة السينيه في استحداث الطفرات في الدروسفيلا و كان للعالمة اورباخ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erbach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ا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943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فضل في اكتشاف أن المواد الكيمائية لها أثر فعال في زيادة الطفور . و أصبح معروفاً أن الأشعة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α ,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أقوى المؤثرات أيضاً على استحداث الطفرات ومن خصائصها أنها عندما تمر من خلال المادة الوراثية تسبب تأيناً لبعض جزيئاتها و تدخل في تفاعلات  بنائها و تركيبها ، ووجد أن معدل الطفرة يتناسب طردياً مع كمية الأشعة المستخدمة وكذلك المواد الكيمائية لها أثر فعال في زيادة الطفور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What causes mu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ontane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Increases caused by environmental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V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Benzene, formaldehyde, carbon tetrachlor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Mutagens and their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sign2"/>
          <p:cNvPicPr/>
          <p:nvPr/>
        </p:nvPicPr>
        <p:blipFill>
          <a:blip r:embed="rId1"/>
          <a:stretch/>
        </p:blipFill>
        <p:spPr>
          <a:xfrm>
            <a:off x="0" y="1197000"/>
            <a:ext cx="4629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Mutagens and their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284720" y="1916280"/>
            <a:ext cx="4402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iruses and microorganisms – integrate into human chromosome, upset genes and can trigger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aspergillus"/>
          <p:cNvPicPr/>
          <p:nvPr/>
        </p:nvPicPr>
        <p:blipFill>
          <a:blip r:embed="rId1"/>
          <a:stretch/>
        </p:blipFill>
        <p:spPr>
          <a:xfrm>
            <a:off x="611280" y="1484280"/>
            <a:ext cx="3252600" cy="3876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4343400" y="49928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spergillus fungus release toxins that induce liver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Mutagens and their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514836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nvironmental poisons – Organic solvents such as formaldehyde, tobacco, coal tars, benzene, asbestos, some d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tobacco"/>
          <p:cNvPicPr/>
          <p:nvPr/>
        </p:nvPicPr>
        <p:blipFill>
          <a:blip r:embed="rId1"/>
          <a:stretch/>
        </p:blipFill>
        <p:spPr>
          <a:xfrm>
            <a:off x="395280" y="1268280"/>
            <a:ext cx="2400480" cy="2714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benzene"/>
          <p:cNvPicPr/>
          <p:nvPr/>
        </p:nvPicPr>
        <p:blipFill>
          <a:blip r:embed="rId2"/>
          <a:stretch/>
        </p:blipFill>
        <p:spPr>
          <a:xfrm>
            <a:off x="2627280" y="3789360"/>
            <a:ext cx="2390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Mutagens and their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48120" y="2087640"/>
            <a:ext cx="563868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lcohol and diet – High alcohol intake increase the risk of some cancers.  Diet high in fat and those containing burned or highly preserved m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fattyfood"/>
          <p:cNvPicPr/>
          <p:nvPr/>
        </p:nvPicPr>
        <p:blipFill>
          <a:blip r:embed="rId1"/>
          <a:stretch/>
        </p:blipFill>
        <p:spPr>
          <a:xfrm>
            <a:off x="590400" y="2201760"/>
            <a:ext cx="2381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The effect of mu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905120"/>
            <a:ext cx="82296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ot all are harm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urvival 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Most common among bacteria and viruses but also seen in ins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If no selective pressure may remain in popu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Beneficial mu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50920" y="1628640"/>
            <a:ext cx="5113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Bacteria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– antibiotic resistance through mutation, transfer between bacterial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Superbugs such as MRSA have arisen this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RNA viruses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– such as HIV – mutates it’s protein coat so that the host human is unable to make antibodies quick enough against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hiv"/>
          <p:cNvPicPr/>
          <p:nvPr/>
        </p:nvPicPr>
        <p:blipFill>
          <a:blip r:embed="rId1"/>
          <a:stretch/>
        </p:blipFill>
        <p:spPr>
          <a:xfrm>
            <a:off x="5292720" y="2133720"/>
            <a:ext cx="34196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Mu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5720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y change in the DNA sequence of an organism is a mu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tations are the source of the altered versions of genes that provide the raw material for ev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st mutations have no effect on the organism, especially among the eukaryotes, because a large portion of the DNA is not in genes and thus does not affect the organism’s pheno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the mutations that do affect the phenotype, the most common effect of mutations is lethality, because most genes are necessary for lif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ly a small percentage of mutations causes a visible but non-lethal change in the phenotyp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Germinal vs. Somatic Mu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tations can occur in any cell.  They only affect future generations if they occur in the cells that produce the gametes: these are “germinal” or “germ line” mut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tations in other cells are rarely noticed, except in the case of cancer, where the mutated cell proliferates uncontrollably.  Mutations in cells other than germ line cells are “somatic” mut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human body contains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-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ells approximately.  The average mutation rate for any given nucleotide is about 1 in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 That is, on the average 1 cell in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has that particular nucleotide altered.  This means that virtually every possible base change mutation occurs repeatedly in our body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0" y="304920"/>
            <a:ext cx="891540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الكائن الذي يبدي شكلاً مظهرياً جديداً نتيجة لوجود الطفرة يسمى بالطافر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utant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،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و بذلك تعرف كلمة طفرة بأنها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" التغير الفجائي المستمر في التركيب الوراثي للكائن " مثل هذه التغيرات الوراثية قد تكون في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عدد الكرموسومي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( التضاعف المنتظم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uploidy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و الغير منتظم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euploidy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) أو في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تركيب الكرموسومات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(الشذوذ الكرموسومي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   أو في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جينات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و يستعمل الآن مصطلح طفرة للدلالة على التغييرات الجينية أي داخل الجين نفس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2971800" y="189000"/>
            <a:ext cx="3168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Calibri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0066"/>
                </a:solidFill>
                <a:latin typeface="Calibri"/>
                <a:cs typeface="Times New Roman"/>
              </a:rPr>
              <a:t>أهمية الطفرة</a:t>
            </a:r>
            <a:r>
              <a:rPr b="1" lang="ar-SA" sz="4000" spc="-1" strike="noStrike">
                <a:solidFill>
                  <a:srgbClr val="ff0066"/>
                </a:solidFill>
                <a:latin typeface="Calibri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0066"/>
                </a:solidFill>
                <a:latin typeface="Calibri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57200" y="1557360"/>
            <a:ext cx="822960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تبر الطفرة هي المصدر الأساسي لجميع الاختلافات الوراثية و ذلك لأنها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فر المادة الأساسية اللازمة لحدوث التطو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نها مصدر الحصول على الأليلات متعددة للجين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ثال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أ- الاتحادات الجديدة تقوم بإعادة ترتيب التباين الوراثي في تباديل و توافيق جديد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- الانتخاب الطبيعي أو الصناعي يحافظ على التراكيب الأكثر تكيفاً مع الظروف البيئية الموجود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hanges are responsible for causing disease, but it is necessary to have some changes to have variation in the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flowers, kittens, noses and 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-228600" y="327672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s may happen in big or little chunks through rearrangements, additions, or subtractions of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324000" y="476280"/>
            <a:ext cx="85183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بذلك لولا وجود الطفرة لوجدت كل الجينات في صورة واحدة و بالتالي لما وجدت  الأليلات و لما كان التحليل الوراثي ممكناً و الأهم من ذلك ما كانت الكائنات قادرة على التطور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olve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و التكيف مع التغيرات البيئية . و على ذلك فالطفرة تعتبر ظاهرة هامه لأن وجودها سيؤدي إلى التابين الوراثي و يسمح للكائنات بالتكيف مع البيئات الجديدة و في نفس الوقت قد يؤدي ازدياد معدل الطفور إلى عدم انتظام انتقال المعلومات الوراثية بدقة من جيل إلى آخر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hat causes a muta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py mistak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tations are a natural part of the cellular process reproduction. The cell has tools that catch and repair 99.9% of mu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 factors may cause extra mutations to occur or damag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ch and repai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ech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mutations are the second hit to a cell, for example freckles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ial"/>
              </a:rPr>
              <a:t>النمش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a mutation already and another mutation makes the cell potentially cancer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hat are the other facto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28600" y="137160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factors may include: radiation, chemical exposures, UV light (sunligh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685800" y="2590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How do I stop thi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52280" y="342900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all mutants. The best way to prevent excessive and dangerous mutations is to avoid prolonged UV light from the sun (use sunblock), avoid pesticides and other mutage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6094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يمكن تقسيم الطفرات إلى نوعين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85800" y="236232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- طفرة تلقائية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pontaneous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Arial"/>
              </a:rPr>
              <a:t>- طفرة مستحدثه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duc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11:59:35Z</dcterms:created>
  <dc:creator>SaudKSU</dc:creator>
  <dc:description/>
  <dc:language>en-US</dc:language>
  <cp:lastModifiedBy>SaudKSU</cp:lastModifiedBy>
  <dcterms:modified xsi:type="dcterms:W3CDTF">2012-10-12T17:18:28Z</dcterms:modified>
  <cp:revision>19</cp:revision>
  <dc:subject/>
  <dc:title>Slide 1</dc:title>
</cp:coreProperties>
</file>