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58.png" ContentType="image/png"/>
  <Override PartName="/ppt/media/image10.png" ContentType="image/png"/>
  <Override PartName="/ppt/media/image47.png" ContentType="image/png"/>
  <Override PartName="/ppt/media/image21.png" ContentType="image/png"/>
  <Override PartName="/ppt/media/image1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14.png" ContentType="image/png"/>
  <Override PartName="/ppt/media/image49.jpeg" ContentType="image/jpeg"/>
  <Override PartName="/ppt/media/image20.png" ContentType="image/png"/>
  <Override PartName="/ppt/media/image57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11E4-E2FA-42A9-836F-AED250CCB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21C8-FBCF-440F-904F-3AEAF7D25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0F82-9659-45AB-AB2B-5DFF6ED27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8C43-A690-4AD9-A43C-3CDF0643F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le 1: Every router makes its decision alone, based on the information it has in its own routing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 has three static routes in its routing table and makes forwarding decisions based solely on the information in the routing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 does not consult the routing tables in any other routers, nor does it know whether those routers have routes to other networ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each router aware of remote networks is the responsibility of the network administr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C5BE-A666-4B2E-82F3-148AA7187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659A-00D3-4887-A70C-FC56D0B56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le 2: The fact that one router has certain information in its routing table does not mean that other routers have the sam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 does not know what information other routers have in their routing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R1 has a route to the 192.168.2.0/24 network through Router R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ckets that match this route belong to the 192.168.2.0/24 network and will be forwarded to Router R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 does not know whether R2 has a route to the 192.168.2.0/24 net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the network administrator would be responsible for ensuring that the next-hop router also has a route to this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Principle 2, you still need to configure the proper routing on the other routers (R2 and R3) to make sure that they have routes to these three net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9A00-E874-453B-9712-543CEC536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le 3: Routing information about a path from one network to another does not provide routing information about the reverse, or return,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communication over networks is bidirection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packets must travel in both directions between the end devices involv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cket from PC1 can reach PC3 because all the routers involved have routes to the destination network 192.168.2.0/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success of any returning packets going from PC3 to PC1 depends on whether the routers involved have a route to the return path, PC1’s 172.16.3.0/24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Principle 3 as guidance, you will configure proper static routes on the other routers to make sure that they have routes back to the 172.16.3.0/24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CE28-46C9-4753-822D-D47B01F7D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DB12-D8BC-49EB-9C25-4F03101EF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5401800"/>
            <a:ext cx="822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DD11-4DFE-4799-9BEF-05F4EF71B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540180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7920" y="540180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B2AA-3E20-4015-A726-D1AD0AA5D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3320" y="380952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5760" y="380952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540180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3320" y="540180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5760" y="540180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0745-3597-45FC-85E5-675C27AE1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880" y="540180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74FA-A564-4D12-8B20-618F7D758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97920" y="540180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5401800"/>
            <a:ext cx="822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880" y="5401800"/>
            <a:ext cx="822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540180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97920" y="540180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3320" y="380952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5760" y="380952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880" y="540180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3320" y="540180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5760" y="540180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1176-907C-4D21-A323-D34CBE07B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FBAC-101D-4819-A5A2-EDA185522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685C-F3ED-4FEF-8B0A-4CAC7D854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7280-3096-4CD4-BD82-27308EB9F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540180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F911-8AF0-49CD-832C-A774586BA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7920" y="540180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7246-A8D1-4309-AF44-FAB601003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5401800"/>
            <a:ext cx="822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B8A9-0D59-4619-AABA-620FC12E5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8" descr="RickGraziani-CabrilloCollege"/>
          <p:cNvPicPr/>
          <p:nvPr/>
        </p:nvPicPr>
        <p:blipFill>
          <a:blip r:embed="rId2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8F2A-F79A-4887-AEA6-9F9B44A44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1" descr="RickGraziani"/>
          <p:cNvPicPr/>
          <p:nvPr/>
        </p:nvPicPr>
        <p:blipFill>
          <a:blip r:embed="rId2"/>
          <a:stretch/>
        </p:blipFill>
        <p:spPr>
          <a:xfrm>
            <a:off x="0" y="0"/>
            <a:ext cx="9144000" cy="17938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8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59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28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828800"/>
            <a:ext cx="8915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. 5 Maintaining and Troubleshooting Routing Solu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4266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pping between the next hop-IP address and the Layer 2 address or identifier is stored in a data structure that is specific for that Layer 2 proto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: ARP ca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Relay: Frame Relay map table (except for point-to-po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outing table lookup may need to be followed up by a lookup in a Layer 3 to Layer 2 mapping table to construct a frame, encapsulate the packet, and transmit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DD80-C9F0-4495-ACA9-D511D8159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181560" cy="2901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1371600" y="152280"/>
            <a:ext cx="6261120" cy="11462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6248520" y="1371600"/>
            <a:ext cx="1523880" cy="289548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6"/>
          <p:cNvSpPr/>
          <p:nvPr/>
        </p:nvSpPr>
        <p:spPr>
          <a:xfrm>
            <a:off x="2030400" y="374760"/>
            <a:ext cx="682560" cy="244440"/>
          </a:xfrm>
          <a:custGeom>
            <a:avLst/>
            <a:gdLst>
              <a:gd name="textAreaLeft" fmla="*/ 0 w 682560"/>
              <a:gd name="textAreaRight" fmla="*/ 682920 w 682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683867" h="244250">
                <a:moveTo>
                  <a:pt x="0" y="244250"/>
                </a:moveTo>
                <a:cubicBezTo>
                  <a:pt x="122119" y="127553"/>
                  <a:pt x="244238" y="10856"/>
                  <a:pt x="358216" y="5428"/>
                </a:cubicBezTo>
                <a:cubicBezTo>
                  <a:pt x="472194" y="0"/>
                  <a:pt x="683867" y="211683"/>
                  <a:pt x="683867" y="21168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"/>
          <p:cNvSpPr/>
          <p:nvPr/>
        </p:nvSpPr>
        <p:spPr>
          <a:xfrm>
            <a:off x="3430440" y="365040"/>
            <a:ext cx="684360" cy="244440"/>
          </a:xfrm>
          <a:custGeom>
            <a:avLst/>
            <a:gdLst>
              <a:gd name="textAreaLeft" fmla="*/ 0 w 684360"/>
              <a:gd name="textAreaRight" fmla="*/ 684720 w 6843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683867" h="244250">
                <a:moveTo>
                  <a:pt x="0" y="244250"/>
                </a:moveTo>
                <a:cubicBezTo>
                  <a:pt x="122119" y="127553"/>
                  <a:pt x="244238" y="10856"/>
                  <a:pt x="358216" y="5428"/>
                </a:cubicBezTo>
                <a:cubicBezTo>
                  <a:pt x="472194" y="0"/>
                  <a:pt x="683867" y="211683"/>
                  <a:pt x="683867" y="21168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4952880" y="365040"/>
            <a:ext cx="684360" cy="244440"/>
          </a:xfrm>
          <a:custGeom>
            <a:avLst/>
            <a:gdLst>
              <a:gd name="textAreaLeft" fmla="*/ 0 w 684360"/>
              <a:gd name="textAreaRight" fmla="*/ 684720 w 6843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683867" h="244250">
                <a:moveTo>
                  <a:pt x="0" y="244250"/>
                </a:moveTo>
                <a:cubicBezTo>
                  <a:pt x="122119" y="127553"/>
                  <a:pt x="244238" y="10856"/>
                  <a:pt x="358216" y="5428"/>
                </a:cubicBezTo>
                <a:cubicBezTo>
                  <a:pt x="472194" y="0"/>
                  <a:pt x="683867" y="211683"/>
                  <a:pt x="683867" y="21168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326280" y="380880"/>
            <a:ext cx="684000" cy="244440"/>
          </a:xfrm>
          <a:custGeom>
            <a:avLst/>
            <a:gdLst>
              <a:gd name="textAreaLeft" fmla="*/ 0 w 684000"/>
              <a:gd name="textAreaRight" fmla="*/ 684360 w 684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683867" h="244250">
                <a:moveTo>
                  <a:pt x="0" y="244250"/>
                </a:moveTo>
                <a:cubicBezTo>
                  <a:pt x="122119" y="127553"/>
                  <a:pt x="244238" y="10856"/>
                  <a:pt x="358216" y="5428"/>
                </a:cubicBezTo>
                <a:cubicBezTo>
                  <a:pt x="472194" y="0"/>
                  <a:pt x="683867" y="211683"/>
                  <a:pt x="683867" y="21168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040" y="18288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oubleshooting EIGR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FBB4-A9A9-4AE6-95DD-3CBB41BBD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high level, each routing protocol consists of the following elements and processes:  (RIP is a notable exception to some of thes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ption of routing information from neighb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 protocol data struct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table, topolog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injection or re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 connected, dynamic routes, static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selection and insta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ath, equal cost load balancing, unequal cost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mission of routing information to neighb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ation, Broadcast, Multicast, LSAs, Route updates, 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F2E6-3234-473C-82B5-76CC0C5B7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21333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agnose and resolve problems related to EIGRP you must be able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your knowledg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GRP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table, Topology 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your knowledg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GRP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, adjacency process, summarization,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co IOS comm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ather information from the EIGRP data structures and track the flow of EIGRP routing inform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As we will see these procedures can be applied to other routing protocols as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4DB1-92DC-415E-A3CC-6BF9DEE97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3885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RP stores its operational data, configured parameters, and statistics in three main data struc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s all interfaces that have been enabled for the processing of EIGRP pack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ve interfaces are not listed in this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EAFA-4D92-47B7-B187-C6AF315CB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304920" y="533520"/>
            <a:ext cx="82296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3#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ow ip eigrp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P-EIGRP interfaces for proces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it Queue   Mean   Pacing Time   Multicast   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face    Peers  Un/Reliable  SRTT   Un/Reliable   Flow Timer  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0/1          1        0/0        60       0/15         299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0/0          1        0/0       607       0/15        3031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0/2          1        0/0        29       0/15         143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0/3          1        0/0        24       0/17          50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3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rack of all active EIGRP neighb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s are added to this table on the reception of hello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s are removed wh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-time exp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goes down or is removed from the interface 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2BA5-2B99-42B8-9A23-01A981531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57200" y="838080"/>
            <a:ext cx="8229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3#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ow ip eigrp neighb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P-EIGRP neighbors for proces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   Address                 Interface   Hold Uptime   SRTT   RTO  Q  Seq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ec)         (ms)       Cnt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   10.0.0.18               Se0/3         13 00:17:37   24   200  0  5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  10.0.0.14               Se0/2         14 00:17:50   29   200  0  4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10.0.0.5                Se0/0         14 00:23:35  607  3642  0  13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10.0.0.9                Se0/1         12 00:24:01   60   360  0  21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3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0880" y="4800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ology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all the routes that were received from neighboring routers, locally injected, or redistributed into EIGR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RP will select the best path from among the available possible pat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RP’s best path selection is based on the Diffusing Update Algorithm (DUAL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62C7-4391-4388-A711-DD624EBCA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04920" y="457200"/>
            <a:ext cx="8229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3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 ip eigrp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output omitt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 10.0.0.0/30, 2 successors, FD is 26818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a 10.0.0.9 (2681856/2169856), Serial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a 10.0.0.5 (2681856/2169856), Serial0/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output omitt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 172.16.0.0/16, 1 successors, FD is 21724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a 10.0.0.14 (2172416/28160), Serial0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a 10.0.0.18 (2312192/28160), Serial0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270080" y="3098880"/>
            <a:ext cx="5587920" cy="3045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934320" y="3123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uc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295280" y="3429000"/>
            <a:ext cx="5575320" cy="3049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858000" y="3442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easible suc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4876920" y="2819520"/>
            <a:ext cx="1143000" cy="30456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4268880" y="236160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Feasibl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990720" y="429516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Feasible distance:  if this router was the success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V="1">
            <a:off x="3581280" y="3657600"/>
            <a:ext cx="0" cy="533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4191120" y="3429000"/>
            <a:ext cx="9144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6629400" y="1752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Reported Distance is less than 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Feasibl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 flipH="1">
            <a:off x="5028840" y="2819520"/>
            <a:ext cx="167652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Rout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2EB4-A91F-42F9-A73F-41001EBD0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481120" y="914400"/>
            <a:ext cx="800280" cy="533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5757840" y="914400"/>
            <a:ext cx="800280" cy="5335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7"/>
          <p:cNvSpPr/>
          <p:nvPr/>
        </p:nvSpPr>
        <p:spPr>
          <a:xfrm>
            <a:off x="2709720" y="114300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5986440" y="114300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0"/>
          <p:cNvSpPr/>
          <p:nvPr/>
        </p:nvSpPr>
        <p:spPr>
          <a:xfrm flipH="1">
            <a:off x="2860200" y="1449360"/>
            <a:ext cx="18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3"/>
          <p:cNvSpPr/>
          <p:nvPr/>
        </p:nvSpPr>
        <p:spPr>
          <a:xfrm flipH="1">
            <a:off x="6138360" y="1447920"/>
            <a:ext cx="18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14"/>
          <p:cNvSpPr/>
          <p:nvPr/>
        </p:nvSpPr>
        <p:spPr>
          <a:xfrm flipH="1">
            <a:off x="2862000" y="1600200"/>
            <a:ext cx="32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8" descr=""/>
          <p:cNvPicPr/>
          <p:nvPr/>
        </p:nvPicPr>
        <p:blipFill>
          <a:blip r:embed="rId3"/>
          <a:stretch/>
        </p:blipFill>
        <p:spPr>
          <a:xfrm>
            <a:off x="2328840" y="1981080"/>
            <a:ext cx="574560" cy="38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"/>
          <p:cNvPicPr/>
          <p:nvPr/>
        </p:nvPicPr>
        <p:blipFill>
          <a:blip r:embed="rId4"/>
          <a:stretch/>
        </p:blipFill>
        <p:spPr>
          <a:xfrm>
            <a:off x="6072120" y="326700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"/>
          <p:cNvPicPr/>
          <p:nvPr/>
        </p:nvPicPr>
        <p:blipFill>
          <a:blip r:embed="rId5"/>
          <a:stretch/>
        </p:blipFill>
        <p:spPr>
          <a:xfrm>
            <a:off x="2286000" y="3962520"/>
            <a:ext cx="576360" cy="380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"/>
          <p:cNvPicPr/>
          <p:nvPr/>
        </p:nvPicPr>
        <p:blipFill>
          <a:blip r:embed="rId6"/>
          <a:stretch/>
        </p:blipFill>
        <p:spPr>
          <a:xfrm>
            <a:off x="6062760" y="2514600"/>
            <a:ext cx="574560" cy="380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"/>
          <p:cNvPicPr/>
          <p:nvPr/>
        </p:nvPicPr>
        <p:blipFill>
          <a:blip r:embed="rId7"/>
          <a:stretch/>
        </p:blipFill>
        <p:spPr>
          <a:xfrm>
            <a:off x="2289240" y="4791240"/>
            <a:ext cx="571320" cy="390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3" descr=""/>
          <p:cNvPicPr/>
          <p:nvPr/>
        </p:nvPicPr>
        <p:blipFill>
          <a:blip r:embed="rId8"/>
          <a:stretch/>
        </p:blipFill>
        <p:spPr>
          <a:xfrm>
            <a:off x="6062760" y="5486400"/>
            <a:ext cx="576000" cy="380880"/>
          </a:xfrm>
          <a:prstGeom prst="rect">
            <a:avLst/>
          </a:prstGeom>
          <a:ln w="0">
            <a:noFill/>
          </a:ln>
        </p:spPr>
      </p:pic>
      <p:cxnSp>
        <p:nvCxnSpPr>
          <p:cNvPr id="207" name="Straight Arrow Connector 25"/>
          <p:cNvCxnSpPr/>
          <p:nvPr/>
        </p:nvCxnSpPr>
        <p:spPr>
          <a:xfrm>
            <a:off x="2892600" y="2133720"/>
            <a:ext cx="304848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8" name="Straight Arrow Connector 32"/>
          <p:cNvCxnSpPr/>
          <p:nvPr/>
        </p:nvCxnSpPr>
        <p:spPr>
          <a:xfrm flipH="1" flipV="1">
            <a:off x="2940840" y="2722320"/>
            <a:ext cx="312516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9" name="Straight Arrow Connector 35"/>
          <p:cNvCxnSpPr/>
          <p:nvPr/>
        </p:nvCxnSpPr>
        <p:spPr>
          <a:xfrm flipH="1" flipV="1">
            <a:off x="2937600" y="3417120"/>
            <a:ext cx="312516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0" name="Straight Arrow Connector 36"/>
          <p:cNvCxnSpPr/>
          <p:nvPr/>
        </p:nvCxnSpPr>
        <p:spPr>
          <a:xfrm>
            <a:off x="2862360" y="4188960"/>
            <a:ext cx="304848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1" name="Straight Arrow Connector 37"/>
          <p:cNvCxnSpPr/>
          <p:nvPr/>
        </p:nvCxnSpPr>
        <p:spPr>
          <a:xfrm>
            <a:off x="2862360" y="4989600"/>
            <a:ext cx="304848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2" name="Straight Arrow Connector 38"/>
          <p:cNvCxnSpPr/>
          <p:nvPr/>
        </p:nvCxnSpPr>
        <p:spPr>
          <a:xfrm flipH="1" flipV="1">
            <a:off x="2937600" y="5682960"/>
            <a:ext cx="312516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3" name="TextBox 41"/>
          <p:cNvSpPr/>
          <p:nvPr/>
        </p:nvSpPr>
        <p:spPr>
          <a:xfrm>
            <a:off x="3023640" y="1878120"/>
            <a:ext cx="278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I am Router A. Is anyon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2"/>
          <p:cNvSpPr/>
          <p:nvPr/>
        </p:nvSpPr>
        <p:spPr>
          <a:xfrm>
            <a:off x="3228480" y="2478240"/>
            <a:ext cx="164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I am Router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3"/>
          <p:cNvSpPr/>
          <p:nvPr/>
        </p:nvSpPr>
        <p:spPr>
          <a:xfrm>
            <a:off x="3177360" y="3165480"/>
            <a:ext cx="245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ll my routing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using split horiz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4"/>
          <p:cNvSpPr/>
          <p:nvPr/>
        </p:nvSpPr>
        <p:spPr>
          <a:xfrm>
            <a:off x="3173760" y="3951360"/>
            <a:ext cx="200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the infor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very nice of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5"/>
          <p:cNvSpPr/>
          <p:nvPr/>
        </p:nvSpPr>
        <p:spPr>
          <a:xfrm>
            <a:off x="3177360" y="4740120"/>
            <a:ext cx="245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ll my routing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also using split horiz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6"/>
          <p:cNvSpPr/>
          <p:nvPr/>
        </p:nvSpPr>
        <p:spPr>
          <a:xfrm>
            <a:off x="3173400" y="545148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the infor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ached converg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Internal Storage 49"/>
          <p:cNvSpPr/>
          <p:nvPr/>
        </p:nvSpPr>
        <p:spPr>
          <a:xfrm>
            <a:off x="647640" y="1692360"/>
            <a:ext cx="912960" cy="822240"/>
          </a:xfrm>
          <a:prstGeom prst="flowChartInternalStorag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0"/>
          <p:cNvSpPr/>
          <p:nvPr/>
        </p:nvSpPr>
        <p:spPr>
          <a:xfrm>
            <a:off x="727560" y="1822320"/>
            <a:ext cx="84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igh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Internal Storage 51"/>
          <p:cNvSpPr/>
          <p:nvPr/>
        </p:nvSpPr>
        <p:spPr>
          <a:xfrm>
            <a:off x="7515360" y="1676520"/>
            <a:ext cx="912600" cy="822240"/>
          </a:xfrm>
          <a:prstGeom prst="flowChartInternalStorag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2"/>
          <p:cNvSpPr/>
          <p:nvPr/>
        </p:nvSpPr>
        <p:spPr>
          <a:xfrm>
            <a:off x="7595280" y="1806480"/>
            <a:ext cx="84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igh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Internal Storage 53"/>
          <p:cNvSpPr/>
          <p:nvPr/>
        </p:nvSpPr>
        <p:spPr>
          <a:xfrm>
            <a:off x="647640" y="3444840"/>
            <a:ext cx="912960" cy="822240"/>
          </a:xfrm>
          <a:prstGeom prst="flowChartInternalStorag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4"/>
          <p:cNvSpPr/>
          <p:nvPr/>
        </p:nvSpPr>
        <p:spPr>
          <a:xfrm>
            <a:off x="722160" y="3575160"/>
            <a:ext cx="86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Internal Storage 55"/>
          <p:cNvSpPr/>
          <p:nvPr/>
        </p:nvSpPr>
        <p:spPr>
          <a:xfrm>
            <a:off x="7535880" y="3444840"/>
            <a:ext cx="914400" cy="822240"/>
          </a:xfrm>
          <a:prstGeom prst="flowChartInternalStorag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6"/>
          <p:cNvSpPr/>
          <p:nvPr/>
        </p:nvSpPr>
        <p:spPr>
          <a:xfrm>
            <a:off x="7611480" y="3575160"/>
            <a:ext cx="86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Internal Storage 57"/>
          <p:cNvSpPr/>
          <p:nvPr/>
        </p:nvSpPr>
        <p:spPr>
          <a:xfrm>
            <a:off x="620640" y="5273640"/>
            <a:ext cx="912960" cy="822240"/>
          </a:xfrm>
          <a:prstGeom prst="flowChartInternalStorag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8"/>
          <p:cNvSpPr/>
          <p:nvPr/>
        </p:nvSpPr>
        <p:spPr>
          <a:xfrm>
            <a:off x="700920" y="5403960"/>
            <a:ext cx="75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Internal Storage 59"/>
          <p:cNvSpPr/>
          <p:nvPr/>
        </p:nvSpPr>
        <p:spPr>
          <a:xfrm>
            <a:off x="7535880" y="5257800"/>
            <a:ext cx="914400" cy="822240"/>
          </a:xfrm>
          <a:prstGeom prst="flowChartInternalStorag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0"/>
          <p:cNvSpPr/>
          <p:nvPr/>
        </p:nvSpPr>
        <p:spPr>
          <a:xfrm>
            <a:off x="7617960" y="5388120"/>
            <a:ext cx="75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1"/>
          <p:cNvSpPr/>
          <p:nvPr/>
        </p:nvSpPr>
        <p:spPr>
          <a:xfrm>
            <a:off x="7540560" y="14241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2"/>
          <p:cNvSpPr/>
          <p:nvPr/>
        </p:nvSpPr>
        <p:spPr>
          <a:xfrm>
            <a:off x="7540560" y="319392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3"/>
          <p:cNvSpPr/>
          <p:nvPr/>
        </p:nvSpPr>
        <p:spPr>
          <a:xfrm>
            <a:off x="7539120" y="501804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4"/>
          <p:cNvSpPr/>
          <p:nvPr/>
        </p:nvSpPr>
        <p:spPr>
          <a:xfrm>
            <a:off x="690120" y="1436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5"/>
          <p:cNvSpPr/>
          <p:nvPr/>
        </p:nvSpPr>
        <p:spPr>
          <a:xfrm>
            <a:off x="692280" y="320364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6"/>
          <p:cNvSpPr/>
          <p:nvPr/>
        </p:nvSpPr>
        <p:spPr>
          <a:xfrm>
            <a:off x="690120" y="503712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68"/>
          <p:cNvCxnSpPr/>
          <p:nvPr/>
        </p:nvCxnSpPr>
        <p:spPr>
          <a:xfrm>
            <a:off x="932040" y="4255920"/>
            <a:ext cx="3600" cy="80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8" name="TextBox 78"/>
          <p:cNvSpPr/>
          <p:nvPr/>
        </p:nvSpPr>
        <p:spPr>
          <a:xfrm>
            <a:off x="945720" y="434340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79"/>
          <p:cNvCxnSpPr/>
          <p:nvPr/>
        </p:nvCxnSpPr>
        <p:spPr>
          <a:xfrm>
            <a:off x="8134920" y="4255920"/>
            <a:ext cx="3960" cy="78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0" name="TextBox 80"/>
          <p:cNvSpPr/>
          <p:nvPr/>
        </p:nvSpPr>
        <p:spPr>
          <a:xfrm>
            <a:off x="7243200" y="434340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initial updates have been exchanged, routing updates will only be exchanged as a result of changes on the net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can be caused by changes in connectivity, such 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of a link or neigh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46A6-E721-4D9E-9C19-1283A0282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2855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0880" y="4876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bug ip rou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specific to EIG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any changes that are made to the routing table, such as installation or removal of rou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78A1-AA57-4A68-8CEC-9FCED15DA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80880" y="685800"/>
            <a:ext cx="8229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2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bug ip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P routing debugging is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2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2(config)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a0/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2(config-if)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p address 172.16.1.1 255.255.25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2(config-if)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LINK-3-UPDOWN: Interface FastEthernet0/0,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changed state to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LINEPROTO-5-UPDOWN: Line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protoco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n Interface FastEthernet0/0,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changed state to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RT: add 172.16.1.0/24 via 0.0.0.0, connected metric [0/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RT: interface FastEthernet0/0 added to routing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C1A3-6C4C-4DF6-ADC6-1092E4E52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ubleshooting and Maintaining Cisco IP Networks (TSHOOT) Foundation Learning Guide: Foundation learning for the CCNP TSHOOT 642-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mir Ranj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BN-10: 1-58705-87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BN-13: 978-1-58705-87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BN-10: 1-58714-17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BN-13: 978-1-58714-17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5765760" y="1143000"/>
            <a:ext cx="337824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0880" y="4876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bug eigrp pa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the transmission and reception of EIGRP pack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isco Press Implementing Cisco IP Routing (ROUTE) by Diane Teare provides detailed explanation of the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7151-6E7F-44CD-A11D-000A35248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49723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088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bug ip eigr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EIGRP routing events, such as updates, queries, and replies sent to or received from neighb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s on the routing information contained in the packets and the actions that EIGRP takes as a result of the information recei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isco Press Implementing Cisco IP Routing (ROUTE) by Diane Teare provides detailed explanation of the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FD1F-672D-4546-9ED2-EE4D586AE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oubleshooting Example: Routing Problem in an EIGRP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762B-6718-467E-B0F1-C57E566CD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06420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0880" y="4343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path unexpectedly goes through BRO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6A3C-6733-424A-BBB7-801916C26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4370400" y="0"/>
            <a:ext cx="4773600" cy="2590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0" y="2209680"/>
            <a:ext cx="530856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Oval 5"/>
          <p:cNvSpPr/>
          <p:nvPr/>
        </p:nvSpPr>
        <p:spPr>
          <a:xfrm>
            <a:off x="7924680" y="685800"/>
            <a:ext cx="121932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7"/>
          <p:cNvCxnSpPr/>
          <p:nvPr/>
        </p:nvCxnSpPr>
        <p:spPr>
          <a:xfrm flipH="1">
            <a:off x="5865120" y="687240"/>
            <a:ext cx="3960" cy="10677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66" name="Straight Arrow Connector 8"/>
          <p:cNvCxnSpPr/>
          <p:nvPr/>
        </p:nvCxnSpPr>
        <p:spPr>
          <a:xfrm flipV="1">
            <a:off x="6248520" y="1447200"/>
            <a:ext cx="1219680" cy="6102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67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0880" y="4343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BRO1 to CRO1 succeeds, you can conclude that the WAN link is operational at Layers 3 and be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4FA9-03C3-4198-A860-BD37038B1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0" y="1905120"/>
            <a:ext cx="9105840" cy="2387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4370400" y="0"/>
            <a:ext cx="4773600" cy="2590920"/>
          </a:xfrm>
          <a:prstGeom prst="rect">
            <a:avLst/>
          </a:prstGeom>
          <a:ln w="0">
            <a:noFill/>
          </a:ln>
        </p:spPr>
      </p:pic>
      <p:sp>
        <p:nvSpPr>
          <p:cNvPr id="273" name="Oval 5"/>
          <p:cNvSpPr/>
          <p:nvPr/>
        </p:nvSpPr>
        <p:spPr>
          <a:xfrm>
            <a:off x="7338960" y="293760"/>
            <a:ext cx="1219320" cy="5331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6"/>
          <p:cNvCxnSpPr/>
          <p:nvPr/>
        </p:nvCxnSpPr>
        <p:spPr>
          <a:xfrm>
            <a:off x="6249960" y="380520"/>
            <a:ext cx="1294560" cy="76284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sp>
        <p:nvSpPr>
          <p:cNvPr id="275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0880" y="2895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likely reasons why the traffic is routed through router BRO2 instead of directly across the WAN to router CRO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1 has not learned about the direct route to router CRO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1 selects the route through router BRO2 as the best ro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look at the EIGRP topology 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751B-45B1-4BBC-91F9-A92FFE287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4370400" y="0"/>
            <a:ext cx="4773600" cy="2590920"/>
          </a:xfrm>
          <a:prstGeom prst="rect">
            <a:avLst/>
          </a:prstGeom>
          <a:ln w="0">
            <a:noFill/>
          </a:ln>
        </p:spPr>
      </p:pic>
      <p:sp>
        <p:nvSpPr>
          <p:cNvPr id="280" name="Oval 4"/>
          <p:cNvSpPr/>
          <p:nvPr/>
        </p:nvSpPr>
        <p:spPr>
          <a:xfrm>
            <a:off x="7924680" y="685800"/>
            <a:ext cx="121932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5"/>
          <p:cNvCxnSpPr/>
          <p:nvPr/>
        </p:nvCxnSpPr>
        <p:spPr>
          <a:xfrm flipH="1">
            <a:off x="5865120" y="687240"/>
            <a:ext cx="3960" cy="10677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82" name="Straight Arrow Connector 6"/>
          <p:cNvCxnSpPr/>
          <p:nvPr/>
        </p:nvCxnSpPr>
        <p:spPr>
          <a:xfrm flipV="1">
            <a:off x="6248520" y="1447200"/>
            <a:ext cx="1219680" cy="6102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83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0880" y="3657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pology table lists all routes that were received, so you can see if the direct route to CRO1 is miss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is command displays all entries in the topology table for this destination, not just feasible successors – similar to “all-links” o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rou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determine whether the route was not learned becau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ighbor relationship with CRO1 was never establish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was established but the specific route was not exchang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next step is to display the neighb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00F2-1E55-47F2-A8FC-03AAF064D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2819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"/>
          <p:cNvPicPr/>
          <p:nvPr/>
        </p:nvPicPr>
        <p:blipFill>
          <a:blip r:embed="rId2"/>
          <a:stretch/>
        </p:blipFill>
        <p:spPr>
          <a:xfrm>
            <a:off x="5781600" y="0"/>
            <a:ext cx="3362400" cy="18288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228600" y="936720"/>
            <a:ext cx="495288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0880" y="46483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1 is not listed as a neighbor on router BRO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be one or the other routers is no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ing Hello pack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Hello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look at the EIGRP interfaces to make sure the serial interface is configured for EIG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7A72-7197-4C75-B2E6-0DADFB864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5361120" y="0"/>
            <a:ext cx="3782880" cy="20574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8315280" cy="1828800"/>
          </a:xfrm>
          <a:prstGeom prst="rect">
            <a:avLst/>
          </a:prstGeom>
          <a:ln w="0">
            <a:noFill/>
          </a:ln>
        </p:spPr>
      </p:pic>
      <p:sp>
        <p:nvSpPr>
          <p:cNvPr id="296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0880" y="3962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list the serial interface of router BRO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even if hello packets are received on the serial interface, router BRO1 does not process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onditions need to be met for an interface to be added to the EIGRP interface tab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face has to be up and its IP address must match one of the configured network sta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face should not be configured as a passive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look at the running-config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AB67-BFE1-437F-8155-463250B26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570880" cy="2133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2"/>
          <a:stretch/>
        </p:blipFill>
        <p:spPr>
          <a:xfrm>
            <a:off x="4660920" y="0"/>
            <a:ext cx="4483080" cy="2438280"/>
          </a:xfrm>
          <a:prstGeom prst="rect">
            <a:avLst/>
          </a:prstGeom>
          <a:ln w="0">
            <a:noFill/>
          </a:ln>
        </p:spPr>
      </p:pic>
      <p:sp>
        <p:nvSpPr>
          <p:cNvPr id="302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0880" y="41148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with one of the network state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te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10.1.194.1 0.0.0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ches IP address 10.1.194.1 the IP address of router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match the serial interface of BRO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d it with the state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10.1.194.2 0.0.0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some oth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97EE-E359-4230-8FFC-798089CD7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4660920" y="0"/>
            <a:ext cx="4483080" cy="2438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5423040" cy="19558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"/>
          <p:cNvSpPr/>
          <p:nvPr/>
        </p:nvSpPr>
        <p:spPr>
          <a:xfrm>
            <a:off x="609480" y="3276720"/>
            <a:ext cx="3276720" cy="30456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shooting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Layer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 Re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You always have the option of reviewing my CCNP ROUTE PowerPoints or attending the lectures for a 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time of this presentation we will be discussing Manipulating Routing Updates with route maps and distribution lists in my CIS 185 ROUTE class on Tues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E7F8-E804-4834-B93E-E49B10F0A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face table now lists subinterface Serial 0/0/0.111 in addition to subinterface FastEthernet 0/1.3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ns that EIGRP packets are now processed on interface Serial 0/0/0.1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address of router CRO1 (10.1.194.2) is now listed in the neighbor table on the WAN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139C-6FD1-4188-8438-64FDA1014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-12600" y="0"/>
            <a:ext cx="6497640" cy="3352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2"/>
          <a:stretch/>
        </p:blipFill>
        <p:spPr>
          <a:xfrm>
            <a:off x="4370400" y="0"/>
            <a:ext cx="4773600" cy="2590920"/>
          </a:xfrm>
          <a:prstGeom prst="rect">
            <a:avLst/>
          </a:prstGeom>
          <a:ln w="0">
            <a:noFill/>
          </a:ln>
        </p:spPr>
      </p:pic>
      <p:sp>
        <p:nvSpPr>
          <p:cNvPr id="315" name="Oval 6"/>
          <p:cNvSpPr/>
          <p:nvPr/>
        </p:nvSpPr>
        <p:spPr>
          <a:xfrm>
            <a:off x="7924680" y="685800"/>
            <a:ext cx="121932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7"/>
          <p:cNvCxnSpPr/>
          <p:nvPr/>
        </p:nvCxnSpPr>
        <p:spPr>
          <a:xfrm>
            <a:off x="6249960" y="456840"/>
            <a:ext cx="1294560" cy="76284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317" name="Rectangle 7"/>
          <p:cNvSpPr/>
          <p:nvPr/>
        </p:nvSpPr>
        <p:spPr>
          <a:xfrm>
            <a:off x="22320" y="1501920"/>
            <a:ext cx="441936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76320" y="2819520"/>
            <a:ext cx="6019560" cy="23148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6483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IGRP topology table now lists two entries for network 10.1.220.1/3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BR02 is listed but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easible Successor (RD is not less than F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3FA4-42DA-401B-B7FD-FDF93500F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5784840" cy="4495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tretch/>
        </p:blipFill>
        <p:spPr>
          <a:xfrm>
            <a:off x="4370400" y="0"/>
            <a:ext cx="4773600" cy="2590920"/>
          </a:xfrm>
          <a:prstGeom prst="rect">
            <a:avLst/>
          </a:prstGeom>
          <a:ln w="0">
            <a:noFill/>
          </a:ln>
        </p:spPr>
      </p:pic>
      <p:sp>
        <p:nvSpPr>
          <p:cNvPr id="325" name="Oval 8"/>
          <p:cNvSpPr/>
          <p:nvPr/>
        </p:nvSpPr>
        <p:spPr>
          <a:xfrm>
            <a:off x="7924680" y="685800"/>
            <a:ext cx="121932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Straight Arrow Connector 9"/>
          <p:cNvCxnSpPr/>
          <p:nvPr/>
        </p:nvCxnSpPr>
        <p:spPr>
          <a:xfrm>
            <a:off x="6249960" y="456840"/>
            <a:ext cx="1294560" cy="76284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cxnSp>
        <p:nvCxnSpPr>
          <p:cNvPr id="327" name="Straight Arrow Connector 10"/>
          <p:cNvCxnSpPr/>
          <p:nvPr/>
        </p:nvCxnSpPr>
        <p:spPr>
          <a:xfrm flipH="1">
            <a:off x="6040080" y="761760"/>
            <a:ext cx="2160" cy="106740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sp>
        <p:nvSpPr>
          <p:cNvPr id="328" name="Rectangle 8"/>
          <p:cNvSpPr/>
          <p:nvPr/>
        </p:nvSpPr>
        <p:spPr>
          <a:xfrm>
            <a:off x="228600" y="914400"/>
            <a:ext cx="4495680" cy="457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28600" y="2655720"/>
            <a:ext cx="4876920" cy="457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0"/>
          <p:cNvSpPr/>
          <p:nvPr/>
        </p:nvSpPr>
        <p:spPr>
          <a:xfrm>
            <a:off x="3056760" y="13716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0880" y="4266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ip rou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with network 10.1.220.1 confirms that the path through router CRO1 has been installed in the rout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o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 confirms that this path is now used to forward packets to the loopback of CRO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E62C-A3D6-4EFE-8210-5B5541E67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-38160" y="0"/>
            <a:ext cx="6854760" cy="41911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4370400" y="0"/>
            <a:ext cx="4773600" cy="2590920"/>
          </a:xfrm>
          <a:prstGeom prst="rect">
            <a:avLst/>
          </a:prstGeom>
          <a:ln w="0">
            <a:noFill/>
          </a:ln>
        </p:spPr>
      </p:pic>
      <p:sp>
        <p:nvSpPr>
          <p:cNvPr id="335" name="Oval 5"/>
          <p:cNvSpPr/>
          <p:nvPr/>
        </p:nvSpPr>
        <p:spPr>
          <a:xfrm>
            <a:off x="7924680" y="685800"/>
            <a:ext cx="121932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Straight Arrow Connector 6"/>
          <p:cNvCxnSpPr/>
          <p:nvPr/>
        </p:nvCxnSpPr>
        <p:spPr>
          <a:xfrm>
            <a:off x="6249960" y="456840"/>
            <a:ext cx="1294560" cy="7628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37" name="Rectangle 8"/>
          <p:cNvSpPr/>
          <p:nvPr/>
        </p:nvSpPr>
        <p:spPr>
          <a:xfrm>
            <a:off x="152280" y="3886200"/>
            <a:ext cx="274320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263520" y="1143000"/>
            <a:ext cx="380988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57040" y="18288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oubleshooting OSPF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1261-BF8F-45ED-9869-832114384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0880" y="41911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agnose and resolve problems related to OSPF you must be able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your knowledg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PF data stru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your knowledg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PF processes within a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your knowledg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PF processes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co IOS comm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ather information from the OSPF data structures and track the flow of OSPF routing inform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8FEE-3CE3-42EF-AB1F-665C4BDFA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24852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 stores its operational data, configured parameters, and statistics in four main data struc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s all interfaces that have been enabled for OSP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n interface is configured as a passive interface, it is still listed in the OSPF interface table, but no neighbor relationships are established on this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1E3E-6C3D-4283-A9AC-369CA8B60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0" y="1066680"/>
            <a:ext cx="91440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1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 ip ospf interface serial 0/0/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rial0/0/0 is up, line protocol is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net Address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192.168.10.1/3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Area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ss ID 1, Router ID 10.1.1.1,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Network Type POINT_TO_PO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Cost: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nsmit Delay is 1 sec, State POINT_TO_PO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r intervals configured,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Hello 10, Dead 4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Wait 40, Retransmi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output omitt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80880" y="4266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rack of all active OSPF neighb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 goes through a number of states while establishing a neighbor relationship (also known as adjacenc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s the current state for each individual neigh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E177-0BCD-4CA7-9206-9D588BCF8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380880" y="1066680"/>
            <a:ext cx="87631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1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 ip ospf neigh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ighbor ID   Pri   State      Dead Time    Address       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.3.3.3      1     FULL/ -    00:00:30     192.168.10.6   Serial0/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.2.2.2      1     FULL/ -    00:00:33     192.168.10.2   Serial0/0/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0880" y="4876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-state data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main data structure that OSPF uses to store all its network topology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a wealth of network topolog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most important data structures to gather information from when troubleshooting OSPF probl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21E2-943C-4A34-8F99-80239BFDC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477120" cy="42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0880" y="3657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 information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executing the SPF algorithm, the results of this calculation are stored in the RIB (Routing Information Bas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s might be added to or deleted from the RIB without the need for a SPF recalc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RIB, OSPF offers its routes to the IP routing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e collection of best paths is known as the OSPF RI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t a separate physical data structure called the OSPF RI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writings refer to the IP routing table as the RIB to allow it to be distinguished from the FIB that CEF cre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DDC7-B614-4590-AD9D-B93EF42DA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228600" y="1066680"/>
            <a:ext cx="871704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33# show ip ro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3.0.0.0/32 is subnetted, 1 sub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   33.33.33.33 is directly connected, Loopback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72.16.0.0/24 is subnetted, 2 sub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   172.16.1.0 is directly connected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       172.16.2.0 [110/2] via 172.16.1.1, 00:02:13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72.30.0.0/24 is subnetted, 2 sub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   172.30.1.0 is directly connected, FastEthernet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       172.30.2.0 [110/2] via 172.16.1.3, 00:02:23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*IA 0.0.0.0/0 [110/2] via 172.16.1.1, 00:02:13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8088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routers will become neighbors only if the following parameters match in the Hello pac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lo and dead tim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same Hello and dead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and point-to-point type networks are 10-second Hello and 40-second dead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PF area 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consider that link to be in the same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subnet and subnet mas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y are on the same subn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ception to this rule is on a point-to-point link, where the subnet mask is not verifi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358C-AB01-4FAB-97DB-0E6374214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228600" y="380880"/>
            <a:ext cx="87631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1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 ip ospf neigh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ighbor ID   Pri   State      Dead Time    Address       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.3.3.3      0     FULL/ -    00:00:35     192.168.10.6   Serial0/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.2.2.2      0     FULL/ -    00:00:36     192.168.10.2   Serial0/0/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4952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like we did when we looked at Layer 2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roubleshoot Layer 3 connectivity, you need to have a good understanding of the processes that are involved in routing a packet from a host through multiple routers to the final destin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network layer connectivity indicates that the problem is at or below network lay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097F-2F96-4184-B533-8B40770E3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541476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8394840" cy="1536840"/>
          </a:xfrm>
          <a:prstGeom prst="rect">
            <a:avLst/>
          </a:prstGeom>
          <a:ln w="0">
            <a:noFill/>
          </a:ln>
        </p:spPr>
      </p:pic>
      <p:sp>
        <p:nvSpPr>
          <p:cNvPr id="10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oubleshooting Example: Routing Problem in an OSPF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61C5-F4F2-40A4-A9CE-FFF091D6B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4706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880" y="4800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01#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w ip route 10.1.15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the routing table on router CRO1, you only find a single entry, the path through router CSW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two equal cost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0A72-CB98-4B4E-8734-180463725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0" y="2514600"/>
            <a:ext cx="7126200" cy="2057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379" name="Oval 5"/>
          <p:cNvSpPr/>
          <p:nvPr/>
        </p:nvSpPr>
        <p:spPr>
          <a:xfrm>
            <a:off x="5257800" y="1309680"/>
            <a:ext cx="838080" cy="6094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Straight Arrow Connector 7"/>
          <p:cNvCxnSpPr/>
          <p:nvPr/>
        </p:nvCxnSpPr>
        <p:spPr>
          <a:xfrm flipH="1" flipV="1">
            <a:off x="7009920" y="914040"/>
            <a:ext cx="1448640" cy="3816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81" name="Rectangle 7"/>
          <p:cNvSpPr/>
          <p:nvPr/>
        </p:nvSpPr>
        <p:spPr>
          <a:xfrm>
            <a:off x="1447920" y="3733920"/>
            <a:ext cx="160020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0520" y="28195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sult is unexpected because there are two equal cost paths are available to CRO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CSW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CSW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g CSW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ceeds, conclude that the Fast Ethernet link between router CRO1 and router CSW2 is operational at Layers 3 and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find out why the second, equal cost path through router CSW2 is not installed in the routing 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main reasons why this could be happ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W2 is not advertising subnet 10.1.152.0/24 to area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to reach subnet 10.1.152.0/24 through router CSW2 from router CRO1 is considered to be worse than the cost through router CSW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2017-1F3A-4EE9-BE22-A6E38CDE9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0" y="990720"/>
            <a:ext cx="6134040" cy="156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4768920" y="0"/>
            <a:ext cx="4375080" cy="2895480"/>
          </a:xfrm>
          <a:prstGeom prst="rect">
            <a:avLst/>
          </a:prstGeom>
          <a:ln w="0">
            <a:noFill/>
          </a:ln>
        </p:spPr>
      </p:pic>
      <p:sp>
        <p:nvSpPr>
          <p:cNvPr id="386" name="Oval 5"/>
          <p:cNvSpPr/>
          <p:nvPr/>
        </p:nvSpPr>
        <p:spPr>
          <a:xfrm>
            <a:off x="5410080" y="1219320"/>
            <a:ext cx="838440" cy="609480"/>
          </a:xfrm>
          <a:prstGeom prst="ellipse">
            <a:avLst/>
          </a:prstGeom>
          <a:noFill/>
          <a:ln w="2556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Straight Arrow Connector 6"/>
          <p:cNvCxnSpPr/>
          <p:nvPr/>
        </p:nvCxnSpPr>
        <p:spPr>
          <a:xfrm flipH="1">
            <a:off x="7162560" y="1294200"/>
            <a:ext cx="1296000" cy="68652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sp>
        <p:nvSpPr>
          <p:cNvPr id="388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80880" y="3276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the preference for the path to 10.1.152.0/24 via CSW1 must be based on the topology within area 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at router CRO1 has a direct connection in area 0 to both router CSW1 and CSW2, there are only two plausible explanations for the fact that router CRO1 is not using the path via router CSW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the direct path to router CSW2 is not used because routers CSW2 and CRO1 have not become neighb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th is not used because the cost for interface FastEthernet 0/1 is higher than the cost for interface FastEthernet 0/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3D48-519F-409D-A3E0-DCC27CF5A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207360" cy="16635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5257800" y="1309680"/>
            <a:ext cx="838080" cy="6094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6"/>
          <p:cNvCxnSpPr/>
          <p:nvPr/>
        </p:nvCxnSpPr>
        <p:spPr>
          <a:xfrm flipV="1">
            <a:off x="7008840" y="1980360"/>
            <a:ext cx="1069200" cy="252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cxnSp>
        <p:nvCxnSpPr>
          <p:cNvPr id="396" name="Straight Arrow Connector 9"/>
          <p:cNvCxnSpPr/>
          <p:nvPr/>
        </p:nvCxnSpPr>
        <p:spPr>
          <a:xfrm>
            <a:off x="6934320" y="914400"/>
            <a:ext cx="1372320" cy="216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cxnSp>
        <p:nvCxnSpPr>
          <p:cNvPr id="397" name="Straight Arrow Connector 13"/>
          <p:cNvCxnSpPr/>
          <p:nvPr/>
        </p:nvCxnSpPr>
        <p:spPr>
          <a:xfrm flipV="1">
            <a:off x="7007760" y="1600920"/>
            <a:ext cx="3960" cy="38196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cxnSp>
        <p:nvCxnSpPr>
          <p:cNvPr id="398" name="Straight Arrow Connector 15"/>
          <p:cNvCxnSpPr/>
          <p:nvPr/>
        </p:nvCxnSpPr>
        <p:spPr>
          <a:xfrm flipH="1">
            <a:off x="6931800" y="1220400"/>
            <a:ext cx="3960" cy="30564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sp>
        <p:nvSpPr>
          <p:cNvPr id="39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verify if router CRO1 has established, a proper neighbor relationship with router CSW1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ip ospf neighb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ould be several reas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router CSW2 is not lis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neighbor of CRO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W2 is not sending Hel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s are received, but ignored due to mismatched Hello parame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s are sent, but not received, because interface FastEthernet 0/1 has not been activated for OSPF and therefore does not listen to the OSPF multicast group 224.0.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17B5-DBD9-48CA-AB86-9B40BB28B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0" y="2514600"/>
            <a:ext cx="7129440" cy="1295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405" name="Oval 5"/>
          <p:cNvSpPr/>
          <p:nvPr/>
        </p:nvSpPr>
        <p:spPr>
          <a:xfrm>
            <a:off x="5257800" y="1309680"/>
            <a:ext cx="838080" cy="6094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Straight Arrow Connector 6"/>
          <p:cNvCxnSpPr/>
          <p:nvPr/>
        </p:nvCxnSpPr>
        <p:spPr>
          <a:xfrm flipV="1">
            <a:off x="7008840" y="1065960"/>
            <a:ext cx="2160" cy="91692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cxnSp>
        <p:nvCxnSpPr>
          <p:cNvPr id="407" name="Straight Arrow Connector 7"/>
          <p:cNvCxnSpPr/>
          <p:nvPr/>
        </p:nvCxnSpPr>
        <p:spPr>
          <a:xfrm>
            <a:off x="6934320" y="914400"/>
            <a:ext cx="1372320" cy="216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sp>
        <p:nvSpPr>
          <p:cNvPr id="408" name="TextBox 8"/>
          <p:cNvSpPr/>
          <p:nvPr/>
        </p:nvSpPr>
        <p:spPr>
          <a:xfrm>
            <a:off x="-11160" y="685800"/>
            <a:ext cx="4476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Unlike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w ip eigrp interfac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mman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w ip ospf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mmand wi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interfaces that are enabled for OSPF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configured as passive interfac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s a problem with one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te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10.1.192.9 0.0.0.0 area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ches IP address 10.1.192.9, which is not one of router CRO1’s IP addresses, but an IP address of router CSW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 needs to be replaced with the state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10.1.192.10 0.0.0.0 area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some other network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08D6-E892-4552-916A-FCAFEA905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5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414" name="Oval 6"/>
          <p:cNvSpPr/>
          <p:nvPr/>
        </p:nvSpPr>
        <p:spPr>
          <a:xfrm>
            <a:off x="5257800" y="1309680"/>
            <a:ext cx="838080" cy="6094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Straight Arrow Connector 7"/>
          <p:cNvCxnSpPr/>
          <p:nvPr/>
        </p:nvCxnSpPr>
        <p:spPr>
          <a:xfrm flipV="1">
            <a:off x="7008840" y="1065960"/>
            <a:ext cx="2160" cy="91692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cxnSp>
        <p:nvCxnSpPr>
          <p:cNvPr id="416" name="Straight Arrow Connector 8"/>
          <p:cNvCxnSpPr/>
          <p:nvPr/>
        </p:nvCxnSpPr>
        <p:spPr>
          <a:xfrm>
            <a:off x="6934320" y="914400"/>
            <a:ext cx="1372320" cy="216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pic>
        <p:nvPicPr>
          <p:cNvPr id="417" name="Picture 9" descr=""/>
          <p:cNvPicPr/>
          <p:nvPr/>
        </p:nvPicPr>
        <p:blipFill>
          <a:blip r:embed="rId2"/>
          <a:stretch/>
        </p:blipFill>
        <p:spPr>
          <a:xfrm>
            <a:off x="0" y="1635120"/>
            <a:ext cx="4648320" cy="171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8" name="Rectangle 10"/>
          <p:cNvSpPr/>
          <p:nvPr/>
        </p:nvSpPr>
        <p:spPr>
          <a:xfrm>
            <a:off x="0" y="2819520"/>
            <a:ext cx="3581280" cy="30456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0880" y="5943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hange, verify interface and neighbor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9166-4FFF-41F9-865C-E4960F6B3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1"/>
          <a:stretch/>
        </p:blipFill>
        <p:spPr>
          <a:xfrm>
            <a:off x="0" y="2743200"/>
            <a:ext cx="8039160" cy="3222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425" name="Oval 5"/>
          <p:cNvSpPr/>
          <p:nvPr/>
        </p:nvSpPr>
        <p:spPr>
          <a:xfrm>
            <a:off x="5257800" y="1309680"/>
            <a:ext cx="838080" cy="6094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Straight Arrow Connector 6"/>
          <p:cNvCxnSpPr/>
          <p:nvPr/>
        </p:nvCxnSpPr>
        <p:spPr>
          <a:xfrm flipH="1">
            <a:off x="7162200" y="1676520"/>
            <a:ext cx="1370520" cy="45792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cxnSp>
        <p:nvCxnSpPr>
          <p:cNvPr id="427" name="Straight Arrow Connector 7"/>
          <p:cNvCxnSpPr/>
          <p:nvPr/>
        </p:nvCxnSpPr>
        <p:spPr>
          <a:xfrm flipH="1" flipV="1">
            <a:off x="7086240" y="914040"/>
            <a:ext cx="1296000" cy="38160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sp>
        <p:nvSpPr>
          <p:cNvPr id="428" name="Rectangle 8"/>
          <p:cNvSpPr/>
          <p:nvPr/>
        </p:nvSpPr>
        <p:spPr>
          <a:xfrm>
            <a:off x="76320" y="3781440"/>
            <a:ext cx="6705360" cy="30492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90360" y="5332320"/>
            <a:ext cx="7682040" cy="30492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0880" y="5333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7042-4BF3-4423-AE23-F6A96643F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0" y="2057400"/>
            <a:ext cx="8356680" cy="2840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436" name="Oval 5"/>
          <p:cNvSpPr/>
          <p:nvPr/>
        </p:nvSpPr>
        <p:spPr>
          <a:xfrm>
            <a:off x="5257800" y="1309680"/>
            <a:ext cx="838080" cy="6094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Straight Arrow Connector 6"/>
          <p:cNvCxnSpPr/>
          <p:nvPr/>
        </p:nvCxnSpPr>
        <p:spPr>
          <a:xfrm flipH="1">
            <a:off x="7162200" y="1676520"/>
            <a:ext cx="1370520" cy="4579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38" name="Straight Arrow Connector 8"/>
          <p:cNvCxnSpPr/>
          <p:nvPr/>
        </p:nvCxnSpPr>
        <p:spPr>
          <a:xfrm flipH="1" flipV="1">
            <a:off x="7162560" y="914040"/>
            <a:ext cx="1294560" cy="4579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39" name="Rectangle 10"/>
          <p:cNvSpPr/>
          <p:nvPr/>
        </p:nvSpPr>
        <p:spPr>
          <a:xfrm>
            <a:off x="1752480" y="3733920"/>
            <a:ext cx="190512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1752480" y="4267080"/>
            <a:ext cx="190512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shooting the boo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0880" y="51811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no fault of the author the diagram in the book is incorr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is diagram incorrect given this outp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01 cannot receive LSA 3’s from CSW2 un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 a neighbor adjacency with CSW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W2 forwards the LSA3 to CSW1 within area 0 (CR01’s a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DB5D-09DE-4377-8195-ABE961433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5"/>
          <p:cNvSpPr/>
          <p:nvPr/>
        </p:nvSpPr>
        <p:spPr>
          <a:xfrm>
            <a:off x="2638440" y="2209680"/>
            <a:ext cx="76320" cy="838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7"/>
          <p:cNvSpPr/>
          <p:nvPr/>
        </p:nvSpPr>
        <p:spPr>
          <a:xfrm flipH="1">
            <a:off x="2542680" y="2211480"/>
            <a:ext cx="1800" cy="761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79548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8" name="Picture 5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449" name="Oval 6"/>
          <p:cNvSpPr/>
          <p:nvPr/>
        </p:nvSpPr>
        <p:spPr>
          <a:xfrm>
            <a:off x="990720" y="2376360"/>
            <a:ext cx="838080" cy="6098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Straight Arrow Connector 7"/>
          <p:cNvCxnSpPr/>
          <p:nvPr/>
        </p:nvCxnSpPr>
        <p:spPr>
          <a:xfrm flipV="1">
            <a:off x="2741760" y="2133360"/>
            <a:ext cx="2160" cy="91656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cxnSp>
        <p:nvCxnSpPr>
          <p:cNvPr id="451" name="Straight Arrow Connector 8"/>
          <p:cNvCxnSpPr/>
          <p:nvPr/>
        </p:nvCxnSpPr>
        <p:spPr>
          <a:xfrm>
            <a:off x="2666880" y="1980720"/>
            <a:ext cx="1372320" cy="252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sp>
        <p:nvSpPr>
          <p:cNvPr id="452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057040" y="18288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oubleshooting Route Redistrib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149F-19AE-4AAC-ACD2-45A75715C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08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decisions does Host A make to successfully send a packet destined for Host B to the first hop Router 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nformation does it ne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ing; ARP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tions does it perfor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HCP Request; Host or GW Address; DNS Query; ARP Request; Layer 2 encap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decisions does Router C make to successfully send the packet from Host A destined for Host B to the next hop Router 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L – ICMP Time Exceeded; ; CEF or layer 3; Longest prefix match; Layer 2 Next-hop address; layer 2 encapsulation; Frag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decisions does Router D make to successfully send the packet from Host A destined for Host B to the next hop Router E? (Same ques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decisions does Router E make to successfully send the packet from Host A destined for Host B to its final destination, Host B? (Same ques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any differences in the processes and information required in order to successfully transmit return packets from Host B back to Host 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14EC-40C3-4CD3-92DC-D588D11FD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28600" y="0"/>
            <a:ext cx="8394840" cy="1536840"/>
          </a:xfrm>
          <a:prstGeom prst="rect">
            <a:avLst/>
          </a:prstGeom>
          <a:ln w="0">
            <a:noFill/>
          </a:ln>
        </p:spPr>
      </p:pic>
      <p:sp>
        <p:nvSpPr>
          <p:cNvPr id="105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, no more than one interior (intra-AS) routing protocol is used within an organiz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for running multiple routing protoc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 mergers and different IGPs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 has different divisions with the network under separate control for business or political reas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 has connections between business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llow multivendor interoperability (OSPF on non-Cisco, EIGRP on Cisco, for in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per route redistribution can lea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optimal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feedback (routing loo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97D0-202F-44DD-9D83-5070A76E4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4573440" y="0"/>
            <a:ext cx="4570560" cy="3048120"/>
          </a:xfrm>
          <a:prstGeom prst="rect">
            <a:avLst/>
          </a:prstGeom>
          <a:ln w="0">
            <a:noFill/>
          </a:ln>
        </p:spPr>
      </p:pic>
      <p:sp>
        <p:nvSpPr>
          <p:cNvPr id="46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1" dur="5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6" dur="500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ways for routes to be injected in a routing protoco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ly conn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ing the routing protocol on an interf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routes are considered internal by the routing proto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s from a different source that are present in the rout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se routes were not originated by the routing protocol, they are considered exter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2EBF-E0DC-4FED-993E-7F325AB05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228600" y="2362320"/>
            <a:ext cx="8686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ter(config-router)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distribu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rotoco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rotocol option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04920" y="1143000"/>
            <a:ext cx="8534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ter(config-router)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twork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network-addre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rotocol option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0880" y="3123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important conditions that must be met for a prefix learned from one protocol (using redistribution) to be successfully advertised through another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oute needs to be installed in the routing table doing the redistrib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oper seed metric is assigned to the redistributed ro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xcept for OSPF which defaults to 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70102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69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3BE9-9637-4C76-A358-1957F6EBCB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1"/>
          <a:stretch/>
        </p:blipFill>
        <p:spPr>
          <a:xfrm>
            <a:off x="2068560" y="0"/>
            <a:ext cx="7075440" cy="2819520"/>
          </a:xfrm>
          <a:prstGeom prst="rect">
            <a:avLst/>
          </a:prstGeom>
          <a:ln w="0">
            <a:noFill/>
          </a:ln>
        </p:spPr>
      </p:pic>
      <p:sp>
        <p:nvSpPr>
          <p:cNvPr id="471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5560" y="5105520"/>
            <a:ext cx="7940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228600" y="1447920"/>
            <a:ext cx="89154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R2 summa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ter eigr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twork 172.30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uto-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redistribute osp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default-metric 1000 33 255 1 1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redistribute connected metric 1000 33 255 1 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ter osp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twork 10.0.0.0 0.0.0.255 are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twork 172.16.0.0 0.0.0.3 are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redistribute eigrp 1 sub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redistribute conn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2351160"/>
          </a:xfrm>
          <a:prstGeom prst="rect">
            <a:avLst/>
          </a:prstGeom>
          <a:ln w="0">
            <a:noFill/>
          </a:ln>
        </p:spPr>
      </p:pic>
      <p:sp>
        <p:nvSpPr>
          <p:cNvPr id="477" name="Oval 7"/>
          <p:cNvSpPr/>
          <p:nvPr/>
        </p:nvSpPr>
        <p:spPr>
          <a:xfrm>
            <a:off x="5762520" y="1200240"/>
            <a:ext cx="457200" cy="3045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8"/>
          <p:cNvSpPr/>
          <p:nvPr/>
        </p:nvSpPr>
        <p:spPr>
          <a:xfrm flipH="1">
            <a:off x="4266360" y="781560"/>
            <a:ext cx="1752840" cy="590400"/>
          </a:xfrm>
          <a:prstGeom prst="rightArrow">
            <a:avLst>
              <a:gd name="adj1" fmla="val 50000"/>
              <a:gd name="adj2" fmla="val 742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 33 255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6248520" y="781560"/>
            <a:ext cx="990360" cy="590400"/>
          </a:xfrm>
          <a:prstGeom prst="rightArrow">
            <a:avLst>
              <a:gd name="adj1" fmla="val 50000"/>
              <a:gd name="adj2" fmla="val 41936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W=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0"/>
          <p:cNvSpPr/>
          <p:nvPr/>
        </p:nvSpPr>
        <p:spPr>
          <a:xfrm>
            <a:off x="7467480" y="781560"/>
            <a:ext cx="1067040" cy="590400"/>
          </a:xfrm>
          <a:prstGeom prst="rightArrow">
            <a:avLst>
              <a:gd name="adj1" fmla="val 50000"/>
              <a:gd name="adj2" fmla="val 45183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W=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1"/>
          <p:cNvSpPr/>
          <p:nvPr/>
        </p:nvSpPr>
        <p:spPr>
          <a:xfrm>
            <a:off x="8966160" y="6692760"/>
            <a:ext cx="177840" cy="1652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2"/>
          <p:cNvSpPr/>
          <p:nvPr/>
        </p:nvSpPr>
        <p:spPr>
          <a:xfrm>
            <a:off x="8966160" y="6692760"/>
            <a:ext cx="177840" cy="165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3485520" y="2819520"/>
            <a:ext cx="3717360" cy="5691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OSPF learned networks are distribu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into the EIGRP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5233680" y="3459240"/>
            <a:ext cx="3662640" cy="3258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Use the metrics for BW DLY RLY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3711240" y="4114800"/>
            <a:ext cx="4238640" cy="5691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istribute any directly connected networ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and use these metrics for BW DLY RLY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4635360" y="5791320"/>
            <a:ext cx="4000680" cy="569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EIGRP learned networks are distribu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into the OSPF domain, default metric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3581280" y="6324480"/>
            <a:ext cx="5181840" cy="569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Distribute any directly connected networ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and use default metric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4572000" y="990720"/>
            <a:ext cx="1295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9"/>
          <p:cNvSpPr/>
          <p:nvPr/>
        </p:nvSpPr>
        <p:spPr>
          <a:xfrm>
            <a:off x="5486400" y="533520"/>
            <a:ext cx="9907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0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4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4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6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1" dur="500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6" dur="5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2" dur="5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Route Maps to Avoid Route 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point boundary routers may cause suboptimal routing or routing loo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Pv2 on Router C advertises network 192.168.1.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s A and B redistribute the network into OSP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 then advertises the route to its neighbor OSPF routers as an OSPF external ro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ute passes through the OSPF AS and eventually makes its way back to the other edge rou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B (or A) then redistributes 192.168.1.0 from OSPF back into the original RIPv2 network; this is a routing feedback loo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upon the metrics this may result in suboptimal routing or even a routing loo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AD18-8768-47DB-A859-8503995E9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0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637920" cy="438120"/>
          </a:xfrm>
          <a:prstGeom prst="rect">
            <a:avLst/>
          </a:prstGeom>
          <a:ln w="0">
            <a:noFill/>
          </a:ln>
        </p:spPr>
      </p:pic>
      <p:sp>
        <p:nvSpPr>
          <p:cNvPr id="494" name="Oval 5"/>
          <p:cNvSpPr/>
          <p:nvPr/>
        </p:nvSpPr>
        <p:spPr>
          <a:xfrm>
            <a:off x="5562720" y="990720"/>
            <a:ext cx="2895480" cy="18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6"/>
          <p:cNvSpPr/>
          <p:nvPr/>
        </p:nvSpPr>
        <p:spPr>
          <a:xfrm>
            <a:off x="457200" y="990720"/>
            <a:ext cx="4876920" cy="1904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7"/>
          <p:cNvSpPr/>
          <p:nvPr/>
        </p:nvSpPr>
        <p:spPr>
          <a:xfrm>
            <a:off x="6633720" y="9907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8"/>
          <p:cNvSpPr/>
          <p:nvPr/>
        </p:nvSpPr>
        <p:spPr>
          <a:xfrm>
            <a:off x="2748240" y="9907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P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9"/>
          <p:cNvSpPr/>
          <p:nvPr/>
        </p:nvSpPr>
        <p:spPr>
          <a:xfrm>
            <a:off x="538560" y="167652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2.168.1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637920" cy="438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0" descr=""/>
          <p:cNvPicPr/>
          <p:nvPr/>
        </p:nvPicPr>
        <p:blipFill>
          <a:blip r:embed="rId3"/>
          <a:stretch/>
        </p:blipFill>
        <p:spPr>
          <a:xfrm>
            <a:off x="1828800" y="1676520"/>
            <a:ext cx="638280" cy="4381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"/>
          <p:cNvPicPr/>
          <p:nvPr/>
        </p:nvPicPr>
        <p:blipFill>
          <a:blip r:embed="rId4"/>
          <a:stretch/>
        </p:blipFill>
        <p:spPr>
          <a:xfrm>
            <a:off x="2819520" y="1447920"/>
            <a:ext cx="637920" cy="438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0" descr=""/>
          <p:cNvPicPr/>
          <p:nvPr/>
        </p:nvPicPr>
        <p:blipFill>
          <a:blip r:embed="rId5"/>
          <a:stretch/>
        </p:blipFill>
        <p:spPr>
          <a:xfrm>
            <a:off x="2819520" y="1981080"/>
            <a:ext cx="637920" cy="438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0" descr=""/>
          <p:cNvPicPr/>
          <p:nvPr/>
        </p:nvPicPr>
        <p:blipFill>
          <a:blip r:embed="rId6"/>
          <a:stretch/>
        </p:blipFill>
        <p:spPr>
          <a:xfrm>
            <a:off x="4038480" y="1981080"/>
            <a:ext cx="638280" cy="438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0" descr=""/>
          <p:cNvPicPr/>
          <p:nvPr/>
        </p:nvPicPr>
        <p:blipFill>
          <a:blip r:embed="rId7"/>
          <a:stretch/>
        </p:blipFill>
        <p:spPr>
          <a:xfrm>
            <a:off x="4038480" y="1447920"/>
            <a:ext cx="638280" cy="438120"/>
          </a:xfrm>
          <a:prstGeom prst="rect">
            <a:avLst/>
          </a:prstGeom>
          <a:ln w="0">
            <a:noFill/>
          </a:ln>
        </p:spPr>
      </p:pic>
      <p:sp>
        <p:nvSpPr>
          <p:cNvPr id="505" name="Down Arrow 20"/>
          <p:cNvSpPr/>
          <p:nvPr/>
        </p:nvSpPr>
        <p:spPr>
          <a:xfrm flipV="1" rot="5400000">
            <a:off x="5562360" y="951480"/>
            <a:ext cx="228600" cy="1295280"/>
          </a:xfrm>
          <a:prstGeom prst="downArrow">
            <a:avLst>
              <a:gd name="adj1" fmla="val 50000"/>
              <a:gd name="adj2" fmla="val 49998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Down Arrow 21"/>
          <p:cNvSpPr/>
          <p:nvPr/>
        </p:nvSpPr>
        <p:spPr>
          <a:xfrm flipV="1" rot="5400000">
            <a:off x="5562360" y="1475280"/>
            <a:ext cx="228600" cy="1295280"/>
          </a:xfrm>
          <a:prstGeom prst="downArrow">
            <a:avLst>
              <a:gd name="adj1" fmla="val 50000"/>
              <a:gd name="adj2" fmla="val 49998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3"/>
          <p:cNvSpPr/>
          <p:nvPr/>
        </p:nvSpPr>
        <p:spPr>
          <a:xfrm>
            <a:off x="4676760" y="1666800"/>
            <a:ext cx="428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4"/>
          <p:cNvSpPr/>
          <p:nvPr/>
        </p:nvSpPr>
        <p:spPr>
          <a:xfrm flipV="1">
            <a:off x="4676760" y="2200320"/>
            <a:ext cx="42876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27"/>
          <p:cNvSpPr/>
          <p:nvPr/>
        </p:nvSpPr>
        <p:spPr>
          <a:xfrm flipV="1">
            <a:off x="3429000" y="1666440"/>
            <a:ext cx="60948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29"/>
          <p:cNvSpPr/>
          <p:nvPr/>
        </p:nvSpPr>
        <p:spPr>
          <a:xfrm flipV="1">
            <a:off x="3429000" y="2209320"/>
            <a:ext cx="60948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30"/>
          <p:cNvSpPr/>
          <p:nvPr/>
        </p:nvSpPr>
        <p:spPr>
          <a:xfrm flipV="1">
            <a:off x="2405160" y="1666440"/>
            <a:ext cx="41436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35"/>
          <p:cNvSpPr/>
          <p:nvPr/>
        </p:nvSpPr>
        <p:spPr>
          <a:xfrm>
            <a:off x="2438280" y="1981080"/>
            <a:ext cx="381240" cy="21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1"/>
          <p:cNvSpPr/>
          <p:nvPr/>
        </p:nvSpPr>
        <p:spPr>
          <a:xfrm>
            <a:off x="1983600" y="1828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2"/>
          <p:cNvSpPr/>
          <p:nvPr/>
        </p:nvSpPr>
        <p:spPr>
          <a:xfrm>
            <a:off x="419364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3"/>
          <p:cNvSpPr/>
          <p:nvPr/>
        </p:nvSpPr>
        <p:spPr>
          <a:xfrm>
            <a:off x="5270040" y="1590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4"/>
          <p:cNvSpPr/>
          <p:nvPr/>
        </p:nvSpPr>
        <p:spPr>
          <a:xfrm>
            <a:off x="52603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45"/>
          <p:cNvSpPr/>
          <p:nvPr/>
        </p:nvSpPr>
        <p:spPr>
          <a:xfrm>
            <a:off x="6635160" y="167652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E2 192.168.1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Straight Arrow Connector 47"/>
          <p:cNvCxnSpPr/>
          <p:nvPr/>
        </p:nvCxnSpPr>
        <p:spPr>
          <a:xfrm flipV="1">
            <a:off x="2466720" y="1666080"/>
            <a:ext cx="263916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19" name="Straight Arrow Connector 50"/>
          <p:cNvCxnSpPr/>
          <p:nvPr/>
        </p:nvCxnSpPr>
        <p:spPr>
          <a:xfrm>
            <a:off x="2466720" y="1895040"/>
            <a:ext cx="26391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0" name="Freeform 53"/>
          <p:cNvSpPr/>
          <p:nvPr/>
        </p:nvSpPr>
        <p:spPr>
          <a:xfrm>
            <a:off x="5715000" y="1658880"/>
            <a:ext cx="138240" cy="539640"/>
          </a:xfrm>
          <a:custGeom>
            <a:avLst/>
            <a:gdLst>
              <a:gd name="textAreaLeft" fmla="*/ 0 w 138240"/>
              <a:gd name="textAreaRight" fmla="*/ 138600 w 1382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137908" h="538826">
                <a:moveTo>
                  <a:pt x="19243" y="0"/>
                </a:moveTo>
                <a:cubicBezTo>
                  <a:pt x="78575" y="80182"/>
                  <a:pt x="137908" y="160365"/>
                  <a:pt x="134701" y="250169"/>
                </a:cubicBezTo>
                <a:cubicBezTo>
                  <a:pt x="131494" y="339973"/>
                  <a:pt x="0" y="538826"/>
                  <a:pt x="0" y="53882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54"/>
          <p:cNvSpPr/>
          <p:nvPr/>
        </p:nvSpPr>
        <p:spPr>
          <a:xfrm flipV="1">
            <a:off x="5791320" y="1600200"/>
            <a:ext cx="457200" cy="620640"/>
          </a:xfrm>
          <a:custGeom>
            <a:avLst/>
            <a:gdLst>
              <a:gd name="textAreaLeft" fmla="*/ 0 w 457200"/>
              <a:gd name="textAreaRight" fmla="*/ 457560 w 457200"/>
              <a:gd name="textAreaTop" fmla="*/ 360 h 620640"/>
              <a:gd name="textAreaBottom" fmla="*/ 621360 h 620640"/>
            </a:gdLst>
            <a:ahLst/>
            <a:rect l="textAreaLeft" t="textAreaTop" r="textAreaRight" b="textAreaBottom"/>
            <a:pathLst>
              <a:path w="137908" h="538826">
                <a:moveTo>
                  <a:pt x="19243" y="0"/>
                </a:moveTo>
                <a:cubicBezTo>
                  <a:pt x="78575" y="80182"/>
                  <a:pt x="137908" y="160365"/>
                  <a:pt x="134701" y="250169"/>
                </a:cubicBezTo>
                <a:cubicBezTo>
                  <a:pt x="131494" y="339973"/>
                  <a:pt x="0" y="538826"/>
                  <a:pt x="0" y="53882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Down Arrow 55"/>
          <p:cNvSpPr/>
          <p:nvPr/>
        </p:nvSpPr>
        <p:spPr>
          <a:xfrm rot="5400000">
            <a:off x="5181480" y="1143000"/>
            <a:ext cx="228600" cy="1295280"/>
          </a:xfrm>
          <a:prstGeom prst="downArrow">
            <a:avLst>
              <a:gd name="adj1" fmla="val 50000"/>
              <a:gd name="adj2" fmla="val 49998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Down Arrow 56"/>
          <p:cNvSpPr/>
          <p:nvPr/>
        </p:nvSpPr>
        <p:spPr>
          <a:xfrm rot="5400000">
            <a:off x="5181480" y="1676160"/>
            <a:ext cx="228600" cy="1295280"/>
          </a:xfrm>
          <a:prstGeom prst="downArrow">
            <a:avLst>
              <a:gd name="adj1" fmla="val 50000"/>
              <a:gd name="adj2" fmla="val 49998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2"/>
          <p:cNvSpPr/>
          <p:nvPr/>
        </p:nvSpPr>
        <p:spPr>
          <a:xfrm>
            <a:off x="4198320" y="16002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2" dur="5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3" dur="500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80520" y="53337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event the routing feedback loop, a route map called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OSPF_into_RI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been applied to Routers A and B when redistributing OSPF routes into R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ision to filter a route or allow the route through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sed on the deny or permit in the route-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, and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deny or permit in the ACL or prefix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405F-84AE-48FE-87BE-40BC9092D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380880" y="1828800"/>
            <a:ext cx="84582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ospf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rip sub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ospf 10 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OSPF_into_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OSPF_into_RI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n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ch ip addre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OSPF_into_RI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mi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cess-lis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mit 192.168.1.0 0.0.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7162920" cy="17845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"/>
          <p:cNvSpPr/>
          <p:nvPr/>
        </p:nvSpPr>
        <p:spPr>
          <a:xfrm>
            <a:off x="4222800" y="3581280"/>
            <a:ext cx="463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192.168.1.0/24 network will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be redistributed into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4191120" y="4191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All other routes will be redistributed into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4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5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0" dur="500"/>
                                        <p:tgtEl>
                                          <p:spTgt spid="5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Route Maps With Tags (Reminder from Ric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80880" y="3885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ta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 unitless 32-bit integer that most routing protocols can assign to any given ro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 follows the route advertisement, even through the redistribution proc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router may use an IOS tool such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-ma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match routes with a given route tag to make a deci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to help to solve the domain loop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C6DA-9F34-4AD7-AD23-CDE032EE7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6"/>
          <p:cNvSpPr/>
          <p:nvPr/>
        </p:nvSpPr>
        <p:spPr>
          <a:xfrm>
            <a:off x="380880" y="1219320"/>
            <a:ext cx="84582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eigrp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rip metric 1000 100 255 1 1500 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n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ch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mi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CF49-72C1-4627-98EF-193B647C0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5"/>
          <p:cNvSpPr/>
          <p:nvPr/>
        </p:nvSpPr>
        <p:spPr>
          <a:xfrm>
            <a:off x="4648320" y="457200"/>
            <a:ext cx="3429000" cy="21337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6"/>
          <p:cNvSpPr/>
          <p:nvPr/>
        </p:nvSpPr>
        <p:spPr>
          <a:xfrm>
            <a:off x="1066680" y="457200"/>
            <a:ext cx="3353040" cy="2133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5870160" y="4572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8"/>
          <p:cNvSpPr/>
          <p:nvPr/>
        </p:nvSpPr>
        <p:spPr>
          <a:xfrm>
            <a:off x="2367360" y="4572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P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9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637920" cy="4381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0" descr=""/>
          <p:cNvPicPr/>
          <p:nvPr/>
        </p:nvPicPr>
        <p:blipFill>
          <a:blip r:embed="rId2"/>
          <a:stretch/>
        </p:blipFill>
        <p:spPr>
          <a:xfrm>
            <a:off x="2104920" y="1143000"/>
            <a:ext cx="638280" cy="438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0" descr=""/>
          <p:cNvPicPr/>
          <p:nvPr/>
        </p:nvPicPr>
        <p:blipFill>
          <a:blip r:embed="rId3"/>
          <a:stretch/>
        </p:blipFill>
        <p:spPr>
          <a:xfrm>
            <a:off x="6400800" y="1143000"/>
            <a:ext cx="638280" cy="4381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8"/>
          <p:cNvSpPr/>
          <p:nvPr/>
        </p:nvSpPr>
        <p:spPr>
          <a:xfrm>
            <a:off x="4346640" y="19810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0" descr=""/>
          <p:cNvPicPr/>
          <p:nvPr/>
        </p:nvPicPr>
        <p:blipFill>
          <a:blip r:embed="rId4"/>
          <a:stretch/>
        </p:blipFill>
        <p:spPr>
          <a:xfrm>
            <a:off x="4191120" y="914400"/>
            <a:ext cx="637920" cy="438120"/>
          </a:xfrm>
          <a:prstGeom prst="rect">
            <a:avLst/>
          </a:prstGeom>
          <a:ln w="0">
            <a:noFill/>
          </a:ln>
        </p:spPr>
      </p:pic>
      <p:sp>
        <p:nvSpPr>
          <p:cNvPr id="549" name="TextBox 23"/>
          <p:cNvSpPr/>
          <p:nvPr/>
        </p:nvSpPr>
        <p:spPr>
          <a:xfrm>
            <a:off x="4356000" y="10573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4"/>
          <p:cNvSpPr/>
          <p:nvPr/>
        </p:nvSpPr>
        <p:spPr>
          <a:xfrm>
            <a:off x="1604880" y="175248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2.16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5"/>
          <p:cNvSpPr/>
          <p:nvPr/>
        </p:nvSpPr>
        <p:spPr>
          <a:xfrm>
            <a:off x="6022800" y="182880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0.0.0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Down Arrow 26"/>
          <p:cNvSpPr/>
          <p:nvPr/>
        </p:nvSpPr>
        <p:spPr>
          <a:xfrm flipV="1" rot="5400000">
            <a:off x="4419720" y="1447920"/>
            <a:ext cx="304560" cy="1676160"/>
          </a:xfrm>
          <a:prstGeom prst="downArrow">
            <a:avLst>
              <a:gd name="adj1" fmla="val 50000"/>
              <a:gd name="adj2" fmla="val 50041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Down Arrow 27"/>
          <p:cNvSpPr/>
          <p:nvPr/>
        </p:nvSpPr>
        <p:spPr>
          <a:xfrm rot="5400000">
            <a:off x="4228560" y="37800"/>
            <a:ext cx="304920" cy="1600200"/>
          </a:xfrm>
          <a:prstGeom prst="downArrow">
            <a:avLst>
              <a:gd name="adj1" fmla="val 50000"/>
              <a:gd name="adj2" fmla="val 49977"/>
            </a:avLst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8"/>
          <p:cNvSpPr/>
          <p:nvPr/>
        </p:nvSpPr>
        <p:spPr>
          <a:xfrm>
            <a:off x="4112280" y="6858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9"/>
          <p:cNvSpPr/>
          <p:nvPr/>
        </p:nvSpPr>
        <p:spPr>
          <a:xfrm>
            <a:off x="4188600" y="21337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Down Arrow 30"/>
          <p:cNvSpPr/>
          <p:nvPr/>
        </p:nvSpPr>
        <p:spPr>
          <a:xfrm flipV="1" rot="5400000">
            <a:off x="4343400" y="533160"/>
            <a:ext cx="304560" cy="1676520"/>
          </a:xfrm>
          <a:prstGeom prst="downArrow">
            <a:avLst>
              <a:gd name="adj1" fmla="val 50000"/>
              <a:gd name="adj2" fmla="val 50052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1"/>
          <p:cNvSpPr/>
          <p:nvPr/>
        </p:nvSpPr>
        <p:spPr>
          <a:xfrm>
            <a:off x="4112280" y="12193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Down Arrow 32"/>
          <p:cNvSpPr/>
          <p:nvPr/>
        </p:nvSpPr>
        <p:spPr>
          <a:xfrm rot="5400000">
            <a:off x="4228560" y="1028520"/>
            <a:ext cx="304560" cy="1600200"/>
          </a:xfrm>
          <a:prstGeom prst="downArrow">
            <a:avLst>
              <a:gd name="adj1" fmla="val 50000"/>
              <a:gd name="adj2" fmla="val 50036"/>
            </a:avLst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3"/>
          <p:cNvSpPr/>
          <p:nvPr/>
        </p:nvSpPr>
        <p:spPr>
          <a:xfrm>
            <a:off x="4112280" y="16765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4"/>
          <p:cNvSpPr/>
          <p:nvPr/>
        </p:nvSpPr>
        <p:spPr>
          <a:xfrm>
            <a:off x="380880" y="2666880"/>
            <a:ext cx="84582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eigrp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rip metric 1000 100 255 1 1500 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eigrp 100 metric 3 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o-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mi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o-ri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mi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80880" y="5638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s redistributed into EIGRP are tagged with the value 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s redistributed into RIP are tagged with the value 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BEFORE we tag and allow a route into the domain we want to deny any routes that the other router already tagged and allowed in from the other dom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6" dur="5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1" dur="5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1" dur="500"/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F6D9-BA03-42C4-B207-6DF5C8906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380880" y="2514600"/>
            <a:ext cx="84582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eigrp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rip metric 1000 100 255 1 1500 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eigrp 100 metric 3 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o-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n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ch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mi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o-ri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n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ch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o-ri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mi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7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28"/>
          <p:cNvSpPr/>
          <p:nvPr/>
        </p:nvSpPr>
        <p:spPr>
          <a:xfrm>
            <a:off x="4648320" y="152280"/>
            <a:ext cx="3429000" cy="21337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9"/>
          <p:cNvSpPr/>
          <p:nvPr/>
        </p:nvSpPr>
        <p:spPr>
          <a:xfrm>
            <a:off x="1066680" y="152280"/>
            <a:ext cx="3353040" cy="2133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30"/>
          <p:cNvSpPr/>
          <p:nvPr/>
        </p:nvSpPr>
        <p:spPr>
          <a:xfrm>
            <a:off x="5870160" y="1522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31"/>
          <p:cNvSpPr/>
          <p:nvPr/>
        </p:nvSpPr>
        <p:spPr>
          <a:xfrm>
            <a:off x="2367360" y="152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P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2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637920" cy="4381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3" descr=""/>
          <p:cNvPicPr/>
          <p:nvPr/>
        </p:nvPicPr>
        <p:blipFill>
          <a:blip r:embed="rId2"/>
          <a:stretch/>
        </p:blipFill>
        <p:spPr>
          <a:xfrm>
            <a:off x="2104920" y="838080"/>
            <a:ext cx="638280" cy="4381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3"/>
          <a:stretch/>
        </p:blipFill>
        <p:spPr>
          <a:xfrm>
            <a:off x="6400800" y="838080"/>
            <a:ext cx="638280" cy="438120"/>
          </a:xfrm>
          <a:prstGeom prst="rect">
            <a:avLst/>
          </a:prstGeom>
          <a:ln w="0">
            <a:noFill/>
          </a:ln>
        </p:spPr>
      </p:pic>
      <p:sp>
        <p:nvSpPr>
          <p:cNvPr id="574" name="TextBox 36"/>
          <p:cNvSpPr/>
          <p:nvPr/>
        </p:nvSpPr>
        <p:spPr>
          <a:xfrm>
            <a:off x="4346640" y="16765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0" descr=""/>
          <p:cNvPicPr/>
          <p:nvPr/>
        </p:nvPicPr>
        <p:blipFill>
          <a:blip r:embed="rId4"/>
          <a:stretch/>
        </p:blipFill>
        <p:spPr>
          <a:xfrm>
            <a:off x="4191120" y="609480"/>
            <a:ext cx="637920" cy="438120"/>
          </a:xfrm>
          <a:prstGeom prst="rect">
            <a:avLst/>
          </a:prstGeom>
          <a:ln w="0">
            <a:noFill/>
          </a:ln>
        </p:spPr>
      </p:pic>
      <p:sp>
        <p:nvSpPr>
          <p:cNvPr id="576" name="TextBox 38"/>
          <p:cNvSpPr/>
          <p:nvPr/>
        </p:nvSpPr>
        <p:spPr>
          <a:xfrm>
            <a:off x="4356000" y="7524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39"/>
          <p:cNvSpPr/>
          <p:nvPr/>
        </p:nvSpPr>
        <p:spPr>
          <a:xfrm>
            <a:off x="1604880" y="144792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2.16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40"/>
          <p:cNvSpPr/>
          <p:nvPr/>
        </p:nvSpPr>
        <p:spPr>
          <a:xfrm>
            <a:off x="6022800" y="152388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0.0.0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Down Arrow 41"/>
          <p:cNvSpPr/>
          <p:nvPr/>
        </p:nvSpPr>
        <p:spPr>
          <a:xfrm flipV="1" rot="5400000">
            <a:off x="4419360" y="1141920"/>
            <a:ext cx="304920" cy="1676160"/>
          </a:xfrm>
          <a:prstGeom prst="downArrow">
            <a:avLst>
              <a:gd name="adj1" fmla="val 50000"/>
              <a:gd name="adj2" fmla="val 49982"/>
            </a:avLst>
          </a:prstGeom>
          <a:noFill/>
          <a:ln w="255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Down Arrow 42"/>
          <p:cNvSpPr/>
          <p:nvPr/>
        </p:nvSpPr>
        <p:spPr>
          <a:xfrm rot="5400000">
            <a:off x="4228560" y="-266760"/>
            <a:ext cx="304920" cy="1600200"/>
          </a:xfrm>
          <a:prstGeom prst="downArrow">
            <a:avLst>
              <a:gd name="adj1" fmla="val 50000"/>
              <a:gd name="adj2" fmla="val 49977"/>
            </a:avLst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43"/>
          <p:cNvSpPr/>
          <p:nvPr/>
        </p:nvSpPr>
        <p:spPr>
          <a:xfrm>
            <a:off x="4112280" y="3808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44"/>
          <p:cNvSpPr/>
          <p:nvPr/>
        </p:nvSpPr>
        <p:spPr>
          <a:xfrm>
            <a:off x="4188600" y="18288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Down Arrow 45"/>
          <p:cNvSpPr/>
          <p:nvPr/>
        </p:nvSpPr>
        <p:spPr>
          <a:xfrm flipV="1" rot="5400000">
            <a:off x="4343400" y="227520"/>
            <a:ext cx="304920" cy="1676520"/>
          </a:xfrm>
          <a:prstGeom prst="downArrow">
            <a:avLst>
              <a:gd name="adj1" fmla="val 50000"/>
              <a:gd name="adj2" fmla="val 49993"/>
            </a:avLst>
          </a:prstGeom>
          <a:noFill/>
          <a:ln w="255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6"/>
          <p:cNvSpPr/>
          <p:nvPr/>
        </p:nvSpPr>
        <p:spPr>
          <a:xfrm>
            <a:off x="4112280" y="9144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Down Arrow 47"/>
          <p:cNvSpPr/>
          <p:nvPr/>
        </p:nvSpPr>
        <p:spPr>
          <a:xfrm rot="5400000">
            <a:off x="4228560" y="723600"/>
            <a:ext cx="304920" cy="1600200"/>
          </a:xfrm>
          <a:prstGeom prst="downArrow">
            <a:avLst>
              <a:gd name="adj1" fmla="val 50000"/>
              <a:gd name="adj2" fmla="val 49977"/>
            </a:avLst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48"/>
          <p:cNvSpPr/>
          <p:nvPr/>
        </p:nvSpPr>
        <p:spPr>
          <a:xfrm>
            <a:off x="4112280" y="13716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49"/>
          <p:cNvSpPr/>
          <p:nvPr/>
        </p:nvSpPr>
        <p:spPr>
          <a:xfrm>
            <a:off x="3643920" y="4114800"/>
            <a:ext cx="518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pdates with the tag 40 are not allowed to go back into EIGR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1"/>
          <p:cNvSpPr/>
          <p:nvPr/>
        </p:nvSpPr>
        <p:spPr>
          <a:xfrm>
            <a:off x="4956120" y="7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52"/>
          <p:cNvSpPr/>
          <p:nvPr/>
        </p:nvSpPr>
        <p:spPr>
          <a:xfrm>
            <a:off x="4956120" y="1676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3"/>
          <p:cNvSpPr/>
          <p:nvPr/>
        </p:nvSpPr>
        <p:spPr>
          <a:xfrm>
            <a:off x="457200" y="5486400"/>
            <a:ext cx="3352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ight Brace 56"/>
          <p:cNvSpPr/>
          <p:nvPr/>
        </p:nvSpPr>
        <p:spPr>
          <a:xfrm>
            <a:off x="3429000" y="411480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609480"/>
              <a:gd name="textAreaBottom" fmla="*/ 6037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7"/>
          <p:cNvSpPr/>
          <p:nvPr/>
        </p:nvSpPr>
        <p:spPr>
          <a:xfrm>
            <a:off x="3739320" y="5105520"/>
            <a:ext cx="44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ll other updates get a tag 20 are allowed into EIGR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6" dur="500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E1F4-24A0-473E-AB79-75115EEA1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80880" y="2514600"/>
            <a:ext cx="84582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eigrp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rip metric 1000 100 255 1 1500 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eigrp 100 metric 3 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o-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n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ch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mi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o-ri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n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ch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o-ri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mi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28"/>
          <p:cNvSpPr/>
          <p:nvPr/>
        </p:nvSpPr>
        <p:spPr>
          <a:xfrm>
            <a:off x="4648320" y="152280"/>
            <a:ext cx="3429000" cy="21337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29"/>
          <p:cNvSpPr/>
          <p:nvPr/>
        </p:nvSpPr>
        <p:spPr>
          <a:xfrm>
            <a:off x="1066680" y="152280"/>
            <a:ext cx="3353040" cy="2133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0"/>
          <p:cNvSpPr/>
          <p:nvPr/>
        </p:nvSpPr>
        <p:spPr>
          <a:xfrm>
            <a:off x="5870160" y="1522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31"/>
          <p:cNvSpPr/>
          <p:nvPr/>
        </p:nvSpPr>
        <p:spPr>
          <a:xfrm>
            <a:off x="2367360" y="152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P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32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637920" cy="4381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3" descr=""/>
          <p:cNvPicPr/>
          <p:nvPr/>
        </p:nvPicPr>
        <p:blipFill>
          <a:blip r:embed="rId2"/>
          <a:stretch/>
        </p:blipFill>
        <p:spPr>
          <a:xfrm>
            <a:off x="2104920" y="838080"/>
            <a:ext cx="638280" cy="4381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0" descr=""/>
          <p:cNvPicPr/>
          <p:nvPr/>
        </p:nvPicPr>
        <p:blipFill>
          <a:blip r:embed="rId3"/>
          <a:stretch/>
        </p:blipFill>
        <p:spPr>
          <a:xfrm>
            <a:off x="6400800" y="838080"/>
            <a:ext cx="638280" cy="438120"/>
          </a:xfrm>
          <a:prstGeom prst="rect">
            <a:avLst/>
          </a:prstGeom>
          <a:ln w="0">
            <a:noFill/>
          </a:ln>
        </p:spPr>
      </p:pic>
      <p:sp>
        <p:nvSpPr>
          <p:cNvPr id="605" name="TextBox 36"/>
          <p:cNvSpPr/>
          <p:nvPr/>
        </p:nvSpPr>
        <p:spPr>
          <a:xfrm>
            <a:off x="4346640" y="16765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10" descr=""/>
          <p:cNvPicPr/>
          <p:nvPr/>
        </p:nvPicPr>
        <p:blipFill>
          <a:blip r:embed="rId4"/>
          <a:stretch/>
        </p:blipFill>
        <p:spPr>
          <a:xfrm>
            <a:off x="4191120" y="609480"/>
            <a:ext cx="637920" cy="438120"/>
          </a:xfrm>
          <a:prstGeom prst="rect">
            <a:avLst/>
          </a:prstGeom>
          <a:ln w="0">
            <a:noFill/>
          </a:ln>
        </p:spPr>
      </p:pic>
      <p:sp>
        <p:nvSpPr>
          <p:cNvPr id="607" name="TextBox 38"/>
          <p:cNvSpPr/>
          <p:nvPr/>
        </p:nvSpPr>
        <p:spPr>
          <a:xfrm>
            <a:off x="4356000" y="7524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9"/>
          <p:cNvSpPr/>
          <p:nvPr/>
        </p:nvSpPr>
        <p:spPr>
          <a:xfrm>
            <a:off x="1604880" y="1447920"/>
            <a:ext cx="12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2.16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.0.0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0"/>
          <p:cNvSpPr/>
          <p:nvPr/>
        </p:nvSpPr>
        <p:spPr>
          <a:xfrm>
            <a:off x="6022800" y="152388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0.0.0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Down Arrow 41"/>
          <p:cNvSpPr/>
          <p:nvPr/>
        </p:nvSpPr>
        <p:spPr>
          <a:xfrm flipV="1" rot="5400000">
            <a:off x="4419360" y="1141920"/>
            <a:ext cx="304920" cy="1676160"/>
          </a:xfrm>
          <a:prstGeom prst="downArrow">
            <a:avLst>
              <a:gd name="adj1" fmla="val 50000"/>
              <a:gd name="adj2" fmla="val 49982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own Arrow 42"/>
          <p:cNvSpPr/>
          <p:nvPr/>
        </p:nvSpPr>
        <p:spPr>
          <a:xfrm rot="5400000">
            <a:off x="4228560" y="-266760"/>
            <a:ext cx="304920" cy="1600200"/>
          </a:xfrm>
          <a:prstGeom prst="downArrow">
            <a:avLst>
              <a:gd name="adj1" fmla="val 50000"/>
              <a:gd name="adj2" fmla="val 49977"/>
            </a:avLst>
          </a:prstGeom>
          <a:noFill/>
          <a:ln w="2556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43"/>
          <p:cNvSpPr/>
          <p:nvPr/>
        </p:nvSpPr>
        <p:spPr>
          <a:xfrm>
            <a:off x="4112280" y="3808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44"/>
          <p:cNvSpPr/>
          <p:nvPr/>
        </p:nvSpPr>
        <p:spPr>
          <a:xfrm>
            <a:off x="4188600" y="18288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own Arrow 45"/>
          <p:cNvSpPr/>
          <p:nvPr/>
        </p:nvSpPr>
        <p:spPr>
          <a:xfrm flipV="1" rot="5400000">
            <a:off x="4343400" y="227520"/>
            <a:ext cx="304920" cy="1676520"/>
          </a:xfrm>
          <a:prstGeom prst="downArrow">
            <a:avLst>
              <a:gd name="adj1" fmla="val 50000"/>
              <a:gd name="adj2" fmla="val 49993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46"/>
          <p:cNvSpPr/>
          <p:nvPr/>
        </p:nvSpPr>
        <p:spPr>
          <a:xfrm>
            <a:off x="4112280" y="9144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Down Arrow 47"/>
          <p:cNvSpPr/>
          <p:nvPr/>
        </p:nvSpPr>
        <p:spPr>
          <a:xfrm rot="5400000">
            <a:off x="4228560" y="723600"/>
            <a:ext cx="304920" cy="1600200"/>
          </a:xfrm>
          <a:prstGeom prst="downArrow">
            <a:avLst>
              <a:gd name="adj1" fmla="val 50000"/>
              <a:gd name="adj2" fmla="val 49977"/>
            </a:avLst>
          </a:prstGeom>
          <a:noFill/>
          <a:ln w="2556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48"/>
          <p:cNvSpPr/>
          <p:nvPr/>
        </p:nvSpPr>
        <p:spPr>
          <a:xfrm>
            <a:off x="4112280" y="13716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50"/>
          <p:cNvSpPr/>
          <p:nvPr/>
        </p:nvSpPr>
        <p:spPr>
          <a:xfrm>
            <a:off x="3764160" y="5715000"/>
            <a:ext cx="48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pdates with the tag 20 are not allowed to go back into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51"/>
          <p:cNvSpPr/>
          <p:nvPr/>
        </p:nvSpPr>
        <p:spPr>
          <a:xfrm>
            <a:off x="3660840" y="228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2"/>
          <p:cNvSpPr/>
          <p:nvPr/>
        </p:nvSpPr>
        <p:spPr>
          <a:xfrm>
            <a:off x="3660840" y="1244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ight Brace 53"/>
          <p:cNvSpPr/>
          <p:nvPr/>
        </p:nvSpPr>
        <p:spPr>
          <a:xfrm>
            <a:off x="3429000" y="5638680"/>
            <a:ext cx="228600" cy="6098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609840"/>
              <a:gd name="textAreaBottom" fmla="*/ 6040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54"/>
          <p:cNvSpPr/>
          <p:nvPr/>
        </p:nvSpPr>
        <p:spPr>
          <a:xfrm>
            <a:off x="3763800" y="6473880"/>
            <a:ext cx="41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ll other updates get a tag 40 are allowed into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5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7" dur="500"/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2" dur="500"/>
                                        <p:tgtEl>
                                          <p:spTgt spid="5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5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0FB1-71B6-4B64-998A-A4A524D62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 Zinin’s Routing Table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1: Every router makes its decision alone, based on the information it has in its own routing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 makes forwarding decisions based solely on the information in the routing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 does not consult the routing tables in any other rou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each router aware of remote networks is the responsibility of the network administ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715000" cy="34797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6"/>
          <p:cNvSpPr/>
          <p:nvPr/>
        </p:nvSpPr>
        <p:spPr>
          <a:xfrm>
            <a:off x="228600" y="1143000"/>
            <a:ext cx="2971800" cy="1600200"/>
          </a:xfrm>
          <a:prstGeom prst="wedgeRectCallout">
            <a:avLst>
              <a:gd name="adj1" fmla="val 47597"/>
              <a:gd name="adj2" fmla="val 73611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know about my remote networks but it is not my responsibility if R2 and R3 know about their remote netwo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3733560" cy="10872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80880" y="5333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route tags do not appear on the routes within the R1 and R2 routers, because these routers learn about all routes from both RIP and EIGRP direct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4AB8-7D84-4779-882A-E91763BAC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616800" cy="322596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8" descr=""/>
          <p:cNvPicPr/>
          <p:nvPr/>
        </p:nvPicPr>
        <p:blipFill>
          <a:blip r:embed="rId2"/>
          <a:stretch/>
        </p:blipFill>
        <p:spPr>
          <a:xfrm>
            <a:off x="1295280" y="0"/>
            <a:ext cx="6134400" cy="1957320"/>
          </a:xfrm>
          <a:prstGeom prst="rect">
            <a:avLst/>
          </a:prstGeom>
          <a:ln w="0">
            <a:noFill/>
          </a:ln>
        </p:spPr>
      </p:pic>
      <p:sp>
        <p:nvSpPr>
          <p:cNvPr id="630" name="TextBox 9"/>
          <p:cNvSpPr/>
          <p:nvPr/>
        </p:nvSpPr>
        <p:spPr>
          <a:xfrm>
            <a:off x="6023520" y="7286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7"/>
          <p:cNvSpPr/>
          <p:nvPr/>
        </p:nvSpPr>
        <p:spPr>
          <a:xfrm>
            <a:off x="1825920" y="144792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.0.0.0.0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nodeType="clickEffect" fill="hold">
                      <p:stCondLst>
                        <p:cond delay="0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80880" y="4038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ip ro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put from router R3, an internal router in the EIGRP net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router R3 does see network 11.0.0.0 with a tag of 20; this tag is carried with the route as R3 advertises it to other routers in the EIGRP network, including R1 and R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routers R1 and R2 see the tag of 20, they do not redistribute the 11.0.0.0 route back into RI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51AC-B3F7-4BE0-B3BA-6A4023233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9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64680" cy="18082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1" descr=""/>
          <p:cNvPicPr/>
          <p:nvPr/>
        </p:nvPicPr>
        <p:blipFill>
          <a:blip r:embed="rId2"/>
          <a:stretch/>
        </p:blipFill>
        <p:spPr>
          <a:xfrm>
            <a:off x="1295280" y="0"/>
            <a:ext cx="6134400" cy="1957320"/>
          </a:xfrm>
          <a:prstGeom prst="rect">
            <a:avLst/>
          </a:prstGeom>
          <a:ln w="0">
            <a:noFill/>
          </a:ln>
        </p:spPr>
      </p:pic>
      <p:sp>
        <p:nvSpPr>
          <p:cNvPr id="639" name="TextBox 12"/>
          <p:cNvSpPr/>
          <p:nvPr/>
        </p:nvSpPr>
        <p:spPr>
          <a:xfrm>
            <a:off x="6023520" y="7286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7"/>
          <p:cNvSpPr/>
          <p:nvPr/>
        </p:nvSpPr>
        <p:spPr>
          <a:xfrm>
            <a:off x="1825920" y="144792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.0.0.0.0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57040" y="18288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oubleshooting BG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B7C8-E232-4710-9234-2DAC8147B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P is classified as an EGP or an inter-autonomous-system (inter-AS) routing proto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P does not use metrics such as bandwidth, delay or path cost to find the best paths within an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us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routing information with external networks (other autonomous syst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of guaranteed loop-free path using policies (attrib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BA6F-19AD-4E96-8763-C67B3FA15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4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4267440" cy="25732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" descr=""/>
          <p:cNvPicPr/>
          <p:nvPr/>
        </p:nvPicPr>
        <p:blipFill>
          <a:blip r:embed="rId2"/>
          <a:stretch/>
        </p:blipFill>
        <p:spPr>
          <a:xfrm>
            <a:off x="4495680" y="914400"/>
            <a:ext cx="4419720" cy="2495520"/>
          </a:xfrm>
          <a:prstGeom prst="rect">
            <a:avLst/>
          </a:prstGeom>
          <a:ln w="0">
            <a:noFill/>
          </a:ln>
        </p:spPr>
      </p:pic>
      <p:sp>
        <p:nvSpPr>
          <p:cNvPr id="648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9" dur="5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4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9" dur="5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4" dur="5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80880" y="3657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s of B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ption of routing information from neighb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s need not be directly conne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s are manually configured, not automatically discovered through a hello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 protocol data struct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P has two main data struct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 t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keep track of the state of configured neighb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P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BGP uses to store all the prefixes, including those received from the neighbor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ED03-227B-4DA5-B9FC-9D3DC1631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0" y="0"/>
            <a:ext cx="87631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P1#show ip b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twork          Next Hop            Metric LocPrf Weight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128.107.0.0/19   10.1.1.5                 0             0 100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&gt;                  10.1.1.1                 0             0 100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200.0.0.0        10.1.1.5                               0 100 2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&gt;                  10.1.1.1                               0 100 2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0" y="1600200"/>
            <a:ext cx="87631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 show ip bgp neighb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GP neighbor is 129.213.1.1, remote AS 200, external lin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GP version 4, remote router ID 175.220.12.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GP state = Established, table version = 3, up for 0:10:59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ast read 0:00:29, hold time is 180, keepalive interval is 60 second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imum time between advertisement runs is 30 second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ceived 2828 messages, 0 notifications, 0 in queu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nt 2826 messages, 0 notifications, 0 in queu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ons established 11; dropp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3" descr="fi970815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3728880"/>
          </a:xfrm>
          <a:prstGeom prst="rect">
            <a:avLst/>
          </a:prstGeom>
          <a:ln w="0">
            <a:noFill/>
          </a:ln>
        </p:spPr>
      </p:pic>
      <p:sp>
        <p:nvSpPr>
          <p:cNvPr id="655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8" dur="indefinite" restart="never" nodeType="tmRoot">
          <p:childTnLst>
            <p:seq>
              <p:cTn id="1589" dur="indefinite" nodeType="mainSeq">
                <p:childTnLst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9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9" dur="5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4" dur="50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80880" y="3504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injection or re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P do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inject any routes into the BGP 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ed v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istribute into IGP (ex: OSPF or EIG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iBGP: subject to BGP synchronization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GP synchronization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tates that a BGP rou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hould not advertise to external neighbo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ISP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estin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200.0.0.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learned from inside BGP neighbo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E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unless those destinations are also known via an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Times New Roman"/>
              </a:rPr>
              <a:t>IG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OSP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e my BGP presentations for more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2579-A72D-4554-B524-CE0D5B6A3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4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186000"/>
          </a:xfrm>
          <a:prstGeom prst="rect">
            <a:avLst/>
          </a:prstGeom>
          <a:ln w="0">
            <a:noFill/>
          </a:ln>
        </p:spPr>
      </p:pic>
      <p:sp>
        <p:nvSpPr>
          <p:cNvPr id="66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nodeType="clickEffect" fill="hold">
                      <p:stCondLst>
                        <p:cond delay="indefinite"/>
                      </p:stCondLst>
                      <p:childTnLst>
                        <p:par>
                          <p:cTn id="1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nodeType="clickEffect" fill="hold">
                      <p:stCondLst>
                        <p:cond delay="indefinite"/>
                      </p:stCondLst>
                      <p:childTnLst>
                        <p:par>
                          <p:cTn id="1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5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0" dur="500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5" dur="500"/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0880" y="4952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selection and insta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GP has a complex decision algorithm to compare paths received from different neighbors and select the best one for each pref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4C83-737F-4CEE-9DD4-5FDB82633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1629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mission of routing information to neighb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s that are selected as best in the BGP table can be advertised to other BGP rou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rules, such as the one commonly referred to as IBGP split-horizon r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GP Split Horizon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Routes learned via IBGP peers ar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opagated to other IBGP peer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5367-0E81-449D-897E-A6BF386CB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3181320"/>
          </a:xfrm>
          <a:prstGeom prst="rect">
            <a:avLst/>
          </a:prstGeom>
          <a:ln w="0">
            <a:noFill/>
          </a:ln>
        </p:spPr>
      </p:pic>
      <p:sp>
        <p:nvSpPr>
          <p:cNvPr id="668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5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nodeType="clickEffect" fill="hold">
                      <p:stCondLst>
                        <p:cond delay="indefinite"/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0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5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B515-E262-4616-ABFD-1B9337354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GP F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3" descr=""/>
          <p:cNvPicPr/>
          <p:nvPr/>
        </p:nvPicPr>
        <p:blipFill>
          <a:blip r:embed="rId1"/>
          <a:stretch/>
        </p:blipFill>
        <p:spPr>
          <a:xfrm>
            <a:off x="2743200" y="0"/>
            <a:ext cx="6400800" cy="452124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440856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GP FSM includes six st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pen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pen Con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609480" y="563868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Curved arrows should show pointing back to the same st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shooting Example: Routing Problem in a BGP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380880" y="3809520"/>
            <a:ext cx="8229600" cy="304812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A7C3-7579-4049-BE41-A65C2B6FF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2"/>
          <a:stretch/>
        </p:blipFill>
        <p:spPr>
          <a:xfrm>
            <a:off x="355680" y="1181160"/>
            <a:ext cx="8432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3F53-4A78-4114-878A-0A75BA687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 Zinin’s Routing Table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5257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2: The fact that one router has certain information in its routing table does not mean that other routers have the sam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715000" cy="3479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0" y="1143000"/>
            <a:ext cx="3200400" cy="1752480"/>
          </a:xfrm>
          <a:prstGeom prst="wedgeRectCallout">
            <a:avLst>
              <a:gd name="adj1" fmla="val 47768"/>
              <a:gd name="adj2" fmla="val 62861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because I know how to get to R3’s LAN, 192.168.2.0/24 and I send that packet to R2, doesn’t mean R2 knows how to get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3733560" cy="10872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19" name="Rectangle 8"/>
          <p:cNvSpPr/>
          <p:nvPr/>
        </p:nvSpPr>
        <p:spPr>
          <a:xfrm>
            <a:off x="3200400" y="4419720"/>
            <a:ext cx="2666880" cy="15228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5867280" y="2819520"/>
            <a:ext cx="1295640" cy="68580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 flipV="1">
            <a:off x="3352680" y="2361960"/>
            <a:ext cx="762120" cy="6858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72428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380880" y="5333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o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 is executed on router IRO1 to determine the path that is used to reach IP address 192.168.224.1, which belongs to an IP address block that is owned by IS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path goes through router IRO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855A-5718-432B-8118-731FA30CB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3" descr=""/>
          <p:cNvPicPr/>
          <p:nvPr/>
        </p:nvPicPr>
        <p:blipFill>
          <a:blip r:embed="rId1"/>
          <a:stretch/>
        </p:blipFill>
        <p:spPr>
          <a:xfrm>
            <a:off x="0" y="2971800"/>
            <a:ext cx="4800600" cy="2043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"/>
          <p:cNvPicPr/>
          <p:nvPr/>
        </p:nvPicPr>
        <p:blipFill>
          <a:blip r:embed="rId2"/>
          <a:stretch/>
        </p:blipFill>
        <p:spPr>
          <a:xfrm>
            <a:off x="2998800" y="0"/>
            <a:ext cx="6145200" cy="3276720"/>
          </a:xfrm>
          <a:prstGeom prst="rect">
            <a:avLst/>
          </a:prstGeom>
          <a:ln w="0">
            <a:noFill/>
          </a:ln>
        </p:spPr>
      </p:pic>
      <p:cxnSp>
        <p:nvCxnSpPr>
          <p:cNvPr id="683" name="Straight Arrow Connector 5"/>
          <p:cNvCxnSpPr/>
          <p:nvPr/>
        </p:nvCxnSpPr>
        <p:spPr>
          <a:xfrm>
            <a:off x="5257800" y="2895120"/>
            <a:ext cx="1372320" cy="25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84" name="Oval 6"/>
          <p:cNvSpPr/>
          <p:nvPr/>
        </p:nvSpPr>
        <p:spPr>
          <a:xfrm>
            <a:off x="3429000" y="990720"/>
            <a:ext cx="1295280" cy="5331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5" name="Straight Arrow Connector 7"/>
          <p:cNvCxnSpPr/>
          <p:nvPr/>
        </p:nvCxnSpPr>
        <p:spPr>
          <a:xfrm flipV="1">
            <a:off x="6856560" y="1449000"/>
            <a:ext cx="3600" cy="8388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86" name="Rectangle 8"/>
          <p:cNvSpPr/>
          <p:nvPr/>
        </p:nvSpPr>
        <p:spPr>
          <a:xfrm>
            <a:off x="152280" y="3962520"/>
            <a:ext cx="4648320" cy="99036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9" dur="indefinite" restart="never" nodeType="tmRoot">
          <p:childTnLst>
            <p:seq>
              <p:cTn id="1690" dur="indefinite" nodeType="mainSeq">
                <p:childTnLst>
                  <p:par>
                    <p:cTn id="1691" nodeType="clickEffect" fill="hold">
                      <p:stCondLst>
                        <p:cond delay="indefinite"/>
                      </p:stCondLst>
                      <p:childTnLst>
                        <p:par>
                          <p:cTn id="1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5" dur="5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80880" y="3962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ccessfu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ISP1’s access router verifies that the link between router IRO1 and ISP1 access router is operational at Layers 3 and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find out why the direct path to Internet service provider 1 is not being used to route traffic to IP address 192.168.224.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likely reas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O1 has not learned about the prefix directly from ISP1 at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O1 router has learned about the route, but it “incorrectly” prefers the path through router IRO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look at the routing tab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7F26-59F1-479C-BF6F-7AAD5882D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7" descr=""/>
          <p:cNvPicPr/>
          <p:nvPr/>
        </p:nvPicPr>
        <p:blipFill>
          <a:blip r:embed="rId1"/>
          <a:stretch/>
        </p:blipFill>
        <p:spPr>
          <a:xfrm>
            <a:off x="0" y="2286000"/>
            <a:ext cx="7053120" cy="17463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1" descr="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3046320"/>
          </a:xfrm>
          <a:prstGeom prst="rect">
            <a:avLst/>
          </a:prstGeom>
          <a:ln w="0">
            <a:noFill/>
          </a:ln>
        </p:spPr>
      </p:pic>
      <p:sp>
        <p:nvSpPr>
          <p:cNvPr id="693" name="Oval 12"/>
          <p:cNvSpPr/>
          <p:nvPr/>
        </p:nvSpPr>
        <p:spPr>
          <a:xfrm>
            <a:off x="3733920" y="914400"/>
            <a:ext cx="129528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Straight Arrow Connector 14"/>
          <p:cNvCxnSpPr/>
          <p:nvPr/>
        </p:nvCxnSpPr>
        <p:spPr>
          <a:xfrm flipV="1">
            <a:off x="5407560" y="1372320"/>
            <a:ext cx="3960" cy="762840"/>
          </a:xfrm>
          <a:prstGeom prst="straightConnector1">
            <a:avLst/>
          </a:prstGeom>
          <a:ln w="25560">
            <a:solidFill>
              <a:srgbClr val="0000ff"/>
            </a:solidFill>
            <a:prstDash val="sysDash"/>
            <a:miter/>
            <a:tailEnd len="med" type="arrow" w="med"/>
          </a:ln>
        </p:spPr>
      </p:cxnSp>
      <p:sp>
        <p:nvSpPr>
          <p:cNvPr id="695" name="Oval 7"/>
          <p:cNvSpPr/>
          <p:nvPr/>
        </p:nvSpPr>
        <p:spPr>
          <a:xfrm>
            <a:off x="0" y="3352680"/>
            <a:ext cx="914400" cy="3812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0" dur="50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5" dur="50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0" dur="50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nodeType="clickEffect" fill="hold">
                      <p:stCondLst>
                        <p:cond delay="indefinite"/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5" dur="50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0" dur="500"/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shows that the route to network 192.168.224.0/19 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st match for destination IP address 192.168.224.1 and that this route is an internal BGP path and its source is the router with IP address 10.1.220.4, which is IRO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 IP routing tab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not sh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ath through IRO2 is used becau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path is availabl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th through IRO2 was selected as the best p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look at the BGP tab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AEA9-BA57-4B86-85AD-ED87AB709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3" descr=""/>
          <p:cNvPicPr/>
          <p:nvPr/>
        </p:nvPicPr>
        <p:blipFill>
          <a:blip r:embed="rId1"/>
          <a:stretch/>
        </p:blipFill>
        <p:spPr>
          <a:xfrm>
            <a:off x="0" y="1066680"/>
            <a:ext cx="4648320" cy="268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1" name="Picture 4" descr=""/>
          <p:cNvPicPr/>
          <p:nvPr/>
        </p:nvPicPr>
        <p:blipFill>
          <a:blip r:embed="rId2"/>
          <a:stretch/>
        </p:blipFill>
        <p:spPr>
          <a:xfrm>
            <a:off x="4135320" y="0"/>
            <a:ext cx="5008680" cy="2666880"/>
          </a:xfrm>
          <a:prstGeom prst="rect">
            <a:avLst/>
          </a:prstGeom>
          <a:ln w="0">
            <a:noFill/>
          </a:ln>
        </p:spPr>
      </p:pic>
      <p:sp>
        <p:nvSpPr>
          <p:cNvPr id="702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0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0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3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6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1" dur="500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80880" y="4038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shows tha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ly the path through router IRO2 is present in the BGP table and (no other BGP learned paths are avail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th through IRO2 is the best (only) pa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P1 is not present in the BGP table can have several different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P1 might not advertise the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P1 advertises it, but router IRO1 rejects or ignores the advert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O1 and ISP1 have not successfully established a peering relationship and no routes have been exchanged a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F4C1-B379-4B51-8E6C-6F7AAE25C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" descr=""/>
          <p:cNvPicPr/>
          <p:nvPr/>
        </p:nvPicPr>
        <p:blipFill>
          <a:blip r:embed="rId1"/>
          <a:stretch/>
        </p:blipFill>
        <p:spPr>
          <a:xfrm>
            <a:off x="0" y="2133720"/>
            <a:ext cx="7037280" cy="19936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" descr=""/>
          <p:cNvPicPr/>
          <p:nvPr/>
        </p:nvPicPr>
        <p:blipFill>
          <a:blip r:embed="rId2"/>
          <a:stretch/>
        </p:blipFill>
        <p:spPr>
          <a:xfrm>
            <a:off x="4135320" y="0"/>
            <a:ext cx="5008680" cy="266688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5"/>
          <p:cNvSpPr/>
          <p:nvPr/>
        </p:nvSpPr>
        <p:spPr>
          <a:xfrm>
            <a:off x="152280" y="2819520"/>
            <a:ext cx="5105520" cy="30456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457200" y="3505320"/>
            <a:ext cx="5105520" cy="30456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5" dur="indefinite" restart="never" nodeType="tmRoot">
          <p:childTnLst>
            <p:seq>
              <p:cTn id="1776" dur="indefinite" nodeType="mainSeq">
                <p:childTnLst>
                  <p:par>
                    <p:cTn id="1777" nodeType="clickEffect" fill="hold">
                      <p:stCondLst>
                        <p:cond delay="indefinite"/>
                      </p:stCondLst>
                      <p:childTnLst>
                        <p:par>
                          <p:cTn id="1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1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9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7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2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7" dur="500"/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2" dur="5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380880" y="4343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reve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O1 peering to IP address 10.1.220.4 (IRO2) has been established and 6 prefixes have been received from the neighb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peering to IP address 192.168.224.244 is in the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ns that this router is trying to establish a TCP session to neighbor 192.168.224.244, but has not succeeded y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, the BGP process is trying to initiate a TCP connection with the neigh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FAF5-F0B7-4C65-9B49-B8499CEB8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1"/>
          <a:stretch/>
        </p:blipFill>
        <p:spPr>
          <a:xfrm>
            <a:off x="0" y="838080"/>
            <a:ext cx="6426360" cy="34876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"/>
          <p:cNvPicPr/>
          <p:nvPr/>
        </p:nvPicPr>
        <p:blipFill>
          <a:blip r:embed="rId2"/>
          <a:stretch/>
        </p:blipFill>
        <p:spPr>
          <a:xfrm>
            <a:off x="4135320" y="0"/>
            <a:ext cx="5008680" cy="266688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5"/>
          <p:cNvSpPr/>
          <p:nvPr/>
        </p:nvSpPr>
        <p:spPr>
          <a:xfrm>
            <a:off x="96840" y="3809880"/>
            <a:ext cx="5999040" cy="24768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6" descr=""/>
          <p:cNvPicPr/>
          <p:nvPr/>
        </p:nvPicPr>
        <p:blipFill>
          <a:blip r:embed="rId3"/>
          <a:stretch/>
        </p:blipFill>
        <p:spPr>
          <a:xfrm>
            <a:off x="6172200" y="2590920"/>
            <a:ext cx="2681280" cy="186696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7"/>
          <p:cNvSpPr/>
          <p:nvPr/>
        </p:nvSpPr>
        <p:spPr>
          <a:xfrm>
            <a:off x="49320" y="4038480"/>
            <a:ext cx="6095880" cy="22860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2" dur="5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0" dur="5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3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nodeType="clickEffect" fill="hold">
                      <p:stCondLst>
                        <p:cond delay="indefinite"/>
                      </p:stCondLst>
                      <p:childTnLst>
                        <p:par>
                          <p:cTn id="1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1" dur="5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6" dur="5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g to the IP address 192.168.224.244 which is the configured neighbor address for ISP1 fai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ossible causes ping not succee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P address 192.168.224.244 is not the correct IP address and/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address 192.168.224.254 should have been used for the peering to ISP1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It is possible that we could ping ISP1 but still not able to establish a BGP peering because of something like a wrong AS in the neighbor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A96B-7F7D-448B-BF1B-6A1C6DECD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0" y="2209680"/>
            <a:ext cx="6578640" cy="13986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2600280"/>
          </a:xfrm>
          <a:prstGeom prst="rect">
            <a:avLst/>
          </a:prstGeom>
          <a:ln w="0">
            <a:noFill/>
          </a:ln>
        </p:spPr>
      </p:pic>
      <p:cxnSp>
        <p:nvCxnSpPr>
          <p:cNvPr id="725" name="Straight Arrow Connector 7"/>
          <p:cNvCxnSpPr/>
          <p:nvPr/>
        </p:nvCxnSpPr>
        <p:spPr>
          <a:xfrm flipV="1">
            <a:off x="6019920" y="1142280"/>
            <a:ext cx="2160" cy="686520"/>
          </a:xfrm>
          <a:prstGeom prst="straightConnector1">
            <a:avLst/>
          </a:prstGeom>
          <a:ln w="25560">
            <a:solidFill>
              <a:srgbClr val="0000ff"/>
            </a:solidFill>
            <a:prstDash val="sysDash"/>
            <a:miter/>
            <a:tailEnd len="med" type="arrow" w="med"/>
          </a:ln>
        </p:spPr>
      </p:cxnSp>
      <p:sp>
        <p:nvSpPr>
          <p:cNvPr id="726" name="Oval 8"/>
          <p:cNvSpPr/>
          <p:nvPr/>
        </p:nvSpPr>
        <p:spPr>
          <a:xfrm>
            <a:off x="4495680" y="762120"/>
            <a:ext cx="1295640" cy="5331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6" dur="5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1" dur="5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6" dur="5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1" dur="5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8088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neighbor command to correct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is now sending Prefixes to I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est path via IS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C150-53E7-446B-A84C-B236222A6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6564240" cy="42418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5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2355840"/>
          </a:xfrm>
          <a:prstGeom prst="rect">
            <a:avLst/>
          </a:prstGeom>
          <a:ln w="0">
            <a:noFill/>
          </a:ln>
        </p:spPr>
      </p:pic>
      <p:cxnSp>
        <p:nvCxnSpPr>
          <p:cNvPr id="733" name="Straight Arrow Connector 6"/>
          <p:cNvCxnSpPr/>
          <p:nvPr/>
        </p:nvCxnSpPr>
        <p:spPr>
          <a:xfrm flipV="1">
            <a:off x="6248520" y="1065960"/>
            <a:ext cx="2160" cy="686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34" name="Oval 7"/>
          <p:cNvSpPr/>
          <p:nvPr/>
        </p:nvSpPr>
        <p:spPr>
          <a:xfrm>
            <a:off x="4800600" y="685800"/>
            <a:ext cx="129528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8"/>
          <p:cNvSpPr/>
          <p:nvPr/>
        </p:nvSpPr>
        <p:spPr>
          <a:xfrm>
            <a:off x="1600200" y="2057400"/>
            <a:ext cx="3276720" cy="53352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152280" y="3505320"/>
            <a:ext cx="6096240" cy="30456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9"/>
          <p:cNvSpPr/>
          <p:nvPr/>
        </p:nvSpPr>
        <p:spPr>
          <a:xfrm>
            <a:off x="380880" y="5257800"/>
            <a:ext cx="4191120" cy="30492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nodeType="clickEffect" fill="hold">
                      <p:stCondLst>
                        <p:cond delay="indefinite"/>
                      </p:stCondLst>
                      <p:childTnLst>
                        <p:par>
                          <p:cTn id="1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6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4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380880" y="41148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shows that router IRO2 has received a path to 192.168.224.0/19 from router IRO1 and installed it in its BGP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O2 selects the path through (learned from) IRO1 as the best path to prefix 192.168.22.0/19 in AS 6552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659E-8060-4642-836E-E8C072579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3" descr=""/>
          <p:cNvPicPr/>
          <p:nvPr/>
        </p:nvPicPr>
        <p:blipFill>
          <a:blip r:embed="rId1"/>
          <a:stretch/>
        </p:blipFill>
        <p:spPr>
          <a:xfrm>
            <a:off x="-19080" y="1530360"/>
            <a:ext cx="6434280" cy="26607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5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2355840"/>
          </a:xfrm>
          <a:prstGeom prst="rect">
            <a:avLst/>
          </a:prstGeom>
          <a:ln w="0">
            <a:noFill/>
          </a:ln>
        </p:spPr>
      </p:pic>
      <p:cxnSp>
        <p:nvCxnSpPr>
          <p:cNvPr id="744" name="Straight Arrow Connector 6"/>
          <p:cNvCxnSpPr/>
          <p:nvPr/>
        </p:nvCxnSpPr>
        <p:spPr>
          <a:xfrm flipV="1">
            <a:off x="6248520" y="1065960"/>
            <a:ext cx="2160" cy="686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45" name="Oval 7"/>
          <p:cNvSpPr/>
          <p:nvPr/>
        </p:nvSpPr>
        <p:spPr>
          <a:xfrm>
            <a:off x="4800600" y="685800"/>
            <a:ext cx="129528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7"/>
          <p:cNvSpPr/>
          <p:nvPr/>
        </p:nvSpPr>
        <p:spPr>
          <a:xfrm>
            <a:off x="0" y="2133720"/>
            <a:ext cx="167652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8"/>
          <p:cNvSpPr/>
          <p:nvPr/>
        </p:nvSpPr>
        <p:spPr>
          <a:xfrm>
            <a:off x="380880" y="3048120"/>
            <a:ext cx="1371600" cy="15228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9"/>
          <p:cNvSpPr/>
          <p:nvPr/>
        </p:nvSpPr>
        <p:spPr>
          <a:xfrm>
            <a:off x="4495680" y="3200400"/>
            <a:ext cx="60984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1" dur="indefinite" restart="never" nodeType="tmRoot">
          <p:childTnLst>
            <p:seq>
              <p:cTn id="1902" dur="indefinite" nodeType="mainSeq">
                <p:childTnLst>
                  <p:par>
                    <p:cTn id="1903" nodeType="clickEffect" fill="hold">
                      <p:stCondLst>
                        <p:cond delay="indefinite"/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38088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confirms that the path through neighbor 192.168.224.254 (ISP1) has been installed in the routing 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o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 confirms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FBF9-C655-4012-9835-B8FFC9EB9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463536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2355840"/>
          </a:xfrm>
          <a:prstGeom prst="rect">
            <a:avLst/>
          </a:prstGeom>
          <a:ln w="0">
            <a:noFill/>
          </a:ln>
        </p:spPr>
      </p:pic>
      <p:cxnSp>
        <p:nvCxnSpPr>
          <p:cNvPr id="755" name="Straight Arrow Connector 6"/>
          <p:cNvCxnSpPr/>
          <p:nvPr/>
        </p:nvCxnSpPr>
        <p:spPr>
          <a:xfrm flipV="1">
            <a:off x="6248520" y="1065960"/>
            <a:ext cx="2160" cy="686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56" name="Oval 7"/>
          <p:cNvSpPr/>
          <p:nvPr/>
        </p:nvSpPr>
        <p:spPr>
          <a:xfrm>
            <a:off x="4800600" y="685800"/>
            <a:ext cx="129528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8"/>
          <p:cNvSpPr/>
          <p:nvPr/>
        </p:nvSpPr>
        <p:spPr>
          <a:xfrm>
            <a:off x="1905120" y="1905120"/>
            <a:ext cx="1904760" cy="30456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9"/>
          <p:cNvSpPr/>
          <p:nvPr/>
        </p:nvSpPr>
        <p:spPr>
          <a:xfrm>
            <a:off x="228600" y="3962520"/>
            <a:ext cx="4495680" cy="60948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nodeType="clickEffect" fill="hold">
                      <p:stCondLst>
                        <p:cond delay="indefinite"/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3808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ummarize, each routing protocol consists of the following elements and processes:  (RIP is a notable exception to some of thes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ption of routing information from neighb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 protocol data struct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table, topolog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injection or re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 connected, dynamic routes, static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selection and insta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ath, equal cost load balancing, unequal cost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mission of routing information to neighb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ation, Broadcast, Multicast, LSAs, Route updates, 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3FE5-CBB4-46B7-AFDE-5DFC045D6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25052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2819520" y="0"/>
            <a:ext cx="3809880" cy="23367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3" descr=""/>
          <p:cNvPicPr/>
          <p:nvPr/>
        </p:nvPicPr>
        <p:blipFill>
          <a:blip r:embed="rId3"/>
          <a:stretch/>
        </p:blipFill>
        <p:spPr>
          <a:xfrm>
            <a:off x="6324480" y="0"/>
            <a:ext cx="28195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28E6-33ED-4278-A72B-A3069DB14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 Zinin’s Routing Table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5562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le 3: Routing information about a path from one network to another does not provide routing information about the reverse, or return,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715000" cy="34797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6"/>
          <p:cNvSpPr/>
          <p:nvPr/>
        </p:nvSpPr>
        <p:spPr>
          <a:xfrm>
            <a:off x="0" y="990720"/>
            <a:ext cx="3200400" cy="1752480"/>
          </a:xfrm>
          <a:prstGeom prst="wedgeRectCallout">
            <a:avLst>
              <a:gd name="adj1" fmla="val 47768"/>
              <a:gd name="adj2" fmla="val 71560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f the packet for R3’s LAN reaches 192.168.2.0/24, I don’t know if R3 has a route back to 172.16.3.0/24 for any return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400800" y="3809880"/>
            <a:ext cx="1066680" cy="68580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3352680" y="2361960"/>
            <a:ext cx="762120" cy="6858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648320" y="2362320"/>
            <a:ext cx="761760" cy="6858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5943600" y="3276720"/>
            <a:ext cx="685800" cy="6094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562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 flipV="1">
            <a:off x="5790960" y="3429000"/>
            <a:ext cx="609480" cy="5335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240" y="1828800"/>
            <a:ext cx="8915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 188 CCNP TSHOOT (Troubleshooting)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. 5 Maintaining and Troubleshooting Routing Solu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114440" y="4266720"/>
            <a:ext cx="4876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k Grazi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rillo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ziani@cabrillo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88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orward packets, a router combines information from variou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rol plane data structure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important of these data structures i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tructure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SDB or topolog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P or Frame Relay Map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ke switches, which flood unknown frames, routers drop any packet for which they cannot find a matching entry in the routing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es for longest possible prefix match of the destination IP addr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d with this entry is an egress interface - most cases, a next-hop IP add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8DB5-C3AC-475A-A619-E00B21CE8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010G_166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2971800"/>
          </a:xfrm>
          <a:prstGeom prst="rect">
            <a:avLst/>
          </a:prstGeom>
          <a:ln w="0">
            <a:noFill/>
          </a:ln>
        </p:spPr>
      </p:pic>
      <p:sp>
        <p:nvSpPr>
          <p:cNvPr id="141" name="Oval 4"/>
          <p:cNvSpPr/>
          <p:nvPr/>
        </p:nvSpPr>
        <p:spPr>
          <a:xfrm>
            <a:off x="5486400" y="304920"/>
            <a:ext cx="121932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20:18:51Z</dcterms:created>
  <dc:creator>Microsoft Office User</dc:creator>
  <dc:description/>
  <dc:language>en-US</dc:language>
  <cp:lastModifiedBy>Microsoft Office User</cp:lastModifiedBy>
  <dcterms:modified xsi:type="dcterms:W3CDTF">2016-12-28T20:32:35Z</dcterms:modified>
  <cp:revision>2</cp:revision>
  <dc:subject/>
  <dc:title> Ch. 5 Maintaining and Troubleshooting Routing Solutions</dc:title>
</cp:coreProperties>
</file>