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8.png" ContentType="image/png"/>
  <Override PartName="/ppt/media/image10.png" ContentType="image/png"/>
  <Override PartName="/ppt/media/image47.png" ContentType="image/png"/>
  <Override PartName="/ppt/media/image21.png" ContentType="image/png"/>
  <Override PartName="/ppt/media/image1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49.jpeg" ContentType="image/jpeg"/>
  <Override PartName="/ppt/media/image20.png" ContentType="image/png"/>
  <Override PartName="/ppt/media/image57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F174-AE97-4F6A-8FFC-5797AA2C8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812E-1671-4188-8AF6-54C63199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81FF-5560-4640-A6FF-02DAC356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68D3-E6AC-4799-AB5E-7190D779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le 1: Every router makes its decision alone, based on the information it has in its own routing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has three static routes in its routing table and makes forwarding decisions based solely on the information in the routing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does not consult the routing tables in any other routers, nor does it know whether those routers have routes to other networ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each router aware of remote networks is the responsibility of the network administr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7F4-66AB-45D1-88D5-A9071D39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757D-7915-4652-BBEF-AAEDE62D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le 2: The fact that one router has certain information in its routing table does not mean that other routers have the sam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does not know what information other routers have in their routing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R1 has a route to the 192.168.2.0/24 network through Router R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ckets that match this route belong to the 192.168.2.0/24 network and will be forwarded to Router R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does not know whether R2 has a route to the 192.168.2.0/24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the network administrator would be responsible for ensuring that the next-hop router also has a route to this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Principle 2, you still need to configure the proper routing on the other routers (R2 and R3) to make sure that they have routes to these three net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286D-5A73-4BA9-8AAE-4108B49AB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le 3: Routing information about a path from one network to another does not provide routing information about the reverse, or return,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communication over networks is bidirection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packets must travel in both directions between the end devices invol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cket from PC1 can reach PC3 because all the routers involved have routes to the destination network 192.168.2.0/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success of any returning packets going from PC3 to PC1 depends on whether the routers involved have a route to the return path, PC1’s 172.16.3.0/24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Principle 3 as guidance, you will configure proper static routes on the other routers to make sure that they have routes back to the 172.16.3.0/24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338-79C1-4213-9758-6BB9B6BF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DD56-D85F-44E4-841D-CEC94EE13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540180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B5D1-934E-4106-B871-55DE2454A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792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6F2E-C7E4-41A9-8016-0A4E2984B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332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576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332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576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2652-5E79-45DD-85B9-59DA63D68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3CB8-BFEF-4F0B-A2EF-FBF228785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9792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540180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9792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332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5760" y="380952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332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5760" y="5401800"/>
            <a:ext cx="264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26FB-D079-4642-A9C3-D70740284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F892-2FEA-4BE7-9B8C-EEF233FDB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196E-8971-435E-ABAA-7A0DD0740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DEC4-8F37-4F0D-A9DF-063DCEBB6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B84D-2BBF-42AB-A9B2-33B721E82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7920" y="540180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A49D-2909-46EC-8426-134C7C5A3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7920" y="3809520"/>
            <a:ext cx="40158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5401800"/>
            <a:ext cx="8229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8371-51D6-40D0-9E74-2196EBBF4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8" descr="RickGraziani-CabrilloCollege"/>
          <p:cNvPicPr/>
          <p:nvPr/>
        </p:nvPicPr>
        <p:blipFill>
          <a:blip r:embed="rId2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34CC-638A-4594-988A-F7CF391D0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1" descr="RickGraziani"/>
          <p:cNvPicPr/>
          <p:nvPr/>
        </p:nvPicPr>
        <p:blipFill>
          <a:blip r:embed="rId2"/>
          <a:stretch/>
        </p:blipFill>
        <p:spPr>
          <a:xfrm>
            <a:off x="0" y="0"/>
            <a:ext cx="9144000" cy="1793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9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28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. 5 Maintaining and Troubleshooting Routing Solu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ping between the next hop-IP address and the Layer 2 address or identifier is stored in a data structure that is specific for that Layer 2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: ARP ca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Relay: Frame Relay map table (except for point-to-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outing table lookup may need to be followed up by a lookup in a Layer 3 to Layer 2 mapping table to construct a frame, encapsulate the packet, and transmit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5D61-D18D-4542-A0B9-D03E28AB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181560" cy="2901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1371600" y="152280"/>
            <a:ext cx="6261120" cy="1146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6248520" y="1371600"/>
            <a:ext cx="1523880" cy="28954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2030400" y="374760"/>
            <a:ext cx="682560" cy="244440"/>
          </a:xfrm>
          <a:custGeom>
            <a:avLst/>
            <a:gdLst>
              <a:gd name="textAreaLeft" fmla="*/ 0 w 682560"/>
              <a:gd name="textAreaRight" fmla="*/ 682920 w 682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683867" h="244250">
                <a:moveTo>
                  <a:pt x="0" y="244250"/>
                </a:moveTo>
                <a:cubicBezTo>
                  <a:pt x="122119" y="127553"/>
                  <a:pt x="244238" y="10856"/>
                  <a:pt x="358216" y="5428"/>
                </a:cubicBezTo>
                <a:cubicBezTo>
                  <a:pt x="472194" y="0"/>
                  <a:pt x="683867" y="211683"/>
                  <a:pt x="683867" y="21168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"/>
          <p:cNvSpPr/>
          <p:nvPr/>
        </p:nvSpPr>
        <p:spPr>
          <a:xfrm>
            <a:off x="3430440" y="365040"/>
            <a:ext cx="684360" cy="244440"/>
          </a:xfrm>
          <a:custGeom>
            <a:avLst/>
            <a:gdLst>
              <a:gd name="textAreaLeft" fmla="*/ 0 w 684360"/>
              <a:gd name="textAreaRight" fmla="*/ 684720 w 684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683867" h="244250">
                <a:moveTo>
                  <a:pt x="0" y="244250"/>
                </a:moveTo>
                <a:cubicBezTo>
                  <a:pt x="122119" y="127553"/>
                  <a:pt x="244238" y="10856"/>
                  <a:pt x="358216" y="5428"/>
                </a:cubicBezTo>
                <a:cubicBezTo>
                  <a:pt x="472194" y="0"/>
                  <a:pt x="683867" y="211683"/>
                  <a:pt x="683867" y="21168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952880" y="365040"/>
            <a:ext cx="684360" cy="244440"/>
          </a:xfrm>
          <a:custGeom>
            <a:avLst/>
            <a:gdLst>
              <a:gd name="textAreaLeft" fmla="*/ 0 w 684360"/>
              <a:gd name="textAreaRight" fmla="*/ 684720 w 684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683867" h="244250">
                <a:moveTo>
                  <a:pt x="0" y="244250"/>
                </a:moveTo>
                <a:cubicBezTo>
                  <a:pt x="122119" y="127553"/>
                  <a:pt x="244238" y="10856"/>
                  <a:pt x="358216" y="5428"/>
                </a:cubicBezTo>
                <a:cubicBezTo>
                  <a:pt x="472194" y="0"/>
                  <a:pt x="683867" y="211683"/>
                  <a:pt x="683867" y="21168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326280" y="380880"/>
            <a:ext cx="684000" cy="244440"/>
          </a:xfrm>
          <a:custGeom>
            <a:avLst/>
            <a:gdLst>
              <a:gd name="textAreaLeft" fmla="*/ 0 w 684000"/>
              <a:gd name="textAreaRight" fmla="*/ 684360 w 684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683867" h="244250">
                <a:moveTo>
                  <a:pt x="0" y="244250"/>
                </a:moveTo>
                <a:cubicBezTo>
                  <a:pt x="122119" y="127553"/>
                  <a:pt x="244238" y="10856"/>
                  <a:pt x="358216" y="5428"/>
                </a:cubicBezTo>
                <a:cubicBezTo>
                  <a:pt x="472194" y="0"/>
                  <a:pt x="683867" y="211683"/>
                  <a:pt x="683867" y="21168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oubleshooting EIGR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BA3F-8C97-4E91-8EAE-5D8CA8AEB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high level, each routing protocol consists of the following elements and processes:  (RIP is a notable exception to some of thes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ion of routing information from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tocol data 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table, topolog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injection or re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connected, dynamic routes, static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selection and 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ath, equal cost load balancing, unequal cost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of routing information to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ation, Broadcast, Multicast, LSAs, Route updates, 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573-66B4-4C08-BB63-C870CA9A7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21333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agnose and resolve problems related to EIGRP you must be able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RP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table, Topology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RP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, adjacency process, summarization,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 IOS comm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ather information from the EIGRP data structures and track the flow of EIGRP routing inform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s we will see these procedures can be applied to other routing protocols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1A33-5CA7-46FB-845F-5D05E71B3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3885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 stores its operational data, configured parameters, and statistics in three main data stru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all interfaces that have been enabled for the processing of EIGRP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interfaces are not listed in this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9CA-B24F-442C-9DF6-6A9AE40BD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04920" y="533520"/>
            <a:ext cx="8229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3#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w ip eigrp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P-EIGRP interfaces for proce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it Queue   Mean   Pacing Time   Multicast   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face    Peers  Un/Reliable  SRTT   Un/Reliable   Flow Timer  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0/1          1        0/0        60       0/15         299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0/0          1        0/0       607       0/15        3031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0/2          1        0/0        29       0/15         143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0/3          1        0/0        24       0/17          50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all active EIGRP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s are added to this table on the reception of hello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s are removed wh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-time exp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goes down or is removed from the interface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8AB3-EB79-4D87-BA20-060F9258D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838080"/>
            <a:ext cx="8229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3#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ow ip eigr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P-EIGRP neighbors for proce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   Address                 Interface   Hold Uptime   SRTT   RTO  Q  Seq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ec)         (ms)       Cnt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  10.0.0.18               Se0/3         13 00:17:37   24   200  0  5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10.0.0.14               Se0/2         14 00:17:50   29   200  0  4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10.0.0.5                Se0/0         14 00:23:35  607  3642  0  13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  10.0.0.9                Se0/1         12 00:24:01   60   360  0  21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88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ology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all the routes that were received from neighboring routers, locally injected, or redistributed into EIG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 will select the best path from among the available possible pa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’s best path selection is based on the Diffusing Update Algorithm (DU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D08F-982D-4DF0-9867-41660870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04920" y="457200"/>
            <a:ext cx="8229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3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 ip eigrp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utput omit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10.0.0.0/30, 2 successors, FD is 2681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a 10.0.0.9 (2681856/2169856), Serial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a 10.0.0.5 (2681856/2169856), Serial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utput omit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172.16.0.0/16, 1 successors, FD is 21724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a 10.0.0.14 (2172416/28160), Serial0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a 10.0.0.18 (2312192/28160), Serial0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270080" y="3098880"/>
            <a:ext cx="5587920" cy="3045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934320" y="3123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uc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295280" y="3429000"/>
            <a:ext cx="5575320" cy="3049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858000" y="344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easible suc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876920" y="2819520"/>
            <a:ext cx="1143000" cy="30456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268880" y="23616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Feasibl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990720" y="42951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Feasible distance:  if this router was the success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581280" y="3657600"/>
            <a:ext cx="0" cy="533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4191120" y="3429000"/>
            <a:ext cx="9144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6629400" y="1752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Reported Distance is less than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Feasibl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 flipH="1">
            <a:off x="5028840" y="2819520"/>
            <a:ext cx="167652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Rout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DB2E-8650-4CB7-AA62-AB2ACABA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481120" y="914400"/>
            <a:ext cx="800280" cy="533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5757840" y="914400"/>
            <a:ext cx="800280" cy="5335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7"/>
          <p:cNvSpPr/>
          <p:nvPr/>
        </p:nvSpPr>
        <p:spPr>
          <a:xfrm>
            <a:off x="2709720" y="114300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5986440" y="114300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0"/>
          <p:cNvSpPr/>
          <p:nvPr/>
        </p:nvSpPr>
        <p:spPr>
          <a:xfrm flipH="1">
            <a:off x="2860200" y="144936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3"/>
          <p:cNvSpPr/>
          <p:nvPr/>
        </p:nvSpPr>
        <p:spPr>
          <a:xfrm flipH="1">
            <a:off x="6138360" y="144792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4"/>
          <p:cNvSpPr/>
          <p:nvPr/>
        </p:nvSpPr>
        <p:spPr>
          <a:xfrm flipH="1">
            <a:off x="2862000" y="1600200"/>
            <a:ext cx="32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8" descr=""/>
          <p:cNvPicPr/>
          <p:nvPr/>
        </p:nvPicPr>
        <p:blipFill>
          <a:blip r:embed="rId3"/>
          <a:stretch/>
        </p:blipFill>
        <p:spPr>
          <a:xfrm>
            <a:off x="2328840" y="1981080"/>
            <a:ext cx="574560" cy="38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4"/>
          <a:stretch/>
        </p:blipFill>
        <p:spPr>
          <a:xfrm>
            <a:off x="6072120" y="326700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"/>
          <p:cNvPicPr/>
          <p:nvPr/>
        </p:nvPicPr>
        <p:blipFill>
          <a:blip r:embed="rId5"/>
          <a:stretch/>
        </p:blipFill>
        <p:spPr>
          <a:xfrm>
            <a:off x="2286000" y="3962520"/>
            <a:ext cx="576360" cy="38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"/>
          <p:cNvPicPr/>
          <p:nvPr/>
        </p:nvPicPr>
        <p:blipFill>
          <a:blip r:embed="rId6"/>
          <a:stretch/>
        </p:blipFill>
        <p:spPr>
          <a:xfrm>
            <a:off x="6062760" y="2514600"/>
            <a:ext cx="574560" cy="380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"/>
          <p:cNvPicPr/>
          <p:nvPr/>
        </p:nvPicPr>
        <p:blipFill>
          <a:blip r:embed="rId7"/>
          <a:stretch/>
        </p:blipFill>
        <p:spPr>
          <a:xfrm>
            <a:off x="2289240" y="4791240"/>
            <a:ext cx="571320" cy="390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"/>
          <p:cNvPicPr/>
          <p:nvPr/>
        </p:nvPicPr>
        <p:blipFill>
          <a:blip r:embed="rId8"/>
          <a:stretch/>
        </p:blipFill>
        <p:spPr>
          <a:xfrm>
            <a:off x="6062760" y="5486400"/>
            <a:ext cx="576000" cy="380880"/>
          </a:xfrm>
          <a:prstGeom prst="rect">
            <a:avLst/>
          </a:prstGeom>
          <a:ln w="0">
            <a:noFill/>
          </a:ln>
        </p:spPr>
      </p:pic>
      <p:cxnSp>
        <p:nvCxnSpPr>
          <p:cNvPr id="207" name="Straight Arrow Connector 25"/>
          <p:cNvCxnSpPr/>
          <p:nvPr/>
        </p:nvCxnSpPr>
        <p:spPr>
          <a:xfrm>
            <a:off x="2892600" y="2133720"/>
            <a:ext cx="304848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8" name="Straight Arrow Connector 32"/>
          <p:cNvCxnSpPr/>
          <p:nvPr/>
        </p:nvCxnSpPr>
        <p:spPr>
          <a:xfrm flipH="1" flipV="1">
            <a:off x="2940840" y="2722320"/>
            <a:ext cx="312516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9" name="Straight Arrow Connector 35"/>
          <p:cNvCxnSpPr/>
          <p:nvPr/>
        </p:nvCxnSpPr>
        <p:spPr>
          <a:xfrm flipH="1" flipV="1">
            <a:off x="2937600" y="3417120"/>
            <a:ext cx="31251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0" name="Straight Arrow Connector 36"/>
          <p:cNvCxnSpPr/>
          <p:nvPr/>
        </p:nvCxnSpPr>
        <p:spPr>
          <a:xfrm>
            <a:off x="2862360" y="4188960"/>
            <a:ext cx="304848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Straight Arrow Connector 37"/>
          <p:cNvCxnSpPr/>
          <p:nvPr/>
        </p:nvCxnSpPr>
        <p:spPr>
          <a:xfrm>
            <a:off x="2862360" y="4989600"/>
            <a:ext cx="304848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2" name="Straight Arrow Connector 38"/>
          <p:cNvCxnSpPr/>
          <p:nvPr/>
        </p:nvCxnSpPr>
        <p:spPr>
          <a:xfrm flipH="1" flipV="1">
            <a:off x="2937600" y="5682960"/>
            <a:ext cx="312516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3" name="TextBox 41"/>
          <p:cNvSpPr/>
          <p:nvPr/>
        </p:nvSpPr>
        <p:spPr>
          <a:xfrm>
            <a:off x="3023640" y="1878120"/>
            <a:ext cx="27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I am Router A. Is anyon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2"/>
          <p:cNvSpPr/>
          <p:nvPr/>
        </p:nvSpPr>
        <p:spPr>
          <a:xfrm>
            <a:off x="3228480" y="247824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I am Router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3"/>
          <p:cNvSpPr/>
          <p:nvPr/>
        </p:nvSpPr>
        <p:spPr>
          <a:xfrm>
            <a:off x="3177360" y="3165480"/>
            <a:ext cx="245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ll my routing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using split horiz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4"/>
          <p:cNvSpPr/>
          <p:nvPr/>
        </p:nvSpPr>
        <p:spPr>
          <a:xfrm>
            <a:off x="3173760" y="3951360"/>
            <a:ext cx="200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the infor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very nice of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5"/>
          <p:cNvSpPr/>
          <p:nvPr/>
        </p:nvSpPr>
        <p:spPr>
          <a:xfrm>
            <a:off x="3177360" y="4740120"/>
            <a:ext cx="245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ll my routing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lso using split horiz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6"/>
          <p:cNvSpPr/>
          <p:nvPr/>
        </p:nvSpPr>
        <p:spPr>
          <a:xfrm>
            <a:off x="3173400" y="545148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the infor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ached conver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Internal Storage 49"/>
          <p:cNvSpPr/>
          <p:nvPr/>
        </p:nvSpPr>
        <p:spPr>
          <a:xfrm>
            <a:off x="647640" y="1692360"/>
            <a:ext cx="91296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0"/>
          <p:cNvSpPr/>
          <p:nvPr/>
        </p:nvSpPr>
        <p:spPr>
          <a:xfrm>
            <a:off x="727560" y="1822320"/>
            <a:ext cx="84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gh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nternal Storage 51"/>
          <p:cNvSpPr/>
          <p:nvPr/>
        </p:nvSpPr>
        <p:spPr>
          <a:xfrm>
            <a:off x="7515360" y="1676520"/>
            <a:ext cx="91260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2"/>
          <p:cNvSpPr/>
          <p:nvPr/>
        </p:nvSpPr>
        <p:spPr>
          <a:xfrm>
            <a:off x="7595280" y="1806480"/>
            <a:ext cx="84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gh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Internal Storage 53"/>
          <p:cNvSpPr/>
          <p:nvPr/>
        </p:nvSpPr>
        <p:spPr>
          <a:xfrm>
            <a:off x="647640" y="3444840"/>
            <a:ext cx="91296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4"/>
          <p:cNvSpPr/>
          <p:nvPr/>
        </p:nvSpPr>
        <p:spPr>
          <a:xfrm>
            <a:off x="722160" y="3575160"/>
            <a:ext cx="86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Internal Storage 55"/>
          <p:cNvSpPr/>
          <p:nvPr/>
        </p:nvSpPr>
        <p:spPr>
          <a:xfrm>
            <a:off x="7535880" y="3444840"/>
            <a:ext cx="91440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6"/>
          <p:cNvSpPr/>
          <p:nvPr/>
        </p:nvSpPr>
        <p:spPr>
          <a:xfrm>
            <a:off x="7611480" y="3575160"/>
            <a:ext cx="86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Internal Storage 57"/>
          <p:cNvSpPr/>
          <p:nvPr/>
        </p:nvSpPr>
        <p:spPr>
          <a:xfrm>
            <a:off x="620640" y="5273640"/>
            <a:ext cx="91296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8"/>
          <p:cNvSpPr/>
          <p:nvPr/>
        </p:nvSpPr>
        <p:spPr>
          <a:xfrm>
            <a:off x="700920" y="5403960"/>
            <a:ext cx="75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Internal Storage 59"/>
          <p:cNvSpPr/>
          <p:nvPr/>
        </p:nvSpPr>
        <p:spPr>
          <a:xfrm>
            <a:off x="7535880" y="5257800"/>
            <a:ext cx="914400" cy="822240"/>
          </a:xfrm>
          <a:prstGeom prst="flowChartInternalStorag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0"/>
          <p:cNvSpPr/>
          <p:nvPr/>
        </p:nvSpPr>
        <p:spPr>
          <a:xfrm>
            <a:off x="7617960" y="5388120"/>
            <a:ext cx="75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1"/>
          <p:cNvSpPr/>
          <p:nvPr/>
        </p:nvSpPr>
        <p:spPr>
          <a:xfrm>
            <a:off x="7540560" y="14241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2"/>
          <p:cNvSpPr/>
          <p:nvPr/>
        </p:nvSpPr>
        <p:spPr>
          <a:xfrm>
            <a:off x="7540560" y="31939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3"/>
          <p:cNvSpPr/>
          <p:nvPr/>
        </p:nvSpPr>
        <p:spPr>
          <a:xfrm>
            <a:off x="7539120" y="50180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4"/>
          <p:cNvSpPr/>
          <p:nvPr/>
        </p:nvSpPr>
        <p:spPr>
          <a:xfrm>
            <a:off x="690120" y="1436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5"/>
          <p:cNvSpPr/>
          <p:nvPr/>
        </p:nvSpPr>
        <p:spPr>
          <a:xfrm>
            <a:off x="692280" y="32036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6"/>
          <p:cNvSpPr/>
          <p:nvPr/>
        </p:nvSpPr>
        <p:spPr>
          <a:xfrm>
            <a:off x="690120" y="50371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68"/>
          <p:cNvCxnSpPr/>
          <p:nvPr/>
        </p:nvCxnSpPr>
        <p:spPr>
          <a:xfrm>
            <a:off x="932040" y="4255920"/>
            <a:ext cx="3600" cy="80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TextBox 78"/>
          <p:cNvSpPr/>
          <p:nvPr/>
        </p:nvSpPr>
        <p:spPr>
          <a:xfrm>
            <a:off x="945720" y="43434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79"/>
          <p:cNvCxnSpPr/>
          <p:nvPr/>
        </p:nvCxnSpPr>
        <p:spPr>
          <a:xfrm>
            <a:off x="8134920" y="4255920"/>
            <a:ext cx="3960" cy="78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TextBox 80"/>
          <p:cNvSpPr/>
          <p:nvPr/>
        </p:nvSpPr>
        <p:spPr>
          <a:xfrm>
            <a:off x="7243200" y="43434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initial updates have been exchanged, routing updates will only be exchanged as a result of changes on the ne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can be caused by changes in connectivity, such 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a link or neigh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4DE3-B313-4889-9C8C-9E86FBAF6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2855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088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 ip rou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pecific to 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any changes that are made to the routing table, such as installation or removal of ro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67A7-D331-451B-A57A-71200D961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80880" y="685800"/>
            <a:ext cx="8229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bug ip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P routing debugging is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(config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a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(config-if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p address 172.16.1.1 255.255.25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2(config-if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LINK-3-UPDOWN: Interface FastEthernet0/0,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hanged state to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LINEPROTO-5-UPDOWN: Lin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proto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n Interface FastEthernet0/0,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hanged state to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RT: add 172.16.1.0/24 via 0.0.0.0, connected metric [0/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RT: interface FastEthernet0/0 added to 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85F5-9AD8-4B10-AB48-D83AC55FE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ubleshooting and Maintaining Cisco IP Networks (TSHOOT) Foundation Learning Guide: Foundation learning for the CCNP TSHOOT 642-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mir Ranj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-10: 1-58705-87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-13: 978-1-58705-87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-10: 1-58714-17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BN-13: 978-1-58714-17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765760" y="1143000"/>
            <a:ext cx="337824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088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 eigrp pa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the transmission and reception of EIGRP pack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sco Press Implementing Cisco IP Routing (ROUTE) by Diane Teare provides detailed explanation of the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591D-453C-458D-BF19-6BCC96BB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49723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088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 ip eigr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EIGRP routing events, such as updates, queries, and replies sent to or received from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s on the routing information contained in the packets and the actions that EIGRP takes as a result of the information recei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sco Press Implementing Cisco IP Routing (ROUTE) by Diane Teare provides detailed explanation of the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99A-DAD0-465D-BED1-D9855ED07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oubleshooting Example: Routing Problem in an EIGRP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8BA1-CC56-429B-906A-E8204BAE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642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088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path unexpectedly goes through BR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0C0-B5F1-4B39-AFFD-94849DED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0" y="2209680"/>
            <a:ext cx="530856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Oval 5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7"/>
          <p:cNvCxnSpPr/>
          <p:nvPr/>
        </p:nvCxnSpPr>
        <p:spPr>
          <a:xfrm flipH="1">
            <a:off x="5865120" y="687240"/>
            <a:ext cx="3960" cy="10677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66" name="Straight Arrow Connector 8"/>
          <p:cNvCxnSpPr/>
          <p:nvPr/>
        </p:nvCxnSpPr>
        <p:spPr>
          <a:xfrm flipV="1">
            <a:off x="6248520" y="1447200"/>
            <a:ext cx="1219680" cy="610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67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088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BRO1 to CRO1 succeeds, you can conclude that the WAN link is operational at Layers 3 and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2269-B46E-4571-A3E7-D5DB2686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9105840" cy="2387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7338960" y="293760"/>
            <a:ext cx="1219320" cy="5331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6"/>
          <p:cNvCxnSpPr/>
          <p:nvPr/>
        </p:nvCxnSpPr>
        <p:spPr>
          <a:xfrm>
            <a:off x="6249960" y="380520"/>
            <a:ext cx="1294560" cy="76284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27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088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ikely reasons why the traffic is routed through router BRO2 instead of directly across the WAN to router CRO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1 has not learned about the direct route to router CRO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1 selects the route through router BRO2 as the best ro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EIGRP topology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715A-ECEA-4A25-8EE2-1413BC1B0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280" name="Oval 4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5"/>
          <p:cNvCxnSpPr/>
          <p:nvPr/>
        </p:nvCxnSpPr>
        <p:spPr>
          <a:xfrm flipH="1">
            <a:off x="5865120" y="687240"/>
            <a:ext cx="3960" cy="10677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82" name="Straight Arrow Connector 6"/>
          <p:cNvCxnSpPr/>
          <p:nvPr/>
        </p:nvCxnSpPr>
        <p:spPr>
          <a:xfrm flipV="1">
            <a:off x="6248520" y="1447200"/>
            <a:ext cx="1219680" cy="610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8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pology table lists all routes that were received, so you can see if the direct route to CRO1 is miss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is command displays all entries in the topology table for this destination, not just feasible successors – similar to “all-links”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ro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determine whether the route was not learned becau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ighbor relationship with CRO1 was never establish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established but the specific route was not exchang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next step is to display the neighb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FD9-2C09-4D87-AFBB-640448E5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2819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>
            <a:off x="5781600" y="0"/>
            <a:ext cx="3362400" cy="18288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228600" y="936720"/>
            <a:ext cx="495288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0880" y="4648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1 is not listed as a neighbor on router BRO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one or the other routers is no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ing Hello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Hello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EIGRP interfaces to make sure the serial interface is configured for EIG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13F0-30FC-4D9F-9013-7EAFFEC35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5361120" y="0"/>
            <a:ext cx="3782880" cy="2057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8315280" cy="1828800"/>
          </a:xfrm>
          <a:prstGeom prst="rect">
            <a:avLst/>
          </a:prstGeom>
          <a:ln w="0">
            <a:noFill/>
          </a:ln>
        </p:spPr>
      </p:pic>
      <p:sp>
        <p:nvSpPr>
          <p:cNvPr id="296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0880" y="3962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list the serial interface of router BRO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even if hello packets are received on the serial interface, router BRO1 does not process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nditions need to be met for an interface to be added to the EIGRP interface tab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face has to be up and its IP address must match one of the configured network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face should not be configured as a passiv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running-config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9C77-5D45-4DF6-AC2B-D86875AA9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570880" cy="2133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4660920" y="0"/>
            <a:ext cx="4483080" cy="2438280"/>
          </a:xfrm>
          <a:prstGeom prst="rect">
            <a:avLst/>
          </a:prstGeom>
          <a:ln w="0">
            <a:noFill/>
          </a:ln>
        </p:spPr>
      </p:pic>
      <p:sp>
        <p:nvSpPr>
          <p:cNvPr id="30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4114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ith one of the network stat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10.1.194.1 0.0.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ches IP address 10.1.194.1 the IP address of router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match the serial interface of BRO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d it with the stat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10.1.194.2 0.0.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some ot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3DB1-47DB-415C-8101-FE418448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4660920" y="0"/>
            <a:ext cx="4483080" cy="2438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5423040" cy="19558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609480" y="3276720"/>
            <a:ext cx="327672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shooting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You always have the option of reviewing my CCNP ROUTE PowerPoints or attending the lectures for a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time of this presentation we will be discussing Manipulating Routing Updates with route maps and distribution lists in my CIS 185 ROUTE class on Tues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2E1B-ADC9-4C84-9A3F-B591FE06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face table now lists subinterface Serial 0/0/0.111 in addition to subinterface FastEthernet 0/1.3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EIGRP packets are now processed on interface Serial 0/0/0.1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 of router CRO1 (10.1.194.2) is now listed in the neighbor table on the WA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685D-5545-4CBF-8E4B-6F0BF367C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-12600" y="0"/>
            <a:ext cx="6497640" cy="3352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315" name="Oval 6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7"/>
          <p:cNvCxnSpPr/>
          <p:nvPr/>
        </p:nvCxnSpPr>
        <p:spPr>
          <a:xfrm>
            <a:off x="6249960" y="456840"/>
            <a:ext cx="1294560" cy="76284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317" name="Rectangle 7"/>
          <p:cNvSpPr/>
          <p:nvPr/>
        </p:nvSpPr>
        <p:spPr>
          <a:xfrm>
            <a:off x="22320" y="1501920"/>
            <a:ext cx="441936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76320" y="2819520"/>
            <a:ext cx="6019560" cy="2314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648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IGRP topology table now lists two entries for network 10.1.220.1/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BR02 is listed bu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asible Successor (RD is not less than F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6C5-94C8-4A87-9FB2-8A75E5474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784840" cy="4495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325" name="Oval 8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9"/>
          <p:cNvCxnSpPr/>
          <p:nvPr/>
        </p:nvCxnSpPr>
        <p:spPr>
          <a:xfrm>
            <a:off x="6249960" y="456840"/>
            <a:ext cx="1294560" cy="76284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327" name="Straight Arrow Connector 10"/>
          <p:cNvCxnSpPr/>
          <p:nvPr/>
        </p:nvCxnSpPr>
        <p:spPr>
          <a:xfrm flipH="1">
            <a:off x="6040080" y="761760"/>
            <a:ext cx="2160" cy="106740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328" name="Rectangle 8"/>
          <p:cNvSpPr/>
          <p:nvPr/>
        </p:nvSpPr>
        <p:spPr>
          <a:xfrm>
            <a:off x="228600" y="914400"/>
            <a:ext cx="4495680" cy="457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28600" y="2655720"/>
            <a:ext cx="4876920" cy="457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3056760" y="13716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088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ip rou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with network 10.1.220.1 confirms that the path through router CRO1 has been installed in the rou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confirms that this path is now used to forward packets to the loopback of CRO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290C-7D54-44E6-BA56-9E25BAF5E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6854760" cy="4191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4370400" y="0"/>
            <a:ext cx="4773600" cy="2590920"/>
          </a:xfrm>
          <a:prstGeom prst="rect">
            <a:avLst/>
          </a:prstGeom>
          <a:ln w="0">
            <a:noFill/>
          </a:ln>
        </p:spPr>
      </p:pic>
      <p:sp>
        <p:nvSpPr>
          <p:cNvPr id="335" name="Oval 5"/>
          <p:cNvSpPr/>
          <p:nvPr/>
        </p:nvSpPr>
        <p:spPr>
          <a:xfrm>
            <a:off x="7924680" y="685800"/>
            <a:ext cx="121932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6"/>
          <p:cNvCxnSpPr/>
          <p:nvPr/>
        </p:nvCxnSpPr>
        <p:spPr>
          <a:xfrm>
            <a:off x="6249960" y="456840"/>
            <a:ext cx="1294560" cy="7628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37" name="Rectangle 8"/>
          <p:cNvSpPr/>
          <p:nvPr/>
        </p:nvSpPr>
        <p:spPr>
          <a:xfrm>
            <a:off x="152280" y="3886200"/>
            <a:ext cx="274320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263520" y="1143000"/>
            <a:ext cx="380988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704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oubleshooting OSPF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9AFA-2EAA-4CDD-9F86-1A5657678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0880" y="4191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agnose and resolve problems related to OSPF you must be able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data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processes within a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your knowledg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processes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co IOS comm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ather information from the OSPF data structures and track the flow of OSPF routing inform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C1B1-FF1B-4A37-BEDA-68E91923D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2485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stores its operational data, configured parameters, and statistics in four main data stru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all interfaces that have been enabled for OSP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interface is configured as a passive interface, it is still listed in the OSPF interface table, but no neighbor relationships are established on this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C58C-9E54-4CAA-B8E8-9F887D551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0" y="1066680"/>
            <a:ext cx="91440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1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 ip ospf interface serial 0/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ial0/0/0 is up, line protocol is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net Address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192.168.10.1/3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Area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 ID 1, Router ID 10.1.1.1,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Network Type POINT_TO_PO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Cost: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nsmit Delay is 1 sec, State POINT_TO_PO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r intervals configured,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Hello 10, Dead 4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Wait 40, Retransm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utput omit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0880" y="4266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all active OSPF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goes through a number of states while establishing a neighbor relationship (also known as adjacenc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the current state for each individual neigh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B285-C245-429E-9BA3-1644BA7C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80880" y="1066680"/>
            <a:ext cx="87631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1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 ip ospf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ighbor ID   Pri   State      Dead Time    Address      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.3.3.3      1     FULL/ -    00:00:30     192.168.10.6   Serial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.2.2.2      1     FULL/ -    00:00:33     192.168.10.2   Serial0/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-state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ain data structure that OSPF uses to store all its network topology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 wealth of network topolog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most important data structures to gather information from when troubleshooting OSPF probl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B52A-F0D0-4BF3-9627-D68C7D955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477120" cy="42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information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xecuting the SPF algorithm, the results of this calculation are stored in the RIB (Routing Information Bas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s might be added to or deleted from the RIB without the need for a SPF recalc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RIB, OSPF offers its routes to the IP routing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 collection of best paths is known as the OSPF RI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t a separate physical data structure called the OSPF R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writings refer to the IP routing table as the RIB to allow it to be distinguished from the FIB that CEF cre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D56-ED67-4887-9DDD-BC41F329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228600" y="1066680"/>
            <a:ext cx="87170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33# show ip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3.0.0.0/32 is subnetted, 1 sub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   33.33.33.33 is directly connected, Loopback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72.16.0.0/24 is subnetted, 2 sub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   172.16.1.0 is directly connected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       172.16.2.0 [110/2] via 172.16.1.1, 00:02:13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72.30.0.0/24 is subnetted, 2 sub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   172.30.1.0 is directly connected, FastEthernet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       172.30.2.0 [110/2] via 172.16.1.3, 00:02:23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*IA 0.0.0.0/0 [110/2] via 172.16.1.1, 00:02:13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088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outers will become neighbors only if the following parameters match in the Hello pac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o and dead ti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Hello and dead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nd point-to-point type networks are 10-second Hello and 40-second dead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area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nsider that link to be in the same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subnet and subnet m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are on the same sub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ception to this rule is on a point-to-point link, where the subnet mask is not verif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CB73-2F5B-42CA-A5A2-552E6941A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1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 ip ospf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ighbor ID   Pri   State      Dead Time    Address      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.3.3.3      0     FULL/ -    00:00:35     192.168.10.6   Serial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.2.2.2      0     FULL/ -    00:00:36     192.168.10.2   Serial0/0/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ike we did when we looked at Layer 2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roubleshoot Layer 3 connectivity, you need to have a good understanding of the processes that are involved in routing a packet from a host through multiple routers to the final destin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network layer connectivity indicates that the problem is at or below network la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3FE9-D9BC-4700-8D23-4E532503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541476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8394840" cy="1536840"/>
          </a:xfrm>
          <a:prstGeom prst="rect">
            <a:avLst/>
          </a:prstGeom>
          <a:ln w="0">
            <a:noFill/>
          </a:ln>
        </p:spPr>
      </p:pic>
      <p:sp>
        <p:nvSpPr>
          <p:cNvPr id="10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oubleshooting Example: Routing Problem in an OSPF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E7A4-2B0C-4DC4-89F6-FD06F509C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4706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01#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 ip route 10.1.15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routing table on router CRO1, you only find a single entry, the path through router CSW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two equal cost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04FD-FA0F-418E-86F7-2DFA7C4B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0" y="2514600"/>
            <a:ext cx="712620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379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7"/>
          <p:cNvCxnSpPr/>
          <p:nvPr/>
        </p:nvCxnSpPr>
        <p:spPr>
          <a:xfrm flipH="1" flipV="1">
            <a:off x="7009920" y="914040"/>
            <a:ext cx="1448640" cy="381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1" name="Rectangle 7"/>
          <p:cNvSpPr/>
          <p:nvPr/>
        </p:nvSpPr>
        <p:spPr>
          <a:xfrm>
            <a:off x="1447920" y="3733920"/>
            <a:ext cx="160020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520" y="28195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ult is unexpected because there are two equal cost paths are available to CRO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CSW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CSW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g CSW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ceeds, conclude that the Fast Ethernet link between router CRO1 and router CSW2 is operational at Layers 3 and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 out why the second, equal cost path through router CSW2 is not installed in the routing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main reasons why this could be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W2 is not advertising subnet 10.1.152.0/24 to area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to reach subnet 10.1.152.0/24 through router CSW2 from router CRO1 is considered to be worse than the cost through router CSW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D27-9DC4-4694-8CF5-6DF00C15A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6134040" cy="156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768920" y="0"/>
            <a:ext cx="4375080" cy="2895480"/>
          </a:xfrm>
          <a:prstGeom prst="rect">
            <a:avLst/>
          </a:prstGeom>
          <a:ln w="0">
            <a:noFill/>
          </a:ln>
        </p:spPr>
      </p:pic>
      <p:sp>
        <p:nvSpPr>
          <p:cNvPr id="386" name="Oval 5"/>
          <p:cNvSpPr/>
          <p:nvPr/>
        </p:nvSpPr>
        <p:spPr>
          <a:xfrm>
            <a:off x="5410080" y="1219320"/>
            <a:ext cx="838440" cy="60948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6"/>
          <p:cNvCxnSpPr/>
          <p:nvPr/>
        </p:nvCxnSpPr>
        <p:spPr>
          <a:xfrm flipH="1">
            <a:off x="7162560" y="1294200"/>
            <a:ext cx="1296000" cy="6865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388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0880" y="3276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the preference for the path to 10.1.152.0/24 via CSW1 must be based on the topology within area 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router CRO1 has a direct connection in area 0 to both router CSW1 and CSW2, there are only two plausible explanations for the fact that router CRO1 is not using the path via router CSW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the direct path to router CSW2 is not used because routers CSW2 and CRO1 have not become neighb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h is not used because the cost for interface FastEthernet 0/1 is higher than the cost for interface FastEthernet 0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44CA-4F4B-4C7C-AD83-70384720C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207360" cy="1663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6"/>
          <p:cNvCxnSpPr/>
          <p:nvPr/>
        </p:nvCxnSpPr>
        <p:spPr>
          <a:xfrm flipV="1">
            <a:off x="7008840" y="1980360"/>
            <a:ext cx="1069200" cy="25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396" name="Straight Arrow Connector 9"/>
          <p:cNvCxnSpPr/>
          <p:nvPr/>
        </p:nvCxnSpPr>
        <p:spPr>
          <a:xfrm>
            <a:off x="6934320" y="914400"/>
            <a:ext cx="1372320" cy="21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397" name="Straight Arrow Connector 13"/>
          <p:cNvCxnSpPr/>
          <p:nvPr/>
        </p:nvCxnSpPr>
        <p:spPr>
          <a:xfrm flipV="1">
            <a:off x="7007760" y="1600920"/>
            <a:ext cx="3960" cy="3819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398" name="Straight Arrow Connector 15"/>
          <p:cNvCxnSpPr/>
          <p:nvPr/>
        </p:nvCxnSpPr>
        <p:spPr>
          <a:xfrm flipH="1">
            <a:off x="6931800" y="1220400"/>
            <a:ext cx="3960" cy="30564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39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erify if router CRO1 has established, a proper neighbor relationship with router CSW1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ip ospf neigh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several reas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router CSW2 is not lis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neighbor of CRO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W2 is not sending Hel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s are received, but ignored due to mismatched Hello para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s are sent, but not received, because interface FastEthernet 0/1 has not been activated for OSPF and therefore does not listen to the OSPF multicast group 224.0.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ABA9-F3EC-41B9-9765-E7DA51E20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0" y="2514600"/>
            <a:ext cx="7129440" cy="1295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05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Straight Arrow Connector 6"/>
          <p:cNvCxnSpPr/>
          <p:nvPr/>
        </p:nvCxnSpPr>
        <p:spPr>
          <a:xfrm flipV="1">
            <a:off x="7008840" y="1065960"/>
            <a:ext cx="2160" cy="9169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407" name="Straight Arrow Connector 7"/>
          <p:cNvCxnSpPr/>
          <p:nvPr/>
        </p:nvCxnSpPr>
        <p:spPr>
          <a:xfrm>
            <a:off x="6934320" y="914400"/>
            <a:ext cx="1372320" cy="21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408" name="TextBox 8"/>
          <p:cNvSpPr/>
          <p:nvPr/>
        </p:nvSpPr>
        <p:spPr>
          <a:xfrm>
            <a:off x="-11160" y="685800"/>
            <a:ext cx="4476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Unlike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w ip eigrp interfa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man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w ip ospf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mand w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interfaces that are enabled for OSPF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onfigured as passive interfa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s a problem with on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10.1.192.9 0.0.0.0 area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ches IP address 10.1.192.9, which is not one of router CRO1’s IP addresses, but an IP address of router CSW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needs to be replaced with the stat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10.1.192.10 0.0.0.0 area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some other network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25C-D1FF-4F8D-89E5-512F7D95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14" name="Oval 6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traight Arrow Connector 7"/>
          <p:cNvCxnSpPr/>
          <p:nvPr/>
        </p:nvCxnSpPr>
        <p:spPr>
          <a:xfrm flipV="1">
            <a:off x="7008840" y="1065960"/>
            <a:ext cx="2160" cy="9169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416" name="Straight Arrow Connector 8"/>
          <p:cNvCxnSpPr/>
          <p:nvPr/>
        </p:nvCxnSpPr>
        <p:spPr>
          <a:xfrm>
            <a:off x="6934320" y="914400"/>
            <a:ext cx="1372320" cy="21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pic>
        <p:nvPicPr>
          <p:cNvPr id="417" name="Picture 9" descr=""/>
          <p:cNvPicPr/>
          <p:nvPr/>
        </p:nvPicPr>
        <p:blipFill>
          <a:blip r:embed="rId2"/>
          <a:stretch/>
        </p:blipFill>
        <p:spPr>
          <a:xfrm>
            <a:off x="0" y="1635120"/>
            <a:ext cx="4648320" cy="171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8" name="Rectangle 10"/>
          <p:cNvSpPr/>
          <p:nvPr/>
        </p:nvSpPr>
        <p:spPr>
          <a:xfrm>
            <a:off x="0" y="2819520"/>
            <a:ext cx="358128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hange, verify interface and neighbor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C131-03AF-4D55-A667-AF85A67E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0" y="2743200"/>
            <a:ext cx="8039160" cy="3222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25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6"/>
          <p:cNvCxnSpPr/>
          <p:nvPr/>
        </p:nvCxnSpPr>
        <p:spPr>
          <a:xfrm flipH="1">
            <a:off x="7162200" y="1676520"/>
            <a:ext cx="1370520" cy="4579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427" name="Straight Arrow Connector 7"/>
          <p:cNvCxnSpPr/>
          <p:nvPr/>
        </p:nvCxnSpPr>
        <p:spPr>
          <a:xfrm flipH="1" flipV="1">
            <a:off x="7086240" y="914040"/>
            <a:ext cx="1296000" cy="38160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428" name="Rectangle 8"/>
          <p:cNvSpPr/>
          <p:nvPr/>
        </p:nvSpPr>
        <p:spPr>
          <a:xfrm>
            <a:off x="76320" y="3781440"/>
            <a:ext cx="6705360" cy="30492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90360" y="5332320"/>
            <a:ext cx="7682040" cy="30492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0880" y="533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4F63-15FB-4EEF-B11B-BBBDC00F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8356680" cy="2840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36" name="Oval 5"/>
          <p:cNvSpPr/>
          <p:nvPr/>
        </p:nvSpPr>
        <p:spPr>
          <a:xfrm>
            <a:off x="5257800" y="1309680"/>
            <a:ext cx="838080" cy="6094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6"/>
          <p:cNvCxnSpPr/>
          <p:nvPr/>
        </p:nvCxnSpPr>
        <p:spPr>
          <a:xfrm flipH="1">
            <a:off x="7162200" y="1676520"/>
            <a:ext cx="137052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38" name="Straight Arrow Connector 8"/>
          <p:cNvCxnSpPr/>
          <p:nvPr/>
        </p:nvCxnSpPr>
        <p:spPr>
          <a:xfrm flipH="1" flipV="1">
            <a:off x="7162560" y="914040"/>
            <a:ext cx="129456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39" name="Rectangle 10"/>
          <p:cNvSpPr/>
          <p:nvPr/>
        </p:nvSpPr>
        <p:spPr>
          <a:xfrm>
            <a:off x="1752480" y="3733920"/>
            <a:ext cx="190512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1752480" y="4267080"/>
            <a:ext cx="190512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shooting the boo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0880" y="5181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no fault of the author the diagram in the book is in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is diagram incorrect given this outp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01 cannot receive LSA 3’s from CSW2 un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a neighbor adjacency with CSW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W2 forwards the LSA3 to CSW1 within area 0 (CR01’s 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C843-43A2-4CCE-B14A-CA19571C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5"/>
          <p:cNvSpPr/>
          <p:nvPr/>
        </p:nvSpPr>
        <p:spPr>
          <a:xfrm>
            <a:off x="2638440" y="2209680"/>
            <a:ext cx="76320" cy="838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7"/>
          <p:cNvSpPr/>
          <p:nvPr/>
        </p:nvSpPr>
        <p:spPr>
          <a:xfrm flipH="1">
            <a:off x="2542680" y="2211480"/>
            <a:ext cx="1800" cy="76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7954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5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449" name="Oval 6"/>
          <p:cNvSpPr/>
          <p:nvPr/>
        </p:nvSpPr>
        <p:spPr>
          <a:xfrm>
            <a:off x="990720" y="2376360"/>
            <a:ext cx="838080" cy="6098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7"/>
          <p:cNvCxnSpPr/>
          <p:nvPr/>
        </p:nvCxnSpPr>
        <p:spPr>
          <a:xfrm flipV="1">
            <a:off x="2741760" y="2133360"/>
            <a:ext cx="2160" cy="91656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cxnSp>
        <p:nvCxnSpPr>
          <p:cNvPr id="451" name="Straight Arrow Connector 8"/>
          <p:cNvCxnSpPr/>
          <p:nvPr/>
        </p:nvCxnSpPr>
        <p:spPr>
          <a:xfrm>
            <a:off x="2666880" y="1980720"/>
            <a:ext cx="1372320" cy="252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sp>
        <p:nvSpPr>
          <p:cNvPr id="45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05704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oubleshooting Route Redistrib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B318-B411-4F63-B46B-74FF2CA4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cisions does Host A make to successfully send a packet destined for Host B to the first hop Router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nformation does it ne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; ARP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ctions does it perfor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 Request; Host or GW Address; DNS Query; ARP Request; Layer 2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cisions does Router C make to successfully send the packet from Host A destined for Host B to the next hop Router 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L – ICMP Time Exceeded; ; CEF or layer 3; Longest prefix match; Layer 2 Next-hop address; layer 2 encapsulation; Frag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cisions does Router D make to successfully send the packet from Host A destined for Host B to the next hop Router E? (Same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cisions does Router E make to successfully send the packet from Host A destined for Host B to its final destination, Host B? (Same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any differences in the processes and information required in order to successfully transmit return packets from Host B back to Host 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4498-667A-452C-B4D8-FC7FFAB20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394840" cy="1536840"/>
          </a:xfrm>
          <a:prstGeom prst="rect">
            <a:avLst/>
          </a:prstGeom>
          <a:ln w="0">
            <a:noFill/>
          </a:ln>
        </p:spPr>
      </p:pic>
      <p:sp>
        <p:nvSpPr>
          <p:cNvPr id="10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no more than one interior (intra-AS) routing protocol is used within an organiz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for running multiple routing protoc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 mergers and different IGP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 has different divisions with the network under separate control for business or political r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 has connections between business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llow multivendor interoperability (OSPF on non-Cisco, EIGRP on Cisco, for in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per route redistribution can lea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optimal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feedback (routing loo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9335-1F7E-4E36-9A3F-01B6BE33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4573440" y="0"/>
            <a:ext cx="4570560" cy="3048120"/>
          </a:xfrm>
          <a:prstGeom prst="rect">
            <a:avLst/>
          </a:prstGeom>
          <a:ln w="0">
            <a:noFill/>
          </a:ln>
        </p:spPr>
      </p:pic>
      <p:sp>
        <p:nvSpPr>
          <p:cNvPr id="46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ways for routes to be injected in a routing protoco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ly conn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the routing protocol on an interf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outes are considered internal by the routing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s from a different source that are present in the rou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se routes were not originated by the routing protocol, they are considered exter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C587-F6BA-4E25-86F6-1E8EF9055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228600" y="2362320"/>
            <a:ext cx="8686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er(config-router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distribu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rotoco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rotocol option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04920" y="1143000"/>
            <a:ext cx="8534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er(config-router)#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network-addr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rotocol option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0880" y="3123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important conditions that must be met for a prefix learned from one protocol (using redistribution) to be successfully advertised through another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oute needs to be installed in the routing table doing the redistrib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per seed metric is assigned to the redistributed 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xcept for OSPF which defaults to 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70102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69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A853-C92A-46B6-B60F-07A49368C7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2068560" y="0"/>
            <a:ext cx="7075440" cy="2819520"/>
          </a:xfrm>
          <a:prstGeom prst="rect">
            <a:avLst/>
          </a:prstGeom>
          <a:ln w="0">
            <a:noFill/>
          </a:ln>
        </p:spPr>
      </p:pic>
      <p:sp>
        <p:nvSpPr>
          <p:cNvPr id="471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5560" y="5105520"/>
            <a:ext cx="7940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228600" y="1447920"/>
            <a:ext cx="89154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R2 summ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eigr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172.3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-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redistribute osp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default-metric 1000 33 255 1 1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redistribute connected metric 1000 33 255 1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osp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10.0.0.0 0.0.0.255 are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172.16.0.0 0.0.0.3 are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redistribute eigrp 1 sub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redistribute 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2351160"/>
          </a:xfrm>
          <a:prstGeom prst="rect">
            <a:avLst/>
          </a:prstGeom>
          <a:ln w="0">
            <a:noFill/>
          </a:ln>
        </p:spPr>
      </p:pic>
      <p:sp>
        <p:nvSpPr>
          <p:cNvPr id="477" name="Oval 7"/>
          <p:cNvSpPr/>
          <p:nvPr/>
        </p:nvSpPr>
        <p:spPr>
          <a:xfrm>
            <a:off x="5762520" y="1200240"/>
            <a:ext cx="457200" cy="3045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 flipH="1">
            <a:off x="4266360" y="781560"/>
            <a:ext cx="1752840" cy="590400"/>
          </a:xfrm>
          <a:prstGeom prst="rightArrow">
            <a:avLst>
              <a:gd name="adj1" fmla="val 50000"/>
              <a:gd name="adj2" fmla="val 742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 33 255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248520" y="781560"/>
            <a:ext cx="990360" cy="590400"/>
          </a:xfrm>
          <a:prstGeom prst="rightArrow">
            <a:avLst>
              <a:gd name="adj1" fmla="val 50000"/>
              <a:gd name="adj2" fmla="val 41936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W=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0"/>
          <p:cNvSpPr/>
          <p:nvPr/>
        </p:nvSpPr>
        <p:spPr>
          <a:xfrm>
            <a:off x="7467480" y="781560"/>
            <a:ext cx="1067040" cy="590400"/>
          </a:xfrm>
          <a:prstGeom prst="rightArrow">
            <a:avLst>
              <a:gd name="adj1" fmla="val 50000"/>
              <a:gd name="adj2" fmla="val 45183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W=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1"/>
          <p:cNvSpPr/>
          <p:nvPr/>
        </p:nvSpPr>
        <p:spPr>
          <a:xfrm>
            <a:off x="8966160" y="6692760"/>
            <a:ext cx="177840" cy="1652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2"/>
          <p:cNvSpPr/>
          <p:nvPr/>
        </p:nvSpPr>
        <p:spPr>
          <a:xfrm>
            <a:off x="8966160" y="6692760"/>
            <a:ext cx="177840" cy="165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3485520" y="2819520"/>
            <a:ext cx="3717360" cy="5691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OSPF learned networks are distrib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to the EIGRP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233680" y="3459240"/>
            <a:ext cx="3662640" cy="3258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Use the metrics for BW DLY RLY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3711240" y="4114800"/>
            <a:ext cx="4238640" cy="5691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istribute any directly connected networ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and use these metrics for BW DLY RLY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4635360" y="5791320"/>
            <a:ext cx="4000680" cy="569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EIGRP learned networks are distrib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nto the OSPF domain, default metric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3581280" y="6324480"/>
            <a:ext cx="5181840" cy="569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Distribute any directly connected networ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nd use default metric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4572000" y="990720"/>
            <a:ext cx="1295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5486400" y="533520"/>
            <a:ext cx="9907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4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4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oute Maps to Avoid Rout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oint boundary routers may cause suboptimal routing or routing lo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 on Router C advertises network 192.168.1.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s A and B redistribute the network into OSP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 then advertises the route to its neighbor OSPF routers as an OSPF external ro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ute passes through the OSPF AS and eventually makes its way back to the other edge rou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B (or A) then redistributes 192.168.1.0 from OSPF back into the original RIPv2 network; this is a routing feedback lo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upon the metrics this may result in suboptimal routing or even a routing loo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D00C-B85D-4B56-8322-B33AD20C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0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637920" cy="438120"/>
          </a:xfrm>
          <a:prstGeom prst="rect">
            <a:avLst/>
          </a:prstGeom>
          <a:ln w="0">
            <a:noFill/>
          </a:ln>
        </p:spPr>
      </p:pic>
      <p:sp>
        <p:nvSpPr>
          <p:cNvPr id="494" name="Oval 5"/>
          <p:cNvSpPr/>
          <p:nvPr/>
        </p:nvSpPr>
        <p:spPr>
          <a:xfrm>
            <a:off x="5562720" y="990720"/>
            <a:ext cx="289548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457200" y="990720"/>
            <a:ext cx="4876920" cy="1904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6633720" y="9907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2748240" y="990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538560" y="167652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2.168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"/>
          <p:cNvPicPr/>
          <p:nvPr/>
        </p:nvPicPr>
        <p:blipFill>
          <a:blip r:embed="rId4"/>
          <a:stretch/>
        </p:blipFill>
        <p:spPr>
          <a:xfrm>
            <a:off x="2819520" y="144792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"/>
          <p:cNvPicPr/>
          <p:nvPr/>
        </p:nvPicPr>
        <p:blipFill>
          <a:blip r:embed="rId5"/>
          <a:stretch/>
        </p:blipFill>
        <p:spPr>
          <a:xfrm>
            <a:off x="2819520" y="198108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"/>
          <p:cNvPicPr/>
          <p:nvPr/>
        </p:nvPicPr>
        <p:blipFill>
          <a:blip r:embed="rId6"/>
          <a:stretch/>
        </p:blipFill>
        <p:spPr>
          <a:xfrm>
            <a:off x="4038480" y="198108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0" descr=""/>
          <p:cNvPicPr/>
          <p:nvPr/>
        </p:nvPicPr>
        <p:blipFill>
          <a:blip r:embed="rId7"/>
          <a:stretch/>
        </p:blipFill>
        <p:spPr>
          <a:xfrm>
            <a:off x="4038480" y="1447920"/>
            <a:ext cx="638280" cy="438120"/>
          </a:xfrm>
          <a:prstGeom prst="rect">
            <a:avLst/>
          </a:prstGeom>
          <a:ln w="0">
            <a:noFill/>
          </a:ln>
        </p:spPr>
      </p:pic>
      <p:sp>
        <p:nvSpPr>
          <p:cNvPr id="505" name="Down Arrow 20"/>
          <p:cNvSpPr/>
          <p:nvPr/>
        </p:nvSpPr>
        <p:spPr>
          <a:xfrm flipV="1" rot="5400000">
            <a:off x="5562360" y="951480"/>
            <a:ext cx="228600" cy="1295280"/>
          </a:xfrm>
          <a:prstGeom prst="down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Down Arrow 21"/>
          <p:cNvSpPr/>
          <p:nvPr/>
        </p:nvSpPr>
        <p:spPr>
          <a:xfrm flipV="1" rot="5400000">
            <a:off x="5562360" y="1475280"/>
            <a:ext cx="228600" cy="1295280"/>
          </a:xfrm>
          <a:prstGeom prst="down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3"/>
          <p:cNvSpPr/>
          <p:nvPr/>
        </p:nvSpPr>
        <p:spPr>
          <a:xfrm>
            <a:off x="4676760" y="1666800"/>
            <a:ext cx="428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4"/>
          <p:cNvSpPr/>
          <p:nvPr/>
        </p:nvSpPr>
        <p:spPr>
          <a:xfrm flipV="1">
            <a:off x="4676760" y="2200320"/>
            <a:ext cx="42876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27"/>
          <p:cNvSpPr/>
          <p:nvPr/>
        </p:nvSpPr>
        <p:spPr>
          <a:xfrm flipV="1">
            <a:off x="3429000" y="1666440"/>
            <a:ext cx="60948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29"/>
          <p:cNvSpPr/>
          <p:nvPr/>
        </p:nvSpPr>
        <p:spPr>
          <a:xfrm flipV="1">
            <a:off x="3429000" y="2209320"/>
            <a:ext cx="60948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0"/>
          <p:cNvSpPr/>
          <p:nvPr/>
        </p:nvSpPr>
        <p:spPr>
          <a:xfrm flipV="1">
            <a:off x="2405160" y="1666440"/>
            <a:ext cx="41436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5"/>
          <p:cNvSpPr/>
          <p:nvPr/>
        </p:nvSpPr>
        <p:spPr>
          <a:xfrm>
            <a:off x="2438280" y="1981080"/>
            <a:ext cx="381240" cy="21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1"/>
          <p:cNvSpPr/>
          <p:nvPr/>
        </p:nvSpPr>
        <p:spPr>
          <a:xfrm>
            <a:off x="1983600" y="1828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2"/>
          <p:cNvSpPr/>
          <p:nvPr/>
        </p:nvSpPr>
        <p:spPr>
          <a:xfrm>
            <a:off x="419364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3"/>
          <p:cNvSpPr/>
          <p:nvPr/>
        </p:nvSpPr>
        <p:spPr>
          <a:xfrm>
            <a:off x="5270040" y="159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4"/>
          <p:cNvSpPr/>
          <p:nvPr/>
        </p:nvSpPr>
        <p:spPr>
          <a:xfrm>
            <a:off x="5260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5"/>
          <p:cNvSpPr/>
          <p:nvPr/>
        </p:nvSpPr>
        <p:spPr>
          <a:xfrm>
            <a:off x="6635160" y="167652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2 192.168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Straight Arrow Connector 47"/>
          <p:cNvCxnSpPr/>
          <p:nvPr/>
        </p:nvCxnSpPr>
        <p:spPr>
          <a:xfrm flipV="1">
            <a:off x="2466720" y="1666080"/>
            <a:ext cx="263916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9" name="Straight Arrow Connector 50"/>
          <p:cNvCxnSpPr/>
          <p:nvPr/>
        </p:nvCxnSpPr>
        <p:spPr>
          <a:xfrm>
            <a:off x="2466720" y="1895040"/>
            <a:ext cx="2639160" cy="3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0" name="Freeform 53"/>
          <p:cNvSpPr/>
          <p:nvPr/>
        </p:nvSpPr>
        <p:spPr>
          <a:xfrm>
            <a:off x="5715000" y="1658880"/>
            <a:ext cx="138240" cy="539640"/>
          </a:xfrm>
          <a:custGeom>
            <a:avLst/>
            <a:gdLst>
              <a:gd name="textAreaLeft" fmla="*/ 0 w 138240"/>
              <a:gd name="textAreaRight" fmla="*/ 138600 w 1382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37908" h="538826">
                <a:moveTo>
                  <a:pt x="19243" y="0"/>
                </a:moveTo>
                <a:cubicBezTo>
                  <a:pt x="78575" y="80182"/>
                  <a:pt x="137908" y="160365"/>
                  <a:pt x="134701" y="250169"/>
                </a:cubicBezTo>
                <a:cubicBezTo>
                  <a:pt x="131494" y="339973"/>
                  <a:pt x="0" y="538826"/>
                  <a:pt x="0" y="5388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54"/>
          <p:cNvSpPr/>
          <p:nvPr/>
        </p:nvSpPr>
        <p:spPr>
          <a:xfrm flipV="1">
            <a:off x="5791320" y="1600200"/>
            <a:ext cx="457200" cy="620640"/>
          </a:xfrm>
          <a:custGeom>
            <a:avLst/>
            <a:gdLst>
              <a:gd name="textAreaLeft" fmla="*/ 0 w 457200"/>
              <a:gd name="textAreaRight" fmla="*/ 457560 w 457200"/>
              <a:gd name="textAreaTop" fmla="*/ 360 h 620640"/>
              <a:gd name="textAreaBottom" fmla="*/ 621360 h 620640"/>
            </a:gdLst>
            <a:ahLst/>
            <a:rect l="textAreaLeft" t="textAreaTop" r="textAreaRight" b="textAreaBottom"/>
            <a:pathLst>
              <a:path w="137908" h="538826">
                <a:moveTo>
                  <a:pt x="19243" y="0"/>
                </a:moveTo>
                <a:cubicBezTo>
                  <a:pt x="78575" y="80182"/>
                  <a:pt x="137908" y="160365"/>
                  <a:pt x="134701" y="250169"/>
                </a:cubicBezTo>
                <a:cubicBezTo>
                  <a:pt x="131494" y="339973"/>
                  <a:pt x="0" y="538826"/>
                  <a:pt x="0" y="5388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Down Arrow 55"/>
          <p:cNvSpPr/>
          <p:nvPr/>
        </p:nvSpPr>
        <p:spPr>
          <a:xfrm rot="5400000">
            <a:off x="5181480" y="1143000"/>
            <a:ext cx="228600" cy="1295280"/>
          </a:xfrm>
          <a:prstGeom prst="down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Down Arrow 56"/>
          <p:cNvSpPr/>
          <p:nvPr/>
        </p:nvSpPr>
        <p:spPr>
          <a:xfrm rot="5400000">
            <a:off x="5181480" y="1676160"/>
            <a:ext cx="228600" cy="1295280"/>
          </a:xfrm>
          <a:prstGeom prst="down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2"/>
          <p:cNvSpPr/>
          <p:nvPr/>
        </p:nvSpPr>
        <p:spPr>
          <a:xfrm>
            <a:off x="4198320" y="1600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0520" y="53337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vent the routing feedback loop, a route map called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OSPF_into_RI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been applied to Routers A and B when redistributing OSPF routes into R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to filter a route or allow the route through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sed on the deny or permit in the route-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, and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deny or permit in the ACL or prefix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107B-C9DE-49CF-B9B4-8B686A20F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380880" y="1828800"/>
            <a:ext cx="84582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ospf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ospf 10 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OSPF_into_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OSPF_into_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ip addre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OSPF_into_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cess-lis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mit 192.168.1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17845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4222800" y="3581280"/>
            <a:ext cx="46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192.168.1.0/24 network will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be redistributed into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191120" y="4191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All other routes will be redistributed into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5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oute Maps With Tags (Reminder from Ric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0880" y="3885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ta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unitless 32-bit integer that most routing protocols can assign to any given ro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follows the route advertisement, even through the redistribution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router may use an IOS tool such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-ma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tch routes with a given route tag to make a deci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to help to solve the domain loop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DD74-C195-48A1-A138-60DCD9870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6"/>
          <p:cNvSpPr/>
          <p:nvPr/>
        </p:nvSpPr>
        <p:spPr>
          <a:xfrm>
            <a:off x="380880" y="1219320"/>
            <a:ext cx="84582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metric 1000 100 255 1 1500 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F61F-9F31-4950-9186-AB3B801F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5"/>
          <p:cNvSpPr/>
          <p:nvPr/>
        </p:nvSpPr>
        <p:spPr>
          <a:xfrm>
            <a:off x="4648320" y="457200"/>
            <a:ext cx="3429000" cy="2133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6"/>
          <p:cNvSpPr/>
          <p:nvPr/>
        </p:nvSpPr>
        <p:spPr>
          <a:xfrm>
            <a:off x="1066680" y="457200"/>
            <a:ext cx="3353040" cy="2133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870160" y="457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2367360" y="457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"/>
          <p:cNvPicPr/>
          <p:nvPr/>
        </p:nvPicPr>
        <p:blipFill>
          <a:blip r:embed="rId2"/>
          <a:stretch/>
        </p:blipFill>
        <p:spPr>
          <a:xfrm>
            <a:off x="2104920" y="114300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" descr=""/>
          <p:cNvPicPr/>
          <p:nvPr/>
        </p:nvPicPr>
        <p:blipFill>
          <a:blip r:embed="rId3"/>
          <a:stretch/>
        </p:blipFill>
        <p:spPr>
          <a:xfrm>
            <a:off x="6400800" y="1143000"/>
            <a:ext cx="638280" cy="4381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8"/>
          <p:cNvSpPr/>
          <p:nvPr/>
        </p:nvSpPr>
        <p:spPr>
          <a:xfrm>
            <a:off x="4346640" y="19810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" descr=""/>
          <p:cNvPicPr/>
          <p:nvPr/>
        </p:nvPicPr>
        <p:blipFill>
          <a:blip r:embed="rId4"/>
          <a:stretch/>
        </p:blipFill>
        <p:spPr>
          <a:xfrm>
            <a:off x="4191120" y="914400"/>
            <a:ext cx="637920" cy="4381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23"/>
          <p:cNvSpPr/>
          <p:nvPr/>
        </p:nvSpPr>
        <p:spPr>
          <a:xfrm>
            <a:off x="4356000" y="10573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4"/>
          <p:cNvSpPr/>
          <p:nvPr/>
        </p:nvSpPr>
        <p:spPr>
          <a:xfrm>
            <a:off x="1604880" y="1752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2.16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5"/>
          <p:cNvSpPr/>
          <p:nvPr/>
        </p:nvSpPr>
        <p:spPr>
          <a:xfrm>
            <a:off x="6022800" y="18288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own Arrow 26"/>
          <p:cNvSpPr/>
          <p:nvPr/>
        </p:nvSpPr>
        <p:spPr>
          <a:xfrm flipV="1" rot="5400000">
            <a:off x="4419720" y="1447920"/>
            <a:ext cx="304560" cy="1676160"/>
          </a:xfrm>
          <a:prstGeom prst="downArrow">
            <a:avLst>
              <a:gd name="adj1" fmla="val 50000"/>
              <a:gd name="adj2" fmla="val 50041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Down Arrow 27"/>
          <p:cNvSpPr/>
          <p:nvPr/>
        </p:nvSpPr>
        <p:spPr>
          <a:xfrm rot="5400000">
            <a:off x="4228560" y="3780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8"/>
          <p:cNvSpPr/>
          <p:nvPr/>
        </p:nvSpPr>
        <p:spPr>
          <a:xfrm>
            <a:off x="4112280" y="6858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9"/>
          <p:cNvSpPr/>
          <p:nvPr/>
        </p:nvSpPr>
        <p:spPr>
          <a:xfrm>
            <a:off x="4188600" y="21337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own Arrow 30"/>
          <p:cNvSpPr/>
          <p:nvPr/>
        </p:nvSpPr>
        <p:spPr>
          <a:xfrm flipV="1" rot="5400000">
            <a:off x="4343400" y="533160"/>
            <a:ext cx="304560" cy="1676520"/>
          </a:xfrm>
          <a:prstGeom prst="downArrow">
            <a:avLst>
              <a:gd name="adj1" fmla="val 50000"/>
              <a:gd name="adj2" fmla="val 50052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1"/>
          <p:cNvSpPr/>
          <p:nvPr/>
        </p:nvSpPr>
        <p:spPr>
          <a:xfrm>
            <a:off x="4112280" y="12193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Down Arrow 32"/>
          <p:cNvSpPr/>
          <p:nvPr/>
        </p:nvSpPr>
        <p:spPr>
          <a:xfrm rot="5400000">
            <a:off x="4228560" y="1028520"/>
            <a:ext cx="304560" cy="1600200"/>
          </a:xfrm>
          <a:prstGeom prst="downArrow">
            <a:avLst>
              <a:gd name="adj1" fmla="val 50000"/>
              <a:gd name="adj2" fmla="val 50036"/>
            </a:avLst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3"/>
          <p:cNvSpPr/>
          <p:nvPr/>
        </p:nvSpPr>
        <p:spPr>
          <a:xfrm>
            <a:off x="4112280" y="16765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4"/>
          <p:cNvSpPr/>
          <p:nvPr/>
        </p:nvSpPr>
        <p:spPr>
          <a:xfrm>
            <a:off x="380880" y="2666880"/>
            <a:ext cx="84582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metric 1000 100 255 1 1500 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eigrp 100 metric 3 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0880" y="5638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s redistributed into EIGRP are tagged with the value 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s redistributed into RIP are tagged with the value 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BEFORE we tag and allow a route into the domain we want to deny any routes that the other router already tagged and allowed in from the other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7F96-4A77-4268-91D4-3642D48D5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380880" y="2514600"/>
            <a:ext cx="84582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metric 1000 100 255 1 1500 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eigrp 100 metric 3 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8"/>
          <p:cNvSpPr/>
          <p:nvPr/>
        </p:nvSpPr>
        <p:spPr>
          <a:xfrm>
            <a:off x="4648320" y="152280"/>
            <a:ext cx="3429000" cy="2133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9"/>
          <p:cNvSpPr/>
          <p:nvPr/>
        </p:nvSpPr>
        <p:spPr>
          <a:xfrm>
            <a:off x="1066680" y="152280"/>
            <a:ext cx="3353040" cy="2133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0"/>
          <p:cNvSpPr/>
          <p:nvPr/>
        </p:nvSpPr>
        <p:spPr>
          <a:xfrm>
            <a:off x="5870160" y="1522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31"/>
          <p:cNvSpPr/>
          <p:nvPr/>
        </p:nvSpPr>
        <p:spPr>
          <a:xfrm>
            <a:off x="2367360" y="152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2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3" descr=""/>
          <p:cNvPicPr/>
          <p:nvPr/>
        </p:nvPicPr>
        <p:blipFill>
          <a:blip r:embed="rId2"/>
          <a:stretch/>
        </p:blipFill>
        <p:spPr>
          <a:xfrm>
            <a:off x="2104920" y="83808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3"/>
          <a:stretch/>
        </p:blipFill>
        <p:spPr>
          <a:xfrm>
            <a:off x="6400800" y="838080"/>
            <a:ext cx="638280" cy="4381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6"/>
          <p:cNvSpPr/>
          <p:nvPr/>
        </p:nvSpPr>
        <p:spPr>
          <a:xfrm>
            <a:off x="4346640" y="16765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0" descr=""/>
          <p:cNvPicPr/>
          <p:nvPr/>
        </p:nvPicPr>
        <p:blipFill>
          <a:blip r:embed="rId4"/>
          <a:stretch/>
        </p:blipFill>
        <p:spPr>
          <a:xfrm>
            <a:off x="4191120" y="609480"/>
            <a:ext cx="637920" cy="4381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8"/>
          <p:cNvSpPr/>
          <p:nvPr/>
        </p:nvSpPr>
        <p:spPr>
          <a:xfrm>
            <a:off x="4356000" y="7524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39"/>
          <p:cNvSpPr/>
          <p:nvPr/>
        </p:nvSpPr>
        <p:spPr>
          <a:xfrm>
            <a:off x="1604880" y="144792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2.16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40"/>
          <p:cNvSpPr/>
          <p:nvPr/>
        </p:nvSpPr>
        <p:spPr>
          <a:xfrm>
            <a:off x="6022800" y="152388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own Arrow 41"/>
          <p:cNvSpPr/>
          <p:nvPr/>
        </p:nvSpPr>
        <p:spPr>
          <a:xfrm flipV="1" rot="5400000">
            <a:off x="4419360" y="1141920"/>
            <a:ext cx="304920" cy="1676160"/>
          </a:xfrm>
          <a:prstGeom prst="downArrow">
            <a:avLst>
              <a:gd name="adj1" fmla="val 50000"/>
              <a:gd name="adj2" fmla="val 49982"/>
            </a:avLst>
          </a:prstGeom>
          <a:noFill/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Down Arrow 42"/>
          <p:cNvSpPr/>
          <p:nvPr/>
        </p:nvSpPr>
        <p:spPr>
          <a:xfrm rot="5400000">
            <a:off x="4228560" y="-26676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43"/>
          <p:cNvSpPr/>
          <p:nvPr/>
        </p:nvSpPr>
        <p:spPr>
          <a:xfrm>
            <a:off x="4112280" y="380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44"/>
          <p:cNvSpPr/>
          <p:nvPr/>
        </p:nvSpPr>
        <p:spPr>
          <a:xfrm>
            <a:off x="4188600" y="18288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own Arrow 45"/>
          <p:cNvSpPr/>
          <p:nvPr/>
        </p:nvSpPr>
        <p:spPr>
          <a:xfrm flipV="1" rot="5400000">
            <a:off x="4343400" y="227520"/>
            <a:ext cx="304920" cy="1676520"/>
          </a:xfrm>
          <a:prstGeom prst="downArrow">
            <a:avLst>
              <a:gd name="adj1" fmla="val 50000"/>
              <a:gd name="adj2" fmla="val 49993"/>
            </a:avLst>
          </a:prstGeom>
          <a:noFill/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6"/>
          <p:cNvSpPr/>
          <p:nvPr/>
        </p:nvSpPr>
        <p:spPr>
          <a:xfrm>
            <a:off x="4112280" y="9144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Down Arrow 47"/>
          <p:cNvSpPr/>
          <p:nvPr/>
        </p:nvSpPr>
        <p:spPr>
          <a:xfrm rot="5400000">
            <a:off x="4228560" y="72360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48"/>
          <p:cNvSpPr/>
          <p:nvPr/>
        </p:nvSpPr>
        <p:spPr>
          <a:xfrm>
            <a:off x="4112280" y="13716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9"/>
          <p:cNvSpPr/>
          <p:nvPr/>
        </p:nvSpPr>
        <p:spPr>
          <a:xfrm>
            <a:off x="3643920" y="4114800"/>
            <a:ext cx="518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pdates with the tag 40 are not allowed to go back into EIGR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1"/>
          <p:cNvSpPr/>
          <p:nvPr/>
        </p:nvSpPr>
        <p:spPr>
          <a:xfrm>
            <a:off x="495612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52"/>
          <p:cNvSpPr/>
          <p:nvPr/>
        </p:nvSpPr>
        <p:spPr>
          <a:xfrm>
            <a:off x="495612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3"/>
          <p:cNvSpPr/>
          <p:nvPr/>
        </p:nvSpPr>
        <p:spPr>
          <a:xfrm>
            <a:off x="457200" y="5486400"/>
            <a:ext cx="3352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ight Brace 56"/>
          <p:cNvSpPr/>
          <p:nvPr/>
        </p:nvSpPr>
        <p:spPr>
          <a:xfrm>
            <a:off x="3429000" y="411480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09480"/>
              <a:gd name="textAreaBottom" fmla="*/ 6037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7"/>
          <p:cNvSpPr/>
          <p:nvPr/>
        </p:nvSpPr>
        <p:spPr>
          <a:xfrm>
            <a:off x="3739320" y="5105520"/>
            <a:ext cx="44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l other updates get a tag 20 are allowed into EIGR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38AB-64F8-4A5E-A8E9-024CAD19D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80880" y="2514600"/>
            <a:ext cx="84582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rip metric 1000 100 255 1 1500 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istribute eigrp 100 metric 3 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o-eigr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ch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-map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o-rip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mi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ta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28"/>
          <p:cNvSpPr/>
          <p:nvPr/>
        </p:nvSpPr>
        <p:spPr>
          <a:xfrm>
            <a:off x="4648320" y="152280"/>
            <a:ext cx="3429000" cy="2133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29"/>
          <p:cNvSpPr/>
          <p:nvPr/>
        </p:nvSpPr>
        <p:spPr>
          <a:xfrm>
            <a:off x="1066680" y="152280"/>
            <a:ext cx="3353040" cy="2133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0"/>
          <p:cNvSpPr/>
          <p:nvPr/>
        </p:nvSpPr>
        <p:spPr>
          <a:xfrm>
            <a:off x="5870160" y="1522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1"/>
          <p:cNvSpPr/>
          <p:nvPr/>
        </p:nvSpPr>
        <p:spPr>
          <a:xfrm>
            <a:off x="2367360" y="152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32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637920" cy="438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3" descr=""/>
          <p:cNvPicPr/>
          <p:nvPr/>
        </p:nvPicPr>
        <p:blipFill>
          <a:blip r:embed="rId2"/>
          <a:stretch/>
        </p:blipFill>
        <p:spPr>
          <a:xfrm>
            <a:off x="2104920" y="838080"/>
            <a:ext cx="638280" cy="438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"/>
          <p:cNvPicPr/>
          <p:nvPr/>
        </p:nvPicPr>
        <p:blipFill>
          <a:blip r:embed="rId3"/>
          <a:stretch/>
        </p:blipFill>
        <p:spPr>
          <a:xfrm>
            <a:off x="6400800" y="838080"/>
            <a:ext cx="638280" cy="4381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36"/>
          <p:cNvSpPr/>
          <p:nvPr/>
        </p:nvSpPr>
        <p:spPr>
          <a:xfrm>
            <a:off x="4346640" y="16765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0" descr=""/>
          <p:cNvPicPr/>
          <p:nvPr/>
        </p:nvPicPr>
        <p:blipFill>
          <a:blip r:embed="rId4"/>
          <a:stretch/>
        </p:blipFill>
        <p:spPr>
          <a:xfrm>
            <a:off x="4191120" y="609480"/>
            <a:ext cx="637920" cy="438120"/>
          </a:xfrm>
          <a:prstGeom prst="rect">
            <a:avLst/>
          </a:prstGeom>
          <a:ln w="0">
            <a:noFill/>
          </a:ln>
        </p:spPr>
      </p:pic>
      <p:sp>
        <p:nvSpPr>
          <p:cNvPr id="607" name="TextBox 38"/>
          <p:cNvSpPr/>
          <p:nvPr/>
        </p:nvSpPr>
        <p:spPr>
          <a:xfrm>
            <a:off x="4356000" y="7524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9"/>
          <p:cNvSpPr/>
          <p:nvPr/>
        </p:nvSpPr>
        <p:spPr>
          <a:xfrm>
            <a:off x="1604880" y="1447920"/>
            <a:ext cx="12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2.16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.0.0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0"/>
          <p:cNvSpPr/>
          <p:nvPr/>
        </p:nvSpPr>
        <p:spPr>
          <a:xfrm>
            <a:off x="6022800" y="152388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.0.0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own Arrow 41"/>
          <p:cNvSpPr/>
          <p:nvPr/>
        </p:nvSpPr>
        <p:spPr>
          <a:xfrm flipV="1" rot="5400000">
            <a:off x="4419360" y="1141920"/>
            <a:ext cx="304920" cy="1676160"/>
          </a:xfrm>
          <a:prstGeom prst="downArrow">
            <a:avLst>
              <a:gd name="adj1" fmla="val 50000"/>
              <a:gd name="adj2" fmla="val 49982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own Arrow 42"/>
          <p:cNvSpPr/>
          <p:nvPr/>
        </p:nvSpPr>
        <p:spPr>
          <a:xfrm rot="5400000">
            <a:off x="4228560" y="-26676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43"/>
          <p:cNvSpPr/>
          <p:nvPr/>
        </p:nvSpPr>
        <p:spPr>
          <a:xfrm>
            <a:off x="4112280" y="380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4"/>
          <p:cNvSpPr/>
          <p:nvPr/>
        </p:nvSpPr>
        <p:spPr>
          <a:xfrm>
            <a:off x="4188600" y="18288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own Arrow 45"/>
          <p:cNvSpPr/>
          <p:nvPr/>
        </p:nvSpPr>
        <p:spPr>
          <a:xfrm flipV="1" rot="5400000">
            <a:off x="4343400" y="227520"/>
            <a:ext cx="304920" cy="1676520"/>
          </a:xfrm>
          <a:prstGeom prst="downArrow">
            <a:avLst>
              <a:gd name="adj1" fmla="val 50000"/>
              <a:gd name="adj2" fmla="val 49993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46"/>
          <p:cNvSpPr/>
          <p:nvPr/>
        </p:nvSpPr>
        <p:spPr>
          <a:xfrm>
            <a:off x="4112280" y="9144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own Arrow 47"/>
          <p:cNvSpPr/>
          <p:nvPr/>
        </p:nvSpPr>
        <p:spPr>
          <a:xfrm rot="5400000">
            <a:off x="4228560" y="723600"/>
            <a:ext cx="304920" cy="1600200"/>
          </a:xfrm>
          <a:prstGeom prst="downArrow">
            <a:avLst>
              <a:gd name="adj1" fmla="val 50000"/>
              <a:gd name="adj2" fmla="val 49977"/>
            </a:avLst>
          </a:prstGeom>
          <a:noFill/>
          <a:ln w="2556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48"/>
          <p:cNvSpPr/>
          <p:nvPr/>
        </p:nvSpPr>
        <p:spPr>
          <a:xfrm>
            <a:off x="4112280" y="13716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50"/>
          <p:cNvSpPr/>
          <p:nvPr/>
        </p:nvSpPr>
        <p:spPr>
          <a:xfrm>
            <a:off x="3764160" y="5715000"/>
            <a:ext cx="48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pdates with the tag 20 are not allowed to go back into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1"/>
          <p:cNvSpPr/>
          <p:nvPr/>
        </p:nvSpPr>
        <p:spPr>
          <a:xfrm>
            <a:off x="3660840" y="228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2"/>
          <p:cNvSpPr/>
          <p:nvPr/>
        </p:nvSpPr>
        <p:spPr>
          <a:xfrm>
            <a:off x="3660840" y="1244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ight Brace 53"/>
          <p:cNvSpPr/>
          <p:nvPr/>
        </p:nvSpPr>
        <p:spPr>
          <a:xfrm>
            <a:off x="3429000" y="5638680"/>
            <a:ext cx="228600" cy="6098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609840"/>
              <a:gd name="textAreaBottom" fmla="*/ 604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4"/>
          <p:cNvSpPr/>
          <p:nvPr/>
        </p:nvSpPr>
        <p:spPr>
          <a:xfrm>
            <a:off x="3763800" y="6473880"/>
            <a:ext cx="41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l other updates get a tag 40 are allowed into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E237-29B6-4C88-8117-8A7FF204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 Zinin’s Routing Table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1: Every router makes its decision alone, based on the information it has in its own routing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 makes forwarding decisions based solely on the information in the routing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 does not consult the routing tables in any other ro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each router aware of remote networks is the responsibility of the network adminis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4797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228600" y="1143000"/>
            <a:ext cx="2971800" cy="1600200"/>
          </a:xfrm>
          <a:prstGeom prst="wedgeRectCallout">
            <a:avLst>
              <a:gd name="adj1" fmla="val 47597"/>
              <a:gd name="adj2" fmla="val 73611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about my remote networks but it is not my responsibility if R2 and R3 know about their remote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3733560" cy="1087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0880" y="533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route tags do not appear on the routes within the R1 and R2 routers, because these routers learn about all routes from both RIP and EIGRP direc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4A2-E590-435C-ADEE-3367C11A8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616800" cy="32259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2"/>
          <a:stretch/>
        </p:blipFill>
        <p:spPr>
          <a:xfrm>
            <a:off x="1295280" y="0"/>
            <a:ext cx="6134400" cy="19573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9"/>
          <p:cNvSpPr/>
          <p:nvPr/>
        </p:nvSpPr>
        <p:spPr>
          <a:xfrm>
            <a:off x="6023520" y="728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7"/>
          <p:cNvSpPr/>
          <p:nvPr/>
        </p:nvSpPr>
        <p:spPr>
          <a:xfrm>
            <a:off x="1825920" y="14479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.0.0.0.0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nodeType="clickEffect" fill="hold">
                      <p:stCondLst>
                        <p:cond delay="0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0880" y="4038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ip 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 from router R3, an internal router in the EIGRP net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router R3 does see network 11.0.0.0 with a tag of 20; this tag is carried with the route as R3 advertises it to other routers in the EIGRP network, including R1 and R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routers R1 and R2 see the tag of 20, they do not redistribute the 11.0.0.0 route back into RI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5001-E3A3-4667-B933-629A9FADC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9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64680" cy="18082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1" descr=""/>
          <p:cNvPicPr/>
          <p:nvPr/>
        </p:nvPicPr>
        <p:blipFill>
          <a:blip r:embed="rId2"/>
          <a:stretch/>
        </p:blipFill>
        <p:spPr>
          <a:xfrm>
            <a:off x="1295280" y="0"/>
            <a:ext cx="6134400" cy="1957320"/>
          </a:xfrm>
          <a:prstGeom prst="rect">
            <a:avLst/>
          </a:prstGeom>
          <a:ln w="0">
            <a:noFill/>
          </a:ln>
        </p:spPr>
      </p:pic>
      <p:sp>
        <p:nvSpPr>
          <p:cNvPr id="639" name="TextBox 12"/>
          <p:cNvSpPr/>
          <p:nvPr/>
        </p:nvSpPr>
        <p:spPr>
          <a:xfrm>
            <a:off x="6023520" y="728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"/>
          <p:cNvSpPr/>
          <p:nvPr/>
        </p:nvSpPr>
        <p:spPr>
          <a:xfrm>
            <a:off x="1825920" y="14479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.0.0.0.0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040" y="18288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oubleshooting BG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505C-F6CD-4DCF-BA11-083C6A8C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 is classified as an EGP or an inter-autonomous-system (inter-AS) routing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 does not use metrics such as bandwidth, delay or path cost to find the best paths within a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us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routing information with external networks (other autonomous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guaranteed loop-free path using policies (attrib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3A31-CC9C-4183-A49C-F0E9B57D1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267440" cy="2573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"/>
          <p:cNvPicPr/>
          <p:nvPr/>
        </p:nvPicPr>
        <p:blipFill>
          <a:blip r:embed="rId2"/>
          <a:stretch/>
        </p:blipFill>
        <p:spPr>
          <a:xfrm>
            <a:off x="4495680" y="914400"/>
            <a:ext cx="4419720" cy="2495520"/>
          </a:xfrm>
          <a:prstGeom prst="rect">
            <a:avLst/>
          </a:prstGeom>
          <a:ln w="0">
            <a:noFill/>
          </a:ln>
        </p:spPr>
      </p:pic>
      <p:sp>
        <p:nvSpPr>
          <p:cNvPr id="648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4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s of B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ion of routing information from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s need not be directly conn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s are manually configured, not automatically discovered through a hello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tocol data 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 has two main data struc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keep track of the state of configured neighb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BGP uses to store all the prefixes, including those received from the neighbo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365E-D807-40D9-8FE7-32EE3E1D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0" y="0"/>
            <a:ext cx="8763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P1#show ip b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twork          Next Hop            Metric LocPrf Weight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128.107.0.0/19   10.1.1.5                 0             0 100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&gt;                  10.1.1.1                 0             0 100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  200.0.0.0        10.1.1.5                               0 100 2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*&gt;                  10.1.1.1                               0 100 2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1600200"/>
            <a:ext cx="8763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 show ip bgp 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GP neighbor is 129.213.1.1, remote AS 200, external lin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GP version 4, remote router ID 175.220.12.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GP state = Established, table version = 3, up for 0:10:59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ast read 0:00:29, hold time is 180, keepalive interval is 60 secon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imum time between advertisement runs is 30 secon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ceived 2828 messages, 0 notifications, 0 in queu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nt 2826 messages, 0 notifications, 0 in queu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ons established 11; dropp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3" descr="fi970815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728880"/>
          </a:xfrm>
          <a:prstGeom prst="rect">
            <a:avLst/>
          </a:prstGeom>
          <a:ln w="0">
            <a:noFill/>
          </a:ln>
        </p:spPr>
      </p:pic>
      <p:sp>
        <p:nvSpPr>
          <p:cNvPr id="655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9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0880" y="3504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injection or re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P do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inject any routes into the BGP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ed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tribute into IGP (ex: OSPF or EIG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iBGP: subject to BGP synchronizatio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GP synchronization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tates that a BGP rou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hould not advertise to external neighbo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ISP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estin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00.0.0.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learned from inside BGP neighbo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E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nless those destinations are also known via a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IG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OSP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e my BGP presentations for more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4C43-C26C-430B-812C-EFCB09F60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186000"/>
          </a:xfrm>
          <a:prstGeom prst="rect">
            <a:avLst/>
          </a:prstGeom>
          <a:ln w="0">
            <a:noFill/>
          </a:ln>
        </p:spPr>
      </p:pic>
      <p:sp>
        <p:nvSpPr>
          <p:cNvPr id="66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5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088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selection and 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GP has a complex decision algorithm to compare paths received from different neighbors and select the best one for each pref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C9EA-179A-4C1D-8881-1EF8EE8D0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1629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of routing information to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s that are selected as best in the BGP table can be advertised to other BGP ro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rules, such as the one commonly referred to as IBGP split-horizon r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GP Split Horizon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Routes learned via IBGP peers a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pagated to other IBGP pe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E442-A878-4161-BCE8-D7DABA6B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3181320"/>
          </a:xfrm>
          <a:prstGeom prst="rect">
            <a:avLst/>
          </a:prstGeom>
          <a:ln w="0">
            <a:noFill/>
          </a:ln>
        </p:spPr>
      </p:pic>
      <p:sp>
        <p:nvSpPr>
          <p:cNvPr id="668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5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nodeType="clickEffect" fill="hold">
                      <p:stCondLst>
                        <p:cond delay="indefinite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0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5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42E8-AE30-4D5C-B112-9781CC8D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 F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452124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440856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GP FSM includes six st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pe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pen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609480" y="563868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Curved arrows should show pointing back to the same s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bleshooting Example: Routing Problem in a BGP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380880" y="3809520"/>
            <a:ext cx="8229600" cy="304812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D526-CADD-4DD6-A691-CF509835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2"/>
          <a:stretch/>
        </p:blipFill>
        <p:spPr>
          <a:xfrm>
            <a:off x="355680" y="1181160"/>
            <a:ext cx="8432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418D-9A17-4347-8C12-B9AF8AE6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 Zinin’s Routing Table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5257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2: The fact that one router has certain information in its routing table does not mean that other routers have the sam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479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0" y="1143000"/>
            <a:ext cx="3200400" cy="1752480"/>
          </a:xfrm>
          <a:prstGeom prst="wedgeRectCallout">
            <a:avLst>
              <a:gd name="adj1" fmla="val 47768"/>
              <a:gd name="adj2" fmla="val 62861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because I know how to get to R3’s LAN, 192.168.2.0/24 and I send that packet to R2, doesn’t mean R2 knows how to get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3733560" cy="1087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19" name="Rectangle 8"/>
          <p:cNvSpPr/>
          <p:nvPr/>
        </p:nvSpPr>
        <p:spPr>
          <a:xfrm>
            <a:off x="3200400" y="4419720"/>
            <a:ext cx="2666880" cy="15228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5867280" y="2819520"/>
            <a:ext cx="1295640" cy="68580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V="1">
            <a:off x="3352680" y="2361960"/>
            <a:ext cx="762120" cy="6858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72428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0880" y="533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is executed on router IRO1 to determine the path that is used to reach IP address 192.168.224.1, which belongs to an IP address block that is owned by 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path goes through router IR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03E3-4791-4EA5-B3A5-57F044E5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3" descr=""/>
          <p:cNvPicPr/>
          <p:nvPr/>
        </p:nvPicPr>
        <p:blipFill>
          <a:blip r:embed="rId1"/>
          <a:stretch/>
        </p:blipFill>
        <p:spPr>
          <a:xfrm>
            <a:off x="0" y="2971800"/>
            <a:ext cx="4800600" cy="2043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"/>
          <p:cNvPicPr/>
          <p:nvPr/>
        </p:nvPicPr>
        <p:blipFill>
          <a:blip r:embed="rId2"/>
          <a:stretch/>
        </p:blipFill>
        <p:spPr>
          <a:xfrm>
            <a:off x="2998800" y="0"/>
            <a:ext cx="6145200" cy="3276720"/>
          </a:xfrm>
          <a:prstGeom prst="rect">
            <a:avLst/>
          </a:prstGeom>
          <a:ln w="0">
            <a:noFill/>
          </a:ln>
        </p:spPr>
      </p:pic>
      <p:cxnSp>
        <p:nvCxnSpPr>
          <p:cNvPr id="683" name="Straight Arrow Connector 5"/>
          <p:cNvCxnSpPr/>
          <p:nvPr/>
        </p:nvCxnSpPr>
        <p:spPr>
          <a:xfrm>
            <a:off x="5257800" y="2895120"/>
            <a:ext cx="1372320" cy="2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84" name="Oval 6"/>
          <p:cNvSpPr/>
          <p:nvPr/>
        </p:nvSpPr>
        <p:spPr>
          <a:xfrm>
            <a:off x="3429000" y="990720"/>
            <a:ext cx="1295280" cy="5331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Straight Arrow Connector 7"/>
          <p:cNvCxnSpPr/>
          <p:nvPr/>
        </p:nvCxnSpPr>
        <p:spPr>
          <a:xfrm flipV="1">
            <a:off x="6856560" y="1449000"/>
            <a:ext cx="3600" cy="838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86" name="Rectangle 8"/>
          <p:cNvSpPr/>
          <p:nvPr/>
        </p:nvSpPr>
        <p:spPr>
          <a:xfrm>
            <a:off x="152280" y="3962520"/>
            <a:ext cx="4648320" cy="9903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0880" y="3962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ISP1’s access router verifies that the link between router IRO1 and ISP1 access router is operational at Layers 3 and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 out why the direct path to Internet service provider 1 is not being used to route traffic to IP address 192.168.224.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likely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1 has not learned about the prefix directly from ISP1 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1 router has learned about the route, but it “incorrectly” prefers the path through router IRO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routing ta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644-045B-4C32-BDF1-73D659FDA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0" y="2286000"/>
            <a:ext cx="7053120" cy="1746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1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3046320"/>
          </a:xfrm>
          <a:prstGeom prst="rect">
            <a:avLst/>
          </a:prstGeom>
          <a:ln w="0">
            <a:noFill/>
          </a:ln>
        </p:spPr>
      </p:pic>
      <p:sp>
        <p:nvSpPr>
          <p:cNvPr id="693" name="Oval 12"/>
          <p:cNvSpPr/>
          <p:nvPr/>
        </p:nvSpPr>
        <p:spPr>
          <a:xfrm>
            <a:off x="3733920" y="914400"/>
            <a:ext cx="12952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Straight Arrow Connector 14"/>
          <p:cNvCxnSpPr/>
          <p:nvPr/>
        </p:nvCxnSpPr>
        <p:spPr>
          <a:xfrm flipV="1">
            <a:off x="5407560" y="1372320"/>
            <a:ext cx="3960" cy="762840"/>
          </a:xfrm>
          <a:prstGeom prst="straightConnector1">
            <a:avLst/>
          </a:prstGeom>
          <a:ln w="2556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695" name="Oval 7"/>
          <p:cNvSpPr/>
          <p:nvPr/>
        </p:nvSpPr>
        <p:spPr>
          <a:xfrm>
            <a:off x="0" y="3352680"/>
            <a:ext cx="914400" cy="3812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0" dur="5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0" dur="50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shows that the route to network 192.168.224.0/19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st match for destination IP address 192.168.224.1 and that this route is an internal BGP path and its source is the router with IP address 10.1.220.4, which is IRO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IP routing tab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sh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ath through IRO2 is used becau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path is availabl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h through IRO2 was selected as the best p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look at the BGP ta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FDDF-B4B8-40F0-B6E8-8E0C206AD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464832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1" name="Picture 4" descr=""/>
          <p:cNvPicPr/>
          <p:nvPr/>
        </p:nvPicPr>
        <p:blipFill>
          <a:blip r:embed="rId2"/>
          <a:stretch/>
        </p:blipFill>
        <p:spPr>
          <a:xfrm>
            <a:off x="4135320" y="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70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0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3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6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0880" y="4038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shows tha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the path through router IRO2 is present in the BGP table and (no other BGP learned paths are avail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h through IRO2 is the best (only) p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1 is not present in the BGP table can have several different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1 might not advertise the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P1 advertises it, but router IRO1 rejects or ignores the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1 and ISP1 have not successfully established a peering relationship and no routes have been exchanged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7BDE-F349-4064-A9DC-DCB515EBB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0" y="2133720"/>
            <a:ext cx="7037280" cy="19936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"/>
          <p:cNvPicPr/>
          <p:nvPr/>
        </p:nvPicPr>
        <p:blipFill>
          <a:blip r:embed="rId2"/>
          <a:stretch/>
        </p:blipFill>
        <p:spPr>
          <a:xfrm>
            <a:off x="4135320" y="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5"/>
          <p:cNvSpPr/>
          <p:nvPr/>
        </p:nvSpPr>
        <p:spPr>
          <a:xfrm>
            <a:off x="152280" y="2819520"/>
            <a:ext cx="510552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457200" y="3505320"/>
            <a:ext cx="510552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1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2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8088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reve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1 peering to IP address 10.1.220.4 (IRO2) has been established and 6 prefixes have been received from the neighb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peering to IP address 192.168.224.244 is in the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this router is trying to establish a TCP session to neighbor 192.168.224.244, but has not succeeded y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, the BGP process is trying to initiate a TCP connection with the neigh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3989-F77D-476A-B474-318F2DAD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1"/>
          <a:stretch/>
        </p:blipFill>
        <p:spPr>
          <a:xfrm>
            <a:off x="0" y="838080"/>
            <a:ext cx="6426360" cy="34876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"/>
          <p:cNvPicPr/>
          <p:nvPr/>
        </p:nvPicPr>
        <p:blipFill>
          <a:blip r:embed="rId2"/>
          <a:stretch/>
        </p:blipFill>
        <p:spPr>
          <a:xfrm>
            <a:off x="4135320" y="0"/>
            <a:ext cx="5008680" cy="266688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5"/>
          <p:cNvSpPr/>
          <p:nvPr/>
        </p:nvSpPr>
        <p:spPr>
          <a:xfrm>
            <a:off x="96840" y="3809880"/>
            <a:ext cx="5999040" cy="2476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6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2681280" cy="186696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7"/>
          <p:cNvSpPr/>
          <p:nvPr/>
        </p:nvSpPr>
        <p:spPr>
          <a:xfrm>
            <a:off x="49320" y="4038480"/>
            <a:ext cx="6095880" cy="2286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2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0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1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g to the IP address 192.168.224.244 which is the configured neighbor address for ISP1 fai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ossible causes ping not succee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P address 192.168.224.244 is not the correct IP address 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 192.168.224.254 should have been used for the peering to ISP1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t is possible that we could ping ISP1 but still not able to establish a BGP peering because of something like a wrong AS in the neighbor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DCAF-30A8-40FC-BFC9-82B2D19F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0" y="2209680"/>
            <a:ext cx="6578640" cy="13986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2600280"/>
          </a:xfrm>
          <a:prstGeom prst="rect">
            <a:avLst/>
          </a:prstGeom>
          <a:ln w="0">
            <a:noFill/>
          </a:ln>
        </p:spPr>
      </p:pic>
      <p:cxnSp>
        <p:nvCxnSpPr>
          <p:cNvPr id="725" name="Straight Arrow Connector 7"/>
          <p:cNvCxnSpPr/>
          <p:nvPr/>
        </p:nvCxnSpPr>
        <p:spPr>
          <a:xfrm flipV="1">
            <a:off x="6019920" y="1142280"/>
            <a:ext cx="2160" cy="686520"/>
          </a:xfrm>
          <a:prstGeom prst="straightConnector1">
            <a:avLst/>
          </a:prstGeom>
          <a:ln w="2556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726" name="Oval 8"/>
          <p:cNvSpPr/>
          <p:nvPr/>
        </p:nvSpPr>
        <p:spPr>
          <a:xfrm>
            <a:off x="4495680" y="762120"/>
            <a:ext cx="1295640" cy="5331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6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088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neighbor command to correct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is now sending Prefixes to I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est path via 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3A9D-77CF-4509-9421-213E5BFFC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6564240" cy="42418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5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355840"/>
          </a:xfrm>
          <a:prstGeom prst="rect">
            <a:avLst/>
          </a:prstGeom>
          <a:ln w="0">
            <a:noFill/>
          </a:ln>
        </p:spPr>
      </p:pic>
      <p:cxnSp>
        <p:nvCxnSpPr>
          <p:cNvPr id="733" name="Straight Arrow Connector 6"/>
          <p:cNvCxnSpPr/>
          <p:nvPr/>
        </p:nvCxnSpPr>
        <p:spPr>
          <a:xfrm flipV="1">
            <a:off x="6248520" y="1065960"/>
            <a:ext cx="2160" cy="686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34" name="Oval 7"/>
          <p:cNvSpPr/>
          <p:nvPr/>
        </p:nvSpPr>
        <p:spPr>
          <a:xfrm>
            <a:off x="4800600" y="685800"/>
            <a:ext cx="12952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8"/>
          <p:cNvSpPr/>
          <p:nvPr/>
        </p:nvSpPr>
        <p:spPr>
          <a:xfrm>
            <a:off x="1600200" y="2057400"/>
            <a:ext cx="3276720" cy="53352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52280" y="3505320"/>
            <a:ext cx="609624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9"/>
          <p:cNvSpPr/>
          <p:nvPr/>
        </p:nvSpPr>
        <p:spPr>
          <a:xfrm>
            <a:off x="380880" y="5257800"/>
            <a:ext cx="4191120" cy="30492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nodeType="clickEffect" fill="hold">
                      <p:stCondLst>
                        <p:cond delay="indefinite"/>
                      </p:stCondLst>
                      <p:childTnLst>
                        <p:par>
                          <p:cTn id="1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6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4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0880" y="4114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shows that router IRO2 has received a path to 192.168.224.0/19 from router IRO1 and installed it in its BGP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2 selects the path through (learned from) IRO1 as the best path to prefix 192.168.22.0/19 in AS 6552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D98D-4E46-4F47-8B81-EE5BD537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" descr=""/>
          <p:cNvPicPr/>
          <p:nvPr/>
        </p:nvPicPr>
        <p:blipFill>
          <a:blip r:embed="rId1"/>
          <a:stretch/>
        </p:blipFill>
        <p:spPr>
          <a:xfrm>
            <a:off x="-19080" y="1530360"/>
            <a:ext cx="6434280" cy="26607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5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355840"/>
          </a:xfrm>
          <a:prstGeom prst="rect">
            <a:avLst/>
          </a:prstGeom>
          <a:ln w="0">
            <a:noFill/>
          </a:ln>
        </p:spPr>
      </p:pic>
      <p:cxnSp>
        <p:nvCxnSpPr>
          <p:cNvPr id="744" name="Straight Arrow Connector 6"/>
          <p:cNvCxnSpPr/>
          <p:nvPr/>
        </p:nvCxnSpPr>
        <p:spPr>
          <a:xfrm flipV="1">
            <a:off x="6248520" y="1065960"/>
            <a:ext cx="2160" cy="686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45" name="Oval 7"/>
          <p:cNvSpPr/>
          <p:nvPr/>
        </p:nvSpPr>
        <p:spPr>
          <a:xfrm>
            <a:off x="4800600" y="685800"/>
            <a:ext cx="12952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0" y="2133720"/>
            <a:ext cx="167652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380880" y="3048120"/>
            <a:ext cx="1371600" cy="1522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9"/>
          <p:cNvSpPr/>
          <p:nvPr/>
        </p:nvSpPr>
        <p:spPr>
          <a:xfrm>
            <a:off x="4495680" y="3200400"/>
            <a:ext cx="609840" cy="22860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088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confirms that the path through neighbor 192.168.224.254 (ISP1) has been installed in the routing t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confirms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25CE-FD33-460F-AE8E-34A461ECA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46353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355840"/>
          </a:xfrm>
          <a:prstGeom prst="rect">
            <a:avLst/>
          </a:prstGeom>
          <a:ln w="0">
            <a:noFill/>
          </a:ln>
        </p:spPr>
      </p:pic>
      <p:cxnSp>
        <p:nvCxnSpPr>
          <p:cNvPr id="755" name="Straight Arrow Connector 6"/>
          <p:cNvCxnSpPr/>
          <p:nvPr/>
        </p:nvCxnSpPr>
        <p:spPr>
          <a:xfrm flipV="1">
            <a:off x="6248520" y="1065960"/>
            <a:ext cx="2160" cy="686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56" name="Oval 7"/>
          <p:cNvSpPr/>
          <p:nvPr/>
        </p:nvSpPr>
        <p:spPr>
          <a:xfrm>
            <a:off x="4800600" y="685800"/>
            <a:ext cx="12952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1905120" y="1905120"/>
            <a:ext cx="1904760" cy="30456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228600" y="3962520"/>
            <a:ext cx="4495680" cy="609480"/>
          </a:xfrm>
          <a:prstGeom prst="rect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ummarize, each routing protocol consists of the following elements and processes:  (RIP is a notable exception to some of thes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ion of routing information from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tocol data struc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table, topolog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injection or re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connected, dynamic routes, static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selection and insta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ath, equal cost load balancing, unequal cost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of routing information to neighb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ation, Broadcast, Multicast, LSAs, Route updates, 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3FC1-253D-41E2-B15A-EB087F672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5052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2819520" y="0"/>
            <a:ext cx="3809880" cy="23367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" descr="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3183-BD43-4A95-8408-1D952FCCC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 Zinin’s Routing Table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5562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le 3: Routing information about a path from one network to another does not provide routing information about the reverse, or return,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15000" cy="34797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0" y="990720"/>
            <a:ext cx="3200400" cy="1752480"/>
          </a:xfrm>
          <a:prstGeom prst="wedgeRectCallout">
            <a:avLst>
              <a:gd name="adj1" fmla="val 47768"/>
              <a:gd name="adj2" fmla="val 71560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f the packet for R3’s LAN reaches 192.168.2.0/24, I don’t know if R3 has a route back to 172.16.3.0/24 for any return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400800" y="3809880"/>
            <a:ext cx="1066680" cy="68580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3352680" y="2361960"/>
            <a:ext cx="762120" cy="6858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648320" y="2362320"/>
            <a:ext cx="761760" cy="6858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5943600" y="3276720"/>
            <a:ext cx="685800" cy="6094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562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 flipV="1">
            <a:off x="5790960" y="3429000"/>
            <a:ext cx="609480" cy="5335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 188 CCNP TSHOOT (Troubleshooting)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. 5 Maintaining and Troubleshooting Routing Solu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114440" y="4266720"/>
            <a:ext cx="4876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k Grazi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rillo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ziani@cabrillo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ward packets, a router combines information from variou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rol plane data structur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mportant of these data structures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ructur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SDB or topolog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b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7d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P or Frame Relay Map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 switches, which flood unknown frames, routers drop any packet for which they cannot find a matching entry in the routing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es for longest possible prefix match of the destination IP addr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with this entry is an egress interface - most cases, a next-hop IP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8DD1-6C36-44D5-849F-58A0BD1C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010G_166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Oval 4"/>
          <p:cNvSpPr/>
          <p:nvPr/>
        </p:nvSpPr>
        <p:spPr>
          <a:xfrm>
            <a:off x="5486400" y="304920"/>
            <a:ext cx="121932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8915400" y="6629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20:18:51Z</dcterms:created>
  <dc:creator>Microsoft Office User</dc:creator>
  <dc:description/>
  <dc:language>en-US</dc:language>
  <cp:lastModifiedBy>Microsoft Office User</cp:lastModifiedBy>
  <dcterms:modified xsi:type="dcterms:W3CDTF">2016-12-28T20:32:35Z</dcterms:modified>
  <cp:revision>2</cp:revision>
  <dc:subject/>
  <dc:title> Ch. 5 Maintaining and Troubleshooting Routing Solutions</dc:title>
</cp:coreProperties>
</file>