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CF87F-C833-4981-9C7D-3DED3254036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E70B-8700-4AAF-904A-C6926D02084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C7AB-3FDC-43A1-91E2-C3B7F98E51F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1FEF-649D-4A4B-9BD7-EBD4D98F814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795F-C5D1-4927-8044-B8D0288BB9A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9CE8-1335-44FE-84EC-5096BF0601D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B7D91-1AB8-4E92-9E03-37E0CDDED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BA78-C0AE-42CB-AD48-2A255B688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6AD6C-1A32-41DD-A908-1B67A18B2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3994E-FBB6-4D6C-ABB3-51C1663BC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D6217F-72B8-4D1C-90F0-B14C3EE1E8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A728B-5861-45FA-BBD3-757BE0837B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D2671-1302-4594-B44B-558C97372E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542696-AB66-4513-B37B-462FD2C37B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5168E-3850-4E99-8964-3FC05C9750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E964E-719B-4B1F-B152-F9796F4AF0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746E5-38A9-4FD2-96C5-EBFBE21379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DDAF1-9568-4C99-ADF4-7BBF688F4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51552-7351-4454-9F34-04AB59E507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00413-F9AF-4FF3-9423-3659CC8444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00F8FE-4E77-41AA-96E1-BC31760ED2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86113B-491C-4A09-8EB2-C51A5A7CE7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21C8A3-787F-40F1-B77C-31EA250EF5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1C5D3-55D2-49F9-A8E1-2F1108AA3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7D870-FA79-4CB6-A0B5-D31446D4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BBB89-6723-4D5B-BB55-F96D6A67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FE5D5-E4B9-4E53-95EC-D47ED0831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EC81-3F48-4599-8F0B-85331347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910FA-819F-48C4-80CB-78898A59C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C93B-338C-497D-A8EA-3265CE243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ADC9-ECAB-4C69-A296-8787187B01D1}"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6DBA-A87A-41BF-802E-32D2A4A11139}"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476280"/>
            <a:ext cx="7772400" cy="7920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10199"/>
                </a:solidFill>
                <a:latin typeface="Tahoma"/>
              </a:rPr>
              <a:t>مظاهر الاصابة الداخلية</a:t>
            </a:r>
            <a:br>
              <a:rPr sz="3600"/>
            </a:br>
            <a:r>
              <a:rPr b="0" lang="en-US" sz="3600" spc="-1" strike="noStrike">
                <a:solidFill>
                  <a:srgbClr val="010199"/>
                </a:solidFill>
                <a:latin typeface="Tahoma"/>
              </a:rPr>
              <a:t>Internal Symptoms</a:t>
            </a:r>
            <a:endParaRPr b="0" lang="en-US" sz="3600" spc="-1" strike="noStrike">
              <a:solidFill>
                <a:srgbClr val="ffffff"/>
              </a:solidFill>
              <a:latin typeface="Tahoma"/>
            </a:endParaRPr>
          </a:p>
        </p:txBody>
      </p:sp>
      <p:sp>
        <p:nvSpPr>
          <p:cNvPr id="91" name="PlaceHolder 2"/>
          <p:cNvSpPr>
            <a:spLocks noGrp="1"/>
          </p:cNvSpPr>
          <p:nvPr>
            <p:ph type="subTitle"/>
          </p:nvPr>
        </p:nvSpPr>
        <p:spPr>
          <a:xfrm>
            <a:off x="323640" y="1988640"/>
            <a:ext cx="8280360" cy="381636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غيرات التى تحدث داخل النبات نتيجة للإصابة الفيروسية وهي:</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 تغيرات طبيعة الانسجة العادية والعضيات الداخلية الخلوية</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2</a:t>
            </a:r>
            <a:r>
              <a:rPr b="0" lang="ar-SA" sz="3200" spc="-1" strike="noStrike">
                <a:solidFill>
                  <a:srgbClr val="ffffff"/>
                </a:solidFill>
                <a:latin typeface="Tahoma"/>
              </a:rPr>
              <a:t>- انتاج محتويات ( اجسام ) داخل الخلايا المصابة ذات طبيعة بروتيني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39640" y="76500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المحتويات الداخلي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ذا التغير ناتج من الاصابة ببعض الفيروسات ,فهى احد اهم الوسائل تشخيص الفيروسات سواء الحيوانيه او النباتية نظرا للشكل المميز لكل محتوى داخلي والفيروس المسبب له.ولا توجد مصاحبة للإصابة بكل الفيروسات بل ان بعض الفيروسات يسببها ولبعض الاخر لم يكتشف تكوينه لمثله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39640" y="18900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المحتويات الداخلية تتبع احد الاشكال الاتية:</a:t>
            </a:r>
            <a:endParaRPr b="0" lang="en-US" sz="32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0" lang="ar-SA" sz="2800" spc="-1" strike="noStrike">
                <a:solidFill>
                  <a:srgbClr val="ffffff"/>
                </a:solidFill>
                <a:latin typeface="Tahoma"/>
              </a:rPr>
              <a:t>- محتويات امورفية:</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2400" spc="-1" strike="noStrike">
                <a:solidFill>
                  <a:srgbClr val="ffffff"/>
                </a:solidFill>
                <a:latin typeface="Tahoma"/>
              </a:rPr>
              <a:t>وهى ذات شكل مستدير او بيضي او مغزلي ولكن غالبا غير منتظم وأحيانا تكون ذات شكل حبيبي تسمى اجسام </a:t>
            </a:r>
            <a:r>
              <a:rPr b="0" lang="en-US" sz="2400" spc="-1" strike="noStrike">
                <a:solidFill>
                  <a:srgbClr val="ffffff"/>
                </a:solidFill>
                <a:latin typeface="Tahoma"/>
              </a:rPr>
              <a:t>X</a:t>
            </a:r>
            <a:r>
              <a:rPr b="0" lang="ar-SA" sz="2400" spc="-1" strike="noStrike">
                <a:solidFill>
                  <a:srgbClr val="ffffff"/>
                </a:solidFill>
                <a:latin typeface="Tahoma"/>
              </a:rPr>
              <a:t> وتظهر عند الفحص ككتل متلاحمة مميزه في السيتوبلازم.</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محتويات تشبه البلورات شكلها بلوري واضح وغير حبيب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وجد هذه الاشكال من الاجسام داخل النباتات المصابة اصابة جهازيه.</a:t>
            </a:r>
            <a:endParaRPr b="0" lang="en-US" sz="2400" spc="-1" strike="noStrike">
              <a:solidFill>
                <a:srgbClr val="ffffff"/>
              </a:solidFill>
              <a:latin typeface="Tahoma"/>
            </a:endParaRPr>
          </a:p>
        </p:txBody>
      </p:sp>
      <p:pic>
        <p:nvPicPr>
          <p:cNvPr id="94" name="Picture 7" descr="kriss-1005"/>
          <p:cNvPicPr/>
          <p:nvPr/>
        </p:nvPicPr>
        <p:blipFill>
          <a:blip r:embed="rId1"/>
          <a:stretch/>
        </p:blipFill>
        <p:spPr>
          <a:xfrm>
            <a:off x="4979880" y="3741840"/>
            <a:ext cx="2694240" cy="2282760"/>
          </a:xfrm>
          <a:prstGeom prst="rect">
            <a:avLst/>
          </a:prstGeom>
          <a:ln w="28440">
            <a:solidFill>
              <a:srgbClr val="000000"/>
            </a:solidFill>
            <a:miter/>
          </a:ln>
        </p:spPr>
      </p:pic>
      <p:pic>
        <p:nvPicPr>
          <p:cNvPr id="95" name="Picture 12" descr="bassv1"/>
          <p:cNvPicPr/>
          <p:nvPr/>
        </p:nvPicPr>
        <p:blipFill>
          <a:blip r:embed="rId2"/>
          <a:stretch/>
        </p:blipFill>
        <p:spPr>
          <a:xfrm>
            <a:off x="1908000" y="3738600"/>
            <a:ext cx="2592720" cy="228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620640"/>
            <a:ext cx="8229600" cy="5400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طريقة فحص الاجسام البلورية:</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ظهر بوضوح في شعيرات اوراق النبات المصاب والتى عليها اعراض واضحة من الموزايك.</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يعمل سلخة بسيطة في العرق الوسطي للسطح السفلي للورقة المصاب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توضع السلخة باحتراس في ماء على الشريحة ثم تغطى بغطاء الشريح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تفحص بالعدسة الصغرى وعند ملاحظة الشعيرات تفحص  بتكبير اكبر.</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549360"/>
            <a:ext cx="8229600" cy="56656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2</a:t>
            </a:r>
            <a:r>
              <a:rPr b="0" lang="ar-SA" sz="3200" spc="-1" strike="noStrike">
                <a:solidFill>
                  <a:srgbClr val="010199"/>
                </a:solidFill>
                <a:latin typeface="Tahoma"/>
              </a:rPr>
              <a:t>- طريقة فحص المحتويات الامورفية ( </a:t>
            </a:r>
            <a:r>
              <a:rPr b="0" lang="en-US" sz="3200" spc="-1" strike="noStrike">
                <a:solidFill>
                  <a:srgbClr val="010199"/>
                </a:solidFill>
                <a:latin typeface="Tahoma"/>
              </a:rPr>
              <a:t>bodies</a:t>
            </a:r>
            <a:r>
              <a:rPr b="0" lang="ar-SA" sz="3200" spc="-1" strike="noStrike">
                <a:solidFill>
                  <a:srgbClr val="010199"/>
                </a:solidFill>
                <a:latin typeface="Tahoma"/>
              </a:rPr>
              <a:t> </a:t>
            </a:r>
            <a:r>
              <a:rPr b="0" lang="en-US" sz="3200" spc="-1" strike="noStrike">
                <a:solidFill>
                  <a:srgbClr val="010199"/>
                </a:solidFill>
                <a:latin typeface="Tahoma"/>
              </a:rPr>
              <a:t>(</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يعمل سلخة في الأوراق المصابة من السطح السفل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توضع عليها محلول </a:t>
            </a:r>
            <a:r>
              <a:rPr b="0" lang="en-US" sz="2400" spc="-1" strike="noStrike">
                <a:solidFill>
                  <a:srgbClr val="ffffff"/>
                </a:solidFill>
                <a:latin typeface="Tahoma"/>
              </a:rPr>
              <a:t>Nacl</a:t>
            </a:r>
            <a:r>
              <a:rPr b="0" lang="ar-SA" sz="2400" spc="-1" strike="noStrike">
                <a:solidFill>
                  <a:srgbClr val="ffffff"/>
                </a:solidFill>
                <a:latin typeface="Tahoma"/>
              </a:rPr>
              <a:t> بتركيز</a:t>
            </a:r>
            <a:r>
              <a:rPr b="0" lang="en-US" sz="2400" spc="-1" strike="noStrike">
                <a:solidFill>
                  <a:srgbClr val="ffffff"/>
                </a:solidFill>
                <a:latin typeface="Tahoma"/>
              </a:rPr>
              <a:t>0.9</a:t>
            </a:r>
            <a:r>
              <a:rPr b="0" lang="en-US" sz="2400" spc="-1" strike="noStrike">
                <a:solidFill>
                  <a:srgbClr val="ffffff"/>
                </a:solidFill>
                <a:latin typeface="Tahoma"/>
              </a:rPr>
              <a:t>% </a:t>
            </a:r>
            <a:r>
              <a:rPr b="0" lang="ar-SA" sz="2400" spc="-1" strike="noStrike">
                <a:solidFill>
                  <a:srgbClr val="ffffff"/>
                </a:solidFill>
                <a:latin typeface="Tahoma"/>
              </a:rPr>
              <a:t> لعدة ثوان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يضاف عليها بعض القطرات من صبغة التريبان  المحضر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ترك لمدة </a:t>
            </a:r>
            <a:r>
              <a:rPr b="0" lang="ar-SA" sz="2400" spc="-1" strike="noStrike">
                <a:solidFill>
                  <a:srgbClr val="ffffff"/>
                </a:solidFill>
                <a:latin typeface="Tahoma"/>
              </a:rPr>
              <a:t>2</a:t>
            </a:r>
            <a:r>
              <a:rPr b="0" lang="ar-SA" sz="2400" spc="-1" strike="noStrike">
                <a:solidFill>
                  <a:srgbClr val="ffffff"/>
                </a:solidFill>
                <a:latin typeface="Tahoma"/>
              </a:rPr>
              <a:t> دقيق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4</a:t>
            </a:r>
            <a:r>
              <a:rPr b="0" lang="ar-SA" sz="2400" spc="-1" strike="noStrike">
                <a:solidFill>
                  <a:srgbClr val="ffffff"/>
                </a:solidFill>
                <a:latin typeface="Tahoma"/>
              </a:rPr>
              <a:t>- تغسل السلخة محلول </a:t>
            </a:r>
            <a:r>
              <a:rPr b="0" lang="en-US" sz="2400" spc="-1" strike="noStrike">
                <a:solidFill>
                  <a:srgbClr val="ffffff"/>
                </a:solidFill>
                <a:latin typeface="Tahoma"/>
              </a:rPr>
              <a:t>Nacl</a:t>
            </a:r>
            <a:r>
              <a:rPr b="0" lang="ar-SA" sz="2400" spc="-1" strike="noStrike">
                <a:solidFill>
                  <a:srgbClr val="ffffff"/>
                </a:solidFill>
                <a:latin typeface="Tahoma"/>
              </a:rPr>
              <a:t> بتركيز</a:t>
            </a:r>
            <a:r>
              <a:rPr b="0" lang="en-US" sz="2400" spc="-1" strike="noStrike">
                <a:solidFill>
                  <a:srgbClr val="ffffff"/>
                </a:solidFill>
                <a:latin typeface="Tahoma"/>
              </a:rPr>
              <a:t>0.9</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5</a:t>
            </a:r>
            <a:r>
              <a:rPr b="0" lang="ar-SA" sz="2400" spc="-1" strike="noStrike">
                <a:solidFill>
                  <a:srgbClr val="ffffff"/>
                </a:solidFill>
                <a:latin typeface="Tahoma"/>
              </a:rPr>
              <a:t>- تفحص العينات باستخدام العدسة الزيتية بعد إضافة زيت السيدر</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8:27:48Z</dcterms:created>
  <dc:creator>Customer</dc:creator>
  <dc:description/>
  <dc:language>en-US</dc:language>
  <cp:lastModifiedBy>yaser</cp:lastModifiedBy>
  <dcterms:modified xsi:type="dcterms:W3CDTF">2014-12-15T15:26:08Z</dcterms:modified>
  <cp:revision>12</cp:revision>
  <dc:subject/>
  <dc:title>مظاهر الاصابة الداخلية Internal Symptoms</dc:title>
</cp:coreProperties>
</file>