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24B7-6E8A-42B0-9D78-EFF456AC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4AE-0D0C-470C-82CE-4A355E94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295-AE23-4AD9-8A1F-E2FB7DB5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9F1-2AE2-4123-86C5-EB02ADF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BFC-7E97-4CE5-B20C-AC68E73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6E7-1FBE-4200-B51D-321F67E5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ED8-2A26-4298-8A4D-1536667C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B6C-A7C0-4BA9-8170-B2B31E48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BAF4-5FA9-4D28-A36F-0335739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591-C51A-4CF9-9BBC-4D9DED2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D45A-5B18-4FBB-987D-B9A73B12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A35-F3D7-41D1-8A12-411DBE42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FB33-1AB7-4E62-B396-41FB2E25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gl.microsoft.com/" TargetMode="External"/><Relationship Id="rId2" Type="http://schemas.openxmlformats.org/officeDocument/2006/relationships/hyperlink" Target="http://www.geocities.com/SoHo/Atrium/1437/nar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Lucida Calligraphy"/>
              </a:rPr>
              <a:t>Narrative Writing: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Lucida Calligraphy"/>
              </a:rPr>
              <a:t>An Autobiographical Incid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J. Thomp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Lucida Calligraphy"/>
              </a:rPr>
              <a:t>What is narrative writ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tells a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has the elements of a short s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	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 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- T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s00580_" descr=""/>
          <p:cNvPicPr/>
          <p:nvPr/>
        </p:nvPicPr>
        <p:blipFill>
          <a:blip r:embed="rId1"/>
          <a:stretch/>
        </p:blipFill>
        <p:spPr>
          <a:xfrm>
            <a:off x="4724280" y="3581280"/>
            <a:ext cx="388944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Lucida Calligraphy"/>
              </a:rPr>
              <a:t>What is narrative writing?</a:t>
            </a:r>
            <a:br>
              <a:rPr sz="3600"/>
            </a:br>
            <a:r>
              <a:rPr b="1" lang="en-US" sz="3600" spc="-1" strike="noStrike">
                <a:solidFill>
                  <a:srgbClr val="669900"/>
                </a:solidFill>
                <a:latin typeface="Lucida Calligraphy"/>
              </a:rPr>
              <a:t>(Continued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has a beginning, middle, and  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tells the order in which events take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It is told from a partic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  </a:t>
            </a:r>
            <a:r>
              <a:rPr b="1" lang="en-US" sz="3200" spc="-1" strike="noStrike">
                <a:solidFill>
                  <a:srgbClr val="669900"/>
                </a:solidFill>
                <a:latin typeface="Lucida Calligraphy"/>
              </a:rPr>
              <a:t>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23416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543320" cy="2325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Lucida Calligraphy"/>
              </a:rPr>
              <a:t>What is an autobiographical inciden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is a type of narrative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tells a story about an event in a person’s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is written from events in the person’s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Lucida Calligraph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It expresses the person’s thoughts and feel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Lucida Calligraphy"/>
              </a:rPr>
              <a:t>Can you predict the outcome of a story?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Lucida Calligraphy"/>
              </a:rPr>
              <a:t>The Day That Was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Lucida Calligraphy"/>
              </a:rPr>
              <a:t>My alarm clock went off, and I jumped out of bed. I had set it the night before to make sure that I wouldn’t oversleep. Boy, was I excited! This was the first day of school, and I couldn’t wait to go back! I was anxious to see my old friends and to show off my new school clot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Lucida Calligraphy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Lucida Calligraphy"/>
              </a:rPr>
              <a:t>I took a shower and got dressed. I put on my new Wilson Melissa shoes, my “Angel” shirt, and my new Mudd jeans. Then, I brushed my teeth, combed my hair, and put on my jewelry. I checked myself out in the floor length mirror. “Nice,” I said to myself.I gathered all of my school supplies-binder,paper, pencils, pens, single subject notebooks-and put them in my book ba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The Day That Wasn’t”</a:t>
            </a:r>
            <a:br>
              <a:rPr sz="3200"/>
            </a:br>
            <a:r>
              <a:rPr b="1" lang="en-US" sz="3200" spc="-1" strike="noStrike">
                <a:solidFill>
                  <a:srgbClr val="996600"/>
                </a:solidFill>
                <a:latin typeface="Lucida Calligraphy"/>
              </a:rPr>
              <a:t>(</a:t>
            </a:r>
            <a:r>
              <a:rPr b="1" i="1" lang="en-US" sz="3200" spc="-1" strike="noStrike">
                <a:solidFill>
                  <a:srgbClr val="996600"/>
                </a:solidFill>
                <a:latin typeface="Lucida Calligraphy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996600"/>
                </a:solidFill>
                <a:latin typeface="Lucida Calligraphy"/>
              </a:rPr>
              <a:t>Finally, I went downstairs to eat breakfast. I only wanted a bowl of cereal and a glass of juice.I was too excited to eat anything else. When I went into the kitchen with my book bag on my back, my mom had a strange look on her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Lucida Calligraphy"/>
              </a:rPr>
              <a:t>    </a:t>
            </a:r>
            <a:r>
              <a:rPr b="1" lang="en-US" sz="2400" spc="-1" strike="noStrike">
                <a:solidFill>
                  <a:srgbClr val="996600"/>
                </a:solidFill>
                <a:latin typeface="Lucida Calligraphy"/>
              </a:rPr>
              <a:t>(</a:t>
            </a:r>
            <a:r>
              <a:rPr b="1" i="1" lang="en-US" sz="2400" spc="-1" strike="noStrike">
                <a:solidFill>
                  <a:srgbClr val="996600"/>
                </a:solidFill>
                <a:latin typeface="Lucida Calligraphy"/>
              </a:rPr>
              <a:t>At this time, I will ask my classmates to predict the outcome of this story. After they make their predictions, I will read the rest of the stor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e03254_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117792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Lucida Calligraphy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Kinneary, James and John Warriner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Elements of Writing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 Texas: Holt, Rinehart, and Winston, 199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obtained information about narrative wri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oyster, Joyce and Mark Lester,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riter’s Choice.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New York: Glencoe/McGrawHill, 199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obtained information about narrative 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dgl.microsoft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retrieved clip art form this web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geocities.com/SoHo/Atrium/1437/narr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 retrieved information about narrative writing from this webs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20:28:31Z</dcterms:created>
  <dc:creator>pperkins</dc:creator>
  <dc:description/>
  <dc:language>en-US</dc:language>
  <cp:lastModifiedBy>Montevallo High School</cp:lastModifiedBy>
  <cp:lastPrinted>2003-06-26T02:12:42Z</cp:lastPrinted>
  <dcterms:modified xsi:type="dcterms:W3CDTF">2003-12-17T17:06:02Z</dcterms:modified>
  <cp:revision>38</cp:revision>
  <dc:subject/>
  <dc:title>PowerPoint Presentation</dc:title>
</cp:coreProperties>
</file>