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B7A-5598-4915-8E97-1D036254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E58-A1AC-47FA-A433-CF6B8F1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E5D-C863-4319-B1BE-0A4750C1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194-EA3C-461E-9354-4F65C1AD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D2B-B77F-4252-BA32-430A078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2A9-C54F-4712-9B26-A9C3BFE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A8E-5BD3-4E1F-A1D4-9225850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36C-A50F-4430-BD65-65C710D1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976-B340-499F-9E9C-D850960F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9A7-E8D2-4ACD-A838-8D6CBD1F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E4B-2F34-44D4-964B-8436FC1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C56-D778-4A4A-BD71-399F6DE3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709F-6304-4B5C-96DA-0A63CEEE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gl.microsoft.com/" TargetMode="External"/><Relationship Id="rId2" Type="http://schemas.openxmlformats.org/officeDocument/2006/relationships/hyperlink" Target="http://www.geocities.com/SoHo/Atrium/1437/nar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Lucida Calligraphy"/>
              </a:rPr>
              <a:t>Narrative Writing: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Lucida Calligraphy"/>
              </a:rPr>
              <a:t>An Autobiographical Incid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J. Thomp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Lucida Calligraphy"/>
              </a:rPr>
              <a:t>What is narrative wri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tells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has the elements of a short 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	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s00580_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889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Lucida Calligraphy"/>
              </a:rPr>
              <a:t>What is narrative writing?</a:t>
            </a:r>
            <a:br>
              <a:rPr sz="3600"/>
            </a:br>
            <a:r>
              <a:rPr b="1" lang="en-US" sz="3600" spc="-1" strike="noStrike">
                <a:solidFill>
                  <a:srgbClr val="669900"/>
                </a:solidFill>
                <a:latin typeface="Lucida Calligraphy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has a beginning, middle, and 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tells the order in which events tak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is told from a partic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23416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54332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Lucida Calligraphy"/>
              </a:rPr>
              <a:t>What is an autobiographical inciden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is a type of narrative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tells a story about an event in a person’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is written from events in the person’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expresses the person’s thoughts and feel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Lucida Calligraphy"/>
              </a:rPr>
              <a:t>Can you predict the outcome of a story?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The Day That Was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My alarm clock went off, and I jumped out of bed. I had set it the night before to make sure that I wouldn’t oversleep. Boy, was I excited! This was the first day of school, and I couldn’t wait to go back! I was anxious to see my old friends and to show off my new school clot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I took a shower and got dressed. I put on my new Wilson Melissa shoes, my “Angel” shirt, and my new Mudd jeans. Then, I brushed my teeth, combed my hair, and put on my jewelry. I checked myself out in the floor length mirror. “Nice,” I said to myself.I gathered all of my school supplies-binder,paper, pencils, pens, single subject notebooks-and put them in my book b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The Day That Wasn’t”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(</a:t>
            </a:r>
            <a:r>
              <a:rPr b="1" i="1" lang="en-US" sz="3200" spc="-1" strike="noStrike">
                <a:solidFill>
                  <a:srgbClr val="996600"/>
                </a:solidFill>
                <a:latin typeface="Lucida Calligraphy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Finally, I went downstairs to eat breakfast. I only wanted a bowl of cereal and a glass of juice.I was too excited to eat anything else. When I went into the kitchen with my book bag on my back, my mom had a strange look on her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(</a:t>
            </a:r>
            <a:r>
              <a:rPr b="1" i="1" lang="en-US" sz="2400" spc="-1" strike="noStrike">
                <a:solidFill>
                  <a:srgbClr val="996600"/>
                </a:solidFill>
                <a:latin typeface="Lucida Calligraphy"/>
              </a:rPr>
              <a:t>At this time, I will ask my classmates to predict the outcome of this story. After they make their predictions, I will read the rest of the stor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03254_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17792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Lucida Calligraphy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Kinneary, James and John Warriner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Elements of Writin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Texas: Holt, Rinehart, and Winston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obtained information about narrative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oyster, Joyce and Mark Lester,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riter’s Choice.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New York: Glencoe/McGrawHill, 199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obtained information about narrative 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dgl.microsoft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retrieved clip art form this web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geocities.com/SoHo/Atrium/1437/nar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retrieved information about narrative writing from this web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20:28:31Z</dcterms:created>
  <dc:creator>pperkins</dc:creator>
  <dc:description/>
  <dc:language>en-US</dc:language>
  <cp:lastModifiedBy>Montevallo High School</cp:lastModifiedBy>
  <cp:lastPrinted>2003-06-26T02:12:42Z</cp:lastPrinted>
  <dcterms:modified xsi:type="dcterms:W3CDTF">2003-12-17T17:06:02Z</dcterms:modified>
  <cp:revision>38</cp:revision>
  <dc:subject/>
  <dc:title>PowerPoint Presentation</dc:title>
</cp:coreProperties>
</file>