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60E-A093-42B8-8708-992EE0B1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496-97C7-4E37-B3E1-36C1063A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63B-1F9B-446F-837B-D24E6C13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2EE-8559-4121-B8FB-E7AD51CB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EB46-B1EA-497B-83E4-42B95085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EEB-AFF7-4E0E-AFC7-4ACB64DB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73F5-8C1B-4C0B-871C-4AA106C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DE90-5034-4BD4-8FD2-CF065181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46C3-DB5E-4C9E-B6E6-B4C874B9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AF65-66DB-4E00-9BA7-E1056A9B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4551-E822-46B0-8627-4DAB1363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A19-25CB-4489-895F-821D74F9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4968-29FD-4535-8CFA-9C5CDB3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AA04-2650-4BCF-8A06-A27D0634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3B24-E5AE-4830-B319-B9BA03B7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3252-0EEA-4A5B-A36B-ADF6ED9C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4BC4-0EE9-4013-AD2E-475905E2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D76-8D45-43AE-9E28-0FAF7B06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4B0-56FD-4BAA-AFB4-8F51C5B0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F7F-41BC-46C2-AB00-75F0A3FC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9C9-97AA-4151-8855-F208E7BE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D85-90EF-49A0-B2C5-FDD7DF8C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CD9-03B5-4C72-9AAE-DB823CDC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EA3-53C4-4FCC-8549-CD14D123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3CC6-FC17-49AA-84B9-94F2B42D97E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AE4B-3A05-4685-8931-DD0B0A42314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OMMUNICATION SKILLS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99640" y="3715920"/>
            <a:ext cx="7272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NATURE OF COMMUN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. Abdullah AL-Zahra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objectives of the communication within the organization are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eeting organizational goal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isfying professional responsibilitie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ulfilling personal role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riers are mainly the noise which exist in and effect each part within the communication proc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riers includes the followin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raction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nses, e.g. Poor lighting, Overheated room, smoke fil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earance, e.g. Poor appearance of a speaker, coffee spots on a written repor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k of interest in the subject matt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601"/>
              </a:spcBef>
              <a:buClr>
                <a:srgbClr val="ffffff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dequate Knowledge.( sufficient background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ffffff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or Planning and listen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0% of our time is spent in listen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listening is not eas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ffffff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fferences in percep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tal Filter which no two are identic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fluenced by peoples skills, attitude, knowledge levels and sociocultural factor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otions and Personalitie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th can play positive or negative ro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ozen Evaluatio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.g. Typical head nur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guag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One language there are proble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Different languages there are many proble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evels of the communication can be classified into deferent types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cation levels according to the number of participants 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apers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pers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mall gro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vels according to direction of the communication within the organizat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pwar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31640" y="3906720"/>
            <a:ext cx="8208360" cy="2160000"/>
            <a:chOff x="431640" y="3906720"/>
            <a:chExt cx="8208360" cy="2160000"/>
          </a:xfrm>
        </p:grpSpPr>
        <p:cxnSp>
          <p:nvCxnSpPr>
            <p:cNvPr id="374" name="_s18445"/>
            <p:cNvCxnSpPr>
              <a:stCxn id="375" idx="0"/>
              <a:endCxn id="376" idx="2"/>
            </p:cNvCxnSpPr>
            <p:nvPr/>
          </p:nvCxnSpPr>
          <p:spPr>
            <a:xfrm flipV="1" rot="16200000">
              <a:off x="5756040" y="3549600"/>
              <a:ext cx="432720" cy="2873520"/>
            </a:xfrm>
            <a:prstGeom prst="bentConnector3">
              <a:avLst>
                <a:gd name="adj1" fmla="val 2631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_s18444"/>
            <p:cNvCxnSpPr>
              <a:stCxn id="378" idx="0"/>
              <a:endCxn id="376" idx="2"/>
            </p:cNvCxnSpPr>
            <p:nvPr/>
          </p:nvCxnSpPr>
          <p:spPr>
            <a:xfrm flipV="1">
              <a:off x="4536000" y="4770360"/>
              <a:ext cx="3600" cy="43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9" name="_s18443"/>
            <p:cNvCxnSpPr>
              <a:stCxn id="380" idx="0"/>
              <a:endCxn id="376" idx="2"/>
            </p:cNvCxnSpPr>
            <p:nvPr/>
          </p:nvCxnSpPr>
          <p:spPr>
            <a:xfrm flipH="1" flipV="1" rot="5400000">
              <a:off x="2882880" y="3549960"/>
              <a:ext cx="432720" cy="2873520"/>
            </a:xfrm>
            <a:prstGeom prst="bentConnector3">
              <a:avLst>
                <a:gd name="adj1" fmla="val 2631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76" name="_s18439"/>
            <p:cNvSpPr/>
            <p:nvPr/>
          </p:nvSpPr>
          <p:spPr>
            <a:xfrm>
              <a:off x="3304440" y="39067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General manag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18440"/>
            <p:cNvSpPr/>
            <p:nvPr/>
          </p:nvSpPr>
          <p:spPr>
            <a:xfrm>
              <a:off x="431640" y="52027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18441"/>
            <p:cNvSpPr/>
            <p:nvPr/>
          </p:nvSpPr>
          <p:spPr>
            <a:xfrm>
              <a:off x="3304440" y="52027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18442"/>
            <p:cNvSpPr/>
            <p:nvPr/>
          </p:nvSpPr>
          <p:spPr>
            <a:xfrm>
              <a:off x="6177600" y="52027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V="1">
            <a:off x="3059280" y="4508640"/>
            <a:ext cx="0" cy="15127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012000" y="4581360"/>
            <a:ext cx="0" cy="14400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457200" y="3941640"/>
            <a:ext cx="8228880" cy="2188800"/>
            <a:chOff x="457200" y="3941640"/>
            <a:chExt cx="8228880" cy="2188800"/>
          </a:xfrm>
        </p:grpSpPr>
        <p:cxnSp>
          <p:nvCxnSpPr>
            <p:cNvPr id="384" name="_s19464"/>
            <p:cNvCxnSpPr>
              <a:stCxn id="385" idx="0"/>
              <a:endCxn id="386" idx="2"/>
            </p:cNvCxnSpPr>
            <p:nvPr/>
          </p:nvCxnSpPr>
          <p:spPr>
            <a:xfrm flipV="1" rot="16200000">
              <a:off x="5792400" y="3595320"/>
              <a:ext cx="438480" cy="2880720"/>
            </a:xfrm>
            <a:prstGeom prst="bentConnector3">
              <a:avLst>
                <a:gd name="adj1" fmla="val 262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7" name="_s19465"/>
            <p:cNvCxnSpPr>
              <a:stCxn id="388" idx="0"/>
              <a:endCxn id="386" idx="2"/>
            </p:cNvCxnSpPr>
            <p:nvPr/>
          </p:nvCxnSpPr>
          <p:spPr>
            <a:xfrm flipV="1">
              <a:off x="4571640" y="4816800"/>
              <a:ext cx="360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9" name="_s19466"/>
            <p:cNvCxnSpPr>
              <a:stCxn id="390" idx="0"/>
              <a:endCxn id="386" idx="2"/>
            </p:cNvCxnSpPr>
            <p:nvPr/>
          </p:nvCxnSpPr>
          <p:spPr>
            <a:xfrm flipH="1" flipV="1" rot="5400000">
              <a:off x="2912040" y="3595680"/>
              <a:ext cx="438480" cy="2880720"/>
            </a:xfrm>
            <a:prstGeom prst="bentConnector3">
              <a:avLst>
                <a:gd name="adj1" fmla="val 262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6" name="_s19467"/>
            <p:cNvSpPr/>
            <p:nvPr/>
          </p:nvSpPr>
          <p:spPr>
            <a:xfrm>
              <a:off x="3337200" y="3941640"/>
              <a:ext cx="246852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General manag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_s19468"/>
            <p:cNvSpPr/>
            <p:nvPr/>
          </p:nvSpPr>
          <p:spPr>
            <a:xfrm>
              <a:off x="457200" y="5254920"/>
              <a:ext cx="246852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_s19469"/>
            <p:cNvSpPr/>
            <p:nvPr/>
          </p:nvSpPr>
          <p:spPr>
            <a:xfrm>
              <a:off x="3337200" y="5254920"/>
              <a:ext cx="246852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_s19470"/>
            <p:cNvSpPr/>
            <p:nvPr/>
          </p:nvSpPr>
          <p:spPr>
            <a:xfrm>
              <a:off x="6217560" y="5254920"/>
              <a:ext cx="246852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vels according to direction of the communication within the organizat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wnw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4797360"/>
            <a:ext cx="0" cy="15112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2000" y="4797360"/>
            <a:ext cx="0" cy="15112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vels according to direction of the communication within the organizat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teral or Crosswise,( horizontal, and diagon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57200" y="3068640"/>
            <a:ext cx="8228520" cy="3455280"/>
            <a:chOff x="457200" y="3068640"/>
            <a:chExt cx="8228520" cy="3455280"/>
          </a:xfrm>
        </p:grpSpPr>
        <p:cxnSp>
          <p:nvCxnSpPr>
            <p:cNvPr id="398" name="_s22546"/>
            <p:cNvCxnSpPr>
              <a:stCxn id="399" idx="0"/>
              <a:endCxn id="400" idx="2"/>
            </p:cNvCxnSpPr>
            <p:nvPr/>
          </p:nvCxnSpPr>
          <p:spPr>
            <a:xfrm flipV="1">
              <a:off x="2355480" y="5227560"/>
              <a:ext cx="5400" cy="43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1" name="_s22544"/>
            <p:cNvCxnSpPr>
              <a:stCxn id="402" idx="0"/>
              <a:endCxn id="403" idx="2"/>
            </p:cNvCxnSpPr>
            <p:nvPr/>
          </p:nvCxnSpPr>
          <p:spPr>
            <a:xfrm flipV="1">
              <a:off x="6786720" y="5227560"/>
              <a:ext cx="5400" cy="43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4" name="_s22536"/>
            <p:cNvCxnSpPr>
              <a:stCxn id="403" idx="0"/>
              <a:endCxn id="405" idx="2"/>
            </p:cNvCxnSpPr>
            <p:nvPr/>
          </p:nvCxnSpPr>
          <p:spPr>
            <a:xfrm flipV="1" rot="16200000">
              <a:off x="5463000" y="3039840"/>
              <a:ext cx="432360" cy="2215440"/>
            </a:xfrm>
            <a:prstGeom prst="bentConnector3">
              <a:avLst>
                <a:gd name="adj1" fmla="val 264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6" name="_s22537"/>
            <p:cNvCxnSpPr>
              <a:stCxn id="400" idx="0"/>
              <a:endCxn id="405" idx="2"/>
            </p:cNvCxnSpPr>
            <p:nvPr/>
          </p:nvCxnSpPr>
          <p:spPr>
            <a:xfrm flipH="1" flipV="1" rot="5400000">
              <a:off x="3247200" y="3039840"/>
              <a:ext cx="432360" cy="2216160"/>
            </a:xfrm>
            <a:prstGeom prst="bentConnector3">
              <a:avLst>
                <a:gd name="adj1" fmla="val 264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05" name="_s22539"/>
            <p:cNvSpPr/>
            <p:nvPr/>
          </p:nvSpPr>
          <p:spPr>
            <a:xfrm>
              <a:off x="2673000" y="306864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neral manag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_s22541"/>
            <p:cNvSpPr/>
            <p:nvPr/>
          </p:nvSpPr>
          <p:spPr>
            <a:xfrm>
              <a:off x="457200" y="436428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epartment manage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_s22542"/>
            <p:cNvSpPr/>
            <p:nvPr/>
          </p:nvSpPr>
          <p:spPr>
            <a:xfrm>
              <a:off x="4888080" y="436428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epartment manage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22543"/>
            <p:cNvSpPr/>
            <p:nvPr/>
          </p:nvSpPr>
          <p:spPr>
            <a:xfrm>
              <a:off x="4888080" y="566028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Unit superviso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_s22545"/>
            <p:cNvSpPr/>
            <p:nvPr/>
          </p:nvSpPr>
          <p:spPr>
            <a:xfrm>
              <a:off x="457200" y="566028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Unit superviso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924360" y="4797360"/>
            <a:ext cx="1224000" cy="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780000" y="5084640"/>
            <a:ext cx="1512720" cy="9367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5816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0288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cation levels according to the organization’s border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nal( within the organization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( with the external environment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57200" y="3941640"/>
            <a:ext cx="8228520" cy="2188800"/>
            <a:chOff x="457200" y="3941640"/>
            <a:chExt cx="8228520" cy="2188800"/>
          </a:xfrm>
        </p:grpSpPr>
        <p:cxnSp>
          <p:nvCxnSpPr>
            <p:cNvPr id="414" name="_s24583"/>
            <p:cNvCxnSpPr>
              <a:stCxn id="415" idx="0"/>
              <a:endCxn id="416" idx="2"/>
            </p:cNvCxnSpPr>
            <p:nvPr/>
          </p:nvCxnSpPr>
          <p:spPr>
            <a:xfrm flipV="1" rot="16200000">
              <a:off x="5460120" y="3927960"/>
              <a:ext cx="438480" cy="2215440"/>
            </a:xfrm>
            <a:prstGeom prst="bentConnector3">
              <a:avLst>
                <a:gd name="adj1" fmla="val 260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7" name="_s24584"/>
            <p:cNvCxnSpPr>
              <a:stCxn id="418" idx="0"/>
              <a:endCxn id="416" idx="2"/>
            </p:cNvCxnSpPr>
            <p:nvPr/>
          </p:nvCxnSpPr>
          <p:spPr>
            <a:xfrm flipH="1" flipV="1" rot="5400000">
              <a:off x="3243960" y="3927960"/>
              <a:ext cx="438480" cy="2216160"/>
            </a:xfrm>
            <a:prstGeom prst="bentConnector3">
              <a:avLst>
                <a:gd name="adj1" fmla="val 260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16" name="_s24586"/>
            <p:cNvSpPr/>
            <p:nvPr/>
          </p:nvSpPr>
          <p:spPr>
            <a:xfrm>
              <a:off x="2673000" y="3941640"/>
              <a:ext cx="379764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neral manag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_s24588"/>
            <p:cNvSpPr/>
            <p:nvPr/>
          </p:nvSpPr>
          <p:spPr>
            <a:xfrm>
              <a:off x="457200" y="5254920"/>
              <a:ext cx="379764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epartment manage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_s24589"/>
            <p:cNvSpPr/>
            <p:nvPr/>
          </p:nvSpPr>
          <p:spPr>
            <a:xfrm>
              <a:off x="4888080" y="5254920"/>
              <a:ext cx="379764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epartment manage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851280" y="5661000"/>
            <a:ext cx="1512720" cy="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572000" y="4508280"/>
            <a:ext cx="0" cy="16570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877080" y="3860280"/>
            <a:ext cx="1150920" cy="86364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900000" y="3933720"/>
            <a:ext cx="1224000" cy="9352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382520" y="4365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39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3800" y="4365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56720" y="6165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tyles of the communication can be 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horitarian or autocratic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aternalistic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ermissiv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cratic or participativ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ini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itu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im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ppropriate Assump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ctiv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ri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ve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y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ten communica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advantages of written communication a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document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legal defen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formity of proced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y decrease the co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isadvantages a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e pap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 immediate feedbac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 long ti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al communication ( formal or informal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dvantages of oral communication ar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feedback is immedi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sible clarific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ffect can be no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feeling of importan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disadvantages ar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y take ti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y  be costly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ides toward effective communica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rify the mess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familiar symbo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 your  communic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receiver’s needs and interes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selection of me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 required feedbac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ure good environ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listening.( 10 guides 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0 guides of good listening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op talking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t the talker at eas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ow the talker that you want to list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move distraction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mpathize with the talker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0 guides of good listening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e patien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ld your temper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 easy on argument and criticism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sk question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op talking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uides toward effective written communicatio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ords should be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mpl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miliar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ecessary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ntence should be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or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ith exampl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active verb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ith personal pronouns “you”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NATURE OF COMMITTE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mmittee is one of complex example of the communication which used due to a growing emphasis on group management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uthority; (decisions, recommendations, and insights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ze ; 5 – 16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NATURE OF COMMITTE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hip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resents the interests intended to serve and the required authorit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 should have the capacity to communic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ject matter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itations should be considered by an agenda and relevant information circulated well in adv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NATURE OF COMMITTE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irperson; act to avoid the wastes of the committe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nutes; used to avoid the varying interpretation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st effectiveness where the committee most worth it’s cos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mmunication = to make it comm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= to make it share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mmunication deals (sending and receiving) with information, feelings, thoughts, messages, ideas, attitude, and understanding, ..et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ffective communication can be measured in terms of whether or not the sender’s message has had the intended impact on it’s receiv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Definitions (cont.):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versus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Miscommunication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Real communication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versus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eedback loop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cation is a continuous process that composed of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nder ( thought and encoding 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um (means, channels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eiver( reception, decoding, and understanding )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ssage. (Transmission 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dbac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i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346840" y="1951200"/>
            <a:ext cx="4380120" cy="4413240"/>
            <a:chOff x="2346840" y="1951200"/>
            <a:chExt cx="4380120" cy="4413240"/>
          </a:xfrm>
        </p:grpSpPr>
        <p:sp>
          <p:nvSpPr>
            <p:cNvPr id="342" name="_s7180"/>
            <p:cNvSpPr/>
            <p:nvPr/>
          </p:nvSpPr>
          <p:spPr>
            <a:xfrm flipH="1">
              <a:off x="3397320" y="1951200"/>
              <a:ext cx="2278080" cy="2481840"/>
            </a:xfrm>
            <a:custGeom>
              <a:avLst/>
              <a:gdLst>
                <a:gd name="textAreaLeft" fmla="*/ 360 w 2278080"/>
                <a:gd name="textAreaRight" fmla="*/ 2278800 w 2278080"/>
                <a:gd name="textAreaTop" fmla="*/ 0 h 2481840"/>
                <a:gd name="textAreaBottom" fmla="*/ 2482200 h 248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a37a00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_s7178"/>
            <p:cNvSpPr/>
            <p:nvPr/>
          </p:nvSpPr>
          <p:spPr>
            <a:xfrm flipH="1" rot="17280000">
              <a:off x="2572200" y="2624040"/>
              <a:ext cx="2482560" cy="2278440"/>
            </a:xfrm>
            <a:custGeom>
              <a:avLst/>
              <a:gdLst>
                <a:gd name="textAreaLeft" fmla="*/ 360 w 2482560"/>
                <a:gd name="textAreaRight" fmla="*/ 2483280 w 2482560"/>
                <a:gd name="textAreaTop" fmla="*/ 0 h 2278440"/>
                <a:gd name="textAreaBottom" fmla="*/ 2278800 h 22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88a00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7184"/>
            <p:cNvSpPr/>
            <p:nvPr/>
          </p:nvSpPr>
          <p:spPr>
            <a:xfrm flipH="1" rot="12960000">
              <a:off x="2949120" y="3447720"/>
              <a:ext cx="2278080" cy="2482560"/>
            </a:xfrm>
            <a:custGeom>
              <a:avLst/>
              <a:gdLst>
                <a:gd name="textAreaLeft" fmla="*/ 360 w 2278080"/>
                <a:gd name="textAreaRight" fmla="*/ 2278800 w 2278080"/>
                <a:gd name="textAreaTop" fmla="*/ 0 h 2482560"/>
                <a:gd name="textAreaBottom" fmla="*/ 2482920 h 248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_s7182"/>
            <p:cNvSpPr/>
            <p:nvPr/>
          </p:nvSpPr>
          <p:spPr>
            <a:xfrm flipH="1" rot="8640000">
              <a:off x="3843000" y="3449880"/>
              <a:ext cx="2278080" cy="2481840"/>
            </a:xfrm>
            <a:custGeom>
              <a:avLst/>
              <a:gdLst>
                <a:gd name="textAreaLeft" fmla="*/ 360 w 2278080"/>
                <a:gd name="textAreaRight" fmla="*/ 2278800 w 2278080"/>
                <a:gd name="textAreaTop" fmla="*/ 0 h 2481840"/>
                <a:gd name="textAreaBottom" fmla="*/ 2482200 h 248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cb84d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7177"/>
            <p:cNvSpPr/>
            <p:nvPr/>
          </p:nvSpPr>
          <p:spPr>
            <a:xfrm flipH="1" rot="4320000">
              <a:off x="4018320" y="2625480"/>
              <a:ext cx="2482560" cy="2278080"/>
            </a:xfrm>
            <a:custGeom>
              <a:avLst/>
              <a:gdLst>
                <a:gd name="textAreaLeft" fmla="*/ 360 w 2482560"/>
                <a:gd name="textAreaRight" fmla="*/ 2483280 w 248256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ebd799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_s7175"/>
            <p:cNvSpPr/>
            <p:nvPr/>
          </p:nvSpPr>
          <p:spPr>
            <a:xfrm>
              <a:off x="3111480" y="2054880"/>
              <a:ext cx="8380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essa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7176"/>
            <p:cNvSpPr/>
            <p:nvPr/>
          </p:nvSpPr>
          <p:spPr>
            <a:xfrm>
              <a:off x="5740560" y="4135680"/>
              <a:ext cx="838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eedback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_s7179"/>
            <p:cNvSpPr/>
            <p:nvPr/>
          </p:nvSpPr>
          <p:spPr>
            <a:xfrm>
              <a:off x="5119560" y="2054880"/>
              <a:ext cx="8384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7181"/>
            <p:cNvSpPr/>
            <p:nvPr/>
          </p:nvSpPr>
          <p:spPr>
            <a:xfrm>
              <a:off x="2492280" y="4139280"/>
              <a:ext cx="83844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ediu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_s7183"/>
            <p:cNvSpPr/>
            <p:nvPr/>
          </p:nvSpPr>
          <p:spPr>
            <a:xfrm>
              <a:off x="4118040" y="5423400"/>
              <a:ext cx="838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eceiv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924720" y="1959480"/>
            <a:ext cx="4374720" cy="2512800"/>
            <a:chOff x="3924720" y="1959480"/>
            <a:chExt cx="4374720" cy="2512800"/>
          </a:xfrm>
        </p:grpSpPr>
        <p:sp>
          <p:nvSpPr>
            <p:cNvPr id="353" name="_s7187"/>
            <p:cNvSpPr/>
            <p:nvPr/>
          </p:nvSpPr>
          <p:spPr>
            <a:xfrm>
              <a:off x="3924720" y="3678840"/>
              <a:ext cx="1141920" cy="793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_s7188"/>
            <p:cNvSpPr/>
            <p:nvPr/>
          </p:nvSpPr>
          <p:spPr>
            <a:xfrm>
              <a:off x="7385760" y="1959480"/>
              <a:ext cx="913680" cy="1057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Arial"/>
                </a:rPr>
                <a:t>nois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nder can be writer, speaker, and enco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um can be memo, report, letter, interview, speech, telephone conversation, gesture, tone of voice, physical movement, picture, and cha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eiver can be reader, listener, perceiver, and deco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st common inappropriate assumptions about communication includes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cation is a simple, one-way ac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ffective communication is eas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essage sent ( intended ) is the same as the message received ( interpreted 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cation is a human skill cannot be improved 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ims of the communication in the individuals level includes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questing information “ To inquire”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ing information “To inform”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itiate people to understand the information and implement it “ To persuade”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joyment “To entertai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04:41:13Z</dcterms:created>
  <dc:creator>user</dc:creator>
  <dc:description/>
  <dc:language>en-US</dc:language>
  <cp:lastModifiedBy>Ashif</cp:lastModifiedBy>
  <dcterms:modified xsi:type="dcterms:W3CDTF">2008-10-21T04:56:08Z</dcterms:modified>
  <cp:revision>5</cp:revision>
  <dc:subject/>
  <dc:title>COMMUNICATION SKILLS</dc:title>
</cp:coreProperties>
</file>