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1DC-BB54-4FE0-B8C7-18521E0E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81F-82D2-4128-8B0B-72FCB9AD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936-7FA6-4375-BB11-733BDE5CB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AA4-DEC7-4223-98F1-A788EE5A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A28F-A797-4B4D-9B47-8EFB8398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C8F3-C380-4945-A918-B9B3B924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5682-2AAE-4840-A248-2FD236B6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943C-2D07-42ED-A58C-90F768B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3F2-617F-41E3-9267-7E8DA2A4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306-DCFA-4CFC-B84C-6EABA581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2B6D-0443-40A7-8B77-4B2831AD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E2B-6CCC-4BCF-86B1-7219BA63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18813-ECFD-428B-8B17-1E034149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6A49-C394-41F5-833E-9BEA846C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9535-7EB8-4320-8C26-30F3C7A9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E198-7F35-4D8C-A377-88BE697C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268C-41F7-4540-BCC7-E3027C027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F1D-FD6C-4773-96A2-62777692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730-54E5-4CC7-871F-A3073C1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694-CE80-4459-8581-BF62B95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4AE0-054A-4299-AE37-0E2BF556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3693-EBC5-4C64-9253-0CB9D30A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999-9E0D-401A-A28E-A88ACD3E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5ECB-4A62-4B8C-8DEE-C9F3D0F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E191-E762-418B-B676-B7C9563C99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9c7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9c73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9c73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9c73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c7300"/>
                        </a:solidFill>
                        <a:ln w="9360">
                          <a:solidFill>
                            <a:srgbClr val="9c73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9c73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9c73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9c7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9c7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9c7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9c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c7300"/>
                    </a:gs>
                    <a:gs pos="100000">
                      <a:srgbClr val="aa87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B876-B578-40D7-A190-DA3C945EFF05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ffff66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OMMUNICATION SKILLS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99640" y="3715920"/>
            <a:ext cx="7272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NATURE OF COMMUN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. Abdullah AL-Zahran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objectives of the communication within the organization are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eeting organizational goal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isfying professional responsibiliti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ulfilling personal role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riers are mainly the noise which exist in and effect each part within the communication proces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riers includes the following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straction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nses, e.g. Poor lighting, Overheated room, smoke file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ppearance, e.g. Poor appearance of a speaker, coffee spots on a written repor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SzPct val="6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k of interest in the subject matt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35000" indent="-577800">
              <a:spcBef>
                <a:spcPts val="601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adequate Knowledge.( sufficient backgroun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or Planning and listen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0% of our time is spent in listening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d listening is not easy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1035000" indent="-577800">
              <a:spcBef>
                <a:spcPts val="601"/>
              </a:spcBef>
              <a:buClr>
                <a:srgbClr val="ffffff"/>
              </a:buClr>
              <a:buFont typeface="Verdan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fferences in percep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tal Filter which no two are identical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409760" indent="-49536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fluenced by peoples skills, attitude, knowledge levels and sociocultural factor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otions and Personalities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th can play positive or negative ro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rozen Evaluation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.g. Typical head nurs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nguag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One language there are proble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Different languages there are many problem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levels of the communication can be classified into deferent types</a:t>
            </a:r>
            <a:r>
              <a:rPr b="0" lang="ar-S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 levels according to the number of participants 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rapers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person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mall group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 according to direction of the communication within the organizat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pward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31640" y="3906720"/>
            <a:ext cx="8208360" cy="2160000"/>
            <a:chOff x="431640" y="3906720"/>
            <a:chExt cx="8208360" cy="2160000"/>
          </a:xfrm>
        </p:grpSpPr>
        <p:cxnSp>
          <p:nvCxnSpPr>
            <p:cNvPr id="374" name="_s18445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5756040" y="3549600"/>
              <a:ext cx="432720" cy="287352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7" name="_s18444"/>
            <p:cNvCxnSpPr>
              <a:stCxn id="378" idx="0"/>
              <a:endCxn id="376" idx="2"/>
            </p:cNvCxnSpPr>
            <p:nvPr/>
          </p:nvCxnSpPr>
          <p:spPr>
            <a:xfrm flipV="1">
              <a:off x="4536000" y="4770360"/>
              <a:ext cx="3600" cy="4327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79" name="_s18443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2882880" y="3549960"/>
              <a:ext cx="432720" cy="2873520"/>
            </a:xfrm>
            <a:prstGeom prst="bentConnector3">
              <a:avLst>
                <a:gd name="adj1" fmla="val 2631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76" name="_s18439"/>
            <p:cNvSpPr/>
            <p:nvPr/>
          </p:nvSpPr>
          <p:spPr>
            <a:xfrm>
              <a:off x="3304440" y="3906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_s18440"/>
            <p:cNvSpPr/>
            <p:nvPr/>
          </p:nvSpPr>
          <p:spPr>
            <a:xfrm>
              <a:off x="431640" y="5202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_s18441"/>
            <p:cNvSpPr/>
            <p:nvPr/>
          </p:nvSpPr>
          <p:spPr>
            <a:xfrm>
              <a:off x="3304440" y="5202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_s18442"/>
            <p:cNvSpPr/>
            <p:nvPr/>
          </p:nvSpPr>
          <p:spPr>
            <a:xfrm>
              <a:off x="6177600" y="5202720"/>
              <a:ext cx="2462400" cy="864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 flipV="1">
            <a:off x="3059280" y="4508640"/>
            <a:ext cx="0" cy="15127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012000" y="4581360"/>
            <a:ext cx="0" cy="14400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457200" y="3941640"/>
            <a:ext cx="8228880" cy="2188800"/>
            <a:chOff x="457200" y="3941640"/>
            <a:chExt cx="8228880" cy="2188800"/>
          </a:xfrm>
        </p:grpSpPr>
        <p:cxnSp>
          <p:nvCxnSpPr>
            <p:cNvPr id="384" name="_s19464"/>
            <p:cNvCxnSpPr>
              <a:stCxn id="385" idx="0"/>
              <a:endCxn id="386" idx="2"/>
            </p:cNvCxnSpPr>
            <p:nvPr/>
          </p:nvCxnSpPr>
          <p:spPr>
            <a:xfrm flipV="1" rot="16200000">
              <a:off x="5792400" y="3595320"/>
              <a:ext cx="438480" cy="2880720"/>
            </a:xfrm>
            <a:prstGeom prst="bentConnector3">
              <a:avLst>
                <a:gd name="adj1" fmla="val 262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7" name="_s19465"/>
            <p:cNvCxnSpPr>
              <a:stCxn id="388" idx="0"/>
              <a:endCxn id="386" idx="2"/>
            </p:cNvCxnSpPr>
            <p:nvPr/>
          </p:nvCxnSpPr>
          <p:spPr>
            <a:xfrm flipV="1">
              <a:off x="4571640" y="4816800"/>
              <a:ext cx="3600" cy="438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89" name="_s19466"/>
            <p:cNvCxnSpPr>
              <a:stCxn id="390" idx="0"/>
              <a:endCxn id="386" idx="2"/>
            </p:cNvCxnSpPr>
            <p:nvPr/>
          </p:nvCxnSpPr>
          <p:spPr>
            <a:xfrm flipH="1" flipV="1" rot="5400000">
              <a:off x="2912040" y="3595680"/>
              <a:ext cx="438480" cy="2880720"/>
            </a:xfrm>
            <a:prstGeom prst="bentConnector3">
              <a:avLst>
                <a:gd name="adj1" fmla="val 2629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86" name="_s19467"/>
            <p:cNvSpPr/>
            <p:nvPr/>
          </p:nvSpPr>
          <p:spPr>
            <a:xfrm>
              <a:off x="3337200" y="394164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_s19468"/>
            <p:cNvSpPr/>
            <p:nvPr/>
          </p:nvSpPr>
          <p:spPr>
            <a:xfrm>
              <a:off x="457200" y="525492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_s19469"/>
            <p:cNvSpPr/>
            <p:nvPr/>
          </p:nvSpPr>
          <p:spPr>
            <a:xfrm>
              <a:off x="3337200" y="525492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_s19470"/>
            <p:cNvSpPr/>
            <p:nvPr/>
          </p:nvSpPr>
          <p:spPr>
            <a:xfrm>
              <a:off x="6217560" y="5254920"/>
              <a:ext cx="246852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Department mang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 according to direction of the communication within the organizat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wnwar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4797360"/>
            <a:ext cx="0" cy="15112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12000" y="4797360"/>
            <a:ext cx="0" cy="15112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vels according to direction of the communication within the organizati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teral or Crosswise,( horizontal, and diagonal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57200" y="3068640"/>
            <a:ext cx="8228520" cy="3455280"/>
            <a:chOff x="457200" y="3068640"/>
            <a:chExt cx="8228520" cy="3455280"/>
          </a:xfrm>
        </p:grpSpPr>
        <p:cxnSp>
          <p:nvCxnSpPr>
            <p:cNvPr id="398" name="_s22546"/>
            <p:cNvCxnSpPr>
              <a:stCxn id="399" idx="0"/>
              <a:endCxn id="400" idx="2"/>
            </p:cNvCxnSpPr>
            <p:nvPr/>
          </p:nvCxnSpPr>
          <p:spPr>
            <a:xfrm flipV="1">
              <a:off x="2355480" y="5227560"/>
              <a:ext cx="5400" cy="43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1" name="_s22544"/>
            <p:cNvCxnSpPr>
              <a:stCxn id="402" idx="0"/>
              <a:endCxn id="403" idx="2"/>
            </p:cNvCxnSpPr>
            <p:nvPr/>
          </p:nvCxnSpPr>
          <p:spPr>
            <a:xfrm flipV="1">
              <a:off x="6786720" y="5227560"/>
              <a:ext cx="5400" cy="432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4" name="_s22536"/>
            <p:cNvCxnSpPr>
              <a:stCxn id="403" idx="0"/>
              <a:endCxn id="405" idx="2"/>
            </p:cNvCxnSpPr>
            <p:nvPr/>
          </p:nvCxnSpPr>
          <p:spPr>
            <a:xfrm flipV="1" rot="16200000">
              <a:off x="5463000" y="3039840"/>
              <a:ext cx="432360" cy="2215440"/>
            </a:xfrm>
            <a:prstGeom prst="bentConnector3">
              <a:avLst>
                <a:gd name="adj1" fmla="val 26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6" name="_s22537"/>
            <p:cNvCxnSpPr>
              <a:stCxn id="400" idx="0"/>
              <a:endCxn id="405" idx="2"/>
            </p:cNvCxnSpPr>
            <p:nvPr/>
          </p:nvCxnSpPr>
          <p:spPr>
            <a:xfrm flipH="1" flipV="1" rot="5400000">
              <a:off x="3247200" y="3039840"/>
              <a:ext cx="432360" cy="2216160"/>
            </a:xfrm>
            <a:prstGeom prst="bentConnector3">
              <a:avLst>
                <a:gd name="adj1" fmla="val 26416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5" name="_s22539"/>
            <p:cNvSpPr/>
            <p:nvPr/>
          </p:nvSpPr>
          <p:spPr>
            <a:xfrm>
              <a:off x="2673000" y="306864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_s22541"/>
            <p:cNvSpPr/>
            <p:nvPr/>
          </p:nvSpPr>
          <p:spPr>
            <a:xfrm>
              <a:off x="457200" y="4364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_s22542"/>
            <p:cNvSpPr/>
            <p:nvPr/>
          </p:nvSpPr>
          <p:spPr>
            <a:xfrm>
              <a:off x="4888080" y="4364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22543"/>
            <p:cNvSpPr/>
            <p:nvPr/>
          </p:nvSpPr>
          <p:spPr>
            <a:xfrm>
              <a:off x="4888080" y="5660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Unit superviso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22545"/>
            <p:cNvSpPr/>
            <p:nvPr/>
          </p:nvSpPr>
          <p:spPr>
            <a:xfrm>
              <a:off x="457200" y="5660280"/>
              <a:ext cx="3797640" cy="8636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Unit superviso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924360" y="4797360"/>
            <a:ext cx="1224000" cy="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780000" y="5084640"/>
            <a:ext cx="1512720" cy="93672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58160" y="429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02880" y="544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levels according to the organization’s borders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rnal( within the organization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( with the external environment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457200" y="3941640"/>
            <a:ext cx="8228520" cy="2188800"/>
            <a:chOff x="457200" y="3941640"/>
            <a:chExt cx="8228520" cy="2188800"/>
          </a:xfrm>
        </p:grpSpPr>
        <p:cxnSp>
          <p:nvCxnSpPr>
            <p:cNvPr id="414" name="_s24583"/>
            <p:cNvCxnSpPr>
              <a:stCxn id="415" idx="0"/>
              <a:endCxn id="416" idx="2"/>
            </p:cNvCxnSpPr>
            <p:nvPr/>
          </p:nvCxnSpPr>
          <p:spPr>
            <a:xfrm flipV="1" rot="16200000">
              <a:off x="5460120" y="3927960"/>
              <a:ext cx="438480" cy="2215440"/>
            </a:xfrm>
            <a:prstGeom prst="bentConnector3">
              <a:avLst>
                <a:gd name="adj1" fmla="val 260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17" name="_s24584"/>
            <p:cNvCxnSpPr>
              <a:stCxn id="418" idx="0"/>
              <a:endCxn id="416" idx="2"/>
            </p:cNvCxnSpPr>
            <p:nvPr/>
          </p:nvCxnSpPr>
          <p:spPr>
            <a:xfrm flipH="1" flipV="1" rot="5400000">
              <a:off x="3243960" y="3927960"/>
              <a:ext cx="438480" cy="2216160"/>
            </a:xfrm>
            <a:prstGeom prst="bentConnector3">
              <a:avLst>
                <a:gd name="adj1" fmla="val 2604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16" name="_s24586"/>
            <p:cNvSpPr/>
            <p:nvPr/>
          </p:nvSpPr>
          <p:spPr>
            <a:xfrm>
              <a:off x="2673000" y="3941640"/>
              <a:ext cx="379764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General manager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_s24588"/>
            <p:cNvSpPr/>
            <p:nvPr/>
          </p:nvSpPr>
          <p:spPr>
            <a:xfrm>
              <a:off x="457200" y="5254920"/>
              <a:ext cx="379764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_s24589"/>
            <p:cNvSpPr/>
            <p:nvPr/>
          </p:nvSpPr>
          <p:spPr>
            <a:xfrm>
              <a:off x="4888080" y="5254920"/>
              <a:ext cx="3797640" cy="8755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Department manager</a:t>
              </a:r>
              <a:r>
                <a:rPr b="0" lang="en-US" sz="2200" spc="-1" strike="noStrike">
                  <a:solidFill>
                    <a:srgbClr val="ffffff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851280" y="5661000"/>
            <a:ext cx="1512720" cy="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4572000" y="4508280"/>
            <a:ext cx="0" cy="16570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877080" y="3860280"/>
            <a:ext cx="1150920" cy="86364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900000" y="3933720"/>
            <a:ext cx="1224000" cy="93528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382520" y="4365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39840" y="424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3800" y="43657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56720" y="61657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tyles of the communication can be 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horitarian or autocratic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ternalistic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ermissiv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cratic or participativ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fini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titu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im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appropriate Assumption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bjectiv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rrier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vel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yl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ritten communica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advantages of written communication a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document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legal defens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formity of procedur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y decrease the cos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disadvantages are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crease pape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t immediate feedback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long tim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al communication ( formal or informal)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advantages of oral communication ar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feedback is immedi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sible clarificati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ffect can be no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feeling of importan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disadvantages are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y take tim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y  be costly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uides toward effective communicatio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arify the messag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familiar symbo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 your  communic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ider receiver’s needs and interes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selection of mea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ive required feedback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ure good environm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d listening.( 10 guides 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0 guides of good listening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op talking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t the talker at eas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how the talker that you want to liste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move distraction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3360" indent="-60336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mpathize with the talke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10 guides of good listening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e patien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old your temper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o easy on argument and criticism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sk question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1001"/>
              </a:spcBef>
              <a:buClr>
                <a:srgbClr val="ffff99"/>
              </a:buClr>
              <a:buSzPct val="60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op talking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uides toward effective written communication: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ords should be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imple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amiliar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Necessary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ntence should be;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or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ith example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active verb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4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ith personal pronouns “you”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NATURE OF COMMITTE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he committee is one of complex example of the communication which used due to a growing emphasis on group management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uthority; (decisions, recommendations, and insights)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ize ; 5 – 16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NATURE OF COMMITTE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hip;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presents the interests intended to serve and the required authorit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 should have the capacity to communica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ject matter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mitations should be considered by an agenda and relevant information circulated well in advanc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THE NATURE OF COMMITTEE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hairperson; act to avoid the wastes of the committee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nutes; used to avoid the varying interpretations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st effectiveness where the committee most worth it’s cost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finitions: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munication = to make it commo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= to make it shared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mmunication deals (sending and receiving) with information, feelings, thoughts, messages, ideas, attitude, and understanding, ..et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spcBef>
                <a:spcPts val="726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ffective communication can be measured in terms of whether or not the sender’s message has had the intended impact on it’s receive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Definitions (cont.):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Effective communication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versus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Miscommunication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Real communication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versus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3300" spc="-1" strike="noStrike">
                <a:solidFill>
                  <a:srgbClr val="ffffff"/>
                </a:solidFill>
                <a:latin typeface="Verdana"/>
              </a:rPr>
              <a:t>Feedback loop.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unication is a continuous process that composed of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nder ( thought and encoding 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um (means, channels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ver( reception, decoding, and understanding )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ssage. (Transmission 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dback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i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346840" y="1951200"/>
            <a:ext cx="4380120" cy="4413240"/>
            <a:chOff x="2346840" y="1951200"/>
            <a:chExt cx="4380120" cy="4413240"/>
          </a:xfrm>
        </p:grpSpPr>
        <p:sp>
          <p:nvSpPr>
            <p:cNvPr id="342" name="_s7180"/>
            <p:cNvSpPr/>
            <p:nvPr/>
          </p:nvSpPr>
          <p:spPr>
            <a:xfrm flipH="1">
              <a:off x="3397320" y="1951200"/>
              <a:ext cx="2278080" cy="2481840"/>
            </a:xfrm>
            <a:custGeom>
              <a:avLst/>
              <a:gdLst>
                <a:gd name="textAreaLeft" fmla="*/ 360 w 2278080"/>
                <a:gd name="textAreaRight" fmla="*/ 2278800 w 2278080"/>
                <a:gd name="textAreaTop" fmla="*/ 0 h 2481840"/>
                <a:gd name="textAreaBottom" fmla="*/ 2482200 h 248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a37a00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_s7178"/>
            <p:cNvSpPr/>
            <p:nvPr/>
          </p:nvSpPr>
          <p:spPr>
            <a:xfrm flipH="1" rot="17280000">
              <a:off x="2572200" y="2624040"/>
              <a:ext cx="2482560" cy="2278440"/>
            </a:xfrm>
            <a:custGeom>
              <a:avLst/>
              <a:gdLst>
                <a:gd name="textAreaLeft" fmla="*/ 360 w 2482560"/>
                <a:gd name="textAreaRight" fmla="*/ 2483280 w 2482560"/>
                <a:gd name="textAreaTop" fmla="*/ 0 h 2278440"/>
                <a:gd name="textAreaBottom" fmla="*/ 2278800 h 227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b88a00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_s7184"/>
            <p:cNvSpPr/>
            <p:nvPr/>
          </p:nvSpPr>
          <p:spPr>
            <a:xfrm flipH="1" rot="12960000">
              <a:off x="2949120" y="3447720"/>
              <a:ext cx="2278080" cy="2482560"/>
            </a:xfrm>
            <a:custGeom>
              <a:avLst/>
              <a:gdLst>
                <a:gd name="textAreaLeft" fmla="*/ 360 w 2278080"/>
                <a:gd name="textAreaRight" fmla="*/ 2278800 w 2278080"/>
                <a:gd name="textAreaTop" fmla="*/ 0 h 2482560"/>
                <a:gd name="textAreaBottom" fmla="*/ 2482920 h 248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_s7182"/>
            <p:cNvSpPr/>
            <p:nvPr/>
          </p:nvSpPr>
          <p:spPr>
            <a:xfrm flipH="1" rot="8640000">
              <a:off x="3843000" y="3449880"/>
              <a:ext cx="2278080" cy="2481840"/>
            </a:xfrm>
            <a:custGeom>
              <a:avLst/>
              <a:gdLst>
                <a:gd name="textAreaLeft" fmla="*/ 360 w 2278080"/>
                <a:gd name="textAreaRight" fmla="*/ 2278800 w 2278080"/>
                <a:gd name="textAreaTop" fmla="*/ 0 h 2481840"/>
                <a:gd name="textAreaBottom" fmla="*/ 2482200 h 248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dcb84d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_s7177"/>
            <p:cNvSpPr/>
            <p:nvPr/>
          </p:nvSpPr>
          <p:spPr>
            <a:xfrm flipH="1" rot="4320000">
              <a:off x="4018320" y="2625480"/>
              <a:ext cx="2482560" cy="2278080"/>
            </a:xfrm>
            <a:custGeom>
              <a:avLst/>
              <a:gdLst>
                <a:gd name="textAreaLeft" fmla="*/ 360 w 2482560"/>
                <a:gd name="textAreaRight" fmla="*/ 2483280 w 248256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ebd799"/>
            </a:solidFill>
            <a:ln w="9360">
              <a:solidFill>
                <a:srgbClr val="513d00"/>
              </a:solidFill>
              <a:miter/>
            </a:ln>
            <a:effectLst>
              <a:outerShdw dist="71785" dir="2700000" blurRad="0" rotWithShape="0">
                <a:srgbClr val="6a47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_s7175"/>
            <p:cNvSpPr/>
            <p:nvPr/>
          </p:nvSpPr>
          <p:spPr>
            <a:xfrm>
              <a:off x="3111480" y="2054880"/>
              <a:ext cx="8380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ssag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_s7176"/>
            <p:cNvSpPr/>
            <p:nvPr/>
          </p:nvSpPr>
          <p:spPr>
            <a:xfrm>
              <a:off x="5740560" y="4135680"/>
              <a:ext cx="838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feedback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_s7179"/>
            <p:cNvSpPr/>
            <p:nvPr/>
          </p:nvSpPr>
          <p:spPr>
            <a:xfrm>
              <a:off x="5119560" y="2054880"/>
              <a:ext cx="83844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_s7181"/>
            <p:cNvSpPr/>
            <p:nvPr/>
          </p:nvSpPr>
          <p:spPr>
            <a:xfrm>
              <a:off x="2492280" y="4139280"/>
              <a:ext cx="83844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ediu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_s7183"/>
            <p:cNvSpPr/>
            <p:nvPr/>
          </p:nvSpPr>
          <p:spPr>
            <a:xfrm>
              <a:off x="4118040" y="5423400"/>
              <a:ext cx="8380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receiver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924720" y="1959480"/>
            <a:ext cx="4374720" cy="2512800"/>
            <a:chOff x="3924720" y="1959480"/>
            <a:chExt cx="4374720" cy="2512800"/>
          </a:xfrm>
        </p:grpSpPr>
        <p:sp>
          <p:nvSpPr>
            <p:cNvPr id="353" name="_s7187"/>
            <p:cNvSpPr/>
            <p:nvPr/>
          </p:nvSpPr>
          <p:spPr>
            <a:xfrm>
              <a:off x="3924720" y="3678840"/>
              <a:ext cx="1141920" cy="7934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_s7188"/>
            <p:cNvSpPr/>
            <p:nvPr/>
          </p:nvSpPr>
          <p:spPr>
            <a:xfrm>
              <a:off x="7385760" y="1959480"/>
              <a:ext cx="913680" cy="105732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Arial"/>
                </a:rPr>
                <a:t>noise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nder can be writer, speaker, and enco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dium can be memo, report, letter, interview, speech, telephone conversation, gesture, tone of voice, physical movement, picture, and cha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ceiver can be reader, listener, perceiver, and decod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ost common inappropriate assumptions about communication includes 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is a simple, one-way ac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ective communication is eas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message sent ( intended ) is the same as the message received ( interpreted 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cation is a human skill cannot be improved 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2900"/>
            </a:gs>
            <a:gs pos="100000">
              <a:srgbClr val="9c7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THE NATURE OF COMMUNICATION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ims of the communication in the individuals level includes 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questing information “ To inquire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ing information “To inform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te people to understand the information and implement it “ To persuade”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joyment “To entertain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4:41:13Z</dcterms:created>
  <dc:creator>user</dc:creator>
  <dc:description/>
  <dc:language>en-US</dc:language>
  <cp:lastModifiedBy>Ashif</cp:lastModifiedBy>
  <dcterms:modified xsi:type="dcterms:W3CDTF">2008-10-21T04:56:08Z</dcterms:modified>
  <cp:revision>5</cp:revision>
  <dc:subject/>
  <dc:title>COMMUNICATION SKILLS</dc:title>
</cp:coreProperties>
</file>