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090-BC80-4BB1-B8EF-48B274E8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0DE-4278-4AAC-9EEF-CD8DE404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155-370E-4338-BFD9-D1025ED4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450-232A-4A68-A882-D25D812A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506C-424A-4BBF-B290-1E8B5F73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20CC-38ED-42F0-8C02-F7206E7F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4379-B66A-4982-A28A-000F5E1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8763-EE69-48B3-9DA7-2E215248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4F49-D353-4E9A-B33D-AD79BF39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7382-7158-42CE-A411-AE9ED7A4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B0D0-588C-4820-A1A7-8EB53EA7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91D-A503-4FEE-B66C-34C6F4A7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1694-67B0-447A-A61B-13148264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24F2-835E-429E-9D75-E0514A38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08D2-12E7-44AB-8E62-AD2C2FB8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9BCD-F584-4563-88CA-AB5484A2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7E82-1BB5-4CA5-860C-2EE4E42C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E7C2-F8EA-418D-B182-A960624B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6ACA-6498-4882-B949-12B34456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3DAA-2B94-4ECD-8F28-DF2DF8B3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5D5F-A592-45E0-B8A2-49CB32C2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ABA45-D79C-4082-8C04-72D9F94B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5B6-A839-4D16-A098-C202FDDB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C635-EEBD-4702-8E42-80E1A80F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C918-0A96-4932-BA8F-5277E3D8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3D4B8-444C-4AB6-9144-12842908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8DB0-E69F-47CA-9D24-360D77F2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9732-9A9E-4257-BC67-AF59A511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83C6B-A44A-4F37-A4D1-65922DC8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F1A6-024B-44B9-96E1-352A5454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A4A30-AC9A-41A5-A84E-B4B02613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272C-9A24-42D3-B499-449D5A24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2700-C3D2-4079-A7D9-5659948B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03A-50B5-4259-87C8-07AE876D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7D1C-7ABF-4519-A51D-46CB9D59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DE8F-877F-44B2-9A56-0DA69977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2BB1-6435-4A1C-845E-5FE4FCEB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96ED-D441-4D5A-AEC2-FFE68069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5A0F-BDFF-46E7-9B99-80CBB003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14B25-7576-4A50-ABA0-19DFF143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0C21-5C2B-404C-82E5-A9AE10D3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C0F5-C25E-4812-B7DE-081DA674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79F3-BB9E-498C-A1F7-6E871B28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614-BF07-4E20-87DA-71217EE2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6F5-957C-46BB-8553-6E21539A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A59-DF63-4868-9295-AF8123B1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252-D546-44CC-AFAE-9FB8C79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5A5-AD8C-414B-823C-2FC901A7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F0D3-D77D-4136-BB76-FEA98D174185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E5B2-6E72-473E-BA5B-1C2613277B9F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5472-2C7B-4F47-9ED3-055241B46B50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C16B-3271-4F36-82E3-3B69AAC450BC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شكل بيضاوي 4"/>
          <p:cNvSpPr/>
          <p:nvPr/>
        </p:nvSpPr>
        <p:spPr>
          <a:xfrm>
            <a:off x="1214280" y="214200"/>
            <a:ext cx="6500880" cy="700200"/>
          </a:xfrm>
          <a:prstGeom prst="ellipse">
            <a:avLst/>
          </a:prstGeom>
          <a:solidFill>
            <a:srgbClr val="00000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617040" y="2858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دراسة الوراثة الكمية في نبات الفو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مستطيل 6"/>
          <p:cNvSpPr/>
          <p:nvPr/>
        </p:nvSpPr>
        <p:spPr>
          <a:xfrm>
            <a:off x="-285840" y="1285920"/>
            <a:ext cx="9429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تؤخذ عينة من بذور الفول وتقسم البذور إلى مجموع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cc577"/>
                </a:solidFill>
                <a:latin typeface="Arial Narrow"/>
              </a:rPr>
              <a:t>المجموعة الأولى:</a:t>
            </a:r>
            <a:r>
              <a:rPr b="1" lang="ar-SA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توضع في أصص وتكون البذور فيهامزدحمة وغير منتظمة ) توزع بطر يقة عشوائ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ecc577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cc577"/>
                </a:solidFill>
                <a:latin typeface="Arial Narrow"/>
              </a:rPr>
              <a:t>المجموعة الثانية </a:t>
            </a:r>
            <a:r>
              <a:rPr b="0" lang="ar-SA" sz="2800" spc="-1" strike="noStrike">
                <a:solidFill>
                  <a:srgbClr val="ecc577"/>
                </a:solidFill>
                <a:latin typeface="Arial Narrow"/>
              </a:rPr>
              <a:t>: 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توضع البذور في أصص وتكون موزعة بطريقة منتظم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وغير مزدح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c5048"/>
                </a:solidFill>
                <a:latin typeface="Arial Narrow"/>
              </a:rPr>
              <a:t>- بعد أسبوعين يتم قياس ( </a:t>
            </a:r>
            <a:r>
              <a:rPr b="1" lang="ar-SA" sz="2800" spc="-1" strike="noStrike">
                <a:solidFill>
                  <a:srgbClr val="5c5048"/>
                </a:solidFill>
                <a:latin typeface="Arial Narrow"/>
              </a:rPr>
              <a:t>10</a:t>
            </a:r>
            <a:r>
              <a:rPr b="1" lang="ar-SA" sz="2800" spc="-1" strike="noStrike">
                <a:solidFill>
                  <a:srgbClr val="5c5048"/>
                </a:solidFill>
                <a:latin typeface="Arial Narrow"/>
              </a:rPr>
              <a:t> نباتات من كل مجموعة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 طول ووزن المجموع الخض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- طول ووزن المجموع الجذ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-  عدد السلام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-  وزن الأوراق وعدد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مخطط انسيابي: رابط 1"/>
          <p:cNvSpPr/>
          <p:nvPr/>
        </p:nvSpPr>
        <p:spPr>
          <a:xfrm>
            <a:off x="5000760" y="1643040"/>
            <a:ext cx="2857320" cy="2928960"/>
          </a:xfrm>
          <a:prstGeom prst="flowChartConnector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مخطط انسيابي: رابط 4"/>
          <p:cNvSpPr/>
          <p:nvPr/>
        </p:nvSpPr>
        <p:spPr>
          <a:xfrm>
            <a:off x="1285920" y="1643040"/>
            <a:ext cx="2857320" cy="2928960"/>
          </a:xfrm>
          <a:prstGeom prst="flowChartConnector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مربع نص 5"/>
          <p:cNvSpPr/>
          <p:nvPr/>
        </p:nvSpPr>
        <p:spPr>
          <a:xfrm>
            <a:off x="5286240" y="4572000"/>
            <a:ext cx="25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جموعه الأول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مربع نص 6"/>
          <p:cNvSpPr/>
          <p:nvPr/>
        </p:nvSpPr>
        <p:spPr>
          <a:xfrm>
            <a:off x="1357200" y="4643280"/>
            <a:ext cx="25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جموعه الثا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مخطط انسيابي: رابط 7"/>
          <p:cNvSpPr/>
          <p:nvPr/>
        </p:nvSpPr>
        <p:spPr>
          <a:xfrm flipH="1">
            <a:off x="6786000" y="200016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مخطط انسيابي: رابط 8"/>
          <p:cNvSpPr/>
          <p:nvPr/>
        </p:nvSpPr>
        <p:spPr>
          <a:xfrm flipH="1">
            <a:off x="6000120" y="342900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مخطط انسيابي: رابط 9"/>
          <p:cNvSpPr/>
          <p:nvPr/>
        </p:nvSpPr>
        <p:spPr>
          <a:xfrm flipH="1">
            <a:off x="6500160" y="292896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مخطط انسيابي: رابط 10"/>
          <p:cNvSpPr/>
          <p:nvPr/>
        </p:nvSpPr>
        <p:spPr>
          <a:xfrm flipH="1">
            <a:off x="6143040" y="235728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مخطط انسيابي: رابط 11"/>
          <p:cNvSpPr/>
          <p:nvPr/>
        </p:nvSpPr>
        <p:spPr>
          <a:xfrm flipH="1">
            <a:off x="7215120" y="2857680"/>
            <a:ext cx="11448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مخطط انسيابي: رابط 12"/>
          <p:cNvSpPr/>
          <p:nvPr/>
        </p:nvSpPr>
        <p:spPr>
          <a:xfrm flipH="1">
            <a:off x="6858000" y="3786120"/>
            <a:ext cx="11448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مخطط انسيابي: رابط 13"/>
          <p:cNvSpPr/>
          <p:nvPr/>
        </p:nvSpPr>
        <p:spPr>
          <a:xfrm flipH="1">
            <a:off x="5643000" y="285768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مخطط انسيابي: رابط 14"/>
          <p:cNvSpPr/>
          <p:nvPr/>
        </p:nvSpPr>
        <p:spPr>
          <a:xfrm flipH="1">
            <a:off x="5786280" y="2143080"/>
            <a:ext cx="11448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مخطط انسيابي: رابط 15"/>
          <p:cNvSpPr/>
          <p:nvPr/>
        </p:nvSpPr>
        <p:spPr>
          <a:xfrm flipH="1">
            <a:off x="6572160" y="3714840"/>
            <a:ext cx="11448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مخطط انسيابي: رابط 16"/>
          <p:cNvSpPr/>
          <p:nvPr/>
        </p:nvSpPr>
        <p:spPr>
          <a:xfrm flipH="1">
            <a:off x="6929280" y="2714760"/>
            <a:ext cx="11448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مخطط انسيابي: رابط 17"/>
          <p:cNvSpPr/>
          <p:nvPr/>
        </p:nvSpPr>
        <p:spPr>
          <a:xfrm flipH="1">
            <a:off x="2071080" y="228600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مخطط انسيابي: رابط 18"/>
          <p:cNvSpPr/>
          <p:nvPr/>
        </p:nvSpPr>
        <p:spPr>
          <a:xfrm flipH="1">
            <a:off x="2071080" y="300024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مخطط انسيابي: رابط 19"/>
          <p:cNvSpPr/>
          <p:nvPr/>
        </p:nvSpPr>
        <p:spPr>
          <a:xfrm flipH="1">
            <a:off x="2071080" y="364320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مخطط انسيابي: رابط 21"/>
          <p:cNvSpPr/>
          <p:nvPr/>
        </p:nvSpPr>
        <p:spPr>
          <a:xfrm flipH="1">
            <a:off x="2714040" y="292896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مخطط انسيابي: رابط 22"/>
          <p:cNvSpPr/>
          <p:nvPr/>
        </p:nvSpPr>
        <p:spPr>
          <a:xfrm flipH="1">
            <a:off x="2714040" y="357192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مخطط انسيابي: رابط 23"/>
          <p:cNvSpPr/>
          <p:nvPr/>
        </p:nvSpPr>
        <p:spPr>
          <a:xfrm flipH="1">
            <a:off x="3357000" y="357192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مخطط انسيابي: رابط 24"/>
          <p:cNvSpPr/>
          <p:nvPr/>
        </p:nvSpPr>
        <p:spPr>
          <a:xfrm flipH="1">
            <a:off x="3357000" y="285768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مخطط انسيابي: رابط 25"/>
          <p:cNvSpPr/>
          <p:nvPr/>
        </p:nvSpPr>
        <p:spPr>
          <a:xfrm flipH="1">
            <a:off x="2714040" y="235728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مخطط انسيابي: رابط 26"/>
          <p:cNvSpPr/>
          <p:nvPr/>
        </p:nvSpPr>
        <p:spPr>
          <a:xfrm flipH="1">
            <a:off x="3357000" y="228600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مستطيل 1"/>
          <p:cNvSpPr/>
          <p:nvPr/>
        </p:nvSpPr>
        <p:spPr>
          <a:xfrm>
            <a:off x="214200" y="285840"/>
            <a:ext cx="8715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تٌم حساب كل من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المتوسط الحسابي ، الانحراف المعياري ، ومعامل الاختلا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 مطلوب تقرير يحتوي على الحسابات السابقة والصور إن وجد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مستطيل 2"/>
          <p:cNvSpPr/>
          <p:nvPr/>
        </p:nvSpPr>
        <p:spPr>
          <a:xfrm>
            <a:off x="1573560" y="2143080"/>
            <a:ext cx="81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مثال:حساب طول الساق للبذور المنتظ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00120" y="3000240"/>
          <a:ext cx="6572160" cy="3657600"/>
        </p:xfrm>
        <a:graphic>
          <a:graphicData uri="http://schemas.openxmlformats.org/drawingml/2006/table">
            <a:tbl>
              <a:tblPr/>
              <a:tblGrid>
                <a:gridCol w="1214640"/>
                <a:gridCol w="1414440"/>
                <a:gridCol w="1314360"/>
                <a:gridCol w="1314360"/>
                <a:gridCol w="1314360"/>
              </a:tblGrid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س - 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س - 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</a:tbl>
          </a:graphicData>
        </a:graphic>
      </p:graphicFrame>
      <p:sp>
        <p:nvSpPr>
          <p:cNvPr id="196" name="رابط مستقيم 7"/>
          <p:cNvSpPr/>
          <p:nvPr/>
        </p:nvSpPr>
        <p:spPr>
          <a:xfrm>
            <a:off x="4643280" y="3143160"/>
            <a:ext cx="285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رابط مستقيم 13"/>
          <p:cNvSpPr/>
          <p:nvPr/>
        </p:nvSpPr>
        <p:spPr>
          <a:xfrm>
            <a:off x="2928960" y="3143160"/>
            <a:ext cx="285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رابط مستقيم 17"/>
          <p:cNvSpPr/>
          <p:nvPr/>
        </p:nvSpPr>
        <p:spPr>
          <a:xfrm>
            <a:off x="1643040" y="3143160"/>
            <a:ext cx="357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مستطيل 1"/>
          <p:cNvSpPr/>
          <p:nvPr/>
        </p:nvSpPr>
        <p:spPr>
          <a:xfrm>
            <a:off x="0" y="1000080"/>
            <a:ext cx="885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المتوسط الحسابي س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مجموع قراءات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                                   عد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*معامل الانحراف القياسي (نحق)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.D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ج (س – س )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*معامل الاختلاف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.V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انحراف القياسي (نحق)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                            المتوسط الحسابي (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رابط مستقيم 3"/>
          <p:cNvSpPr/>
          <p:nvPr/>
        </p:nvSpPr>
        <p:spPr>
          <a:xfrm>
            <a:off x="3000240" y="1571760"/>
            <a:ext cx="2428920" cy="144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رابط مستقيم 5"/>
          <p:cNvSpPr/>
          <p:nvPr/>
        </p:nvSpPr>
        <p:spPr>
          <a:xfrm>
            <a:off x="6643800" y="3500280"/>
            <a:ext cx="2071440" cy="180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رابط مستقيم 10"/>
          <p:cNvSpPr/>
          <p:nvPr/>
        </p:nvSpPr>
        <p:spPr>
          <a:xfrm>
            <a:off x="6429240" y="2963880"/>
            <a:ext cx="2428920" cy="144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رابط مستقيم 12"/>
          <p:cNvSpPr/>
          <p:nvPr/>
        </p:nvSpPr>
        <p:spPr>
          <a:xfrm flipH="1">
            <a:off x="8848800" y="2965320"/>
            <a:ext cx="1440" cy="107316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رابط مستقيم 33"/>
          <p:cNvSpPr/>
          <p:nvPr/>
        </p:nvSpPr>
        <p:spPr>
          <a:xfrm flipV="1">
            <a:off x="8838360" y="3821040"/>
            <a:ext cx="71640" cy="21600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رابط مستقيم 36"/>
          <p:cNvSpPr/>
          <p:nvPr/>
        </p:nvSpPr>
        <p:spPr>
          <a:xfrm>
            <a:off x="2214720" y="4857840"/>
            <a:ext cx="3286080" cy="144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رابط مستقيم 38"/>
          <p:cNvSpPr/>
          <p:nvPr/>
        </p:nvSpPr>
        <p:spPr>
          <a:xfrm>
            <a:off x="2500200" y="5000760"/>
            <a:ext cx="285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9:57:07Z</dcterms:created>
  <dc:creator>xp</dc:creator>
  <dc:description/>
  <dc:language>en-US</dc:language>
  <cp:lastModifiedBy>pc</cp:lastModifiedBy>
  <dcterms:modified xsi:type="dcterms:W3CDTF">2016-12-05T09:05:22Z</dcterms:modified>
  <cp:revision>7</cp:revision>
  <dc:subject/>
  <dc:title>الشريحة 1</dc:title>
</cp:coreProperties>
</file>