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7D3-7554-487B-9783-A998D200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110-B6B2-46B7-92B3-868889FD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573C-D7D2-49AE-B5C9-FB026C9F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BBD2-F500-49C6-84C3-F67E3F70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2B6B-EF64-4F22-A9EC-CC9D9A21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6E61-DD38-4B18-BFB0-029396A9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4BEC-0D8F-4B55-B50F-64BC3D41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885E-C46C-4889-9C6F-DE9BA26D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F962-472D-45C0-BD22-B039C943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A08B-8F84-4D1B-9233-0B79DCC4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2D5E-0A2E-4977-A461-5D6592C1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055-B4FB-414F-90DD-91F530CA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05B3-A09F-4DA8-BBE7-AB9F3BFE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0717-A7E7-45A5-AF74-B53364D7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3ACF-C51E-4746-BC67-A571FA17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6BC9-44E3-40C6-AEA6-A264B2AC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9034-3881-409A-AF16-CDDE49BB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C578D-7731-4905-B3C2-63A7966E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603FC-E27F-4200-B323-AA10A9A7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9E8D6-FFEF-4445-B359-84516F99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D3510-9F91-491E-B18C-1E753B4B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FE575-83AB-46B4-8F57-15A5A69F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33B-2D7B-4C62-83B2-C14B0201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145F6-ACD8-4B95-9746-6AF0159D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94574-E1A6-471A-B824-521E8B80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71404-68D5-4985-A0F4-0A81F578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FDC96-A781-4276-8F5F-9E3CBBCA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A6800-6253-4638-AF88-7DC19254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CC766-6D92-433B-83F6-7D994DB5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7496D-64C7-4EA5-854B-B6BFCB46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910F3-1428-4F7B-B591-D5B73B7A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53BC1-AC9E-43B5-85DE-F5D5EF34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77DEF-C0C8-4524-8B6E-C96FCEA1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03E-38DE-47EF-A0FF-C07BF823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B1B65-F809-4C30-BCA2-1703B623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6D62F-6D57-418F-8E47-25ABD7A0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CC8A4-FEDE-49E9-BCE5-A987AC55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A88BD-A801-4B82-B2F4-9CDE5D0D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2C8DB-D4FA-4F7A-9AD2-A75DD3AF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C8D8B-4E8D-412D-B336-02EF677C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03DCE-0066-4DAA-B74B-108D89A2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E92D2-35A9-48BE-AE8A-E8EA8F21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08781-12B5-48E8-BFD7-2FABCC72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936-16D7-459B-95CB-55A87F3C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0AB-CDD9-4B8D-85D6-DF17AC39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8A7-D04B-4E3C-A13A-8D43E5BC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F06-9FF5-4CBD-9177-D67969BF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708-7495-486E-8F05-54A2377F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DA4A-8260-4617-96CA-3F75087BEFC9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CB03-D0F5-4BC8-9A8F-AE508A4F1BEA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01C1-0299-4F6E-9A42-50BB2BFC3C6A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 algn="r" rtl="1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B8C3-BDDE-4F12-A8F7-9CE3D9F99759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شكل بيضاوي 4"/>
          <p:cNvSpPr/>
          <p:nvPr/>
        </p:nvSpPr>
        <p:spPr>
          <a:xfrm>
            <a:off x="1214280" y="214200"/>
            <a:ext cx="6500880" cy="700200"/>
          </a:xfrm>
          <a:prstGeom prst="ellipse">
            <a:avLst/>
          </a:prstGeom>
          <a:solidFill>
            <a:srgbClr val="000000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مستطيل 5"/>
          <p:cNvSpPr/>
          <p:nvPr/>
        </p:nvSpPr>
        <p:spPr>
          <a:xfrm>
            <a:off x="617040" y="2858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دراسة الوراثة الكمية في نبات الفو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مستطيل 6"/>
          <p:cNvSpPr/>
          <p:nvPr/>
        </p:nvSpPr>
        <p:spPr>
          <a:xfrm>
            <a:off x="-285840" y="1285920"/>
            <a:ext cx="9429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 Narrow"/>
              </a:rPr>
              <a:t>تؤخذ عينة من بذور الفول وتقسم البذور إلى مجموع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cc577"/>
                </a:solidFill>
                <a:latin typeface="Arial Narrow"/>
              </a:rPr>
              <a:t>المجموعة الأولى:</a:t>
            </a:r>
            <a:r>
              <a:rPr b="1" lang="ar-SA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 Narrow"/>
              </a:rPr>
              <a:t>توضع في أصص وتكون البذور فيهامزدحمة وغير منتظمة ) توزع بطر يقة عشوائ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ecc577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cc577"/>
                </a:solidFill>
                <a:latin typeface="Arial Narrow"/>
              </a:rPr>
              <a:t>المجموعة الثانية </a:t>
            </a:r>
            <a:r>
              <a:rPr b="0" lang="ar-SA" sz="2800" spc="-1" strike="noStrike">
                <a:solidFill>
                  <a:srgbClr val="ecc577"/>
                </a:solidFill>
                <a:latin typeface="Arial Narrow"/>
              </a:rPr>
              <a:t>: </a:t>
            </a:r>
            <a:r>
              <a:rPr b="0" lang="ar-SA" sz="2800" spc="-1" strike="noStrike">
                <a:solidFill>
                  <a:srgbClr val="ffffff"/>
                </a:solidFill>
                <a:latin typeface="Arial Narrow"/>
              </a:rPr>
              <a:t>توضع البذور في أصص وتكون موزعة بطريقة منتظم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 Narrow"/>
              </a:rPr>
              <a:t>وغير مزدح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c5048"/>
                </a:solidFill>
                <a:latin typeface="Arial Narrow"/>
              </a:rPr>
              <a:t>- بعد أسبوعين يتم قياس ( </a:t>
            </a:r>
            <a:r>
              <a:rPr b="1" lang="ar-SA" sz="2800" spc="-1" strike="noStrike">
                <a:solidFill>
                  <a:srgbClr val="5c5048"/>
                </a:solidFill>
                <a:latin typeface="Arial Narrow"/>
              </a:rPr>
              <a:t>10</a:t>
            </a:r>
            <a:r>
              <a:rPr b="1" lang="ar-SA" sz="2800" spc="-1" strike="noStrike">
                <a:solidFill>
                  <a:srgbClr val="5c5048"/>
                </a:solidFill>
                <a:latin typeface="Arial Narrow"/>
              </a:rPr>
              <a:t> نباتات من كل مجموعة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 Narrow"/>
              </a:rPr>
              <a:t> طول ووزن المجموع الخضر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 Narrow"/>
              </a:rPr>
              <a:t>- طول ووزن المجموع الجذر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 Narrow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 Narrow"/>
              </a:rPr>
              <a:t>-  عدد السلام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 Narrow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Arial Narrow"/>
              </a:rPr>
              <a:t>-  وزن الأوراق وعدد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مخطط انسيابي: رابط 1"/>
          <p:cNvSpPr/>
          <p:nvPr/>
        </p:nvSpPr>
        <p:spPr>
          <a:xfrm>
            <a:off x="5000760" y="1643040"/>
            <a:ext cx="2857320" cy="2928960"/>
          </a:xfrm>
          <a:prstGeom prst="flowChartConnector">
            <a:avLst/>
          </a:prstGeom>
          <a:noFill/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مخطط انسيابي: رابط 4"/>
          <p:cNvSpPr/>
          <p:nvPr/>
        </p:nvSpPr>
        <p:spPr>
          <a:xfrm>
            <a:off x="1285920" y="1643040"/>
            <a:ext cx="2857320" cy="2928960"/>
          </a:xfrm>
          <a:prstGeom prst="flowChartConnector">
            <a:avLst/>
          </a:prstGeom>
          <a:noFill/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مربع نص 5"/>
          <p:cNvSpPr/>
          <p:nvPr/>
        </p:nvSpPr>
        <p:spPr>
          <a:xfrm>
            <a:off x="5286240" y="4572000"/>
            <a:ext cx="250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مجموعه الأول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مربع نص 6"/>
          <p:cNvSpPr/>
          <p:nvPr/>
        </p:nvSpPr>
        <p:spPr>
          <a:xfrm>
            <a:off x="1357200" y="4643280"/>
            <a:ext cx="250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مجموعه الثا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مخطط انسيابي: رابط 7"/>
          <p:cNvSpPr/>
          <p:nvPr/>
        </p:nvSpPr>
        <p:spPr>
          <a:xfrm flipH="1">
            <a:off x="6786000" y="200016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مخطط انسيابي: رابط 8"/>
          <p:cNvSpPr/>
          <p:nvPr/>
        </p:nvSpPr>
        <p:spPr>
          <a:xfrm flipH="1">
            <a:off x="6000120" y="342900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مخطط انسيابي: رابط 9"/>
          <p:cNvSpPr/>
          <p:nvPr/>
        </p:nvSpPr>
        <p:spPr>
          <a:xfrm flipH="1">
            <a:off x="6500160" y="292896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مخطط انسيابي: رابط 10"/>
          <p:cNvSpPr/>
          <p:nvPr/>
        </p:nvSpPr>
        <p:spPr>
          <a:xfrm flipH="1">
            <a:off x="6143040" y="235728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مخطط انسيابي: رابط 11"/>
          <p:cNvSpPr/>
          <p:nvPr/>
        </p:nvSpPr>
        <p:spPr>
          <a:xfrm flipH="1">
            <a:off x="7215120" y="2857680"/>
            <a:ext cx="11448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مخطط انسيابي: رابط 12"/>
          <p:cNvSpPr/>
          <p:nvPr/>
        </p:nvSpPr>
        <p:spPr>
          <a:xfrm flipH="1">
            <a:off x="6858000" y="3786120"/>
            <a:ext cx="11448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مخطط انسيابي: رابط 13"/>
          <p:cNvSpPr/>
          <p:nvPr/>
        </p:nvSpPr>
        <p:spPr>
          <a:xfrm flipH="1">
            <a:off x="5643000" y="285768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مخطط انسيابي: رابط 14"/>
          <p:cNvSpPr/>
          <p:nvPr/>
        </p:nvSpPr>
        <p:spPr>
          <a:xfrm flipH="1">
            <a:off x="5786280" y="2143080"/>
            <a:ext cx="11448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مخطط انسيابي: رابط 15"/>
          <p:cNvSpPr/>
          <p:nvPr/>
        </p:nvSpPr>
        <p:spPr>
          <a:xfrm flipH="1">
            <a:off x="6572160" y="3714840"/>
            <a:ext cx="11448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مخطط انسيابي: رابط 16"/>
          <p:cNvSpPr/>
          <p:nvPr/>
        </p:nvSpPr>
        <p:spPr>
          <a:xfrm flipH="1">
            <a:off x="6929280" y="2714760"/>
            <a:ext cx="11448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مخطط انسيابي: رابط 17"/>
          <p:cNvSpPr/>
          <p:nvPr/>
        </p:nvSpPr>
        <p:spPr>
          <a:xfrm flipH="1">
            <a:off x="2071080" y="228600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مخطط انسيابي: رابط 18"/>
          <p:cNvSpPr/>
          <p:nvPr/>
        </p:nvSpPr>
        <p:spPr>
          <a:xfrm flipH="1">
            <a:off x="2071080" y="300024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مخطط انسيابي: رابط 19"/>
          <p:cNvSpPr/>
          <p:nvPr/>
        </p:nvSpPr>
        <p:spPr>
          <a:xfrm flipH="1">
            <a:off x="2071080" y="364320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مخطط انسيابي: رابط 21"/>
          <p:cNvSpPr/>
          <p:nvPr/>
        </p:nvSpPr>
        <p:spPr>
          <a:xfrm flipH="1">
            <a:off x="2714040" y="292896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مخطط انسيابي: رابط 22"/>
          <p:cNvSpPr/>
          <p:nvPr/>
        </p:nvSpPr>
        <p:spPr>
          <a:xfrm flipH="1">
            <a:off x="2714040" y="357192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مخطط انسيابي: رابط 23"/>
          <p:cNvSpPr/>
          <p:nvPr/>
        </p:nvSpPr>
        <p:spPr>
          <a:xfrm flipH="1">
            <a:off x="3357000" y="357192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مخطط انسيابي: رابط 24"/>
          <p:cNvSpPr/>
          <p:nvPr/>
        </p:nvSpPr>
        <p:spPr>
          <a:xfrm flipH="1">
            <a:off x="3357000" y="285768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مخطط انسيابي: رابط 25"/>
          <p:cNvSpPr/>
          <p:nvPr/>
        </p:nvSpPr>
        <p:spPr>
          <a:xfrm flipH="1">
            <a:off x="2714040" y="235728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مخطط انسيابي: رابط 26"/>
          <p:cNvSpPr/>
          <p:nvPr/>
        </p:nvSpPr>
        <p:spPr>
          <a:xfrm flipH="1">
            <a:off x="3357000" y="2286000"/>
            <a:ext cx="114120" cy="457200"/>
          </a:xfrm>
          <a:prstGeom prst="flowChartConnector">
            <a:avLst/>
          </a:prstGeom>
          <a:solidFill>
            <a:srgbClr val="fffff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مستطيل 1"/>
          <p:cNvSpPr/>
          <p:nvPr/>
        </p:nvSpPr>
        <p:spPr>
          <a:xfrm>
            <a:off x="214200" y="285840"/>
            <a:ext cx="8715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تٌم حساب كل من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المتوسط الحسابي ، الانحراف المعياري ، ومعامل الاختلا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 مطلوب تقرير يحتوي على الحسابات السابقة والصور إن وجد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مستطيل 2"/>
          <p:cNvSpPr/>
          <p:nvPr/>
        </p:nvSpPr>
        <p:spPr>
          <a:xfrm>
            <a:off x="1573560" y="2143080"/>
            <a:ext cx="81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مثال:حساب طول الساق للبذور المنتظم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00120" y="3000240"/>
          <a:ext cx="6572160" cy="3657600"/>
        </p:xfrm>
        <a:graphic>
          <a:graphicData uri="http://schemas.openxmlformats.org/drawingml/2006/table">
            <a:tbl>
              <a:tblPr/>
              <a:tblGrid>
                <a:gridCol w="1214640"/>
                <a:gridCol w="1414440"/>
                <a:gridCol w="1314360"/>
                <a:gridCol w="1314360"/>
                <a:gridCol w="1314360"/>
              </a:tblGrid>
              <a:tr h="1373760"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س - 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س - 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</a:tr>
              <a:tr h="947160"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c1e1f"/>
                    </a:solidFill>
                  </a:tcPr>
                </a:tc>
              </a:tr>
            </a:tbl>
          </a:graphicData>
        </a:graphic>
      </p:graphicFrame>
      <p:sp>
        <p:nvSpPr>
          <p:cNvPr id="196" name="رابط مستقيم 7"/>
          <p:cNvSpPr/>
          <p:nvPr/>
        </p:nvSpPr>
        <p:spPr>
          <a:xfrm>
            <a:off x="4643280" y="3143160"/>
            <a:ext cx="285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رابط مستقيم 13"/>
          <p:cNvSpPr/>
          <p:nvPr/>
        </p:nvSpPr>
        <p:spPr>
          <a:xfrm>
            <a:off x="2928960" y="3143160"/>
            <a:ext cx="285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رابط مستقيم 17"/>
          <p:cNvSpPr/>
          <p:nvPr/>
        </p:nvSpPr>
        <p:spPr>
          <a:xfrm>
            <a:off x="1643040" y="3143160"/>
            <a:ext cx="357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مستطيل 1"/>
          <p:cNvSpPr/>
          <p:nvPr/>
        </p:nvSpPr>
        <p:spPr>
          <a:xfrm>
            <a:off x="0" y="1000080"/>
            <a:ext cx="885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المتوسط الحسابي س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=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مجموع قراءات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                                    عدد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*معامل الانحراف القياسي (نحق)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.D</a:t>
            </a: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مج (س – س )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*معامل الاختلاف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=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.V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انحراف القياسي (نحق)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                             المتوسط الحسابي (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رابط مستقيم 3"/>
          <p:cNvSpPr/>
          <p:nvPr/>
        </p:nvSpPr>
        <p:spPr>
          <a:xfrm>
            <a:off x="3000240" y="1571760"/>
            <a:ext cx="2428920" cy="1440"/>
          </a:xfrm>
          <a:prstGeom prst="line">
            <a:avLst/>
          </a:prstGeom>
          <a:ln w="9360">
            <a:solidFill>
              <a:srgbClr val="7e9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رابط مستقيم 5"/>
          <p:cNvSpPr/>
          <p:nvPr/>
        </p:nvSpPr>
        <p:spPr>
          <a:xfrm>
            <a:off x="6643800" y="3500280"/>
            <a:ext cx="2071440" cy="1800"/>
          </a:xfrm>
          <a:prstGeom prst="line">
            <a:avLst/>
          </a:prstGeom>
          <a:ln w="9360">
            <a:solidFill>
              <a:srgbClr val="7e9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رابط مستقيم 10"/>
          <p:cNvSpPr/>
          <p:nvPr/>
        </p:nvSpPr>
        <p:spPr>
          <a:xfrm>
            <a:off x="6429240" y="2963880"/>
            <a:ext cx="2428920" cy="1440"/>
          </a:xfrm>
          <a:prstGeom prst="line">
            <a:avLst/>
          </a:prstGeom>
          <a:ln w="9360">
            <a:solidFill>
              <a:srgbClr val="7e9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رابط مستقيم 12"/>
          <p:cNvSpPr/>
          <p:nvPr/>
        </p:nvSpPr>
        <p:spPr>
          <a:xfrm flipH="1">
            <a:off x="8848800" y="2965320"/>
            <a:ext cx="1440" cy="1073160"/>
          </a:xfrm>
          <a:prstGeom prst="line">
            <a:avLst/>
          </a:prstGeom>
          <a:ln w="9360">
            <a:solidFill>
              <a:srgbClr val="7e9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رابط مستقيم 33"/>
          <p:cNvSpPr/>
          <p:nvPr/>
        </p:nvSpPr>
        <p:spPr>
          <a:xfrm flipV="1">
            <a:off x="8838360" y="3821040"/>
            <a:ext cx="71640" cy="216000"/>
          </a:xfrm>
          <a:prstGeom prst="line">
            <a:avLst/>
          </a:prstGeom>
          <a:ln w="9360">
            <a:solidFill>
              <a:srgbClr val="7e9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رابط مستقيم 36"/>
          <p:cNvSpPr/>
          <p:nvPr/>
        </p:nvSpPr>
        <p:spPr>
          <a:xfrm>
            <a:off x="2214720" y="4857840"/>
            <a:ext cx="3286080" cy="1440"/>
          </a:xfrm>
          <a:prstGeom prst="line">
            <a:avLst/>
          </a:prstGeom>
          <a:ln w="9360">
            <a:solidFill>
              <a:srgbClr val="7e97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رابط مستقيم 38"/>
          <p:cNvSpPr/>
          <p:nvPr/>
        </p:nvSpPr>
        <p:spPr>
          <a:xfrm>
            <a:off x="2500200" y="5000760"/>
            <a:ext cx="285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19:57:07Z</dcterms:created>
  <dc:creator>xp</dc:creator>
  <dc:description/>
  <dc:language>en-US</dc:language>
  <cp:lastModifiedBy>pc</cp:lastModifiedBy>
  <dcterms:modified xsi:type="dcterms:W3CDTF">2016-12-05T09:05:22Z</dcterms:modified>
  <cp:revision>7</cp:revision>
  <dc:subject/>
  <dc:title>الشريحة 1</dc:title>
</cp:coreProperties>
</file>