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9E8-DC36-462A-8487-1526B302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4CB-04CD-4D53-A47B-F9497A7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07C-A64E-4B6D-8D7E-2ABDD96C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0D5-FDC5-4929-84C8-1BE4740F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B46-0430-45AC-8102-0BE83D1F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5AA-BEF3-40D9-828E-7E0C4980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27E-A124-477A-BF27-9754EC6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9C4-A502-43C4-B6E4-528CB60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CBC-778F-47E3-B573-35CBEB2F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705-EBC1-45A8-A831-6EE5C48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336-7D01-4047-B61F-5D160A2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886-D440-4B59-8D48-8B78DF2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c00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0E4-E09C-40D3-BFD4-883FE23A9B91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ar System Histor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 9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g Bang Theor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lar Nebul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4280" y="379440"/>
            <a:ext cx="563400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825680" y="6294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1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7160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rcury, Venus, Earth, Mars are called the 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3120" y="2100240"/>
            <a:ext cx="853596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of the Plane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88040" y="606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3120" y="1855800"/>
            <a:ext cx="853596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522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and Relief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Venus, Earth, Ma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8040" y="591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7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2286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nger than the planetesimals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56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057400"/>
            <a:ext cx="624852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lder than the moon   ……… oldest rocks a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47 by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..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the moon start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earlier … 4.5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6 and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0574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 Accretion to create the first earth… a “magma” earth (100 million-year-perio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rth was hit by a giant bolide (before 4.47 by) that remelted it and led to the formation of the mo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ppened to the Earth at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Mainly  cooling and differentiation: Gravity pulled the denser materials toward the core when the Earth was still molte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 and 4.4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ig Bang Hypothesi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18288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3-14 billion years ago, all matter and energy was concentrated into a single, inconceivably small (and very dense) point.  This hypothesis stems from a mathematical solution to the proble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1440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hypothesis was tested through the Doppler shift in stellar spectrum, which implied that matter was flying apart in all directions throughout the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Hubble Telescop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1337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n detect faint light that has travelled for billions of years, …. from the start of the current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71600" y="2362320"/>
            <a:ext cx="655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er than 4.56 billion years ago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avity is the cause of “condensation” of the clou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oud contracted WHILE spinning ever fas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are the most common elemen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collected to form fusion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371600" y="23623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usion is more energetic and atomic fission but requires greater pressur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ydrogen “fuel” burns to create H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61920" y="379440"/>
            <a:ext cx="7218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3120" y="490680"/>
            <a:ext cx="85359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3120" y="415800"/>
            <a:ext cx="85359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2362320"/>
            <a:ext cx="655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 (early-stage, immature, small planets) on the periphery of this contracting, spinning dust cloud began to clump together locally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nser materials fell closer to the su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ss dense materials (gases) could escape to greater distances from the sun e,.g., Jupiter floats in wa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06T01:17:33Z</dcterms:modified>
  <cp:revision>148</cp:revision>
  <dc:subject/>
  <dc:title>PowerPoint Presentation</dc:title>
</cp:coreProperties>
</file>