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4EB-F14B-4F38-B0A1-9D91621E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9A3-5A81-4E60-B193-95E2B08D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C99-E297-4910-8E49-61BE7058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67A-0025-4712-B26B-F22C3238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D4E-A332-4DC4-8660-CF5ABC05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D26-701B-4F32-A0DE-2A6D30E2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12B-9E6C-4A38-A52C-B2C65195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CC1-232C-447C-ABEE-7E4A3DF7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BE0-A742-4418-94BA-2D82AE07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390-5F29-4045-8FB9-36CE1BF8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D25-4894-4D0B-9FBF-48D72A87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D26-52BA-4E26-97F0-88F9919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7c00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5CCF-36A7-4DB9-9DDC-1BA791CB6CC0}" type="slidenum">
              <a:rPr b="0" lang="en-US" sz="1400" spc="-1" strike="noStrike">
                <a:solidFill>
                  <a:srgbClr val="ffff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ar System Histor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 9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19320" y="220968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ig Bang Theor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olar Nebula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lanetesimal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rrestrial Plane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54280" y="379440"/>
            <a:ext cx="5634000" cy="6097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7825680" y="6294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. 1.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371600" y="23623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ercury, Venus, Earth, Mars are called the terrestrial plane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03120" y="2100240"/>
            <a:ext cx="8535960" cy="2657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762120" y="3049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ize of the Planet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088040" y="60660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. 9.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3120" y="1855800"/>
            <a:ext cx="8535960" cy="3146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533520" y="152280"/>
            <a:ext cx="8305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ize and Relief of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Venus, Earth, Mar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088040" y="59133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g. 9.7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w old is the Earth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371600" y="20574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w old is the Earth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371600" y="20574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38080" y="2286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ounger than the planetesimals  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4.56 b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w old is the Earth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66680" y="2057400"/>
            <a:ext cx="6248520" cy="29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lder than the moon   ……… oldest rocks ar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4.47 by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..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the moon started to form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earlier … 4.5 b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was happening between 4.56 and 4.5 by 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05740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1) Accretion to create the first earth… a “magma” earth (100 million-year-perio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371600" y="2362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arth was hit by a giant bolide (before 4.47 by) that remelted it and led to the formation of the moo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happened to the Earth at 4.5 by 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371600" y="2362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1)Mainly  cooling and differentiation: Gravity pulled the denser materials toward the core when the Earth was still molten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990720" y="22096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hat was happening between 4.5 and 4.4 by ?</a:t>
            </a:r>
            <a:endParaRPr b="1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ig Bang Hypothesi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85800" y="182880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3-14 billion years ago, all matter and energy was concentrated into a single, inconceivably small (and very dense) point.  This hypothesis stems from a mathematical solution to the proble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914400" y="41911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is hypothesis was tested through the Doppler shift in stellar spectrum, which implied that matter was flying apart in all directions throughout the univer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Hubble Telescop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133720" y="335268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n detect faint light that has travelled for billions of years, …. from the start of the current univer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371600" y="2362320"/>
            <a:ext cx="6553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lder than 4.56 billion years ago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ravity is the cause of “condensation” of the clou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oud contracted WHILE spinning ever fast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and He are the most common element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 and He collected to form fusion react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371600" y="236232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usion is more energetic and atomic fission but requires greater pressures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ydrogen “fuel” burns to create H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61920" y="379440"/>
            <a:ext cx="72183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3120" y="490680"/>
            <a:ext cx="853596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3120" y="415800"/>
            <a:ext cx="853596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ebular Hypothesis and the origin of our Solar system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371600" y="2362320"/>
            <a:ext cx="6553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lanetesimals (early-stage, immature, small planets) on the periphery of this contracting, spinning dust cloud began to clump together locally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nser materials fell closer to the su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ess dense materials (gases) could escape to greater distances from the sun e,.g., Jupiter floats in water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t w</dc:creator>
  <dc:description/>
  <dc:language>en-US</dc:language>
  <cp:lastModifiedBy>Dell</cp:lastModifiedBy>
  <dcterms:modified xsi:type="dcterms:W3CDTF">2011-10-06T01:17:33Z</dcterms:modified>
  <cp:revision>148</cp:revision>
  <dc:subject/>
  <dc:title>PowerPoint Presentation</dc:title>
</cp:coreProperties>
</file>