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DF9-603D-42D2-B0F5-316887C4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00C-6C10-4AE0-9B11-E3831A52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5D5-6906-4AF5-8048-6A7F3AA7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721-A5CF-4605-AE21-A5636155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1D5-D112-4F00-BFFE-D9416247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ADD-D1A2-43A9-99B9-0C7CAF29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F2A-F022-4FC6-B22B-CAC171FF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3BC-8FDF-4F09-8578-354C20DD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960-8932-48F5-AFA8-3C195E13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6AA-F06D-4425-8020-AFEC414B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E95-6E59-4C8D-BD69-47C0D09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7E0-F8B3-401A-BD49-B87B07BC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c00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D667-AD32-4585-BF0F-2826AC01FA0C}" type="slidenum">
              <a:rPr b="0" lang="en-US" sz="14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ar System Histor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 9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19320" y="220968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ig Bang Theor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lar Nebul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lanetesimal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rrestrial Plane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54280" y="379440"/>
            <a:ext cx="5634000" cy="6097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825680" y="6294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1.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371600" y="2362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rcury, Venus, Earth, Mars are called the terrestrial plane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03120" y="2100240"/>
            <a:ext cx="8535960" cy="2657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ize of the Planet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088040" y="60660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9.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3120" y="1855800"/>
            <a:ext cx="8535960" cy="3146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33520" y="152280"/>
            <a:ext cx="8305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ize and Relief of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Venus, Earth, Mar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088040" y="59133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9.7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371600" y="2057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371600" y="2057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38080" y="2286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ounger than the planetesimals  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56 b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66680" y="2057400"/>
            <a:ext cx="624852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lder than the moon   ……… oldest rocks ar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47 by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..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the moon started to form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earlier … 4.5 b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was happening between 4.56 and 4.5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0574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1) Accretion to create the first earth… a “magma” earth (100 million-year-perio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71600" y="2362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arth was hit by a giant bolide (before 4.47 by) that remelted it and led to the formation of the moo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happened to the Earth at 4.5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371600" y="2362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1)Mainly  cooling and differentiation: Gravity pulled the denser materials toward the core when the Earth was still molten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9072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was happening between 4.5 and 4.4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ig Bang Hypothesi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85800" y="18288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3-14 billion years ago, all matter and energy was concentrated into a single, inconceivably small (and very dense) point.  This hypothesis stems from a mathematical solution to the proble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14400" y="4191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is hypothesis was tested through the Doppler shift in stellar spectrum, which implied that matter was flying apart in all directions throughout the univer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Hubble Telescop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133720" y="335268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n detect faint light that has travelled for billions of years, …. from the start of the current univer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371600" y="2362320"/>
            <a:ext cx="6553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lder than 4.56 billion years ago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avity is the cause of “condensation” of the clou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oud contracted WHILE spinning ever fas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and He are the most common elemen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and He collected to form fusion reac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371600" y="236232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usion is more energetic and atomic fission but requires greater pressure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ydrogen “fuel” burns to create H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61920" y="379440"/>
            <a:ext cx="7218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3120" y="490680"/>
            <a:ext cx="853596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3120" y="415800"/>
            <a:ext cx="853596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371600" y="2362320"/>
            <a:ext cx="6553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lanetesimals (early-stage, immature, small planets) on the periphery of this contracting, spinning dust cloud began to clump together locally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nser materials fell closer to the su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ess dense materials (gases) could escape to greater distances from the sun e,.g., Jupiter floats in wa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Dell</cp:lastModifiedBy>
  <dcterms:modified xsi:type="dcterms:W3CDTF">2011-10-06T01:17:33Z</dcterms:modified>
  <cp:revision>148</cp:revision>
  <dc:subject/>
  <dc:title>PowerPoint Presentation</dc:title>
</cp:coreProperties>
</file>