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AEDC-8CFA-4B45-95F4-A5EF5E061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B962-0B18-496E-B1D0-A5D946C7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C793-A4DB-4052-8797-2EF65743B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6255-12E0-47F5-A1B6-47B57FC64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E30EE-42F5-4803-9368-FD73A481B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35D9-9E35-440C-8D18-12CBB8B9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33285-9E3E-425B-9189-7506A308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C8C6-A911-47AF-AA57-692E0603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6885-54E2-43A1-A8A3-3D492982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911EC-6E25-4E99-91D4-A7537BA7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FA65-2636-4D67-A14D-301DEB2B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2F00-C634-4C35-B0D7-61F264C7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4DCA-70F2-4B3F-9E0D-5967A89B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B8FDD-4083-4FE1-A904-416AB25A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15CB-1428-4765-8D1C-4DC6A465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66B7-1C4E-4EF2-91CB-E20F39698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DE51-A7C7-4213-B720-885825CC6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A061-9BED-4B86-97E9-863428F4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2904-8101-41BD-8DEC-FBE51942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96F5-C740-4471-8107-1ABC6FEC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C0C2-5325-496A-BE6F-CC0CE5FD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449A-83A2-4A1F-9FC0-ABF01933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892F-88F3-4131-AFC1-628EA897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01D1-2D14-4FF6-84FB-822B3C08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B481-1E1B-4D1F-9335-031CC1A929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E00E-9AB6-4C61-92E3-927F126B35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crosis is death of cells and tissues in the living ani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al/ Multifocal necrosis- terms used for one or more, small, clearly defined areas of necro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use necrosis- term used when necrosis affects a large area or the entire tissue or org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quefactive necrosi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re is digestion and liquefaction of necrotic t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us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yogenic bacterial infections attract neutrophils. Bacterial and leukocytic enzymes liquefy dead cells and t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ome chemicals like turpentine oil also attract neutrophils and cause pus formation and liquefactive necro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The necrosis in the nervous tissue is mostly liquefactive due to high content of lipids and wa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ss appeara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necrotic tissue is liquefied and filled with semisolid creamy liquid called p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 thick, white or yellow, creamy liquid consisting of exudate of leukocytes, tissue debris and micro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olytic enzymes released from neutrophils cause liquefaction of dead cel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ce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 localized collection of pus, surrounded by fibrous caps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yem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 is accumulation of pus in a body cav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croscopic appearanc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architectural or cellular details are visible in the area of necros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crotic area usually appears as a cavity containing a mass of necrotic neutrophils, bacteria and tissue debr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tire necrotic mass is surrounded by a fibrous connective tissue caps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eous necrosi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Dead tissue is converted into a homogenous, granular mass resembling cottage chee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: Associated with lesion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ycobacterium tuberculo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rcanobacterium ovis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 of caseous lymphadinit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ross appear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ea of necrosis is amorphous, granular, friable, white-gray resembling cottage chee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seous mass is enclosed within a connective tissue caps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icroscopic appear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crotic tissue is amorphous, granular mass enclosed inside a zone of granulomatous inflammation, containing macrophages. No architectural or cellular details are seen. Calcification commonly occurs in the necrotic ar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t necrosi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ath of adipose tissue in a living animal. There are three types of fat necrosi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ncreat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umatic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ri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ncreatic fat necro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th of adipose tissue in and around panc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u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ncreatitis and/or injury to pancreas and its ducts release lipases which attack adipose tissue in the peritone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drolysis of triglycerides releases fatty acids which combine with calcium to produce chalky white areas (saponifica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ss appear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Necrotic fat appears as white or yellowish chalky masses. A zone of inflammation appears around the necrotic areas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roscopic appeara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necrotic tissue is solid and homogenous and there are numerous small needle-shaped clefts occupied by fatty acid cryst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umatic  fat necro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occurs in subcutaneous adipose tissue caused by mechanical inju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tritional fat necrosi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form of fat necrosis is seen in sheep and cattle with extreme debility and emaciation e.g. Tuberculosis and Paratubercul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, solid, chalky white masses occur in the mesenteric adipose tissue. May interfere with passage of inge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eneral causes of necrosi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sons and tox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cal: Strong acids, alkalies, insecticides, mercury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ctious agents: Bacteria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monella, Staphylococc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viruses, fungi, protozoa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t poisons- hepatotoxic alkaloids e.g. Senes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latory disturbance: Anemia, congestion and ischem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 injuries: Cutting, crushing and rubbing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: Extreme temperature, electricity, free radi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ross appearanc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ed areas white, gray or yellow in colou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cooked meat appeara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ply demarcated (by red zone) from healthy tiss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ase of gangrene the area is green, orange or  black ( iron sulphi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scopic appearanc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icroscopic changes of necrosis vary with the type of necrosis. Some general changes of necrosis in the cytoplasm ar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osinophilia: The cytoplasm stains darker red in colo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lling and vacuolation: The cells are swollen and contain different types of vacuo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in the nucleus: The nucleus may show condensation (Pyknosis), fragmentation (karyorrhexis) and may disappear (karyolysi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crosis and auto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lysis is death of cells and tissues after the death of the animal (somatic death) and it should be distinguished from necro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31520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2000"/>
          </a:bodyPr>
          <a:p>
            <a:pPr marL="10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LYSIS                                         NECR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62120" y="2133720"/>
          <a:ext cx="7162560" cy="3990960"/>
        </p:xfrm>
        <a:graphic>
          <a:graphicData uri="http://schemas.openxmlformats.org/drawingml/2006/table">
            <a:tbl>
              <a:tblPr/>
              <a:tblGrid>
                <a:gridCol w="3581280"/>
                <a:gridCol w="35812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No sharp line of demarcation between affected and healthy tissu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A line of demarcation is usually pres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Circulatory changes like congestion and haemorrhage are not presen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Circulatory changes are 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Inflammatory changes are not presen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Inflammatory changes like infiltration of leukocytes are presen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Growth of saprophytic bacteria, bacillary rods in long chains are often presen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Saprophytic growth not seen, but pathogenic bacteria maybe presen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ypes of necro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types of necrosis are recognized according to the causes, pathogenesis and the tissue involved. These include Coagulative, liquefactive, caseous and fat necros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gulative necrosi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mon type of necros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al outlines persist but cellular details are l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of tissue can be recogniz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aturation (coagulation) of structural and enzymic proteins blocks proteolys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chemia due to thrombosis/ embolism as in infar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l toxins e.g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usobacterium necrophoru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livers in catt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cular dystrophy due to deficiency of selenium and vit. E in cattle and shee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crosis of renal epithelium due to poisoning from mercuric sal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ss appeara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crotic area is firm, opaque with cooked meat appear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sharply demarcated from the healthy ar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croscopic appeara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chitectural outlines are present; cellular details are lac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ad tissues remain in the body for a long period, ultimately removed by macrophag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16:59:15Z</dcterms:created>
  <dc:creator>Owner</dc:creator>
  <dc:description/>
  <dc:language>en-US</dc:language>
  <cp:lastModifiedBy>User</cp:lastModifiedBy>
  <dcterms:modified xsi:type="dcterms:W3CDTF">2016-10-05T09:37:26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