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590-DCBD-4C27-9B07-1D8854F8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B5E-41F0-4514-AE6F-7C86EF30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97B-BFF4-497A-A45A-8CD3538B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212-85A0-4C60-9068-D7E26E69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99C5-34C2-4D5E-97E7-3758CD17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3A10-8B60-4C94-8697-536E6E1E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9B68-5061-4CEC-9D72-164ABB4D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A833-966F-4162-977C-11181792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442B-047B-4343-B641-DC76033C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2BE1-A1F9-47AE-806D-946F152E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FBD1-3806-4E57-89CF-82B3015B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EE9-FDEE-4B0B-A4F0-D1FAA1F1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DB06-5A57-49F7-A7CA-D01AB774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5309-C9A2-4EC4-886F-722AE79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2894-E698-4336-A335-F15DBA07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056F-DC4D-4B57-B534-9C7332DF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A97C-F07A-41AE-BA72-D63F90D9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077-C467-466E-8E39-EE2146E6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E49-2911-47E2-B95F-5981AAB4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806-2449-44A3-B160-F4D327AE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E07-AF12-4854-9F3D-FD613235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E26-8DF3-46A1-8357-544CD8BA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94E-7116-43E9-B7AF-A0687804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930-8B75-4FE6-B8C0-977FB741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6832-2E99-4A13-B0C4-6101DD36E9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6B8E-F5B3-4B83-BA33-93DC452C5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rosis is death of cells and tissues in the living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al/ Multifocal necrosis- terms used for one or more, small, clearly defined areas of nec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e necrosis- term used when necrosis affects a large area or the entire tissue or org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quefactive necro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is digestion and liquefaction of necrotic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yogenic bacterial infections attract neutrophils. Bacterial and leukocytic enzymes liquefy dead cells and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ome chemicals like turpentine oil also attract neutrophils and cause pus formation and liquefactive necr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 necrosis in the nervous tissue is mostly liquefactive due to high content of lipids and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ss appear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ecrotic tissue is liquefied and filled with semisolid creamy liquid called p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thick, white or yellow, creamy liquid consisting of exudate of leukocytes, tissue debris and micro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olytic enzymes released from neutrophils cause liquefaction of dead ce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ce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localized collection of pus, surrounded by fibrous caps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yem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accumulation of pus in a body ca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scopic appearanc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rchitectural or cellular details are visible in the area of necro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crotic area usually appears as a cavity containing a mass of necrotic neutrophils, bacteria and tissue debr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ire necrotic mass is surrounded by a fibrous connective tissue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ous necros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ad tissue is converted into a homogenous, granular mass resembling cottage chee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: Associated with lesio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canobacterium ovi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f caseous lymphadin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oss appea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necrosis is amorphous, granular, friable, white-gray resembling cottage chee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seous mass is enclosed within a connective tissue caps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croscopic appea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crotic tissue is amorphous, granular mass enclosed inside a zone of granulomatous inflammation, containing macrophages. No architectural or cellular details are seen. Calcification commonly occurs in the necrotic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t necros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ath of adipose tissue in a living animal. There are three types of fat necros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umatic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creatic fat necro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th of adipose tissue in and around panc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creatitis and/or injury to pancreas and its ducts release lipases which attack adipose tissue in the peritone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lysis of triglycerides releases fatty acids which combine with calcium to produce chalky white areas (saponific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ss appea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ecrotic fat appears as white or yellowish chalky masses. A zone of inflammation appears around the necrotic area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copic appeara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necrotic tissue is solid and homogenous and there are numerous small needle-shaped clefts occupied by fatty acid crys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umatic  fat necro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occurs in subcutaneous adipose tissue caused by mechanical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ritional fat necrosi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orm of fat necrosis is seen in sheep and cattle with extreme debility and emaciation e.g. Tuberculosis and Para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, solid, chalky white masses occur in the mesenteric adipose tissue. May interfere with passage of ing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eral causes of necro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ons and tox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: Strong acids, alkalies, insecticides, mercury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us agents: Bacteri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monella, Staphylococc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viruses, fungi, protozoa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poisons- hepatotoxic alkaloids e.g. Senes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latory disturbance: Anemia, congestion and ischem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injuries: Cutting, crushing and rubbing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: Extreme temperature, electricity, free rad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oss appearanc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areas white, gray or yellow in colo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oked meat app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ly demarcated (by red zone) from healthy 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se of gangrene the area is green, orange or  black ( iron sulph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copic appearan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croscopic changes of necrosis vary with the type of necrosis. Some general changes of necrosis in the cytoplasm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osinophilia: The cytoplasm stains darker red in col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lling and vacuolation: The cells are swollen and contain different types of vacuo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the nucleus: The nucleus may show condensation (Pyknosis), fragmentation (karyorrhexis) and may disappear (karyolys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rosis and aut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lysis is death of cells and tissues after the death of the animal (somatic death) and it should be distinguished from nec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3152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LYSIS                                         NEC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2133720"/>
          <a:ext cx="7162560" cy="3990960"/>
        </p:xfrm>
        <a:graphic>
          <a:graphicData uri="http://schemas.openxmlformats.org/drawingml/2006/table">
            <a:tbl>
              <a:tblPr/>
              <a:tblGrid>
                <a:gridCol w="3581280"/>
                <a:gridCol w="3581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o sharp line of demarcation between affected and healthy tiss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A line of demarcation is usually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rculatory changes like congestion and haemorrhage are not pres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rculatory changes ar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nflammatory changes are not pres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nflammatory changes like infiltration of leukocytes are pres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Growth of saprophytic bacteria, bacillary rods in long chains are often pres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aprophytic growth not seen, but pathogenic bacteria maybe pres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es of necro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types of necrosis are recognized according to the causes, pathogenesis and the tissue involved. These include Coagulative, liquefactive, caseous and fat necr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gulative necro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type of necr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outlines persist but cellular details are l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tissue can be recogn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aturation (coagulation) of structural and enzymic proteins blocks proteoly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emia due to thrombosis/ embolism as in infar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 toxins 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sobacterium necrophor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vers in ca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ar dystrophy due to deficiency of selenium and vit. E in cattle and shee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rosis of renal epithelium due to poisoning from mercuric sal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 appeara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rotic area is firm, opaque with cooked meat appea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harply demarcated from the healthy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scopic appeara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chitectural outlines are present; cellular details are la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ad tissues remain in the body for a long period, ultimately removed by macroph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6:59:15Z</dcterms:created>
  <dc:creator>Owner</dc:creator>
  <dc:description/>
  <dc:language>en-US</dc:language>
  <cp:lastModifiedBy>User</cp:lastModifiedBy>
  <dcterms:modified xsi:type="dcterms:W3CDTF">2016-10-05T09:37:26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