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880A-56BB-405A-AB01-4807B8AD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7600-85B4-4BCE-847A-0851557C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4FA3-E1E5-4F57-A1D9-C2887C8E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8E6-9395-4EC1-A070-42A20051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703-A68D-4E00-BF47-420FE58E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73A7-583D-4EC1-B689-1693F41E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DC05-1E51-40BF-A399-8A4E1A56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CF20-48B9-4061-ACFF-D07732FA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7819-0A0C-426D-83D6-2A21B523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557-8E4D-42EF-8DDE-BBBE682F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F99-7FD2-44F2-8B70-1EB49C6C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31C6-69FB-4464-A5B0-CE923CDF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4F5C-5D56-4334-9ACF-A5F85A1190E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3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6.xml"/><Relationship Id="rId5" Type="http://schemas.openxmlformats.org/officeDocument/2006/relationships/slide" Target="slide19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0.xml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3.xml"/><Relationship Id="rId3" Type="http://schemas.openxmlformats.org/officeDocument/2006/relationships/image" Target="../media/image2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6.xml"/><Relationship Id="rId3" Type="http://schemas.openxmlformats.org/officeDocument/2006/relationships/image" Target="../media/image2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4.xml"/><Relationship Id="rId3" Type="http://schemas.openxmlformats.org/officeDocument/2006/relationships/image" Target="../media/image2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image" Target="../media/image2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6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6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0.xml"/><Relationship Id="rId3" Type="http://schemas.openxmlformats.org/officeDocument/2006/relationships/image" Target="../media/image2.png"/><Relationship Id="rId4" Type="http://schemas.openxmlformats.org/officeDocument/2006/relationships/image" Target="../media/image27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29.xml"/><Relationship Id="rId5" Type="http://schemas.openxmlformats.org/officeDocument/2006/relationships/slide" Target="slide32.xml"/><Relationship Id="rId6" Type="http://schemas.openxmlformats.org/officeDocument/2006/relationships/slide" Target="slide38.xml"/><Relationship Id="rId7" Type="http://schemas.openxmlformats.org/officeDocument/2006/relationships/slide" Target="slide44.xml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image" Target="../media/image2.png"/><Relationship Id="rId4" Type="http://schemas.openxmlformats.org/officeDocument/2006/relationships/image" Target="../media/image27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image" Target="../media/image27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slide" Target="slide35.xml"/><Relationship Id="rId4" Type="http://schemas.openxmlformats.org/officeDocument/2006/relationships/slide" Target="slide36.xml"/><Relationship Id="rId5" Type="http://schemas.openxmlformats.org/officeDocument/2006/relationships/slide" Target="slide37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8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26.xml"/><Relationship Id="rId8" Type="http://schemas.openxmlformats.org/officeDocument/2006/relationships/slide" Target="slide10.xm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1258920" y="765000"/>
            <a:ext cx="6629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cc6600"/>
                    </a:gs>
                  </a:gsLst>
                  <a:lin ang="18900000"/>
                </a:gradFill>
                <a:latin typeface="+mn-cs"/>
              </a:rPr>
              <a:t>شبكات الحاس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cc6600"/>
                  </a:gs>
                </a:gsLst>
                <a:lin ang="18900000"/>
              </a:gradFill>
              <a:latin typeface="+mn-cs"/>
              <a:ea typeface="+mn-cs"/>
            </a:endParaRPr>
          </a:p>
        </p:txBody>
      </p:sp>
      <p:pic>
        <p:nvPicPr>
          <p:cNvPr id="43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3492360" y="4076640"/>
            <a:ext cx="1943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cc6600"/>
                    </a:gs>
                  </a:gsLst>
                  <a:lin ang="18900000"/>
                </a:gradFill>
                <a:latin typeface="+mn-cs"/>
              </a:rPr>
              <a:t>2_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cc6600"/>
                  </a:gs>
                </a:gsLst>
                <a:lin ang="18900000"/>
              </a:gradFill>
              <a:latin typeface="+mn-cs"/>
              <a:ea typeface="+mn-c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"/>
          <p:cNvSpPr/>
          <p:nvPr/>
        </p:nvSpPr>
        <p:spPr>
          <a:xfrm>
            <a:off x="7719840" y="172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>
            <a:hlinkClick r:id="rId4" action="ppaction://hlinksldjump"/>
          </p:cNvPr>
          <p:cNvSpPr/>
          <p:nvPr/>
        </p:nvSpPr>
        <p:spPr>
          <a:xfrm>
            <a:off x="2950200" y="2852640"/>
            <a:ext cx="34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توصيل النجمي - الخط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340000" y="765000"/>
            <a:ext cx="569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وصل عناصر 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حاسب, طابعة,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>
            <a:hlinkClick r:id="rId5" action="ppaction://hlinksldjump"/>
          </p:cNvPr>
          <p:cNvSpPr/>
          <p:nvPr/>
        </p:nvSpPr>
        <p:spPr>
          <a:xfrm>
            <a:off x="4092480" y="155736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وصل الخط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>
            <a:hlinkClick r:id="rId6" action="ppaction://hlinksldjump"/>
          </p:cNvPr>
          <p:cNvSpPr/>
          <p:nvPr/>
        </p:nvSpPr>
        <p:spPr>
          <a:xfrm>
            <a:off x="3930480" y="2205000"/>
            <a:ext cx="23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توصيل النج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6084720" y="148428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6"/>
          <p:cNvSpPr/>
          <p:nvPr/>
        </p:nvSpPr>
        <p:spPr>
          <a:xfrm flipH="1">
            <a:off x="6227640" y="1197000"/>
            <a:ext cx="432000" cy="576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7"/>
          <p:cNvSpPr/>
          <p:nvPr/>
        </p:nvSpPr>
        <p:spPr>
          <a:xfrm flipH="1">
            <a:off x="6156000" y="1844640"/>
            <a:ext cx="431640" cy="576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8"/>
          <p:cNvSpPr/>
          <p:nvPr/>
        </p:nvSpPr>
        <p:spPr>
          <a:xfrm flipH="1">
            <a:off x="6156000" y="2421000"/>
            <a:ext cx="431640" cy="576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7524720" y="260280"/>
            <a:ext cx="504720" cy="43200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Bus-Network-Topology"/>
          <p:cNvPicPr/>
          <p:nvPr/>
        </p:nvPicPr>
        <p:blipFill>
          <a:blip r:embed="rId4"/>
          <a:stretch/>
        </p:blipFill>
        <p:spPr>
          <a:xfrm>
            <a:off x="2268360" y="1989000"/>
            <a:ext cx="3981600" cy="22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5970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85080" y="189000"/>
            <a:ext cx="987480" cy="122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7" descr="star"/>
          <p:cNvPicPr/>
          <p:nvPr/>
        </p:nvPicPr>
        <p:blipFill>
          <a:blip r:embed="rId4"/>
          <a:stretch/>
        </p:blipFill>
        <p:spPr>
          <a:xfrm>
            <a:off x="324000" y="404640"/>
            <a:ext cx="3171600" cy="2733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8" descr="network_star"/>
          <p:cNvPicPr/>
          <p:nvPr/>
        </p:nvPicPr>
        <p:blipFill>
          <a:blip r:embed="rId5"/>
          <a:stretch/>
        </p:blipFill>
        <p:spPr>
          <a:xfrm>
            <a:off x="4356000" y="3343320"/>
            <a:ext cx="453708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51" descr="eom_0005_0001_0_img0023"/>
          <p:cNvPicPr/>
          <p:nvPr/>
        </p:nvPicPr>
        <p:blipFill>
          <a:blip r:embed="rId4"/>
          <a:stretch/>
        </p:blipFill>
        <p:spPr>
          <a:xfrm>
            <a:off x="2700360" y="836640"/>
            <a:ext cx="293364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6"/>
          <p:cNvSpPr/>
          <p:nvPr/>
        </p:nvSpPr>
        <p:spPr>
          <a:xfrm>
            <a:off x="1398600" y="2060640"/>
            <a:ext cx="641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كون سرعة تبادل البيان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7"/>
          <p:cNvSpPr/>
          <p:nvPr/>
        </p:nvSpPr>
        <p:spPr>
          <a:xfrm>
            <a:off x="3202560" y="4291560"/>
            <a:ext cx="27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ga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c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8"/>
          <p:cNvSpPr/>
          <p:nvPr/>
        </p:nvSpPr>
        <p:spPr>
          <a:xfrm>
            <a:off x="7596360" y="404640"/>
            <a:ext cx="431640" cy="28908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62880" y="0"/>
            <a:ext cx="681120" cy="846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34">
            <a:hlinkClick r:id="rId4" action="ppaction://hlinksldjump"/>
          </p:cNvPr>
          <p:cNvSpPr/>
          <p:nvPr/>
        </p:nvSpPr>
        <p:spPr>
          <a:xfrm>
            <a:off x="1115280" y="162864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xial 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35">
            <a:hlinkClick r:id="rId5" action="ppaction://hlinksldjump"/>
          </p:cNvPr>
          <p:cNvSpPr/>
          <p:nvPr/>
        </p:nvSpPr>
        <p:spPr>
          <a:xfrm>
            <a:off x="1112400" y="400536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wisted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36">
            <a:hlinkClick r:id="rId6" action="ppaction://hlinksldjump"/>
          </p:cNvPr>
          <p:cNvSpPr/>
          <p:nvPr/>
        </p:nvSpPr>
        <p:spPr>
          <a:xfrm>
            <a:off x="1114920" y="522936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iber Optic 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037"/>
          <p:cNvSpPr/>
          <p:nvPr/>
        </p:nvSpPr>
        <p:spPr>
          <a:xfrm flipV="1">
            <a:off x="3203640" y="148428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38"/>
          <p:cNvSpPr/>
          <p:nvPr/>
        </p:nvSpPr>
        <p:spPr>
          <a:xfrm>
            <a:off x="3203640" y="1916280"/>
            <a:ext cx="1079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40"/>
          <p:cNvSpPr/>
          <p:nvPr/>
        </p:nvSpPr>
        <p:spPr>
          <a:xfrm>
            <a:off x="4549680" y="1144440"/>
            <a:ext cx="28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ick Coaxial 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041"/>
          <p:cNvSpPr/>
          <p:nvPr/>
        </p:nvSpPr>
        <p:spPr>
          <a:xfrm>
            <a:off x="4641840" y="200988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in Coaxial 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42"/>
          <p:cNvSpPr/>
          <p:nvPr/>
        </p:nvSpPr>
        <p:spPr>
          <a:xfrm flipH="1">
            <a:off x="2339640" y="1052640"/>
            <a:ext cx="431640" cy="57600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043"/>
          <p:cNvSpPr/>
          <p:nvPr/>
        </p:nvSpPr>
        <p:spPr>
          <a:xfrm flipH="1">
            <a:off x="2484360" y="3429000"/>
            <a:ext cx="432000" cy="576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045"/>
          <p:cNvSpPr/>
          <p:nvPr/>
        </p:nvSpPr>
        <p:spPr>
          <a:xfrm flipH="1">
            <a:off x="2268360" y="4653000"/>
            <a:ext cx="432000" cy="576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CategoryImages%5CCXNl"/>
          <p:cNvPicPr/>
          <p:nvPr/>
        </p:nvPicPr>
        <p:blipFill>
          <a:blip r:embed="rId4"/>
          <a:stretch/>
        </p:blipFill>
        <p:spPr>
          <a:xfrm>
            <a:off x="0" y="189000"/>
            <a:ext cx="4500720" cy="2349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coaxial"/>
          <p:cNvPicPr/>
          <p:nvPr/>
        </p:nvPicPr>
        <p:blipFill>
          <a:blip r:embed="rId5"/>
          <a:stretch/>
        </p:blipFill>
        <p:spPr>
          <a:xfrm>
            <a:off x="2071800" y="2714760"/>
            <a:ext cx="5141880" cy="38574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5"/>
          <p:cNvSpPr/>
          <p:nvPr/>
        </p:nvSpPr>
        <p:spPr>
          <a:xfrm>
            <a:off x="322200" y="1916280"/>
            <a:ext cx="28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ick Coaxial 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7" descr="coaxla"/>
          <p:cNvPicPr/>
          <p:nvPr/>
        </p:nvPicPr>
        <p:blipFill>
          <a:blip r:embed="rId6"/>
          <a:stretch/>
        </p:blipFill>
        <p:spPr>
          <a:xfrm>
            <a:off x="4859280" y="189000"/>
            <a:ext cx="328932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7" descr="52014"/>
          <p:cNvPicPr/>
          <p:nvPr/>
        </p:nvPicPr>
        <p:blipFill>
          <a:blip r:embed="rId4"/>
          <a:stretch/>
        </p:blipFill>
        <p:spPr>
          <a:xfrm>
            <a:off x="428760" y="1660680"/>
            <a:ext cx="6572160" cy="49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auithin"/>
          <p:cNvPicPr/>
          <p:nvPr/>
        </p:nvPicPr>
        <p:blipFill>
          <a:blip r:embed="rId4"/>
          <a:stretch/>
        </p:blipFill>
        <p:spPr>
          <a:xfrm>
            <a:off x="1547640" y="1844640"/>
            <a:ext cx="6096240" cy="37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03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3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68400"/>
            <a:ext cx="987480" cy="1226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34" descr="tp"/>
          <p:cNvPicPr/>
          <p:nvPr/>
        </p:nvPicPr>
        <p:blipFill>
          <a:blip r:embed="rId4">
            <a:lum bright="36000"/>
          </a:blip>
          <a:stretch/>
        </p:blipFill>
        <p:spPr>
          <a:xfrm>
            <a:off x="571680" y="785880"/>
            <a:ext cx="7508520" cy="56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0">
            <a:hlinkClick r:id="rId2" action="ppaction://hlinksldjump"/>
          </p:cNvPr>
          <p:cNvSpPr/>
          <p:nvPr/>
        </p:nvSpPr>
        <p:spPr>
          <a:xfrm>
            <a:off x="4974480" y="1071720"/>
            <a:ext cx="38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شبكات المحلي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1"/>
          <p:cNvSpPr/>
          <p:nvPr/>
        </p:nvSpPr>
        <p:spPr>
          <a:xfrm>
            <a:off x="4131360" y="1647720"/>
            <a:ext cx="32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thernet - Token Ring - ARC 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2"/>
          <p:cNvSpPr/>
          <p:nvPr/>
        </p:nvSpPr>
        <p:spPr>
          <a:xfrm>
            <a:off x="2904840" y="2152800"/>
            <a:ext cx="61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عناصر الرئيسية المستخدمة في توسيع الشبك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3"/>
          <p:cNvSpPr/>
          <p:nvPr/>
        </p:nvSpPr>
        <p:spPr>
          <a:xfrm>
            <a:off x="528840" y="2655720"/>
            <a:ext cx="68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rs – Bridges – Brouters – Routers – Gateways – Switches - Hu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5"/>
          <p:cNvSpPr/>
          <p:nvPr/>
        </p:nvSpPr>
        <p:spPr>
          <a:xfrm>
            <a:off x="153000" y="3232080"/>
            <a:ext cx="93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اتصال المستخدمة في تراسل البيانات في الشبكات الواسع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7"/>
          <p:cNvSpPr/>
          <p:nvPr/>
        </p:nvSpPr>
        <p:spPr>
          <a:xfrm>
            <a:off x="671040" y="3664080"/>
            <a:ext cx="65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ircuit Switching – Dedicated Circuit Switching – Packket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8"/>
          <p:cNvSpPr/>
          <p:nvPr/>
        </p:nvSpPr>
        <p:spPr>
          <a:xfrm>
            <a:off x="2684160" y="4024440"/>
            <a:ext cx="61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بروتوكول (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CP/IP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 طبقاته والبروتوكولات تحت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9"/>
          <p:cNvSpPr/>
          <p:nvPr/>
        </p:nvSpPr>
        <p:spPr>
          <a:xfrm>
            <a:off x="1397160" y="4530600"/>
            <a:ext cx="68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P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و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P Adressing 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--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</a:rPr>
              <a:t>(IP V4 - IP V6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0"/>
          <p:cNvSpPr/>
          <p:nvPr/>
        </p:nvSpPr>
        <p:spPr>
          <a:xfrm>
            <a:off x="2675160" y="503568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هيئة البروتوكول (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CP/IP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 وكيفية اختبار إعدادات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utp%20and%20stp"/>
          <p:cNvPicPr/>
          <p:nvPr/>
        </p:nvPicPr>
        <p:blipFill>
          <a:blip r:embed="rId4"/>
          <a:stretch/>
        </p:blipFill>
        <p:spPr>
          <a:xfrm>
            <a:off x="3132000" y="1628640"/>
            <a:ext cx="3429000" cy="37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68400"/>
            <a:ext cx="987480" cy="1226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6" descr="stst-012"/>
          <p:cNvPicPr/>
          <p:nvPr/>
        </p:nvPicPr>
        <p:blipFill>
          <a:blip r:embed="rId4"/>
          <a:stretch/>
        </p:blipFill>
        <p:spPr>
          <a:xfrm>
            <a:off x="3708360" y="4238640"/>
            <a:ext cx="3048120" cy="2619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8" descr="FO-MCDLSTDLSC"/>
          <p:cNvPicPr/>
          <p:nvPr/>
        </p:nvPicPr>
        <p:blipFill>
          <a:blip r:embed="rId5"/>
          <a:stretch/>
        </p:blipFill>
        <p:spPr>
          <a:xfrm>
            <a:off x="468360" y="3645000"/>
            <a:ext cx="2619360" cy="2619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2" descr="Optical fiber termination by means of epoxy bonding using Hyperline components"/>
          <p:cNvPicPr/>
          <p:nvPr/>
        </p:nvPicPr>
        <p:blipFill>
          <a:blip r:embed="rId6"/>
          <a:stretch/>
        </p:blipFill>
        <p:spPr>
          <a:xfrm>
            <a:off x="0" y="0"/>
            <a:ext cx="4427640" cy="3324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4" descr="Optical fiber termination by means of epoxy bonding using Hyperline components"/>
          <p:cNvPicPr/>
          <p:nvPr/>
        </p:nvPicPr>
        <p:blipFill>
          <a:blip r:embed="rId7"/>
          <a:stretch/>
        </p:blipFill>
        <p:spPr>
          <a:xfrm>
            <a:off x="4500720" y="1413000"/>
            <a:ext cx="428616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3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3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68400"/>
            <a:ext cx="987480" cy="1226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ST-SC"/>
          <p:cNvPicPr/>
          <p:nvPr/>
        </p:nvPicPr>
        <p:blipFill>
          <a:blip r:embed="rId4"/>
          <a:stretch/>
        </p:blipFill>
        <p:spPr>
          <a:xfrm>
            <a:off x="826920" y="1916280"/>
            <a:ext cx="7344000" cy="35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4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4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68400"/>
            <a:ext cx="987480" cy="1226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" descr="a6cb_1"/>
          <p:cNvPicPr/>
          <p:nvPr/>
        </p:nvPicPr>
        <p:blipFill>
          <a:blip r:embed="rId4"/>
          <a:stretch/>
        </p:blipFill>
        <p:spPr>
          <a:xfrm>
            <a:off x="900000" y="7650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9" descr="A12011251"/>
          <p:cNvPicPr/>
          <p:nvPr/>
        </p:nvPicPr>
        <p:blipFill>
          <a:blip r:embed="rId5"/>
          <a:stretch/>
        </p:blipFill>
        <p:spPr>
          <a:xfrm>
            <a:off x="4643280" y="3068640"/>
            <a:ext cx="3143520" cy="25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16portcard"/>
          <p:cNvPicPr/>
          <p:nvPr/>
        </p:nvPicPr>
        <p:blipFill>
          <a:blip r:embed="rId4"/>
          <a:stretch/>
        </p:blipFill>
        <p:spPr>
          <a:xfrm>
            <a:off x="1547640" y="1700280"/>
            <a:ext cx="6096240" cy="34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_FIBRLAY"/>
          <p:cNvPicPr/>
          <p:nvPr/>
        </p:nvPicPr>
        <p:blipFill>
          <a:blip r:embed="rId4"/>
          <a:stretch/>
        </p:blipFill>
        <p:spPr>
          <a:xfrm>
            <a:off x="0" y="0"/>
            <a:ext cx="2232000" cy="2781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fiber_copper"/>
          <p:cNvPicPr/>
          <p:nvPr/>
        </p:nvPicPr>
        <p:blipFill>
          <a:blip r:embed="rId5"/>
          <a:stretch/>
        </p:blipFill>
        <p:spPr>
          <a:xfrm>
            <a:off x="6172200" y="2852640"/>
            <a:ext cx="2971800" cy="2025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mvc-008s"/>
          <p:cNvPicPr/>
          <p:nvPr/>
        </p:nvPicPr>
        <p:blipFill>
          <a:blip r:embed="rId6"/>
          <a:stretch/>
        </p:blipFill>
        <p:spPr>
          <a:xfrm>
            <a:off x="684360" y="3429000"/>
            <a:ext cx="362412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02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3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8"/>
          <p:cNvSpPr/>
          <p:nvPr/>
        </p:nvSpPr>
        <p:spPr>
          <a:xfrm>
            <a:off x="539640" y="2060640"/>
            <a:ext cx="813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في شبكات الـ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رسال البيانات عبر الاكبال بنوعين من التقنيات  هما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9">
            <a:hlinkClick r:id="rId4" action="ppaction://hlinksldjump"/>
          </p:cNvPr>
          <p:cNvSpPr/>
          <p:nvPr/>
        </p:nvSpPr>
        <p:spPr>
          <a:xfrm>
            <a:off x="1403280" y="3933720"/>
            <a:ext cx="45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b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"/>
          <p:cNvSpPr/>
          <p:nvPr/>
        </p:nvSpPr>
        <p:spPr>
          <a:xfrm flipH="1">
            <a:off x="4571640" y="3573360"/>
            <a:ext cx="431640" cy="576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1"/>
          <p:cNvSpPr/>
          <p:nvPr/>
        </p:nvSpPr>
        <p:spPr>
          <a:xfrm flipH="1">
            <a:off x="4859280" y="4797360"/>
            <a:ext cx="432000" cy="576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2">
            <a:hlinkClick r:id="rId5" action="ppaction://hlinksldjump"/>
          </p:cNvPr>
          <p:cNvSpPr/>
          <p:nvPr/>
        </p:nvSpPr>
        <p:spPr>
          <a:xfrm>
            <a:off x="1403280" y="5084640"/>
            <a:ext cx="45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Broad b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4"/>
          <p:cNvSpPr/>
          <p:nvPr/>
        </p:nvSpPr>
        <p:spPr>
          <a:xfrm>
            <a:off x="7524720" y="260280"/>
            <a:ext cx="432000" cy="43200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0"/>
          <p:cNvSpPr/>
          <p:nvPr/>
        </p:nvSpPr>
        <p:spPr>
          <a:xfrm>
            <a:off x="6856560" y="150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3059280" y="1268280"/>
            <a:ext cx="28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b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-156960" y="2637000"/>
            <a:ext cx="9205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كون الاشارة المرسلة رقمية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دد هذه الإشارة  ثابت (أي تستخدم هذه الاشارة كامل عرض النطا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طيع كل جهاز في الشبكة إرسال البيانات بالاتجاه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حسب تقنية الاجهزة فبعضها يستطيع الارسال والاستقبال في نفس الوق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7451640" y="404640"/>
            <a:ext cx="576360" cy="360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00960" y="0"/>
            <a:ext cx="743040" cy="9223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8"/>
          <p:cNvSpPr/>
          <p:nvPr/>
        </p:nvSpPr>
        <p:spPr>
          <a:xfrm>
            <a:off x="2771640" y="83664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 b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7648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539640" y="2276640"/>
            <a:ext cx="849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كون الاشارة المرسلة تشابهية (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og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و تردد هذه الإشارة متحول أ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يستخدم الكبل في نفس الوقت لإرسال اكثر من إشارة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هذا يسمح لأكثر من اشارة أن تستخدم ذات  الحامل في نفس الوق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1538280" y="549360"/>
            <a:ext cx="59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نية ارسال المعلومات في 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-980280" y="1427040"/>
            <a:ext cx="11027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سم البيانات المرسلة الى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طوله يختلف من نوع شبكة الى اخرى ففي شبكات ال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بلغ حجم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ابين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18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اذا علمنا ان حج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خاصة بـ الـ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و دائما ثابت ويساوي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إن حجم الإطار دائم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تراوح  بين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13"/>
          <p:cNvGrpSpPr/>
          <p:nvPr/>
        </p:nvGrpSpPr>
        <p:grpSpPr>
          <a:xfrm>
            <a:off x="684360" y="3933720"/>
            <a:ext cx="7774920" cy="2592000"/>
            <a:chOff x="684360" y="3933720"/>
            <a:chExt cx="7774920" cy="2592000"/>
          </a:xfrm>
        </p:grpSpPr>
        <p:pic>
          <p:nvPicPr>
            <p:cNvPr id="207" name="Picture 10" descr="image010"/>
            <p:cNvPicPr/>
            <p:nvPr/>
          </p:nvPicPr>
          <p:blipFill>
            <a:blip r:embed="rId4"/>
            <a:srcRect l="0" t="0" r="0" b="55146"/>
            <a:stretch/>
          </p:blipFill>
          <p:spPr>
            <a:xfrm>
              <a:off x="684360" y="3933720"/>
              <a:ext cx="7774920" cy="19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2" descr="image010"/>
            <p:cNvPicPr/>
            <p:nvPr/>
          </p:nvPicPr>
          <p:blipFill>
            <a:blip r:embed="rId5"/>
            <a:srcRect l="0" t="86764" r="0" b="0"/>
            <a:stretch/>
          </p:blipFill>
          <p:spPr>
            <a:xfrm>
              <a:off x="684360" y="5947920"/>
              <a:ext cx="777492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Rectangle 14"/>
          <p:cNvSpPr/>
          <p:nvPr/>
        </p:nvSpPr>
        <p:spPr>
          <a:xfrm>
            <a:off x="1908000" y="4653000"/>
            <a:ext cx="920880" cy="963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>
            <a:hlinkClick r:id="rId2" action="ppaction://hlinksldjump"/>
          </p:cNvPr>
          <p:cNvSpPr/>
          <p:nvPr/>
        </p:nvSpPr>
        <p:spPr>
          <a:xfrm>
            <a:off x="4371840" y="126828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عريف 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>
            <a:hlinkClick r:id="rId3" action="ppaction://hlinksldjump"/>
          </p:cNvPr>
          <p:cNvSpPr/>
          <p:nvPr/>
        </p:nvSpPr>
        <p:spPr>
          <a:xfrm>
            <a:off x="4369320" y="1801800"/>
            <a:ext cx="40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سما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 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>
            <a:hlinkClick r:id="rId4" action="ppaction://hlinksldjump"/>
          </p:cNvPr>
          <p:cNvSpPr/>
          <p:nvPr/>
        </p:nvSpPr>
        <p:spPr>
          <a:xfrm>
            <a:off x="1028520" y="2349360"/>
            <a:ext cx="78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قنية ارسال الاشارة (البيانات) في 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>
            <a:hlinkClick r:id="rId5" action="ppaction://hlinksldjump"/>
          </p:cNvPr>
          <p:cNvSpPr/>
          <p:nvPr/>
        </p:nvSpPr>
        <p:spPr>
          <a:xfrm>
            <a:off x="322200" y="2781360"/>
            <a:ext cx="84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ذات سرعة تبادل المعلومات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>
            <a:hlinkClick r:id="rId6" action="ppaction://hlinksldjump"/>
          </p:cNvPr>
          <p:cNvSpPr/>
          <p:nvPr/>
        </p:nvSpPr>
        <p:spPr>
          <a:xfrm>
            <a:off x="147240" y="3213000"/>
            <a:ext cx="86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ذات سرعة تبادل المعلومات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>
            <a:hlinkClick r:id="rId7" action="ppaction://hlinksldjump"/>
          </p:cNvPr>
          <p:cNvSpPr/>
          <p:nvPr/>
        </p:nvSpPr>
        <p:spPr>
          <a:xfrm>
            <a:off x="-38520" y="3645000"/>
            <a:ext cx="87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ذات سرعة تبادل المعلومات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>
            <a:hlinkClick r:id="rId8" action="ppaction://hlinksldjump"/>
          </p:cNvPr>
          <p:cNvSpPr/>
          <p:nvPr/>
        </p:nvSpPr>
        <p:spPr>
          <a:xfrm>
            <a:off x="4739400" y="4078440"/>
            <a:ext cx="34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ken Ring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823720" y="4581360"/>
            <a:ext cx="25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C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WordArt 12"/>
          <p:cNvSpPr txBox="1"/>
          <p:nvPr/>
        </p:nvSpPr>
        <p:spPr>
          <a:xfrm>
            <a:off x="2484360" y="404640"/>
            <a:ext cx="3286080" cy="93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0441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+mn-cs"/>
              </a:rPr>
              <a:t>تقنيات الشبكات المحل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+mn-cs"/>
              <a:ea typeface="+mn-c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68400"/>
            <a:ext cx="987480" cy="122688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6"/>
          <p:cNvGrpSpPr/>
          <p:nvPr/>
        </p:nvGrpSpPr>
        <p:grpSpPr>
          <a:xfrm>
            <a:off x="250920" y="189000"/>
            <a:ext cx="7775280" cy="2592000"/>
            <a:chOff x="250920" y="189000"/>
            <a:chExt cx="7775280" cy="2592000"/>
          </a:xfrm>
        </p:grpSpPr>
        <p:pic>
          <p:nvPicPr>
            <p:cNvPr id="213" name="Picture 7" descr="image010"/>
            <p:cNvPicPr/>
            <p:nvPr/>
          </p:nvPicPr>
          <p:blipFill>
            <a:blip r:embed="rId4"/>
            <a:srcRect l="0" t="0" r="0" b="55146"/>
            <a:stretch/>
          </p:blipFill>
          <p:spPr>
            <a:xfrm>
              <a:off x="250920" y="189000"/>
              <a:ext cx="7775280" cy="19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8" descr="image010"/>
            <p:cNvPicPr/>
            <p:nvPr/>
          </p:nvPicPr>
          <p:blipFill>
            <a:blip r:embed="rId5"/>
            <a:srcRect l="0" t="86764" r="0" b="0"/>
            <a:stretch/>
          </p:blipFill>
          <p:spPr>
            <a:xfrm>
              <a:off x="250920" y="2203200"/>
              <a:ext cx="77752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Text Box 9"/>
          <p:cNvSpPr/>
          <p:nvPr/>
        </p:nvSpPr>
        <p:spPr>
          <a:xfrm>
            <a:off x="39600" y="2693880"/>
            <a:ext cx="900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مخطط يتضح ان 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ي 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تكون من الاقسام التالي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جم البداية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mble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by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ع حجم دلالة البداية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جم عنوان المستقبل 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tion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الفيزيائي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Adres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جم عنوان المرسل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dres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يزيائي 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Adres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6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جم القسم الحاوي على نوع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البروتوكول المستخدم  في الشبكة في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I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سواء اكان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X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476360" y="907920"/>
            <a:ext cx="920880" cy="963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6"/>
          <p:cNvGrpSpPr/>
          <p:nvPr/>
        </p:nvGrpSpPr>
        <p:grpSpPr>
          <a:xfrm>
            <a:off x="250920" y="189000"/>
            <a:ext cx="7775280" cy="2592000"/>
            <a:chOff x="250920" y="189000"/>
            <a:chExt cx="7775280" cy="2592000"/>
          </a:xfrm>
        </p:grpSpPr>
        <p:pic>
          <p:nvPicPr>
            <p:cNvPr id="220" name="Picture 7" descr="image010"/>
            <p:cNvPicPr/>
            <p:nvPr/>
          </p:nvPicPr>
          <p:blipFill>
            <a:blip r:embed="rId4"/>
            <a:srcRect l="0" t="0" r="0" b="55146"/>
            <a:stretch/>
          </p:blipFill>
          <p:spPr>
            <a:xfrm>
              <a:off x="250920" y="189000"/>
              <a:ext cx="7775280" cy="19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8" descr="image010"/>
            <p:cNvPicPr/>
            <p:nvPr/>
          </p:nvPicPr>
          <p:blipFill>
            <a:blip r:embed="rId5"/>
            <a:srcRect l="0" t="86764" r="0" b="0"/>
            <a:stretch/>
          </p:blipFill>
          <p:spPr>
            <a:xfrm>
              <a:off x="250920" y="2203200"/>
              <a:ext cx="77752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Text Box 9"/>
          <p:cNvSpPr/>
          <p:nvPr/>
        </p:nvSpPr>
        <p:spPr>
          <a:xfrm>
            <a:off x="141120" y="2708280"/>
            <a:ext cx="90028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د الادنى لحجم قسم البيانات المرسلة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ه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يمكن زيادة هذا الحج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تى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جم قسم التحري عن الاخطاء (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es 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ck 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ence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يبلغ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نعني هنا بالتحري عن الخطأ اختبار البيانات المرسلة من جهة المرسل من ناحية ومن المستقبل حيث تتأكد الجهة المستقبلة ان المعلومات المستقبلة تطابق البيانات في هذا القس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1476360" y="907920"/>
            <a:ext cx="920880" cy="963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393480" y="549360"/>
            <a:ext cx="84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ذات سرعة تبادل المعلومات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>
            <a:hlinkClick r:id="rId2" action="ppaction://hlinksldjump"/>
          </p:cNvPr>
          <p:cNvSpPr/>
          <p:nvPr/>
        </p:nvSpPr>
        <p:spPr>
          <a:xfrm>
            <a:off x="3204720" y="299736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0 Bas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5">
            <a:hlinkClick r:id="rId3" action="ppaction://hlinksldjump"/>
          </p:cNvPr>
          <p:cNvSpPr/>
          <p:nvPr/>
        </p:nvSpPr>
        <p:spPr>
          <a:xfrm>
            <a:off x="3205080" y="386064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0 B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6">
            <a:hlinkClick r:id="rId4" action="ppaction://hlinksldjump"/>
          </p:cNvPr>
          <p:cNvSpPr/>
          <p:nvPr/>
        </p:nvSpPr>
        <p:spPr>
          <a:xfrm>
            <a:off x="3205080" y="458136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0 Ba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7"/>
          <p:cNvSpPr/>
          <p:nvPr/>
        </p:nvSpPr>
        <p:spPr>
          <a:xfrm>
            <a:off x="2987640" y="285264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8">
            <a:hlinkClick r:id="rId5" action="ppaction://hlinksldjump"/>
          </p:cNvPr>
          <p:cNvSpPr/>
          <p:nvPr/>
        </p:nvSpPr>
        <p:spPr>
          <a:xfrm>
            <a:off x="3205080" y="53006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0 Base 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9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32" name="Line 12"/>
          <p:cNvSpPr/>
          <p:nvPr/>
        </p:nvSpPr>
        <p:spPr>
          <a:xfrm flipH="1">
            <a:off x="4643280" y="2349360"/>
            <a:ext cx="649440" cy="792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4"/>
          <p:cNvSpPr/>
          <p:nvPr/>
        </p:nvSpPr>
        <p:spPr>
          <a:xfrm flipH="1">
            <a:off x="4643280" y="3141720"/>
            <a:ext cx="649440" cy="79200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5"/>
          <p:cNvSpPr/>
          <p:nvPr/>
        </p:nvSpPr>
        <p:spPr>
          <a:xfrm flipH="1">
            <a:off x="4716360" y="3933720"/>
            <a:ext cx="649440" cy="792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6"/>
          <p:cNvSpPr/>
          <p:nvPr/>
        </p:nvSpPr>
        <p:spPr>
          <a:xfrm flipH="1">
            <a:off x="4787640" y="4653000"/>
            <a:ext cx="649080" cy="79200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6"/>
          <p:cNvSpPr/>
          <p:nvPr/>
        </p:nvSpPr>
        <p:spPr>
          <a:xfrm>
            <a:off x="-400320" y="1484280"/>
            <a:ext cx="989568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م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دل على سرعة تبادل البيان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لمة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دل على أنه في هذه الشبكة تستخدم تقنية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se band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رف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دل على الكلمة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sted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تي تعني ان الكبلات المستخدمة في هذ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الشبكة هي الكبلات المجد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في وصل عناصر هذه الشبكة تبولوجيا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-Bu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د الاسلاك المستخدمة هو اثنان  احدهما للإرسال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ولآخر للإستقبال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لا يتجاوز طول الكبل من عنصر الشبكة الى الموزع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B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ا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ت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لا يتجاوز عدد الحواسيب في هذه الشبكة ا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24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اسب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تخدم الوصلات والمنافذ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J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131280" y="476280"/>
            <a:ext cx="245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10 Base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02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2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2673360" y="18900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معية الصناعات الكهربائ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1979640" y="836640"/>
            <a:ext cx="4105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ctrical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dustrial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0" lang="de-DE" sz="4400" spc="-1" strike="noStrike">
                <a:solidFill>
                  <a:srgbClr val="ff0000"/>
                </a:solidFill>
                <a:latin typeface="Times New Roman"/>
              </a:rPr>
              <a:t>E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179280" y="1989000"/>
            <a:ext cx="87854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كبلات المجدولة غير المغلفة (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TP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تتكون من اربعة ازواج مجدول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رعة تبادل المعلومات في الفئة </a:t>
            </a:r>
            <a:r>
              <a:rPr b="0" lang="ar-SA" sz="3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الثالثة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bp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رعة تبادل المعلومات في الفئة </a:t>
            </a:r>
            <a:r>
              <a:rPr b="0" lang="ar-SA" sz="36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الرابعة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رعة تبادل المعلومات في الفئة </a:t>
            </a:r>
            <a:r>
              <a:rPr b="0" lang="ar-SA" sz="3200" spc="-1" strike="noStrike">
                <a:solidFill>
                  <a:srgbClr val="800000"/>
                </a:solidFill>
                <a:latin typeface="Times New Roman"/>
                <a:cs typeface="Times New Roman"/>
              </a:rPr>
              <a:t>الخامس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رعة تبادل المعلومات في الفئة </a:t>
            </a:r>
            <a:r>
              <a:rPr b="0" lang="ar-SA" sz="3200" spc="-1" strike="noStrike">
                <a:solidFill>
                  <a:srgbClr val="990033"/>
                </a:solidFill>
                <a:latin typeface="Times New Roman"/>
                <a:cs typeface="Times New Roman"/>
              </a:rPr>
              <a:t>السادسة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5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رعة تبادل المعلومات في الفئة </a:t>
            </a:r>
            <a:r>
              <a:rPr b="0" lang="ar-SA" sz="3200" spc="-1" strike="noStrike">
                <a:solidFill>
                  <a:srgbClr val="990033"/>
                </a:solidFill>
                <a:latin typeface="Times New Roman"/>
                <a:cs typeface="Times New Roman"/>
              </a:rPr>
              <a:t>السابعة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7"/>
          <p:cNvSpPr/>
          <p:nvPr/>
        </p:nvSpPr>
        <p:spPr>
          <a:xfrm>
            <a:off x="2914920" y="476280"/>
            <a:ext cx="239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10 Bas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-866880" y="1341360"/>
            <a:ext cx="1079244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لرقم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يدل في هذا النوع من الشبكات على طول الكبل بمئات الامتار أي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ت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لكن عمليا نقول أن الكبل في هذه الشبكات يجب أن لا يتجاوز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ت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ستخدم في هذا النوع من الشبكات الكبلات المحورية الرفيعة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net Cabe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لايزيد البعد بين عنصرين من الشبكة عن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رعة تبادل البيانات في هذه الشبكة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من الناحية التوبولوجية التوصيل الخطي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 Topology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لا يتجاوز عدد عناصر الشبكة في هذا النوع من ال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نصر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في هذه الشبكات المنافذ المحورية(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NC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02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30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3491280" y="476280"/>
            <a:ext cx="239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10 Bas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-1029960" y="1773360"/>
            <a:ext cx="10906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م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دل هنا على طول الكبل بالمئات أي أقصى طول ه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في هذا النوع من الشبكات الكبل المحوري السميك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cknet Cabe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رعة تبادل البيانات في هذا النوع من الشبكات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ريقة التو ضع التو بولوجي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 Topology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ن لا يتجاوز البعد بين حاسبين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ن لا يتجاوز عدد الحواسيب في الشبكة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اسب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تخدم في هذا النوع من الحواسيب  بالإضافة الى منافذ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N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نافذ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X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2770920" y="1197000"/>
            <a:ext cx="276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10 Base 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-794520" y="2205000"/>
            <a:ext cx="1063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ذا يعني أننا نستخدم أكبال الألياف الضوئية في هذه الشبكة حيث يبلغ ا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ن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تى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حظ أنه اذا استخدمنا هذه التقنية و ا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r‘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إن اتساع الشبكة سيكون كبير جد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-109800" y="907920"/>
            <a:ext cx="86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ذات سرعة تبادل المعلومات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4140360" y="1773360"/>
            <a:ext cx="3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349080" y="2492280"/>
            <a:ext cx="20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st 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3900600" y="4076640"/>
            <a:ext cx="54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هذا النوع من الشبكات نستخدم الكبل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1118520" y="407664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1118160" y="5157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AutoShape 11"/>
          <p:cNvCxnSpPr/>
          <p:nvPr/>
        </p:nvCxnSpPr>
        <p:spPr>
          <a:xfrm flipH="1" flipV="1">
            <a:off x="1907640" y="4291920"/>
            <a:ext cx="273600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" name="AutoShape 12"/>
          <p:cNvCxnSpPr/>
          <p:nvPr/>
        </p:nvCxnSpPr>
        <p:spPr>
          <a:xfrm flipH="1">
            <a:off x="1836000" y="4869000"/>
            <a:ext cx="278676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7" name="Rectangle 14"/>
          <p:cNvSpPr/>
          <p:nvPr/>
        </p:nvSpPr>
        <p:spPr>
          <a:xfrm>
            <a:off x="4642920" y="458136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جد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931560" y="563256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لياف الضو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813680" y="907920"/>
            <a:ext cx="59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رى شبكات ا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الشبكات التال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5042520" y="1720800"/>
            <a:ext cx="40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بكات ا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G – Any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6052320" y="2297160"/>
            <a:ext cx="29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بكات ا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829620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2"/>
          <p:cNvSpPr/>
          <p:nvPr/>
        </p:nvSpPr>
        <p:spPr>
          <a:xfrm>
            <a:off x="4211640" y="1484280"/>
            <a:ext cx="936720" cy="360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3"/>
          <p:cNvSpPr/>
          <p:nvPr/>
        </p:nvSpPr>
        <p:spPr>
          <a:xfrm>
            <a:off x="5292720" y="2133720"/>
            <a:ext cx="936720" cy="360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7"/>
          <p:cNvSpPr/>
          <p:nvPr/>
        </p:nvSpPr>
        <p:spPr>
          <a:xfrm>
            <a:off x="214200" y="1380240"/>
            <a:ext cx="8471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عتبر المعهد الدولي لمهندسي الكهرباء والإلكترون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طور الأساسي للمعايير الدو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titute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rical and </a:t>
            </a: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ronic </a:t>
            </a: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ineer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هو منظمة دولية لا تهدف للربح –وعلى وجه الخصوص تلك المتعلق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لاتصال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نية المعلوم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ليد الطاقة الكهربائ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8"/>
          <p:cNvSpPr/>
          <p:nvPr/>
        </p:nvSpPr>
        <p:spPr>
          <a:xfrm>
            <a:off x="7380360" y="260280"/>
            <a:ext cx="720720" cy="64764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4"/>
          <p:cNvSpPr/>
          <p:nvPr/>
        </p:nvSpPr>
        <p:spPr>
          <a:xfrm>
            <a:off x="1813680" y="907920"/>
            <a:ext cx="59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رى شبكات ا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الشبكات التال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6272280" y="280188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بكات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691600" y="3376440"/>
            <a:ext cx="32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بكات ا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C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5627880" y="37893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بكات ا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L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5816880" y="4292640"/>
            <a:ext cx="28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بكات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S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829620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4"/>
          <p:cNvSpPr/>
          <p:nvPr/>
        </p:nvSpPr>
        <p:spPr>
          <a:xfrm>
            <a:off x="5580000" y="2637000"/>
            <a:ext cx="936720" cy="360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5003640" y="3141720"/>
            <a:ext cx="936720" cy="360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4859280" y="3716280"/>
            <a:ext cx="936720" cy="360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7"/>
          <p:cNvSpPr/>
          <p:nvPr/>
        </p:nvSpPr>
        <p:spPr>
          <a:xfrm>
            <a:off x="5076720" y="4149720"/>
            <a:ext cx="936720" cy="360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5"/>
          <p:cNvSpPr/>
          <p:nvPr/>
        </p:nvSpPr>
        <p:spPr>
          <a:xfrm>
            <a:off x="-298800" y="765000"/>
            <a:ext cx="87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قد تم تطوير مقياسين ل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يدعمان سرعة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1312920" y="1530360"/>
            <a:ext cx="706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Base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G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ice 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e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ny LAN Etherne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1544040" y="2205000"/>
            <a:ext cx="48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100BaseX Ethernet (Fast Etherne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12760" y="2852640"/>
            <a:ext cx="95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ا النوعين السابقين متوافقين مع نظام تشبيك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10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ما يسمح بتحدي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شبكات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10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هولة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589680" y="4149720"/>
            <a:ext cx="897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نتمي هذان النوعان من الشبكات إلى المعيار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،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لذي يدع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شبكات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Rin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ي تعمل بسرعات كبيرة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4"/>
          <p:cNvSpPr/>
          <p:nvPr/>
        </p:nvSpPr>
        <p:spPr>
          <a:xfrm>
            <a:off x="1751760" y="3645000"/>
            <a:ext cx="296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VG-100Any LAN 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BaseVG100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VG.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Any L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1971000" y="2852640"/>
            <a:ext cx="56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طلق على هذه الشبكات أحد الأسماء التالية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-346680" y="1170000"/>
            <a:ext cx="936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بكات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G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ice 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e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00AnyLA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دمج عناصر كلا م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شبكات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Rin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،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قد تم تطويرها من قبل شرك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wlett-Pack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7935840" y="172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2399760" y="54936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 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e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5057640" y="1125360"/>
            <a:ext cx="31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شبكات الـ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Base TX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5272920" y="3357720"/>
            <a:ext cx="30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شبكات الـ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Base T4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5490000" y="5373720"/>
            <a:ext cx="30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شبكات الـ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Base FX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795960" y="1628640"/>
            <a:ext cx="793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يز هذا النوع من الشبكات ب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يستخدم كبلات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P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و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P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ذو الفئة الخامسة على حد سوا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زوجين من الاسلا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راسل يتم لمسافات لاتتجاوز ال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1478520" y="3860640"/>
            <a:ext cx="70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يستخدم هنا فقط كابلات الـ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P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ذو الفئة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4544640" y="436572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يستخدم زوجين من الأسلا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3200400" y="4726080"/>
            <a:ext cx="51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راسل يتم لمسافات لاتتجاوز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3009960" y="5670720"/>
            <a:ext cx="526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هنا كبل الالياف الضو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تراسل يتم لمسافات لاتتجاوز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4"/>
          <p:cNvSpPr/>
          <p:nvPr/>
        </p:nvSpPr>
        <p:spPr>
          <a:xfrm>
            <a:off x="7719840" y="12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1695240" y="765000"/>
            <a:ext cx="583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</a:t>
            </a:r>
            <a:r>
              <a:rPr b="0" lang="de-DE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r>
              <a:rPr b="0" lang="de-DE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de-DE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e 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-605520" y="2349360"/>
            <a:ext cx="10360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يز هذا النوع من الشبكات بـ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كبل (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P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ذو الفئة السادسة او السابع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اربعة أزواج من الكب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نف هذا النوع من الشبكات تحت المعيار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3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4"/>
          <p:cNvSpPr/>
          <p:nvPr/>
        </p:nvSpPr>
        <p:spPr>
          <a:xfrm>
            <a:off x="1797480" y="549360"/>
            <a:ext cx="47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 </a:t>
            </a:r>
            <a:r>
              <a:rPr b="0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r>
              <a:rPr b="0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e C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-592920" y="2370240"/>
            <a:ext cx="10360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هذا النوع من الشبكات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ستخدم الكبلات المجدولة او المحور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 تتعدى  مسافة تبادل البيانات ال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نف هذا النوع من الشبكات تحت المعيار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3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"/>
          <p:cNvSpPr/>
          <p:nvPr/>
        </p:nvSpPr>
        <p:spPr>
          <a:xfrm>
            <a:off x="7864560" y="1936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1848240" y="476280"/>
            <a:ext cx="46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r>
              <a:rPr b="0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e L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-741960" y="1865160"/>
            <a:ext cx="10692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هنا نرى انه في هذه الشبكة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كبل الالياف الضوئ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افة تبادل البيانات لا تتجاوز ال 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0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خدم البث باستخدام الليزر الطويل الموج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4"/>
          <p:cNvSpPr/>
          <p:nvPr/>
        </p:nvSpPr>
        <p:spPr>
          <a:xfrm>
            <a:off x="1816920" y="549360"/>
            <a:ext cx="504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</a:t>
            </a:r>
            <a:r>
              <a:rPr b="0" lang="de-DE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r>
              <a:rPr b="0" lang="de-DE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e S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7236000" y="184464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584280" y="1936800"/>
            <a:ext cx="825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 هذا النوع من الشبكات يستخدم ايضا كبل الالياف الضوئية ولك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بادل المعلومات يتم حتى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ستخدم البث باستخدام الليزر القصير الموج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صنف ايضا تحت المعيار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68400"/>
            <a:ext cx="987480" cy="1226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030"/>
          <p:cNvSpPr/>
          <p:nvPr/>
        </p:nvSpPr>
        <p:spPr>
          <a:xfrm>
            <a:off x="468360" y="878400"/>
            <a:ext cx="7978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أكثر معايير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Y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يوعاً مجموعة معاي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Y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 LAN/W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تي تتضمن معيار شبكات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ـ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ar-SY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3</a:t>
            </a:r>
            <a:r>
              <a:rPr b="0" lang="ar-SY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معيار الشبكات اللاسلكية 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</a:t>
            </a:r>
            <a:r>
              <a:rPr b="0" lang="ar-SY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31"/>
          <p:cNvSpPr/>
          <p:nvPr/>
        </p:nvSpPr>
        <p:spPr>
          <a:xfrm>
            <a:off x="7524720" y="260280"/>
            <a:ext cx="504720" cy="43200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osi-model-7-layers"/>
          <p:cNvPicPr/>
          <p:nvPr/>
        </p:nvPicPr>
        <p:blipFill>
          <a:blip r:embed="rId4"/>
          <a:stretch/>
        </p:blipFill>
        <p:spPr>
          <a:xfrm>
            <a:off x="179280" y="692280"/>
            <a:ext cx="3848040" cy="44481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-91800" y="5300640"/>
            <a:ext cx="966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شبكات الـ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وتوكولات تعمل في طبقة 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ربط البيان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talink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نظام السبع طبقات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I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9" descr=""/>
          <p:cNvPicPr/>
          <p:nvPr/>
        </p:nvPicPr>
        <p:blipFill>
          <a:blip r:embed="rId5"/>
          <a:stretch/>
        </p:blipFill>
        <p:spPr>
          <a:xfrm>
            <a:off x="4067280" y="1773360"/>
            <a:ext cx="4824360" cy="255744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>
            <a:off x="7596360" y="260280"/>
            <a:ext cx="502920" cy="50328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0"/>
          <p:cNvSpPr/>
          <p:nvPr/>
        </p:nvSpPr>
        <p:spPr>
          <a:xfrm>
            <a:off x="4151520" y="1141560"/>
            <a:ext cx="433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سما</a:t>
            </a:r>
            <a:r>
              <a:rPr b="0" lang="ar-SA" sz="3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 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بكات الـ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1">
            <a:hlinkClick r:id="rId4" action="ppaction://hlinksldjump"/>
          </p:cNvPr>
          <p:cNvSpPr/>
          <p:nvPr/>
        </p:nvSpPr>
        <p:spPr>
          <a:xfrm>
            <a:off x="-494280" y="2421000"/>
            <a:ext cx="88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كيف  يتم تنظيم نقل البيانات في شبكات الـ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2">
            <a:hlinkClick r:id="rId5" action="ppaction://hlinksldjump"/>
          </p:cNvPr>
          <p:cNvSpPr/>
          <p:nvPr/>
        </p:nvSpPr>
        <p:spPr>
          <a:xfrm>
            <a:off x="163800" y="3500280"/>
            <a:ext cx="80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سرعة تبادل المعلومات في شبكات الـ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3">
            <a:hlinkClick r:id="rId6" action="ppaction://hlinksldjump"/>
          </p:cNvPr>
          <p:cNvSpPr/>
          <p:nvPr/>
        </p:nvSpPr>
        <p:spPr>
          <a:xfrm>
            <a:off x="752760" y="4033800"/>
            <a:ext cx="73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أنواع حوامل اشارة في شبكات الـ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4">
            <a:hlinkClick r:id="rId7" action="ppaction://hlinksldjump"/>
          </p:cNvPr>
          <p:cNvSpPr/>
          <p:nvPr/>
        </p:nvSpPr>
        <p:spPr>
          <a:xfrm>
            <a:off x="3667320" y="465300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طرق ارسال ا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6">
            <a:hlinkClick r:id="rId8" action="ppaction://hlinksldjump"/>
          </p:cNvPr>
          <p:cNvSpPr/>
          <p:nvPr/>
        </p:nvSpPr>
        <p:spPr>
          <a:xfrm>
            <a:off x="626400" y="2954160"/>
            <a:ext cx="753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كيفية وصل الأجهزة في شبكات الـ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7"/>
          <p:cNvSpPr/>
          <p:nvPr/>
        </p:nvSpPr>
        <p:spPr>
          <a:xfrm>
            <a:off x="7596360" y="1916280"/>
            <a:ext cx="0" cy="47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8"/>
          <p:cNvSpPr/>
          <p:nvPr/>
        </p:nvSpPr>
        <p:spPr>
          <a:xfrm flipH="1">
            <a:off x="7596000" y="2133720"/>
            <a:ext cx="431640" cy="57600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9"/>
          <p:cNvSpPr/>
          <p:nvPr/>
        </p:nvSpPr>
        <p:spPr>
          <a:xfrm flipH="1">
            <a:off x="7667280" y="2637000"/>
            <a:ext cx="431640" cy="57600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0"/>
          <p:cNvSpPr/>
          <p:nvPr/>
        </p:nvSpPr>
        <p:spPr>
          <a:xfrm flipH="1">
            <a:off x="7667280" y="3213000"/>
            <a:ext cx="431640" cy="576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1"/>
          <p:cNvSpPr/>
          <p:nvPr/>
        </p:nvSpPr>
        <p:spPr>
          <a:xfrm flipH="1">
            <a:off x="7667280" y="3716280"/>
            <a:ext cx="431640" cy="576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667280" y="4437000"/>
            <a:ext cx="431640" cy="576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33"/>
          <p:cNvSpPr/>
          <p:nvPr/>
        </p:nvSpPr>
        <p:spPr>
          <a:xfrm>
            <a:off x="7596360" y="404640"/>
            <a:ext cx="431640" cy="28908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-1162800" y="1484280"/>
            <a:ext cx="1120968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لتنظيم مرور البيانات في شبكات الـ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ستخدم طريقة النفا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0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SMA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de-DE" sz="36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CD</a:t>
            </a:r>
            <a:r>
              <a:rPr b="0" lang="de-DE" sz="36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</a:t>
            </a:r>
            <a:r>
              <a:rPr b="0" lang="de-DE" sz="32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ies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ple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lision 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">
            <a:hlinkClick r:id="rId4" action="ppaction://hlinksldjump"/>
          </p:cNvPr>
          <p:cNvSpPr/>
          <p:nvPr/>
        </p:nvSpPr>
        <p:spPr>
          <a:xfrm>
            <a:off x="5435640" y="2637000"/>
            <a:ext cx="216000" cy="28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 flipH="1">
            <a:off x="5795640" y="2060640"/>
            <a:ext cx="431640" cy="576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7380360" y="260280"/>
            <a:ext cx="504720" cy="36036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1" name="Rectangle 2">
            <a:hlinkClick r:id="rId2" action="ppaction://hlinksldjump"/>
          </p:cNvPr>
          <p:cNvSpPr/>
          <p:nvPr/>
        </p:nvSpPr>
        <p:spPr>
          <a:xfrm>
            <a:off x="8317080" y="6021360"/>
            <a:ext cx="215640" cy="28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43800" y="1125360"/>
            <a:ext cx="816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طريقة النفاذ المتعدد بتحسس الحامل مع التصاد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SMA/CD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-1024560" y="2781360"/>
            <a:ext cx="1099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حسس كل من الجهازين للتصادم مباشرة بعد ارسا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رزمة (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الاو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توقفا عن ارسال لفترة قصيرة ثم يعاودا  الارسال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جد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5"/>
          <p:cNvSpPr/>
          <p:nvPr/>
        </p:nvSpPr>
        <p:spPr>
          <a:xfrm flipH="1">
            <a:off x="8532720" y="5229360"/>
            <a:ext cx="432000" cy="57600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07:44:49Z</dcterms:created>
  <dc:creator>Dr.Hisham Adel Abhari</dc:creator>
  <dc:description/>
  <dc:language>en-US</dc:language>
  <cp:lastModifiedBy>Dr. Hisham Abhari</cp:lastModifiedBy>
  <dcterms:modified xsi:type="dcterms:W3CDTF">2017-09-07T13:06:19Z</dcterms:modified>
  <cp:revision>105</cp:revision>
  <dc:subject/>
  <dc:title>Kein Folientitel</dc:title>
</cp:coreProperties>
</file>