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7309-15A7-4B49-BEAC-2B7EF7A7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8091-43DA-4EDE-AE06-E8827EDB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17E0-A79B-42D9-ABAE-6BB7876E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6929-0088-4E64-84C1-380EFBD1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FA6A-6D2F-4FC6-982C-6E2296D8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3C69-F438-47C4-AF85-EB33C541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0C61-7975-44DC-85C7-647306CC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A936-0984-41E3-9E8B-FB994D05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9733-C7E6-462F-A87F-636D1F73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61D3-7BDF-44F7-8EFA-E4C02A8B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53A-BE2C-42E5-A6E5-3FE44082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E0B2-3C86-4ABA-AE04-3779D94C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81C4-37BC-4CBE-B642-06883C03BF1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image" Target="../media/image2.png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0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" Target="slide22.xml"/><Relationship Id="rId7" Type="http://schemas.openxmlformats.org/officeDocument/2006/relationships/slide" Target="slide23.xml"/><Relationship Id="rId8" Type="http://schemas.openxmlformats.org/officeDocument/2006/relationships/slide" Target="slide24.xml"/><Relationship Id="rId9" Type="http://schemas.openxmlformats.org/officeDocument/2006/relationships/slide" Target="slide25.xml"/><Relationship Id="rId10" Type="http://schemas.openxmlformats.org/officeDocument/2006/relationships/slide" Target="slide26.xml"/><Relationship Id="rId11" Type="http://schemas.openxmlformats.org/officeDocument/2006/relationships/slide" Target="slide28.xml"/><Relationship Id="rId12" Type="http://schemas.openxmlformats.org/officeDocument/2006/relationships/slide" Target="slide29.xml"/><Relationship Id="rId13" Type="http://schemas.openxmlformats.org/officeDocument/2006/relationships/slide" Target="slide30.xml"/><Relationship Id="rId14" Type="http://schemas.openxmlformats.org/officeDocument/2006/relationships/slide" Target="slide31.xml"/><Relationship Id="rId15" Type="http://schemas.openxmlformats.org/officeDocument/2006/relationships/slide" Target="slide27.xml"/><Relationship Id="rId1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30.xml"/><Relationship Id="rId5" Type="http://schemas.openxmlformats.org/officeDocument/2006/relationships/slide" Target="slide35.xml"/><Relationship Id="rId6" Type="http://schemas.openxmlformats.org/officeDocument/2006/relationships/slide" Target=""/><Relationship Id="rId7" Type="http://schemas.openxmlformats.org/officeDocument/2006/relationships/slide" Target="slide4.xml"/><Relationship Id="rId8" Type="http://schemas.openxmlformats.org/officeDocument/2006/relationships/slide" Target="slide35.xml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4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6.xml"/><Relationship Id="rId3" Type="http://schemas.openxmlformats.org/officeDocument/2006/relationships/image" Target="../media/image2.png"/><Relationship Id="rId4" Type="http://schemas.openxmlformats.org/officeDocument/2006/relationships/slide" Target="slide36.xml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5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32.xml"/><Relationship Id="rId5" Type="http://schemas.openxmlformats.org/officeDocument/2006/relationships/slide" Target="slide5.xml"/><Relationship Id="rId6" Type="http://schemas.openxmlformats.org/officeDocument/2006/relationships/slide" Target="slide10.xml"/><Relationship Id="rId7" Type="http://schemas.openxmlformats.org/officeDocument/2006/relationships/slide" Target="slide18.xml"/><Relationship Id="rId8" Type="http://schemas.openxmlformats.org/officeDocument/2006/relationships/slide" Target="slide21.xml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9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58920" y="765000"/>
            <a:ext cx="6629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ff9966"/>
                    </a:gs>
                  </a:gsLst>
                  <a:lin ang="8100000"/>
                </a:gradFill>
                <a:latin typeface="Arial Black"/>
              </a:rPr>
              <a:t>شبكات الحاس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100000">
                    <a:srgbClr val="ff9966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pic>
        <p:nvPicPr>
          <p:cNvPr id="4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492360" y="4076640"/>
            <a:ext cx="1943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ff9966"/>
                    </a:gs>
                  </a:gsLst>
                  <a:lin ang="8100000"/>
                </a:gradFill>
                <a:latin typeface="Arial Black"/>
              </a:rPr>
              <a:t>2_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100000">
                    <a:srgbClr val="ff9966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1935360" y="2349720"/>
            <a:ext cx="129578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نتقل الإشارات على مدار الحلقة في اتجاه واحد و تمر من خلال كل جهاز على الشبكة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يقوم كل كمبيوتر على الشبكة بعمل دور </a:t>
            </a:r>
            <a:r>
              <a:rPr b="1" lang="ar-SA" sz="28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مكرر الإشار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يث أن كل جهاز تمر من خلال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إشارة يقوم بإنعاشها وتقويتها ثم يعيد إرسالها على الشبكة الى الكمبيوتر التالي، ولك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أن الإشارة تمر على كل جهاز في الشبكة فإن توقف أحد الأجهز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 العمل سيؤد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ى توقف الشبكة عن العمل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6160" y="333360"/>
            <a:ext cx="8379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طريقة تمرير الإشارة بين الأجهزة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عملية إرسال و استقبال البيانات</a:t>
            </a:r>
            <a:r>
              <a:rPr b="1" lang="de-DE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250920" y="1628640"/>
            <a:ext cx="8650080" cy="3019680"/>
            <a:chOff x="250920" y="1628640"/>
            <a:chExt cx="8650080" cy="3019680"/>
          </a:xfrm>
        </p:grpSpPr>
        <p:sp>
          <p:nvSpPr>
            <p:cNvPr id="101" name=""/>
            <p:cNvSpPr/>
            <p:nvPr/>
          </p:nvSpPr>
          <p:spPr>
            <a:xfrm>
              <a:off x="250920" y="1628640"/>
              <a:ext cx="8650080" cy="30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تقنية المستخدمة في إرسال البيانات على شبكات الحلقة يطلق عليها اس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de-DE" sz="3200" spc="-1" strike="noStrike">
                  <a:solidFill>
                    <a:srgbClr val="000000"/>
                  </a:solidFill>
                  <a:latin typeface="Times New Roman"/>
                </a:rPr>
                <a:t>Token Passing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3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أو تمرير الإشارة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>
              <a:hlinkClick r:id="rId4" action="ppaction://hlinksldjump"/>
            </p:cNvPr>
            <p:cNvSpPr/>
            <p:nvPr/>
          </p:nvSpPr>
          <p:spPr>
            <a:xfrm>
              <a:off x="7236000" y="2565000"/>
              <a:ext cx="287280" cy="287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7596360" y="2131920"/>
              <a:ext cx="1295280" cy="5760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-1116360" y="4724280"/>
            <a:ext cx="114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يار البيانات المسمى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تمريره من جهاز كمبيوتر الى آخر على الشبكة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-2107800" y="2708280"/>
            <a:ext cx="13328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من الوسائل السريعة ،فالإشارة  تنتقل من جهاز الى آخر بسرعة مقاربة لسرعة الضوء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سبب هذه السرعة الفائقة فإن أداء الشبكة يكون ممتازا حتى في وجود عدد كبير م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أجهزة على الشبكة، ولكن تبقى  مشكلة مثل ما هو عليه في شبكات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ه عند تطو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شبكة يجب إيقاف عملها أثناء عملية التطوير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57080" y="1268280"/>
            <a:ext cx="44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cc0066"/>
                </a:solidFill>
                <a:latin typeface="Times New Roman"/>
              </a:rPr>
              <a:t>Token Pass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9280" y="1773360"/>
            <a:ext cx="89647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عندما يريد جهاز ما على الشبكة إرسال بيان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عليه الانتظار حتى يتسلم إشارة حرة أو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 Token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خبره أنه قادر على إرس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بياناته على الشبك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24922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عندما يتسلم الكمبيوتر الذي يريد إرسال بياناته، الإشارة الحرة فإن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يضيف إليها بيانات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وبالإضافة لذلك يقوم بإضافة عنوان الكترو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يحدد وجهة إرسال هذه البيانات، أي أنه يحدد عنوان الكمبيوتر الذي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ترسل إليه البيان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91520" y="3629160"/>
            <a:ext cx="215640" cy="215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78560" y="4768920"/>
            <a:ext cx="216000" cy="21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-1517760" y="2244600"/>
            <a:ext cx="1223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ثم يرسل هذه الإشارة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ول الحلقة تنتقل هذه الإشارة من جهاز كمبيوت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الى آخر حتى تجد الجهاز الذي يتوافق عنوانه الإلكتروني مع العنوان المشف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داخل الإشارة و حتى هذه اللحظة فإن الإشارة ما تزال غير محرر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24922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مبيوتر المستقبل لهذه الإشارة يقوم بنسخ البيانات الموجودة عليها ثم يعيد إرسالها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على الشبكة الى الجهاز الأصلي الذي أرسل هذه الإشارة و ذلك بعد أن يضيف عليها رسالة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تبين أن البيانات قد تم استلامها بشكل صحيح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-2162880" y="1338120"/>
            <a:ext cx="1350036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هكذا تنتقل الإشارة مرة أخرى على الشبكة وتمر على كل الأجهزة حتى تصل الى الكمبيوت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أصلي الذي أرسل هذه الإشارة، بعد أن يقوم هذا الكمبيوتر بالتأكد من محتويات هذه الإشا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أنها قد استلمت بشكل صحيح فإنه يقوم بإزالتها ويرسل بدلا منها إشارة ح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0066"/>
                </a:solidFill>
                <a:latin typeface="Times New Roman"/>
              </a:rPr>
              <a:t>Free Token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طلقها على الشبكة لتنتقل من جديد الى الكمبيوتر التالي فإذا كان يريد إرسال بيانات ما فإن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أخذ هذه الإشارة الحرة ويضيف إليها بياناته ، و إن لم يكن لديه أي بيانات لإرسالها فإن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سيمرر هذه الإشارة الى الكمبيوتر التالي وهكذا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91960" y="187200"/>
            <a:ext cx="860436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بدأ تصميم شبكات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Ring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حلقة تصل بين أجهزة الشبكة ، و لكن التصمي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مادي الفعلي هو نظام تشبيك نجمي ، فكل جهاز متصل بالحلقة هو فعليا متصل بس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صله الى نقطة مركزية هي المجمع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منفذ متعدد الاتصال)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،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الكمبيوترات هي جزء من الحلق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لكنهم يتصلون بها عن طريق مجمع، هذا ما يطلق عليه شبكة هجينة نجمة حلقة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6280" y="1959120"/>
            <a:ext cx="860436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أغلب شبكات شركة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M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ائمة على معيار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Ring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،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في مصطلح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شركة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M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طلق على المجمع اسم وحدة الوصول متعدد المحط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و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station Access Unit (MAU)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لذي يستخدم السلك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isted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شبك حتى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5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جهاز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4620240" y="260280"/>
            <a:ext cx="38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قنيات الشبكات المحلية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77480" y="836640"/>
            <a:ext cx="32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thernet - Token Ring - ARC 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50960" y="1341360"/>
            <a:ext cx="61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العناصر الرئيسية المستخدمة في توسيع الشبك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4600" y="1844640"/>
            <a:ext cx="68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ers – Bridges – Brouters – Routers – Gateways – Switches - Hu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1080" y="549360"/>
            <a:ext cx="0" cy="597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201240" y="2421000"/>
            <a:ext cx="93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قنيات الاتصال المستخدمة في تراسل البيانات في الشبكات الواسعة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20000" y="1052640"/>
            <a:ext cx="0" cy="46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7160" y="2852640"/>
            <a:ext cx="65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ircuit Switching – Dedicated Circuit Switching – Packket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29920" y="3213000"/>
            <a:ext cx="61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البروتوكول (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TCP/IP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) طبقاته والبروتوكولات تحت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3719520"/>
            <a:ext cx="68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P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و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P Adressing 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--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</a:rPr>
              <a:t>(IP V4 - IP V6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20920" y="422424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هيئة البروتوكول (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TCP/IP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) وكيفية اختبار إعدادات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345600" y="4727520"/>
            <a:ext cx="93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قنيات الاتصال المستخدمة في تراسل البيانات في الشبكات الواسعة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4040" y="5229360"/>
            <a:ext cx="51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خدمة ال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DHCP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بروتوكول العنونة الآ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7360" y="5661000"/>
            <a:ext cx="76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خدمة الدليل الفعال في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indows 2000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الـ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ctive Directory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2675160" y="1695600"/>
            <a:ext cx="14323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ام الأسلاك المحمية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TP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عدل نقل بيانات يتراوح بين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الى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ميجابت في الثانية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تقنية البث الرقمي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aseband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ندما ينضم أول جهاز الى شبكة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،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تقوم الشبكة بتوليد إشارة أو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oken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تبدأ با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ا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حول الحلقة تعرض نفسها على كل جهاز الى أن يقرر جهاز ما إرسال بيانات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فيعطي إشارة بذلك و يبدأ التحكم ب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oken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فيقوم بأخذه من الشبكة و يرسل بدلا من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إطار يحتوي على البيانات التي يود أن يبثها الى الشبكة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 يكون أول جهاز يتم تشغيله على الشبكة هو المسئول عن مراقبة أنشطة الشبكة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4105080" cy="2895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4500720" y="907920"/>
            <a:ext cx="3609720" cy="5658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50920" y="836640"/>
            <a:ext cx="388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يتكون إطار البيانات في شبكات</a:t>
            </a:r>
            <a:r>
              <a:rPr b="1" lang="de-DE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Token Ring</a:t>
            </a:r>
            <a:r>
              <a:rPr b="1" lang="de-DE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من عشر أقس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وكل العمليات التي تجري على الشبكة تكون محددة في إعدادات الإطار</a:t>
            </a:r>
            <a:r>
              <a:rPr b="1" lang="de-DE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6" action="ppaction://hlinksldjump"/>
          </p:cNvPr>
          <p:cNvSpPr/>
          <p:nvPr/>
        </p:nvSpPr>
        <p:spPr>
          <a:xfrm>
            <a:off x="4500720" y="907920"/>
            <a:ext cx="3597120" cy="29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7" action="ppaction://hlinksldjump"/>
          </p:cNvPr>
          <p:cNvSpPr/>
          <p:nvPr/>
        </p:nvSpPr>
        <p:spPr>
          <a:xfrm>
            <a:off x="4500720" y="1197000"/>
            <a:ext cx="3597120" cy="29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8" action="ppaction://hlinksldjump"/>
          </p:cNvPr>
          <p:cNvSpPr/>
          <p:nvPr/>
        </p:nvSpPr>
        <p:spPr>
          <a:xfrm>
            <a:off x="4500720" y="1484280"/>
            <a:ext cx="3597120" cy="29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9" action="ppaction://hlinksldjump"/>
          </p:cNvPr>
          <p:cNvSpPr/>
          <p:nvPr/>
        </p:nvSpPr>
        <p:spPr>
          <a:xfrm>
            <a:off x="4500720" y="1773360"/>
            <a:ext cx="3597120" cy="102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10" action="ppaction://hlinksldjump"/>
          </p:cNvPr>
          <p:cNvSpPr/>
          <p:nvPr/>
        </p:nvSpPr>
        <p:spPr>
          <a:xfrm>
            <a:off x="4500720" y="2781360"/>
            <a:ext cx="3597120" cy="11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1" action="ppaction://hlinksldjump"/>
          </p:cNvPr>
          <p:cNvSpPr/>
          <p:nvPr/>
        </p:nvSpPr>
        <p:spPr>
          <a:xfrm>
            <a:off x="4500720" y="4221000"/>
            <a:ext cx="3597120" cy="114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2" action="ppaction://hlinksldjump"/>
          </p:cNvPr>
          <p:cNvSpPr/>
          <p:nvPr/>
        </p:nvSpPr>
        <p:spPr>
          <a:xfrm>
            <a:off x="4500720" y="5373720"/>
            <a:ext cx="35971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13" action="ppaction://hlinksldjump"/>
          </p:cNvPr>
          <p:cNvSpPr/>
          <p:nvPr/>
        </p:nvSpPr>
        <p:spPr>
          <a:xfrm>
            <a:off x="4500720" y="5950080"/>
            <a:ext cx="3597120" cy="29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4" action="ppaction://hlinksldjump"/>
          </p:cNvPr>
          <p:cNvSpPr/>
          <p:nvPr/>
        </p:nvSpPr>
        <p:spPr>
          <a:xfrm>
            <a:off x="4500720" y="6237360"/>
            <a:ext cx="3597120" cy="29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500720" y="3933720"/>
            <a:ext cx="3597120" cy="337320"/>
            <a:chOff x="4500720" y="3933720"/>
            <a:chExt cx="3597120" cy="337320"/>
          </a:xfrm>
        </p:grpSpPr>
        <p:sp>
          <p:nvSpPr>
            <p:cNvPr id="150" name=""/>
            <p:cNvSpPr/>
            <p:nvPr/>
          </p:nvSpPr>
          <p:spPr>
            <a:xfrm>
              <a:off x="4500720" y="3933720"/>
              <a:ext cx="3597120" cy="290520"/>
            </a:xfrm>
            <a:prstGeom prst="rect">
              <a:avLst/>
            </a:pr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>
              <a:hlinkClick r:id="rId15" action="ppaction://hlinksldjump"/>
            </p:cNvPr>
            <p:cNvSpPr/>
            <p:nvPr/>
          </p:nvSpPr>
          <p:spPr>
            <a:xfrm>
              <a:off x="5296320" y="3933720"/>
              <a:ext cx="199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66"/>
                  </a:solidFill>
                  <a:latin typeface="Times New Roman"/>
                </a:rPr>
                <a:t>Routing 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-1925280" y="1795320"/>
            <a:ext cx="1288368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cc0066"/>
                </a:solidFill>
                <a:uFillTx/>
                <a:latin typeface="Times New Roman"/>
                <a:cs typeface="Times New Roman"/>
              </a:rPr>
              <a:t>القسم الأو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سمى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tart Delimiter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هو الذي يحدد بداية الإطار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-2311200" y="1110960"/>
            <a:ext cx="1328544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cc0066"/>
                </a:solidFill>
                <a:uFillTx/>
                <a:latin typeface="Times New Roman"/>
                <a:cs typeface="Times New Roman"/>
              </a:rPr>
              <a:t>القسم الثاني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سمى</a:t>
            </a:r>
            <a:r>
              <a:rPr b="1" lang="de-D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ccess Control</a:t>
            </a:r>
            <a:r>
              <a:rPr b="1" lang="de-D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و التحكم بالوصول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طول هذا القسم بايت واحد و مهمته تحديد أولوية هذا الإطار في المعالجة من قبل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جهاز المستقبل قبل أو بعد غيره من الإطارات، كما أنه يحدد فيما إذا كان هذا الإطار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أطار</a:t>
            </a:r>
            <a:r>
              <a:rPr b="1" lang="de-D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</a:t>
            </a:r>
            <a:r>
              <a:rPr b="1" lang="de-D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ارغ أو إطار بيانات</a:t>
            </a:r>
            <a:r>
              <a:rPr b="1" lang="de-D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-1123560" y="1053000"/>
            <a:ext cx="118594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cc0066"/>
                </a:solidFill>
                <a:uFillTx/>
                <a:latin typeface="Times New Roman"/>
                <a:cs typeface="Times New Roman"/>
              </a:rPr>
              <a:t>القسم الثالث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يسمى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Frame Control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هذا القسم يحدد فيما إذا كان هذ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إطار ينتمي إل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Media Access Control (MAC)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أو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Logical Link Control (LLC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 هذين المصطلحين سأؤجل شرحهما الى درس مستقل لتعلقهما بأمور أخرى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-657720" y="2347560"/>
            <a:ext cx="102956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cc0066"/>
                </a:solidFill>
                <a:uFillTx/>
                <a:latin typeface="Times New Roman"/>
                <a:cs typeface="Times New Roman"/>
              </a:rPr>
              <a:t>القسم الراب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يسمى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estination Address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 فيه يحدد عنوان الجهاز المستقبل للإطار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-144000" y="2347560"/>
            <a:ext cx="93304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cc0066"/>
                </a:solidFill>
                <a:uFillTx/>
                <a:latin typeface="Times New Roman"/>
                <a:cs typeface="Times New Roman"/>
              </a:rPr>
              <a:t>القسم الخام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يسمى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ource Address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 فيه يحدد عنوان الجهاز المرسل للإطار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-1121400" y="1573200"/>
            <a:ext cx="114966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cc0066"/>
                </a:solidFill>
                <a:uFillTx/>
                <a:latin typeface="Times New Roman"/>
                <a:cs typeface="Times New Roman"/>
              </a:rPr>
              <a:t>القسم السادس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سمى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outing Information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أو معلومات التوجيه ، و يتراوح طول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بين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الى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بايت ، و مهمته توجيه المعلومات بين حلقات مختلفة متصلة معا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611280" y="333360"/>
            <a:ext cx="3816360" cy="23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-602640" y="1869840"/>
            <a:ext cx="1063728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cc0066"/>
                </a:solidFill>
                <a:uFillTx/>
                <a:latin typeface="Times New Roman"/>
                <a:cs typeface="Times New Roman"/>
              </a:rPr>
              <a:t>القسم الساب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سمى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و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هذا القسم يحتوي إما على معلومات و بيان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مستخدم أو يحتوي على معلومات التحكم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-1377720" y="1337760"/>
            <a:ext cx="117633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cc0066"/>
                </a:solidFill>
                <a:uFillTx/>
                <a:latin typeface="Times New Roman"/>
                <a:cs typeface="Times New Roman"/>
              </a:rPr>
              <a:t>القسم الثام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يسمى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Frame Check Sequence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أو اختبار التتابع و هذا القسم يسمح للجها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المستقبل بإجراء اختبار للتأكد من خلو الأقسام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و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و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من أي أخطاء فإذا ت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عثور على أي خطأ فإن الإطار سيز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ل و سيتم إرسال إطار جديد بدلا منه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4371840" y="1268280"/>
            <a:ext cx="39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عريف 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4369320" y="1801800"/>
            <a:ext cx="403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سما</a:t>
            </a: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 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101080" y="620640"/>
            <a:ext cx="71280" cy="547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4" action="ppaction://hlinksldjump"/>
          </p:cNvPr>
          <p:cNvSpPr/>
          <p:nvPr/>
        </p:nvSpPr>
        <p:spPr>
          <a:xfrm>
            <a:off x="1025280" y="2378160"/>
            <a:ext cx="78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قنية ارسال الاشارة (البيانات) في 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5" action="ppaction://hlinksldjump"/>
          </p:cNvPr>
          <p:cNvSpPr/>
          <p:nvPr/>
        </p:nvSpPr>
        <p:spPr>
          <a:xfrm>
            <a:off x="322200" y="2781360"/>
            <a:ext cx="84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ernet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ذات سرعة تبادل المعلومات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6" action="ppaction://hlinksldjump"/>
          </p:cNvPr>
          <p:cNvSpPr/>
          <p:nvPr/>
        </p:nvSpPr>
        <p:spPr>
          <a:xfrm>
            <a:off x="147240" y="3213000"/>
            <a:ext cx="86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ernet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ذات سرعة تبادل المعلومات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38520" y="3645000"/>
            <a:ext cx="87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ernet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ذات سرعة تبادل المعلومات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7" action="ppaction://hlinksldjump"/>
          </p:cNvPr>
          <p:cNvSpPr/>
          <p:nvPr/>
        </p:nvSpPr>
        <p:spPr>
          <a:xfrm>
            <a:off x="4739400" y="4078440"/>
            <a:ext cx="34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ken Ring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8" action="ppaction://hlinksldjump"/>
          </p:cNvPr>
          <p:cNvSpPr/>
          <p:nvPr/>
        </p:nvSpPr>
        <p:spPr>
          <a:xfrm>
            <a:off x="5823720" y="4581360"/>
            <a:ext cx="25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C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484360" y="404640"/>
            <a:ext cx="3286080" cy="93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04402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تقنيات الشبكات المحل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8000" y="2347560"/>
            <a:ext cx="77500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cc0066"/>
                </a:solidFill>
                <a:uFillTx/>
                <a:latin typeface="Times New Roman"/>
                <a:cs typeface="Times New Roman"/>
              </a:rPr>
              <a:t>القسم التاس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يسمى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nd Delimiter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 هذا القسم يحدد نهاية الإطار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-1643040" y="1480680"/>
            <a:ext cx="124365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cc0066"/>
                </a:solidFill>
                <a:uFillTx/>
                <a:latin typeface="Times New Roman"/>
                <a:cs typeface="Times New Roman"/>
              </a:rPr>
              <a:t>القسم العاش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سمى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Status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هو الذي يحدد فيما إذا قد تم استلام الإطار من قبل الجها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مستقبل و قد نجحت عملية نسخ البيانات ، و طبعا هذه المعلومات يحتاجها الجها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مرسل عندما يعود إليه الإطار فيتأكد من وصوله و يضع على الشبكة أطار جديد فارغ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172240" y="260280"/>
            <a:ext cx="49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وحدات التوصيل المركز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79292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1160" y="836640"/>
            <a:ext cx="804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توصيل عناصر الشبك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Rin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ناك أجهزة اشبه ب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B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ي شبكات ا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1403280" y="184464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469960" y="1628640"/>
            <a:ext cx="66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حدات التوصيل المركزية في شبكات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84760" y="220500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ltistation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 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cess 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88240" y="249228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حدة النفاز المتعد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83320" y="4005360"/>
            <a:ext cx="40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rt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 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ltistation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 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cess 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02800" y="4005360"/>
            <a:ext cx="33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حدة النفاذ المتعدد الذك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84760" y="3084480"/>
            <a:ext cx="34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lti 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ation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 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cess 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73440" y="217476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A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95960" y="306864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SA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00560" y="39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67240" y="39337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MA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3" idx="1"/>
            <a:endCxn id="197" idx="3"/>
          </p:cNvCxnSpPr>
          <p:nvPr/>
        </p:nvCxnSpPr>
        <p:spPr>
          <a:xfrm flipH="1" flipV="1">
            <a:off x="6366600" y="2403360"/>
            <a:ext cx="808920" cy="31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93" idx="1"/>
            <a:endCxn id="198" idx="3"/>
          </p:cNvCxnSpPr>
          <p:nvPr/>
        </p:nvCxnSpPr>
        <p:spPr>
          <a:xfrm flipH="1">
            <a:off x="6358680" y="2720520"/>
            <a:ext cx="81684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-666000" y="5373720"/>
            <a:ext cx="10714680" cy="825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وتتميز وحدة النفاز المتعدد بانها تتخطى الحواسيب المعطلة وتخرجه خارج الحلقة وهذ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الخاصة ندعوها بـ خاصية تحمل الخطأ(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Fault Tolerace</a:t>
            </a:r>
            <a:r>
              <a:rPr b="0" lang="ar-SA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955960" y="1192320"/>
            <a:ext cx="53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حجم شبكات الـ</a:t>
            </a:r>
            <a:r>
              <a:rPr b="0" lang="de-DE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Token Ring</a:t>
            </a:r>
            <a:r>
              <a:rPr b="0" lang="de-DE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32560" y="222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936360" y="2205000"/>
            <a:ext cx="110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لاحظ من الصورة السابقة انه في وحدة النفاذ المتعدد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U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في شبكات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ها عشرة مناف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ثمان منها لوصل الحواسيب والمنفذين الباقيين لوصل وحدات النفاذ المتعدد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يمكن ان تحتوي الشبكة حتى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حدة نفاذ متعدد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U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يمكن توسيع الشبكة حتى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جهازا اذا استخدمنا كبلات الـ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P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جهاز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اذا استخدمن اكبال ال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P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539640" y="4365720"/>
            <a:ext cx="208116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111760" y="765000"/>
            <a:ext cx="472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C</a:t>
            </a:r>
            <a:r>
              <a:rPr b="0" lang="de-DE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95040" y="2432160"/>
            <a:ext cx="45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مواصفات شبكات الـ </a:t>
            </a:r>
            <a:r>
              <a:rPr b="0" lang="de-DE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RC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31120" y="2952720"/>
            <a:ext cx="74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طريقة توصيل الحواسيب في شبكات الـ </a:t>
            </a:r>
            <a:r>
              <a:rPr b="0" lang="de-DE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RC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21320" y="3470400"/>
            <a:ext cx="654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سرعة نقل البيانات في شبكات الـ </a:t>
            </a:r>
            <a:r>
              <a:rPr b="0" lang="de-DE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RC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69160" y="3987720"/>
            <a:ext cx="68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تصنيف شبكات الـ </a:t>
            </a:r>
            <a:r>
              <a:rPr b="0" lang="de-DE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RC NET</a:t>
            </a:r>
            <a:r>
              <a:rPr b="0" lang="de-DE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في المعيار </a:t>
            </a:r>
            <a:r>
              <a:rPr b="0" lang="de-DE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E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61120" y="45100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تقنية مرور البيانات في شبكات الـ </a:t>
            </a:r>
            <a:r>
              <a:rPr b="0" lang="de-DE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RC NET</a:t>
            </a:r>
            <a:r>
              <a:rPr b="0" lang="de-DE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080200" y="481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31760" y="5040360"/>
            <a:ext cx="652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شكل اطار البيانات في شبكات الـ </a:t>
            </a:r>
            <a:r>
              <a:rPr b="0" lang="de-DE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RC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85840" y="5557680"/>
            <a:ext cx="72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انواع وحدات التوصيل المركزية في  الـ </a:t>
            </a:r>
            <a:r>
              <a:rPr b="0" lang="de-DE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RC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81400" y="6093000"/>
            <a:ext cx="70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انواع الكبلات المستخدمة في شبكات </a:t>
            </a:r>
            <a:r>
              <a:rPr b="0" lang="de-DE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RC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4" action="ppaction://hlinksldjump"/>
          </p:cNvPr>
          <p:cNvSpPr/>
          <p:nvPr/>
        </p:nvSpPr>
        <p:spPr>
          <a:xfrm>
            <a:off x="6806160" y="1916280"/>
            <a:ext cx="11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تعري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3640" y="685800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52880" y="2922120"/>
            <a:ext cx="8887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ورت شبكات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-Ne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قبل شركة </a:t>
            </a:r>
            <a:r>
              <a:rPr b="0" lang="de-DE" sz="3200" spc="-1" strike="noStrike">
                <a:solidFill>
                  <a:srgbClr val="cc0066"/>
                </a:solidFill>
                <a:latin typeface="Times New Roman"/>
              </a:rPr>
              <a:t>Datapoint Corporatio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م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9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ول بطاقة شبكة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-Ne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فره عام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3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341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tached </a:t>
            </a:r>
            <a:r>
              <a:rPr b="0" lang="de-DE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source </a:t>
            </a:r>
            <a:r>
              <a:rPr b="0" lang="de-DE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omp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900000" y="2246400"/>
            <a:ext cx="7580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خدم في شبكات الـ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 NET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قن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Pa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لتنظيم مرور البيان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82160" y="2708280"/>
            <a:ext cx="877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 NET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ستخدم طريقة التوصي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نجمي – الحلقي (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 – Ring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Topology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توصيل عناصر الشبك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-163800" y="1989000"/>
            <a:ext cx="9532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صل سرعة تبادل البيانات في شبكات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 NE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قياسية الى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5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صل سرعة تبادل البيانات في شبكات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 NET Plu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الى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طور هذا النوع من الشبكات و اصبحت تسمى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NC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نسبة ل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as Conrad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دعى  نظام شبكات توماس كونرا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as Conrad Network Syste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صل سرعة تبادل البيانات في شبكات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NC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الى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76520" y="189000"/>
            <a:ext cx="727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ken Ring</a:t>
            </a:r>
            <a:r>
              <a:rPr b="0" lang="de-DE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4" action="ppaction://hlinksldjump"/>
          </p:cNvPr>
          <p:cNvSpPr/>
          <p:nvPr/>
        </p:nvSpPr>
        <p:spPr>
          <a:xfrm>
            <a:off x="2193480" y="4364640"/>
            <a:ext cx="72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وصف لمكونات و احتياجات شبكات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ken Ring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5" action="ppaction://hlinksldjump"/>
          </p:cNvPr>
          <p:cNvSpPr/>
          <p:nvPr/>
        </p:nvSpPr>
        <p:spPr>
          <a:xfrm>
            <a:off x="3475800" y="1828800"/>
            <a:ext cx="572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وصف لخصائص شبكات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ken Ring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6" action="ppaction://hlinksldjump"/>
          </p:cNvPr>
          <p:cNvSpPr/>
          <p:nvPr/>
        </p:nvSpPr>
        <p:spPr>
          <a:xfrm>
            <a:off x="3143880" y="2492280"/>
            <a:ext cx="62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وصف لطريقة عمل شبكات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ken Ring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7" action="ppaction://hlinksldjump"/>
          </p:cNvPr>
          <p:cNvSpPr/>
          <p:nvPr/>
        </p:nvSpPr>
        <p:spPr>
          <a:xfrm>
            <a:off x="4593600" y="3127320"/>
            <a:ext cx="45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سمات شبكات الـ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ken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8" action="ppaction://hlinksldjump"/>
          </p:cNvPr>
          <p:cNvSpPr/>
          <p:nvPr/>
        </p:nvSpPr>
        <p:spPr>
          <a:xfrm>
            <a:off x="-1664280" y="3789360"/>
            <a:ext cx="122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وصف لأقسام الإطار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ame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الذي ينقل البيانات على الشبكة وبيان عمل كل قسم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14120" y="2781360"/>
            <a:ext cx="866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يير شبكات الـ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 NET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ي معيار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المعي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4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0" y="184464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يتكون إطار البيانات في شبكات</a:t>
            </a:r>
            <a:r>
              <a:rPr b="1" lang="de-DE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ARC NET</a:t>
            </a:r>
            <a:r>
              <a:rPr b="1" lang="de-DE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من ثلاثة أقس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قسم عنوان المصدر (</a:t>
            </a:r>
            <a:r>
              <a:rPr b="0" lang="de-DE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ource Adress</a:t>
            </a:r>
            <a:r>
              <a:rPr b="0" lang="ar-SA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0" lang="de-DE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قسم عنوان المقصد (</a:t>
            </a:r>
            <a:r>
              <a:rPr b="0" lang="de-DE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estination Adress</a:t>
            </a:r>
            <a:r>
              <a:rPr b="0" lang="ar-SA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قسم البيانات المرسلة </a:t>
            </a:r>
            <a:r>
              <a:rPr b="0" lang="de-DE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ata</a:t>
            </a:r>
            <a:r>
              <a:rPr b="0" lang="ar-SA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cc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cc99"/>
                </a:solidFill>
                <a:latin typeface="Times New Roman"/>
                <a:cs typeface="Times New Roman"/>
              </a:rPr>
              <a:t>يبلغ حجم الاطار في شبكات </a:t>
            </a:r>
            <a:r>
              <a:rPr b="0" lang="de-DE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RC NET</a:t>
            </a:r>
            <a:r>
              <a:rPr b="0" lang="de-DE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 القياسية (</a:t>
            </a:r>
            <a:r>
              <a:rPr b="0" lang="de-DE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508</a:t>
            </a:r>
            <a:r>
              <a:rPr b="0" lang="de-DE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yte</a:t>
            </a:r>
            <a:r>
              <a:rPr b="0" lang="ar-SA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cc99"/>
                </a:solidFill>
                <a:latin typeface="Times New Roman"/>
                <a:cs typeface="Times New Roman"/>
              </a:rPr>
              <a:t>بينما يبلغ حجم الاطار في شبكات الـ </a:t>
            </a:r>
            <a:r>
              <a:rPr b="0" lang="de-DE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RC NET Plus</a:t>
            </a:r>
            <a:r>
              <a:rPr b="0" lang="ar-SA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(</a:t>
            </a:r>
            <a:r>
              <a:rPr b="0" lang="de-DE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4096 Byte </a:t>
            </a:r>
            <a:r>
              <a:rPr b="0" lang="ar-SA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-1280160" y="1479600"/>
            <a:ext cx="11805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شبكات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 NET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وصل كل جهاز الى وحدة توصيل مركزية من احد الانواع الت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حدة التوصيل المركزية الخاملة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ve Hub´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حدة التوصيل المركزية النشطة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Hub´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حدة التوصيل المركزية الذكية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rt Hub´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68400"/>
            <a:ext cx="987480" cy="12268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-1311480" y="1805040"/>
            <a:ext cx="1167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ستخدم في شبكات الـ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 NET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وصل عناصر ال شبك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بل المجدول (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P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ابلات الالياف الضوئية (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er Optik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5520" y="2273040"/>
            <a:ext cx="8975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بكات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Ring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 شبكات محلية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ممتها شركة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تجمع بين خاصيتين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مرير الإشارة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Passing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صميم الهجين للحلقة و النجمة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brid Star/Ring Topologe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68400"/>
            <a:ext cx="987480" cy="1226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826920" y="0"/>
            <a:ext cx="6686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68360" y="1268280"/>
            <a:ext cx="8136000" cy="46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-1501560" y="2562480"/>
            <a:ext cx="1207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كرة شبكات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oken Ring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ظهرت أول مرة في أوائل الستينات من القرن الماضي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لكنها لم تنفذ إلا بعد الاتفاق على المعيار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EEE 802.5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ذي يصف شبكات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oken Ring</a:t>
            </a:r>
            <a:r>
              <a:rPr b="1" lang="de-DE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خلال تصميم الحلقة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ng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كان ذلك عام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5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وهي تمثل المنافس الأقو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شبكات الـ </a:t>
            </a:r>
            <a:r>
              <a:rPr b="1" lang="de-DE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Ethernet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ذات المعيار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r>
              <a:rPr b="1" lang="de-DE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IEEE 802.3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23738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حتوي بروتوكول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Passing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ى سلسلة من البتات تسمى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oken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تدور على مدار الحلقة، ويصل طول إطار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ر أو الفارغ الى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07:44:49Z</dcterms:created>
  <dc:creator>Dr.Hisham Adel Abhari</dc:creator>
  <dc:description/>
  <dc:language>en-US</dc:language>
  <cp:lastModifiedBy>admin</cp:lastModifiedBy>
  <dcterms:modified xsi:type="dcterms:W3CDTF">2002-06-05T10:02:59Z</dcterms:modified>
  <cp:revision>108</cp:revision>
  <dc:subject/>
  <dc:title>Kein Folientitel</dc:title>
</cp:coreProperties>
</file>