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27C-6F0D-4B5D-9395-687E58CC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146-F00A-4246-BD47-52F3E35B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E04-730C-4465-867D-969575F9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3DA-8CC3-4614-9E8A-6AA7CD8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514-F495-42C8-BFE2-5017C71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CF1-E4DD-44BE-8F45-94D8152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167-67B2-4E37-B44D-74B53770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1E-3E8C-4E09-A69B-14C9A09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191-D10B-460A-AF32-24195E3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496-21F1-46B4-BD17-A9A8212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4FA-3F9D-4814-9B22-14DAA33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87F-9DE0-4109-BFE6-A728CF5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845-3481-4730-972F-D5559CC12B9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27.xml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30.xml"/><Relationship Id="rId5" Type="http://schemas.openxmlformats.org/officeDocument/2006/relationships/slide" Target="slide35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2.png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2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2_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935360" y="2349720"/>
            <a:ext cx="12957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تقل الإشارات على مدار الحلقة في اتجاه واحد و تمر من خلال كل جهاز على الشبكة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قوم كل كمبيوتر على الشبكة بعمل دور </a:t>
            </a:r>
            <a:r>
              <a:rPr b="1" lang="ar-SA" sz="28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كرر الإشا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أن كل جهاز تمر من خلا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شارة يقوم بإنعاشها وتقويتها ثم يعيد إرسالها على الشبكة الى الكمبيوتر التالي، ولك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 الإشارة تمر على كل جهاز في الشبكة فإن توقف أحد الأجهز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العمل سيؤ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توقف الشبكة عن العمل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6160" y="333360"/>
            <a:ext cx="837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طريقة تمرير الإشارة بين الأجهز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عملية إرسال و استقبال البيانات</a:t>
            </a:r>
            <a:r>
              <a:rPr b="1" lang="de-DE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0920" y="1628640"/>
            <a:ext cx="8650080" cy="3019680"/>
            <a:chOff x="250920" y="1628640"/>
            <a:chExt cx="8650080" cy="3019680"/>
          </a:xfrm>
        </p:grpSpPr>
        <p:sp>
          <p:nvSpPr>
            <p:cNvPr id="101" name=""/>
            <p:cNvSpPr/>
            <p:nvPr/>
          </p:nvSpPr>
          <p:spPr>
            <a:xfrm>
              <a:off x="250920" y="1628640"/>
              <a:ext cx="865008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قنية المستخدمة في إرسال البيانات على شبكات الحلقة يطلق عليها اس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Token Passing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و تمرير الإشارة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4" action="ppaction://hlinksldjump"/>
            </p:cNvPr>
            <p:cNvSpPr/>
            <p:nvPr/>
          </p:nvSpPr>
          <p:spPr>
            <a:xfrm>
              <a:off x="7236000" y="2565000"/>
              <a:ext cx="287280" cy="287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596360" y="2131920"/>
              <a:ext cx="1295280" cy="576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-1116360" y="4724280"/>
            <a:ext cx="11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يار البيانات الم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تمريره من جهاز كمبيوتر الى آخر على ال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2107800" y="2708280"/>
            <a:ext cx="1332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لوسائل السريعة ،فالإشارة  تنتقل من جهاز الى آخر بسرعة مقاربة لسرعة الضوء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سبب هذه السرعة الفائقة فإن أداء الشبكة يكون ممتازا حتى في وجود عدد كبير م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أجهزة على الشبكة، ولكن تبقى  مشكلة مثل ما هو عليه في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ه عند 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شبكة يجب إيقاف عملها أثناء عملية التطوي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7080" y="1268280"/>
            <a:ext cx="44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0066"/>
                </a:solidFill>
                <a:latin typeface="Times New Roman"/>
              </a:rPr>
              <a:t>Token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773360"/>
            <a:ext cx="896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ندما يريد جهاز ما على الشبكة إرسال بيان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ليه الانتظار حتى يتسلم إشارة حرة 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بره أنه قادر على إ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بياناته على الشبك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24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ندما يتسلم الكمبيوتر الذي يريد إرسال بياناته، الإشارة الحرة فإ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يضيف إليها بيان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وبالإضافة لذلك يقوم بإضافة عنوان الكتر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يحدد وجهة إرسال هذه البيانات، أي أنه يحدد عنوان الكمبيوتر الذي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ترسل إليه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362916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8560" y="47689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1517760" y="2244600"/>
            <a:ext cx="1223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ثم يرسل هذه الإشار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 الحلقة تنتقل هذه الإشارة من جهاز كمبيوت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الى آخر حتى تجد الجهاز الذي يتوافق عنوانه الإلكتروني مع العنوان المشف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داخل الإشارة و حتى هذه اللحظة فإن الإشارة ما تزال غير محرر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492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مبيوتر المستقبل لهذه الإشارة يقوم بنسخ البيانات الموجودة عليها ثم يعيد إرسالها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لى الشبكة الى الجهاز الأصلي الذي أرسل هذه الإشارة و ذلك بعد أن يضيف عليها رسالة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تبين أن البيانات قد تم استلامها بشكل صحيح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2162880" y="1338120"/>
            <a:ext cx="1350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كذا تنتقل الإشارة مرة أخرى على الشبكة وتمر على كل الأجهزة حتى تصل الى الكمبيوت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أصلي الذي أرسل هذه الإشارة، بعد أن يقوم هذا الكمبيوتر بالتأكد من محتويات هذه الإش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أنها قد استلمت بشكل صحيح فإنه يقوم بإزالتها ويرسل بدلا منها إشارة ح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66"/>
                </a:solidFill>
                <a:latin typeface="Times New Roman"/>
              </a:rPr>
              <a:t>Free 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ها على الشبكة لتنتقل من جديد الى الكمبيوتر التالي فإذا كان يريد إرسال بيانات ما فإ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أخذ هذه الإشارة الحرة ويضيف إليها بياناته ، و إن لم يكن لديه أي بيانات لإرسالها فإن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يمرر هذه الإشارة الى الكمبيوتر التالي وهكذا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1960" y="187200"/>
            <a:ext cx="8604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دأ تصميم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حلقة تصل بين أجهزة الشبكة ، و لكن التصم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ادي الفعلي هو نظام تشبيك نجمي ، فكل جهاز متصل بالحلقة هو فعليا متصل بس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صله الى نقطة مركزية هي المجمع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نفذ متعدد الاتصال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كمبيوترات هي جزء من الحلق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كنهم يتصلون بها عن طريق مجمع، هذا ما يطلق عليه شبكة هجينة نجمة حلق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6280" y="1959120"/>
            <a:ext cx="8604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أغلب شبكات شر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مة على 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في مصطل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ر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 على المجمع اسم وحدة الوصول متعدد المحط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station Access Unit (MAU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ذي يستخدم السلك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شبك حتى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105264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2675160" y="1695600"/>
            <a:ext cx="1432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الأسلاك المحم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P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نقل بيانات يتراوح ب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ى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يجابت في الثان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قنية البث الرقمي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ندما ينضم أول جهاز الى 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قوم الشبكة بتوليد إشارة أو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بدأ با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حول الحلقة تعرض نفسها على كل جهاز الى أن يقرر جهاز ما إرسال بيان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فيعطي إشارة بذلك و يبدأ التحكم ب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قوم بأخذه من الشبكة و يرسل بدلا م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طار يحتوي على البيانات التي يود أن يبثها الى الشبك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يكون أول جهاز يتم تشغيله على الشبكة هو المسئول عن مراقبة أنشطة ال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410508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3609720" cy="5658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83664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كون إطار البيانات في شبكات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عشر أقس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وكل العمليات التي تجري على الشبكة تكون محددة في إعدادات الإطار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4500720" y="90792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4500720" y="119700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8" action="ppaction://hlinksldjump"/>
          </p:cNvPr>
          <p:cNvSpPr/>
          <p:nvPr/>
        </p:nvSpPr>
        <p:spPr>
          <a:xfrm>
            <a:off x="4500720" y="148428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9" action="ppaction://hlinksldjump"/>
          </p:cNvPr>
          <p:cNvSpPr/>
          <p:nvPr/>
        </p:nvSpPr>
        <p:spPr>
          <a:xfrm>
            <a:off x="4500720" y="1773360"/>
            <a:ext cx="3597120" cy="10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4500720" y="2781360"/>
            <a:ext cx="359712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1" action="ppaction://hlinksldjump"/>
          </p:cNvPr>
          <p:cNvSpPr/>
          <p:nvPr/>
        </p:nvSpPr>
        <p:spPr>
          <a:xfrm>
            <a:off x="4500720" y="4221000"/>
            <a:ext cx="359712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2" action="ppaction://hlinksldjump"/>
          </p:cNvPr>
          <p:cNvSpPr/>
          <p:nvPr/>
        </p:nvSpPr>
        <p:spPr>
          <a:xfrm>
            <a:off x="4500720" y="5373720"/>
            <a:ext cx="35971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3" action="ppaction://hlinksldjump"/>
          </p:cNvPr>
          <p:cNvSpPr/>
          <p:nvPr/>
        </p:nvSpPr>
        <p:spPr>
          <a:xfrm>
            <a:off x="4500720" y="595008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4" action="ppaction://hlinksldjump"/>
          </p:cNvPr>
          <p:cNvSpPr/>
          <p:nvPr/>
        </p:nvSpPr>
        <p:spPr>
          <a:xfrm>
            <a:off x="4500720" y="623736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00720" y="3933720"/>
            <a:ext cx="3597120" cy="337320"/>
            <a:chOff x="4500720" y="3933720"/>
            <a:chExt cx="3597120" cy="337320"/>
          </a:xfrm>
        </p:grpSpPr>
        <p:sp>
          <p:nvSpPr>
            <p:cNvPr id="150" name=""/>
            <p:cNvSpPr/>
            <p:nvPr/>
          </p:nvSpPr>
          <p:spPr>
            <a:xfrm>
              <a:off x="4500720" y="3933720"/>
              <a:ext cx="3597120" cy="29052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>
              <a:hlinkClick r:id="rId15" action="ppaction://hlinksldjump"/>
            </p:cNvPr>
            <p:cNvSpPr/>
            <p:nvPr/>
          </p:nvSpPr>
          <p:spPr>
            <a:xfrm>
              <a:off x="5296320" y="393372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66"/>
                  </a:solidFill>
                  <a:latin typeface="Times New Roman"/>
                </a:rPr>
                <a:t>Routing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1925280" y="1795320"/>
            <a:ext cx="128836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أو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art Delimi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و الذي يحدد بداية الإطار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2311200" y="1110960"/>
            <a:ext cx="132854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ن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ccess Control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التحكم بالوصو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طول هذا القسم بايت واحد و مهمته تحديد أولوية هذا الإطار في المعالجة من قب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از المستقبل قبل أو بعد غيره من الإطارات، كما أنه يحدد فيما إذا كان هذا الإطار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أطار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رغ أو إطار بيانات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123560" y="1053000"/>
            <a:ext cx="118594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لث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ame Contro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ذا القسم يحدد فيما إذا كان ه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إطار ينتمي إ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edia Access Control (MAC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ogical Link Control (LLC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هذين المصطلحين سأؤجل شرحهما الى درس مستقل لتعلقهما بأمور أخر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-657720" y="2347560"/>
            <a:ext cx="10295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ر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stination Addres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فيه يحدد عنوان الجهاز المستقبل ل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144000" y="2347560"/>
            <a:ext cx="9330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خام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ource Addres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فيه يحدد عنوان الجهاز المرسل ل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1121400" y="1573200"/>
            <a:ext cx="11496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ساد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outing Informatio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 معلومات التوجيه ، و يتراوح ط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ى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ايت ، و مهمته توجيه المعلومات بين حلقات مختلفة متصلة معا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11280" y="333360"/>
            <a:ext cx="381636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602640" y="1869840"/>
            <a:ext cx="10637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ذا القسم يحتوي إما على معلومات و 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ستخدم أو يحتوي على معلومات التحكم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377720" y="1337760"/>
            <a:ext cx="11763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م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ame Check Sequenc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 اختبار التتابع و هذا القسم يسمح ل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مستقبل بإجراء اختبار للتأكد من خلو الأقسام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ن أي أخطاء فإذا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ثور على أي خطأ فإن الإطار سيز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 و سيتم إرسال إطار جديد بدلا منه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371840" y="126828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369320" y="18018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01080" y="620640"/>
            <a:ext cx="71280" cy="547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1025280" y="237816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قنية ارسال الاشارة (البيانات) في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322200" y="2781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147240" y="321300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645000"/>
            <a:ext cx="87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4739400" y="4078440"/>
            <a:ext cx="34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5823720" y="458136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404640"/>
            <a:ext cx="32860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440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قنيات الشبكات المحل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8000" y="2347560"/>
            <a:ext cx="7750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تاس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d Delimite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هذا القسم يحدد نهاية ا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1643040" y="1480680"/>
            <a:ext cx="124365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عاش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tatu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و الذي يحدد فيما إذا قد تم استلام الإطار من قبل 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ستقبل و قد نجحت عملية نسخ البيانات ، و طبعا هذه المعلومات يحتاجها 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رسل عندما يعود إليه الإطار فيتأكد من وصوله و يضع على الشبكة أطار جديد فارغ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72240" y="260280"/>
            <a:ext cx="49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وحدات التوصيل المركز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292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160" y="836640"/>
            <a:ext cx="80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توصيل عناصر الشبك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ناك أجهزة اشبه ب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403280" y="1844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69960" y="1628640"/>
            <a:ext cx="66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ات التوصيل المركزية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4760" y="22050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s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88240" y="2492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نفاز المتعد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3320" y="4005360"/>
            <a:ext cx="40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t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s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02800" y="400536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نفاذ المتعدد الذ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4760" y="308448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3440" y="2174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95960" y="3068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S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0056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67240" y="39337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M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1"/>
            <a:endCxn id="197" idx="3"/>
          </p:cNvCxnSpPr>
          <p:nvPr/>
        </p:nvCxnSpPr>
        <p:spPr>
          <a:xfrm flipH="1" flipV="1">
            <a:off x="6366600" y="2403360"/>
            <a:ext cx="80892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3" idx="1"/>
            <a:endCxn id="198" idx="3"/>
          </p:cNvCxnSpPr>
          <p:nvPr/>
        </p:nvCxnSpPr>
        <p:spPr>
          <a:xfrm flipH="1">
            <a:off x="6358680" y="2720520"/>
            <a:ext cx="8168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-666000" y="5373720"/>
            <a:ext cx="10714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وتتميز وحدة النفاز المتعدد بانها تتخطى الحواسيب المعطلة وتخرجه خارج الحلقة وهذ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الخاصة ندعوها بـ خاصية تحمل الخطأ(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ault Tolerace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55960" y="119232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حجم شبكات الـ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3256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936360" y="2205000"/>
            <a:ext cx="110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لاحظ من الصورة السابقة انه في وحدة النفاذ المتعدد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U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ا عشرة من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ثمان منها لوصل الحواسيب والمنفذين الباقيين لوصل وحدات النفاذ المتعدد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مكن ان تحتوي الشبكة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حدة نفاذ متعدد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U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مكن توسيع الشبكة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اذا استخدمنا كبلات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ذا استخدمن اكبال 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20811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11760" y="765000"/>
            <a:ext cx="47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95040" y="2432160"/>
            <a:ext cx="45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مواصفات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31120" y="2952720"/>
            <a:ext cx="74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طريقة توصيل الحواسيب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1320" y="3470400"/>
            <a:ext cx="65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سرعة نقل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160" y="3987720"/>
            <a:ext cx="68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صنيف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في المعيار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E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1120" y="45100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قنية مرور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80200" y="48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1760" y="504036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شكل اطار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5840" y="555768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نواع وحدات التوصيل المركزية في 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81400" y="6093000"/>
            <a:ext cx="70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نواع الكبلات المستخدمة في شبكات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6806160" y="19162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6858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2880" y="2922120"/>
            <a:ext cx="8887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ورت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-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قبل شرك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</a:rPr>
              <a:t>Datapoint Corpor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ل بطاقة شبك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-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فره عا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tached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ource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2246400"/>
            <a:ext cx="75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قن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تنظيم مرور البيان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2160" y="2708280"/>
            <a:ext cx="87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ستخدم طريقة التوصي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نجمي – الحلقي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– Ring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توصيل عناصر الشبك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163800" y="1989000"/>
            <a:ext cx="953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صل سرعة تبادل البيان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قياسية الى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صل سرعة تبادل البيان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 Plu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طور هذا النوع من الشبكات و اصبحت تسمى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نسبة ل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s Conra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دعى  نظام شبكات توماس كونرا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s Conrad Network Syste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صل سرعة تبادل البيانات في شبكات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76520" y="189000"/>
            <a:ext cx="727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193480" y="4364640"/>
            <a:ext cx="72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وصف لمكونات و احتياجات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3475800" y="1828800"/>
            <a:ext cx="57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وصف لخصائص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143880" y="2492280"/>
            <a:ext cx="62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وصف لطريقة عمل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4593600" y="312732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سمات شبكات الـ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-1664280" y="3789360"/>
            <a:ext cx="122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وصف لأقسام الإطار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ame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الذي ينقل البيانات على الشبكة وبيان عمل كل قسم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4120" y="2781360"/>
            <a:ext cx="86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ير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معيار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لمعي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4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844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كون إطار البيانات في شبكات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RC NET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ثلاثة أقس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عنوان المصدر (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ource Adress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عنوان المقصد (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stination Adress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البيانات المرسلة 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ata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cs typeface="Times New Roman"/>
              </a:rPr>
              <a:t>يبلغ حجم الاطار في شبكات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RC NET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القياسية (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08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yte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cs typeface="Times New Roman"/>
              </a:rPr>
              <a:t>بينما يبلغ حجم الاطار في شبكات الـ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RC NET Plus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096 Byte 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1280160" y="1479600"/>
            <a:ext cx="11805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وصل كل جهاز الى وحدة توصيل مركزية من احد الانواع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خامل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نشط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ذك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-1311480" y="1805040"/>
            <a:ext cx="1167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صل عناصر ال شبك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بل المجدول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لات الالياف الضوئية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Optik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520" y="2273040"/>
            <a:ext cx="897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شبكات محل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ممتها شركة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جمع بين خاصيتين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رير الإشار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صميم الهجين للحلقة و النجم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Star/Ring Topolog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8136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501560" y="2562480"/>
            <a:ext cx="1207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كرة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رت أول مرة في أوائل الستينات من القرن الماضي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ها لم تنفذ إلا بعد الاتفاق على ال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EEE 802.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 يصف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خلال تصميم الحلق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كان ذلك عام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هي تمثل المنافس الأقو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شبكات الـ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Etherne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ذات ال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EEE 802.3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373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بروتوكول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سلسلة من البتات ت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دور على مدار الحلقة، ويصل طول 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 أو الفارغ الى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admin</cp:lastModifiedBy>
  <dcterms:modified xsi:type="dcterms:W3CDTF">2002-06-05T10:02:59Z</dcterms:modified>
  <cp:revision>108</cp:revision>
  <dc:subject/>
  <dc:title>Kein Folientitel</dc:title>
</cp:coreProperties>
</file>