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B19-FE3F-49E3-8C0E-2F52488C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91C-1254-4F63-AA71-633C4B6C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578-2FB5-46F5-8378-E60D16BD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92A-A08C-4147-A22D-F8E28BD3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966-5CFB-4BF3-BABC-8DD775A3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97A-92B3-4778-B81D-1253E917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D4B-DC1D-42C7-95B3-A664EFFA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6CF-F57A-4EC2-97D5-7ED8259E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BEE-6C8D-4DDB-A247-4E59BF6D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C5E-B429-4FA5-B6AD-159CD8F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4B6-7BBF-4654-8C0A-056F9BDE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B6D-7B9B-4231-B509-EC3281F8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4CCF-AFD5-41F9-B67D-FCC104723B3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23.xml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png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slide" Target="slide22.xml"/><Relationship Id="rId5" Type="http://schemas.openxmlformats.org/officeDocument/2006/relationships/image" Target="../media/image8.png"/><Relationship Id="rId6" Type="http://schemas.openxmlformats.org/officeDocument/2006/relationships/slide" Target="slide20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25.xml"/><Relationship Id="rId5" Type="http://schemas.openxmlformats.org/officeDocument/2006/relationships/slide" Target="slide27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image" Target="../media/image2.png"/><Relationship Id="rId4" Type="http://schemas.openxmlformats.org/officeDocument/2006/relationships/slide" Target="slide24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slide14.xml"/><Relationship Id="rId6" Type="http://schemas.openxmlformats.org/officeDocument/2006/relationships/slide" Target="slide24.xml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66"/>
                    </a:gs>
                  </a:gsLst>
                  <a:lin ang="8100000"/>
                </a:gradFill>
                <a:latin typeface="Arial Black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66"/>
                    </a:gs>
                  </a:gsLst>
                  <a:lin ang="8100000"/>
                </a:gradFill>
                <a:latin typeface="Arial Black"/>
              </a:rPr>
              <a:t>2_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932040" y="981000"/>
            <a:ext cx="1091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همة الجسر في الشبكات هو الربط  بين الشبكات المح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و يعمل في طبقة ربط البيانات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MAC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وليس في طبقة رب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بيانات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LLC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 في نظام السبع طبقات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OSI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وبالتا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فان الجسر يهتم بالعناوين الفيزيائية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80536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طبقة التحكم بالنفاذ الى الوسط </a:t>
            </a:r>
            <a:r>
              <a:rPr b="0" lang="de-DE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طبقة التحكم بالاتصال المنطقي (</a:t>
            </a:r>
            <a:r>
              <a:rPr b="0" lang="de-DE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LLC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8880" y="4869000"/>
            <a:ext cx="83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ff"/>
                </a:solidFill>
                <a:latin typeface="Times New Roman"/>
                <a:cs typeface="Times New Roman"/>
              </a:rPr>
              <a:t>كل جسر </a:t>
            </a:r>
            <a:r>
              <a:rPr b="0" lang="de-DE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Bridge</a:t>
            </a:r>
            <a:r>
              <a:rPr b="0" lang="de-DE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 هو مقوي اشارة </a:t>
            </a:r>
            <a:r>
              <a:rPr b="0" lang="de-DE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Repeater</a:t>
            </a:r>
            <a:r>
              <a:rPr b="0" lang="ar-SA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 ولكن العكس غير صحي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51840" y="19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765000" y="907920"/>
            <a:ext cx="69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جداول التوجيه </a:t>
            </a:r>
            <a:r>
              <a:rPr b="0" lang="de-DE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ing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073160" y="2349360"/>
            <a:ext cx="110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خزن الجسر العنوان الفيزيائي لكل حاسب قد ارسل بيانات عبر الشبكة وذ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في   جدول يدعى جدول التوجيه </a:t>
            </a:r>
            <a:r>
              <a:rPr b="0" lang="de-DE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ing Tables</a:t>
            </a:r>
            <a:r>
              <a:rPr b="0" lang="ar-SA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06680" y="4581360"/>
            <a:ext cx="101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يتم التخزين بذاكرة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اخل الجسر- اذا انقطع التيار الكهربائي عن الجسر تفقد جميع الجداول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213372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-عند استقبال الجسر لأية اطار فانه يختبر عنوان الجهة المرسل اليها  فإذا وقعت في نفس الجهة المرسلة قام بإهمال هذا الاطار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3200" y="5373720"/>
            <a:ext cx="75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ن استخدام الجسور في الشبكات يخفف من تدفق البيانات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06064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-اذا تلقى الجسر اطارا من جهة عنوانها غير مخزن سابقا فان الجسر يرسل  رسالة الى جميع الاجهزة لمعرفة الشبكة  التي يقع   فيها هذا الحاسب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0" y="69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لموجه </a:t>
            </a:r>
            <a:r>
              <a:rPr b="0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Rou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5" action="ppaction://hlinksldjump"/>
          </p:cNvPr>
          <p:cNvSpPr/>
          <p:nvPr/>
        </p:nvSpPr>
        <p:spPr>
          <a:xfrm>
            <a:off x="5508000" y="1557360"/>
            <a:ext cx="36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ا هو الموجه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er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6" action="ppaction://hlinksldjump"/>
          </p:cNvPr>
          <p:cNvSpPr/>
          <p:nvPr/>
        </p:nvSpPr>
        <p:spPr>
          <a:xfrm>
            <a:off x="6419160" y="2349360"/>
            <a:ext cx="27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نواع الموجه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5023800" y="306864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هام الموجه في الشبك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826920" y="3684600"/>
            <a:ext cx="6588360" cy="3173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rcRect l="43282" t="8653" r="0" b="26536"/>
          <a:stretch/>
        </p:blipFill>
        <p:spPr>
          <a:xfrm>
            <a:off x="0" y="0"/>
            <a:ext cx="248436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2492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856080" y="1216080"/>
            <a:ext cx="11043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موجه هو من تجهيزات الشبكة التي تعمل عند الطبقة الثالثة طبق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شبكة (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etwork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لنظام الطبقات السبع (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OSI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ويستخدم لرب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عدة شبكات  محلية من انواع مختلفة </a:t>
            </a:r>
            <a:r>
              <a:rPr b="0" lang="ar-SA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</a:t>
            </a:r>
            <a:r>
              <a:rPr b="0" lang="de-DE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Ethernet – Token Ring</a:t>
            </a:r>
            <a:r>
              <a:rPr b="0" lang="de-DE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….</a:t>
            </a:r>
            <a:r>
              <a:rPr b="0" lang="ar-SA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على ان يستخدم في تجهيزات  الشبكة  نفس البروتوكو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يستخدم الموجه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er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لربط الشبكات المحلية فيم بينها او لرب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شبكات الواسعة  معا او لربط شبكة محلية مع شبكة واسع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4280"/>
            <a:ext cx="9144000" cy="6836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835920" y="1484280"/>
            <a:ext cx="10761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ستخدم في الموجهات ايضا كما في الجسور تقنية جداول التوجي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ing Table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تي تحوي هنا (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P Adres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بدلا 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(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1979640" y="1773360"/>
            <a:ext cx="600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- الموجهات الساكن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tatic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1292400" y="3157560"/>
            <a:ext cx="672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- الموجهات المتحول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Dynamic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0420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موجهات الساكن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tatic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421000"/>
            <a:ext cx="817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في هذا النوع من الموجهات الـ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er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يقوم قائد الشبك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dministrator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بإدخال المسارات بشكل يدوي وعليه سو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تسلك البيانات دائما  هذه المسارات حتى يتم تعديلها من جدي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موجهات المتحول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Dynamic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60640"/>
            <a:ext cx="88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في هذا النوع من الموجهات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ers</a:t>
            </a:r>
            <a:r>
              <a:rPr b="0" lang="ar-SA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تبنى جداول التوجيه بشكل متغير تبعا لأفضلية المسار, ويتم قياس ذلك بواسطة تقنيات معينة تدعى بروتوكولات, ومن اشهر هذه البروتوكول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4284720" y="5445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66"/>
                </a:solidFill>
                <a:latin typeface="Times New Roman"/>
              </a:rPr>
              <a:t>OSP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6" action="ppaction://hlinksldjump"/>
          </p:cNvPr>
          <p:cNvSpPr/>
          <p:nvPr/>
        </p:nvSpPr>
        <p:spPr>
          <a:xfrm>
            <a:off x="4284720" y="4437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R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4620240" y="26028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77480" y="83664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2550960" y="134136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600" y="184464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108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01240" y="242100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7160" y="285264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29920" y="32130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371952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20920" y="42242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345600" y="472752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34040" y="5229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HC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بروتوكول العنونة الآ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7360" y="5661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دليل الفعال في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ndows 2000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tive Directory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911840" y="1289160"/>
            <a:ext cx="383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بروتوكول توجيه ا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916280"/>
            <a:ext cx="583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R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outing </a:t>
            </a:r>
            <a:r>
              <a:rPr b="0" lang="de-DE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I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formation </a:t>
            </a:r>
            <a:r>
              <a:rPr b="0" lang="de-DE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P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540720" y="3933720"/>
            <a:ext cx="1006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يث  يتم تقدير المسار للهدف  بعدد من القفز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ويقوم كل موجه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بث جداول التوجيه الخاص به الى الموجهات المجا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بحيث تقوم بتعديل جدول التوجيه الخاص بها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بث البروتوكول </a:t>
            </a:r>
            <a:r>
              <a:rPr b="0" lang="de-DE" sz="2400" spc="-1" strike="noStrike">
                <a:solidFill>
                  <a:srgbClr val="cc0066"/>
                </a:solidFill>
                <a:latin typeface="Times New Roman"/>
              </a:rPr>
              <a:t>RIP</a:t>
            </a:r>
            <a:r>
              <a:rPr b="0" lang="ar-SA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لومات التوجيه ك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ثان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445000"/>
            <a:ext cx="32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1258920" y="508464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يتضمن جدول التوجي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40280" y="2944800"/>
            <a:ext cx="101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هذا البروتوكول تقني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ce Victo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يث تحسب المسافة الى ا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حدة القفزة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25160" y="549360"/>
            <a:ext cx="597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محتويات جداول التوجي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114480" y="2271600"/>
            <a:ext cx="933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اوين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جميع اجهزة  الشبك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ول المسار المؤدي الى شبكة الهدف مقدرا بعدد القفز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ؤشر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فيما اذا كان حدث تعديل على معلومات المسار ام ل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484360" y="476280"/>
            <a:ext cx="51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بروتوكول فتح المسار الأقصر أو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413000"/>
            <a:ext cx="47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O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pen </a:t>
            </a:r>
            <a:r>
              <a:rPr b="0" lang="de-DE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S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hotest </a:t>
            </a:r>
            <a:r>
              <a:rPr b="0" lang="de-DE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P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th </a:t>
            </a:r>
            <a:r>
              <a:rPr b="0" lang="de-DE" sz="4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F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770040" y="2608200"/>
            <a:ext cx="1060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وم كل موجه ببث معلومات عن وضعه الحالى ومن ثم يستخدم كل موج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ذه المعلومات لحساب المسار  الأقصر (الأفضل) الخاصة ب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ختار هذا البروتوكول أفضل المسارات طبقا لعدد من العوامل: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4724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سرعة الخ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عدد القفزات اللازمة للوصول الى 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ضغط تبادل البيانات على المس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1053360" y="2219400"/>
            <a:ext cx="1120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ربط شبكتين مختلفتين بطبقة الشبكة لكنها متماثلة في بنى الطبقات الاعلى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احتفاظ بالعناوين المنطقية (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s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في جداول التوج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ختيار المسار الافضل بين الشبكات لتراسل البيان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35800" y="112536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cc"/>
                </a:solidFill>
                <a:latin typeface="Times New Roman"/>
                <a:cs typeface="Times New Roman"/>
              </a:rPr>
              <a:t>تهتم الموجهات ب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092320" y="18900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1663200" y="2349360"/>
            <a:ext cx="58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تعريف بوابة العبور </a:t>
            </a:r>
            <a:r>
              <a:rPr b="0" lang="de-DE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ate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1365840" y="4005360"/>
            <a:ext cx="620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نواع بوابات الاتصال </a:t>
            </a:r>
            <a:r>
              <a:rPr b="0" lang="de-DE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ate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rcRect l="44938" t="8057" r="0" b="27483"/>
          <a:stretch/>
        </p:blipFill>
        <p:spPr>
          <a:xfrm>
            <a:off x="0" y="0"/>
            <a:ext cx="234000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971640" y="1773360"/>
            <a:ext cx="7127640" cy="4483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63960" y="69228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943560" y="1916280"/>
            <a:ext cx="1088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تبر هذا الجهاز من اذكى أجهزة ربط الشبكات ويعمل في كل مستوي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 Mode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جهاز يربط بين شبكتين مختلفتين كليا حيث يعمل هو كمترج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وسيط بين الشبكت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63960" y="112536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417960" y="4492800"/>
            <a:ext cx="1021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د بوابة الاتصال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ازا أو برنامجا يتم من خلالها وصل شبكت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ان بروتوكولات مختل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-949320" y="1414440"/>
            <a:ext cx="1099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كثر أنواع بوابات الاتصال </a:t>
            </a: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ateway</a:t>
            </a: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يوعا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Adress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مل هذه البوابة على ربط شبكتين أو اكثر ذات بنية مختلفة وتقنيات مختل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إدارة الملفات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Protoco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مل هذه البوابة على ربط شبكات تستخدم بروتوكولات مختل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3960" y="47628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516240" y="1773360"/>
            <a:ext cx="1020888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xterne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ربط بين شبكات مختلفة كليا في البنية مثل ربط شبك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كمبيوتر بشبكة موبيل بشبكة تلفونات ارضية (مثل تقنية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over ip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nterna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ثلا يستخدم لربط شبكتين واحدة من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ستخدم بروتوكول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ثانية من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l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ستخدم بروتوكول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63960" y="47628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(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4" action="ppaction://hlinksldjump"/>
          </p:cNvPr>
          <p:cNvSpPr/>
          <p:nvPr/>
        </p:nvSpPr>
        <p:spPr>
          <a:xfrm>
            <a:off x="11520" y="907920"/>
            <a:ext cx="821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ea typeface="Arial"/>
              </a:rPr>
              <a:t>(وحدة التوصيل المركزية)المجمع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908000" y="2205000"/>
            <a:ext cx="5764320" cy="39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وسيع الشبكات الحاسوب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771080" y="124308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مقدم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1461600" y="1773360"/>
            <a:ext cx="47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مقوي الاشارة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248280" y="2492280"/>
            <a:ext cx="28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الجسر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122280" y="32130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الموجه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Ro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1947960" y="4005360"/>
            <a:ext cx="41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بوابة العبور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Gate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0360" y="134136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7" action="ppaction://hlinksldjump"/>
          </p:cNvPr>
          <p:cNvSpPr/>
          <p:nvPr/>
        </p:nvSpPr>
        <p:spPr>
          <a:xfrm>
            <a:off x="3269520" y="4869000"/>
            <a:ext cx="288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لمجمع الـ </a:t>
            </a:r>
            <a:r>
              <a:rPr b="0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440" y="566100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المبدل الـ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547640" y="2133720"/>
            <a:ext cx="7161480" cy="495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rcRect l="0" t="12924" r="0" b="0"/>
          <a:stretch/>
        </p:blipFill>
        <p:spPr>
          <a:xfrm>
            <a:off x="684360" y="3933720"/>
            <a:ext cx="8001000" cy="48096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2987640" y="3068640"/>
            <a:ext cx="5794200" cy="500040"/>
            <a:chOff x="2987640" y="3068640"/>
            <a:chExt cx="5794200" cy="500040"/>
          </a:xfrm>
        </p:grpSpPr>
        <p:pic>
          <p:nvPicPr>
            <p:cNvPr id="199" name="" descr=""/>
            <p:cNvPicPr/>
            <p:nvPr/>
          </p:nvPicPr>
          <p:blipFill>
            <a:blip r:embed="rId6"/>
            <a:srcRect l="297" t="-872" r="0" b="0"/>
            <a:stretch/>
          </p:blipFill>
          <p:spPr>
            <a:xfrm>
              <a:off x="2987640" y="3068640"/>
              <a:ext cx="5794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700800" y="3068640"/>
              <a:ext cx="1220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ناف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>
            <a:hlinkClick r:id="rId7" action="ppaction://hlinksldjump"/>
          </p:cNvPr>
          <p:cNvSpPr/>
          <p:nvPr/>
        </p:nvSpPr>
        <p:spPr>
          <a:xfrm>
            <a:off x="314640" y="907920"/>
            <a:ext cx="821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ea typeface="Arial"/>
              </a:rPr>
              <a:t>(وحدة التوصيل المركزية)المجمع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rcRect l="40921" t="25632" r="34190" b="54533"/>
          <a:stretch/>
        </p:blipFill>
        <p:spPr>
          <a:xfrm>
            <a:off x="6588000" y="1916280"/>
            <a:ext cx="2016360" cy="502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rcRect l="0" t="45496" r="0" b="40296"/>
          <a:stretch/>
        </p:blipFill>
        <p:spPr>
          <a:xfrm>
            <a:off x="826920" y="3213000"/>
            <a:ext cx="8097840" cy="360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2340000" y="5516640"/>
            <a:ext cx="6535800" cy="51444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5148360" y="4365720"/>
            <a:ext cx="3779280" cy="407880"/>
            <a:chOff x="5148360" y="4365720"/>
            <a:chExt cx="3779280" cy="407880"/>
          </a:xfrm>
        </p:grpSpPr>
        <p:pic>
          <p:nvPicPr>
            <p:cNvPr id="208" name="" descr=""/>
            <p:cNvPicPr/>
            <p:nvPr/>
          </p:nvPicPr>
          <p:blipFill>
            <a:blip r:embed="rId7"/>
            <a:srcRect l="24444" t="60727" r="58207" b="23188"/>
            <a:stretch/>
          </p:blipFill>
          <p:spPr>
            <a:xfrm>
              <a:off x="5148360" y="4365720"/>
              <a:ext cx="14047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8"/>
            <a:srcRect l="80011" t="59733" r="0" b="26059"/>
            <a:stretch/>
          </p:blipFill>
          <p:spPr>
            <a:xfrm>
              <a:off x="7308720" y="4365720"/>
              <a:ext cx="16189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9"/>
            <a:srcRect l="65792" t="59733" r="26196" b="26059"/>
            <a:stretch/>
          </p:blipFill>
          <p:spPr>
            <a:xfrm>
              <a:off x="6588000" y="4365720"/>
              <a:ext cx="64908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>
            <a:hlinkClick r:id="rId10" action="ppaction://hlinksldjump"/>
          </p:cNvPr>
          <p:cNvSpPr/>
          <p:nvPr/>
        </p:nvSpPr>
        <p:spPr>
          <a:xfrm>
            <a:off x="2343240" y="981000"/>
            <a:ext cx="410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46270" t="0" r="45291" b="65248"/>
          <a:stretch/>
        </p:blipFill>
        <p:spPr>
          <a:xfrm>
            <a:off x="6948360" y="1989000"/>
            <a:ext cx="194472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rcRect l="26110" t="34796" r="36847" b="43614"/>
          <a:stretch/>
        </p:blipFill>
        <p:spPr>
          <a:xfrm>
            <a:off x="395280" y="4292640"/>
            <a:ext cx="8532720" cy="3585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2124000" y="2781360"/>
            <a:ext cx="6688080" cy="1008000"/>
            <a:chOff x="2124000" y="2781360"/>
            <a:chExt cx="6688080" cy="1008000"/>
          </a:xfrm>
        </p:grpSpPr>
        <p:pic>
          <p:nvPicPr>
            <p:cNvPr id="217" name="" descr=""/>
            <p:cNvPicPr/>
            <p:nvPr/>
          </p:nvPicPr>
          <p:blipFill>
            <a:blip r:embed="rId6"/>
            <a:srcRect l="91602" t="17333" r="0" b="21851"/>
            <a:stretch/>
          </p:blipFill>
          <p:spPr>
            <a:xfrm>
              <a:off x="6876720" y="2781360"/>
              <a:ext cx="19353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7"/>
            <a:srcRect l="63150" t="17333" r="16102" b="39183"/>
            <a:stretch/>
          </p:blipFill>
          <p:spPr>
            <a:xfrm>
              <a:off x="2124000" y="2781360"/>
              <a:ext cx="477972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1244520" y="5373720"/>
            <a:ext cx="7648560" cy="792000"/>
            <a:chOff x="1244520" y="5373720"/>
            <a:chExt cx="7648560" cy="792000"/>
          </a:xfrm>
        </p:grpSpPr>
        <p:pic>
          <p:nvPicPr>
            <p:cNvPr id="220" name="" descr=""/>
            <p:cNvPicPr/>
            <p:nvPr/>
          </p:nvPicPr>
          <p:blipFill>
            <a:blip r:embed="rId8"/>
            <a:srcRect l="0" t="21677" r="73737" b="30582"/>
            <a:stretch/>
          </p:blipFill>
          <p:spPr>
            <a:xfrm>
              <a:off x="2843280" y="5373720"/>
              <a:ext cx="60498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9"/>
            <a:srcRect l="55650" t="56646" r="37165" b="13119"/>
            <a:stretch/>
          </p:blipFill>
          <p:spPr>
            <a:xfrm>
              <a:off x="1244520" y="5589720"/>
              <a:ext cx="165600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>
            <a:hlinkClick r:id="rId10" action="ppaction://hlinksldjump"/>
          </p:cNvPr>
          <p:cNvSpPr/>
          <p:nvPr/>
        </p:nvSpPr>
        <p:spPr>
          <a:xfrm>
            <a:off x="2343240" y="981000"/>
            <a:ext cx="410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rcRect l="44021" t="0" r="44742" b="70979"/>
          <a:stretch/>
        </p:blipFill>
        <p:spPr>
          <a:xfrm>
            <a:off x="7020000" y="1700280"/>
            <a:ext cx="1728720" cy="431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24348" t="29070" r="26474" b="41909"/>
          <a:stretch/>
        </p:blipFill>
        <p:spPr>
          <a:xfrm>
            <a:off x="1187280" y="2852640"/>
            <a:ext cx="7561440" cy="43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44981" t="53343" r="2108" b="7897"/>
          <a:stretch/>
        </p:blipFill>
        <p:spPr>
          <a:xfrm>
            <a:off x="684360" y="4005360"/>
            <a:ext cx="8135640" cy="576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0" t="58236" r="55038" b="12742"/>
          <a:stretch/>
        </p:blipFill>
        <p:spPr>
          <a:xfrm>
            <a:off x="2050920" y="5445000"/>
            <a:ext cx="6913800" cy="432000"/>
          </a:xfrm>
          <a:prstGeom prst="rect">
            <a:avLst/>
          </a:prstGeom>
          <a:ln w="0">
            <a:noFill/>
          </a:ln>
        </p:spPr>
      </p:pic>
      <p:sp>
        <p:nvSpPr>
          <p:cNvPr id="229" name="">
            <a:hlinkClick r:id="rId7" action="ppaction://hlinksldjump"/>
          </p:cNvPr>
          <p:cNvSpPr/>
          <p:nvPr/>
        </p:nvSpPr>
        <p:spPr>
          <a:xfrm>
            <a:off x="2343240" y="981000"/>
            <a:ext cx="410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rcRect l="36998" t="0" r="37385" b="68195"/>
          <a:stretch/>
        </p:blipFill>
        <p:spPr>
          <a:xfrm>
            <a:off x="5651640" y="1413000"/>
            <a:ext cx="3241440" cy="53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rcRect l="15484" t="31423" r="18786" b="46709"/>
          <a:stretch/>
        </p:blipFill>
        <p:spPr>
          <a:xfrm>
            <a:off x="611280" y="2708280"/>
            <a:ext cx="831672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rcRect l="32455" t="53503" r="1509" b="25393"/>
          <a:stretch/>
        </p:blipFill>
        <p:spPr>
          <a:xfrm>
            <a:off x="789120" y="3933720"/>
            <a:ext cx="8354880" cy="357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rcRect l="0" t="53503" r="67551" b="25180"/>
          <a:stretch/>
        </p:blipFill>
        <p:spPr>
          <a:xfrm>
            <a:off x="4788000" y="4941720"/>
            <a:ext cx="4105080" cy="36036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7" action="ppaction://hlinksldjump"/>
          </p:cNvPr>
          <p:cNvSpPr/>
          <p:nvPr/>
        </p:nvSpPr>
        <p:spPr>
          <a:xfrm>
            <a:off x="2343240" y="765000"/>
            <a:ext cx="4103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3300" spc="-1" strike="noStrike">
                <a:solidFill>
                  <a:srgbClr val="ff6600"/>
                </a:solidFill>
                <a:latin typeface="Arial"/>
                <a:ea typeface="Arial"/>
              </a:rPr>
              <a:t>HU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rcRect l="27419" t="17707" r="28916" b="67630"/>
          <a:stretch/>
        </p:blipFill>
        <p:spPr>
          <a:xfrm>
            <a:off x="1133640" y="2525760"/>
            <a:ext cx="7691400" cy="344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rcRect l="24458" t="47648" r="26380" b="36582"/>
          <a:stretch/>
        </p:blipFill>
        <p:spPr>
          <a:xfrm>
            <a:off x="250920" y="5084640"/>
            <a:ext cx="8658000" cy="3700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539640" y="3789360"/>
            <a:ext cx="8388360" cy="642600"/>
            <a:chOff x="539640" y="3789360"/>
            <a:chExt cx="8388360" cy="642600"/>
          </a:xfrm>
        </p:grpSpPr>
        <p:pic>
          <p:nvPicPr>
            <p:cNvPr id="242" name="" descr=""/>
            <p:cNvPicPr/>
            <p:nvPr/>
          </p:nvPicPr>
          <p:blipFill>
            <a:blip r:embed="rId5"/>
            <a:srcRect l="25153" t="31663" r="27198" b="52259"/>
            <a:stretch/>
          </p:blipFill>
          <p:spPr>
            <a:xfrm>
              <a:off x="539640" y="3789360"/>
              <a:ext cx="83883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524360" y="3789360"/>
              <a:ext cx="720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عملا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819440" y="907920"/>
            <a:ext cx="51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لمبدل الـ </a:t>
            </a:r>
            <a:r>
              <a:rPr b="1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49910" t="63019" r="2229" b="21611"/>
          <a:stretch/>
        </p:blipFill>
        <p:spPr>
          <a:xfrm>
            <a:off x="539640" y="1916280"/>
            <a:ext cx="8425080" cy="360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rcRect l="46638" t="78697" r="5906" b="3566"/>
          <a:stretch/>
        </p:blipFill>
        <p:spPr>
          <a:xfrm>
            <a:off x="539640" y="4508640"/>
            <a:ext cx="8353440" cy="417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rcRect l="0" t="63019" r="50094" b="21672"/>
          <a:stretch/>
        </p:blipFill>
        <p:spPr>
          <a:xfrm>
            <a:off x="0" y="3213000"/>
            <a:ext cx="878508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611280" y="5734080"/>
            <a:ext cx="8245440" cy="825480"/>
            <a:chOff x="611280" y="5734080"/>
            <a:chExt cx="8245440" cy="825480"/>
          </a:xfrm>
        </p:grpSpPr>
        <p:pic>
          <p:nvPicPr>
            <p:cNvPr id="251" name="" descr=""/>
            <p:cNvPicPr/>
            <p:nvPr/>
          </p:nvPicPr>
          <p:blipFill>
            <a:blip r:embed="rId6"/>
            <a:srcRect l="0" t="78697" r="53157" b="2951"/>
            <a:stretch/>
          </p:blipFill>
          <p:spPr>
            <a:xfrm>
              <a:off x="611280" y="5807160"/>
              <a:ext cx="82454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511880" y="5734080"/>
              <a:ext cx="707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عم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819440" y="907920"/>
            <a:ext cx="51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لمبدل الـ </a:t>
            </a:r>
            <a:r>
              <a:rPr b="1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rcRect l="46060" t="13830" r="45805" b="79417"/>
          <a:stretch/>
        </p:blipFill>
        <p:spPr>
          <a:xfrm>
            <a:off x="6877080" y="1916280"/>
            <a:ext cx="1849320" cy="423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rcRect l="62257" t="20963" r="0" b="73309"/>
          <a:stretch/>
        </p:blipFill>
        <p:spPr>
          <a:xfrm>
            <a:off x="587520" y="3068640"/>
            <a:ext cx="855648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4221000"/>
            <a:ext cx="8750160" cy="825480"/>
            <a:chOff x="0" y="4221000"/>
            <a:chExt cx="8750160" cy="82548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rcRect l="24462" t="20963" r="37956" b="73274"/>
            <a:stretch/>
          </p:blipFill>
          <p:spPr>
            <a:xfrm>
              <a:off x="230040" y="4294080"/>
              <a:ext cx="8520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619280" y="4221000"/>
              <a:ext cx="630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أتي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4221000"/>
              <a:ext cx="9907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رسله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987640" y="5516640"/>
            <a:ext cx="5796000" cy="834840"/>
            <a:chOff x="2987640" y="5516640"/>
            <a:chExt cx="5796000" cy="834840"/>
          </a:xfrm>
        </p:grpSpPr>
        <p:pic>
          <p:nvPicPr>
            <p:cNvPr id="263" name="" descr=""/>
            <p:cNvPicPr/>
            <p:nvPr/>
          </p:nvPicPr>
          <p:blipFill>
            <a:blip r:embed="rId6"/>
            <a:srcRect l="0" t="20963" r="75226" b="72110"/>
            <a:stretch/>
          </p:blipFill>
          <p:spPr>
            <a:xfrm>
              <a:off x="2987640" y="5578560"/>
              <a:ext cx="56167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866000" y="5516640"/>
              <a:ext cx="917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باشر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16720" y="5526000"/>
              <a:ext cx="9190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عنوا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070640" y="836640"/>
            <a:ext cx="65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rcRect l="43201" t="31382" r="42508" b="61796"/>
          <a:stretch/>
        </p:blipFill>
        <p:spPr>
          <a:xfrm>
            <a:off x="5508720" y="1341360"/>
            <a:ext cx="3240000" cy="426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rcRect l="27636" t="37605" r="36009" b="56252"/>
          <a:stretch/>
        </p:blipFill>
        <p:spPr>
          <a:xfrm>
            <a:off x="468360" y="3573360"/>
            <a:ext cx="8242200" cy="384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rcRect l="63845" t="37605" r="0" b="56667"/>
          <a:stretch/>
        </p:blipFill>
        <p:spPr>
          <a:xfrm>
            <a:off x="611280" y="2421000"/>
            <a:ext cx="8196120" cy="35856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755640" y="4653000"/>
            <a:ext cx="8082000" cy="396720"/>
            <a:chOff x="755640" y="4653000"/>
            <a:chExt cx="8082000" cy="396720"/>
          </a:xfrm>
        </p:grpSpPr>
        <p:pic>
          <p:nvPicPr>
            <p:cNvPr id="273" name="" descr=""/>
            <p:cNvPicPr/>
            <p:nvPr/>
          </p:nvPicPr>
          <p:blipFill>
            <a:blip r:embed="rId6"/>
            <a:srcRect l="46031" t="43978" r="46031" b="50282"/>
            <a:stretch/>
          </p:blipFill>
          <p:spPr>
            <a:xfrm>
              <a:off x="755640" y="4653000"/>
              <a:ext cx="180036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7"/>
            <a:srcRect l="0" t="37605" r="72291" b="56056"/>
            <a:stretch/>
          </p:blipFill>
          <p:spPr>
            <a:xfrm>
              <a:off x="2556000" y="4653000"/>
              <a:ext cx="628164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2050920" y="5805360"/>
            <a:ext cx="6697800" cy="825480"/>
            <a:chOff x="2050920" y="5805360"/>
            <a:chExt cx="6697800" cy="825480"/>
          </a:xfrm>
        </p:grpSpPr>
        <p:pic>
          <p:nvPicPr>
            <p:cNvPr id="276" name="" descr=""/>
            <p:cNvPicPr/>
            <p:nvPr/>
          </p:nvPicPr>
          <p:blipFill>
            <a:blip r:embed="rId8"/>
            <a:srcRect l="35259" t="49545" r="35196" b="43552"/>
            <a:stretch/>
          </p:blipFill>
          <p:spPr>
            <a:xfrm>
              <a:off x="2050920" y="5877000"/>
              <a:ext cx="66978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922560" y="5805360"/>
              <a:ext cx="15652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لكنه ابطئ م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070640" y="549360"/>
            <a:ext cx="65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نواع أجهزة الـ </a:t>
            </a:r>
            <a:r>
              <a:rPr b="1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Swi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48915" t="61081" r="47273" b="33157"/>
          <a:stretch/>
        </p:blipFill>
        <p:spPr>
          <a:xfrm>
            <a:off x="6659640" y="1341360"/>
            <a:ext cx="865080" cy="360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rcRect l="41352" t="72721" r="23376" b="19281"/>
          <a:stretch/>
        </p:blipFill>
        <p:spPr>
          <a:xfrm>
            <a:off x="468360" y="3716280"/>
            <a:ext cx="7996320" cy="500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rcRect l="34306" t="67996" r="34265" b="26703"/>
          <a:stretch/>
        </p:blipFill>
        <p:spPr>
          <a:xfrm>
            <a:off x="1332000" y="2565360"/>
            <a:ext cx="7124760" cy="331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rcRect l="23243" t="72721" r="58658" b="19212"/>
          <a:stretch/>
        </p:blipFill>
        <p:spPr>
          <a:xfrm>
            <a:off x="4427640" y="4941720"/>
            <a:ext cx="410364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1218240" y="1628640"/>
            <a:ext cx="11577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ع تزايد تقنية الشبكات وإدراك اهميتها في جودة وزياد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انتاج كانت الحاجة الى مضاعفة الاعتماد على تقنية تباد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معلومات والبيانات في المعمل الواحد او في فروع المؤسس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منتشرة في انحاء العالم مع المحافظة على البنية التحت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الموجودة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ن هنا اتت اهمية توسيع الشبكات المحلية والعالمية الموج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دون الحاجة الى أي تغيير او تجديد في وضع الشبكة الحال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188800" y="692280"/>
            <a:ext cx="47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Arial"/>
              </a:rPr>
              <a:t>مقوي الاشارة </a:t>
            </a:r>
            <a:r>
              <a:rPr b="0" lang="de-DE" sz="3600" spc="-1" strike="noStrike">
                <a:solidFill>
                  <a:srgbClr val="ff6600"/>
                </a:solidFill>
                <a:latin typeface="Arial"/>
                <a:ea typeface="Arial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4111560" y="1916280"/>
            <a:ext cx="49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اهو مقوي الاشار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epeater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3739680" y="4005360"/>
            <a:ext cx="59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مهام التى يقوم بها مقوي الاشار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2032920" y="278136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تقنية التي يعمل بها مقوي الاشار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ep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995400" y="1052640"/>
            <a:ext cx="105364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جهاز يقوم بتضخيم الاشارة بهدف ارسالها لمساف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بعيدة ضمن الشبكة الواحدة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تصف برخص ثمنه مقارنة مع اجهزة توسي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لشبكات الاخرى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ان استخدام مقوي الاشارة في شبكة ما يرفع م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قدرةها على التوسع جغرافيا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rcRect l="44032" t="11550" r="0" b="3630"/>
          <a:stretch/>
        </p:blipFill>
        <p:spPr>
          <a:xfrm>
            <a:off x="0" y="0"/>
            <a:ext cx="15429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1302480" y="1967040"/>
            <a:ext cx="1172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عمل مقوي الاشارة في الطبقة الفيزيائية لنظام الطبقات السب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OSI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لذلك فان مقوي الاشارة 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epeater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يمكن استخدام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لتقوية اشارة بين شبكتين مختلفتين فقط بالطبقة الفيزيائ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1008720" y="1989000"/>
            <a:ext cx="1118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قوم بتقوية الاشارة بين شبكتين حتى ولو كانت وسائط الن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مختلف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ثلا شبكة مربوطة بكبل ليف ضوئي مع شبكة مربوط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بكبل (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UTP, STP</a:t>
            </a:r>
            <a:r>
              <a:rPr b="0" lang="ar-SA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31960" y="981000"/>
            <a:ext cx="37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6600"/>
                </a:solidFill>
                <a:latin typeface="Arial"/>
                <a:cs typeface="Arial"/>
              </a:rPr>
              <a:t>الجسر </a:t>
            </a:r>
            <a:r>
              <a:rPr b="0" lang="de-DE" sz="4800" spc="-1" strike="noStrike">
                <a:solidFill>
                  <a:srgbClr val="ff6600"/>
                </a:solidFill>
                <a:latin typeface="Arial"/>
                <a:ea typeface="Arial"/>
              </a:rPr>
              <a:t>Brid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1840" y="474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5511960" y="1916280"/>
            <a:ext cx="34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اهو الجسر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Bridge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3814920" y="278136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جداول التوجيه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outing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572000" y="3936960"/>
            <a:ext cx="4572000" cy="2921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0" y="3851280"/>
            <a:ext cx="4664160" cy="300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admin</cp:lastModifiedBy>
  <dcterms:modified xsi:type="dcterms:W3CDTF">2002-01-19T11:05:08Z</dcterms:modified>
  <cp:revision>129</cp:revision>
  <dc:subject/>
  <dc:title>Kein Folientitel</dc:title>
</cp:coreProperties>
</file>