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BC5-D613-449B-BDD2-6F182C06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0300-AFEB-474D-992B-0D77F5FC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FA618-4F04-4F0D-8DC2-70AD4044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03A52-1D64-4D50-9FC8-3E1D8A99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E189F-900E-4573-BA28-B0F37015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98F59-7024-435A-B17E-C2999CCF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228F8-1392-4ED9-B27C-A99DF929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921E5-AF45-49F2-9665-93978159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C469D-7763-4808-8887-5CBD5FEA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B5D6D-A57B-4DF7-B18F-E10AD5A4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820D0-A133-49B5-B448-EAF81105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CD683-5481-4964-8F47-5CE25A61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5EA-BBF0-45A6-A3C7-85E9AD9B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770A8-4902-41BE-AC4B-CEA2D6D8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8E5F3-CC25-4DD6-8B21-9C24834C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A7F66-2220-4525-8192-7B49DA62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0EA47-8F6A-48A4-A92C-595FE000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D17D4-0941-4CAF-B9C7-4EA5456F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0522D-18D3-4AEE-8918-F4CDB556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1303C-73D6-4F68-AF08-69C63B9B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13444-714B-4E03-9EB5-2CF68DCD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96547-92BB-45E3-89CF-33CA84AF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65435-EF35-451C-98E9-49070567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DC32-38F5-44E8-B04F-E75F32CB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BA0E1-E22D-41DB-B82F-D40ABB0D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24ED4-0A25-4DE3-AD20-0A0967EE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909E8-4E0B-4F9D-884A-9A42E950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C2DB7-9E28-4EF3-A5F7-6016B573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20D46-8D43-4856-B2D0-664167A9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971ED-D156-448D-BE88-F89496FE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4009B-BA6B-44C9-97AC-7D2644E2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2C399-5447-4A59-8ED7-9AEB17D8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9D4C7-16F8-4C88-B1C8-A71FA66C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35FAF-E67C-4EE9-BDF4-9576D117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6B79-4866-4FAB-8567-70FD21B2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36D74-A552-4BF5-A879-94299B8E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25251-2DD9-4093-B655-8CA3163A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CB1DD-B8A6-4B80-B885-FF4B3D03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4F494-0BEE-4025-9912-8759F9D8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BEC63-A450-4E72-A63F-05E45548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926F8-1C59-44CA-A38B-44DCDAED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1402A-E6D0-48D8-BF10-08DF2B1C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AFE3A-4531-46C4-8A55-275C997A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71C67-197B-4494-BBB3-72867825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2A482-20EF-4258-A392-E9F210A4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7C79-63D2-4888-8A8F-4D637BF3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B4914-D240-4994-B0A1-4224D835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F371F-59B2-403F-9B0D-1432AE98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CA627-C12F-4241-8322-AD4B25E4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7F771-ED9B-4B4C-8279-F9AD24C0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3AC5F-4F12-4984-9E49-212066AC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CBEE-F656-4BF5-984B-28D29ADD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0FDF-8116-4B75-9D96-433E0104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3631-9B96-4E4D-AB34-3160D708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8240-DECD-4B9A-BF01-2D11CCC8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A8A9-7E77-4921-968A-D70F02BE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2DDD-A715-43C0-892C-DA3B62C1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C785-31E6-4837-A8B0-78EA69A3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246C-D4A8-4132-8429-D48D1879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3732-5BDF-473F-BEB9-BD83D717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C527-790C-44CA-93F3-31B6DF46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9A77-34DA-467B-B5BF-C6AE67B9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E93B8-1BC6-4F10-8F44-FBB8EB27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8FE67-9A34-4EAB-A4D4-E2AF6FED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E62E4-D79E-4546-930B-6B263427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D43D5-0228-463F-B034-E840D93C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4D625-79F6-42D7-9439-1DFEF989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BE9-1F58-4749-B77A-6CC664EF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687A9-58B5-49C2-A21D-5E3D4E38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7F9A4-4BA2-4105-AADA-E953A673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78EAC-8088-4C43-8FB2-704CA19E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9EFBF-329E-4DDD-A25D-F5388B9A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37A0C-EB3B-4642-A583-8A36934E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3C45A-B1F2-417F-97E3-3AAA19DC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879F0-C713-46BD-A505-8D401245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49EE3-9897-4AF0-B0F1-2CAFB4A2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BD831-B070-48BF-A8E7-D7B367F7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14273-FF2E-4ADE-911E-5230763F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FDCF-8BCC-49A9-A3E7-250EBDF4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80BBB-CE49-4E2A-AF31-355EE94B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EC0CF-D90F-48C4-B593-3DCFD924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D0F7A-0C99-48AB-9D4E-13723096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C9EAA-7139-4A4C-9BA8-D4208FB1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51AE0-2CAE-4D8A-933A-94B43C27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C16E6-AF05-4D13-82DF-C1F889B6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C78CB-72C5-485B-9213-C6C1E7EF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4FC56-C3A0-4588-9580-2011EA5F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06194-40B3-4708-A92A-BEB67B74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A5A23-CAAD-4192-9AEF-638BD6D0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BE53-1C83-4EAF-8A05-6725711C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F5B75-151D-4F01-8959-B49EAA8B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717C3-3A57-4E8E-A58B-51604B1C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7775B-35CC-4ED4-A1BE-85F2B608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18C35-BAB6-4878-A6EF-BC46C638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2809B-7D8D-400C-A09F-8D94C4C8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49BF1-3D40-45AF-9A0C-1DD08DC4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4DFFA-DE17-4C10-9E51-B9D537D8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A88FE-9FFA-40BB-B5EB-4D262841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2F700-D90D-42AE-B795-CB3D65AD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8B0BB-90E5-4491-AB34-8E263D2D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F41-6504-400F-B097-482E16F5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8FA12-51B1-4212-B366-D91BD8FB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9099A-E0B1-43CC-9894-088A48BE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D16F6-B8D2-479B-822A-4EED530E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A9BBF-4833-469D-8399-F5D279A6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54F2B-BCD2-404D-B699-64452404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DE85F-01A6-4BEC-BC23-EEADFD5E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9A3CB-46E8-4C1C-AEF4-5483C730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4299D-B9CA-42BA-8E17-A4701A2D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DB656-8CC8-4E55-9E00-9DC3D676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7125C-F27F-4CC7-9F4B-ABF257E2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B71-70CC-4EA3-9757-D37D751E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39202-AF42-4205-A40D-63B70EB3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7C248-6678-4BFF-8003-C2BB5F54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FFE9A-C339-413C-8202-F754F47D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84CCD-28C1-4B1B-AA1C-7BBE14C8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32CBE-3326-4824-8FA4-C047570A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D6C01-0452-494C-B84D-D02942E5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79D9D-59EB-4212-91C2-32A19D17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A2EC7-6D65-40ED-88BA-4C194929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F6B26-5030-4874-BBA2-B13EC681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B4738-E685-4D7D-A7B2-EC321642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2946-BFB6-4B3D-8FEB-C13A6C17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DA3B5-B2A8-49DC-9AE1-11B7E104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27F80-FB62-485D-A9FF-1877C8C2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0F37A-DC7C-45B6-AFD2-2C8868F6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E3557-0C50-4086-92C0-7F9F28FB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B12E3-828D-436D-99CE-CB4B0263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90A5C-62C7-4EC0-AC1E-847DB959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B955F-C8AC-4F69-B20A-66B22FEE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61108-3A74-4C7B-95AE-968F2C2E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FA540-AC09-45C3-ABCA-FDE0AC41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06F9B-8683-42C1-9F0E-1F33D1FD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FA35-A4C8-4847-8865-1EE6A3DB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A36FA-C214-45C3-9319-B4444AE8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712AD-EB22-4D09-A3A6-887CE850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0DF2B-B7BD-44D9-8416-2C187B3D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E6E38-CAE6-4EBD-888D-69033E53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75A8A-14B1-4488-975F-FBBD00F5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A0DEF-F7A3-404E-8F71-90B98157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4B477-BE66-4E00-B0A7-5701F8D8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C2573-9266-4FD6-B815-F0AD0F4B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8AD5D-E05C-42C9-94DE-A4F0063C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E48B6-31AB-439F-8FD1-41B53F9B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FE73-6AA9-402C-97C1-938AAE27164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CC8C-71D7-4AE3-8B86-7EA3F3C99A2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65C9-47F2-4EA4-83FF-C77D2B4A8AE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B51F-2BEC-476A-9EFB-0608287F90F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C524-F4C7-4B07-919B-1685B92EC97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FBDC-3009-4096-B431-48AFB400193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57C0-781E-4991-A90F-F75DAE46464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624F-5F16-4E5A-806F-FE4BE9C038B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F778-2542-4CAC-A0CF-2ED44D90B5A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49FB-BBA8-4082-96E5-8A341CBF50E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BC66-568D-4E64-885C-9E900C28498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9D88-3613-4BC1-8106-B6D6DF88BEB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93" name="WordArt 2"/>
          <p:cNvSpPr txBox="1"/>
          <p:nvPr/>
        </p:nvSpPr>
        <p:spPr>
          <a:xfrm>
            <a:off x="1258920" y="765000"/>
            <a:ext cx="6629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cc6600"/>
                    </a:gs>
                  </a:gsLst>
                  <a:lin ang="18900000"/>
                </a:gradFill>
                <a:latin typeface="+mn-cs"/>
              </a:rPr>
              <a:t>شبكات الحاس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cc6600"/>
                  </a:gs>
                </a:gsLst>
                <a:lin ang="18900000"/>
              </a:gradFill>
              <a:latin typeface="+mn-cs"/>
              <a:ea typeface="+mn-cs"/>
            </a:endParaRPr>
          </a:p>
        </p:txBody>
      </p:sp>
      <p:pic>
        <p:nvPicPr>
          <p:cNvPr id="494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495" name="WordArt 5"/>
          <p:cNvSpPr txBox="1"/>
          <p:nvPr/>
        </p:nvSpPr>
        <p:spPr>
          <a:xfrm>
            <a:off x="3492360" y="4076640"/>
            <a:ext cx="1943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cc6600"/>
                    </a:gs>
                  </a:gsLst>
                  <a:lin ang="18900000"/>
                </a:gradFill>
                <a:latin typeface="+mn-cs"/>
              </a:rPr>
              <a:t>2_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cc6600"/>
                  </a:gs>
                </a:gsLst>
                <a:lin ang="18900000"/>
              </a:gradFill>
              <a:latin typeface="+mn-cs"/>
              <a:ea typeface="+mn-c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3">
              <a:alphaModFix amt="1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7"/>
          <p:cNvSpPr/>
          <p:nvPr/>
        </p:nvSpPr>
        <p:spPr>
          <a:xfrm>
            <a:off x="755640" y="1052640"/>
            <a:ext cx="73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تقنية التبادل الدارات ذات الخطوط </a:t>
            </a:r>
            <a:r>
              <a:rPr b="1" lang="ar-SA" sz="24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الد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ff"/>
                </a:solidFill>
                <a:latin typeface="Times New Roman"/>
              </a:rPr>
              <a:t>Dedicated Circuit Swi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5"/>
          <p:cNvSpPr/>
          <p:nvPr/>
        </p:nvSpPr>
        <p:spPr>
          <a:xfrm>
            <a:off x="826920" y="981000"/>
            <a:ext cx="703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تقنية التبادل الرمزي </a:t>
            </a:r>
            <a:r>
              <a:rPr b="1" lang="de-DE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acket Switching</a:t>
            </a:r>
            <a:r>
              <a:rPr b="1" lang="ar-SA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30"/>
          <p:cNvSpPr/>
          <p:nvPr/>
        </p:nvSpPr>
        <p:spPr>
          <a:xfrm>
            <a:off x="4620240" y="260280"/>
            <a:ext cx="38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شبكات المحلي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1"/>
          <p:cNvSpPr/>
          <p:nvPr/>
        </p:nvSpPr>
        <p:spPr>
          <a:xfrm>
            <a:off x="3777480" y="836640"/>
            <a:ext cx="32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thernet - Token Ring - ARC 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2"/>
          <p:cNvSpPr/>
          <p:nvPr/>
        </p:nvSpPr>
        <p:spPr>
          <a:xfrm>
            <a:off x="2550960" y="134136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عناصر الرئيسية المستخدمة في توسيع الشبك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3"/>
          <p:cNvSpPr/>
          <p:nvPr/>
        </p:nvSpPr>
        <p:spPr>
          <a:xfrm>
            <a:off x="174600" y="1844640"/>
            <a:ext cx="68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rs – Bridges – Brouters – Routers – Gateways – Switches - Hu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34"/>
          <p:cNvSpPr/>
          <p:nvPr/>
        </p:nvSpPr>
        <p:spPr>
          <a:xfrm>
            <a:off x="8101080" y="54936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5"/>
          <p:cNvSpPr/>
          <p:nvPr/>
        </p:nvSpPr>
        <p:spPr>
          <a:xfrm>
            <a:off x="-201240" y="2421000"/>
            <a:ext cx="93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اتصال المستخدمة في تراسل البيانات في الشبكات الواسع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317160" y="2852640"/>
            <a:ext cx="65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ircuit Switching – Dedicated Circuit Switching – Packket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8"/>
          <p:cNvSpPr/>
          <p:nvPr/>
        </p:nvSpPr>
        <p:spPr>
          <a:xfrm>
            <a:off x="2329920" y="3213000"/>
            <a:ext cx="61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بروتوكول (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CP/IP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 طبقاته والبروتوكولات تحت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9"/>
          <p:cNvSpPr/>
          <p:nvPr/>
        </p:nvSpPr>
        <p:spPr>
          <a:xfrm>
            <a:off x="1042920" y="3719520"/>
            <a:ext cx="68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و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P Adressing 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--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</a:rPr>
              <a:t>(IP V4 - IP V6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2320920" y="422424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هيئة البروتوكول (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CP/IP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 وكيفية اختبار إعدادات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1"/>
          <p:cNvSpPr/>
          <p:nvPr/>
        </p:nvSpPr>
        <p:spPr>
          <a:xfrm>
            <a:off x="-345600" y="4727520"/>
            <a:ext cx="93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اتصال المستخدمة في تراسل البيانات في الشبكات الواسع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42"/>
          <p:cNvSpPr/>
          <p:nvPr/>
        </p:nvSpPr>
        <p:spPr>
          <a:xfrm>
            <a:off x="3434040" y="5229360"/>
            <a:ext cx="51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خدمة ال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DHCP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بروتوكول العنونة الآ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43"/>
          <p:cNvSpPr/>
          <p:nvPr/>
        </p:nvSpPr>
        <p:spPr>
          <a:xfrm>
            <a:off x="837360" y="5661000"/>
            <a:ext cx="76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خدمة الدليل الفعال في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indows 2000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الـ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tive Directory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4"/>
          <p:cNvSpPr/>
          <p:nvPr/>
        </p:nvSpPr>
        <p:spPr>
          <a:xfrm>
            <a:off x="-974880" y="831960"/>
            <a:ext cx="102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اتصال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في تراسل البيانات في الشبكات الواسعة </a:t>
            </a:r>
            <a:r>
              <a:rPr b="1" lang="de-DE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697080" y="2284560"/>
            <a:ext cx="182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تمهي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8"/>
          <p:cNvSpPr/>
          <p:nvPr/>
        </p:nvSpPr>
        <p:spPr>
          <a:xfrm>
            <a:off x="8244000" y="2349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1"/>
          <p:cNvSpPr/>
          <p:nvPr/>
        </p:nvSpPr>
        <p:spPr>
          <a:xfrm>
            <a:off x="-1014480" y="3259080"/>
            <a:ext cx="1037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 الحاجة الى توسيع اشبكات وجدنا ان هذا التوسيع يتم بشك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اخلي وذلك عند توسيع الشبكة محليا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و بشكل خارج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ذلك عند توسيع الشبكة عالميا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-678960" y="5157720"/>
            <a:ext cx="10100520" cy="1068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  <a:cs typeface="Times New Roman"/>
              </a:rPr>
              <a:t>فعند توسيع الشبكة عالميا فإننا نستخدم تقنيات اتصال مختلف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00"/>
                </a:solidFill>
                <a:latin typeface="Times New Roman"/>
                <a:cs typeface="Times New Roman"/>
              </a:rPr>
              <a:t>من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6"/>
          <p:cNvSpPr/>
          <p:nvPr/>
        </p:nvSpPr>
        <p:spPr>
          <a:xfrm>
            <a:off x="1090080" y="1386000"/>
            <a:ext cx="73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تقنية التبادل الدراتي </a:t>
            </a:r>
            <a:r>
              <a:rPr b="1" lang="de-DE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Circuit Swi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971640" y="2997360"/>
            <a:ext cx="738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تقنية التبادل الدارات ذات الخطوط </a:t>
            </a:r>
            <a:r>
              <a:rPr b="1" lang="ar-SA" sz="24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الد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ff"/>
                </a:solidFill>
                <a:latin typeface="Times New Roman"/>
              </a:rPr>
              <a:t>Dedicated Circuit Swi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1835280" y="4941720"/>
            <a:ext cx="63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تقنية التبادل الرمزي </a:t>
            </a:r>
            <a:r>
              <a:rPr b="1" lang="de-DE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acket Switching</a:t>
            </a:r>
            <a:r>
              <a:rPr b="1" lang="ar-SA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5"/>
          <p:cNvSpPr/>
          <p:nvPr/>
        </p:nvSpPr>
        <p:spPr>
          <a:xfrm>
            <a:off x="612360" y="549360"/>
            <a:ext cx="73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تقنية التبادل الدراتي </a:t>
            </a:r>
            <a:r>
              <a:rPr b="1" lang="de-DE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Circuit Swi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-638640" y="1936800"/>
            <a:ext cx="10325880" cy="2287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  <a:cs typeface="Times New Roman"/>
              </a:rPr>
              <a:t>باستخدام مقاسم الهاتف عن طريق مؤسسات الهات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 او باستخدام مقاسم هاتف خاصة يمكننا انشاء شبك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(دارة نقل معلومات).وهنا يكون تراسل البيانات اما باستخد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2484360" y="4869000"/>
            <a:ext cx="5183280" cy="1191240"/>
          </a:xfrm>
          <a:prstGeom prst="rect">
            <a:avLst/>
          </a:prstGeom>
          <a:blipFill rotWithShape="0">
            <a:blip r:embed="rId3">
              <a:alphaModFix amt="9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ff"/>
                </a:solidFill>
                <a:latin typeface="Times New Roman"/>
                <a:cs typeface="Times New Roman"/>
              </a:rPr>
              <a:t>تقنية  الارسال التشابهي(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Analog</a:t>
            </a:r>
            <a:r>
              <a:rPr b="0" lang="ar-SA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2484360" y="5516640"/>
            <a:ext cx="5218200" cy="1191240"/>
          </a:xfrm>
          <a:prstGeom prst="rect">
            <a:avLst/>
          </a:prstGeom>
          <a:blipFill rotWithShape="0">
            <a:blip r:embed="rId4">
              <a:alphaModFix amt="9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ff"/>
                </a:solidFill>
                <a:latin typeface="Times New Roman"/>
                <a:cs typeface="Times New Roman"/>
              </a:rPr>
              <a:t>تقنية الارسال الرقمي (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Digital</a:t>
            </a:r>
            <a:r>
              <a:rPr b="0" lang="ar-SA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4"/>
          <p:cNvSpPr/>
          <p:nvPr/>
        </p:nvSpPr>
        <p:spPr>
          <a:xfrm>
            <a:off x="0" y="0"/>
            <a:ext cx="9051840" cy="6921000"/>
          </a:xfrm>
          <a:prstGeom prst="rect">
            <a:avLst/>
          </a:prstGeom>
          <a:blipFill rotWithShape="0">
            <a:blip r:embed="rId3">
              <a:alphaModFix amt="1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ff"/>
                </a:solidFill>
                <a:latin typeface="Times New Roman"/>
                <a:cs typeface="Times New Roman"/>
              </a:rPr>
              <a:t>تقنية  الارسال التشابهي(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Analog</a:t>
            </a:r>
            <a:r>
              <a:rPr b="0" lang="ar-SA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ff"/>
                </a:solidFill>
                <a:latin typeface="Times New Roman"/>
                <a:cs typeface="Times New Roman"/>
              </a:rPr>
              <a:t>وهي التقنية الوحيدة التي كانت تستخدم في شبكة الهواتف المؤسسات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P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ublic </a:t>
            </a:r>
            <a:r>
              <a:rPr b="0" lang="de-DE" sz="4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S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witched </a:t>
            </a:r>
            <a:r>
              <a:rPr b="0" lang="de-DE" sz="4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T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elephone </a:t>
            </a:r>
            <a:r>
              <a:rPr b="0" lang="de-DE" sz="4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N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et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P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ST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ff"/>
                </a:solidFill>
                <a:latin typeface="Times New Roman"/>
                <a:cs typeface="Times New Roman"/>
              </a:rPr>
              <a:t>وتستخدم هذه التقنية لنقل الصوت عموما و من  ثم اصبحت تستخدم لنقل البيانات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4"/>
          <p:cNvSpPr/>
          <p:nvPr/>
        </p:nvSpPr>
        <p:spPr>
          <a:xfrm>
            <a:off x="0" y="0"/>
            <a:ext cx="9051840" cy="7226280"/>
          </a:xfrm>
          <a:prstGeom prst="rect">
            <a:avLst/>
          </a:prstGeom>
          <a:blipFill rotWithShape="0">
            <a:blip r:embed="rId3">
              <a:alphaModFix amt="1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ff"/>
                </a:solidFill>
                <a:latin typeface="Times New Roman"/>
                <a:cs typeface="Times New Roman"/>
              </a:rPr>
              <a:t>لوصل شبكتين محليتين 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LAN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 عن طريق المقاسم التشابه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 مثلا نحتاج  (مودم عدد 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2</a:t>
            </a:r>
            <a:r>
              <a:rPr b="0" lang="ar-SA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 ) واحد في كل شبك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3">
              <a:alphaModFix amt="1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1619280" y="907920"/>
            <a:ext cx="5218200" cy="1191240"/>
          </a:xfrm>
          <a:prstGeom prst="rect">
            <a:avLst/>
          </a:prstGeom>
          <a:blipFill rotWithShape="0">
            <a:blip r:embed="rId4">
              <a:alphaModFix amt="9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ff"/>
                </a:solidFill>
                <a:latin typeface="Times New Roman"/>
                <a:cs typeface="Times New Roman"/>
              </a:rPr>
              <a:t>تقنية الارسال الرقمي (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Digital</a:t>
            </a:r>
            <a:r>
              <a:rPr b="0" lang="ar-SA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07:44:49Z</dcterms:created>
  <dc:creator>Dr.Hisham Adel Abhari</dc:creator>
  <dc:description/>
  <dc:language>en-US</dc:language>
  <cp:lastModifiedBy>Dr. Hisham Abhari</cp:lastModifiedBy>
  <dcterms:modified xsi:type="dcterms:W3CDTF">2017-09-07T13:07:42Z</dcterms:modified>
  <cp:revision>130</cp:revision>
  <dc:subject/>
  <dc:title>Kein Folientitel</dc:title>
</cp:coreProperties>
</file>