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DB0CC-B9C9-4C01-8FD5-ADD72CBA3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F5A43-FC30-429A-A8E2-3B35D34AB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EAECE7-A264-4178-81B6-ABFA4B512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665F62-4890-48E1-BB74-DD0197AE9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DC4682-4F34-4696-8F95-0D6EB1A7E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74802E-A236-40A4-807E-8EEF78720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D25B9B-50C8-4D4E-B031-3E68A478E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1BE494-80B3-408D-B1B1-3E6FE80CF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F96319-BD50-4E00-BB48-96BAE6C52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064BA4-50F3-4495-A312-32AF95285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8265F4-E6A6-4215-9C7F-9608DC512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440E4D-4E92-4421-8C89-62C663BFF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F7DF0-708B-43E1-91FD-D145E4F1E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99FDD2-2717-45F1-BB18-12B54C45B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5AA593-E3A8-4A0F-80E6-B6919477D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B697CF-2538-4457-9757-F190DF8EC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B2D1C2-725F-4449-83DA-4FE4035D8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DE5F84-4AED-43C1-A1A2-9D0129CB6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5D16B8-2F63-4BD7-98F9-98D11D5F8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97FB80-010E-4BD4-8464-9CB1AE3D9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547337-3F88-40FF-BD5C-ECF2F02A6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FB1B76-AC03-4C01-AAA3-2BD76A077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9C68B0-416A-4B29-9BD0-550154180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78157-362A-45ED-A900-E46C2954E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775E67-B96E-4EC3-86C8-EDE03283F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24BCCC-FE2E-45F2-B1D6-81A7BEEDD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2D97E8-B7B6-4DC3-AE77-8273CBFA5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C43F28-4A85-4A63-8EC5-61F7964EB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B1B642-8F47-419A-BCF1-B3E72B6FA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3731B5-946B-4DE6-B884-F75E5163E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1A36CD-B9D9-410F-906A-AA97D1B07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AA08A2-820D-416F-AF43-37A9BFBD2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D400E8-A2B0-4F5C-A307-C092E3201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60C18E-F7ED-45EA-AD57-B066D020E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FAD43-1A92-4E3C-AD35-A10B09E26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672824-4404-444B-9788-08A5A658F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8C3D1B-984B-42FC-B42A-090175948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099236-1515-4216-8B9D-5CDE9DF73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716B1B-C9A5-4DE6-9636-405CEB239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08845A-A98C-4556-9AB5-E08FD2B18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212541-D88D-4E84-BC1D-6491F9E17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4FD66A-2C2B-4A64-92B5-3DA47D76D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7219E8-61C9-4903-B5BA-84A14A64B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05B318-F46A-4CC7-8A65-74E173CB0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01D58B-266B-45A1-B406-F393B173C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E5876-760D-4809-B164-2FA9FE688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58F703-0A5F-4FBA-8B76-754708469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040468-245A-41F9-8EDC-CB96E4833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496725-B451-4C95-A3F3-A7EF9B3CF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BF8BA5-F454-48CD-8876-9152A74D7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05EB0D-79E1-4998-970A-F3172F664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671C3-0EEF-4B47-91C5-00CF405F3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2A1EF-DA07-4A24-91E8-E71685FC0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B7933-8CBF-41FA-B2D3-90F9B1E18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B38D9-C296-4ABE-A5CC-EAF1A5D4F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6E75F-92D2-4924-83BC-335BC5AF3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038E5-1582-4D4A-930F-13643A601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DAD46-F37C-4508-89F7-9B1FB9BAC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3A37B-3475-4FEC-BC50-ABC8FACC5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58FEC-00EF-4955-92C0-50F7F99E8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4F459-BE6C-47C2-BF5B-797F68D2E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BCA3B-FCF7-4184-BC9B-8A9C5AF2B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2B3838-7840-49C0-828D-BB3A0C86F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4EA838-6ABB-467C-88D6-932DCC896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F3E024-50E6-46AA-B2B4-2F839983A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9504E1-D34C-48F9-BC45-1D4C4406E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0EDEA0-8734-4CCE-995B-5C6957E2A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80370-F090-470D-AF37-36D2996DD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4EEA40-80A3-4584-8134-EDB142F17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633228-10E3-469C-B0B2-6AB2C9515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35E45B-B81D-4A44-A339-FD532E563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0AA6D1-A4C1-4BDD-9D7D-1ECCE7E75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19E4D2-A147-4D10-9249-6A109623A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4AD74B-9274-49CE-ACB9-41FAC8F96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D2666E-2EBE-4F88-A1FF-722D7EB75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D1735A-35CB-4C0D-839A-084876D19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EE8EBC-E78B-419A-815C-3C8EDC704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5D2E97-8982-473E-AF4D-BA181270A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D7883-54C3-4271-BB6B-A29F76D3F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B1FA16-3F48-442C-BA78-BD8869398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FA3B5D-1D03-4134-BEAE-ED57FDBB3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D99D6B-956C-44F4-B166-D99479208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3331F8-EDBD-4C31-A925-51273BAE3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A99B73-B04E-497F-804A-772288EF5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A75BA7-C293-40B7-B0AB-9338392DC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4A7709-E01C-4632-BC0E-D789E006E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A34F59-6AAD-43A5-B068-5F7314865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DDAFEC-B296-43E6-961D-674436522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7CA5AF-C5F8-444F-B67A-4453CA66B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C36F3-8037-4C2E-B85E-D418C0771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A70335-6DAB-4BA0-9D7F-DEB98AC48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D70F9D-34C0-4801-8C5E-53951794F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7E0892-6D6E-46DD-B334-2B2FC1C63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1E5369-C320-457D-B4E1-87242AB63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D4981A-12E5-4D16-A254-235E8BBBF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95B172-6222-4604-A0A9-6FC69C524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004E0B-2403-42E2-B1FB-AA30FD15A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171D76-D520-44E3-98CC-28D6424DB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82FEC9-9B56-4843-A7F0-E901E6B0D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08F1AC-E4B0-4AB6-A642-6E9FDB2E6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2F4BE-2DAE-49BF-BF4C-49B3EE32D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70A533-36C8-4C4E-AD08-0289B0FBC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A4A259-3F6F-4CB1-A4FE-DDBDD89B9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67D695-2E49-4968-A91B-1C05D0120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8CD025-17DE-40B0-BE30-7186F6D57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37F5E4-FE13-42CF-8F1D-C020862F4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B37466-04E1-4FDA-B04B-EF076FA0E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5CB681-0A08-4085-A444-F402ABCA4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46075D-D276-4D94-A0CE-D67C6A7E3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D16814-1844-47D1-837F-A93FEF8E8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07A395-1269-425B-8FF1-B3A2512D7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5BCCC-55D0-42F9-92C1-8DF7E832F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584990-ECDC-4992-B793-E0EF28E7B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BCCD1D-9C8F-4A0D-869A-DB9EED9FE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AC7B63-D362-4820-8EE2-410EFE31E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0F1414-81E3-4775-8768-93A30034A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FAD676-2BBC-4867-A76A-27F28A932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F6ED4C-6F2B-447E-9415-F54401DCE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9C1DDC-C7EE-4F27-BF39-BF1540BB3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3A0A39-B7ED-4B93-95DA-1262414CA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C7A813-8AA9-4120-8C42-C506063CE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8770A4-CD5A-44DA-A563-9D49C802F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D4847-92B2-4A50-B53C-ACCB6B0C3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971254-B68C-450E-BE9E-E945FFC24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BB2E6D-7DEA-457D-BAC1-A8AFBA3E0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240AF3-9ADC-4C43-B71F-17E3232C6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A3DD22-A1AA-45E6-9486-B838D5E2F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6EB879-9F91-4925-9D91-95B0FAEC7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866029-E067-4642-83E3-788FA6DE9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552196-629A-4F2B-805D-EB67EAAC1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FBA38C-2CB2-4069-913E-2163AF8CB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91D645-EB9E-485D-B8D4-80205D583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3FDAD8-635C-4FBE-804A-A210FA5B5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5556D-BFDA-4F75-B00D-AFAA23B60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6DAD28-8358-43B2-A8C8-DB196DD21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132298-4C60-4479-84A3-8667270C1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58770D-39E1-4812-A0E0-FAEF7ACC0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766BA5-D4BA-4190-9FC6-D9F199776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D0A570-402B-4FDE-98AB-785791F35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304ED7-60FC-4A11-A905-8AA91B4FA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7E14AC-1B15-4127-923F-CA298F0B0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BF372D-3CE8-4789-831D-9252232F6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FCA6AD-E3E9-46F8-A92C-BABC2B7B1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E6D238-2031-4B4D-BF73-4E6B13570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3E398-1F11-492A-AD94-6208BA26C925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3791C-1C71-41FF-8D79-37D2A790DCF5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FEACF-CEC9-489C-9BC6-FCD77F552BC5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1CBAA-F407-4B33-A28F-A4BAF354AB64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5837A-D65E-4E9C-BA6F-A85A6FE2FB79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6CBCF-A34A-4882-A43F-231FCB9BA254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35992-4E75-4AB4-9999-6F031D7BDACB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AD6F5-FF50-46CE-A301-CE1FBD61CBA0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4A80E-D6F6-4239-9478-57ECED243BA8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EB6AB-51DF-47D1-95BF-8DB6B0765680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95D2D-A671-490C-91FE-FA17740A4A05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2346C-8DA0-48E5-BC92-FB53D4956061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7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3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35680"/>
          </a:xfrm>
          <a:prstGeom prst="rect">
            <a:avLst/>
          </a:prstGeom>
          <a:ln w="0">
            <a:noFill/>
          </a:ln>
        </p:spPr>
      </p:pic>
      <p:sp>
        <p:nvSpPr>
          <p:cNvPr id="493" name="WordArt 2"/>
          <p:cNvSpPr txBox="1"/>
          <p:nvPr/>
        </p:nvSpPr>
        <p:spPr>
          <a:xfrm>
            <a:off x="1258920" y="765000"/>
            <a:ext cx="662940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21431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9966"/>
                    </a:gs>
                    <a:gs pos="100000">
                      <a:srgbClr val="cc6600"/>
                    </a:gs>
                  </a:gsLst>
                  <a:lin ang="18900000"/>
                </a:gradFill>
                <a:latin typeface="+mn-cs"/>
              </a:rPr>
              <a:t>شبكات الحاسب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9966"/>
                  </a:gs>
                  <a:gs pos="100000">
                    <a:srgbClr val="cc6600"/>
                  </a:gs>
                </a:gsLst>
                <a:lin ang="18900000"/>
              </a:gradFill>
              <a:latin typeface="+mn-cs"/>
              <a:ea typeface="+mn-cs"/>
            </a:endParaRPr>
          </a:p>
        </p:txBody>
      </p:sp>
      <p:pic>
        <p:nvPicPr>
          <p:cNvPr id="494" name="Picture 4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56520" y="0"/>
            <a:ext cx="987480" cy="1227240"/>
          </a:xfrm>
          <a:prstGeom prst="rect">
            <a:avLst/>
          </a:prstGeom>
          <a:ln w="0">
            <a:noFill/>
          </a:ln>
        </p:spPr>
      </p:pic>
      <p:sp>
        <p:nvSpPr>
          <p:cNvPr id="495" name="WordArt 5"/>
          <p:cNvSpPr txBox="1"/>
          <p:nvPr/>
        </p:nvSpPr>
        <p:spPr>
          <a:xfrm>
            <a:off x="3492360" y="4076640"/>
            <a:ext cx="194328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2143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9966"/>
                    </a:gs>
                    <a:gs pos="100000">
                      <a:srgbClr val="cc6600"/>
                    </a:gs>
                  </a:gsLst>
                  <a:lin ang="18900000"/>
                </a:gradFill>
                <a:latin typeface="+mn-cs"/>
              </a:rPr>
              <a:t>2_4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9966"/>
                  </a:gs>
                  <a:gs pos="100000">
                    <a:srgbClr val="cc6600"/>
                  </a:gs>
                </a:gsLst>
                <a:lin ang="18900000"/>
              </a:gradFill>
              <a:latin typeface="+mn-cs"/>
              <a:ea typeface="+mn-c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0" name="Picture 2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22320"/>
            <a:ext cx="9144000" cy="6835680"/>
          </a:xfrm>
          <a:prstGeom prst="rect">
            <a:avLst/>
          </a:prstGeom>
          <a:ln w="0">
            <a:noFill/>
          </a:ln>
        </p:spPr>
      </p:pic>
      <p:pic>
        <p:nvPicPr>
          <p:cNvPr id="541" name="Picture 3" descr=""/>
          <p:cNvPicPr/>
          <p:nvPr/>
        </p:nvPicPr>
        <p:blipFill>
          <a:blip r:embed="rId2"/>
          <a:stretch/>
        </p:blipFill>
        <p:spPr>
          <a:xfrm>
            <a:off x="8156520" y="0"/>
            <a:ext cx="987480" cy="1227240"/>
          </a:xfrm>
          <a:prstGeom prst="rect">
            <a:avLst/>
          </a:prstGeom>
          <a:ln w="0">
            <a:noFill/>
          </a:ln>
        </p:spPr>
      </p:pic>
      <p:sp>
        <p:nvSpPr>
          <p:cNvPr id="542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3">
              <a:alphaModFix amt="15000"/>
            </a:blip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3" name="Picture 2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35680"/>
          </a:xfrm>
          <a:prstGeom prst="rect">
            <a:avLst/>
          </a:prstGeom>
          <a:ln w="0">
            <a:noFill/>
          </a:ln>
        </p:spPr>
      </p:pic>
      <p:pic>
        <p:nvPicPr>
          <p:cNvPr id="544" name="Picture 3" descr=""/>
          <p:cNvPicPr/>
          <p:nvPr/>
        </p:nvPicPr>
        <p:blipFill>
          <a:blip r:embed="rId2"/>
          <a:stretch/>
        </p:blipFill>
        <p:spPr>
          <a:xfrm>
            <a:off x="8156520" y="0"/>
            <a:ext cx="987480" cy="1227240"/>
          </a:xfrm>
          <a:prstGeom prst="rect">
            <a:avLst/>
          </a:prstGeom>
          <a:ln w="0">
            <a:noFill/>
          </a:ln>
        </p:spPr>
      </p:pic>
      <p:sp>
        <p:nvSpPr>
          <p:cNvPr id="545" name="Text Box 7"/>
          <p:cNvSpPr/>
          <p:nvPr/>
        </p:nvSpPr>
        <p:spPr>
          <a:xfrm>
            <a:off x="755640" y="1052640"/>
            <a:ext cx="7383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66ff"/>
                </a:solidFill>
                <a:latin typeface="Times New Roman"/>
                <a:cs typeface="Times New Roman"/>
              </a:rPr>
              <a:t>تقنية التبادل الدارات ذات الخطوط </a:t>
            </a:r>
            <a:r>
              <a:rPr b="1" lang="ar-SA" sz="2400" spc="-1" strike="noStrike">
                <a:solidFill>
                  <a:srgbClr val="0066ff"/>
                </a:solidFill>
                <a:latin typeface="Times New Roman"/>
                <a:cs typeface="Times New Roman"/>
              </a:rPr>
              <a:t>الدائم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66ff"/>
                </a:solidFill>
                <a:latin typeface="Times New Roman"/>
              </a:rPr>
              <a:t>Dedicated Circuit Switch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Picture 2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35680"/>
          </a:xfrm>
          <a:prstGeom prst="rect">
            <a:avLst/>
          </a:prstGeom>
          <a:ln w="0">
            <a:noFill/>
          </a:ln>
        </p:spPr>
      </p:pic>
      <p:pic>
        <p:nvPicPr>
          <p:cNvPr id="547" name="Picture 3" descr=""/>
          <p:cNvPicPr/>
          <p:nvPr/>
        </p:nvPicPr>
        <p:blipFill>
          <a:blip r:embed="rId2"/>
          <a:stretch/>
        </p:blipFill>
        <p:spPr>
          <a:xfrm>
            <a:off x="8156520" y="0"/>
            <a:ext cx="987480" cy="1227240"/>
          </a:xfrm>
          <a:prstGeom prst="rect">
            <a:avLst/>
          </a:prstGeom>
          <a:ln w="0">
            <a:noFill/>
          </a:ln>
        </p:spPr>
      </p:pic>
      <p:sp>
        <p:nvSpPr>
          <p:cNvPr id="548" name="Text Box 5"/>
          <p:cNvSpPr/>
          <p:nvPr/>
        </p:nvSpPr>
        <p:spPr>
          <a:xfrm>
            <a:off x="826920" y="981000"/>
            <a:ext cx="703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66ff"/>
                </a:solidFill>
                <a:latin typeface="Times New Roman"/>
                <a:cs typeface="Times New Roman"/>
              </a:rPr>
              <a:t>تقنية التبادل الرمزي </a:t>
            </a:r>
            <a:r>
              <a:rPr b="1" lang="de-DE" sz="36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Packet Switching</a:t>
            </a:r>
            <a:r>
              <a:rPr b="1" lang="ar-SA" sz="36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6" name="Picture 2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35680"/>
          </a:xfrm>
          <a:prstGeom prst="rect">
            <a:avLst/>
          </a:prstGeom>
          <a:ln w="0">
            <a:noFill/>
          </a:ln>
        </p:spPr>
      </p:pic>
      <p:sp>
        <p:nvSpPr>
          <p:cNvPr id="497" name="Text Box 30"/>
          <p:cNvSpPr/>
          <p:nvPr/>
        </p:nvSpPr>
        <p:spPr>
          <a:xfrm>
            <a:off x="4620240" y="260280"/>
            <a:ext cx="383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9900"/>
                </a:solidFill>
                <a:latin typeface="Times New Roman"/>
                <a:cs typeface="Times New Roman"/>
              </a:rPr>
              <a:t>تقنيات الشبكات المحلية </a:t>
            </a:r>
            <a:r>
              <a:rPr b="0" lang="de-DE" sz="2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L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Text Box 31"/>
          <p:cNvSpPr/>
          <p:nvPr/>
        </p:nvSpPr>
        <p:spPr>
          <a:xfrm>
            <a:off x="3777480" y="836640"/>
            <a:ext cx="328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Ethernet - Token Ring - ARC 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Text Box 32"/>
          <p:cNvSpPr/>
          <p:nvPr/>
        </p:nvSpPr>
        <p:spPr>
          <a:xfrm>
            <a:off x="2550960" y="1341360"/>
            <a:ext cx="618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9900"/>
                </a:solidFill>
                <a:latin typeface="Times New Roman"/>
                <a:cs typeface="Times New Roman"/>
              </a:rPr>
              <a:t>العناصر الرئيسية المستخدمة في توسيع الشبك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Text Box 33"/>
          <p:cNvSpPr/>
          <p:nvPr/>
        </p:nvSpPr>
        <p:spPr>
          <a:xfrm>
            <a:off x="174600" y="1844640"/>
            <a:ext cx="684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eaters – Bridges – Brouters – Routers – Gateways – Switches - Hub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Line 34"/>
          <p:cNvSpPr/>
          <p:nvPr/>
        </p:nvSpPr>
        <p:spPr>
          <a:xfrm>
            <a:off x="8101080" y="549360"/>
            <a:ext cx="0" cy="597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Text Box 35"/>
          <p:cNvSpPr/>
          <p:nvPr/>
        </p:nvSpPr>
        <p:spPr>
          <a:xfrm>
            <a:off x="-201240" y="2421000"/>
            <a:ext cx="933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9900"/>
                </a:solidFill>
                <a:latin typeface="Times New Roman"/>
                <a:cs typeface="Times New Roman"/>
              </a:rPr>
              <a:t>تقنيات الاتصال المستخدمة في تراسل البيانات في الشبكات الواسعة </a:t>
            </a:r>
            <a:r>
              <a:rPr b="0" lang="de-DE" sz="2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W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Text Box 37"/>
          <p:cNvSpPr/>
          <p:nvPr/>
        </p:nvSpPr>
        <p:spPr>
          <a:xfrm>
            <a:off x="317160" y="2852640"/>
            <a:ext cx="65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Circuit Switching – Dedicated Circuit Switching – Packket Switch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Text Box 38"/>
          <p:cNvSpPr/>
          <p:nvPr/>
        </p:nvSpPr>
        <p:spPr>
          <a:xfrm>
            <a:off x="2329920" y="3213000"/>
            <a:ext cx="613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9900"/>
                </a:solidFill>
                <a:latin typeface="Times New Roman"/>
                <a:cs typeface="Times New Roman"/>
              </a:rPr>
              <a:t>البروتوكول (</a:t>
            </a:r>
            <a:r>
              <a:rPr b="0" lang="de-DE" sz="2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TCP/IP</a:t>
            </a:r>
            <a:r>
              <a:rPr b="0" lang="ar-SA" sz="2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) طبقاته والبروتوكولات تحته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Text Box 39"/>
          <p:cNvSpPr/>
          <p:nvPr/>
        </p:nvSpPr>
        <p:spPr>
          <a:xfrm>
            <a:off x="1042920" y="3719520"/>
            <a:ext cx="688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9900"/>
                </a:solidFill>
                <a:latin typeface="Times New Roman"/>
                <a:cs typeface="Times New Roman"/>
              </a:rPr>
              <a:t>البروتوكول </a:t>
            </a:r>
            <a:r>
              <a:rPr b="0" lang="de-DE" sz="2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IP</a:t>
            </a:r>
            <a:r>
              <a:rPr b="0" lang="de-DE" sz="2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 </a:t>
            </a:r>
            <a:r>
              <a:rPr b="0" lang="ar-SA" sz="2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 و </a:t>
            </a:r>
            <a:r>
              <a:rPr b="0" lang="de-DE" sz="2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IP Adressing  </a:t>
            </a:r>
            <a:r>
              <a:rPr b="0" lang="ar-SA" sz="2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 </a:t>
            </a:r>
            <a:r>
              <a:rPr b="0" lang="de-DE" sz="2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--</a:t>
            </a:r>
            <a:r>
              <a:rPr b="0" lang="ar-SA" sz="24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9900"/>
                </a:solidFill>
                <a:latin typeface="Times New Roman"/>
              </a:rPr>
              <a:t>(IP V4 - IP V6</a:t>
            </a:r>
            <a:r>
              <a:rPr b="0" lang="de-DE" sz="2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Text Box 40"/>
          <p:cNvSpPr/>
          <p:nvPr/>
        </p:nvSpPr>
        <p:spPr>
          <a:xfrm>
            <a:off x="2320920" y="4224240"/>
            <a:ext cx="607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9900"/>
                </a:solidFill>
                <a:latin typeface="Times New Roman"/>
                <a:cs typeface="Times New Roman"/>
              </a:rPr>
              <a:t>تهيئة البروتوكول (</a:t>
            </a:r>
            <a:r>
              <a:rPr b="0" lang="de-DE" sz="2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TCP/IP</a:t>
            </a:r>
            <a:r>
              <a:rPr b="0" lang="ar-SA" sz="2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) وكيفية اختبار إعدادات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Text Box 41"/>
          <p:cNvSpPr/>
          <p:nvPr/>
        </p:nvSpPr>
        <p:spPr>
          <a:xfrm>
            <a:off x="-345600" y="4727520"/>
            <a:ext cx="933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9900"/>
                </a:solidFill>
                <a:latin typeface="Times New Roman"/>
                <a:cs typeface="Times New Roman"/>
              </a:rPr>
              <a:t>تقنيات الاتصال المستخدمة في تراسل البيانات في الشبكات الواسعة </a:t>
            </a:r>
            <a:r>
              <a:rPr b="0" lang="de-DE" sz="2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W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Rectangle 42"/>
          <p:cNvSpPr/>
          <p:nvPr/>
        </p:nvSpPr>
        <p:spPr>
          <a:xfrm>
            <a:off x="3434040" y="5229360"/>
            <a:ext cx="51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9900"/>
                </a:solidFill>
                <a:latin typeface="Times New Roman"/>
                <a:cs typeface="Times New Roman"/>
              </a:rPr>
              <a:t>خدمة ال </a:t>
            </a:r>
            <a:r>
              <a:rPr b="0" lang="de-DE" sz="2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DHCP</a:t>
            </a:r>
            <a:r>
              <a:rPr b="0" lang="de-DE" sz="2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 </a:t>
            </a:r>
            <a:r>
              <a:rPr b="0" lang="ar-SA" sz="2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 بروتوكول العنونة الآلي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Rectangle 43"/>
          <p:cNvSpPr/>
          <p:nvPr/>
        </p:nvSpPr>
        <p:spPr>
          <a:xfrm>
            <a:off x="837360" y="5661000"/>
            <a:ext cx="767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9900"/>
                </a:solidFill>
                <a:latin typeface="Times New Roman"/>
                <a:cs typeface="Times New Roman"/>
              </a:rPr>
              <a:t>خدمة الدليل الفعال في </a:t>
            </a:r>
            <a:r>
              <a:rPr b="0" lang="de-DE" sz="2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Windows 2000</a:t>
            </a:r>
            <a:r>
              <a:rPr b="0" lang="de-DE" sz="2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 </a:t>
            </a:r>
            <a:r>
              <a:rPr b="0" lang="ar-SA" sz="2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 الـ </a:t>
            </a:r>
            <a:r>
              <a:rPr b="0" lang="de-DE" sz="2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Active Directory</a:t>
            </a:r>
            <a:r>
              <a:rPr b="0" lang="de-DE" sz="2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0" name="Picture 2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35680"/>
          </a:xfrm>
          <a:prstGeom prst="rect">
            <a:avLst/>
          </a:prstGeom>
          <a:ln w="0">
            <a:noFill/>
          </a:ln>
        </p:spPr>
      </p:pic>
      <p:pic>
        <p:nvPicPr>
          <p:cNvPr id="511" name="Picture 3" descr=""/>
          <p:cNvPicPr/>
          <p:nvPr/>
        </p:nvPicPr>
        <p:blipFill>
          <a:blip r:embed="rId2"/>
          <a:stretch/>
        </p:blipFill>
        <p:spPr>
          <a:xfrm>
            <a:off x="8156520" y="0"/>
            <a:ext cx="987480" cy="1227240"/>
          </a:xfrm>
          <a:prstGeom prst="rect">
            <a:avLst/>
          </a:prstGeom>
          <a:ln w="0">
            <a:noFill/>
          </a:ln>
        </p:spPr>
      </p:pic>
      <p:sp>
        <p:nvSpPr>
          <p:cNvPr id="512" name="Text Box 4"/>
          <p:cNvSpPr/>
          <p:nvPr/>
        </p:nvSpPr>
        <p:spPr>
          <a:xfrm>
            <a:off x="-974880" y="831960"/>
            <a:ext cx="10290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9900"/>
                </a:solidFill>
                <a:latin typeface="Times New Roman"/>
                <a:cs typeface="Times New Roman"/>
              </a:rPr>
              <a:t>تقنيات الاتصال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9900"/>
                </a:solidFill>
                <a:latin typeface="Times New Roman"/>
                <a:cs typeface="Times New Roman"/>
              </a:rPr>
              <a:t>في تراسل البيانات في الشبكات الواسعة </a:t>
            </a:r>
            <a:r>
              <a:rPr b="1" lang="de-DE" sz="36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WA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Text Box 5"/>
          <p:cNvSpPr/>
          <p:nvPr/>
        </p:nvSpPr>
        <p:spPr>
          <a:xfrm>
            <a:off x="6697080" y="2284560"/>
            <a:ext cx="1820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66ff"/>
                </a:solidFill>
                <a:latin typeface="Times New Roman"/>
                <a:cs typeface="Times New Roman"/>
              </a:rPr>
              <a:t>تمهيد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Line 8"/>
          <p:cNvSpPr/>
          <p:nvPr/>
        </p:nvSpPr>
        <p:spPr>
          <a:xfrm>
            <a:off x="8244000" y="2349360"/>
            <a:ext cx="0" cy="345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 Box 11"/>
          <p:cNvSpPr/>
          <p:nvPr/>
        </p:nvSpPr>
        <p:spPr>
          <a:xfrm>
            <a:off x="-1014480" y="3259080"/>
            <a:ext cx="10376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ند الحاجة الى توسيع اشبكات وجدنا ان هذا التوسيع يتم بشك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داخلي وذلك عند توسيع الشبكة محليا </a:t>
            </a:r>
            <a:r>
              <a:rPr b="0" lang="de-D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او بشكل خارج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وذلك عند توسيع الشبكة عالميا </a:t>
            </a:r>
            <a:r>
              <a:rPr b="0" lang="de-D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N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 Box 12"/>
          <p:cNvSpPr/>
          <p:nvPr/>
        </p:nvSpPr>
        <p:spPr>
          <a:xfrm>
            <a:off x="-678960" y="5157720"/>
            <a:ext cx="10100520" cy="106884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100000">
                <a:srgbClr val="002f7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cccc00"/>
                </a:solidFill>
                <a:latin typeface="Times New Roman"/>
                <a:cs typeface="Times New Roman"/>
              </a:rPr>
              <a:t>فعند توسيع الشبكة عالميا فإننا نستخدم تقنيات اتصال مختلف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cc00"/>
                </a:solidFill>
                <a:latin typeface="Times New Roman"/>
                <a:cs typeface="Times New Roman"/>
              </a:rPr>
              <a:t>منه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7" name="Picture 2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22320"/>
            <a:ext cx="9144000" cy="6835680"/>
          </a:xfrm>
          <a:prstGeom prst="rect">
            <a:avLst/>
          </a:prstGeom>
          <a:ln w="0">
            <a:noFill/>
          </a:ln>
        </p:spPr>
      </p:pic>
      <p:pic>
        <p:nvPicPr>
          <p:cNvPr id="518" name="Picture 3" descr=""/>
          <p:cNvPicPr/>
          <p:nvPr/>
        </p:nvPicPr>
        <p:blipFill>
          <a:blip r:embed="rId2"/>
          <a:stretch/>
        </p:blipFill>
        <p:spPr>
          <a:xfrm>
            <a:off x="8156520" y="0"/>
            <a:ext cx="987480" cy="1227240"/>
          </a:xfrm>
          <a:prstGeom prst="rect">
            <a:avLst/>
          </a:prstGeom>
          <a:ln w="0">
            <a:noFill/>
          </a:ln>
        </p:spPr>
      </p:pic>
      <p:sp>
        <p:nvSpPr>
          <p:cNvPr id="519" name="Text Box 6"/>
          <p:cNvSpPr/>
          <p:nvPr/>
        </p:nvSpPr>
        <p:spPr>
          <a:xfrm>
            <a:off x="1090080" y="1386000"/>
            <a:ext cx="738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66ff"/>
                </a:solidFill>
                <a:latin typeface="Times New Roman"/>
                <a:cs typeface="Times New Roman"/>
              </a:rPr>
              <a:t>تقنية التبادل الدراتي </a:t>
            </a:r>
            <a:r>
              <a:rPr b="1" lang="de-DE" sz="32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Circuit Switch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Text Box 7"/>
          <p:cNvSpPr/>
          <p:nvPr/>
        </p:nvSpPr>
        <p:spPr>
          <a:xfrm>
            <a:off x="971640" y="2997360"/>
            <a:ext cx="7383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66ff"/>
                </a:solidFill>
                <a:latin typeface="Times New Roman"/>
                <a:cs typeface="Times New Roman"/>
              </a:rPr>
              <a:t>تقنية التبادل الدارات ذات الخطوط </a:t>
            </a:r>
            <a:r>
              <a:rPr b="1" lang="ar-SA" sz="2400" spc="-1" strike="noStrike">
                <a:solidFill>
                  <a:srgbClr val="0066ff"/>
                </a:solidFill>
                <a:latin typeface="Times New Roman"/>
                <a:cs typeface="Times New Roman"/>
              </a:rPr>
              <a:t>الدائم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66ff"/>
                </a:solidFill>
                <a:latin typeface="Times New Roman"/>
              </a:rPr>
              <a:t>Dedicated Circuit Switch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Text Box 9"/>
          <p:cNvSpPr/>
          <p:nvPr/>
        </p:nvSpPr>
        <p:spPr>
          <a:xfrm>
            <a:off x="1835280" y="4941720"/>
            <a:ext cx="6386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66ff"/>
                </a:solidFill>
                <a:latin typeface="Times New Roman"/>
                <a:cs typeface="Times New Roman"/>
              </a:rPr>
              <a:t>تقنية التبادل الرمزي </a:t>
            </a:r>
            <a:r>
              <a:rPr b="1" lang="de-DE" sz="32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Packet Switching</a:t>
            </a:r>
            <a:r>
              <a:rPr b="1" lang="ar-SA" sz="32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2" name="Picture 2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35680"/>
          </a:xfrm>
          <a:prstGeom prst="rect">
            <a:avLst/>
          </a:prstGeom>
          <a:ln w="0">
            <a:noFill/>
          </a:ln>
        </p:spPr>
      </p:pic>
      <p:pic>
        <p:nvPicPr>
          <p:cNvPr id="523" name="Picture 3" descr=""/>
          <p:cNvPicPr/>
          <p:nvPr/>
        </p:nvPicPr>
        <p:blipFill>
          <a:blip r:embed="rId2"/>
          <a:stretch/>
        </p:blipFill>
        <p:spPr>
          <a:xfrm>
            <a:off x="8156520" y="0"/>
            <a:ext cx="987480" cy="1227240"/>
          </a:xfrm>
          <a:prstGeom prst="rect">
            <a:avLst/>
          </a:prstGeom>
          <a:ln w="0">
            <a:noFill/>
          </a:ln>
        </p:spPr>
      </p:pic>
      <p:sp>
        <p:nvSpPr>
          <p:cNvPr id="524" name="Text Box 5"/>
          <p:cNvSpPr/>
          <p:nvPr/>
        </p:nvSpPr>
        <p:spPr>
          <a:xfrm>
            <a:off x="612360" y="549360"/>
            <a:ext cx="738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66ff"/>
                </a:solidFill>
                <a:latin typeface="Times New Roman"/>
                <a:cs typeface="Times New Roman"/>
              </a:rPr>
              <a:t>تقنية التبادل الدراتي </a:t>
            </a:r>
            <a:r>
              <a:rPr b="1" lang="de-DE" sz="32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Circuit Switch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Text Box 6"/>
          <p:cNvSpPr/>
          <p:nvPr/>
        </p:nvSpPr>
        <p:spPr>
          <a:xfrm>
            <a:off x="-638640" y="1936800"/>
            <a:ext cx="10325880" cy="228744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100000">
                <a:srgbClr val="002f7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cccc00"/>
                </a:solidFill>
                <a:latin typeface="Times New Roman"/>
                <a:cs typeface="Times New Roman"/>
              </a:rPr>
              <a:t>باستخدام مقاسم الهاتف عن طريق مؤسسات الهات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cccc00"/>
                </a:solidFill>
                <a:latin typeface="Times New Roman"/>
                <a:ea typeface="Times New Roman"/>
              </a:rPr>
              <a:t> او باستخدام مقاسم هاتف خاصة يمكننا انشاء شبكة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cccc00"/>
                </a:solidFill>
                <a:latin typeface="Times New Roman"/>
                <a:ea typeface="Times New Roman"/>
              </a:rPr>
              <a:t>(دارة نقل معلومات).وهنا يكون تراسل البيانات اما باستخدا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Rectangle 8"/>
          <p:cNvSpPr/>
          <p:nvPr/>
        </p:nvSpPr>
        <p:spPr>
          <a:xfrm>
            <a:off x="2484360" y="4869000"/>
            <a:ext cx="5183280" cy="1191240"/>
          </a:xfrm>
          <a:prstGeom prst="rect">
            <a:avLst/>
          </a:prstGeom>
          <a:blipFill rotWithShape="0">
            <a:blip r:embed="rId3">
              <a:alphaModFix amt="92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9900ff"/>
                </a:solidFill>
                <a:latin typeface="Times New Roman"/>
                <a:cs typeface="Times New Roman"/>
              </a:rPr>
              <a:t>تقنية  الارسال التشابهي(</a:t>
            </a:r>
            <a:r>
              <a:rPr b="0" lang="de-DE" sz="3600" spc="-1" strike="noStrike">
                <a:solidFill>
                  <a:srgbClr val="9900ff"/>
                </a:solidFill>
                <a:latin typeface="Times New Roman"/>
                <a:ea typeface="Times New Roman"/>
              </a:rPr>
              <a:t>Analog</a:t>
            </a:r>
            <a:r>
              <a:rPr b="0" lang="ar-SA" sz="3600" spc="-1" strike="noStrike">
                <a:solidFill>
                  <a:srgbClr val="9900ff"/>
                </a:solidFill>
                <a:latin typeface="Times New Roman"/>
                <a:ea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Rectangle 9"/>
          <p:cNvSpPr/>
          <p:nvPr/>
        </p:nvSpPr>
        <p:spPr>
          <a:xfrm>
            <a:off x="2484360" y="5516640"/>
            <a:ext cx="5218200" cy="1191240"/>
          </a:xfrm>
          <a:prstGeom prst="rect">
            <a:avLst/>
          </a:prstGeom>
          <a:blipFill rotWithShape="0">
            <a:blip r:embed="rId4">
              <a:alphaModFix amt="92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9900ff"/>
                </a:solidFill>
                <a:latin typeface="Times New Roman"/>
                <a:cs typeface="Times New Roman"/>
              </a:rPr>
              <a:t>تقنية الارسال الرقمي (</a:t>
            </a:r>
            <a:r>
              <a:rPr b="0" lang="de-DE" sz="3600" spc="-1" strike="noStrike">
                <a:solidFill>
                  <a:srgbClr val="9900ff"/>
                </a:solidFill>
                <a:latin typeface="Times New Roman"/>
                <a:ea typeface="Times New Roman"/>
              </a:rPr>
              <a:t>Digital</a:t>
            </a:r>
            <a:r>
              <a:rPr b="0" lang="ar-SA" sz="3600" spc="-1" strike="noStrike">
                <a:solidFill>
                  <a:srgbClr val="9900ff"/>
                </a:solidFill>
                <a:latin typeface="Times New Roman"/>
                <a:ea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8" name="Picture 2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35680"/>
          </a:xfrm>
          <a:prstGeom prst="rect">
            <a:avLst/>
          </a:prstGeom>
          <a:ln w="0">
            <a:noFill/>
          </a:ln>
        </p:spPr>
      </p:pic>
      <p:pic>
        <p:nvPicPr>
          <p:cNvPr id="529" name="Picture 3" descr=""/>
          <p:cNvPicPr/>
          <p:nvPr/>
        </p:nvPicPr>
        <p:blipFill>
          <a:blip r:embed="rId2"/>
          <a:stretch/>
        </p:blipFill>
        <p:spPr>
          <a:xfrm>
            <a:off x="8156520" y="0"/>
            <a:ext cx="987480" cy="1227240"/>
          </a:xfrm>
          <a:prstGeom prst="rect">
            <a:avLst/>
          </a:prstGeom>
          <a:ln w="0">
            <a:noFill/>
          </a:ln>
        </p:spPr>
      </p:pic>
      <p:sp>
        <p:nvSpPr>
          <p:cNvPr id="530" name="Rectangle 4"/>
          <p:cNvSpPr/>
          <p:nvPr/>
        </p:nvSpPr>
        <p:spPr>
          <a:xfrm>
            <a:off x="0" y="0"/>
            <a:ext cx="9051840" cy="6921000"/>
          </a:xfrm>
          <a:prstGeom prst="rect">
            <a:avLst/>
          </a:prstGeom>
          <a:blipFill rotWithShape="0">
            <a:blip r:embed="rId3">
              <a:alphaModFix amt="14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9900ff"/>
                </a:solidFill>
                <a:latin typeface="Times New Roman"/>
                <a:cs typeface="Times New Roman"/>
              </a:rPr>
              <a:t>تقنية  الارسال التشابهي(</a:t>
            </a:r>
            <a:r>
              <a:rPr b="0" lang="de-DE" sz="3600" spc="-1" strike="noStrike">
                <a:solidFill>
                  <a:srgbClr val="9900ff"/>
                </a:solidFill>
                <a:latin typeface="Times New Roman"/>
                <a:ea typeface="Times New Roman"/>
              </a:rPr>
              <a:t>Analog</a:t>
            </a:r>
            <a:r>
              <a:rPr b="0" lang="ar-SA" sz="3600" spc="-1" strike="noStrike">
                <a:solidFill>
                  <a:srgbClr val="9900ff"/>
                </a:solidFill>
                <a:latin typeface="Times New Roman"/>
                <a:ea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9900ff"/>
                </a:solidFill>
                <a:latin typeface="Times New Roman"/>
                <a:cs typeface="Times New Roman"/>
              </a:rPr>
              <a:t>وهي التقنية الوحيدة التي كانت تستخدم في شبكة الهواتف المؤسسات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9900ff"/>
                </a:solidFill>
                <a:latin typeface="Times New Roman"/>
                <a:ea typeface="Times New Roman"/>
              </a:rPr>
              <a:t>P</a:t>
            </a:r>
            <a:r>
              <a:rPr b="0" lang="de-DE" sz="3600" spc="-1" strike="noStrike">
                <a:solidFill>
                  <a:srgbClr val="9900ff"/>
                </a:solidFill>
                <a:latin typeface="Times New Roman"/>
                <a:ea typeface="Times New Roman"/>
              </a:rPr>
              <a:t>ublic </a:t>
            </a:r>
            <a:r>
              <a:rPr b="0" lang="de-DE" sz="4400" spc="-1" strike="noStrike">
                <a:solidFill>
                  <a:srgbClr val="9900ff"/>
                </a:solidFill>
                <a:latin typeface="Times New Roman"/>
                <a:ea typeface="Times New Roman"/>
              </a:rPr>
              <a:t>S</a:t>
            </a:r>
            <a:r>
              <a:rPr b="0" lang="de-DE" sz="3600" spc="-1" strike="noStrike">
                <a:solidFill>
                  <a:srgbClr val="9900ff"/>
                </a:solidFill>
                <a:latin typeface="Times New Roman"/>
                <a:ea typeface="Times New Roman"/>
              </a:rPr>
              <a:t>witched </a:t>
            </a:r>
            <a:r>
              <a:rPr b="0" lang="de-DE" sz="4400" spc="-1" strike="noStrike">
                <a:solidFill>
                  <a:srgbClr val="9900ff"/>
                </a:solidFill>
                <a:latin typeface="Times New Roman"/>
                <a:ea typeface="Times New Roman"/>
              </a:rPr>
              <a:t>T</a:t>
            </a:r>
            <a:r>
              <a:rPr b="0" lang="de-DE" sz="3600" spc="-1" strike="noStrike">
                <a:solidFill>
                  <a:srgbClr val="9900ff"/>
                </a:solidFill>
                <a:latin typeface="Times New Roman"/>
                <a:ea typeface="Times New Roman"/>
              </a:rPr>
              <a:t>elephone </a:t>
            </a:r>
            <a:r>
              <a:rPr b="0" lang="de-DE" sz="4400" spc="-1" strike="noStrike">
                <a:solidFill>
                  <a:srgbClr val="9900ff"/>
                </a:solidFill>
                <a:latin typeface="Times New Roman"/>
                <a:ea typeface="Times New Roman"/>
              </a:rPr>
              <a:t>N</a:t>
            </a:r>
            <a:r>
              <a:rPr b="0" lang="de-DE" sz="3600" spc="-1" strike="noStrike">
                <a:solidFill>
                  <a:srgbClr val="9900ff"/>
                </a:solidFill>
                <a:latin typeface="Times New Roman"/>
                <a:ea typeface="Times New Roman"/>
              </a:rPr>
              <a:t>et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9900ff"/>
                </a:solidFill>
                <a:latin typeface="Times New Roman"/>
                <a:ea typeface="Times New Roman"/>
              </a:rPr>
              <a:t>P</a:t>
            </a:r>
            <a:r>
              <a:rPr b="0" lang="de-DE" sz="3600" spc="-1" strike="noStrike">
                <a:solidFill>
                  <a:srgbClr val="9900ff"/>
                </a:solidFill>
                <a:latin typeface="Times New Roman"/>
                <a:ea typeface="Times New Roman"/>
              </a:rPr>
              <a:t> </a:t>
            </a:r>
            <a:r>
              <a:rPr b="0" lang="de-DE" sz="4400" spc="-1" strike="noStrike">
                <a:solidFill>
                  <a:srgbClr val="9900ff"/>
                </a:solidFill>
                <a:latin typeface="Times New Roman"/>
                <a:ea typeface="Times New Roman"/>
              </a:rPr>
              <a:t>ST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9900ff"/>
                </a:solidFill>
                <a:latin typeface="Times New Roman"/>
                <a:cs typeface="Times New Roman"/>
              </a:rPr>
              <a:t>وتستخدم هذه التقنية لنقل الصوت عموما و من  ثم اصبحت تستخدم لنقل البيانات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1" name="Picture 2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35680"/>
          </a:xfrm>
          <a:prstGeom prst="rect">
            <a:avLst/>
          </a:prstGeom>
          <a:ln w="0">
            <a:noFill/>
          </a:ln>
        </p:spPr>
      </p:pic>
      <p:pic>
        <p:nvPicPr>
          <p:cNvPr id="532" name="Picture 3" descr=""/>
          <p:cNvPicPr/>
          <p:nvPr/>
        </p:nvPicPr>
        <p:blipFill>
          <a:blip r:embed="rId2"/>
          <a:stretch/>
        </p:blipFill>
        <p:spPr>
          <a:xfrm>
            <a:off x="8156520" y="0"/>
            <a:ext cx="987480" cy="1227240"/>
          </a:xfrm>
          <a:prstGeom prst="rect">
            <a:avLst/>
          </a:prstGeom>
          <a:ln w="0">
            <a:noFill/>
          </a:ln>
        </p:spPr>
      </p:pic>
      <p:sp>
        <p:nvSpPr>
          <p:cNvPr id="533" name="Rectangle 4"/>
          <p:cNvSpPr/>
          <p:nvPr/>
        </p:nvSpPr>
        <p:spPr>
          <a:xfrm>
            <a:off x="0" y="0"/>
            <a:ext cx="9051840" cy="7226280"/>
          </a:xfrm>
          <a:prstGeom prst="rect">
            <a:avLst/>
          </a:prstGeom>
          <a:blipFill rotWithShape="0">
            <a:blip r:embed="rId3">
              <a:alphaModFix amt="14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9900ff"/>
                </a:solidFill>
                <a:latin typeface="Times New Roman"/>
                <a:cs typeface="Times New Roman"/>
              </a:rPr>
              <a:t>لوصل شبكتين محليتين </a:t>
            </a:r>
            <a:r>
              <a:rPr b="0" lang="de-DE" sz="3600" spc="-1" strike="noStrike">
                <a:solidFill>
                  <a:srgbClr val="9900ff"/>
                </a:solidFill>
                <a:latin typeface="Times New Roman"/>
                <a:ea typeface="Times New Roman"/>
              </a:rPr>
              <a:t>LAN</a:t>
            </a:r>
            <a:r>
              <a:rPr b="0" lang="de-DE" sz="3600" spc="-1" strike="noStrike">
                <a:solidFill>
                  <a:srgbClr val="9900ff"/>
                </a:solidFill>
                <a:latin typeface="Times New Roman"/>
                <a:ea typeface="Times New Roman"/>
              </a:rPr>
              <a:t> </a:t>
            </a:r>
            <a:r>
              <a:rPr b="0" lang="ar-SA" sz="3600" spc="-1" strike="noStrike">
                <a:solidFill>
                  <a:srgbClr val="9900ff"/>
                </a:solidFill>
                <a:latin typeface="Times New Roman"/>
                <a:ea typeface="Times New Roman"/>
              </a:rPr>
              <a:t> عن طريق المقاسم التشابهي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9900ff"/>
                </a:solidFill>
                <a:latin typeface="Times New Roman"/>
                <a:ea typeface="Times New Roman"/>
              </a:rPr>
              <a:t> مثلا نحتاج  (مودم عدد </a:t>
            </a:r>
            <a:r>
              <a:rPr b="0" lang="de-DE" sz="3600" spc="-1" strike="noStrike">
                <a:solidFill>
                  <a:srgbClr val="9900ff"/>
                </a:solidFill>
                <a:latin typeface="Times New Roman"/>
                <a:ea typeface="Times New Roman"/>
              </a:rPr>
              <a:t>2</a:t>
            </a:r>
            <a:r>
              <a:rPr b="0" lang="ar-SA" sz="3600" spc="-1" strike="noStrike">
                <a:solidFill>
                  <a:srgbClr val="9900ff"/>
                </a:solidFill>
                <a:latin typeface="Times New Roman"/>
                <a:ea typeface="Times New Roman"/>
              </a:rPr>
              <a:t> ) واحد في كل شبك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Picture 2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22320"/>
            <a:ext cx="9144000" cy="6835680"/>
          </a:xfrm>
          <a:prstGeom prst="rect">
            <a:avLst/>
          </a:prstGeom>
          <a:ln w="0">
            <a:noFill/>
          </a:ln>
        </p:spPr>
      </p:pic>
      <p:pic>
        <p:nvPicPr>
          <p:cNvPr id="535" name="Picture 3" descr=""/>
          <p:cNvPicPr/>
          <p:nvPr/>
        </p:nvPicPr>
        <p:blipFill>
          <a:blip r:embed="rId2"/>
          <a:stretch/>
        </p:blipFill>
        <p:spPr>
          <a:xfrm>
            <a:off x="8156520" y="0"/>
            <a:ext cx="987480" cy="122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6" name="Picture 2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22320"/>
            <a:ext cx="9144000" cy="6835680"/>
          </a:xfrm>
          <a:prstGeom prst="rect">
            <a:avLst/>
          </a:prstGeom>
          <a:ln w="0">
            <a:noFill/>
          </a:ln>
        </p:spPr>
      </p:pic>
      <p:pic>
        <p:nvPicPr>
          <p:cNvPr id="537" name="Picture 3" descr=""/>
          <p:cNvPicPr/>
          <p:nvPr/>
        </p:nvPicPr>
        <p:blipFill>
          <a:blip r:embed="rId2"/>
          <a:stretch/>
        </p:blipFill>
        <p:spPr>
          <a:xfrm>
            <a:off x="8156520" y="0"/>
            <a:ext cx="987480" cy="1227240"/>
          </a:xfrm>
          <a:prstGeom prst="rect">
            <a:avLst/>
          </a:prstGeom>
          <a:ln w="0">
            <a:noFill/>
          </a:ln>
        </p:spPr>
      </p:pic>
      <p:sp>
        <p:nvSpPr>
          <p:cNvPr id="538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3">
              <a:alphaModFix amt="15000"/>
            </a:blip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Rectangle 6"/>
          <p:cNvSpPr/>
          <p:nvPr/>
        </p:nvSpPr>
        <p:spPr>
          <a:xfrm>
            <a:off x="1619280" y="907920"/>
            <a:ext cx="5218200" cy="1191240"/>
          </a:xfrm>
          <a:prstGeom prst="rect">
            <a:avLst/>
          </a:prstGeom>
          <a:blipFill rotWithShape="0">
            <a:blip r:embed="rId4">
              <a:alphaModFix amt="92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9900ff"/>
                </a:solidFill>
                <a:latin typeface="Times New Roman"/>
                <a:cs typeface="Times New Roman"/>
              </a:rPr>
              <a:t>تقنية الارسال الرقمي (</a:t>
            </a:r>
            <a:r>
              <a:rPr b="0" lang="de-DE" sz="3600" spc="-1" strike="noStrike">
                <a:solidFill>
                  <a:srgbClr val="9900ff"/>
                </a:solidFill>
                <a:latin typeface="Times New Roman"/>
                <a:ea typeface="Times New Roman"/>
              </a:rPr>
              <a:t>Digital</a:t>
            </a:r>
            <a:r>
              <a:rPr b="0" lang="ar-SA" sz="3600" spc="-1" strike="noStrike">
                <a:solidFill>
                  <a:srgbClr val="9900ff"/>
                </a:solidFill>
                <a:latin typeface="Times New Roman"/>
                <a:ea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25T07:44:49Z</dcterms:created>
  <dc:creator>Dr.Hisham Adel Abhari</dc:creator>
  <dc:description/>
  <dc:language>en-US</dc:language>
  <cp:lastModifiedBy>Dr. Hisham Abhari</cp:lastModifiedBy>
  <dcterms:modified xsi:type="dcterms:W3CDTF">2017-09-07T13:07:42Z</dcterms:modified>
  <cp:revision>130</cp:revision>
  <dc:subject/>
  <dc:title>Kein Folientitel</dc:title>
</cp:coreProperties>
</file>