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99D3-4637-4527-BF70-A20A0D53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CA1A-8009-4CE2-BE74-8ACAB595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12FE-F050-44A8-B0B9-35E74273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91E0-A07E-4FB9-A6DB-24A4B9AA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F284-3231-4EC9-83A9-90B82B2A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49BF-FC50-4537-AB62-8E593AD0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5F4F-126E-4AEA-9AD8-5DCB595D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D5B9-FE52-4F1E-883A-0972A515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3549-30F9-4135-B6C2-7FBF17BB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162D-6AD5-4A84-967F-FD01A1B3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B9F1-BC23-4FC4-8BBB-AE228548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DD6F-6A45-48F4-AE8D-26109697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CA1C-C8C9-4389-9E58-546D615C06E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16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image" Target="../media/image2.png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image" Target="../media/image2.png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image" Target="../media/image13.jpeg"/><Relationship Id="rId5" Type="http://schemas.openxmlformats.org/officeDocument/2006/relationships/image" Target="../media/image9.png"/><Relationship Id="rId6" Type="http://schemas.openxmlformats.org/officeDocument/2006/relationships/image" Target="../media/image6.png"/><Relationship Id="rId7" Type="http://schemas.openxmlformats.org/officeDocument/2006/relationships/slide" Target="slide19.xml"/><Relationship Id="rId8" Type="http://schemas.openxmlformats.org/officeDocument/2006/relationships/slide" Target="slide22.xml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0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9.png"/><Relationship Id="rId11" Type="http://schemas.openxmlformats.org/officeDocument/2006/relationships/image" Target="../media/image7.png"/><Relationship Id="rId12" Type="http://schemas.openxmlformats.org/officeDocument/2006/relationships/slide" Target="slide28.xml"/><Relationship Id="rId13" Type="http://schemas.openxmlformats.org/officeDocument/2006/relationships/slide" Target="slide31.xml"/><Relationship Id="rId14" Type="http://schemas.openxmlformats.org/officeDocument/2006/relationships/slide" Target="slide32.xml"/><Relationship Id="rId1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33.xml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image" Target="../media/image4.png"/><Relationship Id="rId6" Type="http://schemas.openxmlformats.org/officeDocument/2006/relationships/slide" Target="slide9.xml"/><Relationship Id="rId7" Type="http://schemas.openxmlformats.org/officeDocument/2006/relationships/image" Target="../media/image5.png"/><Relationship Id="rId8" Type="http://schemas.openxmlformats.org/officeDocument/2006/relationships/slide" Target="slide17.xml"/><Relationship Id="rId9" Type="http://schemas.openxmlformats.org/officeDocument/2006/relationships/image" Target="../media/image6.png"/><Relationship Id="rId10" Type="http://schemas.openxmlformats.org/officeDocument/2006/relationships/slide" Target="slide26.xml"/><Relationship Id="rId11" Type="http://schemas.openxmlformats.org/officeDocument/2006/relationships/image" Target="../media/image7.png"/><Relationship Id="rId12" Type="http://schemas.openxmlformats.org/officeDocument/2006/relationships/slide" Target="slide6.xm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1258920" y="765000"/>
            <a:ext cx="6629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cc6600"/>
                    </a:gs>
                  </a:gsLst>
                  <a:lin ang="18900000"/>
                </a:gradFill>
                <a:latin typeface="+mn-cs"/>
              </a:rPr>
              <a:t>شبكات الحاس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cc6600"/>
                  </a:gs>
                </a:gsLst>
                <a:lin ang="18900000"/>
              </a:gradFill>
              <a:latin typeface="+mn-cs"/>
              <a:ea typeface="+mn-cs"/>
            </a:endParaRPr>
          </a:p>
        </p:txBody>
      </p:sp>
      <p:pic>
        <p:nvPicPr>
          <p:cNvPr id="43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3492360" y="4076640"/>
            <a:ext cx="1943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cc6600"/>
                    </a:gs>
                  </a:gsLst>
                  <a:lin ang="18900000"/>
                </a:gradFill>
                <a:latin typeface="+mn-cs"/>
              </a:rPr>
              <a:t>2_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cc6600"/>
                  </a:gs>
                </a:gsLst>
                <a:lin ang="18900000"/>
              </a:gradFill>
              <a:latin typeface="+mn-cs"/>
              <a:ea typeface="+mn-c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-1035000" y="1484280"/>
            <a:ext cx="1125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همة هذه الطبقة عنونة رزم البيانات باستخدام 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وجيه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قيق التجانس بين البروتوكولات العاملة في الطبقات العليا والعاملة في الطبقات السفل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618720" y="3213000"/>
            <a:ext cx="53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عمل في هذه الطبقة البروتوكولات التالي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>
            <a:hlinkClick r:id="rId4" action="ppaction://hlinksldjump"/>
          </p:cNvPr>
          <p:cNvSpPr/>
          <p:nvPr/>
        </p:nvSpPr>
        <p:spPr>
          <a:xfrm>
            <a:off x="5455440" y="44370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>
            <a:hlinkClick r:id="rId5" action="ppaction://hlinksldjump"/>
          </p:cNvPr>
          <p:cNvSpPr/>
          <p:nvPr/>
        </p:nvSpPr>
        <p:spPr>
          <a:xfrm>
            <a:off x="5311080" y="4941720"/>
            <a:ext cx="24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>
            <a:hlinkClick r:id="rId6" action="ppaction://hlinksldjump"/>
          </p:cNvPr>
          <p:cNvSpPr/>
          <p:nvPr/>
        </p:nvSpPr>
        <p:spPr>
          <a:xfrm>
            <a:off x="5310360" y="5516640"/>
            <a:ext cx="23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9">
            <a:hlinkClick r:id="rId7" action="ppaction://hlinksldjump"/>
          </p:cNvPr>
          <p:cNvSpPr/>
          <p:nvPr/>
        </p:nvSpPr>
        <p:spPr>
          <a:xfrm>
            <a:off x="5310720" y="609300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">
            <a:hlinkClick r:id="rId8" action="ppaction://hlinksldjump"/>
          </p:cNvPr>
          <p:cNvSpPr/>
          <p:nvPr/>
        </p:nvSpPr>
        <p:spPr>
          <a:xfrm>
            <a:off x="5814720" y="393372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1">
            <a:hlinkClick r:id="rId9" action="ppaction://hlinksldjump"/>
          </p:cNvPr>
          <p:cNvSpPr/>
          <p:nvPr/>
        </p:nvSpPr>
        <p:spPr>
          <a:xfrm>
            <a:off x="754920" y="450864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ress </a:t>
            </a: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solution </a:t>
            </a: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otok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2">
            <a:hlinkClick r:id="rId10" action="ppaction://hlinksldjump"/>
          </p:cNvPr>
          <p:cNvSpPr/>
          <p:nvPr/>
        </p:nvSpPr>
        <p:spPr>
          <a:xfrm>
            <a:off x="753120" y="4941720"/>
            <a:ext cx="45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verse </a:t>
            </a: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ress </a:t>
            </a: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solution </a:t>
            </a: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0" y="558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>
            <a:hlinkClick r:id="rId11" action="ppaction://hlinksldjump"/>
          </p:cNvPr>
          <p:cNvSpPr/>
          <p:nvPr/>
        </p:nvSpPr>
        <p:spPr>
          <a:xfrm>
            <a:off x="751320" y="5516640"/>
            <a:ext cx="43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ternet </a:t>
            </a: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ntrol </a:t>
            </a: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ssege </a:t>
            </a: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6">
            <a:hlinkClick r:id="rId12" action="ppaction://hlinksldjump"/>
          </p:cNvPr>
          <p:cNvSpPr/>
          <p:nvPr/>
        </p:nvSpPr>
        <p:spPr>
          <a:xfrm>
            <a:off x="751680" y="6021360"/>
            <a:ext cx="46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ernet </a:t>
            </a:r>
            <a:r>
              <a:rPr b="0" lang="de-DE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p </a:t>
            </a:r>
            <a:r>
              <a:rPr b="0" lang="de-DE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gment </a:t>
            </a:r>
            <a:r>
              <a:rPr b="0" lang="de-DE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-201240" y="3141720"/>
            <a:ext cx="99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لم هذا البروتوكول البيانات من الطبقة الاعلى على شكل رزم من البروتوكو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و 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يقوم بارسال هذه البيانات على شك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gram‘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حاسب الى اخ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954360" y="4653000"/>
            <a:ext cx="83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وزع عناوين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لجميع الحواسيب والموجهات  الموصولة بالانترنت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26800" y="5300640"/>
            <a:ext cx="82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قوم بإضافة عنوان الجهة عنونة الجهة المرسلة والجهة المستقب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8">
            <a:hlinkClick r:id="rId4" action="ppaction://hlinksldjump"/>
          </p:cNvPr>
          <p:cNvSpPr/>
          <p:nvPr/>
        </p:nvSpPr>
        <p:spPr>
          <a:xfrm>
            <a:off x="2555640" y="1052640"/>
            <a:ext cx="399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2914920" y="685800"/>
            <a:ext cx="422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4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AR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935840" y="15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831320" y="1844640"/>
            <a:ext cx="524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6600"/>
                </a:solidFill>
                <a:latin typeface="Times New Roman"/>
              </a:rPr>
              <a:t>A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ress </a:t>
            </a:r>
            <a:r>
              <a:rPr b="0" lang="de-DE" sz="4800" spc="-1" strike="noStrike">
                <a:solidFill>
                  <a:srgbClr val="ff6600"/>
                </a:solidFill>
                <a:latin typeface="Times New Roman"/>
              </a:rPr>
              <a:t>R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solution </a:t>
            </a:r>
            <a:r>
              <a:rPr b="0" lang="de-DE" sz="4800" spc="-1" strike="noStrike">
                <a:solidFill>
                  <a:srgbClr val="ff6600"/>
                </a:solidFill>
                <a:latin typeface="Times New Roman"/>
              </a:rPr>
              <a:t>P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tok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-521640" y="3429000"/>
            <a:ext cx="1038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رجم عناوين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ى العناوين الفيزيائية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Adres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ويخزنها لح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اجة 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لها فيطلبها فيقوم هذا البروتوكول بإعادتها ل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الحالة التي يكون  هذا العنوان غير مخزن لدية كأن يكون هذا العنوان لحاسب غ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جود في هذه الشبكة فان هذا البروتوكول يقوم بإرسال العنوان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ى الموجه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جاورة فيبحث بدوره عن الـ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Adres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للعنوان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مرس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عيده الى 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P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تي يسلمها الى 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ذي يوجه عنده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gram‘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للحاسب المرس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2428200" y="265752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عمل هذا البروتوكول بتناغم مع 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يث انه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5092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731400" y="836640"/>
            <a:ext cx="35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R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190160" y="1989000"/>
            <a:ext cx="679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6600"/>
                </a:solidFill>
                <a:latin typeface="Times New Roman"/>
              </a:rPr>
              <a:t>R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everse </a:t>
            </a:r>
            <a:r>
              <a:rPr b="0" lang="de-DE" sz="3600" spc="-1" strike="noStrike">
                <a:solidFill>
                  <a:srgbClr val="ff6600"/>
                </a:solidFill>
                <a:latin typeface="Times New Roman"/>
              </a:rPr>
              <a:t>A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dress </a:t>
            </a:r>
            <a:r>
              <a:rPr b="0" lang="de-DE" sz="3600" spc="-1" strike="noStrike">
                <a:solidFill>
                  <a:srgbClr val="ff6600"/>
                </a:solidFill>
                <a:latin typeface="Times New Roman"/>
              </a:rPr>
              <a:t>R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esolution </a:t>
            </a:r>
            <a:r>
              <a:rPr b="0" lang="de-DE" sz="3600" spc="-1" strike="noStrike">
                <a:solidFill>
                  <a:srgbClr val="ff6600"/>
                </a:solidFill>
                <a:latin typeface="Times New Roman"/>
              </a:rPr>
              <a:t>P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-846360" y="3789360"/>
            <a:ext cx="11010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هذا البروتوكول مهمة تعاكس البروتوكول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P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هو يترجم العناو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فيزيائية (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Adress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الى عنوان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8900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>
            <a:hlinkClick r:id="rId4" action="ppaction://hlinksldjump"/>
          </p:cNvPr>
          <p:cNvSpPr/>
          <p:nvPr/>
        </p:nvSpPr>
        <p:spPr>
          <a:xfrm>
            <a:off x="2775240" y="836640"/>
            <a:ext cx="379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>
            <a:hlinkClick r:id="rId5" action="ppaction://hlinksldjump"/>
          </p:cNvPr>
          <p:cNvSpPr/>
          <p:nvPr/>
        </p:nvSpPr>
        <p:spPr>
          <a:xfrm>
            <a:off x="900720" y="1628640"/>
            <a:ext cx="71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6600"/>
                </a:solidFill>
                <a:latin typeface="Times New Roman"/>
              </a:rPr>
              <a:t>I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nternet </a:t>
            </a:r>
            <a:r>
              <a:rPr b="0" lang="de-DE" sz="4000" spc="-1" strike="noStrike">
                <a:solidFill>
                  <a:srgbClr val="ff6600"/>
                </a:solidFill>
                <a:latin typeface="Times New Roman"/>
              </a:rPr>
              <a:t>C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ontrol </a:t>
            </a:r>
            <a:r>
              <a:rPr b="0" lang="de-DE" sz="4000" spc="-1" strike="noStrike">
                <a:solidFill>
                  <a:srgbClr val="ff6600"/>
                </a:solidFill>
                <a:latin typeface="Times New Roman"/>
              </a:rPr>
              <a:t>M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assege </a:t>
            </a:r>
            <a:r>
              <a:rPr b="0" lang="de-DE" sz="4000" spc="-1" strike="noStrike">
                <a:solidFill>
                  <a:srgbClr val="ff6600"/>
                </a:solidFill>
                <a:latin typeface="Times New Roman"/>
              </a:rPr>
              <a:t>P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rotoc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-695160" y="2565360"/>
            <a:ext cx="1054404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اقب ويشرف على طبقة الانترنت و يخبر الجهة المعنية برسائ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Request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Replay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 أي خطأ يحصل في هذه الطبقة وذلك باستخدا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P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et </a:t>
            </a:r>
            <a:r>
              <a:rPr b="0" lang="de-DE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I</a:t>
            </a:r>
            <a:r>
              <a:rPr b="0" lang="de-DE" sz="3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n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net </a:t>
            </a:r>
            <a:r>
              <a:rPr b="0" lang="de-DE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G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per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هو مايعرف بـ الـ </a:t>
            </a:r>
            <a:r>
              <a:rPr b="0" lang="de-DE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ذي يستخدم للتأكد من وجود العنوان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ress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-1211760" y="1892160"/>
            <a:ext cx="115329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ختبر قدرة الوصول الى الحاسب الهدف ويبلغ المرسل بذلك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اقب التغيرات في المسارات ويخبر الجهات المعنية عن هذه التغيرات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شرف على حالات الازدحام فيتلقى الرسائل من الجهة المستقبلة مطالبة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بإبطاء عملية الارسال فيمررها الى البروتوكول </a:t>
            </a:r>
            <a:r>
              <a:rPr b="0" lang="de-DE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>
            <a:hlinkClick r:id="rId4" action="ppaction://hlinksldjump"/>
          </p:cNvPr>
          <p:cNvSpPr/>
          <p:nvPr/>
        </p:nvSpPr>
        <p:spPr>
          <a:xfrm>
            <a:off x="2415240" y="836640"/>
            <a:ext cx="382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>
            <a:hlinkClick r:id="rId5" action="ppaction://hlinksldjump"/>
          </p:cNvPr>
          <p:cNvSpPr/>
          <p:nvPr/>
        </p:nvSpPr>
        <p:spPr>
          <a:xfrm>
            <a:off x="461520" y="2060640"/>
            <a:ext cx="834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I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ernet </a:t>
            </a:r>
            <a:r>
              <a:rPr b="0" lang="de-DE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G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p </a:t>
            </a:r>
            <a:r>
              <a:rPr b="0" lang="de-DE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M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gment </a:t>
            </a:r>
            <a:r>
              <a:rPr b="0" lang="de-DE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P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-1316880" y="3013200"/>
            <a:ext cx="1168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شكل مجموعات من الحواسيب في الشبكة ويعطيها عناوين من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ويمك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ضافة وإزالة الحواسيب من المجموعة المشكل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0"/>
          <p:cNvSpPr/>
          <p:nvPr/>
        </p:nvSpPr>
        <p:spPr>
          <a:xfrm>
            <a:off x="-945360" y="4508640"/>
            <a:ext cx="108838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عمل في هذه الطبقة البروتوكول </a:t>
            </a:r>
            <a:r>
              <a:rPr b="0" lang="de-DE" sz="3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TCP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البروتوكول </a:t>
            </a:r>
            <a:r>
              <a:rPr b="0" lang="de-DE" sz="3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UDP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1186200" y="5877000"/>
            <a:ext cx="689400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cc00"/>
                </a:solidFill>
                <a:latin typeface="Times New Roman"/>
              </a:rPr>
              <a:t>UDP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600" spc="-1" strike="noStrike">
                <a:solidFill>
                  <a:srgbClr val="00cc00"/>
                </a:solidFill>
                <a:latin typeface="Times New Roman"/>
              </a:rPr>
              <a:t>U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e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600" spc="-1" strike="noStrike">
                <a:solidFill>
                  <a:srgbClr val="00cc00"/>
                </a:solidFill>
                <a:latin typeface="Times New Roman"/>
              </a:rPr>
              <a:t>D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tagram‘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600" spc="-1" strike="noStrike">
                <a:solidFill>
                  <a:srgbClr val="00cc00"/>
                </a:solidFill>
                <a:latin typeface="Times New Roman"/>
              </a:rPr>
              <a:t>P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2075040" y="620640"/>
            <a:ext cx="4792320" cy="581400"/>
          </a:xfrm>
          <a:prstGeom prst="rect">
            <a:avLst/>
          </a:prstGeom>
          <a:gradFill rotWithShape="0">
            <a:gsLst>
              <a:gs pos="0">
                <a:srgbClr val="ffcc66">
                  <a:alpha val="83137"/>
                </a:srgbClr>
              </a:gs>
              <a:gs pos="100000">
                <a:srgbClr val="ffff99">
                  <a:alpha val="83137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cc99"/>
                </a:solidFill>
                <a:latin typeface="Times New Roman"/>
                <a:cs typeface="Arial"/>
              </a:rPr>
              <a:t>طبقات البروتوكول </a:t>
            </a:r>
            <a:r>
              <a:rPr b="0" lang="de-DE" sz="3200" spc="-1" strike="noStrike">
                <a:solidFill>
                  <a:srgbClr val="00cc99"/>
                </a:solidFill>
                <a:latin typeface="Times New Roman"/>
                <a:ea typeface="Arial"/>
              </a:rPr>
              <a:t>TCP /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14"/>
          <p:cNvGrpSpPr/>
          <p:nvPr/>
        </p:nvGrpSpPr>
        <p:grpSpPr>
          <a:xfrm>
            <a:off x="1187280" y="2708280"/>
            <a:ext cx="6854760" cy="954720"/>
            <a:chOff x="1187280" y="2708280"/>
            <a:chExt cx="6854760" cy="954720"/>
          </a:xfrm>
        </p:grpSpPr>
        <p:pic>
          <p:nvPicPr>
            <p:cNvPr id="167" name="Picture 9" descr="osi-model-7-layers"/>
            <p:cNvPicPr/>
            <p:nvPr/>
          </p:nvPicPr>
          <p:blipFill>
            <a:blip r:embed="rId5"/>
            <a:srcRect l="39321" t="50186" r="10188" b="38548"/>
            <a:stretch/>
          </p:blipFill>
          <p:spPr>
            <a:xfrm>
              <a:off x="1187280" y="3001680"/>
              <a:ext cx="1941840" cy="495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Text Box 13"/>
            <p:cNvGrpSpPr/>
            <p:nvPr/>
          </p:nvGrpSpPr>
          <p:grpSpPr>
            <a:xfrm>
              <a:off x="3844440" y="2708280"/>
              <a:ext cx="4197600" cy="954720"/>
              <a:chOff x="3844440" y="2708280"/>
              <a:chExt cx="4197600" cy="954720"/>
            </a:xfrm>
          </p:grpSpPr>
          <p:pic>
            <p:nvPicPr>
              <p:cNvPr id="169" name="Text Box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3844440" y="2708280"/>
                <a:ext cx="419760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3849120" y="2715840"/>
                <a:ext cx="4188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669900"/>
                    </a:solidFill>
                    <a:latin typeface="Arial"/>
                    <a:ea typeface="Arial"/>
                  </a:rPr>
                  <a:t>Transport Laye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800" spc="-1" strike="noStrike">
                    <a:solidFill>
                      <a:srgbClr val="669900"/>
                    </a:solidFill>
                    <a:latin typeface="Arial"/>
                    <a:cs typeface="Arial"/>
                  </a:rPr>
                  <a:t>طبقة النقل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Rectangle 16">
            <a:hlinkClick r:id="rId7" action="ppaction://hlinksldjump"/>
          </p:cNvPr>
          <p:cNvSpPr/>
          <p:nvPr/>
        </p:nvSpPr>
        <p:spPr>
          <a:xfrm>
            <a:off x="3357720" y="4500720"/>
            <a:ext cx="934920" cy="6490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7">
            <a:hlinkClick r:id="rId8" action="ppaction://hlinksldjump"/>
          </p:cNvPr>
          <p:cNvSpPr/>
          <p:nvPr/>
        </p:nvSpPr>
        <p:spPr>
          <a:xfrm>
            <a:off x="214200" y="4500720"/>
            <a:ext cx="1008000" cy="576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293760" y="1052640"/>
            <a:ext cx="8288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همة هذه الطبقة استقبال البيانات من طبقة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tio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جهيز البيانات للإرس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ري الاتصال ويتم إرسال البيانات وهنا نميز بين نوعين من الاتص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الاتصال الموثوق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ented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نتظر المرسل وصول رسالة تأكيد وصول  البيانات, وبالتال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تبطئ  عملية التراس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الاتصال الغير موثوق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ترسل البيانات دون انتظار التأكيد على وصول البيان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6300720" y="443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1695600" y="1844640"/>
            <a:ext cx="58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8000"/>
                </a:solidFill>
                <a:latin typeface="Times New Roman"/>
              </a:rPr>
              <a:t>Transmission Control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2196720" y="765000"/>
            <a:ext cx="464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5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TC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-791640" y="3068640"/>
            <a:ext cx="107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سلم هذا البروتوكول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بيانات من الطبقة الاعلى فيقوم بتجزئتها الى عدد من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ضيف عليها رقم تسلسلي لك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acket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هذا يساعد 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اس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ستقبل على تجميع الـ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صول على البيانات الاصلي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0"/>
          <p:cNvSpPr/>
          <p:nvPr/>
        </p:nvSpPr>
        <p:spPr>
          <a:xfrm>
            <a:off x="4620240" y="260280"/>
            <a:ext cx="38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قنيات الشبكات المحلية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1"/>
          <p:cNvSpPr/>
          <p:nvPr/>
        </p:nvSpPr>
        <p:spPr>
          <a:xfrm>
            <a:off x="3777480" y="836640"/>
            <a:ext cx="32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thernet - Token Ring - ARC 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2"/>
          <p:cNvSpPr/>
          <p:nvPr/>
        </p:nvSpPr>
        <p:spPr>
          <a:xfrm>
            <a:off x="2550960" y="1341360"/>
            <a:ext cx="61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العناصر الرئيسية المستخدمة في توسيع الشبك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3"/>
          <p:cNvSpPr/>
          <p:nvPr/>
        </p:nvSpPr>
        <p:spPr>
          <a:xfrm>
            <a:off x="174600" y="1844640"/>
            <a:ext cx="68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ers – Bridges – Brouters – Routers – Gateways – Switches - Hu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34"/>
          <p:cNvSpPr/>
          <p:nvPr/>
        </p:nvSpPr>
        <p:spPr>
          <a:xfrm>
            <a:off x="8101080" y="549360"/>
            <a:ext cx="0" cy="597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5"/>
          <p:cNvSpPr/>
          <p:nvPr/>
        </p:nvSpPr>
        <p:spPr>
          <a:xfrm>
            <a:off x="-201240" y="2421000"/>
            <a:ext cx="93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قنيات الاتصال المستخدمة في تراسل البيانات في الشبكات الواسعة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7"/>
          <p:cNvSpPr/>
          <p:nvPr/>
        </p:nvSpPr>
        <p:spPr>
          <a:xfrm>
            <a:off x="317160" y="2852640"/>
            <a:ext cx="65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ircuit Switching – Dedicated Circuit Switching – Packket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8">
            <a:hlinkClick r:id="rId2" action="ppaction://hlinksldjump"/>
          </p:cNvPr>
          <p:cNvSpPr/>
          <p:nvPr/>
        </p:nvSpPr>
        <p:spPr>
          <a:xfrm>
            <a:off x="2329920" y="3213000"/>
            <a:ext cx="61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البروتوكول (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TCP/IP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) طبقاته والبروتوكولات تحت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9"/>
          <p:cNvSpPr/>
          <p:nvPr/>
        </p:nvSpPr>
        <p:spPr>
          <a:xfrm>
            <a:off x="1042920" y="3719520"/>
            <a:ext cx="68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P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و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P Adressing 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--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</a:rPr>
              <a:t>(IP V4 - IP V6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0"/>
          <p:cNvSpPr/>
          <p:nvPr/>
        </p:nvSpPr>
        <p:spPr>
          <a:xfrm>
            <a:off x="2320920" y="422424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هيئة البروتوكول (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TCP/IP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) وكيفية اختبار إعدادات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1"/>
          <p:cNvSpPr/>
          <p:nvPr/>
        </p:nvSpPr>
        <p:spPr>
          <a:xfrm>
            <a:off x="-345600" y="4727520"/>
            <a:ext cx="93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قنيات الاتصال المستخدمة في تراسل البيانات في الشبكات الواسعة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2"/>
          <p:cNvSpPr/>
          <p:nvPr/>
        </p:nvSpPr>
        <p:spPr>
          <a:xfrm>
            <a:off x="3434040" y="5229360"/>
            <a:ext cx="51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خدمة ال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DHCP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بروتوكول العنونة الآ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3"/>
          <p:cNvSpPr/>
          <p:nvPr/>
        </p:nvSpPr>
        <p:spPr>
          <a:xfrm>
            <a:off x="837360" y="5661000"/>
            <a:ext cx="76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خدمة الدليل الفعال في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indows 2000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الـ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ctive Directory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-763560" y="1573200"/>
            <a:ext cx="1056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وم طبقة النق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 Layer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تخزين رقم في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للتميز  بين التطبيق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ختلفة وذلك باستخدام بوابات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رقم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يستخدم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يستخدم التطبيق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ne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يستخدم الـ التطبيق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T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يستخدم التطبيق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بوابة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ما يمكن لعدة تطبيقات استخدام الـبروتوكول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P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ي ان واح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118800" y="2133720"/>
            <a:ext cx="89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هذا البروتوكول حاسبين موجودين الانترنت الاتصال وتبادل البيانا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-230760" y="2852640"/>
            <a:ext cx="977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خدم  هذا البروتوكول الاتصال الموثو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يأخذ هذا البروتوكول على عاتقه معالجة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gram‘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ضائعة ويحافظ بذ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على وثوقية الاتصا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كرر ارسال جميع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تي لم يتم ارسال اشعار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باستلامه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2284560" y="907920"/>
            <a:ext cx="425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4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UD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-484200" y="2276640"/>
            <a:ext cx="99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خدم  الاتصال غير الموثوق فهو سريع وهو البروتوكول الاكثر استعمالا لارس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يانات التي لا تتطلب الوثوقية في الارس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74600" y="3357720"/>
            <a:ext cx="908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ضا كما هو في الـ 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انه في 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لكل تطبي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وابة مرقمة وهذه الارقام مخالفة لـ عن بوابات 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4863960" y="4457880"/>
            <a:ext cx="40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رق نقل البيانات في 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P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2627280" y="51577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icast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رسال لمستخدم واح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lticast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رسال لعدة مستخدمي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roadcast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رسال لكل المستخدمي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0"/>
          <p:cNvSpPr/>
          <p:nvPr/>
        </p:nvSpPr>
        <p:spPr>
          <a:xfrm>
            <a:off x="404280" y="2852640"/>
            <a:ext cx="85258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8000"/>
                </a:solidFill>
                <a:latin typeface="Times New Roman"/>
                <a:cs typeface="Times New Roman"/>
              </a:rPr>
              <a:t>يعمل في هذه الطبقة البروتوكول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MP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work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megment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toco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TP (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sfer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toco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ne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work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e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2075040" y="260280"/>
            <a:ext cx="4792320" cy="581400"/>
          </a:xfrm>
          <a:prstGeom prst="rect">
            <a:avLst/>
          </a:prstGeom>
          <a:gradFill rotWithShape="0">
            <a:gsLst>
              <a:gs pos="0">
                <a:srgbClr val="ffcc66">
                  <a:alpha val="83137"/>
                </a:srgbClr>
              </a:gs>
              <a:gs pos="100000">
                <a:srgbClr val="ffff99">
                  <a:alpha val="83137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cc99"/>
                </a:solidFill>
                <a:latin typeface="Times New Roman"/>
                <a:cs typeface="Arial"/>
              </a:rPr>
              <a:t>طبقات البروتوكول </a:t>
            </a:r>
            <a:r>
              <a:rPr b="0" lang="de-DE" sz="3200" spc="-1" strike="noStrike">
                <a:solidFill>
                  <a:srgbClr val="00cc99"/>
                </a:solidFill>
                <a:latin typeface="Times New Roman"/>
                <a:ea typeface="Arial"/>
              </a:rPr>
              <a:t>TCP /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13"/>
          <p:cNvGrpSpPr/>
          <p:nvPr/>
        </p:nvGrpSpPr>
        <p:grpSpPr>
          <a:xfrm>
            <a:off x="1042920" y="1052640"/>
            <a:ext cx="7151400" cy="1589040"/>
            <a:chOff x="1042920" y="1052640"/>
            <a:chExt cx="7151400" cy="1589040"/>
          </a:xfrm>
        </p:grpSpPr>
        <p:pic>
          <p:nvPicPr>
            <p:cNvPr id="207" name="Picture 9" descr="osi-model-7-layers"/>
            <p:cNvPicPr/>
            <p:nvPr/>
          </p:nvPicPr>
          <p:blipFill>
            <a:blip r:embed="rId10"/>
            <a:srcRect l="39480" t="14455" r="10188" b="49822"/>
            <a:stretch/>
          </p:blipFill>
          <p:spPr>
            <a:xfrm>
              <a:off x="1042920" y="1052640"/>
              <a:ext cx="1935360" cy="158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Text Box 12"/>
            <p:cNvGrpSpPr/>
            <p:nvPr/>
          </p:nvGrpSpPr>
          <p:grpSpPr>
            <a:xfrm>
              <a:off x="3917520" y="1334880"/>
              <a:ext cx="4276800" cy="956880"/>
              <a:chOff x="3917520" y="1334880"/>
              <a:chExt cx="4276800" cy="956880"/>
            </a:xfrm>
          </p:grpSpPr>
          <p:pic>
            <p:nvPicPr>
              <p:cNvPr id="209" name="Text Box 12" descr=""/>
              <p:cNvPicPr/>
              <p:nvPr/>
            </p:nvPicPr>
            <p:blipFill>
              <a:blip r:embed="rId11"/>
              <a:stretch/>
            </p:blipFill>
            <p:spPr>
              <a:xfrm>
                <a:off x="3917520" y="1334880"/>
                <a:ext cx="4276800" cy="95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3921840" y="1339560"/>
                <a:ext cx="4267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6600"/>
                    </a:solidFill>
                    <a:latin typeface="Arial"/>
                    <a:ea typeface="Arial"/>
                  </a:rPr>
                  <a:t>Aplication Laye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800" spc="-1" strike="noStrike">
                    <a:solidFill>
                      <a:srgbClr val="ff6600"/>
                    </a:solidFill>
                    <a:latin typeface="Arial"/>
                    <a:cs typeface="Arial"/>
                  </a:rPr>
                  <a:t>طبقة التطبيقات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1" name="Rectangle 14">
            <a:hlinkClick r:id="rId12" action="ppaction://hlinksldjump"/>
          </p:cNvPr>
          <p:cNvSpPr/>
          <p:nvPr/>
        </p:nvSpPr>
        <p:spPr>
          <a:xfrm>
            <a:off x="611280" y="3933720"/>
            <a:ext cx="813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6">
            <a:hlinkClick r:id="rId13" action="ppaction://hlinksldjump"/>
          </p:cNvPr>
          <p:cNvSpPr/>
          <p:nvPr/>
        </p:nvSpPr>
        <p:spPr>
          <a:xfrm>
            <a:off x="6443640" y="5157720"/>
            <a:ext cx="2232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7">
            <a:hlinkClick r:id="rId14" action="ppaction://hlinksldjump"/>
          </p:cNvPr>
          <p:cNvSpPr/>
          <p:nvPr/>
        </p:nvSpPr>
        <p:spPr>
          <a:xfrm>
            <a:off x="3419640" y="5661000"/>
            <a:ext cx="52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6804000" y="609300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9"/>
          <p:cNvSpPr/>
          <p:nvPr/>
        </p:nvSpPr>
        <p:spPr>
          <a:xfrm>
            <a:off x="3492360" y="6381720"/>
            <a:ext cx="525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0"/>
          <p:cNvSpPr/>
          <p:nvPr/>
        </p:nvSpPr>
        <p:spPr>
          <a:xfrm>
            <a:off x="611280" y="3500280"/>
            <a:ext cx="8064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6443640" y="4437000"/>
            <a:ext cx="22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3255840" y="481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479880" y="1268280"/>
            <a:ext cx="7668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M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work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megment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to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13440" y="2637000"/>
            <a:ext cx="855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وم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o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قيادة الشبكه والإشراف عليها وحل مشاكلها م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لال 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MP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984240" y="1125360"/>
            <a:ext cx="6424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TP (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sfe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toco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898560" y="2852640"/>
            <a:ext cx="74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خدم هذا البروتوكول لارسال واستقبال البريد الالكترون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4"/>
          <p:cNvSpPr/>
          <p:nvPr/>
        </p:nvSpPr>
        <p:spPr>
          <a:xfrm>
            <a:off x="2485800" y="1197000"/>
            <a:ext cx="38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16080"/>
            <a:ext cx="9144000" cy="6836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3"/>
          <p:cNvSpPr/>
          <p:nvPr/>
        </p:nvSpPr>
        <p:spPr>
          <a:xfrm>
            <a:off x="4286160" y="1413000"/>
            <a:ext cx="3519720" cy="581400"/>
          </a:xfrm>
          <a:prstGeom prst="rect">
            <a:avLst/>
          </a:prstGeom>
          <a:gradFill rotWithShape="0">
            <a:gsLst>
              <a:gs pos="0">
                <a:srgbClr val="99ff66">
                  <a:alpha val="52156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cc99"/>
                </a:solidFill>
                <a:latin typeface="Times New Roman"/>
                <a:cs typeface="Arial"/>
              </a:rPr>
              <a:t>البروتوكول </a:t>
            </a:r>
            <a:r>
              <a:rPr b="0" lang="de-DE" sz="3200" spc="-1" strike="noStrike">
                <a:solidFill>
                  <a:srgbClr val="00cc99"/>
                </a:solidFill>
                <a:latin typeface="Times New Roman"/>
                <a:ea typeface="Arial"/>
              </a:rPr>
              <a:t>TCP /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6">
            <a:hlinkClick r:id="rId4" action="ppaction://hlinksldjump"/>
          </p:cNvPr>
          <p:cNvSpPr/>
          <p:nvPr/>
        </p:nvSpPr>
        <p:spPr>
          <a:xfrm>
            <a:off x="1476360" y="3357720"/>
            <a:ext cx="5537160" cy="581400"/>
          </a:xfrm>
          <a:prstGeom prst="rect">
            <a:avLst/>
          </a:prstGeom>
          <a:gradFill rotWithShape="0">
            <a:gsLst>
              <a:gs pos="0">
                <a:srgbClr val="ffcc66">
                  <a:alpha val="83137"/>
                </a:srgbClr>
              </a:gs>
              <a:gs pos="100000">
                <a:srgbClr val="ffff99">
                  <a:alpha val="83137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cc99"/>
                </a:solidFill>
                <a:latin typeface="Times New Roman"/>
                <a:cs typeface="Arial"/>
              </a:rPr>
              <a:t>تعريف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7">
            <a:hlinkClick r:id="rId5" action="ppaction://hlinksldjump"/>
          </p:cNvPr>
          <p:cNvSpPr/>
          <p:nvPr/>
        </p:nvSpPr>
        <p:spPr>
          <a:xfrm>
            <a:off x="1476360" y="3933720"/>
            <a:ext cx="5559480" cy="581400"/>
          </a:xfrm>
          <a:prstGeom prst="rect">
            <a:avLst/>
          </a:prstGeom>
          <a:gradFill rotWithShape="0">
            <a:gsLst>
              <a:gs pos="0">
                <a:srgbClr val="ffcc66">
                  <a:alpha val="83137"/>
                </a:srgbClr>
              </a:gs>
              <a:gs pos="100000">
                <a:srgbClr val="ffff99">
                  <a:alpha val="83137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cc99"/>
                </a:solidFill>
                <a:latin typeface="Times New Roman"/>
                <a:cs typeface="Arial"/>
              </a:rPr>
              <a:t>طبقات البروتوكول </a:t>
            </a:r>
            <a:r>
              <a:rPr b="0" lang="de-DE" sz="3200" spc="-1" strike="noStrike">
                <a:solidFill>
                  <a:srgbClr val="00cc99"/>
                </a:solidFill>
                <a:latin typeface="Times New Roman"/>
                <a:ea typeface="Arial"/>
              </a:rPr>
              <a:t>TCP /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9">
            <a:hlinkClick r:id="rId6" action="ppaction://hlinksldjump"/>
          </p:cNvPr>
          <p:cNvSpPr/>
          <p:nvPr/>
        </p:nvSpPr>
        <p:spPr>
          <a:xfrm>
            <a:off x="947880" y="4508640"/>
            <a:ext cx="6651720" cy="581400"/>
          </a:xfrm>
          <a:prstGeom prst="rect">
            <a:avLst/>
          </a:prstGeom>
          <a:gradFill rotWithShape="0">
            <a:gsLst>
              <a:gs pos="0">
                <a:srgbClr val="ffcc66">
                  <a:alpha val="83137"/>
                </a:srgbClr>
              </a:gs>
              <a:gs pos="100000">
                <a:srgbClr val="ffff99">
                  <a:alpha val="83137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cc99"/>
                </a:solidFill>
                <a:latin typeface="Times New Roman"/>
                <a:cs typeface="Arial"/>
              </a:rPr>
              <a:t>العلاقة بين طبقات البروتوكول </a:t>
            </a:r>
            <a:r>
              <a:rPr b="0" lang="de-DE" sz="3200" spc="-1" strike="noStrike">
                <a:solidFill>
                  <a:srgbClr val="00cc99"/>
                </a:solidFill>
                <a:latin typeface="Times New Roman"/>
                <a:ea typeface="Arial"/>
              </a:rPr>
              <a:t>TCP /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4"/>
          <p:cNvSpPr/>
          <p:nvPr/>
        </p:nvSpPr>
        <p:spPr>
          <a:xfrm>
            <a:off x="2723760" y="836640"/>
            <a:ext cx="3465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4"/>
          <p:cNvSpPr/>
          <p:nvPr/>
        </p:nvSpPr>
        <p:spPr>
          <a:xfrm>
            <a:off x="2990520" y="725400"/>
            <a:ext cx="3431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144080" y="1916280"/>
            <a:ext cx="78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مح بنقل الملفات من حاسب لاخر مستخدما 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-261720" y="2708280"/>
            <a:ext cx="95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طيع هذا البروتوكول التحكم وإدارة مستخدمي عملية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خدم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كثر من مستخدم بان واح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347480" y="3716280"/>
            <a:ext cx="777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الربط بين حاسبين بواسطة 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على مرحلت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وصلة التحكم – تبقى طيلة فترة الاتص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وصلة البيانات – فقط خلال نقل البيان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828720" y="5033880"/>
            <a:ext cx="89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 يسطيع هذا البروتوكول معرفة ماهية المادة المنقولة فهو ينقل وحسب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4"/>
          <p:cNvSpPr/>
          <p:nvPr/>
        </p:nvSpPr>
        <p:spPr>
          <a:xfrm>
            <a:off x="2004840" y="62064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work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e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-667080" y="2492280"/>
            <a:ext cx="995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شاركات الملفات في الشبكة والتعامل المشترك بين جهازين بنظامين مختلف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خدم 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4"/>
          <p:cNvGrpSpPr/>
          <p:nvPr/>
        </p:nvGrpSpPr>
        <p:grpSpPr>
          <a:xfrm>
            <a:off x="539640" y="2276640"/>
            <a:ext cx="7775280" cy="2592000"/>
            <a:chOff x="539640" y="2276640"/>
            <a:chExt cx="7775280" cy="2592000"/>
          </a:xfrm>
        </p:grpSpPr>
        <p:pic>
          <p:nvPicPr>
            <p:cNvPr id="247" name="Picture 5" descr="image010"/>
            <p:cNvPicPr/>
            <p:nvPr/>
          </p:nvPicPr>
          <p:blipFill>
            <a:blip r:embed="rId3"/>
            <a:srcRect l="0" t="0" r="0" b="55146"/>
            <a:stretch/>
          </p:blipFill>
          <p:spPr>
            <a:xfrm>
              <a:off x="539640" y="2276640"/>
              <a:ext cx="7775280" cy="195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6" descr="image010"/>
            <p:cNvPicPr/>
            <p:nvPr/>
          </p:nvPicPr>
          <p:blipFill>
            <a:blip r:embed="rId4"/>
            <a:srcRect l="0" t="86764" r="0" b="0"/>
            <a:stretch/>
          </p:blipFill>
          <p:spPr>
            <a:xfrm>
              <a:off x="539640" y="4290840"/>
              <a:ext cx="777528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25100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5945040" y="765000"/>
            <a:ext cx="1206360" cy="3988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Use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51"/>
          <p:cNvGrpSpPr/>
          <p:nvPr/>
        </p:nvGrpSpPr>
        <p:grpSpPr>
          <a:xfrm>
            <a:off x="4430520" y="1413000"/>
            <a:ext cx="2719440" cy="398880"/>
            <a:chOff x="4430520" y="1413000"/>
            <a:chExt cx="2719440" cy="398880"/>
          </a:xfrm>
        </p:grpSpPr>
        <p:sp>
          <p:nvSpPr>
            <p:cNvPr id="253" name="Text Box 8"/>
            <p:cNvSpPr/>
            <p:nvPr/>
          </p:nvSpPr>
          <p:spPr>
            <a:xfrm>
              <a:off x="4430520" y="1413000"/>
              <a:ext cx="1499040" cy="398880"/>
            </a:xfrm>
            <a:prstGeom prst="rect">
              <a:avLst/>
            </a:prstGeom>
            <a:noFill/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Appl. hea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9"/>
            <p:cNvSpPr/>
            <p:nvPr/>
          </p:nvSpPr>
          <p:spPr>
            <a:xfrm>
              <a:off x="5943600" y="1413000"/>
              <a:ext cx="1206360" cy="39888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User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47"/>
          <p:cNvGrpSpPr/>
          <p:nvPr/>
        </p:nvGrpSpPr>
        <p:grpSpPr>
          <a:xfrm>
            <a:off x="3025800" y="2050920"/>
            <a:ext cx="4124160" cy="403560"/>
            <a:chOff x="3025800" y="2050920"/>
            <a:chExt cx="4124160" cy="403560"/>
          </a:xfrm>
        </p:grpSpPr>
        <p:sp>
          <p:nvSpPr>
            <p:cNvPr id="256" name="Text Box 13"/>
            <p:cNvSpPr/>
            <p:nvPr/>
          </p:nvSpPr>
          <p:spPr>
            <a:xfrm>
              <a:off x="4430520" y="2050920"/>
              <a:ext cx="1499040" cy="398880"/>
            </a:xfrm>
            <a:prstGeom prst="rect">
              <a:avLst/>
            </a:prstGeom>
            <a:noFill/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Appl. hea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14"/>
            <p:cNvSpPr/>
            <p:nvPr/>
          </p:nvSpPr>
          <p:spPr>
            <a:xfrm>
              <a:off x="5943600" y="2055600"/>
              <a:ext cx="1206360" cy="39888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User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Text Box 15"/>
            <p:cNvSpPr/>
            <p:nvPr/>
          </p:nvSpPr>
          <p:spPr>
            <a:xfrm>
              <a:off x="3025800" y="2050920"/>
              <a:ext cx="1390680" cy="3988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TCP hea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48"/>
          <p:cNvGrpSpPr/>
          <p:nvPr/>
        </p:nvGrpSpPr>
        <p:grpSpPr>
          <a:xfrm>
            <a:off x="1867320" y="2924280"/>
            <a:ext cx="5285520" cy="398880"/>
            <a:chOff x="1867320" y="2924280"/>
            <a:chExt cx="5285520" cy="398880"/>
          </a:xfrm>
        </p:grpSpPr>
        <p:sp>
          <p:nvSpPr>
            <p:cNvPr id="260" name="Text Box 17"/>
            <p:cNvSpPr/>
            <p:nvPr/>
          </p:nvSpPr>
          <p:spPr>
            <a:xfrm>
              <a:off x="4431960" y="2924280"/>
              <a:ext cx="1499040" cy="398880"/>
            </a:xfrm>
            <a:prstGeom prst="rect">
              <a:avLst/>
            </a:prstGeom>
            <a:noFill/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Appl. hea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18"/>
            <p:cNvSpPr/>
            <p:nvPr/>
          </p:nvSpPr>
          <p:spPr>
            <a:xfrm>
              <a:off x="5946480" y="2924280"/>
              <a:ext cx="1206360" cy="39888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User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19"/>
            <p:cNvSpPr/>
            <p:nvPr/>
          </p:nvSpPr>
          <p:spPr>
            <a:xfrm>
              <a:off x="3030480" y="2924280"/>
              <a:ext cx="1390680" cy="3988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TCP hea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20"/>
            <p:cNvSpPr/>
            <p:nvPr/>
          </p:nvSpPr>
          <p:spPr>
            <a:xfrm>
              <a:off x="1867320" y="2924280"/>
              <a:ext cx="1151640" cy="398880"/>
            </a:xfrm>
            <a:prstGeom prst="rect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IP hea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4" name="Picture 31" descr=""/>
          <p:cNvPicPr/>
          <p:nvPr/>
        </p:nvPicPr>
        <p:blipFill>
          <a:blip r:embed="rId3"/>
          <a:stretch/>
        </p:blipFill>
        <p:spPr>
          <a:xfrm>
            <a:off x="971640" y="333360"/>
            <a:ext cx="2124000" cy="112572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35"/>
          <p:cNvGrpSpPr/>
          <p:nvPr/>
        </p:nvGrpSpPr>
        <p:grpSpPr>
          <a:xfrm>
            <a:off x="2987640" y="2492280"/>
            <a:ext cx="3814920" cy="276480"/>
            <a:chOff x="2987640" y="2492280"/>
            <a:chExt cx="3814920" cy="276480"/>
          </a:xfrm>
        </p:grpSpPr>
        <p:sp>
          <p:nvSpPr>
            <p:cNvPr id="266" name="Text Box 32"/>
            <p:cNvSpPr/>
            <p:nvPr/>
          </p:nvSpPr>
          <p:spPr>
            <a:xfrm>
              <a:off x="4429440" y="2492280"/>
              <a:ext cx="103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TCP Seg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33"/>
            <p:cNvSpPr/>
            <p:nvPr/>
          </p:nvSpPr>
          <p:spPr>
            <a:xfrm flipH="1">
              <a:off x="2987640" y="2563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34"/>
            <p:cNvSpPr/>
            <p:nvPr/>
          </p:nvSpPr>
          <p:spPr>
            <a:xfrm>
              <a:off x="5867280" y="263664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Group 42"/>
          <p:cNvGrpSpPr/>
          <p:nvPr/>
        </p:nvGrpSpPr>
        <p:grpSpPr>
          <a:xfrm>
            <a:off x="2124000" y="3357720"/>
            <a:ext cx="3814920" cy="276480"/>
            <a:chOff x="2124000" y="3357720"/>
            <a:chExt cx="3814920" cy="276480"/>
          </a:xfrm>
        </p:grpSpPr>
        <p:sp>
          <p:nvSpPr>
            <p:cNvPr id="270" name="Text Box 38"/>
            <p:cNvSpPr/>
            <p:nvPr/>
          </p:nvSpPr>
          <p:spPr>
            <a:xfrm>
              <a:off x="3567600" y="3357720"/>
              <a:ext cx="95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IP Data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39"/>
            <p:cNvSpPr/>
            <p:nvPr/>
          </p:nvSpPr>
          <p:spPr>
            <a:xfrm flipH="1">
              <a:off x="2124000" y="3429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40"/>
            <p:cNvSpPr/>
            <p:nvPr/>
          </p:nvSpPr>
          <p:spPr>
            <a:xfrm>
              <a:off x="5003640" y="350028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50"/>
          <p:cNvGrpSpPr/>
          <p:nvPr/>
        </p:nvGrpSpPr>
        <p:grpSpPr>
          <a:xfrm>
            <a:off x="2520" y="3789360"/>
            <a:ext cx="7161840" cy="1035360"/>
            <a:chOff x="2520" y="3789360"/>
            <a:chExt cx="7161840" cy="1035360"/>
          </a:xfrm>
        </p:grpSpPr>
        <p:grpSp>
          <p:nvGrpSpPr>
            <p:cNvPr id="274" name="Group 49"/>
            <p:cNvGrpSpPr/>
            <p:nvPr/>
          </p:nvGrpSpPr>
          <p:grpSpPr>
            <a:xfrm>
              <a:off x="2520" y="3789360"/>
              <a:ext cx="7161840" cy="713160"/>
              <a:chOff x="2520" y="3789360"/>
              <a:chExt cx="7161840" cy="713160"/>
            </a:xfrm>
          </p:grpSpPr>
          <p:sp>
            <p:nvSpPr>
              <p:cNvPr id="275" name="Text Box 21"/>
              <p:cNvSpPr/>
              <p:nvPr/>
            </p:nvSpPr>
            <p:spPr>
              <a:xfrm>
                <a:off x="4376880" y="3798720"/>
                <a:ext cx="1562040" cy="703800"/>
              </a:xfrm>
              <a:prstGeom prst="rect">
                <a:avLst/>
              </a:prstGeom>
              <a:noFill/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Appl. Head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Text Box 22"/>
              <p:cNvSpPr/>
              <p:nvPr/>
            </p:nvSpPr>
            <p:spPr>
              <a:xfrm>
                <a:off x="5948280" y="3798720"/>
                <a:ext cx="1216080" cy="551160"/>
              </a:xfrm>
              <a:prstGeom prst="rect">
                <a:avLst/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User Da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Text Box 23"/>
              <p:cNvSpPr/>
              <p:nvPr/>
            </p:nvSpPr>
            <p:spPr>
              <a:xfrm>
                <a:off x="2978280" y="3792240"/>
                <a:ext cx="1390680" cy="55116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TCP head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Text Box 24"/>
              <p:cNvSpPr/>
              <p:nvPr/>
            </p:nvSpPr>
            <p:spPr>
              <a:xfrm>
                <a:off x="1807200" y="3789360"/>
                <a:ext cx="1151640" cy="55116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IP head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Text Box 25"/>
              <p:cNvSpPr/>
              <p:nvPr/>
            </p:nvSpPr>
            <p:spPr>
              <a:xfrm>
                <a:off x="2520" y="3789360"/>
                <a:ext cx="1787040" cy="5511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Ethernet head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Group 43"/>
            <p:cNvGrpSpPr/>
            <p:nvPr/>
          </p:nvGrpSpPr>
          <p:grpSpPr>
            <a:xfrm>
              <a:off x="1368000" y="4365720"/>
              <a:ext cx="3814560" cy="459000"/>
              <a:chOff x="1368000" y="4365720"/>
              <a:chExt cx="3814560" cy="459000"/>
            </a:xfrm>
          </p:grpSpPr>
          <p:sp>
            <p:nvSpPr>
              <p:cNvPr id="281" name="Text Box 44"/>
              <p:cNvSpPr/>
              <p:nvPr/>
            </p:nvSpPr>
            <p:spPr>
              <a:xfrm>
                <a:off x="2810160" y="4365720"/>
                <a:ext cx="1133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Ethernet Fr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6 to 1500 by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45"/>
              <p:cNvSpPr/>
              <p:nvPr/>
            </p:nvSpPr>
            <p:spPr>
              <a:xfrm flipH="1">
                <a:off x="1368000" y="4437000"/>
                <a:ext cx="100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46"/>
              <p:cNvSpPr/>
              <p:nvPr/>
            </p:nvSpPr>
            <p:spPr>
              <a:xfrm>
                <a:off x="4247640" y="4508280"/>
                <a:ext cx="93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6"/>
          <p:cNvSpPr/>
          <p:nvPr/>
        </p:nvSpPr>
        <p:spPr>
          <a:xfrm>
            <a:off x="-875160" y="3681360"/>
            <a:ext cx="10664280" cy="2043720"/>
          </a:xfrm>
          <a:prstGeom prst="rect">
            <a:avLst/>
          </a:prstGeom>
          <a:gradFill rotWithShape="0">
            <a:gsLst>
              <a:gs pos="0">
                <a:srgbClr val="ffff99">
                  <a:alpha val="54117"/>
                </a:srgbClr>
              </a:gs>
              <a:gs pos="100000">
                <a:srgbClr val="c2c2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cc"/>
                </a:solidFill>
                <a:latin typeface="Arial"/>
                <a:cs typeface="Arial"/>
              </a:rPr>
              <a:t>هو عدد من البرتوكولات المجتمة معا لاداء مهمة واحده وقد اعتب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cc"/>
                </a:solidFill>
                <a:latin typeface="Arial"/>
                <a:ea typeface="Arial"/>
              </a:rPr>
              <a:t> البروتوكول </a:t>
            </a:r>
            <a:r>
              <a:rPr b="0" lang="de-DE" sz="3200" spc="-1" strike="noStrike">
                <a:solidFill>
                  <a:srgbClr val="ff3300"/>
                </a:solidFill>
                <a:latin typeface="Arial"/>
                <a:ea typeface="Arial"/>
              </a:rPr>
              <a:t>TCP</a:t>
            </a:r>
            <a:r>
              <a:rPr b="0" lang="de-DE" sz="32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lang="ar-SA" sz="3200" spc="-1" strike="noStrike">
                <a:solidFill>
                  <a:srgbClr val="3333cc"/>
                </a:solidFill>
                <a:latin typeface="Arial"/>
                <a:ea typeface="Arial"/>
              </a:rPr>
              <a:t> و البروتوكول </a:t>
            </a:r>
            <a:r>
              <a:rPr b="0" lang="de-DE" sz="3200" spc="-1" strike="noStrike">
                <a:solidFill>
                  <a:srgbClr val="ff3300"/>
                </a:solidFill>
                <a:latin typeface="Arial"/>
                <a:ea typeface="Arial"/>
              </a:rPr>
              <a:t>IP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3333cc"/>
                </a:solidFill>
                <a:latin typeface="Arial"/>
                <a:cs typeface="Arial"/>
              </a:rPr>
              <a:t>ممثلين لهذه البروتوكولات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694800" y="2438280"/>
            <a:ext cx="7320960" cy="703440"/>
          </a:xfrm>
          <a:prstGeom prst="rect">
            <a:avLst/>
          </a:prstGeom>
          <a:blipFill rotWithShape="0">
            <a:blip r:embed="rId4">
              <a:alphaModFix amt="6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8000"/>
                </a:solidFill>
                <a:latin typeface="Arial"/>
                <a:ea typeface="Arial"/>
              </a:rPr>
              <a:t>T</a:t>
            </a:r>
            <a:r>
              <a:rPr b="0" lang="de-DE" sz="2400" spc="-1" strike="noStrike">
                <a:solidFill>
                  <a:srgbClr val="008000"/>
                </a:solidFill>
                <a:latin typeface="Arial"/>
                <a:ea typeface="Arial"/>
              </a:rPr>
              <a:t>ransmission </a:t>
            </a:r>
            <a:r>
              <a:rPr b="0" lang="de-DE" sz="4000" spc="-1" strike="noStrike">
                <a:solidFill>
                  <a:srgbClr val="008000"/>
                </a:solidFill>
                <a:latin typeface="Arial"/>
                <a:ea typeface="Arial"/>
              </a:rPr>
              <a:t>C</a:t>
            </a:r>
            <a:r>
              <a:rPr b="0" lang="de-DE" sz="2400" spc="-1" strike="noStrike">
                <a:solidFill>
                  <a:srgbClr val="008000"/>
                </a:solidFill>
                <a:latin typeface="Arial"/>
                <a:ea typeface="Arial"/>
              </a:rPr>
              <a:t>ontrol </a:t>
            </a:r>
            <a:r>
              <a:rPr b="0" lang="de-DE" sz="4000" spc="-1" strike="noStrike">
                <a:solidFill>
                  <a:srgbClr val="008000"/>
                </a:solidFill>
                <a:latin typeface="Arial"/>
                <a:ea typeface="Arial"/>
              </a:rPr>
              <a:t>P</a:t>
            </a:r>
            <a:r>
              <a:rPr b="0" lang="de-DE" sz="2400" spc="-1" strike="noStrike">
                <a:solidFill>
                  <a:srgbClr val="008000"/>
                </a:solidFill>
                <a:latin typeface="Arial"/>
                <a:ea typeface="Arial"/>
              </a:rPr>
              <a:t>rotocol / </a:t>
            </a:r>
            <a:r>
              <a:rPr b="0" lang="de-DE" sz="4000" spc="-1" strike="noStrike">
                <a:solidFill>
                  <a:srgbClr val="008000"/>
                </a:solidFill>
                <a:latin typeface="Arial"/>
                <a:ea typeface="Arial"/>
              </a:rPr>
              <a:t>I</a:t>
            </a:r>
            <a:r>
              <a:rPr b="0" lang="de-DE" sz="2400" spc="-1" strike="noStrike">
                <a:solidFill>
                  <a:srgbClr val="008000"/>
                </a:solidFill>
                <a:latin typeface="Arial"/>
                <a:ea typeface="Arial"/>
              </a:rPr>
              <a:t>nternet </a:t>
            </a:r>
            <a:r>
              <a:rPr b="0" lang="de-DE" sz="4000" spc="-1" strike="noStrike">
                <a:solidFill>
                  <a:srgbClr val="008000"/>
                </a:solidFill>
                <a:latin typeface="Arial"/>
                <a:ea typeface="Arial"/>
              </a:rPr>
              <a:t>P</a:t>
            </a:r>
            <a:r>
              <a:rPr b="0" lang="de-DE" sz="2400" spc="-1" strike="noStrike">
                <a:solidFill>
                  <a:srgbClr val="008000"/>
                </a:solidFill>
                <a:latin typeface="Arial"/>
                <a:ea typeface="Arial"/>
              </a:rPr>
              <a:t>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4257720" y="1413000"/>
            <a:ext cx="3519720" cy="581400"/>
          </a:xfrm>
          <a:prstGeom prst="rect">
            <a:avLst/>
          </a:prstGeom>
          <a:gradFill rotWithShape="0">
            <a:gsLst>
              <a:gs pos="0">
                <a:srgbClr val="99ff66">
                  <a:alpha val="52156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cc99"/>
                </a:solidFill>
                <a:latin typeface="Times New Roman"/>
                <a:cs typeface="Arial"/>
              </a:rPr>
              <a:t>البروتوكول </a:t>
            </a:r>
            <a:r>
              <a:rPr b="0" lang="de-DE" sz="3200" spc="-1" strike="noStrike">
                <a:solidFill>
                  <a:srgbClr val="00cc99"/>
                </a:solidFill>
                <a:latin typeface="Times New Roman"/>
                <a:ea typeface="Arial"/>
              </a:rPr>
              <a:t>TCP /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2075040" y="620640"/>
            <a:ext cx="4792320" cy="581400"/>
          </a:xfrm>
          <a:prstGeom prst="rect">
            <a:avLst/>
          </a:prstGeom>
          <a:gradFill rotWithShape="0">
            <a:gsLst>
              <a:gs pos="0">
                <a:srgbClr val="ffcc66">
                  <a:alpha val="83137"/>
                </a:srgbClr>
              </a:gs>
              <a:gs pos="100000">
                <a:srgbClr val="ffff99">
                  <a:alpha val="83137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cc99"/>
                </a:solidFill>
                <a:latin typeface="Times New Roman"/>
                <a:cs typeface="Arial"/>
              </a:rPr>
              <a:t>طبقات البروتوكول </a:t>
            </a:r>
            <a:r>
              <a:rPr b="0" lang="de-DE" sz="3200" spc="-1" strike="noStrike">
                <a:solidFill>
                  <a:srgbClr val="00cc99"/>
                </a:solidFill>
                <a:latin typeface="Times New Roman"/>
                <a:ea typeface="Arial"/>
              </a:rPr>
              <a:t>TCP /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Text Box 5"/>
          <p:cNvGrpSpPr/>
          <p:nvPr/>
        </p:nvGrpSpPr>
        <p:grpSpPr>
          <a:xfrm>
            <a:off x="1701000" y="5010120"/>
            <a:ext cx="5949000" cy="1141560"/>
            <a:chOff x="1701000" y="5010120"/>
            <a:chExt cx="5949000" cy="1141560"/>
          </a:xfrm>
        </p:grpSpPr>
        <p:pic>
          <p:nvPicPr>
            <p:cNvPr id="74" name="Text Box 5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2560680" y="5010120"/>
              <a:ext cx="4230720" cy="11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1701000" y="5014800"/>
              <a:ext cx="5949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99cc00"/>
                  </a:solidFill>
                  <a:latin typeface="Arial"/>
                  <a:ea typeface="Arial"/>
                </a:rPr>
                <a:t>Network Interfase Lay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99cc00"/>
                  </a:solidFill>
                  <a:latin typeface="Arial"/>
                  <a:cs typeface="Arial"/>
                </a:rPr>
                <a:t>طبقة الربط الى الشبكة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Text Box 6"/>
          <p:cNvGrpSpPr/>
          <p:nvPr/>
        </p:nvGrpSpPr>
        <p:grpSpPr>
          <a:xfrm>
            <a:off x="2567160" y="4078440"/>
            <a:ext cx="4205160" cy="963360"/>
            <a:chOff x="2567160" y="4078440"/>
            <a:chExt cx="4205160" cy="963360"/>
          </a:xfrm>
        </p:grpSpPr>
        <p:pic>
          <p:nvPicPr>
            <p:cNvPr id="77" name="Text Box 6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2567160" y="4078440"/>
              <a:ext cx="420516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571840" y="4086360"/>
              <a:ext cx="419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cc9900"/>
                  </a:solidFill>
                  <a:latin typeface="Arial"/>
                  <a:ea typeface="Arial"/>
                </a:rPr>
                <a:t>Internet Lay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cc9900"/>
                  </a:solidFill>
                  <a:latin typeface="Arial"/>
                  <a:cs typeface="Arial"/>
                </a:rPr>
                <a:t>طبقة الانترن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Text Box 7"/>
          <p:cNvGrpSpPr/>
          <p:nvPr/>
        </p:nvGrpSpPr>
        <p:grpSpPr>
          <a:xfrm>
            <a:off x="2567160" y="3151080"/>
            <a:ext cx="4198680" cy="957240"/>
            <a:chOff x="2567160" y="3151080"/>
            <a:chExt cx="4198680" cy="957240"/>
          </a:xfrm>
        </p:grpSpPr>
        <p:pic>
          <p:nvPicPr>
            <p:cNvPr id="80" name="Text Box 7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2567160" y="3151080"/>
              <a:ext cx="41986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2571840" y="3157560"/>
              <a:ext cx="4190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669900"/>
                  </a:solidFill>
                  <a:latin typeface="Arial"/>
                  <a:ea typeface="Arial"/>
                </a:rPr>
                <a:t>Transport Lay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669900"/>
                  </a:solidFill>
                  <a:latin typeface="Arial"/>
                  <a:cs typeface="Arial"/>
                </a:rPr>
                <a:t>طبقة النق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Text Box 8"/>
          <p:cNvGrpSpPr/>
          <p:nvPr/>
        </p:nvGrpSpPr>
        <p:grpSpPr>
          <a:xfrm>
            <a:off x="2511360" y="2225520"/>
            <a:ext cx="4280040" cy="955800"/>
            <a:chOff x="2511360" y="2225520"/>
            <a:chExt cx="4280040" cy="955800"/>
          </a:xfrm>
        </p:grpSpPr>
        <p:pic>
          <p:nvPicPr>
            <p:cNvPr id="83" name="Text Box 8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2511360" y="2225520"/>
              <a:ext cx="428004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516040" y="2228760"/>
              <a:ext cx="4270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6600"/>
                  </a:solidFill>
                  <a:latin typeface="Arial"/>
                  <a:ea typeface="Arial"/>
                </a:rPr>
                <a:t>Aplication Lay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ff6600"/>
                  </a:solidFill>
                  <a:latin typeface="Arial"/>
                  <a:cs typeface="Arial"/>
                </a:rPr>
                <a:t>طبقة التطبيقا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Text Box 9"/>
          <p:cNvGrpSpPr/>
          <p:nvPr/>
        </p:nvGrpSpPr>
        <p:grpSpPr>
          <a:xfrm>
            <a:off x="2494080" y="1725480"/>
            <a:ext cx="4278240" cy="530280"/>
            <a:chOff x="2494080" y="1725480"/>
            <a:chExt cx="4278240" cy="530280"/>
          </a:xfrm>
        </p:grpSpPr>
        <p:pic>
          <p:nvPicPr>
            <p:cNvPr id="86" name="Text Box 9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2494080" y="1725480"/>
              <a:ext cx="427824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500200" y="1728720"/>
              <a:ext cx="426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33cccc"/>
                  </a:solidFill>
                  <a:latin typeface="Arial"/>
                  <a:cs typeface="Arial"/>
                </a:rPr>
                <a:t>تذكره بطبقات الـ </a:t>
              </a:r>
              <a:r>
                <a:rPr b="1" lang="de-DE" sz="2800" spc="-1" strike="noStrike">
                  <a:solidFill>
                    <a:srgbClr val="33cccc"/>
                  </a:solidFill>
                  <a:latin typeface="Arial"/>
                  <a:ea typeface="Arial"/>
                </a:rPr>
                <a:t>OS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5232240" y="3284640"/>
            <a:ext cx="218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Times New Roman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ff"/>
                </a:solidFill>
                <a:latin typeface="Times New Roman"/>
                <a:cs typeface="Times New Roman"/>
              </a:rPr>
              <a:t>طبقة الانترن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9" descr="osi-model-7-layers"/>
          <p:cNvPicPr/>
          <p:nvPr/>
        </p:nvPicPr>
        <p:blipFill>
          <a:blip r:embed="rId4"/>
          <a:stretch/>
        </p:blipFill>
        <p:spPr>
          <a:xfrm>
            <a:off x="179280" y="1844640"/>
            <a:ext cx="3848040" cy="4448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5"/>
          <a:stretch/>
        </p:blipFill>
        <p:spPr>
          <a:xfrm>
            <a:off x="4319640" y="2924280"/>
            <a:ext cx="4824360" cy="25574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1"/>
          <p:cNvSpPr/>
          <p:nvPr/>
        </p:nvSpPr>
        <p:spPr>
          <a:xfrm>
            <a:off x="2075040" y="620640"/>
            <a:ext cx="4792320" cy="581400"/>
          </a:xfrm>
          <a:prstGeom prst="rect">
            <a:avLst/>
          </a:prstGeom>
          <a:gradFill rotWithShape="0">
            <a:gsLst>
              <a:gs pos="0">
                <a:srgbClr val="ffcc66">
                  <a:alpha val="83137"/>
                </a:srgbClr>
              </a:gs>
              <a:gs pos="100000">
                <a:srgbClr val="ffff99">
                  <a:alpha val="83137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cc99"/>
                </a:solidFill>
                <a:latin typeface="Times New Roman"/>
                <a:cs typeface="Arial"/>
              </a:rPr>
              <a:t>طبقات البروتوكول </a:t>
            </a:r>
            <a:r>
              <a:rPr b="0" lang="de-DE" sz="3200" spc="-1" strike="noStrike">
                <a:solidFill>
                  <a:srgbClr val="00cc99"/>
                </a:solidFill>
                <a:latin typeface="Times New Roman"/>
                <a:ea typeface="Arial"/>
              </a:rPr>
              <a:t>TCP /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-858240" y="4797360"/>
            <a:ext cx="10911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هي الطبقة التي تقابل الطبقة الفيزيائية وطبقة ربط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يانات في نظام السبع طبقات 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I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2075040" y="620640"/>
            <a:ext cx="4792320" cy="581400"/>
          </a:xfrm>
          <a:prstGeom prst="rect">
            <a:avLst/>
          </a:prstGeom>
          <a:gradFill rotWithShape="0">
            <a:gsLst>
              <a:gs pos="0">
                <a:srgbClr val="ffcc66">
                  <a:alpha val="83137"/>
                </a:srgbClr>
              </a:gs>
              <a:gs pos="100000">
                <a:srgbClr val="ffff99">
                  <a:alpha val="83137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cc99"/>
                </a:solidFill>
                <a:latin typeface="Times New Roman"/>
                <a:cs typeface="Arial"/>
              </a:rPr>
              <a:t>طبقات البروتوكول </a:t>
            </a:r>
            <a:r>
              <a:rPr b="0" lang="de-DE" sz="3200" spc="-1" strike="noStrike">
                <a:solidFill>
                  <a:srgbClr val="00cc99"/>
                </a:solidFill>
                <a:latin typeface="Times New Roman"/>
                <a:ea typeface="Arial"/>
              </a:rPr>
              <a:t>TCP /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13"/>
          <p:cNvGrpSpPr/>
          <p:nvPr/>
        </p:nvGrpSpPr>
        <p:grpSpPr>
          <a:xfrm>
            <a:off x="1332000" y="2708280"/>
            <a:ext cx="7889040" cy="1201320"/>
            <a:chOff x="1332000" y="2708280"/>
            <a:chExt cx="7889040" cy="1201320"/>
          </a:xfrm>
        </p:grpSpPr>
        <p:pic>
          <p:nvPicPr>
            <p:cNvPr id="99" name="Picture 9" descr="osi-model-7-layers"/>
            <p:cNvPicPr/>
            <p:nvPr/>
          </p:nvPicPr>
          <p:blipFill>
            <a:blip r:embed="rId4"/>
            <a:srcRect l="39274" t="73381" r="8336" b="1246"/>
            <a:stretch/>
          </p:blipFill>
          <p:spPr>
            <a:xfrm>
              <a:off x="1332000" y="2788560"/>
              <a:ext cx="2013840" cy="112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Text Box 12"/>
            <p:cNvGrpSpPr/>
            <p:nvPr/>
          </p:nvGrpSpPr>
          <p:grpSpPr>
            <a:xfrm>
              <a:off x="3272040" y="2708280"/>
              <a:ext cx="5949000" cy="1137600"/>
              <a:chOff x="3272040" y="2708280"/>
              <a:chExt cx="5949000" cy="1137600"/>
            </a:xfrm>
          </p:grpSpPr>
          <p:pic>
            <p:nvPicPr>
              <p:cNvPr id="101" name="Text Box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4130280" y="2708280"/>
                <a:ext cx="4232160" cy="113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3272040" y="2715840"/>
                <a:ext cx="5949000" cy="113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99cc00"/>
                    </a:solidFill>
                    <a:latin typeface="Arial"/>
                    <a:ea typeface="Arial"/>
                  </a:rPr>
                  <a:t>Network Interfase Laye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4000" spc="-1" strike="noStrike">
                    <a:solidFill>
                      <a:srgbClr val="99cc00"/>
                    </a:solidFill>
                    <a:latin typeface="Arial"/>
                    <a:cs typeface="Arial"/>
                  </a:rPr>
                  <a:t>طبقة الربط الى الشبكة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799920" y="2205000"/>
            <a:ext cx="75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همتها تحقيق الاتصال بين حاسب وشبكة او بين شبكة وشبك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00040" y="3357720"/>
            <a:ext cx="77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ات التي في هذه الطبقة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/>
          <p:cNvSpPr/>
          <p:nvPr/>
        </p:nvSpPr>
        <p:spPr>
          <a:xfrm>
            <a:off x="913320" y="4653000"/>
            <a:ext cx="67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قابل هذه الطبقة طبقة الشبك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2075040" y="620640"/>
            <a:ext cx="4792320" cy="581400"/>
          </a:xfrm>
          <a:prstGeom prst="rect">
            <a:avLst/>
          </a:prstGeom>
          <a:gradFill rotWithShape="0">
            <a:gsLst>
              <a:gs pos="0">
                <a:srgbClr val="ffcc66">
                  <a:alpha val="83137"/>
                </a:srgbClr>
              </a:gs>
              <a:gs pos="100000">
                <a:srgbClr val="ffff99">
                  <a:alpha val="83137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cc99"/>
                </a:solidFill>
                <a:latin typeface="Times New Roman"/>
                <a:cs typeface="Arial"/>
              </a:rPr>
              <a:t>طبقات البروتوكول </a:t>
            </a:r>
            <a:r>
              <a:rPr b="0" lang="de-DE" sz="3200" spc="-1" strike="noStrike">
                <a:solidFill>
                  <a:srgbClr val="00cc99"/>
                </a:solidFill>
                <a:latin typeface="Times New Roman"/>
                <a:ea typeface="Arial"/>
              </a:rPr>
              <a:t>TCP /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3"/>
          <p:cNvGrpSpPr/>
          <p:nvPr/>
        </p:nvGrpSpPr>
        <p:grpSpPr>
          <a:xfrm>
            <a:off x="1187280" y="2637000"/>
            <a:ext cx="7075440" cy="950400"/>
            <a:chOff x="1187280" y="2637000"/>
            <a:chExt cx="7075440" cy="950400"/>
          </a:xfrm>
        </p:grpSpPr>
        <p:pic>
          <p:nvPicPr>
            <p:cNvPr id="112" name="Picture 9" descr="osi-model-7-layers"/>
            <p:cNvPicPr/>
            <p:nvPr/>
          </p:nvPicPr>
          <p:blipFill>
            <a:blip r:embed="rId4"/>
            <a:srcRect l="39321" t="61816" r="10188" b="26554"/>
            <a:stretch/>
          </p:blipFill>
          <p:spPr>
            <a:xfrm>
              <a:off x="1187280" y="2923920"/>
              <a:ext cx="1942200" cy="511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" name="Text Box 12"/>
            <p:cNvGrpSpPr/>
            <p:nvPr/>
          </p:nvGrpSpPr>
          <p:grpSpPr>
            <a:xfrm>
              <a:off x="4057560" y="2637000"/>
              <a:ext cx="4205160" cy="950400"/>
              <a:chOff x="4057560" y="2637000"/>
              <a:chExt cx="4205160" cy="950400"/>
            </a:xfrm>
          </p:grpSpPr>
          <p:pic>
            <p:nvPicPr>
              <p:cNvPr id="114" name="Text Box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4057560" y="2637000"/>
                <a:ext cx="420516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4064760" y="2640240"/>
                <a:ext cx="4194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cc9900"/>
                    </a:solidFill>
                    <a:latin typeface="Arial"/>
                    <a:ea typeface="Arial"/>
                  </a:rPr>
                  <a:t>Internet Laye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800" spc="-1" strike="noStrike">
                    <a:solidFill>
                      <a:srgbClr val="cc9900"/>
                    </a:solidFill>
                    <a:latin typeface="Arial"/>
                    <a:cs typeface="Arial"/>
                  </a:rPr>
                  <a:t>طبقة الانترنت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07:44:49Z</dcterms:created>
  <dc:creator>Dr.Hisham Adel Abhari</dc:creator>
  <dc:description/>
  <dc:language>en-US</dc:language>
  <cp:lastModifiedBy>Dr. Hisham Abhari</cp:lastModifiedBy>
  <dcterms:modified xsi:type="dcterms:W3CDTF">2002-06-08T23:29:36Z</dcterms:modified>
  <cp:revision>146</cp:revision>
  <dc:subject/>
  <dc:title>Kein Folientitel</dc:title>
</cp:coreProperties>
</file>