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E3D-A855-432F-BDF2-BCC8FD30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929-F1B1-4EE2-814A-7FA0D0A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621-CD0D-4303-BE48-8683D1CA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A80-5731-40FB-A498-4CE46151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E90-16E4-45C4-B139-D0E25630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1F1-C3C6-44B6-87A1-17FF801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362-1DD7-44EA-9C60-98BBE126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FC9-F26D-4722-8E20-17B2370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BC0-474B-4E44-BE0C-CB06B38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0B-B5BB-44A4-B272-7820450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987-7D74-4F21-A98B-821F19F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5B3-D974-4F1B-A7BD-3216B3E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D8D-1B65-4C64-9AAA-BC4A8CE9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2303640"/>
            <a:ext cx="1600200" cy="1912680"/>
          </a:xfrm>
          <a:custGeom>
            <a:avLst/>
            <a:gdLst/>
            <a:ahLst/>
            <a:rect l="l" t="t" r="r" b="b"/>
            <a:pathLst>
              <a:path w="1008" h="1205">
                <a:moveTo>
                  <a:pt x="1008" y="320"/>
                </a:moveTo>
                <a:cubicBezTo>
                  <a:pt x="964" y="324"/>
                  <a:pt x="920" y="328"/>
                  <a:pt x="912" y="320"/>
                </a:cubicBezTo>
                <a:cubicBezTo>
                  <a:pt x="904" y="312"/>
                  <a:pt x="952" y="296"/>
                  <a:pt x="960" y="272"/>
                </a:cubicBezTo>
                <a:cubicBezTo>
                  <a:pt x="968" y="248"/>
                  <a:pt x="968" y="216"/>
                  <a:pt x="960" y="176"/>
                </a:cubicBezTo>
                <a:cubicBezTo>
                  <a:pt x="952" y="136"/>
                  <a:pt x="976" y="56"/>
                  <a:pt x="912" y="32"/>
                </a:cubicBezTo>
                <a:cubicBezTo>
                  <a:pt x="848" y="8"/>
                  <a:pt x="704" y="0"/>
                  <a:pt x="576" y="32"/>
                </a:cubicBezTo>
                <a:cubicBezTo>
                  <a:pt x="448" y="64"/>
                  <a:pt x="232" y="152"/>
                  <a:pt x="144" y="224"/>
                </a:cubicBezTo>
                <a:cubicBezTo>
                  <a:pt x="56" y="296"/>
                  <a:pt x="72" y="392"/>
                  <a:pt x="48" y="464"/>
                </a:cubicBezTo>
                <a:cubicBezTo>
                  <a:pt x="24" y="536"/>
                  <a:pt x="0" y="592"/>
                  <a:pt x="0" y="656"/>
                </a:cubicBezTo>
                <a:cubicBezTo>
                  <a:pt x="0" y="720"/>
                  <a:pt x="48" y="792"/>
                  <a:pt x="48" y="848"/>
                </a:cubicBezTo>
                <a:cubicBezTo>
                  <a:pt x="48" y="904"/>
                  <a:pt x="0" y="944"/>
                  <a:pt x="0" y="992"/>
                </a:cubicBezTo>
                <a:cubicBezTo>
                  <a:pt x="0" y="1040"/>
                  <a:pt x="8" y="1104"/>
                  <a:pt x="48" y="1136"/>
                </a:cubicBezTo>
                <a:cubicBezTo>
                  <a:pt x="88" y="1168"/>
                  <a:pt x="155" y="1205"/>
                  <a:pt x="240" y="1184"/>
                </a:cubicBezTo>
                <a:cubicBezTo>
                  <a:pt x="325" y="1163"/>
                  <a:pt x="524" y="1084"/>
                  <a:pt x="560" y="1008"/>
                </a:cubicBezTo>
                <a:cubicBezTo>
                  <a:pt x="596" y="932"/>
                  <a:pt x="480" y="784"/>
                  <a:pt x="459" y="72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2311560"/>
            <a:ext cx="1600200" cy="1911240"/>
          </a:xfrm>
          <a:custGeom>
            <a:avLst/>
            <a:gdLst/>
            <a:ahLst/>
            <a:rect l="l" t="t" r="r" b="b"/>
            <a:pathLst>
              <a:path w="1008" h="1204">
                <a:moveTo>
                  <a:pt x="0" y="320"/>
                </a:moveTo>
                <a:cubicBezTo>
                  <a:pt x="44" y="324"/>
                  <a:pt x="88" y="328"/>
                  <a:pt x="96" y="320"/>
                </a:cubicBezTo>
                <a:cubicBezTo>
                  <a:pt x="104" y="312"/>
                  <a:pt x="56" y="296"/>
                  <a:pt x="48" y="272"/>
                </a:cubicBezTo>
                <a:cubicBezTo>
                  <a:pt x="40" y="248"/>
                  <a:pt x="40" y="216"/>
                  <a:pt x="48" y="176"/>
                </a:cubicBezTo>
                <a:cubicBezTo>
                  <a:pt x="56" y="136"/>
                  <a:pt x="32" y="56"/>
                  <a:pt x="96" y="32"/>
                </a:cubicBezTo>
                <a:cubicBezTo>
                  <a:pt x="160" y="8"/>
                  <a:pt x="304" y="0"/>
                  <a:pt x="432" y="32"/>
                </a:cubicBezTo>
                <a:cubicBezTo>
                  <a:pt x="560" y="64"/>
                  <a:pt x="776" y="152"/>
                  <a:pt x="864" y="224"/>
                </a:cubicBezTo>
                <a:cubicBezTo>
                  <a:pt x="952" y="296"/>
                  <a:pt x="936" y="392"/>
                  <a:pt x="960" y="464"/>
                </a:cubicBezTo>
                <a:cubicBezTo>
                  <a:pt x="984" y="536"/>
                  <a:pt x="1008" y="592"/>
                  <a:pt x="1008" y="656"/>
                </a:cubicBezTo>
                <a:cubicBezTo>
                  <a:pt x="1008" y="720"/>
                  <a:pt x="960" y="792"/>
                  <a:pt x="960" y="848"/>
                </a:cubicBezTo>
                <a:cubicBezTo>
                  <a:pt x="960" y="904"/>
                  <a:pt x="1008" y="944"/>
                  <a:pt x="1008" y="992"/>
                </a:cubicBezTo>
                <a:cubicBezTo>
                  <a:pt x="1008" y="1040"/>
                  <a:pt x="1000" y="1104"/>
                  <a:pt x="960" y="1136"/>
                </a:cubicBezTo>
                <a:cubicBezTo>
                  <a:pt x="920" y="1168"/>
                  <a:pt x="855" y="1204"/>
                  <a:pt x="768" y="1184"/>
                </a:cubicBezTo>
                <a:cubicBezTo>
                  <a:pt x="681" y="1164"/>
                  <a:pt x="476" y="1097"/>
                  <a:pt x="439" y="1013"/>
                </a:cubicBezTo>
                <a:cubicBezTo>
                  <a:pt x="402" y="929"/>
                  <a:pt x="526" y="752"/>
                  <a:pt x="549" y="683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200400"/>
            <a:ext cx="909360" cy="654120"/>
          </a:xfrm>
          <a:custGeom>
            <a:avLst/>
            <a:gdLst/>
            <a:ahLst/>
            <a:rect l="l" t="t" r="r" b="b"/>
            <a:pathLst>
              <a:path w="573" h="412">
                <a:moveTo>
                  <a:pt x="9" y="322"/>
                </a:moveTo>
                <a:cubicBezTo>
                  <a:pt x="31" y="297"/>
                  <a:pt x="106" y="187"/>
                  <a:pt x="144" y="160"/>
                </a:cubicBezTo>
                <a:cubicBezTo>
                  <a:pt x="182" y="133"/>
                  <a:pt x="224" y="176"/>
                  <a:pt x="240" y="160"/>
                </a:cubicBezTo>
                <a:cubicBezTo>
                  <a:pt x="256" y="144"/>
                  <a:pt x="232" y="88"/>
                  <a:pt x="240" y="64"/>
                </a:cubicBezTo>
                <a:cubicBezTo>
                  <a:pt x="248" y="40"/>
                  <a:pt x="264" y="24"/>
                  <a:pt x="288" y="16"/>
                </a:cubicBezTo>
                <a:cubicBezTo>
                  <a:pt x="312" y="8"/>
                  <a:pt x="344" y="0"/>
                  <a:pt x="384" y="16"/>
                </a:cubicBezTo>
                <a:cubicBezTo>
                  <a:pt x="424" y="32"/>
                  <a:pt x="498" y="72"/>
                  <a:pt x="528" y="112"/>
                </a:cubicBezTo>
                <a:cubicBezTo>
                  <a:pt x="558" y="152"/>
                  <a:pt x="573" y="217"/>
                  <a:pt x="567" y="258"/>
                </a:cubicBezTo>
                <a:cubicBezTo>
                  <a:pt x="561" y="299"/>
                  <a:pt x="537" y="334"/>
                  <a:pt x="494" y="359"/>
                </a:cubicBezTo>
                <a:cubicBezTo>
                  <a:pt x="451" y="384"/>
                  <a:pt x="393" y="398"/>
                  <a:pt x="311" y="405"/>
                </a:cubicBezTo>
                <a:cubicBezTo>
                  <a:pt x="229" y="412"/>
                  <a:pt x="65" y="401"/>
                  <a:pt x="0" y="40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048120" y="3200400"/>
            <a:ext cx="909360" cy="654120"/>
          </a:xfrm>
          <a:custGeom>
            <a:avLst/>
            <a:gdLst/>
            <a:ahLst/>
            <a:rect l="l" t="t" r="r" b="b"/>
            <a:pathLst>
              <a:path w="573" h="412">
                <a:moveTo>
                  <a:pt x="9" y="322"/>
                </a:moveTo>
                <a:cubicBezTo>
                  <a:pt x="31" y="297"/>
                  <a:pt x="106" y="187"/>
                  <a:pt x="144" y="160"/>
                </a:cubicBezTo>
                <a:cubicBezTo>
                  <a:pt x="182" y="133"/>
                  <a:pt x="224" y="176"/>
                  <a:pt x="240" y="160"/>
                </a:cubicBezTo>
                <a:cubicBezTo>
                  <a:pt x="256" y="144"/>
                  <a:pt x="232" y="88"/>
                  <a:pt x="240" y="64"/>
                </a:cubicBezTo>
                <a:cubicBezTo>
                  <a:pt x="248" y="40"/>
                  <a:pt x="264" y="24"/>
                  <a:pt x="288" y="16"/>
                </a:cubicBezTo>
                <a:cubicBezTo>
                  <a:pt x="312" y="8"/>
                  <a:pt x="344" y="0"/>
                  <a:pt x="384" y="16"/>
                </a:cubicBezTo>
                <a:cubicBezTo>
                  <a:pt x="424" y="32"/>
                  <a:pt x="498" y="72"/>
                  <a:pt x="528" y="112"/>
                </a:cubicBezTo>
                <a:cubicBezTo>
                  <a:pt x="558" y="152"/>
                  <a:pt x="573" y="217"/>
                  <a:pt x="567" y="258"/>
                </a:cubicBezTo>
                <a:cubicBezTo>
                  <a:pt x="561" y="299"/>
                  <a:pt x="537" y="334"/>
                  <a:pt x="494" y="359"/>
                </a:cubicBezTo>
                <a:cubicBezTo>
                  <a:pt x="451" y="384"/>
                  <a:pt x="393" y="398"/>
                  <a:pt x="311" y="405"/>
                </a:cubicBezTo>
                <a:cubicBezTo>
                  <a:pt x="229" y="412"/>
                  <a:pt x="65" y="401"/>
                  <a:pt x="0" y="40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476440"/>
            <a:ext cx="1218960" cy="812880"/>
          </a:xfrm>
          <a:custGeom>
            <a:avLst/>
            <a:gdLst/>
            <a:ahLst/>
            <a:rect l="l" t="t" r="r" b="b"/>
            <a:pathLst>
              <a:path w="768" h="512">
                <a:moveTo>
                  <a:pt x="336" y="456"/>
                </a:moveTo>
                <a:cubicBezTo>
                  <a:pt x="428" y="452"/>
                  <a:pt x="520" y="448"/>
                  <a:pt x="576" y="456"/>
                </a:cubicBezTo>
                <a:cubicBezTo>
                  <a:pt x="632" y="464"/>
                  <a:pt x="640" y="504"/>
                  <a:pt x="672" y="504"/>
                </a:cubicBezTo>
                <a:cubicBezTo>
                  <a:pt x="704" y="504"/>
                  <a:pt x="768" y="512"/>
                  <a:pt x="768" y="456"/>
                </a:cubicBezTo>
                <a:cubicBezTo>
                  <a:pt x="768" y="400"/>
                  <a:pt x="744" y="240"/>
                  <a:pt x="672" y="168"/>
                </a:cubicBezTo>
                <a:cubicBezTo>
                  <a:pt x="600" y="96"/>
                  <a:pt x="424" y="48"/>
                  <a:pt x="336" y="24"/>
                </a:cubicBezTo>
                <a:cubicBezTo>
                  <a:pt x="248" y="0"/>
                  <a:pt x="184" y="8"/>
                  <a:pt x="144" y="24"/>
                </a:cubicBezTo>
                <a:cubicBezTo>
                  <a:pt x="104" y="40"/>
                  <a:pt x="96" y="96"/>
                  <a:pt x="96" y="120"/>
                </a:cubicBezTo>
                <a:cubicBezTo>
                  <a:pt x="96" y="144"/>
                  <a:pt x="128" y="152"/>
                  <a:pt x="144" y="168"/>
                </a:cubicBezTo>
                <a:cubicBezTo>
                  <a:pt x="160" y="184"/>
                  <a:pt x="200" y="200"/>
                  <a:pt x="192" y="216"/>
                </a:cubicBezTo>
                <a:cubicBezTo>
                  <a:pt x="184" y="232"/>
                  <a:pt x="128" y="256"/>
                  <a:pt x="96" y="264"/>
                </a:cubicBezTo>
                <a:cubicBezTo>
                  <a:pt x="64" y="272"/>
                  <a:pt x="32" y="268"/>
                  <a:pt x="0" y="264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742480" y="2503440"/>
            <a:ext cx="1219320" cy="812880"/>
          </a:xfrm>
          <a:custGeom>
            <a:avLst/>
            <a:gdLst/>
            <a:ahLst/>
            <a:rect l="l" t="t" r="r" b="b"/>
            <a:pathLst>
              <a:path w="768" h="512">
                <a:moveTo>
                  <a:pt x="336" y="456"/>
                </a:moveTo>
                <a:cubicBezTo>
                  <a:pt x="428" y="452"/>
                  <a:pt x="520" y="448"/>
                  <a:pt x="576" y="456"/>
                </a:cubicBezTo>
                <a:cubicBezTo>
                  <a:pt x="632" y="464"/>
                  <a:pt x="640" y="504"/>
                  <a:pt x="672" y="504"/>
                </a:cubicBezTo>
                <a:cubicBezTo>
                  <a:pt x="704" y="504"/>
                  <a:pt x="768" y="512"/>
                  <a:pt x="768" y="456"/>
                </a:cubicBezTo>
                <a:cubicBezTo>
                  <a:pt x="768" y="400"/>
                  <a:pt x="744" y="240"/>
                  <a:pt x="672" y="168"/>
                </a:cubicBezTo>
                <a:cubicBezTo>
                  <a:pt x="600" y="96"/>
                  <a:pt x="424" y="48"/>
                  <a:pt x="336" y="24"/>
                </a:cubicBezTo>
                <a:cubicBezTo>
                  <a:pt x="248" y="0"/>
                  <a:pt x="184" y="8"/>
                  <a:pt x="144" y="24"/>
                </a:cubicBezTo>
                <a:cubicBezTo>
                  <a:pt x="104" y="40"/>
                  <a:pt x="96" y="96"/>
                  <a:pt x="96" y="120"/>
                </a:cubicBezTo>
                <a:cubicBezTo>
                  <a:pt x="96" y="144"/>
                  <a:pt x="128" y="152"/>
                  <a:pt x="144" y="168"/>
                </a:cubicBezTo>
                <a:cubicBezTo>
                  <a:pt x="160" y="184"/>
                  <a:pt x="200" y="200"/>
                  <a:pt x="192" y="216"/>
                </a:cubicBezTo>
                <a:cubicBezTo>
                  <a:pt x="184" y="232"/>
                  <a:pt x="128" y="256"/>
                  <a:pt x="96" y="264"/>
                </a:cubicBezTo>
                <a:cubicBezTo>
                  <a:pt x="64" y="272"/>
                  <a:pt x="32" y="268"/>
                  <a:pt x="0" y="264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752480"/>
            <a:ext cx="18288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l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i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3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182880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us Call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ebral C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819520"/>
            <a:ext cx="228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62160" y="1981080"/>
            <a:ext cx="2438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57440" y="24382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572000" y="28954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95680" y="32767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4572000"/>
            <a:ext cx="2590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rona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Ventricl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Ventr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6094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905120"/>
            <a:ext cx="4724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br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o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gmen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l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dbr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2743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vh.org/adult/provider/anatomy/BrainAnatomy/BrainAnatom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tual Hos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University of Iowa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518520" cy="4687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uman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81880" cy="5484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380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nal 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15200" cy="2279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380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05520"/>
            <a:ext cx="73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vula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nsi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iv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s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ber of verm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semilunar lob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2876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 Stem &amp; 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105520"/>
            <a:ext cx="784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ulomoto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peduncular foss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s peduncul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lar sulcus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tor (minor) root of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nsory (major) root of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ducen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cerebellar pedun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stibulocochlea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aci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protruding through lateral aperture of 4th ventricle (foramen of Luschka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ssopharynge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gu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ivary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glossal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decuss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Dors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26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90720" y="5486400"/>
            <a:ext cx="73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po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ngitudinal cerebral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cipital po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380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Vent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5869080" cy="3795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4800600"/>
            <a:ext cx="86868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pole of left cerebral hemisp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bul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bital gyri and sulc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aight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mporal pole of left cerebral hemisph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lfactory trig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chiasm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perforated substan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ber cinereum with infundibul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culomoto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cus of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s peduncul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silar sulcus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igem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ducen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 of medulla oblongat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aci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stibulocochlear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ssopharynge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gus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ranial roots of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inal roots of accessory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otlets of hypogloss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oc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entral rootlets of 1st cervical spinal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yramidal decus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5200" cy="2987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4495680"/>
            <a:ext cx="7162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ramargin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gular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pariet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ra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fron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ascending ramus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verse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horizontal ramus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erior tempo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ddle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em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tempo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ferior 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occipital notc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terior branch of 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iangular part of inferior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ercular part of inferior frontal gyr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533520"/>
            <a:ext cx="815364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Central nervous System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of the nervous system that ar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ncased in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2646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62120" y="4343400"/>
            <a:ext cx="7162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c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los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thmus of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 or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str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u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unk of corpus callo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leni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in interventricular foram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thalamic adhes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ar trigo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thalamic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ineal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ctum of midbra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longitudinal fasci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horoid plexus of 4th ventr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15200" cy="238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4267080"/>
            <a:ext cx="754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front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ent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central lob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ngulate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los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parie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thmus of cingulate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gu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 or f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occipitotempor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later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cus of parahippocamp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hin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callosal are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terminal gyr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dusium grise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str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u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unk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plenium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mbria of hippocamp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t surface of thalam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thalamic adhes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um pellucid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Midsagitt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2925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4572000"/>
            <a:ext cx="8153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rona radiat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ad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ail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thalamic pedun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ia terminali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nuclear group of thalam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orsal lateral thalamic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ia medullaris thalam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ar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ulvina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othalamic fascicul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ypothalamic nucle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stantia nigr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d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benulo-interpeduncular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mporal po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tra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millary bod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rpeduncular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l lemnis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dian section of p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lip of parieto-occipital sulc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un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lcarine sul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ebral hemisphere Coron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3048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487692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orpus callos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ntal horn of lateral ventric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um pellucidu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ody of caudate nucle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lumns of fornix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(rostral) commissu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ptic chiasm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terior limb of internal caps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lobus pallidu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eral medullary lamin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utam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ternal capsu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aust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33520"/>
            <a:ext cx="815364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eripheral nervous System (P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spinal nerves tha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nervate the skin, joints, muscl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under voluntary contro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atic P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nnervate internal organs, blood vessels, gland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 are involunt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ceral PNS or Autonomic Nervous System (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112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3200400"/>
            <a:ext cx="5791320" cy="457200"/>
            <a:chOff x="1295280" y="3200400"/>
            <a:chExt cx="5791320" cy="457200"/>
          </a:xfrm>
        </p:grpSpPr>
        <p:sp>
          <p:nvSpPr>
            <p:cNvPr id="47" name=""/>
            <p:cNvSpPr/>
            <p:nvPr/>
          </p:nvSpPr>
          <p:spPr>
            <a:xfrm>
              <a:off x="1295280" y="3200400"/>
              <a:ext cx="1447920" cy="3812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4600" y="3200400"/>
              <a:ext cx="457200" cy="228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3340080"/>
              <a:ext cx="4419720" cy="317520"/>
            </a:xfrm>
            <a:custGeom>
              <a:avLst/>
              <a:gdLst/>
              <a:ahLst/>
              <a:rect l="l" t="t" r="r" b="b"/>
              <a:pathLst>
                <a:path w="2784" h="200">
                  <a:moveTo>
                    <a:pt x="0" y="56"/>
                  </a:moveTo>
                  <a:cubicBezTo>
                    <a:pt x="116" y="100"/>
                    <a:pt x="232" y="144"/>
                    <a:pt x="336" y="152"/>
                  </a:cubicBezTo>
                  <a:cubicBezTo>
                    <a:pt x="440" y="160"/>
                    <a:pt x="496" y="128"/>
                    <a:pt x="624" y="104"/>
                  </a:cubicBezTo>
                  <a:cubicBezTo>
                    <a:pt x="752" y="80"/>
                    <a:pt x="912" y="16"/>
                    <a:pt x="1104" y="8"/>
                  </a:cubicBezTo>
                  <a:cubicBezTo>
                    <a:pt x="1296" y="0"/>
                    <a:pt x="1496" y="24"/>
                    <a:pt x="1776" y="56"/>
                  </a:cubicBezTo>
                  <a:cubicBezTo>
                    <a:pt x="2056" y="88"/>
                    <a:pt x="2616" y="176"/>
                    <a:pt x="2784" y="200"/>
                  </a:cubicBezTo>
                </a:path>
              </a:pathLst>
            </a:custGeom>
            <a:noFill/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191120" y="22096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2514240"/>
            <a:ext cx="37335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tra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2209680"/>
            <a:ext cx="1218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da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4343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572000"/>
            <a:ext cx="1676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silateral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124080"/>
            <a:ext cx="3048120" cy="533520"/>
          </a:xfrm>
          <a:prstGeom prst="rect">
            <a:avLst/>
          </a:prstGeom>
          <a:solidFill>
            <a:srgbClr val="ffffff">
              <a:alpha val="53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95280" y="3200400"/>
            <a:ext cx="5791320" cy="457200"/>
            <a:chOff x="1295280" y="3200400"/>
            <a:chExt cx="5791320" cy="457200"/>
          </a:xfrm>
        </p:grpSpPr>
        <p:sp>
          <p:nvSpPr>
            <p:cNvPr id="62" name=""/>
            <p:cNvSpPr/>
            <p:nvPr/>
          </p:nvSpPr>
          <p:spPr>
            <a:xfrm>
              <a:off x="1295280" y="3200400"/>
              <a:ext cx="1447920" cy="3812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200400"/>
              <a:ext cx="457200" cy="228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6880" y="3340080"/>
              <a:ext cx="4419720" cy="317520"/>
            </a:xfrm>
            <a:custGeom>
              <a:avLst/>
              <a:gdLst/>
              <a:ahLst/>
              <a:rect l="l" t="t" r="r" b="b"/>
              <a:pathLst>
                <a:path w="2784" h="200">
                  <a:moveTo>
                    <a:pt x="0" y="56"/>
                  </a:moveTo>
                  <a:cubicBezTo>
                    <a:pt x="116" y="100"/>
                    <a:pt x="232" y="144"/>
                    <a:pt x="336" y="152"/>
                  </a:cubicBezTo>
                  <a:cubicBezTo>
                    <a:pt x="440" y="160"/>
                    <a:pt x="496" y="128"/>
                    <a:pt x="624" y="104"/>
                  </a:cubicBezTo>
                  <a:cubicBezTo>
                    <a:pt x="752" y="80"/>
                    <a:pt x="912" y="16"/>
                    <a:pt x="1104" y="8"/>
                  </a:cubicBezTo>
                  <a:cubicBezTo>
                    <a:pt x="1296" y="0"/>
                    <a:pt x="1496" y="24"/>
                    <a:pt x="1776" y="56"/>
                  </a:cubicBezTo>
                  <a:cubicBezTo>
                    <a:pt x="2056" y="88"/>
                    <a:pt x="2616" y="176"/>
                    <a:pt x="2784" y="200"/>
                  </a:cubicBezTo>
                </a:path>
              </a:pathLst>
            </a:custGeom>
            <a:noFill/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191120" y="22096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62320" y="2514240"/>
            <a:ext cx="37335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200400"/>
            <a:ext cx="152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7432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480"/>
                </a:moveTo>
                <a:lnTo>
                  <a:pt x="1152" y="0"/>
                </a:lnTo>
                <a:lnTo>
                  <a:pt x="1152" y="384"/>
                </a:lnTo>
                <a:lnTo>
                  <a:pt x="0" y="864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3200400"/>
            <a:ext cx="4876560" cy="304920"/>
          </a:xfrm>
          <a:custGeom>
            <a:avLst/>
            <a:gdLst/>
            <a:ahLst/>
            <a:rect l="l" t="t" r="r" b="b"/>
            <a:pathLst>
              <a:path w="3072" h="192">
                <a:moveTo>
                  <a:pt x="288" y="0"/>
                </a:moveTo>
                <a:lnTo>
                  <a:pt x="0" y="192"/>
                </a:lnTo>
                <a:lnTo>
                  <a:pt x="2784" y="192"/>
                </a:lnTo>
                <a:lnTo>
                  <a:pt x="3072" y="0"/>
                </a:lnTo>
                <a:lnTo>
                  <a:pt x="288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49568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rizont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idsagittal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oronal/Transverse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05320" y="1523880"/>
            <a:ext cx="1244520" cy="800280"/>
          </a:xfrm>
          <a:custGeom>
            <a:avLst/>
            <a:gdLst/>
            <a:ahLst/>
            <a:rect l="l" t="t" r="r" b="b"/>
            <a:pathLst>
              <a:path w="784" h="504">
                <a:moveTo>
                  <a:pt x="0" y="144"/>
                </a:moveTo>
                <a:cubicBezTo>
                  <a:pt x="28" y="184"/>
                  <a:pt x="56" y="224"/>
                  <a:pt x="96" y="240"/>
                </a:cubicBezTo>
                <a:cubicBezTo>
                  <a:pt x="136" y="256"/>
                  <a:pt x="184" y="232"/>
                  <a:pt x="240" y="240"/>
                </a:cubicBezTo>
                <a:cubicBezTo>
                  <a:pt x="296" y="248"/>
                  <a:pt x="360" y="248"/>
                  <a:pt x="432" y="288"/>
                </a:cubicBezTo>
                <a:cubicBezTo>
                  <a:pt x="504" y="328"/>
                  <a:pt x="616" y="456"/>
                  <a:pt x="672" y="480"/>
                </a:cubicBezTo>
                <a:cubicBezTo>
                  <a:pt x="728" y="504"/>
                  <a:pt x="784" y="480"/>
                  <a:pt x="768" y="432"/>
                </a:cubicBezTo>
                <a:cubicBezTo>
                  <a:pt x="752" y="384"/>
                  <a:pt x="640" y="256"/>
                  <a:pt x="576" y="192"/>
                </a:cubicBezTo>
                <a:cubicBezTo>
                  <a:pt x="512" y="128"/>
                  <a:pt x="448" y="80"/>
                  <a:pt x="384" y="48"/>
                </a:cubicBezTo>
                <a:cubicBezTo>
                  <a:pt x="320" y="16"/>
                  <a:pt x="256" y="8"/>
                  <a:pt x="192" y="0"/>
                </a:cubicBez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554600">
            <a:off x="4571640" y="2133360"/>
            <a:ext cx="22860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130400"/>
            <a:ext cx="558720" cy="507960"/>
          </a:xfrm>
          <a:custGeom>
            <a:avLst/>
            <a:gdLst/>
            <a:ahLst/>
            <a:rect l="l" t="t" r="r" b="b"/>
            <a:pathLst>
              <a:path w="352" h="320">
                <a:moveTo>
                  <a:pt x="0" y="56"/>
                </a:moveTo>
                <a:cubicBezTo>
                  <a:pt x="28" y="36"/>
                  <a:pt x="56" y="16"/>
                  <a:pt x="96" y="8"/>
                </a:cubicBezTo>
                <a:cubicBezTo>
                  <a:pt x="136" y="0"/>
                  <a:pt x="200" y="0"/>
                  <a:pt x="240" y="8"/>
                </a:cubicBezTo>
                <a:cubicBezTo>
                  <a:pt x="280" y="16"/>
                  <a:pt x="320" y="32"/>
                  <a:pt x="336" y="56"/>
                </a:cubicBezTo>
                <a:cubicBezTo>
                  <a:pt x="352" y="80"/>
                  <a:pt x="344" y="112"/>
                  <a:pt x="336" y="152"/>
                </a:cubicBezTo>
                <a:cubicBezTo>
                  <a:pt x="328" y="192"/>
                  <a:pt x="312" y="272"/>
                  <a:pt x="288" y="296"/>
                </a:cubicBezTo>
                <a:cubicBezTo>
                  <a:pt x="264" y="320"/>
                  <a:pt x="232" y="296"/>
                  <a:pt x="192" y="296"/>
                </a:cubicBezTo>
                <a:cubicBezTo>
                  <a:pt x="152" y="296"/>
                  <a:pt x="80" y="296"/>
                  <a:pt x="48" y="296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130400"/>
            <a:ext cx="1828800" cy="850680"/>
          </a:xfrm>
          <a:custGeom>
            <a:avLst/>
            <a:gdLst/>
            <a:ahLst/>
            <a:rect l="l" t="t" r="r" b="b"/>
            <a:pathLst>
              <a:path w="1152" h="536">
                <a:moveTo>
                  <a:pt x="144" y="296"/>
                </a:moveTo>
                <a:cubicBezTo>
                  <a:pt x="96" y="248"/>
                  <a:pt x="0" y="192"/>
                  <a:pt x="0" y="152"/>
                </a:cubicBezTo>
                <a:cubicBezTo>
                  <a:pt x="0" y="112"/>
                  <a:pt x="80" y="72"/>
                  <a:pt x="144" y="56"/>
                </a:cubicBezTo>
                <a:cubicBezTo>
                  <a:pt x="208" y="40"/>
                  <a:pt x="320" y="56"/>
                  <a:pt x="384" y="56"/>
                </a:cubicBezTo>
                <a:cubicBezTo>
                  <a:pt x="448" y="56"/>
                  <a:pt x="480" y="64"/>
                  <a:pt x="528" y="56"/>
                </a:cubicBezTo>
                <a:cubicBezTo>
                  <a:pt x="576" y="48"/>
                  <a:pt x="616" y="16"/>
                  <a:pt x="672" y="8"/>
                </a:cubicBezTo>
                <a:cubicBezTo>
                  <a:pt x="728" y="0"/>
                  <a:pt x="800" y="0"/>
                  <a:pt x="864" y="8"/>
                </a:cubicBezTo>
                <a:cubicBezTo>
                  <a:pt x="928" y="16"/>
                  <a:pt x="1008" y="24"/>
                  <a:pt x="1056" y="56"/>
                </a:cubicBezTo>
                <a:cubicBezTo>
                  <a:pt x="1104" y="88"/>
                  <a:pt x="1152" y="152"/>
                  <a:pt x="1152" y="200"/>
                </a:cubicBezTo>
                <a:cubicBezTo>
                  <a:pt x="1152" y="248"/>
                  <a:pt x="1112" y="304"/>
                  <a:pt x="1056" y="344"/>
                </a:cubicBezTo>
                <a:cubicBezTo>
                  <a:pt x="1000" y="384"/>
                  <a:pt x="904" y="408"/>
                  <a:pt x="816" y="440"/>
                </a:cubicBezTo>
                <a:cubicBezTo>
                  <a:pt x="728" y="472"/>
                  <a:pt x="616" y="536"/>
                  <a:pt x="528" y="536"/>
                </a:cubicBezTo>
                <a:cubicBezTo>
                  <a:pt x="440" y="536"/>
                  <a:pt x="352" y="480"/>
                  <a:pt x="288" y="440"/>
                </a:cubicBezTo>
                <a:cubicBezTo>
                  <a:pt x="224" y="400"/>
                  <a:pt x="192" y="344"/>
                  <a:pt x="144" y="296"/>
                </a:cubicBez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760" y="1298520"/>
            <a:ext cx="766440" cy="385920"/>
          </a:xfrm>
          <a:custGeom>
            <a:avLst/>
            <a:gdLst/>
            <a:ahLst/>
            <a:rect l="l" t="t" r="r" b="b"/>
            <a:pathLst>
              <a:path w="483" h="243">
                <a:moveTo>
                  <a:pt x="483" y="243"/>
                </a:moveTo>
                <a:cubicBezTo>
                  <a:pt x="444" y="234"/>
                  <a:pt x="305" y="207"/>
                  <a:pt x="241" y="190"/>
                </a:cubicBezTo>
                <a:cubicBezTo>
                  <a:pt x="177" y="173"/>
                  <a:pt x="137" y="166"/>
                  <a:pt x="97" y="142"/>
                </a:cubicBezTo>
                <a:cubicBezTo>
                  <a:pt x="57" y="118"/>
                  <a:pt x="2" y="69"/>
                  <a:pt x="1" y="46"/>
                </a:cubicBezTo>
                <a:cubicBezTo>
                  <a:pt x="0" y="23"/>
                  <a:pt x="49" y="10"/>
                  <a:pt x="90" y="5"/>
                </a:cubicBezTo>
                <a:cubicBezTo>
                  <a:pt x="131" y="0"/>
                  <a:pt x="217" y="0"/>
                  <a:pt x="246" y="14"/>
                </a:cubicBezTo>
                <a:cubicBezTo>
                  <a:pt x="275" y="28"/>
                  <a:pt x="249" y="74"/>
                  <a:pt x="264" y="87"/>
                </a:cubicBezTo>
                <a:cubicBezTo>
                  <a:pt x="279" y="100"/>
                  <a:pt x="322" y="93"/>
                  <a:pt x="337" y="94"/>
                </a:cubicBez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23880" y="3352680"/>
            <a:ext cx="4137120" cy="1270080"/>
            <a:chOff x="1523880" y="3352680"/>
            <a:chExt cx="4137120" cy="1270080"/>
          </a:xfrm>
        </p:grpSpPr>
        <p:sp>
          <p:nvSpPr>
            <p:cNvPr id="78" name=""/>
            <p:cNvSpPr/>
            <p:nvPr/>
          </p:nvSpPr>
          <p:spPr>
            <a:xfrm>
              <a:off x="4038480" y="3809880"/>
              <a:ext cx="1622520" cy="96840"/>
            </a:xfrm>
            <a:custGeom>
              <a:avLst/>
              <a:gdLst/>
              <a:ahLst/>
              <a:rect l="l" t="t" r="r" b="b"/>
              <a:pathLst>
                <a:path w="1022" h="61">
                  <a:moveTo>
                    <a:pt x="0" y="0"/>
                  </a:moveTo>
                  <a:cubicBezTo>
                    <a:pt x="48" y="16"/>
                    <a:pt x="95" y="38"/>
                    <a:pt x="192" y="48"/>
                  </a:cubicBezTo>
                  <a:cubicBezTo>
                    <a:pt x="289" y="58"/>
                    <a:pt x="445" y="57"/>
                    <a:pt x="583" y="59"/>
                  </a:cubicBezTo>
                  <a:cubicBezTo>
                    <a:pt x="721" y="61"/>
                    <a:pt x="931" y="59"/>
                    <a:pt x="1022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8480" y="4114800"/>
              <a:ext cx="1608120" cy="88920"/>
            </a:xfrm>
            <a:custGeom>
              <a:avLst/>
              <a:gdLst/>
              <a:ahLst/>
              <a:rect l="l" t="t" r="r" b="b"/>
              <a:pathLst>
                <a:path w="1013" h="56">
                  <a:moveTo>
                    <a:pt x="0" y="56"/>
                  </a:moveTo>
                  <a:cubicBezTo>
                    <a:pt x="48" y="40"/>
                    <a:pt x="95" y="16"/>
                    <a:pt x="192" y="8"/>
                  </a:cubicBezTo>
                  <a:cubicBezTo>
                    <a:pt x="289" y="0"/>
                    <a:pt x="446" y="4"/>
                    <a:pt x="583" y="5"/>
                  </a:cubicBezTo>
                  <a:cubicBezTo>
                    <a:pt x="720" y="6"/>
                    <a:pt x="924" y="12"/>
                    <a:pt x="1013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23880" y="3352680"/>
              <a:ext cx="4114800" cy="1270080"/>
              <a:chOff x="1523880" y="3352680"/>
              <a:chExt cx="4114800" cy="1270080"/>
            </a:xfrm>
          </p:grpSpPr>
          <p:sp>
            <p:nvSpPr>
              <p:cNvPr id="81" name=""/>
              <p:cNvSpPr/>
              <p:nvPr/>
            </p:nvSpPr>
            <p:spPr>
              <a:xfrm>
                <a:off x="3962520" y="3886200"/>
                <a:ext cx="152388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23880" y="3733920"/>
                <a:ext cx="317520" cy="26676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523880" y="3961800"/>
                <a:ext cx="317520" cy="26676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3920" y="3505320"/>
                <a:ext cx="393480" cy="939600"/>
              </a:xfrm>
              <a:custGeom>
                <a:avLst/>
                <a:gdLst/>
                <a:ahLst/>
                <a:rect l="l" t="t" r="r" b="b"/>
                <a:pathLst>
                  <a:path w="248" h="592">
                    <a:moveTo>
                      <a:pt x="0" y="48"/>
                    </a:moveTo>
                    <a:cubicBezTo>
                      <a:pt x="32" y="24"/>
                      <a:pt x="64" y="0"/>
                      <a:pt x="96" y="0"/>
                    </a:cubicBezTo>
                    <a:cubicBezTo>
                      <a:pt x="128" y="0"/>
                      <a:pt x="168" y="24"/>
                      <a:pt x="192" y="48"/>
                    </a:cubicBezTo>
                    <a:cubicBezTo>
                      <a:pt x="216" y="72"/>
                      <a:pt x="248" y="120"/>
                      <a:pt x="240" y="144"/>
                    </a:cubicBezTo>
                    <a:cubicBezTo>
                      <a:pt x="232" y="168"/>
                      <a:pt x="152" y="176"/>
                      <a:pt x="144" y="192"/>
                    </a:cubicBezTo>
                    <a:cubicBezTo>
                      <a:pt x="136" y="208"/>
                      <a:pt x="184" y="216"/>
                      <a:pt x="192" y="240"/>
                    </a:cubicBezTo>
                    <a:cubicBezTo>
                      <a:pt x="200" y="264"/>
                      <a:pt x="200" y="312"/>
                      <a:pt x="192" y="336"/>
                    </a:cubicBezTo>
                    <a:cubicBezTo>
                      <a:pt x="184" y="360"/>
                      <a:pt x="144" y="368"/>
                      <a:pt x="144" y="384"/>
                    </a:cubicBezTo>
                    <a:cubicBezTo>
                      <a:pt x="144" y="400"/>
                      <a:pt x="176" y="416"/>
                      <a:pt x="192" y="432"/>
                    </a:cubicBezTo>
                    <a:cubicBezTo>
                      <a:pt x="208" y="448"/>
                      <a:pt x="248" y="456"/>
                      <a:pt x="240" y="480"/>
                    </a:cubicBezTo>
                    <a:cubicBezTo>
                      <a:pt x="232" y="504"/>
                      <a:pt x="176" y="560"/>
                      <a:pt x="144" y="576"/>
                    </a:cubicBezTo>
                    <a:cubicBezTo>
                      <a:pt x="112" y="592"/>
                      <a:pt x="72" y="584"/>
                      <a:pt x="48" y="576"/>
                    </a:cubicBezTo>
                    <a:cubicBezTo>
                      <a:pt x="24" y="568"/>
                      <a:pt x="12" y="548"/>
                      <a:pt x="0" y="52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3809880"/>
                <a:ext cx="761760" cy="304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52480" y="3352680"/>
                <a:ext cx="2044800" cy="66060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752480" y="3962520"/>
                <a:ext cx="2044800" cy="66024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5400000">
                <a:off x="5333760" y="3886200"/>
                <a:ext cx="304920" cy="304560"/>
              </a:xfrm>
              <a:prstGeom prst="can">
                <a:avLst>
                  <a:gd name="adj" fmla="val 296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533520" y="609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(Lateral)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048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(Dorsal)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828800"/>
            <a:ext cx="2209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b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bel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in 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327672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43200" y="1981080"/>
            <a:ext cx="36576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114800" y="1371240"/>
            <a:ext cx="2286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62160" y="2514600"/>
            <a:ext cx="2438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191120" y="182844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360" y="29718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800240" y="2514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638320" y="3429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ittal fissure      Cerebral hemisph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590920" y="3962160"/>
            <a:ext cx="380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3200040" y="434304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352680" y="3809520"/>
            <a:ext cx="24386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hat would a Midsagittal view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438280" y="2362320"/>
            <a:ext cx="4137120" cy="1269000"/>
            <a:chOff x="2438280" y="2362320"/>
            <a:chExt cx="4137120" cy="1269000"/>
          </a:xfrm>
        </p:grpSpPr>
        <p:sp>
          <p:nvSpPr>
            <p:cNvPr id="106" name=""/>
            <p:cNvSpPr/>
            <p:nvPr/>
          </p:nvSpPr>
          <p:spPr>
            <a:xfrm>
              <a:off x="4952880" y="2819160"/>
              <a:ext cx="1622520" cy="96480"/>
            </a:xfrm>
            <a:custGeom>
              <a:avLst/>
              <a:gdLst/>
              <a:ahLst/>
              <a:rect l="l" t="t" r="r" b="b"/>
              <a:pathLst>
                <a:path w="1022" h="61">
                  <a:moveTo>
                    <a:pt x="0" y="0"/>
                  </a:moveTo>
                  <a:cubicBezTo>
                    <a:pt x="48" y="16"/>
                    <a:pt x="95" y="38"/>
                    <a:pt x="192" y="48"/>
                  </a:cubicBezTo>
                  <a:cubicBezTo>
                    <a:pt x="289" y="58"/>
                    <a:pt x="445" y="57"/>
                    <a:pt x="583" y="59"/>
                  </a:cubicBezTo>
                  <a:cubicBezTo>
                    <a:pt x="721" y="61"/>
                    <a:pt x="931" y="59"/>
                    <a:pt x="1022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3124080"/>
              <a:ext cx="1608120" cy="88560"/>
            </a:xfrm>
            <a:custGeom>
              <a:avLst/>
              <a:gdLst/>
              <a:ahLst/>
              <a:rect l="l" t="t" r="r" b="b"/>
              <a:pathLst>
                <a:path w="1013" h="56">
                  <a:moveTo>
                    <a:pt x="0" y="56"/>
                  </a:moveTo>
                  <a:cubicBezTo>
                    <a:pt x="48" y="40"/>
                    <a:pt x="95" y="16"/>
                    <a:pt x="192" y="8"/>
                  </a:cubicBezTo>
                  <a:cubicBezTo>
                    <a:pt x="289" y="0"/>
                    <a:pt x="446" y="4"/>
                    <a:pt x="583" y="5"/>
                  </a:cubicBezTo>
                  <a:cubicBezTo>
                    <a:pt x="720" y="6"/>
                    <a:pt x="924" y="12"/>
                    <a:pt x="1013" y="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38280" y="2362320"/>
              <a:ext cx="4114800" cy="1269000"/>
              <a:chOff x="2438280" y="2362320"/>
              <a:chExt cx="4114800" cy="126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4876920" y="2895480"/>
                <a:ext cx="1523880" cy="2282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438280" y="2743200"/>
                <a:ext cx="317520" cy="26640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438280" y="2971800"/>
                <a:ext cx="317520" cy="266400"/>
              </a:xfrm>
              <a:custGeom>
                <a:avLst/>
                <a:gdLst/>
                <a:ahLst/>
                <a:rect l="l" t="t" r="r" b="b"/>
                <a:pathLst>
                  <a:path w="200" h="168">
                    <a:moveTo>
                      <a:pt x="200" y="160"/>
                    </a:moveTo>
                    <a:cubicBezTo>
                      <a:pt x="144" y="164"/>
                      <a:pt x="88" y="168"/>
                      <a:pt x="56" y="160"/>
                    </a:cubicBezTo>
                    <a:cubicBezTo>
                      <a:pt x="24" y="152"/>
                      <a:pt x="0" y="136"/>
                      <a:pt x="8" y="112"/>
                    </a:cubicBezTo>
                    <a:cubicBezTo>
                      <a:pt x="16" y="88"/>
                      <a:pt x="72" y="32"/>
                      <a:pt x="104" y="16"/>
                    </a:cubicBezTo>
                    <a:cubicBezTo>
                      <a:pt x="136" y="0"/>
                      <a:pt x="168" y="8"/>
                      <a:pt x="200" y="16"/>
                    </a:cubicBez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8320" y="2514600"/>
                <a:ext cx="393480" cy="939240"/>
              </a:xfrm>
              <a:custGeom>
                <a:avLst/>
                <a:gdLst/>
                <a:ahLst/>
                <a:rect l="l" t="t" r="r" b="b"/>
                <a:pathLst>
                  <a:path w="248" h="592">
                    <a:moveTo>
                      <a:pt x="0" y="48"/>
                    </a:moveTo>
                    <a:cubicBezTo>
                      <a:pt x="32" y="24"/>
                      <a:pt x="64" y="0"/>
                      <a:pt x="96" y="0"/>
                    </a:cubicBezTo>
                    <a:cubicBezTo>
                      <a:pt x="128" y="0"/>
                      <a:pt x="168" y="24"/>
                      <a:pt x="192" y="48"/>
                    </a:cubicBezTo>
                    <a:cubicBezTo>
                      <a:pt x="216" y="72"/>
                      <a:pt x="248" y="120"/>
                      <a:pt x="240" y="144"/>
                    </a:cubicBezTo>
                    <a:cubicBezTo>
                      <a:pt x="232" y="168"/>
                      <a:pt x="152" y="176"/>
                      <a:pt x="144" y="192"/>
                    </a:cubicBezTo>
                    <a:cubicBezTo>
                      <a:pt x="136" y="208"/>
                      <a:pt x="184" y="216"/>
                      <a:pt x="192" y="240"/>
                    </a:cubicBezTo>
                    <a:cubicBezTo>
                      <a:pt x="200" y="264"/>
                      <a:pt x="200" y="312"/>
                      <a:pt x="192" y="336"/>
                    </a:cubicBezTo>
                    <a:cubicBezTo>
                      <a:pt x="184" y="360"/>
                      <a:pt x="144" y="368"/>
                      <a:pt x="144" y="384"/>
                    </a:cubicBezTo>
                    <a:cubicBezTo>
                      <a:pt x="144" y="400"/>
                      <a:pt x="176" y="416"/>
                      <a:pt x="192" y="432"/>
                    </a:cubicBezTo>
                    <a:cubicBezTo>
                      <a:pt x="208" y="448"/>
                      <a:pt x="248" y="456"/>
                      <a:pt x="240" y="480"/>
                    </a:cubicBezTo>
                    <a:cubicBezTo>
                      <a:pt x="232" y="504"/>
                      <a:pt x="176" y="560"/>
                      <a:pt x="144" y="576"/>
                    </a:cubicBezTo>
                    <a:cubicBezTo>
                      <a:pt x="112" y="592"/>
                      <a:pt x="72" y="584"/>
                      <a:pt x="48" y="576"/>
                    </a:cubicBezTo>
                    <a:cubicBezTo>
                      <a:pt x="24" y="568"/>
                      <a:pt x="12" y="548"/>
                      <a:pt x="0" y="528"/>
                    </a:cubicBezTo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1120" y="2819160"/>
                <a:ext cx="761760" cy="3045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66880" y="2362320"/>
                <a:ext cx="2044800" cy="66024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666880" y="2971080"/>
                <a:ext cx="2044800" cy="659880"/>
              </a:xfrm>
              <a:custGeom>
                <a:avLst/>
                <a:gdLst/>
                <a:ahLst/>
                <a:rect l="l" t="t" r="r" b="b"/>
                <a:pathLst>
                  <a:path w="1288" h="416">
                    <a:moveTo>
                      <a:pt x="136" y="400"/>
                    </a:moveTo>
                    <a:cubicBezTo>
                      <a:pt x="272" y="416"/>
                      <a:pt x="704" y="400"/>
                      <a:pt x="856" y="400"/>
                    </a:cubicBezTo>
                    <a:cubicBezTo>
                      <a:pt x="1008" y="400"/>
                      <a:pt x="1000" y="408"/>
                      <a:pt x="1048" y="400"/>
                    </a:cubicBezTo>
                    <a:cubicBezTo>
                      <a:pt x="1096" y="392"/>
                      <a:pt x="1112" y="368"/>
                      <a:pt x="1144" y="352"/>
                    </a:cubicBezTo>
                    <a:cubicBezTo>
                      <a:pt x="1176" y="336"/>
                      <a:pt x="1216" y="328"/>
                      <a:pt x="1240" y="304"/>
                    </a:cubicBezTo>
                    <a:cubicBezTo>
                      <a:pt x="1264" y="280"/>
                      <a:pt x="1288" y="240"/>
                      <a:pt x="1288" y="208"/>
                    </a:cubicBezTo>
                    <a:cubicBezTo>
                      <a:pt x="1288" y="176"/>
                      <a:pt x="1264" y="136"/>
                      <a:pt x="1240" y="112"/>
                    </a:cubicBezTo>
                    <a:cubicBezTo>
                      <a:pt x="1216" y="88"/>
                      <a:pt x="1200" y="80"/>
                      <a:pt x="1144" y="64"/>
                    </a:cubicBezTo>
                    <a:cubicBezTo>
                      <a:pt x="1088" y="48"/>
                      <a:pt x="984" y="24"/>
                      <a:pt x="904" y="16"/>
                    </a:cubicBezTo>
                    <a:cubicBezTo>
                      <a:pt x="824" y="8"/>
                      <a:pt x="752" y="0"/>
                      <a:pt x="664" y="16"/>
                    </a:cubicBezTo>
                    <a:cubicBezTo>
                      <a:pt x="576" y="32"/>
                      <a:pt x="472" y="72"/>
                      <a:pt x="376" y="112"/>
                    </a:cubicBezTo>
                    <a:cubicBezTo>
                      <a:pt x="280" y="152"/>
                      <a:pt x="144" y="224"/>
                      <a:pt x="88" y="256"/>
                    </a:cubicBezTo>
                    <a:cubicBezTo>
                      <a:pt x="32" y="288"/>
                      <a:pt x="32" y="280"/>
                      <a:pt x="40" y="304"/>
                    </a:cubicBezTo>
                    <a:cubicBezTo>
                      <a:pt x="48" y="328"/>
                      <a:pt x="0" y="384"/>
                      <a:pt x="136" y="400"/>
                    </a:cubicBez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6248520" y="2895480"/>
                <a:ext cx="304560" cy="304560"/>
              </a:xfrm>
              <a:prstGeom prst="can">
                <a:avLst>
                  <a:gd name="adj" fmla="val 29685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3048120" y="2514600"/>
            <a:ext cx="3208320" cy="927000"/>
            <a:chOff x="3048120" y="2514600"/>
            <a:chExt cx="3208320" cy="927000"/>
          </a:xfrm>
        </p:grpSpPr>
        <p:sp>
          <p:nvSpPr>
            <p:cNvPr id="118" name=""/>
            <p:cNvSpPr/>
            <p:nvPr/>
          </p:nvSpPr>
          <p:spPr>
            <a:xfrm>
              <a:off x="3048120" y="2948040"/>
              <a:ext cx="3197160" cy="493560"/>
            </a:xfrm>
            <a:custGeom>
              <a:avLst/>
              <a:gdLst/>
              <a:ahLst/>
              <a:rect l="l" t="t" r="r" b="b"/>
              <a:pathLst>
                <a:path w="2014" h="311">
                  <a:moveTo>
                    <a:pt x="104" y="15"/>
                  </a:moveTo>
                  <a:cubicBezTo>
                    <a:pt x="112" y="55"/>
                    <a:pt x="120" y="95"/>
                    <a:pt x="104" y="111"/>
                  </a:cubicBezTo>
                  <a:cubicBezTo>
                    <a:pt x="88" y="127"/>
                    <a:pt x="0" y="95"/>
                    <a:pt x="8" y="111"/>
                  </a:cubicBezTo>
                  <a:cubicBezTo>
                    <a:pt x="16" y="127"/>
                    <a:pt x="80" y="183"/>
                    <a:pt x="152" y="207"/>
                  </a:cubicBezTo>
                  <a:cubicBezTo>
                    <a:pt x="224" y="231"/>
                    <a:pt x="360" y="239"/>
                    <a:pt x="440" y="255"/>
                  </a:cubicBezTo>
                  <a:cubicBezTo>
                    <a:pt x="520" y="271"/>
                    <a:pt x="576" y="311"/>
                    <a:pt x="632" y="303"/>
                  </a:cubicBezTo>
                  <a:cubicBezTo>
                    <a:pt x="688" y="295"/>
                    <a:pt x="776" y="231"/>
                    <a:pt x="776" y="207"/>
                  </a:cubicBezTo>
                  <a:cubicBezTo>
                    <a:pt x="776" y="183"/>
                    <a:pt x="720" y="175"/>
                    <a:pt x="632" y="159"/>
                  </a:cubicBezTo>
                  <a:cubicBezTo>
                    <a:pt x="544" y="143"/>
                    <a:pt x="320" y="127"/>
                    <a:pt x="248" y="111"/>
                  </a:cubicBezTo>
                  <a:cubicBezTo>
                    <a:pt x="176" y="95"/>
                    <a:pt x="184" y="71"/>
                    <a:pt x="200" y="63"/>
                  </a:cubicBezTo>
                  <a:cubicBezTo>
                    <a:pt x="216" y="55"/>
                    <a:pt x="272" y="63"/>
                    <a:pt x="344" y="63"/>
                  </a:cubicBezTo>
                  <a:cubicBezTo>
                    <a:pt x="416" y="63"/>
                    <a:pt x="536" y="63"/>
                    <a:pt x="632" y="63"/>
                  </a:cubicBezTo>
                  <a:cubicBezTo>
                    <a:pt x="728" y="63"/>
                    <a:pt x="848" y="55"/>
                    <a:pt x="920" y="63"/>
                  </a:cubicBezTo>
                  <a:cubicBezTo>
                    <a:pt x="992" y="71"/>
                    <a:pt x="1032" y="95"/>
                    <a:pt x="1064" y="111"/>
                  </a:cubicBezTo>
                  <a:cubicBezTo>
                    <a:pt x="1096" y="127"/>
                    <a:pt x="1079" y="173"/>
                    <a:pt x="1112" y="159"/>
                  </a:cubicBezTo>
                  <a:cubicBezTo>
                    <a:pt x="1145" y="145"/>
                    <a:pt x="1114" y="48"/>
                    <a:pt x="1264" y="24"/>
                  </a:cubicBezTo>
                  <a:cubicBezTo>
                    <a:pt x="1414" y="0"/>
                    <a:pt x="1858" y="17"/>
                    <a:pt x="2014" y="15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2514600"/>
              <a:ext cx="3208320" cy="469800"/>
            </a:xfrm>
            <a:custGeom>
              <a:avLst/>
              <a:gdLst/>
              <a:ahLst/>
              <a:rect l="l" t="t" r="r" b="b"/>
              <a:pathLst>
                <a:path w="2021" h="296">
                  <a:moveTo>
                    <a:pt x="104" y="296"/>
                  </a:moveTo>
                  <a:cubicBezTo>
                    <a:pt x="112" y="256"/>
                    <a:pt x="120" y="216"/>
                    <a:pt x="104" y="200"/>
                  </a:cubicBezTo>
                  <a:cubicBezTo>
                    <a:pt x="88" y="184"/>
                    <a:pt x="0" y="216"/>
                    <a:pt x="8" y="200"/>
                  </a:cubicBezTo>
                  <a:cubicBezTo>
                    <a:pt x="16" y="184"/>
                    <a:pt x="80" y="128"/>
                    <a:pt x="152" y="104"/>
                  </a:cubicBezTo>
                  <a:cubicBezTo>
                    <a:pt x="224" y="80"/>
                    <a:pt x="360" y="72"/>
                    <a:pt x="440" y="56"/>
                  </a:cubicBezTo>
                  <a:cubicBezTo>
                    <a:pt x="520" y="40"/>
                    <a:pt x="576" y="0"/>
                    <a:pt x="632" y="8"/>
                  </a:cubicBezTo>
                  <a:cubicBezTo>
                    <a:pt x="688" y="16"/>
                    <a:pt x="776" y="80"/>
                    <a:pt x="776" y="104"/>
                  </a:cubicBezTo>
                  <a:cubicBezTo>
                    <a:pt x="776" y="128"/>
                    <a:pt x="720" y="136"/>
                    <a:pt x="632" y="152"/>
                  </a:cubicBezTo>
                  <a:cubicBezTo>
                    <a:pt x="544" y="168"/>
                    <a:pt x="320" y="184"/>
                    <a:pt x="248" y="200"/>
                  </a:cubicBezTo>
                  <a:cubicBezTo>
                    <a:pt x="176" y="216"/>
                    <a:pt x="184" y="240"/>
                    <a:pt x="200" y="248"/>
                  </a:cubicBezTo>
                  <a:cubicBezTo>
                    <a:pt x="216" y="256"/>
                    <a:pt x="272" y="248"/>
                    <a:pt x="344" y="248"/>
                  </a:cubicBezTo>
                  <a:cubicBezTo>
                    <a:pt x="416" y="248"/>
                    <a:pt x="536" y="248"/>
                    <a:pt x="632" y="248"/>
                  </a:cubicBezTo>
                  <a:cubicBezTo>
                    <a:pt x="728" y="248"/>
                    <a:pt x="848" y="256"/>
                    <a:pt x="920" y="248"/>
                  </a:cubicBezTo>
                  <a:cubicBezTo>
                    <a:pt x="992" y="240"/>
                    <a:pt x="1032" y="216"/>
                    <a:pt x="1064" y="200"/>
                  </a:cubicBezTo>
                  <a:cubicBezTo>
                    <a:pt x="1096" y="184"/>
                    <a:pt x="1080" y="140"/>
                    <a:pt x="1112" y="152"/>
                  </a:cubicBezTo>
                  <a:cubicBezTo>
                    <a:pt x="1144" y="164"/>
                    <a:pt x="1104" y="249"/>
                    <a:pt x="1255" y="270"/>
                  </a:cubicBezTo>
                  <a:cubicBezTo>
                    <a:pt x="1406" y="291"/>
                    <a:pt x="1862" y="276"/>
                    <a:pt x="2021" y="277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38280" y="2362320"/>
            <a:ext cx="2374920" cy="1244520"/>
            <a:chOff x="2438280" y="2362320"/>
            <a:chExt cx="2374920" cy="1244520"/>
          </a:xfrm>
        </p:grpSpPr>
        <p:sp>
          <p:nvSpPr>
            <p:cNvPr id="121" name=""/>
            <p:cNvSpPr/>
            <p:nvPr/>
          </p:nvSpPr>
          <p:spPr>
            <a:xfrm>
              <a:off x="2438280" y="3048120"/>
              <a:ext cx="2374920" cy="558720"/>
            </a:xfrm>
            <a:custGeom>
              <a:avLst/>
              <a:gdLst/>
              <a:ahLst/>
              <a:rect l="l" t="t" r="r" b="b"/>
              <a:pathLst>
                <a:path w="1496" h="352">
                  <a:moveTo>
                    <a:pt x="0" y="0"/>
                  </a:moveTo>
                  <a:cubicBezTo>
                    <a:pt x="32" y="40"/>
                    <a:pt x="64" y="80"/>
                    <a:pt x="96" y="96"/>
                  </a:cubicBezTo>
                  <a:cubicBezTo>
                    <a:pt x="128" y="112"/>
                    <a:pt x="128" y="72"/>
                    <a:pt x="192" y="96"/>
                  </a:cubicBezTo>
                  <a:cubicBezTo>
                    <a:pt x="256" y="120"/>
                    <a:pt x="384" y="200"/>
                    <a:pt x="480" y="240"/>
                  </a:cubicBezTo>
                  <a:cubicBezTo>
                    <a:pt x="576" y="280"/>
                    <a:pt x="656" y="320"/>
                    <a:pt x="768" y="336"/>
                  </a:cubicBezTo>
                  <a:cubicBezTo>
                    <a:pt x="880" y="352"/>
                    <a:pt x="1040" y="352"/>
                    <a:pt x="1152" y="336"/>
                  </a:cubicBezTo>
                  <a:cubicBezTo>
                    <a:pt x="1264" y="320"/>
                    <a:pt x="1384" y="280"/>
                    <a:pt x="1440" y="240"/>
                  </a:cubicBezTo>
                  <a:cubicBezTo>
                    <a:pt x="1496" y="200"/>
                    <a:pt x="1492" y="148"/>
                    <a:pt x="1488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38280" y="2362320"/>
              <a:ext cx="2374920" cy="558720"/>
            </a:xfrm>
            <a:custGeom>
              <a:avLst/>
              <a:gdLst/>
              <a:ahLst/>
              <a:rect l="l" t="t" r="r" b="b"/>
              <a:pathLst>
                <a:path w="1496" h="352">
                  <a:moveTo>
                    <a:pt x="0" y="0"/>
                  </a:moveTo>
                  <a:cubicBezTo>
                    <a:pt x="32" y="40"/>
                    <a:pt x="64" y="80"/>
                    <a:pt x="96" y="96"/>
                  </a:cubicBezTo>
                  <a:cubicBezTo>
                    <a:pt x="128" y="112"/>
                    <a:pt x="128" y="72"/>
                    <a:pt x="192" y="96"/>
                  </a:cubicBezTo>
                  <a:cubicBezTo>
                    <a:pt x="256" y="120"/>
                    <a:pt x="384" y="200"/>
                    <a:pt x="480" y="240"/>
                  </a:cubicBezTo>
                  <a:cubicBezTo>
                    <a:pt x="576" y="280"/>
                    <a:pt x="656" y="320"/>
                    <a:pt x="768" y="336"/>
                  </a:cubicBezTo>
                  <a:cubicBezTo>
                    <a:pt x="880" y="352"/>
                    <a:pt x="1040" y="352"/>
                    <a:pt x="1152" y="336"/>
                  </a:cubicBezTo>
                  <a:cubicBezTo>
                    <a:pt x="1264" y="320"/>
                    <a:pt x="1384" y="280"/>
                    <a:pt x="1440" y="240"/>
                  </a:cubicBezTo>
                  <a:cubicBezTo>
                    <a:pt x="1496" y="200"/>
                    <a:pt x="1492" y="148"/>
                    <a:pt x="1488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038480" y="464832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F (Cerebro-spinal Flu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676520"/>
            <a:ext cx="27432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 mater (Hard 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dura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chnoid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arachnoi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a mater (Gentle Mo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53352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y 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ural Groov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ura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 Dors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9560" y="2867040"/>
            <a:ext cx="1403280" cy="3313080"/>
            <a:chOff x="3049560" y="2867040"/>
            <a:chExt cx="1403280" cy="3313080"/>
          </a:xfrm>
        </p:grpSpPr>
        <p:sp>
          <p:nvSpPr>
            <p:cNvPr id="127" name=""/>
            <p:cNvSpPr/>
            <p:nvPr/>
          </p:nvSpPr>
          <p:spPr>
            <a:xfrm>
              <a:off x="3733920" y="2870280"/>
              <a:ext cx="718920" cy="3301920"/>
            </a:xfrm>
            <a:custGeom>
              <a:avLst/>
              <a:gdLst/>
              <a:ahLst/>
              <a:rect l="l" t="t" r="r" b="b"/>
              <a:pathLst>
                <a:path w="453" h="2080">
                  <a:moveTo>
                    <a:pt x="0" y="0"/>
                  </a:moveTo>
                  <a:cubicBezTo>
                    <a:pt x="15" y="4"/>
                    <a:pt x="72" y="13"/>
                    <a:pt x="96" y="24"/>
                  </a:cubicBezTo>
                  <a:cubicBezTo>
                    <a:pt x="120" y="35"/>
                    <a:pt x="128" y="37"/>
                    <a:pt x="144" y="64"/>
                  </a:cubicBezTo>
                  <a:cubicBezTo>
                    <a:pt x="160" y="91"/>
                    <a:pt x="158" y="161"/>
                    <a:pt x="190" y="185"/>
                  </a:cubicBezTo>
                  <a:cubicBezTo>
                    <a:pt x="222" y="209"/>
                    <a:pt x="295" y="194"/>
                    <a:pt x="336" y="208"/>
                  </a:cubicBezTo>
                  <a:cubicBezTo>
                    <a:pt x="377" y="222"/>
                    <a:pt x="421" y="235"/>
                    <a:pt x="437" y="267"/>
                  </a:cubicBezTo>
                  <a:cubicBezTo>
                    <a:pt x="453" y="299"/>
                    <a:pt x="449" y="370"/>
                    <a:pt x="432" y="400"/>
                  </a:cubicBezTo>
                  <a:cubicBezTo>
                    <a:pt x="415" y="430"/>
                    <a:pt x="376" y="440"/>
                    <a:pt x="336" y="448"/>
                  </a:cubicBezTo>
                  <a:cubicBezTo>
                    <a:pt x="296" y="456"/>
                    <a:pt x="224" y="440"/>
                    <a:pt x="192" y="448"/>
                  </a:cubicBezTo>
                  <a:cubicBezTo>
                    <a:pt x="160" y="456"/>
                    <a:pt x="152" y="472"/>
                    <a:pt x="144" y="496"/>
                  </a:cubicBezTo>
                  <a:cubicBezTo>
                    <a:pt x="136" y="520"/>
                    <a:pt x="132" y="562"/>
                    <a:pt x="144" y="592"/>
                  </a:cubicBezTo>
                  <a:cubicBezTo>
                    <a:pt x="156" y="622"/>
                    <a:pt x="201" y="647"/>
                    <a:pt x="217" y="679"/>
                  </a:cubicBezTo>
                  <a:cubicBezTo>
                    <a:pt x="233" y="711"/>
                    <a:pt x="252" y="743"/>
                    <a:pt x="240" y="784"/>
                  </a:cubicBezTo>
                  <a:cubicBezTo>
                    <a:pt x="228" y="825"/>
                    <a:pt x="158" y="871"/>
                    <a:pt x="144" y="928"/>
                  </a:cubicBezTo>
                  <a:cubicBezTo>
                    <a:pt x="130" y="985"/>
                    <a:pt x="137" y="1055"/>
                    <a:pt x="153" y="1127"/>
                  </a:cubicBezTo>
                  <a:cubicBezTo>
                    <a:pt x="169" y="1199"/>
                    <a:pt x="249" y="1273"/>
                    <a:pt x="240" y="1360"/>
                  </a:cubicBezTo>
                  <a:cubicBezTo>
                    <a:pt x="231" y="1447"/>
                    <a:pt x="128" y="1544"/>
                    <a:pt x="96" y="1648"/>
                  </a:cubicBezTo>
                  <a:cubicBezTo>
                    <a:pt x="64" y="1752"/>
                    <a:pt x="56" y="1912"/>
                    <a:pt x="48" y="1984"/>
                  </a:cubicBezTo>
                  <a:cubicBezTo>
                    <a:pt x="40" y="2056"/>
                    <a:pt x="44" y="2068"/>
                    <a:pt x="48" y="208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560" y="2867040"/>
              <a:ext cx="722520" cy="3313080"/>
            </a:xfrm>
            <a:custGeom>
              <a:avLst/>
              <a:gdLst/>
              <a:ahLst/>
              <a:rect l="l" t="t" r="r" b="b"/>
              <a:pathLst>
                <a:path w="455" h="2087">
                  <a:moveTo>
                    <a:pt x="455" y="10"/>
                  </a:moveTo>
                  <a:cubicBezTo>
                    <a:pt x="444" y="10"/>
                    <a:pt x="407" y="0"/>
                    <a:pt x="383" y="10"/>
                  </a:cubicBezTo>
                  <a:cubicBezTo>
                    <a:pt x="359" y="20"/>
                    <a:pt x="329" y="41"/>
                    <a:pt x="309" y="71"/>
                  </a:cubicBezTo>
                  <a:cubicBezTo>
                    <a:pt x="289" y="101"/>
                    <a:pt x="295" y="168"/>
                    <a:pt x="263" y="192"/>
                  </a:cubicBezTo>
                  <a:cubicBezTo>
                    <a:pt x="231" y="216"/>
                    <a:pt x="158" y="201"/>
                    <a:pt x="117" y="215"/>
                  </a:cubicBezTo>
                  <a:cubicBezTo>
                    <a:pt x="76" y="229"/>
                    <a:pt x="32" y="242"/>
                    <a:pt x="16" y="274"/>
                  </a:cubicBezTo>
                  <a:cubicBezTo>
                    <a:pt x="0" y="306"/>
                    <a:pt x="4" y="377"/>
                    <a:pt x="21" y="407"/>
                  </a:cubicBezTo>
                  <a:cubicBezTo>
                    <a:pt x="38" y="437"/>
                    <a:pt x="77" y="447"/>
                    <a:pt x="117" y="455"/>
                  </a:cubicBezTo>
                  <a:cubicBezTo>
                    <a:pt x="157" y="463"/>
                    <a:pt x="229" y="447"/>
                    <a:pt x="261" y="455"/>
                  </a:cubicBezTo>
                  <a:cubicBezTo>
                    <a:pt x="293" y="463"/>
                    <a:pt x="301" y="479"/>
                    <a:pt x="309" y="503"/>
                  </a:cubicBezTo>
                  <a:cubicBezTo>
                    <a:pt x="317" y="527"/>
                    <a:pt x="321" y="569"/>
                    <a:pt x="309" y="599"/>
                  </a:cubicBezTo>
                  <a:cubicBezTo>
                    <a:pt x="297" y="629"/>
                    <a:pt x="252" y="654"/>
                    <a:pt x="236" y="686"/>
                  </a:cubicBezTo>
                  <a:cubicBezTo>
                    <a:pt x="220" y="718"/>
                    <a:pt x="201" y="750"/>
                    <a:pt x="213" y="791"/>
                  </a:cubicBezTo>
                  <a:cubicBezTo>
                    <a:pt x="225" y="832"/>
                    <a:pt x="295" y="878"/>
                    <a:pt x="309" y="935"/>
                  </a:cubicBezTo>
                  <a:cubicBezTo>
                    <a:pt x="323" y="992"/>
                    <a:pt x="316" y="1062"/>
                    <a:pt x="300" y="1134"/>
                  </a:cubicBezTo>
                  <a:cubicBezTo>
                    <a:pt x="284" y="1206"/>
                    <a:pt x="204" y="1280"/>
                    <a:pt x="213" y="1367"/>
                  </a:cubicBezTo>
                  <a:cubicBezTo>
                    <a:pt x="222" y="1454"/>
                    <a:pt x="325" y="1551"/>
                    <a:pt x="357" y="1655"/>
                  </a:cubicBezTo>
                  <a:cubicBezTo>
                    <a:pt x="389" y="1759"/>
                    <a:pt x="397" y="1919"/>
                    <a:pt x="405" y="1991"/>
                  </a:cubicBezTo>
                  <a:cubicBezTo>
                    <a:pt x="413" y="2063"/>
                    <a:pt x="409" y="2075"/>
                    <a:pt x="405" y="2087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52480" y="2895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73392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441972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63868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895480"/>
            <a:ext cx="2133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e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id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hom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hind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30600" y="2489040"/>
            <a:ext cx="1460520" cy="3225960"/>
          </a:xfrm>
          <a:custGeom>
            <a:avLst/>
            <a:gdLst/>
            <a:ahLst/>
            <a:rect l="l" t="t" r="r" b="b"/>
            <a:pathLst>
              <a:path w="920" h="2032">
                <a:moveTo>
                  <a:pt x="920" y="256"/>
                </a:moveTo>
                <a:cubicBezTo>
                  <a:pt x="908" y="232"/>
                  <a:pt x="896" y="208"/>
                  <a:pt x="872" y="208"/>
                </a:cubicBezTo>
                <a:cubicBezTo>
                  <a:pt x="848" y="208"/>
                  <a:pt x="808" y="256"/>
                  <a:pt x="776" y="256"/>
                </a:cubicBezTo>
                <a:cubicBezTo>
                  <a:pt x="744" y="256"/>
                  <a:pt x="736" y="248"/>
                  <a:pt x="680" y="208"/>
                </a:cubicBezTo>
                <a:cubicBezTo>
                  <a:pt x="624" y="168"/>
                  <a:pt x="528" y="32"/>
                  <a:pt x="440" y="16"/>
                </a:cubicBezTo>
                <a:cubicBezTo>
                  <a:pt x="352" y="0"/>
                  <a:pt x="224" y="40"/>
                  <a:pt x="152" y="112"/>
                </a:cubicBezTo>
                <a:cubicBezTo>
                  <a:pt x="80" y="184"/>
                  <a:pt x="16" y="336"/>
                  <a:pt x="8" y="448"/>
                </a:cubicBezTo>
                <a:cubicBezTo>
                  <a:pt x="0" y="560"/>
                  <a:pt x="48" y="736"/>
                  <a:pt x="104" y="784"/>
                </a:cubicBezTo>
                <a:cubicBezTo>
                  <a:pt x="160" y="832"/>
                  <a:pt x="288" y="792"/>
                  <a:pt x="344" y="736"/>
                </a:cubicBezTo>
                <a:cubicBezTo>
                  <a:pt x="400" y="680"/>
                  <a:pt x="384" y="488"/>
                  <a:pt x="440" y="448"/>
                </a:cubicBezTo>
                <a:cubicBezTo>
                  <a:pt x="496" y="408"/>
                  <a:pt x="632" y="472"/>
                  <a:pt x="680" y="496"/>
                </a:cubicBezTo>
                <a:cubicBezTo>
                  <a:pt x="728" y="520"/>
                  <a:pt x="736" y="552"/>
                  <a:pt x="728" y="592"/>
                </a:cubicBezTo>
                <a:cubicBezTo>
                  <a:pt x="720" y="632"/>
                  <a:pt x="656" y="672"/>
                  <a:pt x="632" y="736"/>
                </a:cubicBezTo>
                <a:cubicBezTo>
                  <a:pt x="608" y="800"/>
                  <a:pt x="560" y="888"/>
                  <a:pt x="584" y="976"/>
                </a:cubicBezTo>
                <a:cubicBezTo>
                  <a:pt x="608" y="1064"/>
                  <a:pt x="744" y="1192"/>
                  <a:pt x="776" y="1264"/>
                </a:cubicBezTo>
                <a:cubicBezTo>
                  <a:pt x="808" y="1336"/>
                  <a:pt x="800" y="1344"/>
                  <a:pt x="776" y="1408"/>
                </a:cubicBezTo>
                <a:cubicBezTo>
                  <a:pt x="752" y="1472"/>
                  <a:pt x="656" y="1576"/>
                  <a:pt x="632" y="1648"/>
                </a:cubicBezTo>
                <a:cubicBezTo>
                  <a:pt x="608" y="1720"/>
                  <a:pt x="608" y="1776"/>
                  <a:pt x="632" y="1840"/>
                </a:cubicBezTo>
                <a:cubicBezTo>
                  <a:pt x="656" y="1904"/>
                  <a:pt x="716" y="1968"/>
                  <a:pt x="776" y="20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90400" y="2514600"/>
            <a:ext cx="1460520" cy="3225960"/>
          </a:xfrm>
          <a:custGeom>
            <a:avLst/>
            <a:gdLst/>
            <a:ahLst/>
            <a:rect l="l" t="t" r="r" b="b"/>
            <a:pathLst>
              <a:path w="920" h="2032">
                <a:moveTo>
                  <a:pt x="920" y="256"/>
                </a:moveTo>
                <a:cubicBezTo>
                  <a:pt x="908" y="232"/>
                  <a:pt x="896" y="208"/>
                  <a:pt x="872" y="208"/>
                </a:cubicBezTo>
                <a:cubicBezTo>
                  <a:pt x="848" y="208"/>
                  <a:pt x="808" y="256"/>
                  <a:pt x="776" y="256"/>
                </a:cubicBezTo>
                <a:cubicBezTo>
                  <a:pt x="744" y="256"/>
                  <a:pt x="736" y="248"/>
                  <a:pt x="680" y="208"/>
                </a:cubicBezTo>
                <a:cubicBezTo>
                  <a:pt x="624" y="168"/>
                  <a:pt x="528" y="32"/>
                  <a:pt x="440" y="16"/>
                </a:cubicBezTo>
                <a:cubicBezTo>
                  <a:pt x="352" y="0"/>
                  <a:pt x="224" y="40"/>
                  <a:pt x="152" y="112"/>
                </a:cubicBezTo>
                <a:cubicBezTo>
                  <a:pt x="80" y="184"/>
                  <a:pt x="16" y="336"/>
                  <a:pt x="8" y="448"/>
                </a:cubicBezTo>
                <a:cubicBezTo>
                  <a:pt x="0" y="560"/>
                  <a:pt x="48" y="736"/>
                  <a:pt x="104" y="784"/>
                </a:cubicBezTo>
                <a:cubicBezTo>
                  <a:pt x="160" y="832"/>
                  <a:pt x="288" y="792"/>
                  <a:pt x="344" y="736"/>
                </a:cubicBezTo>
                <a:cubicBezTo>
                  <a:pt x="400" y="680"/>
                  <a:pt x="384" y="488"/>
                  <a:pt x="440" y="448"/>
                </a:cubicBezTo>
                <a:cubicBezTo>
                  <a:pt x="496" y="408"/>
                  <a:pt x="632" y="472"/>
                  <a:pt x="680" y="496"/>
                </a:cubicBezTo>
                <a:cubicBezTo>
                  <a:pt x="728" y="520"/>
                  <a:pt x="736" y="552"/>
                  <a:pt x="728" y="592"/>
                </a:cubicBezTo>
                <a:cubicBezTo>
                  <a:pt x="720" y="632"/>
                  <a:pt x="656" y="672"/>
                  <a:pt x="632" y="736"/>
                </a:cubicBezTo>
                <a:cubicBezTo>
                  <a:pt x="608" y="800"/>
                  <a:pt x="560" y="888"/>
                  <a:pt x="584" y="976"/>
                </a:cubicBezTo>
                <a:cubicBezTo>
                  <a:pt x="608" y="1064"/>
                  <a:pt x="744" y="1192"/>
                  <a:pt x="776" y="1264"/>
                </a:cubicBezTo>
                <a:cubicBezTo>
                  <a:pt x="808" y="1336"/>
                  <a:pt x="800" y="1344"/>
                  <a:pt x="776" y="1408"/>
                </a:cubicBezTo>
                <a:cubicBezTo>
                  <a:pt x="752" y="1472"/>
                  <a:pt x="656" y="1576"/>
                  <a:pt x="632" y="1648"/>
                </a:cubicBezTo>
                <a:cubicBezTo>
                  <a:pt x="608" y="1720"/>
                  <a:pt x="608" y="1776"/>
                  <a:pt x="632" y="1840"/>
                </a:cubicBezTo>
                <a:cubicBezTo>
                  <a:pt x="656" y="1904"/>
                  <a:pt x="716" y="1968"/>
                  <a:pt x="776" y="20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800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2286000"/>
            <a:ext cx="2133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 cerebral hemesphe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etween br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idb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nervous system i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8098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8098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2:17:39Z</dcterms:created>
  <dc:creator>Arunava Banerjee</dc:creator>
  <dc:description/>
  <dc:language>en-US</dc:language>
  <cp:lastModifiedBy>Arunava Banerjee</cp:lastModifiedBy>
  <dcterms:modified xsi:type="dcterms:W3CDTF">2004-01-08T16:32:56Z</dcterms:modified>
  <cp:revision>38</cp:revision>
  <dc:subject/>
  <dc:title>Slide 1</dc:title>
</cp:coreProperties>
</file>