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9A6-0A9A-4B0F-9D31-BE1664CE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C17-9E19-48F2-9CC4-CB69D917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065-7AC3-4868-A11A-D19DA95F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94D-3D76-4A18-BB72-685392DD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C78-9BAA-4BE5-BAAE-E91D404E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8CA-C79A-465D-A374-EC0D52B4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3E8-9490-415E-8455-37794B26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DB3-FAD6-47DC-8C65-7C5E547F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5B2-C517-4F0B-932F-9B63C3AA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3B1-E3A5-4061-BE24-18093B0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480-BE7A-41A5-81DD-ED21544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B9B-B34E-49CF-ADE4-8992ACFE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AB19-45A7-4BD0-BB5A-61963733842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Neuron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eurobiological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heories of Mental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840" y="1500120"/>
            <a:ext cx="8750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. Discuss the structures, processes, and functions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br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. Describe the current neurobiological research and theories that are the basis for current psychopharmacologic treatment of mental disor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. Discuss the nurse’s role in educating clients and families about current neurobiological theories and medication management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4200" y="336600"/>
            <a:ext cx="867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TA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Glutamate is an excitatory amino acid that, at high levels, can have major neurotoxic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Glutamate has been implicated in the brain damage caused by stroke, hypoglycemia, sustained hypoxia or ischemia, and some degenerative diseases such as Huntington’s or Alzheimer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68360" y="62064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AMMA-AMINOBUTYRIC ACID (GA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GABA, an amino acid, is the major inhibitory neurotransmitter in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found to modulate other neurotransmitter systems rather than to provide a direct stimul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eurobiological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heories of Mental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840" y="1500120"/>
            <a:ext cx="8750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The psychiatric mental health nurse must have a basic understanding of how the brain functions and of the current theories regarding mental ill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ximately 100 billion brain cells form groups of neurons, or nerve cells, that are arranged in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eurobiological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heories of Mental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70028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ynap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is a structure that permits a 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eur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ass an electrical or chemical signal to another neur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Calibri"/>
              </a:rPr>
              <a:t>These neurons communicate information with one another by sending electrochemical messages from neuron to neuron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, a process called </a:t>
            </a:r>
            <a:r>
              <a:rPr b="1" i="1" lang="en-US" sz="2700" spc="-1" strike="noStrike">
                <a:solidFill>
                  <a:srgbClr val="1f497d"/>
                </a:solidFill>
                <a:latin typeface="Calibri"/>
              </a:rPr>
              <a:t>neurotransmission</a:t>
            </a:r>
            <a:r>
              <a:rPr b="1" i="1" lang="en-US" sz="27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Calibri"/>
              </a:rPr>
              <a:t>In the nervous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system, the electrochemical messages cross the synapses between neural cells by way of special chemical messengers called </a:t>
            </a:r>
            <a:r>
              <a:rPr b="1" lang="en-US" sz="2700" spc="-1" strike="noStrike">
                <a:solidFill>
                  <a:srgbClr val="1f497d"/>
                </a:solidFill>
                <a:latin typeface="Calibri"/>
              </a:rPr>
              <a:t>neurotransmitt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68360" y="148428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transmitters: are the chemical substanc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ufactured in the neuron that aid in the transmission of information throughout the body.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in the body that carries a signal from one nerve cell to anoth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either excite or stimulate an action in the cells (excitatory) or inhibit or stop an action (inhibito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Major neurotransmitters have been found to play a role in psychiatric illnesses as well as actions and side effects of psychotropic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3414960" y="2602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324000" y="404640"/>
            <a:ext cx="8286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P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opamine, a neurotransmitter located primarily in the brain stem, has been found to be involved in the control of complex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vements, motivation, cognition, and regulation of emotional responses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opamine is generally excitatory and is synthesized from tyrosine, a dietary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opamine is implicated in schizophrenia and other psychoses as well as movement disorders such as Parkins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ntipsychotic medications work by blocking dopamine receptors and reducing dopamine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14200" y="357120"/>
            <a:ext cx="8572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EPINEPHRINE AND EPINEPH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Norepinephrin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adrenalin)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, the most prevalent neurotransmitter in the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located primarily in the brain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Plays a role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nges in attention, learning and memory, sleep and wakefulness, and mood regu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Exces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epinephrine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has been implicated in several anxiety disorders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cit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ay contribute to memory loss, social withdrawal, and de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nephrine (adrenaline)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has limited distribution in the brain but controls the fight-or-flight response in the peripheral nervous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50920" y="189000"/>
            <a:ext cx="875196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OT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erotonin, a neurotransmitter found only in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erived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yptophan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, a dietary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 function of serotonin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ly inhibitory, and it is involved in the control of food intake, sleep and wakefulness, temperature regulation, pain control, sexual behavior, and regulation of e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erotonin plays an important role in anxiety and mood disorders and schizophr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It has been found to contribute to the delusions, hallucinations, and withdrawn behavior seen in schizophr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ome antidepressa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lock serotonin reuptake, thus leaving it available for longer in the synapse, which results in improved m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71680" y="428760"/>
            <a:ext cx="807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The role of histamine in mental illness is under invest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t is involved in peripheral allergic responses, control of gastric secretions, cardiac stimulation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nd alertness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me psychotropic drugs block histamine, resulting in weight gain, sedation, and hypote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79280" y="260280"/>
            <a:ext cx="88567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TYLCH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cetylcholine is a neurotransmitter found in the brain, spinal cord, and peripheral nervous system particularly at the neuromuscular junction of skeletal mus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It can be excitatory or inhibi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 is synthesized from dietary choline found in red meat and 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found to affect the sleep/wake cycle and to signal muscles to become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tudies have shown that people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zheimer’s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ease have decreased acetylcholine-secreting neurons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 people with myasthenia grav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a muscular disorder in which impulses fail to pass the myoneural junction, which causes muscle weakness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 have reduced acetylcholine recep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2:33:37Z</dcterms:created>
  <dc:creator>dell</dc:creator>
  <dc:description/>
  <dc:language>en-US</dc:language>
  <cp:lastModifiedBy>Yara</cp:lastModifiedBy>
  <dcterms:modified xsi:type="dcterms:W3CDTF">2016-10-08T11:31:31Z</dcterms:modified>
  <cp:revision>37</cp:revision>
  <dc:subject/>
  <dc:title>Neurobiological   Theories of Mental Disorders</dc:title>
</cp:coreProperties>
</file>