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560E3-3EE5-47E8-9CE1-FAE509A2A3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EEA889-33C8-48D1-9329-13A16DF447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D83F-7920-49D6-ACCE-E8389A33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B259-980A-45A4-80A8-C37CB5E2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99A3-A59F-46EA-9CFF-C41A91BE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A649-5E7C-43F9-A3A9-971D08416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5C0B-85A1-480F-8F87-C34D98F1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29E9-58EA-4691-B278-D3326E8A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08E7-3CA5-4A32-A854-7F59F763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F9B2-862C-4CBC-86FF-3F3A8EFF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AEF2-8FFE-4B78-804C-CA843EC5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E63-D03B-48D4-897B-EF52BB6B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1EAE-35D9-449F-9198-5C0DAA2B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AF0C-57D9-4D0A-8D3F-C9360B04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72D757-91D7-4CBB-AC62-8D0DF81238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D43E8-2D9F-4587-A1B7-DE27876EC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عنوان 1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10455480" cy="521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596880" y="309600"/>
          <a:ext cx="10515600" cy="1392120"/>
        </p:xfrm>
        <a:graphic>
          <a:graphicData uri="http://schemas.openxmlformats.org/drawingml/2006/table">
            <a:tbl>
              <a:tblPr/>
              <a:tblGrid>
                <a:gridCol w="3825720"/>
                <a:gridCol w="3348360"/>
                <a:gridCol w="3341520"/>
              </a:tblGrid>
              <a:tr h="1392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5657760" y="517680"/>
            <a:ext cx="876240" cy="971280"/>
          </a:xfrm>
          <a:prstGeom prst="rect">
            <a:avLst/>
          </a:prstGeom>
          <a:ln w="0">
            <a:noFill/>
          </a:ln>
        </p:spPr>
      </p:pic>
      <p:sp>
        <p:nvSpPr>
          <p:cNvPr id="51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7B543-59D6-4647-B130-32FAC2554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46120" y="284040"/>
          <a:ext cx="10515600" cy="1392480"/>
        </p:xfrm>
        <a:graphic>
          <a:graphicData uri="http://schemas.openxmlformats.org/drawingml/2006/table">
            <a:tbl>
              <a:tblPr/>
              <a:tblGrid>
                <a:gridCol w="3825720"/>
                <a:gridCol w="3348000"/>
                <a:gridCol w="3341880"/>
              </a:tblGrid>
              <a:tr h="13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5657760" y="492120"/>
            <a:ext cx="8762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546120" y="1816200"/>
          <a:ext cx="10515600" cy="4430520"/>
        </p:xfrm>
        <a:graphic>
          <a:graphicData uri="http://schemas.openxmlformats.org/drawingml/2006/table">
            <a:tbl>
              <a:tblPr/>
              <a:tblGrid>
                <a:gridCol w="831960"/>
                <a:gridCol w="779400"/>
                <a:gridCol w="796680"/>
                <a:gridCol w="2235240"/>
                <a:gridCol w="917640"/>
                <a:gridCol w="1125720"/>
                <a:gridCol w="3828960"/>
              </a:tblGrid>
              <a:tr h="522360">
                <a:tc gridSpan="7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: الثلاثاء التاريخ :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/28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فترة (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520920">
                <a:tc rowSpan="5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و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سماء الحميضي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8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حديث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هيله المهيدب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4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لمتكلمون والرد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ليهم 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ساره بن سع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2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فقه العبادات 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هياء القطامي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1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دراسة الصحيح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منيره العقل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22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عقيدة اهل السنة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والجماعة 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7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1FC039-BE4C-4354-8ABF-129853D0F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546120" y="284040"/>
          <a:ext cx="10515600" cy="1392480"/>
        </p:xfrm>
        <a:graphic>
          <a:graphicData uri="http://schemas.openxmlformats.org/drawingml/2006/table">
            <a:tbl>
              <a:tblPr/>
              <a:tblGrid>
                <a:gridCol w="3825720"/>
                <a:gridCol w="3348000"/>
                <a:gridCol w="3341880"/>
              </a:tblGrid>
              <a:tr h="13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5657760" y="492120"/>
            <a:ext cx="8762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46120" y="1816200"/>
          <a:ext cx="10580760" cy="4890960"/>
        </p:xfrm>
        <a:graphic>
          <a:graphicData uri="http://schemas.openxmlformats.org/drawingml/2006/table">
            <a:tbl>
              <a:tblPr/>
              <a:tblGrid>
                <a:gridCol w="831960"/>
                <a:gridCol w="779400"/>
                <a:gridCol w="796680"/>
                <a:gridCol w="2235240"/>
                <a:gridCol w="917640"/>
                <a:gridCol w="1125720"/>
                <a:gridCol w="3894120"/>
              </a:tblGrid>
              <a:tr h="541440">
                <a:tc gridSpan="7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: الاربعاء التاريخ :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/29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فترة (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640440">
                <a:tc rowSpan="6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6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و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هند العصيمي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2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عقيدة اهل السن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والجماعة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حليمه المصري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14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تفسير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بدرية الفوزان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25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لملل والنحل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غزيل الدوسر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97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18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سلم تفسير 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منى الحمود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0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36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سلم فقة العقوبات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غزيل الدوسر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97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18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سلم تفسير 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1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0FED5-B720-4F90-9023-A31721F96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546120" y="284040"/>
          <a:ext cx="10515600" cy="1392480"/>
        </p:xfrm>
        <a:graphic>
          <a:graphicData uri="http://schemas.openxmlformats.org/drawingml/2006/table">
            <a:tbl>
              <a:tblPr/>
              <a:tblGrid>
                <a:gridCol w="3825720"/>
                <a:gridCol w="3348000"/>
                <a:gridCol w="3341880"/>
              </a:tblGrid>
              <a:tr h="13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5657760" y="492120"/>
            <a:ext cx="8762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546120" y="1816200"/>
          <a:ext cx="10515600" cy="5048280"/>
        </p:xfrm>
        <a:graphic>
          <a:graphicData uri="http://schemas.openxmlformats.org/drawingml/2006/table">
            <a:tbl>
              <a:tblPr/>
              <a:tblGrid>
                <a:gridCol w="831960"/>
                <a:gridCol w="779400"/>
                <a:gridCol w="796680"/>
                <a:gridCol w="2235240"/>
                <a:gridCol w="917640"/>
                <a:gridCol w="1125720"/>
                <a:gridCol w="3828960"/>
              </a:tblGrid>
              <a:tr h="396720">
                <a:tc gridSpan="7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الخميس التاريخ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/3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فترة (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631080">
                <a:tc rowSpan="7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7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و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هند العصيم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8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23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موقف اهل السن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من الفرق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أمل الدعيج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9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12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سلم مصطلح الحديث_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لطيفه المعيو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9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24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سلم المنطق اليونانى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ونقد لمسلمين 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هياء القطام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413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سلم مصطلح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اسماء الحميض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7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414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سلم تخريج الحدي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هياء القطام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416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سلم حديث-ج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حواء العبدالل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0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460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436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سلم اصول الفقه-ب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5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B4931-3300-41D6-BFD7-579CF2512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546120" y="284040"/>
          <a:ext cx="10515600" cy="1392480"/>
        </p:xfrm>
        <a:graphic>
          <a:graphicData uri="http://schemas.openxmlformats.org/drawingml/2006/table">
            <a:tbl>
              <a:tblPr/>
              <a:tblGrid>
                <a:gridCol w="3825720"/>
                <a:gridCol w="3348000"/>
                <a:gridCol w="3341880"/>
              </a:tblGrid>
              <a:tr h="13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5657760" y="492120"/>
            <a:ext cx="8762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46120" y="1816200"/>
          <a:ext cx="10515600" cy="4552920"/>
        </p:xfrm>
        <a:graphic>
          <a:graphicData uri="http://schemas.openxmlformats.org/drawingml/2006/table">
            <a:tbl>
              <a:tblPr/>
              <a:tblGrid>
                <a:gridCol w="831960"/>
                <a:gridCol w="779400"/>
                <a:gridCol w="796680"/>
                <a:gridCol w="2235240"/>
                <a:gridCol w="917640"/>
                <a:gridCol w="1125720"/>
                <a:gridCol w="3828960"/>
              </a:tblGrid>
              <a:tr h="480960">
                <a:tc gridSpan="7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الأحد التاريخ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/3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فترة (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701640">
                <a:tc rowSpan="5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لأو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غزيل الدوس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8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17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سلم تفسير-ب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منى الحمود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9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35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فقه العبادات-ب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ساره بن سع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3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2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لمدخل الى الفق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اسلام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ريشه عسي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9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34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فقه النظم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مرفت كام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9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24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التصوف في ضوء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الاسلا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9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E9AF6-7B50-45C6-8728-D9C6114F3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46120" y="284040"/>
          <a:ext cx="10515600" cy="1392480"/>
        </p:xfrm>
        <a:graphic>
          <a:graphicData uri="http://schemas.openxmlformats.org/drawingml/2006/table">
            <a:tbl>
              <a:tblPr/>
              <a:tblGrid>
                <a:gridCol w="3825720"/>
                <a:gridCol w="3348000"/>
                <a:gridCol w="3341880"/>
              </a:tblGrid>
              <a:tr h="13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5657760" y="492120"/>
            <a:ext cx="8762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546120" y="1816200"/>
          <a:ext cx="10515600" cy="3700440"/>
        </p:xfrm>
        <a:graphic>
          <a:graphicData uri="http://schemas.openxmlformats.org/drawingml/2006/table">
            <a:tbl>
              <a:tblPr/>
              <a:tblGrid>
                <a:gridCol w="831960"/>
                <a:gridCol w="779400"/>
                <a:gridCol w="796680"/>
                <a:gridCol w="2235240"/>
                <a:gridCol w="917640"/>
                <a:gridCol w="1125720"/>
                <a:gridCol w="3828960"/>
              </a:tblGrid>
              <a:tr h="498960">
                <a:tc gridSpan="7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الأحد التاريخ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/3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فترة (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:3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:3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497520">
                <a:tc rowSpan="4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لأو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ايمان الجاس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37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3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سلم التلاوة والتجو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ايمان الجاس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37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3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سلم التلاوة والتجو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ايمان الجاس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37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3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سلم التلاوة والتجو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غزيل الدوسر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9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13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سلم تفسير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E450B-7672-4BB4-9587-0F0BFDA78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 Light"/>
              <a:ea typeface="Times New Roman"/>
            </a:endParaRPr>
          </a:p>
        </p:txBody>
      </p:sp>
      <p:sp>
        <p:nvSpPr>
          <p:cNvPr id="105" name="عنصر نائب لرقم الشريحة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B63DA-760B-485F-8957-D2AC9F0C7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835200" y="379440"/>
            <a:ext cx="10521720" cy="1395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5884920" y="592200"/>
            <a:ext cx="877680" cy="96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1065240" y="1774800"/>
          <a:ext cx="10517040" cy="3200400"/>
        </p:xfrm>
        <a:graphic>
          <a:graphicData uri="http://schemas.openxmlformats.org/drawingml/2006/table">
            <a:tbl>
              <a:tblPr/>
              <a:tblGrid>
                <a:gridCol w="1035000"/>
                <a:gridCol w="957240"/>
                <a:gridCol w="1165320"/>
                <a:gridCol w="2243160"/>
                <a:gridCol w="1120680"/>
                <a:gridCol w="1349280"/>
                <a:gridCol w="2646360"/>
              </a:tblGrid>
              <a:tr h="642600">
                <a:tc gridSpan="7">
                  <a:txBody>
                    <a:bodyPr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الأحد التاريخ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/3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فترة (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:3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:3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16920">
                <a:tc rowSpan="3"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3"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و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3"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عبير النعي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57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سلم التلاوة والتجو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عبير النعي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57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سلم التلاوة والتجو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هياء الشمر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57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سلم التلاوة والتجو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546120" y="284040"/>
          <a:ext cx="10515600" cy="1392480"/>
        </p:xfrm>
        <a:graphic>
          <a:graphicData uri="http://schemas.openxmlformats.org/drawingml/2006/table">
            <a:tbl>
              <a:tblPr/>
              <a:tblGrid>
                <a:gridCol w="3825720"/>
                <a:gridCol w="3348000"/>
                <a:gridCol w="3341880"/>
              </a:tblGrid>
              <a:tr h="13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5657760" y="492120"/>
            <a:ext cx="8762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546120" y="1816200"/>
          <a:ext cx="10515600" cy="4249800"/>
        </p:xfrm>
        <a:graphic>
          <a:graphicData uri="http://schemas.openxmlformats.org/drawingml/2006/table">
            <a:tbl>
              <a:tblPr/>
              <a:tblGrid>
                <a:gridCol w="831960"/>
                <a:gridCol w="779400"/>
                <a:gridCol w="796680"/>
                <a:gridCol w="2235240"/>
                <a:gridCol w="917640"/>
                <a:gridCol w="1125720"/>
                <a:gridCol w="3828960"/>
              </a:tblGrid>
              <a:tr h="540000">
                <a:tc gridSpan="7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الاثنين التاريخ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/4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فترة (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540360">
                <a:tc rowSpan="5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و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مها العتيب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37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26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مصطلح الحدي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مها العتيب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37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26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مصطلح الحدي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رانيا نظم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412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تفسير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4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امل الدعيج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9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14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حديث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اسماء الحميض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97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41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مناهج المحدثين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24832B-1F4A-44B8-9F94-D9E2B7C6D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46120" y="284040"/>
          <a:ext cx="10515600" cy="1392480"/>
        </p:xfrm>
        <a:graphic>
          <a:graphicData uri="http://schemas.openxmlformats.org/drawingml/2006/table">
            <a:tbl>
              <a:tblPr/>
              <a:tblGrid>
                <a:gridCol w="3825720"/>
                <a:gridCol w="3348000"/>
                <a:gridCol w="3341880"/>
              </a:tblGrid>
              <a:tr h="13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5657760" y="492120"/>
            <a:ext cx="8762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546120" y="1816200"/>
          <a:ext cx="10515600" cy="2762280"/>
        </p:xfrm>
        <a:graphic>
          <a:graphicData uri="http://schemas.openxmlformats.org/drawingml/2006/table">
            <a:tbl>
              <a:tblPr/>
              <a:tblGrid>
                <a:gridCol w="831960"/>
                <a:gridCol w="779400"/>
                <a:gridCol w="796680"/>
                <a:gridCol w="2235240"/>
                <a:gridCol w="917640"/>
                <a:gridCol w="1125720"/>
                <a:gridCol w="3828960"/>
              </a:tblGrid>
              <a:tr h="435600">
                <a:tc gridSpan="7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الاثنين التاريخ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/4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فترة (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631080"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او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هدى المطرود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8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14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المدخل الى علو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الحدي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مها العتيب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36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16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سلم المدخل الى علو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الحدي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6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0E8F2-5283-4AEC-B5BE-43E512D4C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546120" y="284040"/>
          <a:ext cx="10515600" cy="1392480"/>
        </p:xfrm>
        <a:graphic>
          <a:graphicData uri="http://schemas.openxmlformats.org/drawingml/2006/table">
            <a:tbl>
              <a:tblPr/>
              <a:tblGrid>
                <a:gridCol w="3825720"/>
                <a:gridCol w="3348000"/>
                <a:gridCol w="3341880"/>
              </a:tblGrid>
              <a:tr h="13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5657760" y="492120"/>
            <a:ext cx="8762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546120" y="1816200"/>
          <a:ext cx="10515600" cy="4002120"/>
        </p:xfrm>
        <a:graphic>
          <a:graphicData uri="http://schemas.openxmlformats.org/drawingml/2006/table">
            <a:tbl>
              <a:tblPr/>
              <a:tblGrid>
                <a:gridCol w="831960"/>
                <a:gridCol w="779400"/>
                <a:gridCol w="796680"/>
                <a:gridCol w="2235240"/>
                <a:gridCol w="917640"/>
                <a:gridCol w="1125720"/>
                <a:gridCol w="3828960"/>
              </a:tblGrid>
              <a:tr h="398880">
                <a:tc gridSpan="7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الثلاثاء التاريخ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/5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فترة (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1052280">
                <a:tc rowSpan="4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و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aditional Arabic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مضاوي البسا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aditional Arabic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9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25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موقف اهل السن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من الفرق-ب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بدرية الفوزا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9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22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المدخل الى العقيد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الاسلا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ساره بن سعي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434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اصول الفقة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منى الحمو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433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فقه  السي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0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9DFD93-CDBF-4E0A-B4E1-2BD70C2E5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546120" y="284040"/>
          <a:ext cx="10515600" cy="1392480"/>
        </p:xfrm>
        <a:graphic>
          <a:graphicData uri="http://schemas.openxmlformats.org/drawingml/2006/table">
            <a:tbl>
              <a:tblPr/>
              <a:tblGrid>
                <a:gridCol w="3825720"/>
                <a:gridCol w="3348000"/>
                <a:gridCol w="3341880"/>
              </a:tblGrid>
              <a:tr h="13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5657760" y="492120"/>
            <a:ext cx="8762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546120" y="1816200"/>
          <a:ext cx="10515600" cy="4881600"/>
        </p:xfrm>
        <a:graphic>
          <a:graphicData uri="http://schemas.openxmlformats.org/drawingml/2006/table">
            <a:tbl>
              <a:tblPr/>
              <a:tblGrid>
                <a:gridCol w="831960"/>
                <a:gridCol w="779400"/>
                <a:gridCol w="796680"/>
                <a:gridCol w="2235240"/>
                <a:gridCol w="917640"/>
                <a:gridCol w="1125720"/>
                <a:gridCol w="3828960"/>
              </a:tblGrid>
              <a:tr h="532080">
                <a:tc gridSpan="7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الاربعاء التاريخ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/6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فترة (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530640">
                <a:tc rowSpan="6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6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و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امل الدعيج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9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16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مصطلح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لطيفه المعيو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423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الاسلام والمذاه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الحديثة والمعاصر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د. منى الحمود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35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فقه المعاملات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وفاء العيسى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17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اصول الفقة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وفاء العيسى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3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17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اصول الفقة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ميرة ال زاهب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0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52434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437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سلم فقه السيرة النبو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4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4B59C8-3045-413A-8CBB-7D408B953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558720" y="246240"/>
          <a:ext cx="10515600" cy="1392120"/>
        </p:xfrm>
        <a:graphic>
          <a:graphicData uri="http://schemas.openxmlformats.org/drawingml/2006/table">
            <a:tbl>
              <a:tblPr/>
              <a:tblGrid>
                <a:gridCol w="3826080"/>
                <a:gridCol w="3348000"/>
                <a:gridCol w="3341520"/>
              </a:tblGrid>
              <a:tr h="1392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5657760" y="453960"/>
            <a:ext cx="876240" cy="9716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520560" y="1841400"/>
            <a:ext cx="10515600" cy="475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  <a:cs typeface="Arial"/>
              </a:rPr>
              <a:t>تنبيه هام للطالبات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لا يسمح لأي طالبة بدخول الاختبار بعد مضي نصف ساعة من بدء الاختبار كما لا يسمح لها بالخروج إلا بعد مضي نصف ساعة من بدء الاختبا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يجب ابراز البطاقة الجامعية وعدم ابرازها يُعد مخالفة تأديبية تستوجب العقوبة كما هو منصوص عليه في لائحة التأديب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يمنع استخدام أو اظهار الجوال لأي سبب داخل قاعة الاختبار وفي حالة حدوث ذلك يُعامل كحالة من حالات الغش التي تستدعي العقوبة المنصوص عليها بلائحة تأديب الطلاب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A8AF32-3C9A-4287-8EC6-E763AEB7E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546120" y="284040"/>
          <a:ext cx="10515600" cy="1392480"/>
        </p:xfrm>
        <a:graphic>
          <a:graphicData uri="http://schemas.openxmlformats.org/drawingml/2006/table">
            <a:tbl>
              <a:tblPr/>
              <a:tblGrid>
                <a:gridCol w="3825720"/>
                <a:gridCol w="3348000"/>
                <a:gridCol w="3341880"/>
              </a:tblGrid>
              <a:tr h="13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5657760" y="492120"/>
            <a:ext cx="8762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546120" y="1816200"/>
          <a:ext cx="10515600" cy="3790800"/>
        </p:xfrm>
        <a:graphic>
          <a:graphicData uri="http://schemas.openxmlformats.org/drawingml/2006/table">
            <a:tbl>
              <a:tblPr/>
              <a:tblGrid>
                <a:gridCol w="831960"/>
                <a:gridCol w="779400"/>
                <a:gridCol w="796680"/>
                <a:gridCol w="2235240"/>
                <a:gridCol w="917640"/>
                <a:gridCol w="1125720"/>
                <a:gridCol w="3828960"/>
              </a:tblGrid>
              <a:tr h="536400">
                <a:tc gridSpan="7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الثلاثاء التاريخ :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/21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فترة (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534960">
                <a:tc rowSpan="4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او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رانيا نظم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34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3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صول التفس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رانيا نظمي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7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9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صول التفس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هياء ال الشيخ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27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موقف الاسلام من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فلسفة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ساره بن سعيد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8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فقه النظم-ب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2DCB3-EBD2-4C34-89A2-0EF7F422FF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46120" y="284040"/>
          <a:ext cx="10515600" cy="1392480"/>
        </p:xfrm>
        <a:graphic>
          <a:graphicData uri="http://schemas.openxmlformats.org/drawingml/2006/table">
            <a:tbl>
              <a:tblPr/>
              <a:tblGrid>
                <a:gridCol w="3825720"/>
                <a:gridCol w="3348000"/>
                <a:gridCol w="3341880"/>
              </a:tblGrid>
              <a:tr h="13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5657760" y="492120"/>
            <a:ext cx="8762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546120" y="1816200"/>
          <a:ext cx="10515600" cy="4340160"/>
        </p:xfrm>
        <a:graphic>
          <a:graphicData uri="http://schemas.openxmlformats.org/drawingml/2006/table">
            <a:tbl>
              <a:tblPr/>
              <a:tblGrid>
                <a:gridCol w="831960"/>
                <a:gridCol w="779400"/>
                <a:gridCol w="796680"/>
                <a:gridCol w="2235240"/>
                <a:gridCol w="917640"/>
                <a:gridCol w="1125720"/>
                <a:gridCol w="3828960"/>
              </a:tblGrid>
              <a:tr h="539280">
                <a:tc gridSpan="7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:الاربعاء التاريخ :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/22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فترة (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537840">
                <a:tc rowSpan="5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او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هدى المطرودي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48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13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حديث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لطيفه المعيوف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7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موقف الاسلام من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فلسفة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هيله المهيد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7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25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لملل والنحل 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زينب المحر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7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25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لملل والنحل 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وفاء العيسى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35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صول الفقة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3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60B349-1F85-4669-8ECA-2AE09D8BE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46120" y="284040"/>
          <a:ext cx="10515600" cy="1392480"/>
        </p:xfrm>
        <a:graphic>
          <a:graphicData uri="http://schemas.openxmlformats.org/drawingml/2006/table">
            <a:tbl>
              <a:tblPr/>
              <a:tblGrid>
                <a:gridCol w="3825720"/>
                <a:gridCol w="3348000"/>
                <a:gridCol w="3341880"/>
              </a:tblGrid>
              <a:tr h="13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5657760" y="492120"/>
            <a:ext cx="8762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546120" y="1762200"/>
          <a:ext cx="10504440" cy="4668840"/>
        </p:xfrm>
        <a:graphic>
          <a:graphicData uri="http://schemas.openxmlformats.org/drawingml/2006/table">
            <a:tbl>
              <a:tblPr/>
              <a:tblGrid>
                <a:gridCol w="831960"/>
                <a:gridCol w="779400"/>
                <a:gridCol w="796680"/>
                <a:gridCol w="2235240"/>
                <a:gridCol w="917640"/>
                <a:gridCol w="1127160"/>
                <a:gridCol w="3816360"/>
              </a:tblGrid>
              <a:tr h="590760">
                <a:tc gridSpan="7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:الخميس التاريخ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/23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فترة (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:3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:3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539640">
                <a:tc rowSpan="5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و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حليمه المصري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لمدخل الى علوم القر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وسميه العجمي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5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حديث-ب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لطيفه المعيوف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27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تفسير التاريخ ب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ناهج الغربيين وبين مناه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سلم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منيره العقلا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3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لعقيدة الاسلام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طانه ال الشيخ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7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3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لعقيدة الاسلام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7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01F16-10D3-4890-BDAC-C50A593CB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46120" y="284040"/>
          <a:ext cx="10515600" cy="1392480"/>
        </p:xfrm>
        <a:graphic>
          <a:graphicData uri="http://schemas.openxmlformats.org/drawingml/2006/table">
            <a:tbl>
              <a:tblPr/>
              <a:tblGrid>
                <a:gridCol w="3825720"/>
                <a:gridCol w="3348000"/>
                <a:gridCol w="3341880"/>
              </a:tblGrid>
              <a:tr h="13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5657760" y="492120"/>
            <a:ext cx="8762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546120" y="1816200"/>
          <a:ext cx="10515600" cy="3149640"/>
        </p:xfrm>
        <a:graphic>
          <a:graphicData uri="http://schemas.openxmlformats.org/drawingml/2006/table">
            <a:tbl>
              <a:tblPr/>
              <a:tblGrid>
                <a:gridCol w="831960"/>
                <a:gridCol w="779400"/>
                <a:gridCol w="796680"/>
                <a:gridCol w="2235240"/>
                <a:gridCol w="917640"/>
                <a:gridCol w="1125720"/>
                <a:gridCol w="3828960"/>
              </a:tblGrid>
              <a:tr h="535320">
                <a:tc gridSpan="7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:الخميس التاريخ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/23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فترة (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:3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:3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535680"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او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شاعل الحارث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5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فقه المعاملات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شاعل الحارث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39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لفقه المقار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شاعل الحارث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39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لفقه المقار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1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181A29-8294-4FB4-9062-2FF8F590E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46120" y="284040"/>
          <a:ext cx="10515600" cy="1392480"/>
        </p:xfrm>
        <a:graphic>
          <a:graphicData uri="http://schemas.openxmlformats.org/drawingml/2006/table">
            <a:tbl>
              <a:tblPr/>
              <a:tblGrid>
                <a:gridCol w="3825720"/>
                <a:gridCol w="3348000"/>
                <a:gridCol w="3341880"/>
              </a:tblGrid>
              <a:tr h="13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5657760" y="492120"/>
            <a:ext cx="8762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546120" y="1816200"/>
          <a:ext cx="10515600" cy="3240000"/>
        </p:xfrm>
        <a:graphic>
          <a:graphicData uri="http://schemas.openxmlformats.org/drawingml/2006/table">
            <a:tbl>
              <a:tblPr/>
              <a:tblGrid>
                <a:gridCol w="831960"/>
                <a:gridCol w="779400"/>
                <a:gridCol w="796680"/>
                <a:gridCol w="2235240"/>
                <a:gridCol w="917640"/>
                <a:gridCol w="1125720"/>
                <a:gridCol w="3828960"/>
              </a:tblGrid>
              <a:tr h="530280">
                <a:tc gridSpan="7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الأحد التاريخ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/26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فترة (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528840">
                <a:tc rowSpan="3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و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ندى المقب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6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فقه العقوبات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ندى المقب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6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فقه العقوبات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بير الشبيب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3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54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مجتمع الامة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اسلام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C9AA33-D3D0-4E65-8D43-E2A07DD4D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46120" y="284040"/>
          <a:ext cx="10515600" cy="1392480"/>
        </p:xfrm>
        <a:graphic>
          <a:graphicData uri="http://schemas.openxmlformats.org/drawingml/2006/table">
            <a:tbl>
              <a:tblPr/>
              <a:tblGrid>
                <a:gridCol w="3825720"/>
                <a:gridCol w="3348000"/>
                <a:gridCol w="3341880"/>
              </a:tblGrid>
              <a:tr h="13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5657760" y="492120"/>
            <a:ext cx="8762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546120" y="1816200"/>
          <a:ext cx="10515600" cy="3879720"/>
        </p:xfrm>
        <a:graphic>
          <a:graphicData uri="http://schemas.openxmlformats.org/drawingml/2006/table">
            <a:tbl>
              <a:tblPr/>
              <a:tblGrid>
                <a:gridCol w="831960"/>
                <a:gridCol w="779400"/>
                <a:gridCol w="796680"/>
                <a:gridCol w="2235240"/>
                <a:gridCol w="917640"/>
                <a:gridCol w="1125720"/>
                <a:gridCol w="3828960"/>
              </a:tblGrid>
              <a:tr h="531360">
                <a:tc gridSpan="7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الاثنين التاريخ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/27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فترة (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529920">
                <a:tc rowSpan="4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و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حليمه المصري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5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علوم القر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حواء العبدالله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4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لوصايا والمواري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بدريه الفوز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5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لمتكلمون والرد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ليهم –ب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لطيفه المعيوف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23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لعقيدة الاسلام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والمذاهب الفكرية المعاصر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9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EAC587-0A72-490C-8874-B4A96A33F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546120" y="284040"/>
          <a:ext cx="10515600" cy="1392480"/>
        </p:xfrm>
        <a:graphic>
          <a:graphicData uri="http://schemas.openxmlformats.org/drawingml/2006/table">
            <a:tbl>
              <a:tblPr/>
              <a:tblGrid>
                <a:gridCol w="3825720"/>
                <a:gridCol w="3348000"/>
                <a:gridCol w="3341880"/>
              </a:tblGrid>
              <a:tr h="139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رقـــم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اريخ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11130104-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ملكة العربية السعود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امعة الملك سع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كلية الترب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حدة الاختبا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5657760" y="492120"/>
            <a:ext cx="8762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546120" y="1816200"/>
          <a:ext cx="10515600" cy="3790800"/>
        </p:xfrm>
        <a:graphic>
          <a:graphicData uri="http://schemas.openxmlformats.org/drawingml/2006/table">
            <a:tbl>
              <a:tblPr/>
              <a:tblGrid>
                <a:gridCol w="831960"/>
                <a:gridCol w="779400"/>
                <a:gridCol w="796680"/>
                <a:gridCol w="2235240"/>
                <a:gridCol w="917640"/>
                <a:gridCol w="1125720"/>
                <a:gridCol w="3828960"/>
              </a:tblGrid>
              <a:tr h="536400">
                <a:tc gridSpan="7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يوم الاثنين التاريخ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/27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فترة (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نى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ستاذ المقر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الشع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قم و رمز المقرر و اسم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640440">
                <a:tc rowSpan="4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و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. بدرية الفوز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7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28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العقيدة الإسلامية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والمذاهب الفكر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نورة العمر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38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فقه المعاملات-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نورة العمر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38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فقه المعاملات-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واطف الخريصي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6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40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سلم فقه العبادات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3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6D2219-A314-4E0E-B905-0C7D2692E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6T05:25:18Z</dcterms:created>
  <dc:creator>Abeer Alharbi</dc:creator>
  <dc:description/>
  <dc:language>en-US</dc:language>
  <cp:lastModifiedBy>sara</cp:lastModifiedBy>
  <cp:lastPrinted>2014-04-13T07:49:35Z</cp:lastPrinted>
  <dcterms:modified xsi:type="dcterms:W3CDTF">2014-04-15T05:15:19Z</dcterms:modified>
  <cp:revision>32</cp:revision>
  <dc:subject/>
  <dc:title>PowerPoint Presentation</dc:title>
</cp:coreProperties>
</file>