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83B57D-C97E-463F-AF43-D5164A318EE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33F65E-1F27-493A-92E1-BC72C2E51E6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C036-0649-4B7C-9104-8C47F025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1CF1-6D53-4C05-978E-B534A95A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87BC-4C2D-4A7C-85F8-F4F13826C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EEC0-B53E-49CE-945D-DDF37443C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6454-5ACB-4A45-9ADE-C89AB581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09BD-DAB9-43B8-925F-577AD628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7671-B1BE-4CF4-96CD-C5E3DF11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E508-087C-4C8E-A9C4-3392197E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665D-2817-43D8-B705-637FE1BB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9D5A-B1D6-4732-9C96-017010E4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9851-1C7E-4B18-A628-A21801E7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185B-ACB3-433F-ADAE-22C6A5CC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80D7AF-A076-41EE-A99E-250BA8F3B6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AD368A-F243-4605-A011-ED2954025E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عنوان 1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10455480" cy="521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596880" y="309600"/>
          <a:ext cx="10515600" cy="1392120"/>
        </p:xfrm>
        <a:graphic>
          <a:graphicData uri="http://schemas.openxmlformats.org/drawingml/2006/table">
            <a:tbl>
              <a:tblPr/>
              <a:tblGrid>
                <a:gridCol w="3825720"/>
                <a:gridCol w="3348360"/>
                <a:gridCol w="3341520"/>
              </a:tblGrid>
              <a:tr h="1392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رقـــم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..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تاريخ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 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11130104-0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مملكة العربية السعود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جامعة الملك سعو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كلية الترب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حدة الاختبارا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5657760" y="517680"/>
            <a:ext cx="876240" cy="971280"/>
          </a:xfrm>
          <a:prstGeom prst="rect">
            <a:avLst/>
          </a:prstGeom>
          <a:ln w="0">
            <a:noFill/>
          </a:ln>
        </p:spPr>
      </p:pic>
      <p:sp>
        <p:nvSpPr>
          <p:cNvPr id="51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340F6E-6A5E-4219-9FCE-3AF689385C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546120" y="284040"/>
          <a:ext cx="10515600" cy="1392480"/>
        </p:xfrm>
        <a:graphic>
          <a:graphicData uri="http://schemas.openxmlformats.org/drawingml/2006/table">
            <a:tbl>
              <a:tblPr/>
              <a:tblGrid>
                <a:gridCol w="3825720"/>
                <a:gridCol w="3348000"/>
                <a:gridCol w="3341880"/>
              </a:tblGrid>
              <a:tr h="139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رقـــم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..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تاريخ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 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11130104-0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مملكة العربية السعود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جامعة الملك سعو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كلية الترب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حدة الاختبارا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5657760" y="492120"/>
            <a:ext cx="876240" cy="97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546120" y="1816200"/>
          <a:ext cx="10515600" cy="4430520"/>
        </p:xfrm>
        <a:graphic>
          <a:graphicData uri="http://schemas.openxmlformats.org/drawingml/2006/table">
            <a:tbl>
              <a:tblPr/>
              <a:tblGrid>
                <a:gridCol w="831960"/>
                <a:gridCol w="779400"/>
                <a:gridCol w="796680"/>
                <a:gridCol w="2235240"/>
                <a:gridCol w="917640"/>
                <a:gridCol w="1125720"/>
                <a:gridCol w="3828960"/>
              </a:tblGrid>
              <a:tr h="522360">
                <a:tc gridSpan="7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يوم : الثلاثاء التاريخ :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/28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الفترة (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)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بنى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دو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ق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ستاذ المقر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عدد الطالب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الشعب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و رمز المقرر و اسمه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520920">
                <a:tc rowSpan="5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5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أول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سماء الحميضي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18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حديث-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. هيله المهيدب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4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المتكلمون والرد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عليهم -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. ساره بن سعي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32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فقه العبادات -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. هياء القطامي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7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31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دراسة الصحيحي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. منيره العقل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22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عقيدة اهل السنة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والجماعة -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7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F9C190-43D1-4F61-858D-19DE10E0EA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546120" y="284040"/>
          <a:ext cx="10515600" cy="1392480"/>
        </p:xfrm>
        <a:graphic>
          <a:graphicData uri="http://schemas.openxmlformats.org/drawingml/2006/table">
            <a:tbl>
              <a:tblPr/>
              <a:tblGrid>
                <a:gridCol w="3825720"/>
                <a:gridCol w="3348000"/>
                <a:gridCol w="3341880"/>
              </a:tblGrid>
              <a:tr h="139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رقـــم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..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تاريخ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 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11130104-0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مملكة العربية السعود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جامعة الملك سعو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كلية الترب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حدة الاختبارا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5657760" y="492120"/>
            <a:ext cx="876240" cy="97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546120" y="1816200"/>
          <a:ext cx="10580760" cy="4890960"/>
        </p:xfrm>
        <a:graphic>
          <a:graphicData uri="http://schemas.openxmlformats.org/drawingml/2006/table">
            <a:tbl>
              <a:tblPr/>
              <a:tblGrid>
                <a:gridCol w="831960"/>
                <a:gridCol w="779400"/>
                <a:gridCol w="796680"/>
                <a:gridCol w="2235240"/>
                <a:gridCol w="917640"/>
                <a:gridCol w="1125720"/>
                <a:gridCol w="3894120"/>
              </a:tblGrid>
              <a:tr h="541440">
                <a:tc gridSpan="7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يوم : الاربعاء التاريخ :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/29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الفترة (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)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بنى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دو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ق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ستاذ المقر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عدد الطالب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الشعب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و رمز المقرر و اسمه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640440">
                <a:tc rowSpan="6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6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أو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. هند العصيمي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2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عقيدة اهل السن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والجماعة-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. حليمه المصري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14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تفسير-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. بدرية الفوزان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25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الملل والنحل-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د. غزيل الدوسر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97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18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 سلم تفسير -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د. منى الحمودي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0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36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 سلم فقة العقوبات-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د. غزيل الدوسر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97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18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 سلم تفسير -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1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69414E-4D8D-4A11-BC44-712CC6CC1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546120" y="284040"/>
          <a:ext cx="10515600" cy="1392480"/>
        </p:xfrm>
        <a:graphic>
          <a:graphicData uri="http://schemas.openxmlformats.org/drawingml/2006/table">
            <a:tbl>
              <a:tblPr/>
              <a:tblGrid>
                <a:gridCol w="3825720"/>
                <a:gridCol w="3348000"/>
                <a:gridCol w="3341880"/>
              </a:tblGrid>
              <a:tr h="139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رقـــم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..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تاريخ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 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11130104-0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مملكة العربية السعود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جامعة الملك سعو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كلية الترب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حدة الاختبارا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5657760" y="492120"/>
            <a:ext cx="876240" cy="97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546120" y="1816200"/>
          <a:ext cx="10515600" cy="5048280"/>
        </p:xfrm>
        <a:graphic>
          <a:graphicData uri="http://schemas.openxmlformats.org/drawingml/2006/table">
            <a:tbl>
              <a:tblPr/>
              <a:tblGrid>
                <a:gridCol w="831960"/>
                <a:gridCol w="779400"/>
                <a:gridCol w="796680"/>
                <a:gridCol w="2235240"/>
                <a:gridCol w="917640"/>
                <a:gridCol w="1125720"/>
                <a:gridCol w="3828960"/>
              </a:tblGrid>
              <a:tr h="396720">
                <a:tc gridSpan="7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يوم الخميس التاريخ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/3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فترة (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)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بنى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دو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ق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ستاذ المقر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عدد الطالب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الشعب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و رمز المقرر و اسمه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631080">
                <a:tc rowSpan="7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7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أول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د. هند العصيم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8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23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سلم موقف اهل السن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من الفرق-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أمل الدعيج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9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12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 سلم مصطلح الحديث_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د. لطيفه المعيوف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9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24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 سلم المنطق اليونانى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ونقد لمسلمين 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د. هياء القطام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413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 سلم مصطلح-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اسماء الحميض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97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414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 سلم تخريج الحدي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د. هياء القطام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416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 سلم حديث-ج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د. حواء العبدالل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0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436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 سلم اصول الفقه-ب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5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102E7C-7C41-417D-B173-377A5C2A5D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546120" y="284040"/>
          <a:ext cx="10515600" cy="1392480"/>
        </p:xfrm>
        <a:graphic>
          <a:graphicData uri="http://schemas.openxmlformats.org/drawingml/2006/table">
            <a:tbl>
              <a:tblPr/>
              <a:tblGrid>
                <a:gridCol w="3825720"/>
                <a:gridCol w="3348000"/>
                <a:gridCol w="3341880"/>
              </a:tblGrid>
              <a:tr h="139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رقـــم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..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تاريخ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 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11130104-0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مملكة العربية السعود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جامعة الملك سعو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كلية الترب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حدة الاختبارا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7" name="Picture 6" descr=""/>
          <p:cNvPicPr/>
          <p:nvPr/>
        </p:nvPicPr>
        <p:blipFill>
          <a:blip r:embed="rId1"/>
          <a:stretch/>
        </p:blipFill>
        <p:spPr>
          <a:xfrm>
            <a:off x="5657760" y="492120"/>
            <a:ext cx="876240" cy="97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46120" y="1816200"/>
          <a:ext cx="10515600" cy="4552920"/>
        </p:xfrm>
        <a:graphic>
          <a:graphicData uri="http://schemas.openxmlformats.org/drawingml/2006/table">
            <a:tbl>
              <a:tblPr/>
              <a:tblGrid>
                <a:gridCol w="831960"/>
                <a:gridCol w="779400"/>
                <a:gridCol w="796680"/>
                <a:gridCol w="2235240"/>
                <a:gridCol w="917640"/>
                <a:gridCol w="1125720"/>
                <a:gridCol w="3828960"/>
              </a:tblGrid>
              <a:tr h="480960">
                <a:tc gridSpan="7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يوم الأحد التاريخ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/3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فترة (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)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بنى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دو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ق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ستاذ المقر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عدد الطالب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الشعب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و رمز المقرر و اسمه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701640">
                <a:tc rowSpan="5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5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لأول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د. غزيل الدوسر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8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17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 سلم تفسير-ب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د. منى الحمود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9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35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سلم فقه العبادات-ب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. ساره بن سعي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36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32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المدخل الى الفق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اسلام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ريشه عسير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9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34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سلم فقه النظم-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د. مرفت كام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9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24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سلم التصوف في ضوء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الاسلا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9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90AAC7-E0E7-41F2-915A-EE1F5A221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46120" y="284040"/>
          <a:ext cx="10515600" cy="1392480"/>
        </p:xfrm>
        <a:graphic>
          <a:graphicData uri="http://schemas.openxmlformats.org/drawingml/2006/table">
            <a:tbl>
              <a:tblPr/>
              <a:tblGrid>
                <a:gridCol w="3825720"/>
                <a:gridCol w="3348000"/>
                <a:gridCol w="3341880"/>
              </a:tblGrid>
              <a:tr h="139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رقـــم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..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تاريخ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 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11130104-0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مملكة العربية السعود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جامعة الملك سعو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كلية الترب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حدة الاختبارا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5657760" y="492120"/>
            <a:ext cx="876240" cy="97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546120" y="1816200"/>
          <a:ext cx="10515600" cy="3700440"/>
        </p:xfrm>
        <a:graphic>
          <a:graphicData uri="http://schemas.openxmlformats.org/drawingml/2006/table">
            <a:tbl>
              <a:tblPr/>
              <a:tblGrid>
                <a:gridCol w="831960"/>
                <a:gridCol w="779400"/>
                <a:gridCol w="796680"/>
                <a:gridCol w="2235240"/>
                <a:gridCol w="917640"/>
                <a:gridCol w="1125720"/>
                <a:gridCol w="3828960"/>
              </a:tblGrid>
              <a:tr h="498960">
                <a:tc gridSpan="7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يوم الأحد التاريخ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/3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فترة (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:3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:3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)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بنى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دو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ق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ستاذ المقر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عدد الطالب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الشعب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و رمز المقرر و اسمه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497520">
                <a:tc rowSpan="4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لأول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ايمان الجاسر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37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3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 سلم التلاوة والتجوي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ايمان الجاسر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37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3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 سلم التلاوة والتجوي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ايمان الجاس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37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3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 سلم التلاوة والتجوي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د. غزيل الدوسر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9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13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 سلم تفسير-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3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358D55-AB73-45D9-B520-76885E7EA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 Light"/>
              <a:ea typeface="Times New Roman"/>
            </a:endParaRPr>
          </a:p>
        </p:txBody>
      </p:sp>
      <p:sp>
        <p:nvSpPr>
          <p:cNvPr id="105" name="عنصر نائب لرقم الشريحة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4850EC-FB2B-4317-B8F8-6C5F0CE0C0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835200" y="379440"/>
            <a:ext cx="10521720" cy="1395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5884920" y="592200"/>
            <a:ext cx="877680" cy="96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1065240" y="1774800"/>
          <a:ext cx="10517040" cy="3200400"/>
        </p:xfrm>
        <a:graphic>
          <a:graphicData uri="http://schemas.openxmlformats.org/drawingml/2006/table">
            <a:tbl>
              <a:tblPr/>
              <a:tblGrid>
                <a:gridCol w="1035000"/>
                <a:gridCol w="957240"/>
                <a:gridCol w="1165320"/>
                <a:gridCol w="2243160"/>
                <a:gridCol w="1120680"/>
                <a:gridCol w="1349280"/>
                <a:gridCol w="2646360"/>
              </a:tblGrid>
              <a:tr h="642600">
                <a:tc gridSpan="7">
                  <a:txBody>
                    <a:bodyPr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يوم الأحد التاريخ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/3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فترة (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:30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:30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بن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دو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قاع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ستاذ المقر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عدد الطالب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الشعب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و رمز المقرر و اسمه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16920">
                <a:tc rowSpan="3">
                  <a:txBody>
                    <a:bodyPr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3">
                  <a:txBody>
                    <a:bodyPr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أو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3">
                  <a:txBody>
                    <a:bodyPr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. عبير النعي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57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سلم التلاوة والتجوي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. عبير النعي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57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سلم التلاوة والتجوي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هياء الشمري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57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سلم التلاوة والتجوي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546120" y="284040"/>
          <a:ext cx="10515600" cy="1392480"/>
        </p:xfrm>
        <a:graphic>
          <a:graphicData uri="http://schemas.openxmlformats.org/drawingml/2006/table">
            <a:tbl>
              <a:tblPr/>
              <a:tblGrid>
                <a:gridCol w="3825720"/>
                <a:gridCol w="3348000"/>
                <a:gridCol w="3341880"/>
              </a:tblGrid>
              <a:tr h="139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رقـــم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..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تاريخ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 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11130104-0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مملكة العربية السعود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جامعة الملك سعو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كلية الترب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حدة الاختبارا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5657760" y="492120"/>
            <a:ext cx="876240" cy="97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546120" y="1816200"/>
          <a:ext cx="10515600" cy="4249800"/>
        </p:xfrm>
        <a:graphic>
          <a:graphicData uri="http://schemas.openxmlformats.org/drawingml/2006/table">
            <a:tbl>
              <a:tblPr/>
              <a:tblGrid>
                <a:gridCol w="831960"/>
                <a:gridCol w="779400"/>
                <a:gridCol w="796680"/>
                <a:gridCol w="2235240"/>
                <a:gridCol w="917640"/>
                <a:gridCol w="1125720"/>
                <a:gridCol w="3828960"/>
              </a:tblGrid>
              <a:tr h="540000">
                <a:tc gridSpan="7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يوم الاثنين التاريخ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/4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فترة (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بنى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دو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ق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ستاذ المقر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عدد الطالب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الشعب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و رمز المقرر و اسمه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540360">
                <a:tc rowSpan="5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5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أول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د. مها العتيب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37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26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سلم مصطلح الحدي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د. مها العتيب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37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26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سلم مصطلح الحدي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د. رانيا نظم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412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سلم تفسير-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4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امل الدعيج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9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14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سلم حديث-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اسماء الحميض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97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41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سلم مناهج المحدثين-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2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91ED58-09FF-4388-AD77-37ED0C245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46120" y="284040"/>
          <a:ext cx="10515600" cy="1392480"/>
        </p:xfrm>
        <a:graphic>
          <a:graphicData uri="http://schemas.openxmlformats.org/drawingml/2006/table">
            <a:tbl>
              <a:tblPr/>
              <a:tblGrid>
                <a:gridCol w="3825720"/>
                <a:gridCol w="3348000"/>
                <a:gridCol w="3341880"/>
              </a:tblGrid>
              <a:tr h="139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رقـــم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..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تاريخ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 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11130104-0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مملكة العربية السعود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جامعة الملك سعو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كلية الترب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حدة الاختبارا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5657760" y="492120"/>
            <a:ext cx="876240" cy="97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546120" y="1816200"/>
          <a:ext cx="10515600" cy="2762280"/>
        </p:xfrm>
        <a:graphic>
          <a:graphicData uri="http://schemas.openxmlformats.org/drawingml/2006/table">
            <a:tbl>
              <a:tblPr/>
              <a:tblGrid>
                <a:gridCol w="831960"/>
                <a:gridCol w="779400"/>
                <a:gridCol w="796680"/>
                <a:gridCol w="2235240"/>
                <a:gridCol w="917640"/>
                <a:gridCol w="1125720"/>
                <a:gridCol w="3828960"/>
              </a:tblGrid>
              <a:tr h="435600">
                <a:tc gridSpan="7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يوم الاثنين التاريخ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/4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فترة (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بنى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دو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ق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ستاذ المقر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عدد الطالب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الشعب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و رمز المقرر و اسمه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631080">
                <a:tc row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اول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هدى المطرودي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8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14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سلم المدخل الى علو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الحدي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د. مها العتيبي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36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16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 سلم المدخل الى علو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الحدي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6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85C3BF-C655-4535-A340-AF0FE02195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546120" y="284040"/>
          <a:ext cx="10515600" cy="1392480"/>
        </p:xfrm>
        <a:graphic>
          <a:graphicData uri="http://schemas.openxmlformats.org/drawingml/2006/table">
            <a:tbl>
              <a:tblPr/>
              <a:tblGrid>
                <a:gridCol w="3825720"/>
                <a:gridCol w="3348000"/>
                <a:gridCol w="3341880"/>
              </a:tblGrid>
              <a:tr h="139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رقـــم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..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تاريخ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 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11130104-0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مملكة العربية السعود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جامعة الملك سعو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كلية الترب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حدة الاختبارا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5657760" y="492120"/>
            <a:ext cx="876240" cy="97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546120" y="1816200"/>
          <a:ext cx="10515600" cy="4002120"/>
        </p:xfrm>
        <a:graphic>
          <a:graphicData uri="http://schemas.openxmlformats.org/drawingml/2006/table">
            <a:tbl>
              <a:tblPr/>
              <a:tblGrid>
                <a:gridCol w="831960"/>
                <a:gridCol w="779400"/>
                <a:gridCol w="796680"/>
                <a:gridCol w="2235240"/>
                <a:gridCol w="917640"/>
                <a:gridCol w="1125720"/>
                <a:gridCol w="3828960"/>
              </a:tblGrid>
              <a:tr h="398880">
                <a:tc gridSpan="7"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يوم الثلاثاء التاريخ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/5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فترة (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)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بنى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دو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ق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ستاذ المقر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عدد الطالب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الشعب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و رمز المقرر و اسمه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1052280">
                <a:tc rowSpan="4"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أول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aditional Arabic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د. مضاوي البسا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aditional Arabic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9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25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سلم موقف اهل السن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من الفرق-ب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د. بدرية الفوزان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9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22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سلم المدخل الى العقيد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الاسلا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د. ساره بن سعيد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434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سلم اصول الفقة-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د. منى الحمو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433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سلم فقه  السي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0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50E690-0B0C-414E-891A-5FBE59DC3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546120" y="284040"/>
          <a:ext cx="10515600" cy="1392480"/>
        </p:xfrm>
        <a:graphic>
          <a:graphicData uri="http://schemas.openxmlformats.org/drawingml/2006/table">
            <a:tbl>
              <a:tblPr/>
              <a:tblGrid>
                <a:gridCol w="3825720"/>
                <a:gridCol w="3348000"/>
                <a:gridCol w="3341880"/>
              </a:tblGrid>
              <a:tr h="139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رقـــم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..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تاريخ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 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11130104-0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مملكة العربية السعود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جامعة الملك سعو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كلية الترب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حدة الاختبارا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5657760" y="492120"/>
            <a:ext cx="876240" cy="97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546120" y="1816200"/>
          <a:ext cx="10515600" cy="4881600"/>
        </p:xfrm>
        <a:graphic>
          <a:graphicData uri="http://schemas.openxmlformats.org/drawingml/2006/table">
            <a:tbl>
              <a:tblPr/>
              <a:tblGrid>
                <a:gridCol w="831960"/>
                <a:gridCol w="779400"/>
                <a:gridCol w="796680"/>
                <a:gridCol w="2235240"/>
                <a:gridCol w="917640"/>
                <a:gridCol w="1125720"/>
                <a:gridCol w="3828960"/>
              </a:tblGrid>
              <a:tr h="532080">
                <a:tc gridSpan="7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يوم الاربعاء التاريخ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/6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الفترة (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)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بنى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دو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ق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ستاذ المقر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عدد الطالب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الشعب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و رمز المقرر و اسمه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530640">
                <a:tc rowSpan="6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6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أول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امل الدعيجي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9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16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سلم مصطلح-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د. لطيفه المعيو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423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سلم الاسلام والمذاه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الحديثة والمعاصر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د. منى الحمودي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9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35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سلم فقه المعاملات-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وفاء العيسى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17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سلم اصول الفقة-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وفاء العيسى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37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17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سلم اصول الفقة-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سميرة ال زاهب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0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437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سلم فقه السيرة النبو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4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7573C0-803C-4B93-BDCA-351A6554C8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558720" y="246240"/>
          <a:ext cx="10515600" cy="1392120"/>
        </p:xfrm>
        <a:graphic>
          <a:graphicData uri="http://schemas.openxmlformats.org/drawingml/2006/table">
            <a:tbl>
              <a:tblPr/>
              <a:tblGrid>
                <a:gridCol w="3826080"/>
                <a:gridCol w="3348000"/>
                <a:gridCol w="3341520"/>
              </a:tblGrid>
              <a:tr h="1392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رقـــم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..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تاريخ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 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11130104-0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مملكة العربية السعود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جامعة الملك سعو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كلية الترب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حدة الاختبارا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5657760" y="453960"/>
            <a:ext cx="876240" cy="9716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520560" y="1841400"/>
            <a:ext cx="10515600" cy="475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  <a:cs typeface="Arial"/>
              </a:rPr>
              <a:t>تنبيه هام للطالبات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لا يسمح لأي طالبة بدخول الاختبار بعد مضي نصف ساعة من بدء الاختبار كما لا يسمح لها بالخروج إلا بعد مضي نصف ساعة من بدء الاختبا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يجب ابراز البطاقة الجامعية وعدم ابرازها يُعد مخالفة تأديبية تستوجب العقوبة كما هو منصوص عليه في لائحة التأديب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يمنع استخدام أو اظهار الجوال لأي سبب داخل قاعة الاختبار وفي حالة حدوث ذلك يُعامل كحالة من حالات الغش التي تستدعي العقوبة المنصوص عليها بلائحة تأديب الطلاب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68DA7C-F218-4CE5-A737-259259C74B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546120" y="284040"/>
          <a:ext cx="10515600" cy="1392480"/>
        </p:xfrm>
        <a:graphic>
          <a:graphicData uri="http://schemas.openxmlformats.org/drawingml/2006/table">
            <a:tbl>
              <a:tblPr/>
              <a:tblGrid>
                <a:gridCol w="3825720"/>
                <a:gridCol w="3348000"/>
                <a:gridCol w="3341880"/>
              </a:tblGrid>
              <a:tr h="139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رقـــم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..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تاريخ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 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11130104-0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مملكة العربية السعود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جامعة الملك سعو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كلية الترب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حدة الاختبارا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5657760" y="492120"/>
            <a:ext cx="876240" cy="97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546120" y="1816200"/>
          <a:ext cx="10515600" cy="3790800"/>
        </p:xfrm>
        <a:graphic>
          <a:graphicData uri="http://schemas.openxmlformats.org/drawingml/2006/table">
            <a:tbl>
              <a:tblPr/>
              <a:tblGrid>
                <a:gridCol w="831960"/>
                <a:gridCol w="779400"/>
                <a:gridCol w="796680"/>
                <a:gridCol w="2235240"/>
                <a:gridCol w="917640"/>
                <a:gridCol w="1125720"/>
                <a:gridCol w="3828960"/>
              </a:tblGrid>
              <a:tr h="536400">
                <a:tc gridSpan="7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يوم الثلاثاء التاريخ :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/21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الفترة (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)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بنى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دو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ق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ستاذ المقر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عدد الطالب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الشعب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و رمز المقرر و اسمه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534960">
                <a:tc rowSpan="4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اول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. رانيا نظم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34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13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اصول التفسي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. رانيا نظمي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7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29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اصول التفسي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. هياء ال الشيخ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27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موقف الاسلام من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فلسفة-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. ساره بن سعيد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38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فقه النظم-ب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9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5B8B08-D534-462E-B2DC-4345E0088B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46120" y="284040"/>
          <a:ext cx="10515600" cy="1392480"/>
        </p:xfrm>
        <a:graphic>
          <a:graphicData uri="http://schemas.openxmlformats.org/drawingml/2006/table">
            <a:tbl>
              <a:tblPr/>
              <a:tblGrid>
                <a:gridCol w="3825720"/>
                <a:gridCol w="3348000"/>
                <a:gridCol w="3341880"/>
              </a:tblGrid>
              <a:tr h="139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رقـــم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..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تاريخ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 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11130104-0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مملكة العربية السعود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جامعة الملك سعو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كلية الترب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حدة الاختبارا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5657760" y="492120"/>
            <a:ext cx="876240" cy="97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546120" y="1816200"/>
          <a:ext cx="10515600" cy="4340160"/>
        </p:xfrm>
        <a:graphic>
          <a:graphicData uri="http://schemas.openxmlformats.org/drawingml/2006/table">
            <a:tbl>
              <a:tblPr/>
              <a:tblGrid>
                <a:gridCol w="831960"/>
                <a:gridCol w="779400"/>
                <a:gridCol w="796680"/>
                <a:gridCol w="2235240"/>
                <a:gridCol w="917640"/>
                <a:gridCol w="1125720"/>
                <a:gridCol w="3828960"/>
              </a:tblGrid>
              <a:tr h="539280">
                <a:tc gridSpan="7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يوم :الاربعاء التاريخ :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/22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فترة (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)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بنى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دو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ق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ستاذ المقر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عدد الطالب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الشعب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و رمز المقرر و اسمه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537840">
                <a:tc rowSpan="5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5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اول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هدى المطرودي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48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13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حديث-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. لطيفه المعيوف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27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موقف الاسلام من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فلسفة-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. هيله المهيد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7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25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الملل والنحل -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. زينب المحر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7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25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الملل والنحل -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وفاء العيسى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35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اصول الفقة-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3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F7385B-2739-4978-9624-3B5A2FE9AC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46120" y="284040"/>
          <a:ext cx="10515600" cy="1392480"/>
        </p:xfrm>
        <a:graphic>
          <a:graphicData uri="http://schemas.openxmlformats.org/drawingml/2006/table">
            <a:tbl>
              <a:tblPr/>
              <a:tblGrid>
                <a:gridCol w="3825720"/>
                <a:gridCol w="3348000"/>
                <a:gridCol w="3341880"/>
              </a:tblGrid>
              <a:tr h="139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رقـــم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..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تاريخ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 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11130104-0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مملكة العربية السعود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جامعة الملك سعو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كلية الترب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حدة الاختبارا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5657760" y="492120"/>
            <a:ext cx="876240" cy="97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546120" y="1762200"/>
          <a:ext cx="10504440" cy="4668840"/>
        </p:xfrm>
        <a:graphic>
          <a:graphicData uri="http://schemas.openxmlformats.org/drawingml/2006/table">
            <a:tbl>
              <a:tblPr/>
              <a:tblGrid>
                <a:gridCol w="831960"/>
                <a:gridCol w="779400"/>
                <a:gridCol w="796680"/>
                <a:gridCol w="2235240"/>
                <a:gridCol w="917640"/>
                <a:gridCol w="1127160"/>
                <a:gridCol w="3816360"/>
              </a:tblGrid>
              <a:tr h="590760">
                <a:tc gridSpan="7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يوم :الخميس التاريخ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/23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فترة (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:3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:3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بنى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دو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ق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ستاذ المقر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عدد الطالب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الشعب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و رمز المقرر و اسمه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539640">
                <a:tc rowSpan="5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5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أول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. حليمه المصري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10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المدخل الى علوم القرا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وسميه العجمي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15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حديث-ب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. لطيفه المعيوف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27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تفسير التاريخ بي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مناهج الغربيين وبين مناه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سلمي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. منيره العقلا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23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العقيدة الاسلام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طانه ال الشيخ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7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23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العقيدة الاسلام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7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7EED2F-849B-48A1-9069-43B0B1741B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546120" y="284040"/>
          <a:ext cx="10515600" cy="1392480"/>
        </p:xfrm>
        <a:graphic>
          <a:graphicData uri="http://schemas.openxmlformats.org/drawingml/2006/table">
            <a:tbl>
              <a:tblPr/>
              <a:tblGrid>
                <a:gridCol w="3825720"/>
                <a:gridCol w="3348000"/>
                <a:gridCol w="3341880"/>
              </a:tblGrid>
              <a:tr h="139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رقـــم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..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تاريخ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 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11130104-0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مملكة العربية السعود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جامعة الملك سعو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كلية الترب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حدة الاختبارا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5657760" y="492120"/>
            <a:ext cx="876240" cy="97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546120" y="1816200"/>
          <a:ext cx="10515600" cy="3149640"/>
        </p:xfrm>
        <a:graphic>
          <a:graphicData uri="http://schemas.openxmlformats.org/drawingml/2006/table">
            <a:tbl>
              <a:tblPr/>
              <a:tblGrid>
                <a:gridCol w="831960"/>
                <a:gridCol w="779400"/>
                <a:gridCol w="796680"/>
                <a:gridCol w="2235240"/>
                <a:gridCol w="917640"/>
                <a:gridCol w="1125720"/>
                <a:gridCol w="3828960"/>
              </a:tblGrid>
              <a:tr h="535320">
                <a:tc gridSpan="7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يوم :الخميس التاريخ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/23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فترة (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:3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:3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بنى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دو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ق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ستاذ المقر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عدد الطالب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الشعب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و رمز المقرر و اسمه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535680">
                <a:tc rowSpan="3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اول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مشاعل الحارث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35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فقه المعاملات-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مشاعل الحارث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39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الفقه المقار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مشاعل الحارث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1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39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الفقه المقار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1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D41C88-FA3F-47EB-ABDB-D7D4B1184D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546120" y="284040"/>
          <a:ext cx="10515600" cy="1392480"/>
        </p:xfrm>
        <a:graphic>
          <a:graphicData uri="http://schemas.openxmlformats.org/drawingml/2006/table">
            <a:tbl>
              <a:tblPr/>
              <a:tblGrid>
                <a:gridCol w="3825720"/>
                <a:gridCol w="3348000"/>
                <a:gridCol w="3341880"/>
              </a:tblGrid>
              <a:tr h="139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رقـــم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..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تاريخ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 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11130104-0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مملكة العربية السعود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جامعة الملك سعو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كلية الترب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حدة الاختبارا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5657760" y="492120"/>
            <a:ext cx="876240" cy="97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546120" y="1816200"/>
          <a:ext cx="10515600" cy="3240000"/>
        </p:xfrm>
        <a:graphic>
          <a:graphicData uri="http://schemas.openxmlformats.org/drawingml/2006/table">
            <a:tbl>
              <a:tblPr/>
              <a:tblGrid>
                <a:gridCol w="831960"/>
                <a:gridCol w="779400"/>
                <a:gridCol w="796680"/>
                <a:gridCol w="2235240"/>
                <a:gridCol w="917640"/>
                <a:gridCol w="1125720"/>
                <a:gridCol w="3828960"/>
              </a:tblGrid>
              <a:tr h="530280">
                <a:tc gridSpan="7"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يوم الأحد التاريخ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/26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الفترة (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بنى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دو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ق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ستاذ المقر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عدد الطالب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الشعب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و رمز المقرر و اسمه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528840">
                <a:tc rowSpan="3"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أول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ندى المقبل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36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فقه العقوبات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ندى المقبل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36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فقه العقوبات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عبير الشبيب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3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54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مجتمع الامة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اسلام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DF1A51-00A7-4B32-A459-EFAD333696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546120" y="284040"/>
          <a:ext cx="10515600" cy="1392480"/>
        </p:xfrm>
        <a:graphic>
          <a:graphicData uri="http://schemas.openxmlformats.org/drawingml/2006/table">
            <a:tbl>
              <a:tblPr/>
              <a:tblGrid>
                <a:gridCol w="3825720"/>
                <a:gridCol w="3348000"/>
                <a:gridCol w="3341880"/>
              </a:tblGrid>
              <a:tr h="139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رقـــم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..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تاريخ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 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11130104-0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مملكة العربية السعود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جامعة الملك سعو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كلية الترب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حدة الاختبارا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5657760" y="492120"/>
            <a:ext cx="876240" cy="97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"/>
          <p:cNvGraphicFramePr/>
          <p:nvPr/>
        </p:nvGraphicFramePr>
        <p:xfrm>
          <a:off x="546120" y="1816200"/>
          <a:ext cx="10515600" cy="3879720"/>
        </p:xfrm>
        <a:graphic>
          <a:graphicData uri="http://schemas.openxmlformats.org/drawingml/2006/table">
            <a:tbl>
              <a:tblPr/>
              <a:tblGrid>
                <a:gridCol w="831960"/>
                <a:gridCol w="779400"/>
                <a:gridCol w="796680"/>
                <a:gridCol w="2235240"/>
                <a:gridCol w="917640"/>
                <a:gridCol w="1125720"/>
                <a:gridCol w="3828960"/>
              </a:tblGrid>
              <a:tr h="531360">
                <a:tc gridSpan="7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يوم الاثنين التاريخ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/27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الفترة (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)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بنى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دو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ق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ستاذ المقر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عدد الطالب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الشعب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و رمز المقرر و اسمه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529920">
                <a:tc rowSpan="4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أول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. حليمه المصري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15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علوم القرا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. حواء العبدالله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34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الوصايا والمواري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. بدريه الفوزا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1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25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المتكلمون والرد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عليهم –ب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. لطيفه المعيوف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23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العقيدة الاسلام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والمذاهب الفكرية المعاصر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9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FFFF7F-C16F-43F5-B91A-2A47A0EADE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546120" y="284040"/>
          <a:ext cx="10515600" cy="1392480"/>
        </p:xfrm>
        <a:graphic>
          <a:graphicData uri="http://schemas.openxmlformats.org/drawingml/2006/table">
            <a:tbl>
              <a:tblPr/>
              <a:tblGrid>
                <a:gridCol w="3825720"/>
                <a:gridCol w="3348000"/>
                <a:gridCol w="3341880"/>
              </a:tblGrid>
              <a:tr h="139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رقـــم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..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تاريخ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 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11130104-0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مملكة العربية السعود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جامعة الملك سعو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كلية الترب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حدة الاختبارا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5657760" y="492120"/>
            <a:ext cx="876240" cy="97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546120" y="1816200"/>
          <a:ext cx="10515600" cy="3790800"/>
        </p:xfrm>
        <a:graphic>
          <a:graphicData uri="http://schemas.openxmlformats.org/drawingml/2006/table">
            <a:tbl>
              <a:tblPr/>
              <a:tblGrid>
                <a:gridCol w="831960"/>
                <a:gridCol w="779400"/>
                <a:gridCol w="796680"/>
                <a:gridCol w="2235240"/>
                <a:gridCol w="917640"/>
                <a:gridCol w="1125720"/>
                <a:gridCol w="3828960"/>
              </a:tblGrid>
              <a:tr h="536400">
                <a:tc gridSpan="7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يوم الاثنين التاريخ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/27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الفترة (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)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بنى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دو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ق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ستاذ المقر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عدد الطالب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الشعب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و رمز المقرر و اسمه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640440">
                <a:tc rowSpan="4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أول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. بدرية الفوزا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7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28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العقيدة الإسلامية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والمذاهب الفكر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نورة العمر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38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فقه المعاملات-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نورة العمر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1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38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فقه المعاملات-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عواطف الخريصي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6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40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فقه العبادات-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3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FD3C64-7E57-4464-BFD2-55B5B72187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6T05:25:18Z</dcterms:created>
  <dc:creator>Abeer Alharbi</dc:creator>
  <dc:description/>
  <dc:language>en-US</dc:language>
  <cp:lastModifiedBy>sara</cp:lastModifiedBy>
  <cp:lastPrinted>2014-04-13T07:49:35Z</cp:lastPrinted>
  <dcterms:modified xsi:type="dcterms:W3CDTF">2014-04-15T05:15:19Z</dcterms:modified>
  <cp:revision>32</cp:revision>
  <dc:subject/>
  <dc:title>PowerPoint Presentation</dc:title>
</cp:coreProperties>
</file>