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18E-0E7F-4C18-93A8-FE343772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70B-4724-45FD-9641-686F8D7D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D1C-705C-4D41-AE4D-1932B2E1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D86E-0725-4ADA-BF24-85EA2B65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0EC-6618-4830-9DDB-A30A7807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F35F-3A70-434E-919E-54DBDA62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2FD-2CB3-4CC6-82A9-739A977C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228-5908-46CC-B19C-F3EC2883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D8F7-4D84-4FD7-805B-F320B71B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08A-B352-4FD7-8A7A-A89F061F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295-E29D-480A-B51A-DF214BE8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FA0-3EBB-4E06-B9C8-7E35D5BB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0BAC-FFBA-46B0-BF47-A13B98E35BB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asia.ru/images/target/photo/51170673/Test_Tube.jpg&amp;imgrefurl=http://www.asia.ru/en/ProductInfo/935677.html&amp;usg=__eyYddrPMqJ6p_cXq23wFLhQ0NRo=&amp;h=360&amp;w=360&amp;sz=11&amp;hl=ar&amp;start=3&amp;zoom=1&amp;um=1&amp;itbs=1&amp;tbnid=mgFghLRmj3jAmM:&amp;tbnh=121&amp;tbnw=121&amp;prev=/images%3Fq%3Dtest%2Btube%26um%3D1%26hl%3Dar%26safe%3Dactive%26sa%3DN%26tbs%3Disch:1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مربع نص 1"/>
          <p:cNvSpPr/>
          <p:nvPr/>
        </p:nvSpPr>
        <p:spPr>
          <a:xfrm>
            <a:off x="785880" y="235728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ydrolytic activity of salivary amylase on st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عنوان فرعي 2"/>
          <p:cNvSpPr/>
          <p:nvPr/>
        </p:nvSpPr>
        <p:spPr>
          <a:xfrm>
            <a:off x="6072120" y="285840"/>
            <a:ext cx="2786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LS 3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xperiment No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72400" y="333360"/>
            <a:ext cx="20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nc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ربع نص 10"/>
          <p:cNvSpPr/>
          <p:nvPr/>
        </p:nvSpPr>
        <p:spPr>
          <a:xfrm>
            <a:off x="0" y="1112760"/>
            <a:ext cx="93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t a pH of about 6-7 and in the presence of chloride ions,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ylases </a:t>
            </a:r>
            <a:r>
              <a:rPr b="0" lang="en-GB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catalyses the hydrolysis of starch to maltose with the intermediate formation of variou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xtri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xtrins </a:t>
            </a:r>
            <a:r>
              <a:rPr b="0" i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re polysaccharide produced by the hydrolysis of 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مربع نص 4"/>
          <p:cNvSpPr/>
          <p:nvPr/>
        </p:nvSpPr>
        <p:spPr>
          <a:xfrm>
            <a:off x="0" y="1749600"/>
            <a:ext cx="910908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Steps of the reaction</a:t>
            </a:r>
            <a:r>
              <a:rPr b="1" lang="en-GB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ch + </a:t>
            </a:r>
            <a:r>
              <a:rPr b="0" lang="el-G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ase + Higher dextrins                     blue colo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d dextrins                          reddish brown colo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dextrins + maltose                           colourl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is point known as </a:t>
            </a: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chromic point </a:t>
            </a:r>
            <a:r>
              <a:rPr b="0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 time taken to reach the point at which the reaction mixture no longer gives a colour with iod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رابط كسهم مستقيم 10"/>
          <p:cNvCxnSpPr/>
          <p:nvPr/>
        </p:nvCxnSpPr>
        <p:spPr>
          <a:xfrm>
            <a:off x="5500800" y="2857680"/>
            <a:ext cx="10720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رابط كسهم مستقيم 11"/>
          <p:cNvCxnSpPr/>
          <p:nvPr/>
        </p:nvCxnSpPr>
        <p:spPr>
          <a:xfrm>
            <a:off x="4000680" y="3573000"/>
            <a:ext cx="107208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رابط كسهم مستقيم 12"/>
          <p:cNvCxnSpPr/>
          <p:nvPr/>
        </p:nvCxnSpPr>
        <p:spPr>
          <a:xfrm>
            <a:off x="4404960" y="4357800"/>
            <a:ext cx="10724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TextBox 1"/>
          <p:cNvSpPr/>
          <p:nvPr/>
        </p:nvSpPr>
        <p:spPr>
          <a:xfrm>
            <a:off x="202320" y="620640"/>
            <a:ext cx="81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ch +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ases                        maltose + intermed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of dextr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Straight Arrow Connector 3"/>
          <p:cNvCxnSpPr/>
          <p:nvPr/>
        </p:nvCxnSpPr>
        <p:spPr>
          <a:xfrm>
            <a:off x="3643200" y="856800"/>
            <a:ext cx="1253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Rectangle 4"/>
          <p:cNvSpPr/>
          <p:nvPr/>
        </p:nvSpPr>
        <p:spPr>
          <a:xfrm>
            <a:off x="5567760" y="22860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odin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434480" y="38178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odin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4080240" y="30672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odin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3367800" y="221472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134640" y="61920"/>
            <a:ext cx="126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rt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">
            <a:hlinkClick r:id="rId1"/>
          </p:cNvPr>
          <p:cNvSpPr/>
          <p:nvPr/>
        </p:nvSpPr>
        <p:spPr>
          <a:xfrm>
            <a:off x="7656480" y="-547560"/>
            <a:ext cx="115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7808760" y="-395280"/>
            <a:ext cx="115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1122480" y="1030320"/>
            <a:ext cx="1038240" cy="268596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800640" y="708120"/>
            <a:ext cx="187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</a:rPr>
              <a:t>Stock sali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-293040" y="20048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 s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9"/>
          <p:cNvCxnSpPr/>
          <p:nvPr/>
        </p:nvCxnSpPr>
        <p:spPr>
          <a:xfrm flipV="1">
            <a:off x="1100160" y="2188800"/>
            <a:ext cx="612000" cy="185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TextBox 10"/>
          <p:cNvSpPr/>
          <p:nvPr/>
        </p:nvSpPr>
        <p:spPr>
          <a:xfrm>
            <a:off x="6332400" y="662040"/>
            <a:ext cx="146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</a:rPr>
              <a:t>Control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"/>
          <p:cNvPicPr/>
          <p:nvPr/>
        </p:nvPicPr>
        <p:blipFill>
          <a:blip r:embed="rId3"/>
          <a:stretch/>
        </p:blipFill>
        <p:spPr>
          <a:xfrm>
            <a:off x="3895560" y="1181160"/>
            <a:ext cx="1036800" cy="2689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4"/>
          <a:stretch/>
        </p:blipFill>
        <p:spPr>
          <a:xfrm>
            <a:off x="6529320" y="1101600"/>
            <a:ext cx="1036800" cy="26892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3992760" y="696960"/>
            <a:ext cx="97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</a:rPr>
              <a:t>Tes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18"/>
          <p:cNvCxnSpPr/>
          <p:nvPr/>
        </p:nvCxnSpPr>
        <p:spPr>
          <a:xfrm flipV="1">
            <a:off x="1700280" y="2916000"/>
            <a:ext cx="250272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TextBox 19"/>
          <p:cNvSpPr/>
          <p:nvPr/>
        </p:nvSpPr>
        <p:spPr>
          <a:xfrm>
            <a:off x="1996200" y="3213000"/>
            <a:ext cx="165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.5ml sal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2510640" y="2000160"/>
            <a:ext cx="15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.5ml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24"/>
          <p:cNvCxnSpPr/>
          <p:nvPr/>
        </p:nvCxnSpPr>
        <p:spPr>
          <a:xfrm flipV="1">
            <a:off x="3714480" y="2214360"/>
            <a:ext cx="579960" cy="143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Straight Arrow Connector 26"/>
          <p:cNvCxnSpPr/>
          <p:nvPr/>
        </p:nvCxnSpPr>
        <p:spPr>
          <a:xfrm flipV="1">
            <a:off x="4584600" y="2707920"/>
            <a:ext cx="2463120" cy="689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5" name="TextBox 27"/>
          <p:cNvSpPr/>
          <p:nvPr/>
        </p:nvSpPr>
        <p:spPr>
          <a:xfrm>
            <a:off x="5459400" y="3197160"/>
            <a:ext cx="63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192240" y="4581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Test tube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en incubate at 37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Control tube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tly boiled for 2 min, cooled and then placed in the water bath at 37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6048000" y="430200"/>
            <a:ext cx="106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Arial"/>
              </a:rPr>
              <a:t>Test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1"/>
          <a:stretch/>
        </p:blipFill>
        <p:spPr>
          <a:xfrm>
            <a:off x="6012000" y="1031760"/>
            <a:ext cx="1036440" cy="2494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2"/>
          <a:stretch/>
        </p:blipFill>
        <p:spPr>
          <a:xfrm>
            <a:off x="3549600" y="1028880"/>
            <a:ext cx="1036800" cy="24969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3333600" y="417600"/>
            <a:ext cx="146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Arial"/>
              </a:rPr>
              <a:t>Control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4245840" y="3525840"/>
            <a:ext cx="30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ml st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ml phosphat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ml NaC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450080" y="4910040"/>
            <a:ext cx="6162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Mix well, then incubate at 37</a:t>
            </a: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⁰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C X 5-10 m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8"/>
          <p:cNvCxnSpPr/>
          <p:nvPr/>
        </p:nvCxnSpPr>
        <p:spPr>
          <a:xfrm flipV="1">
            <a:off x="5808600" y="3274560"/>
            <a:ext cx="35784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Straight Arrow Connector 10"/>
          <p:cNvCxnSpPr/>
          <p:nvPr/>
        </p:nvCxnSpPr>
        <p:spPr>
          <a:xfrm flipH="1" flipV="1">
            <a:off x="4501800" y="3239640"/>
            <a:ext cx="35784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TextBox 1"/>
          <p:cNvSpPr/>
          <p:nvPr/>
        </p:nvSpPr>
        <p:spPr>
          <a:xfrm>
            <a:off x="264600" y="24768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" descr=""/>
          <p:cNvPicPr/>
          <p:nvPr/>
        </p:nvPicPr>
        <p:blipFill>
          <a:blip r:embed="rId1"/>
          <a:stretch/>
        </p:blipFill>
        <p:spPr>
          <a:xfrm>
            <a:off x="5857920" y="1515960"/>
            <a:ext cx="1036440" cy="2494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2"/>
          <a:stretch/>
        </p:blipFill>
        <p:spPr>
          <a:xfrm>
            <a:off x="4033800" y="1503360"/>
            <a:ext cx="1036800" cy="2494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4100400" y="4363920"/>
            <a:ext cx="1036800" cy="249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4"/>
          <a:stretch/>
        </p:blipFill>
        <p:spPr>
          <a:xfrm>
            <a:off x="5718240" y="4363920"/>
            <a:ext cx="1036440" cy="24940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4258080" y="995400"/>
            <a:ext cx="58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</a:rPr>
              <a:t>C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5861520" y="3736800"/>
            <a:ext cx="55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Arial"/>
              </a:rPr>
              <a:t>T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111720" y="995400"/>
            <a:ext cx="55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</a:rPr>
              <a:t>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4304160" y="3735360"/>
            <a:ext cx="58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Arial"/>
              </a:rPr>
              <a:t>C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urved Right Arrow 13"/>
          <p:cNvSpPr/>
          <p:nvPr/>
        </p:nvSpPr>
        <p:spPr>
          <a:xfrm>
            <a:off x="3786120" y="3448080"/>
            <a:ext cx="428760" cy="2000160"/>
          </a:xfrm>
          <a:custGeom>
            <a:avLst/>
            <a:gdLst>
              <a:gd name="textAreaLeft" fmla="*/ 57240 w 428760"/>
              <a:gd name="textAreaRight" fmla="*/ 371520 w 428760"/>
              <a:gd name="textAreaTop" fmla="*/ 459720 h 2000160"/>
              <a:gd name="textAreaBottom" fmla="*/ 1486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32" stAng="-5400000" swAng="-5400000"/>
                <a:lnTo>
                  <a:pt x="0" y="11090"/>
                </a:lnTo>
                <a:arcTo wR="21600" hR="9932" stAng="10800000" swAng="-3641074"/>
                <a:lnTo>
                  <a:pt x="16200" y="21285"/>
                </a:lnTo>
                <a:lnTo>
                  <a:pt x="21600" y="20443"/>
                </a:lnTo>
                <a:lnTo>
                  <a:pt x="16200" y="18971"/>
                </a:lnTo>
                <a:lnTo>
                  <a:pt x="16200" y="19549"/>
                </a:lnTo>
                <a:arcTo wR="21600" hR="9932" stAng="7158926" swAng="3548789"/>
                <a:lnTo>
                  <a:pt x="37" y="10511"/>
                </a:lnTo>
                <a:arcTo wR="21600" hR="9932" stAng="-10707714" swAng="5307714"/>
                <a:close/>
              </a:path>
              <a:path fill="darkenLess" w="21600" h="21600">
                <a:moveTo>
                  <a:pt x="21600" y="0"/>
                </a:moveTo>
                <a:arcTo wR="21600" hR="9932" stAng="-5400000" swAng="-5400000"/>
                <a:lnTo>
                  <a:pt x="0" y="9932"/>
                </a:lnTo>
                <a:arcTo wR="21600" hR="9932" stAng="10800000" swAng="-92286"/>
                <a:lnTo>
                  <a:pt x="37" y="10511"/>
                </a:lnTo>
                <a:arcTo wR="21600" hR="9932" stAng="-10707714" swAng="53077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urved Left Arrow 16"/>
          <p:cNvSpPr/>
          <p:nvPr/>
        </p:nvSpPr>
        <p:spPr>
          <a:xfrm>
            <a:off x="6715080" y="3211560"/>
            <a:ext cx="357120" cy="2000160"/>
          </a:xfrm>
          <a:custGeom>
            <a:avLst/>
            <a:gdLst>
              <a:gd name="textAreaLeft" fmla="*/ 47880 w 357120"/>
              <a:gd name="textAreaRight" fmla="*/ 309240 w 357120"/>
              <a:gd name="textAreaTop" fmla="*/ 466560 h 2000160"/>
              <a:gd name="textAreaBottom" fmla="*/ 148896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077" stAng="-5400000" swAng="5400000"/>
                <a:lnTo>
                  <a:pt x="21600" y="11042"/>
                </a:lnTo>
                <a:arcTo wR="21600" hR="10077" stAng="0" swAng="3662193"/>
                <a:lnTo>
                  <a:pt x="5400" y="21280"/>
                </a:lnTo>
                <a:lnTo>
                  <a:pt x="0" y="20636"/>
                </a:lnTo>
                <a:lnTo>
                  <a:pt x="5400" y="19351"/>
                </a:lnTo>
                <a:lnTo>
                  <a:pt x="5400" y="19833"/>
                </a:lnTo>
                <a:arcTo wR="21600" hR="10077" stAng="3662193" swAng="-3585325"/>
                <a:lnTo>
                  <a:pt x="21575" y="10559"/>
                </a:lnTo>
                <a:arcTo wR="21600" hR="10077" stAng="-76868" swAng="-5323132"/>
                <a:close/>
              </a:path>
              <a:path fill="darkenLess" w="21600" h="21600">
                <a:moveTo>
                  <a:pt x="0" y="0"/>
                </a:moveTo>
                <a:arcTo wR="21600" hR="10077" stAng="-5400000" swAng="5400000"/>
                <a:lnTo>
                  <a:pt x="21600" y="11042"/>
                </a:lnTo>
                <a:arcTo wR="21600" hR="10077" stAng="0" swAng="-76868"/>
                <a:lnTo>
                  <a:pt x="21575" y="10559"/>
                </a:lnTo>
                <a:arcTo wR="21600" hR="10077" stAng="-76868" swAng="-532313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7"/>
          <p:cNvSpPr/>
          <p:nvPr/>
        </p:nvSpPr>
        <p:spPr>
          <a:xfrm>
            <a:off x="3125880" y="2513160"/>
            <a:ext cx="86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7095960" y="2571840"/>
            <a:ext cx="86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519840" y="4448160"/>
            <a:ext cx="1840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incubat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193320" y="74448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incub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82800" y="14292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potting 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4500720" y="1357200"/>
            <a:ext cx="1928520" cy="47865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5857920" y="5143680"/>
            <a:ext cx="2858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5786280" y="1571760"/>
            <a:ext cx="2858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4786200" y="150012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5857920" y="4214880"/>
            <a:ext cx="2858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5857920" y="328608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5786280" y="235728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>
            <a:off x="4786200" y="235728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4786200" y="3214800"/>
            <a:ext cx="2858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1"/>
          <p:cNvSpPr/>
          <p:nvPr/>
        </p:nvSpPr>
        <p:spPr>
          <a:xfrm>
            <a:off x="4786200" y="414324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4714920" y="507204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4733640" y="85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5742720" y="857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5"/>
          <p:cNvSpPr/>
          <p:nvPr/>
        </p:nvSpPr>
        <p:spPr>
          <a:xfrm>
            <a:off x="1921680" y="500040"/>
            <a:ext cx="58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dd 1 drop of iodine solution in 2 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1800720" y="150012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1657800" y="221472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,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1385640" y="30718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9"/>
          <p:cNvSpPr/>
          <p:nvPr/>
        </p:nvSpPr>
        <p:spPr>
          <a:xfrm>
            <a:off x="1385640" y="500076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1184040" y="407196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6572160" y="507204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s fro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2"/>
          <p:cNvSpPr/>
          <p:nvPr/>
        </p:nvSpPr>
        <p:spPr>
          <a:xfrm>
            <a:off x="6429240" y="21430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min, m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6500880" y="307188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6572160" y="40719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s fro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6512760" y="15717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940480" y="2643120"/>
            <a:ext cx="294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ربع نص 1"/>
          <p:cNvSpPr/>
          <p:nvPr/>
        </p:nvSpPr>
        <p:spPr>
          <a:xfrm>
            <a:off x="371520" y="8571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2"/>
          <p:cNvSpPr/>
          <p:nvPr/>
        </p:nvSpPr>
        <p:spPr>
          <a:xfrm>
            <a:off x="0" y="142920"/>
            <a:ext cx="900108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is a hydrolytic enzyme which breaks down many polysaccharides such as starch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Is a polymer of D- glucose units linked by 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α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-1, 4 glycosidic bonds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rch is made up of two polysacchari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opectin (branched-chain polysaccharid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ose (unbranched-chain polysaccha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57120" y="4714920"/>
            <a:ext cx="4143600" cy="1792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5143680" y="4572000"/>
            <a:ext cx="3765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2920" y="214200"/>
            <a:ext cx="8858160" cy="44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rtl="1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he hydrolytic effect of amylase on starch results in yielding </a:t>
            </a:r>
            <a:r>
              <a:rPr b="1" lang="en-GB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malt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ed of two D-glucose molecules )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as the end product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here are two broad groups of amylases: </a:t>
            </a:r>
            <a:r>
              <a:rPr b="0" lang="el-G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α</a:t>
            </a:r>
            <a:r>
              <a:rPr b="0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and </a:t>
            </a:r>
            <a:r>
              <a:rPr b="0" lang="el-G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β</a:t>
            </a:r>
            <a:r>
              <a:rPr b="0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amylases</a:t>
            </a:r>
            <a:r>
              <a:rPr b="0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</a:t>
            </a:r>
            <a:r>
              <a:rPr b="1" lang="el-G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β</a:t>
            </a:r>
            <a:r>
              <a:rPr b="1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amylases 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rapidly hydrolyse the amylose portion of starch to maltose by acting on residues at the non reducing terminals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42920" y="571680"/>
            <a:ext cx="8786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 hydrolyse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α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-1, 4 glycosidic links in polysaccharides so as to remove successive maltose units from the non-reducing ends of the chains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</a:t>
            </a:r>
            <a:r>
              <a:rPr b="0" lang="el-G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α</a:t>
            </a:r>
            <a:r>
              <a:rPr b="0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amylases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, in contrast to the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β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- amylases, cause a rapid loss of the capacity of amylase to give a blue colour with iodine, also the rate of appearance of maltose is much slower in the 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α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amylases catalysed reaction than in the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β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- amylases catalysed one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85840" y="428760"/>
            <a:ext cx="7000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amylase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ases – human amylase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mylases – bacteria and plant amy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urce of  amylase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ry 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retion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 or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57120" y="642960"/>
            <a:ext cx="8215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amylas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secretion of amylase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ome Causes of Hyperamylasemia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pancreatitis, Salivary gland lesion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85840" y="301680"/>
            <a:ext cx="8502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Assa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y enzyme assay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of the rea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 by measuring the amount of substrate (s) t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ed or the amount of product (s) that is formed in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, it also called enzyme un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In the case of amylase</a:t>
            </a:r>
            <a:r>
              <a:rPr b="0" lang="en-US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The substrate is starch (colourless)</a:t>
            </a:r>
            <a:r>
              <a:rPr b="0" lang="en-US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The product is maltose (colour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be converted to coloured products by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re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مربع نص 3"/>
          <p:cNvSpPr/>
          <p:nvPr/>
        </p:nvSpPr>
        <p:spPr>
          <a:xfrm>
            <a:off x="255240" y="357120"/>
            <a:ext cx="736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ch +Amylase                     maltose (colour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142920" y="2071800"/>
            <a:ext cx="857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ch  + Amylase + Iodine                  </a:t>
            </a:r>
            <a:r>
              <a:rPr b="0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lue colour                                         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lit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رابط كسهم مستقيم 8"/>
          <p:cNvCxnSpPr/>
          <p:nvPr/>
        </p:nvCxnSpPr>
        <p:spPr>
          <a:xfrm>
            <a:off x="3285720" y="642960"/>
            <a:ext cx="10724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رابط كسهم مستقيم 8"/>
          <p:cNvCxnSpPr/>
          <p:nvPr/>
        </p:nvCxnSpPr>
        <p:spPr>
          <a:xfrm>
            <a:off x="4428720" y="2428920"/>
            <a:ext cx="10724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1-09-14T05:21:44Z</dcterms:modified>
  <cp:revision>46</cp:revision>
  <dc:subject/>
  <dc:title>Qualitative determination of Amylase activity</dc:title>
</cp:coreProperties>
</file>