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6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7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8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7EBF-FA88-4D8B-9BC6-2152CBDA7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8DEEA-8F88-42C6-AEB6-95990470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1EBBF-C356-4217-8F87-D2568A38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B8238-22C9-4E42-AAC3-F865F97C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6ADF5-8D8A-4377-8C6D-1945584A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2D1D1-3B3F-4CFA-8914-7C7582EE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9613-1146-426D-9A3D-AD099AE6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876EB-D10D-45C7-83D8-960D38E2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83879-2108-4776-BB3B-BEBB5764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FC317-553E-4291-9264-B46DE67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7A525-CC7D-42BD-AF05-782EA642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68559-DEF9-4563-8A1B-61B2C494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ECA02-5A99-4321-8BA6-25281CE9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aema - Non Mal:</a:t>
            </a:r>
            <a:fld id="{A3DA7534-D233-44A8-BFE0-25CF88E484E3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869240" y="647712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shi: 03/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262F-E91F-405F-977E-D2E32E7AE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Platele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Platelets are fragments of cytoplasm of bone marrow megakary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150 – 400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ajor role in coa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019680" cy="218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6095880" y="3123720"/>
            <a:ext cx="83844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46748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867280" y="510516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7960" y="1218960"/>
            <a:ext cx="3809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Clinical featur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in any age or sex, but typically young fem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preceeded by viral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s and symptoms depend on platelet 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set usually insid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Laboratory featur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P IS A DIAGNOSIS OF EX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sensitive and specific test for I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olated 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creased M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rmal PT, P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ne marrow investigation not essential in straightforward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Treatment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Patient is not bleeding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t &gt; 50: Rx not indic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t 20-50: Rx usually not needed, monitor clos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t &lt; 20: Rx indicated with one or mor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dnis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V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i-D if Rh 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lenectomy if relapsing severe I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No role for prophylactic platelet transfusion, even if plt =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Treatment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Patient is bleeding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serious bleeding (eg. CNS, retroperitoneal, G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dnisone and IV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fuse plate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ider urgent splenecto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vide other supportive/resuscitative care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Prognosi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ildren: usually permanent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ults: usually relapsing (chronic ITP), but course is relatively ben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Features of Acute and Chronic ITP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3040" y="1600200"/>
            <a:ext cx="894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I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k 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(2-6 yr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s (20-40 y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:m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cedent inf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 of sympto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u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upt-indo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elet count at presen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2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5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6 wee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taneous remi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m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07240" y="508320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470232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3720" y="249228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7040" y="1577880"/>
            <a:ext cx="16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3720" y="653112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81600" y="-22320"/>
            <a:ext cx="16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2520" y="73980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0" y="2438280"/>
            <a:ext cx="86691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477120"/>
            <a:ext cx="86691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2680" y="22824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ncidence of adult ITP increases with age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39240" y="1739880"/>
            <a:ext cx="749592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er 10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(yrs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-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2.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1.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3.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-5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3.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1.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4.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9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3.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.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22360" y="3276720"/>
            <a:ext cx="5554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22360" y="4724280"/>
            <a:ext cx="5554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itial Treatment of ITP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8480" y="1730520"/>
            <a:ext cx="7464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elet cou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er µ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5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-5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blee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2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blee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iz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80920" y="2590920"/>
            <a:ext cx="6772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0920" y="6629400"/>
            <a:ext cx="6772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5000" y="380520"/>
            <a:ext cx="778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mmary of case series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ults with ITP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680" y="2022480"/>
            <a:ext cx="73450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./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respon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glucocorticoi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70/144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6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splenectom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81/88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6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th from hemorrha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8/176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lthy at last observ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27/160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4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4480" y="2514600"/>
            <a:ext cx="6502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480" y="5334120"/>
            <a:ext cx="6502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3280" y="546120"/>
            <a:ext cx="8226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morbidity and mortality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 adults with ITP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41440" y="2286000"/>
            <a:ext cx="8602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4 patients with severe ITP studied for mean of 10.5 y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 and PR patients (85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increased mortality compared to control popul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-responders/maintenance therap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d morbidity due to ITP-related hospitaliz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d mortality related equally to bleeding and inf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440" y="5410080"/>
            <a:ext cx="839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Times New Roman"/>
              </a:rPr>
              <a:t>Non-Malignant Platelets Disorders</a:t>
            </a:r>
            <a:endParaRPr b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pproach to the thrombocytopenic patien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patient bleed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symptoms of a secondary illness? (neoplasm, infection, autoimmune disea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history of medications, alcohol use, or recent transfus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risk factors for HIV infec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family history of thrombocytopen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sites of bleeding suggest a platelet def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ssess the number and function of plate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BC with peripheral sm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 time or platelet aggregation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Approach to thrombocytop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4191120"/>
            <a:ext cx="2819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apl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filt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effective megakaryopoie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eg. M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elective impairment of platelet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191120"/>
            <a:ext cx="2301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Causes of splenomega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f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flam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conges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malig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red cell disor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rage dise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5120" y="4191120"/>
            <a:ext cx="300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mmu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auto-immune (ITP, S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dru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fe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allo-immu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non-immu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ep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DIC, TTP, H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hypertensive disorders of pregn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58128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ook for splenomega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36920" y="358128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bone marrow investi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review m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75200" y="358128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ook for underlying disor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review m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43000" y="1676520"/>
            <a:ext cx="6934320" cy="1922760"/>
            <a:chOff x="1143000" y="1676520"/>
            <a:chExt cx="6934320" cy="1922760"/>
          </a:xfrm>
        </p:grpSpPr>
        <p:sp>
          <p:nvSpPr>
            <p:cNvPr id="180" name=""/>
            <p:cNvSpPr/>
            <p:nvPr/>
          </p:nvSpPr>
          <p:spPr>
            <a:xfrm>
              <a:off x="3352320" y="1676520"/>
              <a:ext cx="247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HROMBOCYTOPEN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0920" y="2361960"/>
              <a:ext cx="402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rule out pseudothrombocytopen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3000" y="32004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SEQUESTR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5320" y="3200400"/>
              <a:ext cx="21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ROD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920" y="3200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DESTR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2057400"/>
              <a:ext cx="0" cy="30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0" y="28191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0" y="2971800"/>
              <a:ext cx="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2971800"/>
              <a:ext cx="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0" y="2971800"/>
              <a:ext cx="228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2971800"/>
              <a:ext cx="228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leeding time and bleeding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00560" y="4227480"/>
            <a:ext cx="16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19880" y="4684680"/>
            <a:ext cx="16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7680" y="2627280"/>
            <a:ext cx="16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30680" y="6665760"/>
            <a:ext cx="1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-10% of patients have a prolonged bleeding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prolonged bleeding  times are due to aspirin or drug in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onged bleeding time does not predict excess surgical blood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recommended for routine testing in preoperative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Thrombocytopoiesi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LURIPOT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TEM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2360" y="1828800"/>
            <a:ext cx="14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OMMIT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ROGENI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1828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RECOGNIZABLE BONE MARROW PRECURSOR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1828800"/>
            <a:ext cx="11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MATURE BLOOD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42280" y="320040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myel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mon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43720" y="28954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ronorm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28954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red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9200" y="320040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neutroph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monoc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8120" y="4267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basoph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7040" y="472428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late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4267080"/>
            <a:ext cx="1513800" cy="380880"/>
            <a:chOff x="3657600" y="4267080"/>
            <a:chExt cx="1513800" cy="38088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4267080"/>
              <a:ext cx="456840" cy="380880"/>
              <a:chOff x="3657600" y="4267080"/>
              <a:chExt cx="456840" cy="380880"/>
            </a:xfrm>
          </p:grpSpPr>
          <p:sp>
            <p:nvSpPr>
              <p:cNvPr id="211" name=""/>
              <p:cNvSpPr/>
              <p:nvPr/>
            </p:nvSpPr>
            <p:spPr>
              <a:xfrm>
                <a:off x="3657600" y="4267080"/>
                <a:ext cx="45684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17720" y="4300200"/>
                <a:ext cx="30456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115880" y="42670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CFU-Ba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657600" y="3809880"/>
            <a:ext cx="1410120" cy="380880"/>
            <a:chOff x="3657600" y="3809880"/>
            <a:chExt cx="1410120" cy="380880"/>
          </a:xfrm>
        </p:grpSpPr>
        <p:grpSp>
          <p:nvGrpSpPr>
            <p:cNvPr id="215" name=""/>
            <p:cNvGrpSpPr/>
            <p:nvPr/>
          </p:nvGrpSpPr>
          <p:grpSpPr>
            <a:xfrm>
              <a:off x="3657600" y="3809880"/>
              <a:ext cx="457200" cy="380880"/>
              <a:chOff x="3657600" y="3809880"/>
              <a:chExt cx="457200" cy="380880"/>
            </a:xfrm>
          </p:grpSpPr>
          <p:sp>
            <p:nvSpPr>
              <p:cNvPr id="216" name=""/>
              <p:cNvSpPr/>
              <p:nvPr/>
            </p:nvSpPr>
            <p:spPr>
              <a:xfrm>
                <a:off x="3657600" y="3809880"/>
                <a:ext cx="45720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18080" y="3843000"/>
                <a:ext cx="30492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4115880" y="380988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CFU-E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657600" y="3352680"/>
            <a:ext cx="1388160" cy="380880"/>
            <a:chOff x="3657600" y="3352680"/>
            <a:chExt cx="1388160" cy="380880"/>
          </a:xfrm>
        </p:grpSpPr>
        <p:grpSp>
          <p:nvGrpSpPr>
            <p:cNvPr id="220" name=""/>
            <p:cNvGrpSpPr/>
            <p:nvPr/>
          </p:nvGrpSpPr>
          <p:grpSpPr>
            <a:xfrm>
              <a:off x="3657600" y="3352680"/>
              <a:ext cx="457200" cy="380880"/>
              <a:chOff x="3657600" y="3352680"/>
              <a:chExt cx="457200" cy="380880"/>
            </a:xfrm>
          </p:grpSpPr>
          <p:sp>
            <p:nvSpPr>
              <p:cNvPr id="221" name=""/>
              <p:cNvSpPr/>
              <p:nvPr/>
            </p:nvSpPr>
            <p:spPr>
              <a:xfrm>
                <a:off x="3657600" y="3352680"/>
                <a:ext cx="45720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18080" y="3385800"/>
                <a:ext cx="30492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115160" y="33526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CFU-G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657600" y="2895480"/>
            <a:ext cx="1825920" cy="380880"/>
            <a:chOff x="3657600" y="2895480"/>
            <a:chExt cx="1825920" cy="380880"/>
          </a:xfrm>
        </p:grpSpPr>
        <p:grpSp>
          <p:nvGrpSpPr>
            <p:cNvPr id="225" name=""/>
            <p:cNvGrpSpPr/>
            <p:nvPr/>
          </p:nvGrpSpPr>
          <p:grpSpPr>
            <a:xfrm>
              <a:off x="3657600" y="2895480"/>
              <a:ext cx="457200" cy="380880"/>
              <a:chOff x="3657600" y="2895480"/>
              <a:chExt cx="457200" cy="380880"/>
            </a:xfrm>
          </p:grpSpPr>
          <p:sp>
            <p:nvSpPr>
              <p:cNvPr id="226" name=""/>
              <p:cNvSpPr/>
              <p:nvPr/>
            </p:nvSpPr>
            <p:spPr>
              <a:xfrm>
                <a:off x="3657600" y="2895480"/>
                <a:ext cx="45720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18080" y="2928600"/>
                <a:ext cx="30492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115520" y="289548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BFU-E/CFU-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342864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428640" y="3581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495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2864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31240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0384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48480" y="38098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eosinoph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4495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4952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781320" y="3429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257800" y="3429000"/>
            <a:ext cx="380160" cy="304920"/>
            <a:chOff x="5257800" y="3429000"/>
            <a:chExt cx="380160" cy="304920"/>
          </a:xfrm>
        </p:grpSpPr>
        <p:sp>
          <p:nvSpPr>
            <p:cNvPr id="244" name=""/>
            <p:cNvSpPr/>
            <p:nvPr/>
          </p:nvSpPr>
          <p:spPr>
            <a:xfrm>
              <a:off x="5257800" y="3581280"/>
              <a:ext cx="228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485680" y="34290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485680" y="3733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6040" y="3429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657600" y="5715000"/>
            <a:ext cx="457200" cy="380880"/>
            <a:chOff x="3657600" y="5715000"/>
            <a:chExt cx="457200" cy="380880"/>
          </a:xfrm>
        </p:grpSpPr>
        <p:sp>
          <p:nvSpPr>
            <p:cNvPr id="250" name=""/>
            <p:cNvSpPr/>
            <p:nvPr/>
          </p:nvSpPr>
          <p:spPr>
            <a:xfrm>
              <a:off x="3657600" y="5715000"/>
              <a:ext cx="45720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8080" y="5748120"/>
              <a:ext cx="30492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657600" y="5257800"/>
            <a:ext cx="457200" cy="380880"/>
            <a:chOff x="3657600" y="5257800"/>
            <a:chExt cx="457200" cy="380880"/>
          </a:xfrm>
        </p:grpSpPr>
        <p:sp>
          <p:nvSpPr>
            <p:cNvPr id="253" name=""/>
            <p:cNvSpPr/>
            <p:nvPr/>
          </p:nvSpPr>
          <p:spPr>
            <a:xfrm>
              <a:off x="3657600" y="5257800"/>
              <a:ext cx="45720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18080" y="5290920"/>
              <a:ext cx="30492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116960" y="525780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re-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7320" y="5715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re-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428640" y="548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428640" y="5943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895480" y="57150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67480" y="4191120"/>
            <a:ext cx="11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myelo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rogeni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362320" y="5486400"/>
            <a:ext cx="457200" cy="380880"/>
            <a:chOff x="2362320" y="5486400"/>
            <a:chExt cx="457200" cy="380880"/>
          </a:xfrm>
        </p:grpSpPr>
        <p:sp>
          <p:nvSpPr>
            <p:cNvPr id="263" name=""/>
            <p:cNvSpPr/>
            <p:nvPr/>
          </p:nvSpPr>
          <p:spPr>
            <a:xfrm>
              <a:off x="2362320" y="5486400"/>
              <a:ext cx="45720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22800" y="5519520"/>
              <a:ext cx="30492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213640" y="58672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ympho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42640" y="5257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ymph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2640" y="571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ymph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54864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59436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5943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60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T-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5600" y="5715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B-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914400" y="4648320"/>
            <a:ext cx="457200" cy="380880"/>
            <a:chOff x="914400" y="4648320"/>
            <a:chExt cx="457200" cy="380880"/>
          </a:xfrm>
        </p:grpSpPr>
        <p:sp>
          <p:nvSpPr>
            <p:cNvPr id="275" name=""/>
            <p:cNvSpPr/>
            <p:nvPr/>
          </p:nvSpPr>
          <p:spPr>
            <a:xfrm>
              <a:off x="914400" y="4648320"/>
              <a:ext cx="457200" cy="38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4880" y="4681440"/>
              <a:ext cx="304920" cy="304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H="1">
            <a:off x="1980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5715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40384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876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44160" y="601812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&amp; plasm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182880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MIXED PROGENITOR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362320" y="3809880"/>
            <a:ext cx="457200" cy="380880"/>
            <a:chOff x="2362320" y="3809880"/>
            <a:chExt cx="457200" cy="380880"/>
          </a:xfrm>
        </p:grpSpPr>
        <p:sp>
          <p:nvSpPr>
            <p:cNvPr id="284" name=""/>
            <p:cNvSpPr/>
            <p:nvPr/>
          </p:nvSpPr>
          <p:spPr>
            <a:xfrm>
              <a:off x="2362320" y="3809880"/>
              <a:ext cx="457200" cy="38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22800" y="3843000"/>
              <a:ext cx="304920" cy="304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57600" y="4724280"/>
            <a:ext cx="457200" cy="380880"/>
            <a:chOff x="3657600" y="4724280"/>
            <a:chExt cx="457200" cy="380880"/>
          </a:xfrm>
        </p:grpSpPr>
        <p:sp>
          <p:nvSpPr>
            <p:cNvPr id="287" name=""/>
            <p:cNvSpPr/>
            <p:nvPr/>
          </p:nvSpPr>
          <p:spPr>
            <a:xfrm>
              <a:off x="3657600" y="4724280"/>
              <a:ext cx="457200" cy="380880"/>
            </a:xfrm>
            <a:prstGeom prst="ellipse">
              <a:avLst/>
            </a:prstGeom>
            <a:solidFill>
              <a:srgbClr val="cc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8080" y="4757400"/>
              <a:ext cx="304920" cy="304920"/>
            </a:xfrm>
            <a:prstGeom prst="ellipse">
              <a:avLst/>
            </a:prstGeom>
            <a:solidFill>
              <a:srgbClr val="33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115880" y="47242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FU-M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44800" y="47242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megakaryoc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5680" y="50292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luripot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tem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4038480"/>
            <a:ext cx="761760" cy="83844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528"/>
                </a:moveTo>
                <a:lnTo>
                  <a:pt x="336" y="528"/>
                </a:lnTo>
                <a:lnTo>
                  <a:pt x="336" y="0"/>
                </a:lnTo>
                <a:lnTo>
                  <a:pt x="48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03848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0"/>
                </a:moveTo>
                <a:lnTo>
                  <a:pt x="336" y="0"/>
                </a:lnTo>
                <a:lnTo>
                  <a:pt x="336" y="576"/>
                </a:lnTo>
                <a:lnTo>
                  <a:pt x="432" y="57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495288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4952880"/>
            <a:ext cx="304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Platelet form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11000" y="2087280"/>
            <a:ext cx="2159640" cy="2150280"/>
            <a:chOff x="711000" y="2087280"/>
            <a:chExt cx="2159640" cy="2150280"/>
          </a:xfrm>
        </p:grpSpPr>
        <p:sp>
          <p:nvSpPr>
            <p:cNvPr id="298" name=""/>
            <p:cNvSpPr/>
            <p:nvPr/>
          </p:nvSpPr>
          <p:spPr>
            <a:xfrm rot="18949800">
              <a:off x="914400" y="2514600"/>
              <a:ext cx="1752480" cy="1295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46600">
              <a:off x="1218960" y="3124080"/>
              <a:ext cx="380880" cy="533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7797200">
              <a:off x="1600200" y="3200400"/>
              <a:ext cx="380880" cy="533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59000">
              <a:off x="1371240" y="2666520"/>
              <a:ext cx="380880" cy="533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3700200">
              <a:off x="1676160" y="2819160"/>
              <a:ext cx="381240" cy="5335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835560" y="43434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gakaryoc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454200" y="2120760"/>
            <a:ext cx="2159640" cy="2150280"/>
            <a:chOff x="3454200" y="2120760"/>
            <a:chExt cx="2159640" cy="2150280"/>
          </a:xfrm>
        </p:grpSpPr>
        <p:grpSp>
          <p:nvGrpSpPr>
            <p:cNvPr id="305" name=""/>
            <p:cNvGrpSpPr/>
            <p:nvPr/>
          </p:nvGrpSpPr>
          <p:grpSpPr>
            <a:xfrm>
              <a:off x="3454200" y="2120760"/>
              <a:ext cx="2159640" cy="2150280"/>
              <a:chOff x="3454200" y="2120760"/>
              <a:chExt cx="2159640" cy="2150280"/>
            </a:xfrm>
          </p:grpSpPr>
          <p:sp>
            <p:nvSpPr>
              <p:cNvPr id="306" name=""/>
              <p:cNvSpPr/>
              <p:nvPr/>
            </p:nvSpPr>
            <p:spPr>
              <a:xfrm rot="18949800">
                <a:off x="3657600" y="2548080"/>
                <a:ext cx="1752480" cy="12952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046600">
                <a:off x="3961800" y="3157560"/>
                <a:ext cx="381240" cy="5335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7797200">
                <a:off x="4343400" y="3233160"/>
                <a:ext cx="381240" cy="53352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659000">
                <a:off x="4114440" y="2700000"/>
                <a:ext cx="380880" cy="53352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700200">
                <a:off x="4419000" y="2852640"/>
                <a:ext cx="380880" cy="53316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43280" y="2438280"/>
                <a:ext cx="209520" cy="223920"/>
              </a:xfrm>
              <a:custGeom>
                <a:avLst/>
                <a:gdLst/>
                <a:ahLst/>
                <a:rect l="l" t="t" r="r" b="b"/>
                <a:pathLst>
                  <a:path w="132" h="141">
                    <a:moveTo>
                      <a:pt x="132" y="0"/>
                    </a:moveTo>
                    <a:cubicBezTo>
                      <a:pt x="118" y="5"/>
                      <a:pt x="119" y="19"/>
                      <a:pt x="114" y="33"/>
                    </a:cubicBezTo>
                    <a:cubicBezTo>
                      <a:pt x="113" y="36"/>
                      <a:pt x="111" y="42"/>
                      <a:pt x="111" y="42"/>
                    </a:cubicBezTo>
                    <a:cubicBezTo>
                      <a:pt x="110" y="49"/>
                      <a:pt x="109" y="75"/>
                      <a:pt x="99" y="81"/>
                    </a:cubicBezTo>
                    <a:cubicBezTo>
                      <a:pt x="76" y="94"/>
                      <a:pt x="69" y="84"/>
                      <a:pt x="51" y="111"/>
                    </a:cubicBezTo>
                    <a:cubicBezTo>
                      <a:pt x="47" y="128"/>
                      <a:pt x="44" y="130"/>
                      <a:pt x="27" y="126"/>
                    </a:cubicBezTo>
                    <a:cubicBezTo>
                      <a:pt x="18" y="127"/>
                      <a:pt x="0" y="127"/>
                      <a:pt x="0" y="141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14640" y="2514600"/>
                <a:ext cx="133560" cy="247680"/>
              </a:xfrm>
              <a:custGeom>
                <a:avLst/>
                <a:gdLst/>
                <a:ahLst/>
                <a:rect l="l" t="t" r="r" b="b"/>
                <a:pathLst>
                  <a:path w="84" h="156">
                    <a:moveTo>
                      <a:pt x="0" y="0"/>
                    </a:moveTo>
                    <a:cubicBezTo>
                      <a:pt x="4" y="4"/>
                      <a:pt x="9" y="7"/>
                      <a:pt x="12" y="12"/>
                    </a:cubicBezTo>
                    <a:cubicBezTo>
                      <a:pt x="14" y="15"/>
                      <a:pt x="13" y="19"/>
                      <a:pt x="15" y="21"/>
                    </a:cubicBezTo>
                    <a:cubicBezTo>
                      <a:pt x="28" y="36"/>
                      <a:pt x="42" y="42"/>
                      <a:pt x="54" y="57"/>
                    </a:cubicBezTo>
                    <a:cubicBezTo>
                      <a:pt x="65" y="89"/>
                      <a:pt x="38" y="128"/>
                      <a:pt x="66" y="156"/>
                    </a:cubicBezTo>
                    <a:cubicBezTo>
                      <a:pt x="71" y="154"/>
                      <a:pt x="77" y="153"/>
                      <a:pt x="81" y="150"/>
                    </a:cubicBezTo>
                    <a:cubicBezTo>
                      <a:pt x="83" y="148"/>
                      <a:pt x="84" y="141"/>
                      <a:pt x="84" y="141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57480" y="2638440"/>
                <a:ext cx="187560" cy="638280"/>
              </a:xfrm>
              <a:custGeom>
                <a:avLst/>
                <a:gdLst/>
                <a:ahLst/>
                <a:rect l="l" t="t" r="r" b="b"/>
                <a:pathLst>
                  <a:path w="118" h="402">
                    <a:moveTo>
                      <a:pt x="114" y="0"/>
                    </a:moveTo>
                    <a:cubicBezTo>
                      <a:pt x="118" y="31"/>
                      <a:pt x="117" y="60"/>
                      <a:pt x="108" y="90"/>
                    </a:cubicBezTo>
                    <a:cubicBezTo>
                      <a:pt x="106" y="116"/>
                      <a:pt x="105" y="142"/>
                      <a:pt x="102" y="168"/>
                    </a:cubicBezTo>
                    <a:cubicBezTo>
                      <a:pt x="100" y="191"/>
                      <a:pt x="78" y="221"/>
                      <a:pt x="72" y="246"/>
                    </a:cubicBezTo>
                    <a:cubicBezTo>
                      <a:pt x="77" y="282"/>
                      <a:pt x="75" y="252"/>
                      <a:pt x="72" y="291"/>
                    </a:cubicBezTo>
                    <a:cubicBezTo>
                      <a:pt x="68" y="354"/>
                      <a:pt x="75" y="402"/>
                      <a:pt x="0" y="40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10040" y="2548080"/>
                <a:ext cx="200160" cy="419040"/>
              </a:xfrm>
              <a:custGeom>
                <a:avLst/>
                <a:gdLst/>
                <a:ahLst/>
                <a:rect l="l" t="t" r="r" b="b"/>
                <a:pathLst>
                  <a:path w="126" h="264">
                    <a:moveTo>
                      <a:pt x="126" y="0"/>
                    </a:moveTo>
                    <a:cubicBezTo>
                      <a:pt x="118" y="16"/>
                      <a:pt x="102" y="35"/>
                      <a:pt x="87" y="45"/>
                    </a:cubicBezTo>
                    <a:cubicBezTo>
                      <a:pt x="81" y="63"/>
                      <a:pt x="67" y="74"/>
                      <a:pt x="57" y="90"/>
                    </a:cubicBezTo>
                    <a:cubicBezTo>
                      <a:pt x="56" y="98"/>
                      <a:pt x="57" y="106"/>
                      <a:pt x="54" y="114"/>
                    </a:cubicBezTo>
                    <a:cubicBezTo>
                      <a:pt x="52" y="119"/>
                      <a:pt x="36" y="130"/>
                      <a:pt x="33" y="132"/>
                    </a:cubicBezTo>
                    <a:cubicBezTo>
                      <a:pt x="19" y="144"/>
                      <a:pt x="9" y="154"/>
                      <a:pt x="0" y="171"/>
                    </a:cubicBezTo>
                    <a:cubicBezTo>
                      <a:pt x="4" y="189"/>
                      <a:pt x="12" y="202"/>
                      <a:pt x="18" y="219"/>
                    </a:cubicBezTo>
                    <a:cubicBezTo>
                      <a:pt x="15" y="260"/>
                      <a:pt x="21" y="246"/>
                      <a:pt x="12" y="26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71720" y="2481120"/>
                <a:ext cx="290520" cy="328680"/>
              </a:xfrm>
              <a:custGeom>
                <a:avLst/>
                <a:gdLst/>
                <a:ahLst/>
                <a:rect l="l" t="t" r="r" b="b"/>
                <a:pathLst>
                  <a:path w="183" h="207">
                    <a:moveTo>
                      <a:pt x="183" y="0"/>
                    </a:moveTo>
                    <a:cubicBezTo>
                      <a:pt x="174" y="14"/>
                      <a:pt x="160" y="22"/>
                      <a:pt x="150" y="36"/>
                    </a:cubicBezTo>
                    <a:cubicBezTo>
                      <a:pt x="139" y="51"/>
                      <a:pt x="133" y="69"/>
                      <a:pt x="123" y="84"/>
                    </a:cubicBezTo>
                    <a:cubicBezTo>
                      <a:pt x="122" y="109"/>
                      <a:pt x="123" y="134"/>
                      <a:pt x="120" y="159"/>
                    </a:cubicBezTo>
                    <a:cubicBezTo>
                      <a:pt x="117" y="182"/>
                      <a:pt x="44" y="184"/>
                      <a:pt x="24" y="189"/>
                    </a:cubicBezTo>
                    <a:cubicBezTo>
                      <a:pt x="20" y="192"/>
                      <a:pt x="5" y="207"/>
                      <a:pt x="0" y="207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919400" y="2747880"/>
                <a:ext cx="61920" cy="405000"/>
              </a:xfrm>
              <a:custGeom>
                <a:avLst/>
                <a:gdLst/>
                <a:ahLst/>
                <a:rect l="l" t="t" r="r" b="b"/>
                <a:pathLst>
                  <a:path w="39" h="255">
                    <a:moveTo>
                      <a:pt x="39" y="0"/>
                    </a:moveTo>
                    <a:cubicBezTo>
                      <a:pt x="36" y="14"/>
                      <a:pt x="34" y="26"/>
                      <a:pt x="27" y="39"/>
                    </a:cubicBezTo>
                    <a:cubicBezTo>
                      <a:pt x="25" y="62"/>
                      <a:pt x="23" y="80"/>
                      <a:pt x="18" y="102"/>
                    </a:cubicBezTo>
                    <a:cubicBezTo>
                      <a:pt x="34" y="150"/>
                      <a:pt x="23" y="210"/>
                      <a:pt x="0" y="2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71720" y="2562120"/>
                <a:ext cx="171720" cy="195480"/>
              </a:xfrm>
              <a:custGeom>
                <a:avLst/>
                <a:gdLst/>
                <a:ahLst/>
                <a:rect l="l" t="t" r="r" b="b"/>
                <a:pathLst>
                  <a:path w="108" h="123">
                    <a:moveTo>
                      <a:pt x="108" y="0"/>
                    </a:moveTo>
                    <a:cubicBezTo>
                      <a:pt x="103" y="11"/>
                      <a:pt x="98" y="21"/>
                      <a:pt x="96" y="33"/>
                    </a:cubicBezTo>
                    <a:cubicBezTo>
                      <a:pt x="94" y="47"/>
                      <a:pt x="103" y="69"/>
                      <a:pt x="90" y="75"/>
                    </a:cubicBezTo>
                    <a:cubicBezTo>
                      <a:pt x="72" y="84"/>
                      <a:pt x="53" y="84"/>
                      <a:pt x="33" y="87"/>
                    </a:cubicBezTo>
                    <a:cubicBezTo>
                      <a:pt x="30" y="99"/>
                      <a:pt x="26" y="110"/>
                      <a:pt x="15" y="117"/>
                    </a:cubicBezTo>
                    <a:cubicBezTo>
                      <a:pt x="10" y="120"/>
                      <a:pt x="0" y="123"/>
                      <a:pt x="0" y="12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52880" y="2467080"/>
                <a:ext cx="34920" cy="185760"/>
              </a:xfrm>
              <a:custGeom>
                <a:avLst/>
                <a:gdLst/>
                <a:ahLst/>
                <a:rect l="l" t="t" r="r" b="b"/>
                <a:pathLst>
                  <a:path w="22" h="117">
                    <a:moveTo>
                      <a:pt x="6" y="0"/>
                    </a:moveTo>
                    <a:cubicBezTo>
                      <a:pt x="22" y="31"/>
                      <a:pt x="17" y="48"/>
                      <a:pt x="12" y="90"/>
                    </a:cubicBezTo>
                    <a:cubicBezTo>
                      <a:pt x="11" y="100"/>
                      <a:pt x="0" y="117"/>
                      <a:pt x="0" y="117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76720" y="2700360"/>
                <a:ext cx="166680" cy="152280"/>
              </a:xfrm>
              <a:custGeom>
                <a:avLst/>
                <a:gdLst/>
                <a:ahLst/>
                <a:rect l="l" t="t" r="r" b="b"/>
                <a:pathLst>
                  <a:path w="105" h="96">
                    <a:moveTo>
                      <a:pt x="105" y="0"/>
                    </a:moveTo>
                    <a:cubicBezTo>
                      <a:pt x="79" y="9"/>
                      <a:pt x="65" y="30"/>
                      <a:pt x="42" y="45"/>
                    </a:cubicBezTo>
                    <a:cubicBezTo>
                      <a:pt x="39" y="55"/>
                      <a:pt x="38" y="72"/>
                      <a:pt x="33" y="81"/>
                    </a:cubicBezTo>
                    <a:cubicBezTo>
                      <a:pt x="26" y="93"/>
                      <a:pt x="0" y="82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57760" y="2557440"/>
                <a:ext cx="404640" cy="176400"/>
              </a:xfrm>
              <a:custGeom>
                <a:avLst/>
                <a:gdLst/>
                <a:ahLst/>
                <a:rect l="l" t="t" r="r" b="b"/>
                <a:pathLst>
                  <a:path w="255" h="111">
                    <a:moveTo>
                      <a:pt x="240" y="12"/>
                    </a:moveTo>
                    <a:cubicBezTo>
                      <a:pt x="207" y="45"/>
                      <a:pt x="255" y="0"/>
                      <a:pt x="219" y="24"/>
                    </a:cubicBezTo>
                    <a:cubicBezTo>
                      <a:pt x="216" y="26"/>
                      <a:pt x="216" y="31"/>
                      <a:pt x="213" y="33"/>
                    </a:cubicBezTo>
                    <a:cubicBezTo>
                      <a:pt x="205" y="39"/>
                      <a:pt x="193" y="38"/>
                      <a:pt x="183" y="39"/>
                    </a:cubicBezTo>
                    <a:cubicBezTo>
                      <a:pt x="173" y="49"/>
                      <a:pt x="163" y="59"/>
                      <a:pt x="153" y="69"/>
                    </a:cubicBezTo>
                    <a:cubicBezTo>
                      <a:pt x="147" y="75"/>
                      <a:pt x="147" y="84"/>
                      <a:pt x="141" y="90"/>
                    </a:cubicBezTo>
                    <a:cubicBezTo>
                      <a:pt x="131" y="100"/>
                      <a:pt x="102" y="97"/>
                      <a:pt x="87" y="102"/>
                    </a:cubicBezTo>
                    <a:cubicBezTo>
                      <a:pt x="72" y="101"/>
                      <a:pt x="13" y="86"/>
                      <a:pt x="0" y="111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14640" y="243828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0" y="0"/>
                    </a:moveTo>
                    <a:cubicBezTo>
                      <a:pt x="3" y="8"/>
                      <a:pt x="6" y="16"/>
                      <a:pt x="6" y="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33640" y="247176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48" y="0"/>
                    </a:moveTo>
                    <a:cubicBezTo>
                      <a:pt x="34" y="21"/>
                      <a:pt x="28" y="20"/>
                      <a:pt x="9" y="33"/>
                    </a:cubicBezTo>
                    <a:cubicBezTo>
                      <a:pt x="2" y="43"/>
                      <a:pt x="7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09880" y="2448000"/>
                <a:ext cx="184320" cy="135000"/>
              </a:xfrm>
              <a:custGeom>
                <a:avLst/>
                <a:gdLst/>
                <a:ahLst/>
                <a:rect l="l" t="t" r="r" b="b"/>
                <a:pathLst>
                  <a:path w="116" h="85">
                    <a:moveTo>
                      <a:pt x="114" y="0"/>
                    </a:moveTo>
                    <a:cubicBezTo>
                      <a:pt x="108" y="12"/>
                      <a:pt x="102" y="20"/>
                      <a:pt x="99" y="33"/>
                    </a:cubicBezTo>
                    <a:cubicBezTo>
                      <a:pt x="116" y="85"/>
                      <a:pt x="25" y="75"/>
                      <a:pt x="0" y="7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95880" y="266220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12" h="45">
                    <a:moveTo>
                      <a:pt x="12" y="0"/>
                    </a:moveTo>
                    <a:cubicBezTo>
                      <a:pt x="6" y="17"/>
                      <a:pt x="0" y="26"/>
                      <a:pt x="0" y="4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43240" y="2695680"/>
                <a:ext cx="157320" cy="14040"/>
              </a:xfrm>
              <a:custGeom>
                <a:avLst/>
                <a:gdLst/>
                <a:ahLst/>
                <a:rect l="l" t="t" r="r" b="b"/>
                <a:pathLst>
                  <a:path w="99" h="9">
                    <a:moveTo>
                      <a:pt x="99" y="0"/>
                    </a:moveTo>
                    <a:cubicBezTo>
                      <a:pt x="81" y="2"/>
                      <a:pt x="63" y="6"/>
                      <a:pt x="45" y="9"/>
                    </a:cubicBezTo>
                    <a:cubicBezTo>
                      <a:pt x="21" y="7"/>
                      <a:pt x="18" y="9"/>
                      <a:pt x="0" y="9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92560" y="27907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0"/>
                    </a:moveTo>
                    <a:cubicBezTo>
                      <a:pt x="0" y="10"/>
                      <a:pt x="17" y="18"/>
                      <a:pt x="2" y="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57640" y="2524320"/>
                <a:ext cx="23760" cy="71280"/>
              </a:xfrm>
              <a:custGeom>
                <a:avLst/>
                <a:gdLst/>
                <a:ahLst/>
                <a:rect l="l" t="t" r="r" b="b"/>
                <a:pathLst>
                  <a:path w="15" h="45">
                    <a:moveTo>
                      <a:pt x="15" y="45"/>
                    </a:moveTo>
                    <a:cubicBezTo>
                      <a:pt x="12" y="35"/>
                      <a:pt x="0" y="18"/>
                      <a:pt x="0" y="18"/>
                    </a:cubicBezTo>
                    <a:cubicBezTo>
                      <a:pt x="4" y="4"/>
                      <a:pt x="1" y="10"/>
                      <a:pt x="6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38640" y="2629080"/>
                <a:ext cx="57240" cy="133200"/>
              </a:xfrm>
              <a:custGeom>
                <a:avLst/>
                <a:gdLst/>
                <a:ahLst/>
                <a:rect l="l" t="t" r="r" b="b"/>
                <a:pathLst>
                  <a:path w="36" h="84">
                    <a:moveTo>
                      <a:pt x="18" y="84"/>
                    </a:moveTo>
                    <a:cubicBezTo>
                      <a:pt x="25" y="56"/>
                      <a:pt x="36" y="38"/>
                      <a:pt x="3" y="33"/>
                    </a:cubicBezTo>
                    <a:cubicBezTo>
                      <a:pt x="10" y="13"/>
                      <a:pt x="0" y="33"/>
                      <a:pt x="18" y="27"/>
                    </a:cubicBezTo>
                    <a:cubicBezTo>
                      <a:pt x="26" y="24"/>
                      <a:pt x="27" y="6"/>
                      <a:pt x="27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41800" y="2570040"/>
                <a:ext cx="216000" cy="387360"/>
              </a:xfrm>
              <a:custGeom>
                <a:avLst/>
                <a:gdLst/>
                <a:ahLst/>
                <a:rect l="l" t="t" r="r" b="b"/>
                <a:pathLst>
                  <a:path w="136" h="244">
                    <a:moveTo>
                      <a:pt x="60" y="0"/>
                    </a:moveTo>
                    <a:cubicBezTo>
                      <a:pt x="69" y="13"/>
                      <a:pt x="66" y="27"/>
                      <a:pt x="82" y="32"/>
                    </a:cubicBezTo>
                    <a:cubicBezTo>
                      <a:pt x="85" y="40"/>
                      <a:pt x="90" y="43"/>
                      <a:pt x="94" y="50"/>
                    </a:cubicBezTo>
                    <a:cubicBezTo>
                      <a:pt x="92" y="65"/>
                      <a:pt x="95" y="74"/>
                      <a:pt x="98" y="88"/>
                    </a:cubicBezTo>
                    <a:cubicBezTo>
                      <a:pt x="95" y="119"/>
                      <a:pt x="102" y="121"/>
                      <a:pt x="82" y="134"/>
                    </a:cubicBezTo>
                    <a:cubicBezTo>
                      <a:pt x="72" y="148"/>
                      <a:pt x="72" y="154"/>
                      <a:pt x="78" y="172"/>
                    </a:cubicBezTo>
                    <a:cubicBezTo>
                      <a:pt x="82" y="171"/>
                      <a:pt x="86" y="169"/>
                      <a:pt x="90" y="168"/>
                    </a:cubicBezTo>
                    <a:cubicBezTo>
                      <a:pt x="95" y="166"/>
                      <a:pt x="102" y="156"/>
                      <a:pt x="102" y="156"/>
                    </a:cubicBezTo>
                    <a:cubicBezTo>
                      <a:pt x="105" y="135"/>
                      <a:pt x="108" y="127"/>
                      <a:pt x="126" y="116"/>
                    </a:cubicBezTo>
                    <a:cubicBezTo>
                      <a:pt x="118" y="113"/>
                      <a:pt x="114" y="116"/>
                      <a:pt x="106" y="118"/>
                    </a:cubicBezTo>
                    <a:cubicBezTo>
                      <a:pt x="91" y="128"/>
                      <a:pt x="109" y="106"/>
                      <a:pt x="112" y="102"/>
                    </a:cubicBezTo>
                    <a:cubicBezTo>
                      <a:pt x="113" y="99"/>
                      <a:pt x="111" y="93"/>
                      <a:pt x="114" y="94"/>
                    </a:cubicBezTo>
                    <a:cubicBezTo>
                      <a:pt x="118" y="96"/>
                      <a:pt x="118" y="104"/>
                      <a:pt x="122" y="106"/>
                    </a:cubicBezTo>
                    <a:cubicBezTo>
                      <a:pt x="132" y="111"/>
                      <a:pt x="128" y="108"/>
                      <a:pt x="136" y="114"/>
                    </a:cubicBezTo>
                    <a:cubicBezTo>
                      <a:pt x="121" y="119"/>
                      <a:pt x="112" y="146"/>
                      <a:pt x="100" y="158"/>
                    </a:cubicBezTo>
                    <a:cubicBezTo>
                      <a:pt x="95" y="174"/>
                      <a:pt x="83" y="172"/>
                      <a:pt x="68" y="174"/>
                    </a:cubicBezTo>
                    <a:cubicBezTo>
                      <a:pt x="60" y="179"/>
                      <a:pt x="53" y="183"/>
                      <a:pt x="44" y="186"/>
                    </a:cubicBezTo>
                    <a:cubicBezTo>
                      <a:pt x="37" y="213"/>
                      <a:pt x="46" y="223"/>
                      <a:pt x="12" y="226"/>
                    </a:cubicBezTo>
                    <a:cubicBezTo>
                      <a:pt x="9" y="231"/>
                      <a:pt x="7" y="244"/>
                      <a:pt x="0" y="2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43320" y="262116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28"/>
                    </a:moveTo>
                    <a:cubicBezTo>
                      <a:pt x="2" y="24"/>
                      <a:pt x="6" y="12"/>
                      <a:pt x="10" y="10"/>
                    </a:cubicBezTo>
                    <a:cubicBezTo>
                      <a:pt x="15" y="8"/>
                      <a:pt x="26" y="6"/>
                      <a:pt x="26" y="6"/>
                    </a:cubicBezTo>
                    <a:cubicBezTo>
                      <a:pt x="27" y="4"/>
                      <a:pt x="28" y="0"/>
                      <a:pt x="28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87960" y="2976480"/>
                <a:ext cx="110880" cy="47880"/>
              </a:xfrm>
              <a:custGeom>
                <a:avLst/>
                <a:gdLst/>
                <a:ahLst/>
                <a:rect l="l" t="t" r="r" b="b"/>
                <a:pathLst>
                  <a:path w="70" h="30">
                    <a:moveTo>
                      <a:pt x="70" y="4"/>
                    </a:moveTo>
                    <a:cubicBezTo>
                      <a:pt x="57" y="0"/>
                      <a:pt x="54" y="8"/>
                      <a:pt x="44" y="14"/>
                    </a:cubicBezTo>
                    <a:cubicBezTo>
                      <a:pt x="39" y="17"/>
                      <a:pt x="28" y="22"/>
                      <a:pt x="28" y="22"/>
                    </a:cubicBezTo>
                    <a:cubicBezTo>
                      <a:pt x="17" y="15"/>
                      <a:pt x="12" y="17"/>
                      <a:pt x="0" y="20"/>
                    </a:cubicBezTo>
                    <a:cubicBezTo>
                      <a:pt x="3" y="25"/>
                      <a:pt x="16" y="30"/>
                      <a:pt x="16" y="30"/>
                    </a:cubicBezTo>
                    <a:cubicBezTo>
                      <a:pt x="20" y="23"/>
                      <a:pt x="20" y="26"/>
                      <a:pt x="20" y="2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98920" y="2550960"/>
                <a:ext cx="412560" cy="295560"/>
              </a:xfrm>
              <a:custGeom>
                <a:avLst/>
                <a:gdLst/>
                <a:ahLst/>
                <a:rect l="l" t="t" r="r" b="b"/>
                <a:pathLst>
                  <a:path w="260" h="186">
                    <a:moveTo>
                      <a:pt x="110" y="108"/>
                    </a:moveTo>
                    <a:cubicBezTo>
                      <a:pt x="124" y="122"/>
                      <a:pt x="143" y="136"/>
                      <a:pt x="160" y="146"/>
                    </a:cubicBezTo>
                    <a:cubicBezTo>
                      <a:pt x="169" y="152"/>
                      <a:pt x="192" y="154"/>
                      <a:pt x="192" y="154"/>
                    </a:cubicBezTo>
                    <a:cubicBezTo>
                      <a:pt x="197" y="153"/>
                      <a:pt x="203" y="153"/>
                      <a:pt x="208" y="150"/>
                    </a:cubicBezTo>
                    <a:cubicBezTo>
                      <a:pt x="217" y="144"/>
                      <a:pt x="202" y="137"/>
                      <a:pt x="216" y="146"/>
                    </a:cubicBezTo>
                    <a:cubicBezTo>
                      <a:pt x="220" y="153"/>
                      <a:pt x="225" y="158"/>
                      <a:pt x="228" y="166"/>
                    </a:cubicBezTo>
                    <a:cubicBezTo>
                      <a:pt x="239" y="163"/>
                      <a:pt x="249" y="168"/>
                      <a:pt x="260" y="172"/>
                    </a:cubicBezTo>
                    <a:cubicBezTo>
                      <a:pt x="252" y="184"/>
                      <a:pt x="248" y="186"/>
                      <a:pt x="234" y="184"/>
                    </a:cubicBezTo>
                    <a:cubicBezTo>
                      <a:pt x="228" y="166"/>
                      <a:pt x="227" y="148"/>
                      <a:pt x="208" y="142"/>
                    </a:cubicBezTo>
                    <a:cubicBezTo>
                      <a:pt x="200" y="132"/>
                      <a:pt x="195" y="121"/>
                      <a:pt x="186" y="112"/>
                    </a:cubicBezTo>
                    <a:cubicBezTo>
                      <a:pt x="163" y="117"/>
                      <a:pt x="136" y="111"/>
                      <a:pt x="112" y="108"/>
                    </a:cubicBezTo>
                    <a:cubicBezTo>
                      <a:pt x="98" y="103"/>
                      <a:pt x="88" y="105"/>
                      <a:pt x="74" y="110"/>
                    </a:cubicBezTo>
                    <a:cubicBezTo>
                      <a:pt x="77" y="118"/>
                      <a:pt x="81" y="121"/>
                      <a:pt x="88" y="126"/>
                    </a:cubicBezTo>
                    <a:cubicBezTo>
                      <a:pt x="95" y="137"/>
                      <a:pt x="97" y="136"/>
                      <a:pt x="110" y="134"/>
                    </a:cubicBezTo>
                    <a:cubicBezTo>
                      <a:pt x="113" y="120"/>
                      <a:pt x="120" y="111"/>
                      <a:pt x="134" y="106"/>
                    </a:cubicBezTo>
                    <a:cubicBezTo>
                      <a:pt x="143" y="99"/>
                      <a:pt x="152" y="92"/>
                      <a:pt x="162" y="86"/>
                    </a:cubicBezTo>
                    <a:cubicBezTo>
                      <a:pt x="173" y="69"/>
                      <a:pt x="194" y="70"/>
                      <a:pt x="208" y="56"/>
                    </a:cubicBezTo>
                    <a:cubicBezTo>
                      <a:pt x="204" y="39"/>
                      <a:pt x="206" y="18"/>
                      <a:pt x="190" y="8"/>
                    </a:cubicBezTo>
                    <a:cubicBezTo>
                      <a:pt x="172" y="36"/>
                      <a:pt x="177" y="43"/>
                      <a:pt x="142" y="46"/>
                    </a:cubicBezTo>
                    <a:cubicBezTo>
                      <a:pt x="145" y="36"/>
                      <a:pt x="138" y="37"/>
                      <a:pt x="130" y="34"/>
                    </a:cubicBezTo>
                    <a:cubicBezTo>
                      <a:pt x="126" y="23"/>
                      <a:pt x="124" y="21"/>
                      <a:pt x="134" y="14"/>
                    </a:cubicBezTo>
                    <a:cubicBezTo>
                      <a:pt x="133" y="13"/>
                      <a:pt x="122" y="5"/>
                      <a:pt x="120" y="4"/>
                    </a:cubicBezTo>
                    <a:cubicBezTo>
                      <a:pt x="116" y="2"/>
                      <a:pt x="108" y="0"/>
                      <a:pt x="108" y="0"/>
                    </a:cubicBezTo>
                    <a:cubicBezTo>
                      <a:pt x="96" y="2"/>
                      <a:pt x="83" y="5"/>
                      <a:pt x="72" y="10"/>
                    </a:cubicBezTo>
                    <a:cubicBezTo>
                      <a:pt x="65" y="13"/>
                      <a:pt x="52" y="20"/>
                      <a:pt x="52" y="20"/>
                    </a:cubicBezTo>
                    <a:cubicBezTo>
                      <a:pt x="63" y="24"/>
                      <a:pt x="64" y="25"/>
                      <a:pt x="66" y="36"/>
                    </a:cubicBezTo>
                    <a:cubicBezTo>
                      <a:pt x="64" y="46"/>
                      <a:pt x="66" y="55"/>
                      <a:pt x="56" y="48"/>
                    </a:cubicBezTo>
                    <a:cubicBezTo>
                      <a:pt x="50" y="31"/>
                      <a:pt x="51" y="27"/>
                      <a:pt x="32" y="22"/>
                    </a:cubicBezTo>
                    <a:cubicBezTo>
                      <a:pt x="25" y="25"/>
                      <a:pt x="12" y="34"/>
                      <a:pt x="12" y="34"/>
                    </a:cubicBezTo>
                    <a:cubicBezTo>
                      <a:pt x="7" y="42"/>
                      <a:pt x="0" y="50"/>
                      <a:pt x="26" y="34"/>
                    </a:cubicBezTo>
                    <a:cubicBezTo>
                      <a:pt x="36" y="28"/>
                      <a:pt x="51" y="11"/>
                      <a:pt x="60" y="2"/>
                    </a:cubicBezTo>
                    <a:cubicBezTo>
                      <a:pt x="65" y="18"/>
                      <a:pt x="43" y="34"/>
                      <a:pt x="34" y="46"/>
                    </a:cubicBezTo>
                    <a:cubicBezTo>
                      <a:pt x="27" y="67"/>
                      <a:pt x="37" y="35"/>
                      <a:pt x="30" y="92"/>
                    </a:cubicBezTo>
                    <a:cubicBezTo>
                      <a:pt x="29" y="97"/>
                      <a:pt x="24" y="106"/>
                      <a:pt x="24" y="1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900320" y="3186000"/>
              <a:ext cx="209880" cy="74880"/>
            </a:xfrm>
            <a:custGeom>
              <a:avLst/>
              <a:gdLst/>
              <a:ahLst/>
              <a:rect l="l" t="t" r="r" b="b"/>
              <a:pathLst>
                <a:path w="132" h="47">
                  <a:moveTo>
                    <a:pt x="0" y="24"/>
                  </a:moveTo>
                  <a:cubicBezTo>
                    <a:pt x="29" y="22"/>
                    <a:pt x="53" y="21"/>
                    <a:pt x="81" y="27"/>
                  </a:cubicBezTo>
                  <a:cubicBezTo>
                    <a:pt x="90" y="40"/>
                    <a:pt x="93" y="40"/>
                    <a:pt x="108" y="36"/>
                  </a:cubicBezTo>
                  <a:cubicBezTo>
                    <a:pt x="112" y="37"/>
                    <a:pt x="116" y="37"/>
                    <a:pt x="120" y="39"/>
                  </a:cubicBezTo>
                  <a:cubicBezTo>
                    <a:pt x="123" y="40"/>
                    <a:pt x="126" y="47"/>
                    <a:pt x="129" y="45"/>
                  </a:cubicBezTo>
                  <a:cubicBezTo>
                    <a:pt x="132" y="44"/>
                    <a:pt x="127" y="39"/>
                    <a:pt x="126" y="36"/>
                  </a:cubicBezTo>
                  <a:cubicBezTo>
                    <a:pt x="122" y="19"/>
                    <a:pt x="125" y="13"/>
                    <a:pt x="111" y="3"/>
                  </a:cubicBezTo>
                  <a:cubicBezTo>
                    <a:pt x="89" y="7"/>
                    <a:pt x="100" y="3"/>
                    <a:pt x="78" y="18"/>
                  </a:cubicBezTo>
                  <a:cubicBezTo>
                    <a:pt x="75" y="20"/>
                    <a:pt x="69" y="24"/>
                    <a:pt x="69" y="24"/>
                  </a:cubicBezTo>
                  <a:cubicBezTo>
                    <a:pt x="64" y="20"/>
                    <a:pt x="59" y="15"/>
                    <a:pt x="54" y="12"/>
                  </a:cubicBezTo>
                  <a:cubicBezTo>
                    <a:pt x="46" y="7"/>
                    <a:pt x="30" y="0"/>
                    <a:pt x="30" y="0"/>
                  </a:cubicBezTo>
                  <a:cubicBezTo>
                    <a:pt x="27" y="1"/>
                    <a:pt x="23" y="1"/>
                    <a:pt x="21" y="3"/>
                  </a:cubicBezTo>
                  <a:cubicBezTo>
                    <a:pt x="18" y="5"/>
                    <a:pt x="15" y="12"/>
                    <a:pt x="15" y="1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160" y="3238560"/>
              <a:ext cx="7164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12"/>
                  </a:moveTo>
                  <a:cubicBezTo>
                    <a:pt x="15" y="7"/>
                    <a:pt x="28" y="0"/>
                    <a:pt x="45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24440" y="284328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cubicBezTo>
                    <a:pt x="6" y="10"/>
                    <a:pt x="18" y="8"/>
                    <a:pt x="1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37080" y="2457360"/>
              <a:ext cx="68040" cy="119160"/>
            </a:xfrm>
            <a:custGeom>
              <a:avLst/>
              <a:gdLst/>
              <a:ahLst/>
              <a:rect l="l" t="t" r="r" b="b"/>
              <a:pathLst>
                <a:path w="43" h="75">
                  <a:moveTo>
                    <a:pt x="37" y="75"/>
                  </a:moveTo>
                  <a:cubicBezTo>
                    <a:pt x="43" y="41"/>
                    <a:pt x="26" y="37"/>
                    <a:pt x="4" y="15"/>
                  </a:cubicBezTo>
                  <a:cubicBezTo>
                    <a:pt x="0" y="4"/>
                    <a:pt x="1" y="9"/>
                    <a:pt x="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2000" y="247968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19"/>
                  </a:moveTo>
                  <a:cubicBezTo>
                    <a:pt x="12" y="7"/>
                    <a:pt x="10" y="0"/>
                    <a:pt x="27" y="4"/>
                  </a:cubicBezTo>
                  <a:cubicBezTo>
                    <a:pt x="31" y="10"/>
                    <a:pt x="32" y="17"/>
                    <a:pt x="36" y="22"/>
                  </a:cubicBezTo>
                  <a:cubicBezTo>
                    <a:pt x="41" y="29"/>
                    <a:pt x="49" y="33"/>
                    <a:pt x="54" y="40"/>
                  </a:cubicBezTo>
                  <a:cubicBezTo>
                    <a:pt x="56" y="43"/>
                    <a:pt x="60" y="49"/>
                    <a:pt x="60" y="4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67200" y="2603520"/>
              <a:ext cx="147600" cy="9216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0" y="58"/>
                  </a:moveTo>
                  <a:cubicBezTo>
                    <a:pt x="17" y="52"/>
                    <a:pt x="27" y="30"/>
                    <a:pt x="36" y="16"/>
                  </a:cubicBezTo>
                  <a:cubicBezTo>
                    <a:pt x="47" y="0"/>
                    <a:pt x="74" y="16"/>
                    <a:pt x="93" y="1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43520" y="2643120"/>
              <a:ext cx="14040" cy="1904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120"/>
                  </a:moveTo>
                  <a:cubicBezTo>
                    <a:pt x="7" y="89"/>
                    <a:pt x="5" y="77"/>
                    <a:pt x="0" y="51"/>
                  </a:cubicBezTo>
                  <a:cubicBezTo>
                    <a:pt x="1" y="40"/>
                    <a:pt x="1" y="29"/>
                    <a:pt x="3" y="18"/>
                  </a:cubicBezTo>
                  <a:cubicBezTo>
                    <a:pt x="4" y="12"/>
                    <a:pt x="9" y="0"/>
                    <a:pt x="9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72000" y="2714760"/>
              <a:ext cx="4752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12"/>
                  </a:moveTo>
                  <a:cubicBezTo>
                    <a:pt x="23" y="9"/>
                    <a:pt x="16" y="0"/>
                    <a:pt x="9" y="3"/>
                  </a:cubicBezTo>
                  <a:cubicBezTo>
                    <a:pt x="6" y="4"/>
                    <a:pt x="7" y="9"/>
                    <a:pt x="6" y="12"/>
                  </a:cubicBezTo>
                  <a:cubicBezTo>
                    <a:pt x="4" y="15"/>
                    <a:pt x="0" y="21"/>
                    <a:pt x="0" y="2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2520" y="2862360"/>
              <a:ext cx="180720" cy="123840"/>
            </a:xfrm>
            <a:custGeom>
              <a:avLst/>
              <a:gdLst/>
              <a:ahLst/>
              <a:rect l="l" t="t" r="r" b="b"/>
              <a:pathLst>
                <a:path w="114" h="78">
                  <a:moveTo>
                    <a:pt x="0" y="42"/>
                  </a:moveTo>
                  <a:cubicBezTo>
                    <a:pt x="19" y="36"/>
                    <a:pt x="37" y="34"/>
                    <a:pt x="57" y="30"/>
                  </a:cubicBezTo>
                  <a:cubicBezTo>
                    <a:pt x="74" y="36"/>
                    <a:pt x="75" y="43"/>
                    <a:pt x="81" y="60"/>
                  </a:cubicBezTo>
                  <a:cubicBezTo>
                    <a:pt x="84" y="69"/>
                    <a:pt x="95" y="71"/>
                    <a:pt x="102" y="78"/>
                  </a:cubicBezTo>
                  <a:cubicBezTo>
                    <a:pt x="107" y="70"/>
                    <a:pt x="114" y="51"/>
                    <a:pt x="114" y="51"/>
                  </a:cubicBezTo>
                  <a:cubicBezTo>
                    <a:pt x="113" y="43"/>
                    <a:pt x="114" y="35"/>
                    <a:pt x="111" y="27"/>
                  </a:cubicBezTo>
                  <a:cubicBezTo>
                    <a:pt x="101" y="0"/>
                    <a:pt x="102" y="26"/>
                    <a:pt x="102" y="1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5280" y="2762280"/>
              <a:ext cx="371520" cy="81000"/>
            </a:xfrm>
            <a:custGeom>
              <a:avLst/>
              <a:gdLst/>
              <a:ahLst/>
              <a:rect l="l" t="t" r="r" b="b"/>
              <a:pathLst>
                <a:path w="234" h="51">
                  <a:moveTo>
                    <a:pt x="0" y="51"/>
                  </a:moveTo>
                  <a:cubicBezTo>
                    <a:pt x="34" y="45"/>
                    <a:pt x="52" y="41"/>
                    <a:pt x="75" y="18"/>
                  </a:cubicBezTo>
                  <a:cubicBezTo>
                    <a:pt x="80" y="4"/>
                    <a:pt x="89" y="3"/>
                    <a:pt x="102" y="0"/>
                  </a:cubicBezTo>
                  <a:cubicBezTo>
                    <a:pt x="129" y="3"/>
                    <a:pt x="148" y="11"/>
                    <a:pt x="174" y="18"/>
                  </a:cubicBezTo>
                  <a:cubicBezTo>
                    <a:pt x="184" y="16"/>
                    <a:pt x="194" y="11"/>
                    <a:pt x="204" y="12"/>
                  </a:cubicBezTo>
                  <a:cubicBezTo>
                    <a:pt x="214" y="13"/>
                    <a:pt x="234" y="18"/>
                    <a:pt x="234" y="1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4800" y="257184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" y="54"/>
                  </a:moveTo>
                  <a:cubicBezTo>
                    <a:pt x="7" y="38"/>
                    <a:pt x="4" y="25"/>
                    <a:pt x="0" y="9"/>
                  </a:cubicBezTo>
                  <a:cubicBezTo>
                    <a:pt x="17" y="0"/>
                    <a:pt x="8" y="3"/>
                    <a:pt x="30" y="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1840" y="2500200"/>
              <a:ext cx="131760" cy="18576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0" y="117"/>
                  </a:moveTo>
                  <a:cubicBezTo>
                    <a:pt x="6" y="105"/>
                    <a:pt x="11" y="98"/>
                    <a:pt x="6" y="84"/>
                  </a:cubicBezTo>
                  <a:cubicBezTo>
                    <a:pt x="17" y="51"/>
                    <a:pt x="16" y="58"/>
                    <a:pt x="45" y="48"/>
                  </a:cubicBezTo>
                  <a:cubicBezTo>
                    <a:pt x="40" y="0"/>
                    <a:pt x="49" y="25"/>
                    <a:pt x="75" y="48"/>
                  </a:cubicBezTo>
                  <a:cubicBezTo>
                    <a:pt x="80" y="58"/>
                    <a:pt x="83" y="82"/>
                    <a:pt x="69" y="90"/>
                  </a:cubicBezTo>
                  <a:cubicBezTo>
                    <a:pt x="65" y="93"/>
                    <a:pt x="54" y="93"/>
                    <a:pt x="54" y="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505320" y="43434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mation of demarcation membra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559920" y="2514600"/>
            <a:ext cx="1587960" cy="1541880"/>
            <a:chOff x="6559920" y="2514600"/>
            <a:chExt cx="1587960" cy="1541880"/>
          </a:xfrm>
        </p:grpSpPr>
        <p:grpSp>
          <p:nvGrpSpPr>
            <p:cNvPr id="347" name=""/>
            <p:cNvGrpSpPr/>
            <p:nvPr/>
          </p:nvGrpSpPr>
          <p:grpSpPr>
            <a:xfrm>
              <a:off x="6629400" y="2768760"/>
              <a:ext cx="604800" cy="922320"/>
              <a:chOff x="6629400" y="2768760"/>
              <a:chExt cx="604800" cy="922320"/>
            </a:xfrm>
          </p:grpSpPr>
          <p:sp>
            <p:nvSpPr>
              <p:cNvPr id="348" name=""/>
              <p:cNvSpPr/>
              <p:nvPr/>
            </p:nvSpPr>
            <p:spPr>
              <a:xfrm>
                <a:off x="6629400" y="2768760"/>
                <a:ext cx="160200" cy="201600"/>
              </a:xfrm>
              <a:custGeom>
                <a:avLst/>
                <a:gdLst/>
                <a:ahLst/>
                <a:rect l="l" t="t" r="r" b="b"/>
                <a:pathLst>
                  <a:path w="101" h="127">
                    <a:moveTo>
                      <a:pt x="95" y="2"/>
                    </a:moveTo>
                    <a:cubicBezTo>
                      <a:pt x="70" y="15"/>
                      <a:pt x="44" y="29"/>
                      <a:pt x="17" y="38"/>
                    </a:cubicBezTo>
                    <a:cubicBezTo>
                      <a:pt x="0" y="63"/>
                      <a:pt x="6" y="76"/>
                      <a:pt x="35" y="86"/>
                    </a:cubicBezTo>
                    <a:cubicBezTo>
                      <a:pt x="8" y="127"/>
                      <a:pt x="43" y="93"/>
                      <a:pt x="71" y="86"/>
                    </a:cubicBezTo>
                    <a:cubicBezTo>
                      <a:pt x="78" y="66"/>
                      <a:pt x="81" y="45"/>
                      <a:pt x="89" y="26"/>
                    </a:cubicBezTo>
                    <a:cubicBezTo>
                      <a:pt x="93" y="18"/>
                      <a:pt x="99" y="11"/>
                      <a:pt x="101" y="2"/>
                    </a:cubicBezTo>
                    <a:cubicBezTo>
                      <a:pt x="101" y="0"/>
                      <a:pt x="97" y="2"/>
                      <a:pt x="95" y="2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19920" y="277524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70600" y="292140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16520" y="3003840"/>
                <a:ext cx="74520" cy="9540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19720" y="28548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4" y="28"/>
                    </a:moveTo>
                    <a:cubicBezTo>
                      <a:pt x="47" y="38"/>
                      <a:pt x="31" y="40"/>
                      <a:pt x="12" y="42"/>
                    </a:cubicBezTo>
                    <a:cubicBezTo>
                      <a:pt x="9" y="41"/>
                      <a:pt x="6" y="42"/>
                      <a:pt x="4" y="40"/>
                    </a:cubicBezTo>
                    <a:cubicBezTo>
                      <a:pt x="1" y="37"/>
                      <a:pt x="0" y="28"/>
                      <a:pt x="0" y="28"/>
                    </a:cubicBezTo>
                    <a:cubicBezTo>
                      <a:pt x="4" y="7"/>
                      <a:pt x="21" y="5"/>
                      <a:pt x="40" y="0"/>
                    </a:cubicBezTo>
                    <a:cubicBezTo>
                      <a:pt x="53" y="2"/>
                      <a:pt x="58" y="1"/>
                      <a:pt x="68" y="8"/>
                    </a:cubicBezTo>
                    <a:cubicBezTo>
                      <a:pt x="69" y="10"/>
                      <a:pt x="72" y="20"/>
                      <a:pt x="72" y="22"/>
                    </a:cubicBezTo>
                    <a:cubicBezTo>
                      <a:pt x="71" y="26"/>
                      <a:pt x="59" y="33"/>
                      <a:pt x="64" y="28"/>
                    </a:cubicBez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13440" y="306108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8" y="0"/>
                    </a:moveTo>
                    <a:cubicBezTo>
                      <a:pt x="4" y="17"/>
                      <a:pt x="0" y="39"/>
                      <a:pt x="10" y="54"/>
                    </a:cubicBezTo>
                    <a:cubicBezTo>
                      <a:pt x="14" y="78"/>
                      <a:pt x="21" y="63"/>
                      <a:pt x="36" y="58"/>
                    </a:cubicBezTo>
                    <a:cubicBezTo>
                      <a:pt x="43" y="53"/>
                      <a:pt x="56" y="40"/>
                      <a:pt x="56" y="40"/>
                    </a:cubicBezTo>
                    <a:cubicBezTo>
                      <a:pt x="53" y="28"/>
                      <a:pt x="52" y="21"/>
                      <a:pt x="40" y="18"/>
                    </a:cubicBezTo>
                    <a:cubicBezTo>
                      <a:pt x="34" y="12"/>
                      <a:pt x="17" y="0"/>
                      <a:pt x="8" y="0"/>
                    </a:cubicBez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97760" y="3029400"/>
                <a:ext cx="79200" cy="156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20" y="4"/>
                    </a:moveTo>
                    <a:cubicBezTo>
                      <a:pt x="12" y="25"/>
                      <a:pt x="6" y="43"/>
                      <a:pt x="4" y="66"/>
                    </a:cubicBezTo>
                    <a:cubicBezTo>
                      <a:pt x="6" y="90"/>
                      <a:pt x="0" y="92"/>
                      <a:pt x="18" y="98"/>
                    </a:cubicBezTo>
                    <a:cubicBezTo>
                      <a:pt x="28" y="96"/>
                      <a:pt x="41" y="99"/>
                      <a:pt x="48" y="92"/>
                    </a:cubicBezTo>
                    <a:cubicBezTo>
                      <a:pt x="50" y="90"/>
                      <a:pt x="43" y="59"/>
                      <a:pt x="42" y="54"/>
                    </a:cubicBezTo>
                    <a:cubicBezTo>
                      <a:pt x="41" y="50"/>
                      <a:pt x="38" y="42"/>
                      <a:pt x="38" y="42"/>
                    </a:cubicBezTo>
                    <a:cubicBezTo>
                      <a:pt x="36" y="25"/>
                      <a:pt x="34" y="11"/>
                      <a:pt x="20" y="0"/>
                    </a:cubicBezTo>
                    <a:cubicBezTo>
                      <a:pt x="18" y="7"/>
                      <a:pt x="17" y="7"/>
                      <a:pt x="20" y="4"/>
                    </a:cubicBez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46840" y="328320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91200" y="360864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0" y="1"/>
                    </a:moveTo>
                    <a:cubicBezTo>
                      <a:pt x="37" y="2"/>
                      <a:pt x="23" y="0"/>
                      <a:pt x="11" y="4"/>
                    </a:cubicBezTo>
                    <a:cubicBezTo>
                      <a:pt x="0" y="8"/>
                      <a:pt x="14" y="44"/>
                      <a:pt x="20" y="52"/>
                    </a:cubicBezTo>
                    <a:cubicBezTo>
                      <a:pt x="27" y="51"/>
                      <a:pt x="35" y="52"/>
                      <a:pt x="41" y="49"/>
                    </a:cubicBezTo>
                    <a:cubicBezTo>
                      <a:pt x="53" y="44"/>
                      <a:pt x="54" y="9"/>
                      <a:pt x="50" y="1"/>
                    </a:cubicBez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4200" y="3135600"/>
                <a:ext cx="9396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34080" y="29516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7075440" y="2514600"/>
              <a:ext cx="604800" cy="922320"/>
              <a:chOff x="7075440" y="2514600"/>
              <a:chExt cx="604800" cy="922320"/>
            </a:xfrm>
          </p:grpSpPr>
          <p:sp>
            <p:nvSpPr>
              <p:cNvPr id="360" name=""/>
              <p:cNvSpPr/>
              <p:nvPr/>
            </p:nvSpPr>
            <p:spPr>
              <a:xfrm>
                <a:off x="7075440" y="2514600"/>
                <a:ext cx="160200" cy="201600"/>
              </a:xfrm>
              <a:custGeom>
                <a:avLst/>
                <a:gdLst/>
                <a:ahLst/>
                <a:rect l="l" t="t" r="r" b="b"/>
                <a:pathLst>
                  <a:path w="101" h="127">
                    <a:moveTo>
                      <a:pt x="95" y="2"/>
                    </a:moveTo>
                    <a:cubicBezTo>
                      <a:pt x="70" y="15"/>
                      <a:pt x="44" y="29"/>
                      <a:pt x="17" y="38"/>
                    </a:cubicBezTo>
                    <a:cubicBezTo>
                      <a:pt x="0" y="63"/>
                      <a:pt x="6" y="76"/>
                      <a:pt x="35" y="86"/>
                    </a:cubicBezTo>
                    <a:cubicBezTo>
                      <a:pt x="8" y="127"/>
                      <a:pt x="43" y="93"/>
                      <a:pt x="71" y="86"/>
                    </a:cubicBezTo>
                    <a:cubicBezTo>
                      <a:pt x="78" y="66"/>
                      <a:pt x="81" y="45"/>
                      <a:pt x="89" y="26"/>
                    </a:cubicBezTo>
                    <a:cubicBezTo>
                      <a:pt x="93" y="18"/>
                      <a:pt x="99" y="11"/>
                      <a:pt x="101" y="2"/>
                    </a:cubicBezTo>
                    <a:cubicBezTo>
                      <a:pt x="101" y="0"/>
                      <a:pt x="97" y="2"/>
                      <a:pt x="95" y="2"/>
                    </a:cubicBez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65960" y="25210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16640" y="266724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62560" y="2749680"/>
                <a:ext cx="74520" cy="9540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65760" y="260064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4" y="28"/>
                    </a:moveTo>
                    <a:cubicBezTo>
                      <a:pt x="47" y="38"/>
                      <a:pt x="31" y="40"/>
                      <a:pt x="12" y="42"/>
                    </a:cubicBezTo>
                    <a:cubicBezTo>
                      <a:pt x="9" y="41"/>
                      <a:pt x="6" y="42"/>
                      <a:pt x="4" y="40"/>
                    </a:cubicBezTo>
                    <a:cubicBezTo>
                      <a:pt x="1" y="37"/>
                      <a:pt x="0" y="28"/>
                      <a:pt x="0" y="28"/>
                    </a:cubicBezTo>
                    <a:cubicBezTo>
                      <a:pt x="4" y="7"/>
                      <a:pt x="21" y="5"/>
                      <a:pt x="40" y="0"/>
                    </a:cubicBezTo>
                    <a:cubicBezTo>
                      <a:pt x="53" y="2"/>
                      <a:pt x="58" y="1"/>
                      <a:pt x="68" y="8"/>
                    </a:cubicBezTo>
                    <a:cubicBezTo>
                      <a:pt x="69" y="10"/>
                      <a:pt x="72" y="20"/>
                      <a:pt x="72" y="22"/>
                    </a:cubicBezTo>
                    <a:cubicBezTo>
                      <a:pt x="71" y="26"/>
                      <a:pt x="59" y="33"/>
                      <a:pt x="64" y="28"/>
                    </a:cubicBez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59480" y="280692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8" y="0"/>
                    </a:moveTo>
                    <a:cubicBezTo>
                      <a:pt x="4" y="17"/>
                      <a:pt x="0" y="39"/>
                      <a:pt x="10" y="54"/>
                    </a:cubicBezTo>
                    <a:cubicBezTo>
                      <a:pt x="14" y="78"/>
                      <a:pt x="21" y="63"/>
                      <a:pt x="36" y="58"/>
                    </a:cubicBezTo>
                    <a:cubicBezTo>
                      <a:pt x="43" y="53"/>
                      <a:pt x="56" y="40"/>
                      <a:pt x="56" y="40"/>
                    </a:cubicBezTo>
                    <a:cubicBezTo>
                      <a:pt x="53" y="28"/>
                      <a:pt x="52" y="21"/>
                      <a:pt x="40" y="18"/>
                    </a:cubicBezTo>
                    <a:cubicBezTo>
                      <a:pt x="34" y="12"/>
                      <a:pt x="17" y="0"/>
                      <a:pt x="8" y="0"/>
                    </a:cubicBez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43800" y="2775240"/>
                <a:ext cx="79200" cy="156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20" y="4"/>
                    </a:moveTo>
                    <a:cubicBezTo>
                      <a:pt x="12" y="25"/>
                      <a:pt x="6" y="43"/>
                      <a:pt x="4" y="66"/>
                    </a:cubicBezTo>
                    <a:cubicBezTo>
                      <a:pt x="6" y="90"/>
                      <a:pt x="0" y="92"/>
                      <a:pt x="18" y="98"/>
                    </a:cubicBezTo>
                    <a:cubicBezTo>
                      <a:pt x="28" y="96"/>
                      <a:pt x="41" y="99"/>
                      <a:pt x="48" y="92"/>
                    </a:cubicBezTo>
                    <a:cubicBezTo>
                      <a:pt x="50" y="90"/>
                      <a:pt x="43" y="59"/>
                      <a:pt x="42" y="54"/>
                    </a:cubicBezTo>
                    <a:cubicBezTo>
                      <a:pt x="41" y="50"/>
                      <a:pt x="38" y="42"/>
                      <a:pt x="38" y="42"/>
                    </a:cubicBezTo>
                    <a:cubicBezTo>
                      <a:pt x="36" y="25"/>
                      <a:pt x="34" y="11"/>
                      <a:pt x="20" y="0"/>
                    </a:cubicBezTo>
                    <a:cubicBezTo>
                      <a:pt x="18" y="7"/>
                      <a:pt x="17" y="7"/>
                      <a:pt x="20" y="4"/>
                    </a:cubicBez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92880" y="302904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37240" y="335448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0" y="1"/>
                    </a:moveTo>
                    <a:cubicBezTo>
                      <a:pt x="37" y="2"/>
                      <a:pt x="23" y="0"/>
                      <a:pt x="11" y="4"/>
                    </a:cubicBezTo>
                    <a:cubicBezTo>
                      <a:pt x="0" y="8"/>
                      <a:pt x="14" y="44"/>
                      <a:pt x="20" y="52"/>
                    </a:cubicBezTo>
                    <a:cubicBezTo>
                      <a:pt x="27" y="51"/>
                      <a:pt x="35" y="52"/>
                      <a:pt x="41" y="49"/>
                    </a:cubicBezTo>
                    <a:cubicBezTo>
                      <a:pt x="53" y="44"/>
                      <a:pt x="54" y="9"/>
                      <a:pt x="50" y="1"/>
                    </a:cubicBez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40240" y="2881440"/>
                <a:ext cx="9396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0120" y="26974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559920" y="3031560"/>
              <a:ext cx="655920" cy="1024920"/>
              <a:chOff x="6559920" y="3031560"/>
              <a:chExt cx="655920" cy="1024920"/>
            </a:xfrm>
          </p:grpSpPr>
          <p:sp>
            <p:nvSpPr>
              <p:cNvPr id="372" name=""/>
              <p:cNvSpPr/>
              <p:nvPr/>
            </p:nvSpPr>
            <p:spPr>
              <a:xfrm rot="12368400">
                <a:off x="6957360" y="3829680"/>
                <a:ext cx="160200" cy="201600"/>
              </a:xfrm>
              <a:custGeom>
                <a:avLst/>
                <a:gdLst/>
                <a:ahLst/>
                <a:rect l="l" t="t" r="r" b="b"/>
                <a:pathLst>
                  <a:path w="101" h="127">
                    <a:moveTo>
                      <a:pt x="95" y="2"/>
                    </a:moveTo>
                    <a:cubicBezTo>
                      <a:pt x="70" y="15"/>
                      <a:pt x="44" y="29"/>
                      <a:pt x="17" y="38"/>
                    </a:cubicBezTo>
                    <a:cubicBezTo>
                      <a:pt x="0" y="63"/>
                      <a:pt x="6" y="76"/>
                      <a:pt x="35" y="86"/>
                    </a:cubicBezTo>
                    <a:cubicBezTo>
                      <a:pt x="8" y="127"/>
                      <a:pt x="43" y="93"/>
                      <a:pt x="71" y="86"/>
                    </a:cubicBezTo>
                    <a:cubicBezTo>
                      <a:pt x="78" y="66"/>
                      <a:pt x="81" y="45"/>
                      <a:pt x="89" y="26"/>
                    </a:cubicBezTo>
                    <a:cubicBezTo>
                      <a:pt x="93" y="18"/>
                      <a:pt x="99" y="11"/>
                      <a:pt x="101" y="2"/>
                    </a:cubicBezTo>
                    <a:cubicBezTo>
                      <a:pt x="101" y="0"/>
                      <a:pt x="97" y="2"/>
                      <a:pt x="95" y="2"/>
                    </a:cubicBez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2368400">
                <a:off x="6748200" y="383256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2368400">
                <a:off x="6850440" y="369000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2368400">
                <a:off x="7040160" y="3699720"/>
                <a:ext cx="74520" cy="95400"/>
              </a:xfrm>
              <a:prstGeom prst="ellipse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2368400">
                <a:off x="6568560" y="367452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4" y="28"/>
                    </a:moveTo>
                    <a:cubicBezTo>
                      <a:pt x="47" y="38"/>
                      <a:pt x="31" y="40"/>
                      <a:pt x="12" y="42"/>
                    </a:cubicBezTo>
                    <a:cubicBezTo>
                      <a:pt x="9" y="41"/>
                      <a:pt x="6" y="42"/>
                      <a:pt x="4" y="40"/>
                    </a:cubicBezTo>
                    <a:cubicBezTo>
                      <a:pt x="1" y="37"/>
                      <a:pt x="0" y="28"/>
                      <a:pt x="0" y="28"/>
                    </a:cubicBezTo>
                    <a:cubicBezTo>
                      <a:pt x="4" y="7"/>
                      <a:pt x="21" y="5"/>
                      <a:pt x="40" y="0"/>
                    </a:cubicBezTo>
                    <a:cubicBezTo>
                      <a:pt x="53" y="2"/>
                      <a:pt x="58" y="1"/>
                      <a:pt x="68" y="8"/>
                    </a:cubicBezTo>
                    <a:cubicBezTo>
                      <a:pt x="69" y="10"/>
                      <a:pt x="72" y="20"/>
                      <a:pt x="72" y="22"/>
                    </a:cubicBezTo>
                    <a:cubicBezTo>
                      <a:pt x="71" y="26"/>
                      <a:pt x="59" y="33"/>
                      <a:pt x="64" y="28"/>
                    </a:cubicBez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2368400">
                <a:off x="6881400" y="353160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8" y="0"/>
                    </a:moveTo>
                    <a:cubicBezTo>
                      <a:pt x="4" y="17"/>
                      <a:pt x="0" y="39"/>
                      <a:pt x="10" y="54"/>
                    </a:cubicBezTo>
                    <a:cubicBezTo>
                      <a:pt x="14" y="78"/>
                      <a:pt x="21" y="63"/>
                      <a:pt x="36" y="58"/>
                    </a:cubicBezTo>
                    <a:cubicBezTo>
                      <a:pt x="43" y="53"/>
                      <a:pt x="56" y="40"/>
                      <a:pt x="56" y="40"/>
                    </a:cubicBezTo>
                    <a:cubicBezTo>
                      <a:pt x="53" y="28"/>
                      <a:pt x="52" y="21"/>
                      <a:pt x="40" y="18"/>
                    </a:cubicBezTo>
                    <a:cubicBezTo>
                      <a:pt x="34" y="12"/>
                      <a:pt x="17" y="0"/>
                      <a:pt x="8" y="0"/>
                    </a:cubicBez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2368400">
                <a:off x="6718680" y="3449520"/>
                <a:ext cx="79200" cy="156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20" y="4"/>
                    </a:moveTo>
                    <a:cubicBezTo>
                      <a:pt x="12" y="25"/>
                      <a:pt x="6" y="43"/>
                      <a:pt x="4" y="66"/>
                    </a:cubicBezTo>
                    <a:cubicBezTo>
                      <a:pt x="6" y="90"/>
                      <a:pt x="0" y="92"/>
                      <a:pt x="18" y="98"/>
                    </a:cubicBezTo>
                    <a:cubicBezTo>
                      <a:pt x="28" y="96"/>
                      <a:pt x="41" y="99"/>
                      <a:pt x="48" y="92"/>
                    </a:cubicBezTo>
                    <a:cubicBezTo>
                      <a:pt x="50" y="90"/>
                      <a:pt x="43" y="59"/>
                      <a:pt x="42" y="54"/>
                    </a:cubicBezTo>
                    <a:cubicBezTo>
                      <a:pt x="41" y="50"/>
                      <a:pt x="38" y="42"/>
                      <a:pt x="38" y="42"/>
                    </a:cubicBezTo>
                    <a:cubicBezTo>
                      <a:pt x="36" y="25"/>
                      <a:pt x="34" y="11"/>
                      <a:pt x="20" y="0"/>
                    </a:cubicBezTo>
                    <a:cubicBezTo>
                      <a:pt x="18" y="7"/>
                      <a:pt x="17" y="7"/>
                      <a:pt x="20" y="4"/>
                    </a:cubicBez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2368400">
                <a:off x="7031160" y="337572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2368400">
                <a:off x="7046640" y="30459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0" y="1"/>
                    </a:moveTo>
                    <a:cubicBezTo>
                      <a:pt x="37" y="2"/>
                      <a:pt x="23" y="0"/>
                      <a:pt x="11" y="4"/>
                    </a:cubicBezTo>
                    <a:cubicBezTo>
                      <a:pt x="0" y="8"/>
                      <a:pt x="14" y="44"/>
                      <a:pt x="20" y="52"/>
                    </a:cubicBezTo>
                    <a:cubicBezTo>
                      <a:pt x="27" y="51"/>
                      <a:pt x="35" y="52"/>
                      <a:pt x="41" y="49"/>
                    </a:cubicBezTo>
                    <a:cubicBezTo>
                      <a:pt x="53" y="44"/>
                      <a:pt x="54" y="9"/>
                      <a:pt x="50" y="1"/>
                    </a:cubicBez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2368400">
                <a:off x="7102800" y="3575160"/>
                <a:ext cx="9396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2368400">
                <a:off x="7082640" y="38005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130880" y="3051000"/>
              <a:ext cx="1017000" cy="664560"/>
              <a:chOff x="7130880" y="3051000"/>
              <a:chExt cx="1017000" cy="664560"/>
            </a:xfrm>
          </p:grpSpPr>
          <p:sp>
            <p:nvSpPr>
              <p:cNvPr id="384" name=""/>
              <p:cNvSpPr/>
              <p:nvPr/>
            </p:nvSpPr>
            <p:spPr>
              <a:xfrm rot="18190800">
                <a:off x="7178760" y="3397320"/>
                <a:ext cx="160200" cy="201600"/>
              </a:xfrm>
              <a:custGeom>
                <a:avLst/>
                <a:gdLst/>
                <a:ahLst/>
                <a:rect l="l" t="t" r="r" b="b"/>
                <a:pathLst>
                  <a:path w="101" h="127">
                    <a:moveTo>
                      <a:pt x="95" y="2"/>
                    </a:moveTo>
                    <a:cubicBezTo>
                      <a:pt x="70" y="15"/>
                      <a:pt x="44" y="29"/>
                      <a:pt x="17" y="38"/>
                    </a:cubicBezTo>
                    <a:cubicBezTo>
                      <a:pt x="0" y="63"/>
                      <a:pt x="6" y="76"/>
                      <a:pt x="35" y="86"/>
                    </a:cubicBezTo>
                    <a:cubicBezTo>
                      <a:pt x="8" y="127"/>
                      <a:pt x="43" y="93"/>
                      <a:pt x="71" y="86"/>
                    </a:cubicBezTo>
                    <a:cubicBezTo>
                      <a:pt x="78" y="66"/>
                      <a:pt x="81" y="45"/>
                      <a:pt x="89" y="26"/>
                    </a:cubicBezTo>
                    <a:cubicBezTo>
                      <a:pt x="93" y="18"/>
                      <a:pt x="99" y="11"/>
                      <a:pt x="101" y="2"/>
                    </a:cubicBezTo>
                    <a:cubicBezTo>
                      <a:pt x="101" y="0"/>
                      <a:pt x="97" y="2"/>
                      <a:pt x="95" y="2"/>
                    </a:cubicBez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8190800">
                <a:off x="7309080" y="32194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8190800">
                <a:off x="7414560" y="332784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8190800">
                <a:off x="7398360" y="3512880"/>
                <a:ext cx="74520" cy="95400"/>
              </a:xfrm>
              <a:prstGeom prst="ellipse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8190800">
                <a:off x="7473240" y="308376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4" y="28"/>
                    </a:moveTo>
                    <a:cubicBezTo>
                      <a:pt x="47" y="38"/>
                      <a:pt x="31" y="40"/>
                      <a:pt x="12" y="42"/>
                    </a:cubicBezTo>
                    <a:cubicBezTo>
                      <a:pt x="9" y="41"/>
                      <a:pt x="6" y="42"/>
                      <a:pt x="4" y="40"/>
                    </a:cubicBezTo>
                    <a:cubicBezTo>
                      <a:pt x="1" y="37"/>
                      <a:pt x="0" y="28"/>
                      <a:pt x="0" y="28"/>
                    </a:cubicBezTo>
                    <a:cubicBezTo>
                      <a:pt x="4" y="7"/>
                      <a:pt x="21" y="5"/>
                      <a:pt x="40" y="0"/>
                    </a:cubicBezTo>
                    <a:cubicBezTo>
                      <a:pt x="53" y="2"/>
                      <a:pt x="58" y="1"/>
                      <a:pt x="68" y="8"/>
                    </a:cubicBezTo>
                    <a:cubicBezTo>
                      <a:pt x="69" y="10"/>
                      <a:pt x="72" y="20"/>
                      <a:pt x="72" y="22"/>
                    </a:cubicBezTo>
                    <a:cubicBezTo>
                      <a:pt x="71" y="26"/>
                      <a:pt x="59" y="33"/>
                      <a:pt x="64" y="28"/>
                    </a:cubicBez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8190800">
                <a:off x="7562880" y="336672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8" y="0"/>
                    </a:moveTo>
                    <a:cubicBezTo>
                      <a:pt x="4" y="17"/>
                      <a:pt x="0" y="39"/>
                      <a:pt x="10" y="54"/>
                    </a:cubicBezTo>
                    <a:cubicBezTo>
                      <a:pt x="14" y="78"/>
                      <a:pt x="21" y="63"/>
                      <a:pt x="36" y="58"/>
                    </a:cubicBezTo>
                    <a:cubicBezTo>
                      <a:pt x="43" y="53"/>
                      <a:pt x="56" y="40"/>
                      <a:pt x="56" y="40"/>
                    </a:cubicBezTo>
                    <a:cubicBezTo>
                      <a:pt x="53" y="28"/>
                      <a:pt x="52" y="21"/>
                      <a:pt x="40" y="18"/>
                    </a:cubicBezTo>
                    <a:cubicBezTo>
                      <a:pt x="34" y="12"/>
                      <a:pt x="17" y="0"/>
                      <a:pt x="8" y="0"/>
                    </a:cubicBez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8190800">
                <a:off x="7652880" y="3191760"/>
                <a:ext cx="79200" cy="156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20" y="4"/>
                    </a:moveTo>
                    <a:cubicBezTo>
                      <a:pt x="12" y="25"/>
                      <a:pt x="6" y="43"/>
                      <a:pt x="4" y="66"/>
                    </a:cubicBezTo>
                    <a:cubicBezTo>
                      <a:pt x="6" y="90"/>
                      <a:pt x="0" y="92"/>
                      <a:pt x="18" y="98"/>
                    </a:cubicBezTo>
                    <a:cubicBezTo>
                      <a:pt x="28" y="96"/>
                      <a:pt x="41" y="99"/>
                      <a:pt x="48" y="92"/>
                    </a:cubicBezTo>
                    <a:cubicBezTo>
                      <a:pt x="50" y="90"/>
                      <a:pt x="43" y="59"/>
                      <a:pt x="42" y="54"/>
                    </a:cubicBezTo>
                    <a:cubicBezTo>
                      <a:pt x="41" y="50"/>
                      <a:pt x="38" y="42"/>
                      <a:pt x="38" y="42"/>
                    </a:cubicBezTo>
                    <a:cubicBezTo>
                      <a:pt x="36" y="25"/>
                      <a:pt x="34" y="11"/>
                      <a:pt x="20" y="0"/>
                    </a:cubicBezTo>
                    <a:cubicBezTo>
                      <a:pt x="18" y="7"/>
                      <a:pt x="17" y="7"/>
                      <a:pt x="20" y="4"/>
                    </a:cubicBez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8190800">
                <a:off x="7704360" y="354600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8190800">
                <a:off x="8046720" y="361224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0" y="1"/>
                    </a:moveTo>
                    <a:cubicBezTo>
                      <a:pt x="37" y="2"/>
                      <a:pt x="23" y="0"/>
                      <a:pt x="11" y="4"/>
                    </a:cubicBezTo>
                    <a:cubicBezTo>
                      <a:pt x="0" y="8"/>
                      <a:pt x="14" y="44"/>
                      <a:pt x="20" y="52"/>
                    </a:cubicBezTo>
                    <a:cubicBezTo>
                      <a:pt x="27" y="51"/>
                      <a:pt x="35" y="52"/>
                      <a:pt x="41" y="49"/>
                    </a:cubicBezTo>
                    <a:cubicBezTo>
                      <a:pt x="53" y="44"/>
                      <a:pt x="54" y="9"/>
                      <a:pt x="50" y="1"/>
                    </a:cubicBez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8190800">
                <a:off x="7497360" y="3592440"/>
                <a:ext cx="9396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8190800">
                <a:off x="7300080" y="35557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553800" y="43434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29718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29718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81440" y="4876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(pro)plate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Times New Roman"/>
              </a:rPr>
              <a:t>Platelets in the circulation: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Times New Roman"/>
              </a:rPr>
              <a:t>Influx, efflux, and redistribution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2514600"/>
            <a:ext cx="2820960" cy="16765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IRCUL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57600" y="4572000"/>
            <a:ext cx="1601640" cy="8380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PL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267080" y="3809880"/>
            <a:ext cx="382320" cy="914400"/>
            <a:chOff x="4267080" y="3809880"/>
            <a:chExt cx="382320" cy="914400"/>
          </a:xfrm>
        </p:grpSpPr>
        <p:sp>
          <p:nvSpPr>
            <p:cNvPr id="403" name=""/>
            <p:cNvSpPr/>
            <p:nvPr/>
          </p:nvSpPr>
          <p:spPr>
            <a:xfrm>
              <a:off x="4267080" y="3809880"/>
              <a:ext cx="153000" cy="914400"/>
            </a:xfrm>
            <a:prstGeom prst="upArrow">
              <a:avLst>
                <a:gd name="adj1" fmla="val 50000"/>
                <a:gd name="adj2" fmla="val 149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96400" y="3809880"/>
              <a:ext cx="153000" cy="914400"/>
            </a:xfrm>
            <a:prstGeom prst="downArrow">
              <a:avLst>
                <a:gd name="adj1" fmla="val 50000"/>
                <a:gd name="adj2" fmla="val 149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325560" y="307512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STR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r REM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320040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3200400"/>
            <a:ext cx="685800" cy="380880"/>
          </a:xfrm>
          <a:prstGeom prst="rightArrow">
            <a:avLst>
              <a:gd name="adj1" fmla="val 50000"/>
              <a:gd name="adj2" fmla="val 683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200400"/>
            <a:ext cx="685800" cy="380880"/>
          </a:xfrm>
          <a:prstGeom prst="rightArrow">
            <a:avLst>
              <a:gd name="adj1" fmla="val 50000"/>
              <a:gd name="adj2" fmla="val 683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724280" y="2209680"/>
            <a:ext cx="685800" cy="5335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11520" y="19810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telet 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676520" y="1752480"/>
            <a:ext cx="2743200" cy="1447920"/>
            <a:chOff x="1676520" y="1752480"/>
            <a:chExt cx="2743200" cy="1447920"/>
          </a:xfrm>
        </p:grpSpPr>
        <p:sp>
          <p:nvSpPr>
            <p:cNvPr id="413" name=""/>
            <p:cNvSpPr/>
            <p:nvPr/>
          </p:nvSpPr>
          <p:spPr>
            <a:xfrm>
              <a:off x="2057760" y="1752480"/>
              <a:ext cx="18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 Narrow"/>
                </a:rPr>
                <a:t>(+) thrombopoiet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76520" y="2133720"/>
              <a:ext cx="2743200" cy="1066680"/>
            </a:xfrm>
            <a:custGeom>
              <a:avLst/>
              <a:gdLst/>
              <a:ahLst/>
              <a:rect l="l" t="t" r="r" b="b"/>
              <a:pathLst>
                <a:path w="1728" h="672">
                  <a:moveTo>
                    <a:pt x="1728" y="240"/>
                  </a:moveTo>
                  <a:lnTo>
                    <a:pt x="1728" y="0"/>
                  </a:lnTo>
                  <a:lnTo>
                    <a:pt x="0" y="0"/>
                  </a:lnTo>
                  <a:lnTo>
                    <a:pt x="0" y="672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651200" y="3657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4000" y="50292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Thrombopoieti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754960" y="1600200"/>
            <a:ext cx="2360160" cy="4650840"/>
            <a:chOff x="5754960" y="1600200"/>
            <a:chExt cx="2360160" cy="4650840"/>
          </a:xfrm>
        </p:grpSpPr>
        <p:grpSp>
          <p:nvGrpSpPr>
            <p:cNvPr id="419" name=""/>
            <p:cNvGrpSpPr/>
            <p:nvPr/>
          </p:nvGrpSpPr>
          <p:grpSpPr>
            <a:xfrm>
              <a:off x="5981760" y="2133720"/>
              <a:ext cx="1905120" cy="2666880"/>
              <a:chOff x="5981760" y="2133720"/>
              <a:chExt cx="1905120" cy="2666880"/>
            </a:xfrm>
          </p:grpSpPr>
          <p:sp>
            <p:nvSpPr>
              <p:cNvPr id="420" name=""/>
              <p:cNvSpPr/>
              <p:nvPr/>
            </p:nvSpPr>
            <p:spPr>
              <a:xfrm>
                <a:off x="5981760" y="2133720"/>
                <a:ext cx="1905120" cy="2666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63000" y="2743200"/>
                <a:ext cx="304560" cy="3049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86680" y="28958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53360" y="25909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53360" y="30481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43880" y="25146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01080" y="4191120"/>
                <a:ext cx="304920" cy="3049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15280" y="35816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53360" y="4114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048800" y="37339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15280" y="4419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405120" y="5791320"/>
              <a:ext cx="12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increas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7120" y="5105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54960" y="1600200"/>
              <a:ext cx="236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thrombocytopen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028880" y="1600200"/>
            <a:ext cx="3778200" cy="4701240"/>
            <a:chOff x="1028880" y="1600200"/>
            <a:chExt cx="3778200" cy="4701240"/>
          </a:xfrm>
        </p:grpSpPr>
        <p:sp>
          <p:nvSpPr>
            <p:cNvPr id="435" name=""/>
            <p:cNvSpPr/>
            <p:nvPr/>
          </p:nvSpPr>
          <p:spPr>
            <a:xfrm>
              <a:off x="2476440" y="2133720"/>
              <a:ext cx="1905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7680" y="2743200"/>
              <a:ext cx="304560" cy="304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81360" y="289548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48040" y="25909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48040" y="30481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38560" y="251460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95760" y="3124080"/>
              <a:ext cx="304920" cy="3049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57680" y="3657600"/>
              <a:ext cx="304560" cy="3049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95760" y="4191120"/>
              <a:ext cx="304920" cy="30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09960" y="358128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48040" y="411480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43480" y="3733920"/>
              <a:ext cx="7596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09960" y="44197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28880" y="579132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[TPO]</a:t>
              </a:r>
              <a:r>
                <a:rPr b="1" lang="en-GB" sz="2400" spc="-1" strike="noStrike" baseline="-25000">
                  <a:solidFill>
                    <a:srgbClr val="ffffff"/>
                  </a:solidFill>
                  <a:latin typeface="Arial Narrow"/>
                </a:rPr>
                <a:t> fre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28880" y="502920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[TPO] </a:t>
              </a:r>
              <a:r>
                <a:rPr b="1" lang="en-GB" sz="2400" spc="-1" strike="noStrike" baseline="-25000">
                  <a:solidFill>
                    <a:srgbClr val="ffffff"/>
                  </a:solidFill>
                  <a:latin typeface="Arial Narrow"/>
                </a:rPr>
                <a:t>to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36160" y="510552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36160" y="579132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96640" y="1600200"/>
              <a:ext cx="271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normal platelet cou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34880" y="3252960"/>
              <a:ext cx="85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plate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34520" y="2643120"/>
              <a:ext cx="61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TP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43440" y="2144880"/>
              <a:ext cx="85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plas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19240" y="23623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019240" y="2566800"/>
              <a:ext cx="1219320" cy="2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095560" y="2971800"/>
              <a:ext cx="9144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Thrombocytopenic bleeding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1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isk of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latelet 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use of thrombocytop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orbid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nical manife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techi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rpura, ecchym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cosal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norrha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racranial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4645080" y="1219320"/>
          <a:ext cx="38131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1219320"/>
                    <a:ext cx="38131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Disseminated Intravascular Coagulation (DIC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C is characteriz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ystemic activation of the coagulation system followed by activation of fibrinolytic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gh thrombin and plasmin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C is not a disease itself, but is a manifestation of a serious underlying disor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emostasis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imary vs. Secondary vs. Tertiary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961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let Plug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t on normal platelet number &amp;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manifestation of clot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ary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ion of the clotting casc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osition &amp; Stabilization of fibr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tiary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solution of the fibrin c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t on Plasminogen Ac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Causes of DIC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bacterial sepsis, viral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oplas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AML, adenocarcin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stetrical disorder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retained dead fetus, abruption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uma/surger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brain injury, crush, burn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acute hemolytic transfusion reaction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2286000" y="1828800"/>
            <a:ext cx="3967200" cy="4205520"/>
            <a:chOff x="2286000" y="1828800"/>
            <a:chExt cx="3967200" cy="4205520"/>
          </a:xfrm>
        </p:grpSpPr>
        <p:sp>
          <p:nvSpPr>
            <p:cNvPr id="468" name=""/>
            <p:cNvSpPr/>
            <p:nvPr/>
          </p:nvSpPr>
          <p:spPr>
            <a:xfrm>
              <a:off x="3129120" y="2727360"/>
              <a:ext cx="3119400" cy="459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depletion of clotting facto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prolonged PT, PT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33800" y="575784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creased FDP and D-dim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33800" y="342756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hromboctyopenia (consumption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286000" y="2955600"/>
              <a:ext cx="84312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6000" y="4022640"/>
              <a:ext cx="8431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6000" y="594360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33800" y="1828800"/>
              <a:ext cx="31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LABORATO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MANIFEST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33800" y="486396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microangiopathic hemolytic anem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86000" y="4940280"/>
              <a:ext cx="843120" cy="7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33800" y="440388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decreased fibrinog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295360" y="4555800"/>
              <a:ext cx="833760" cy="38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29120" y="394668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depletion of physiologic anticoagula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95360" y="2498760"/>
              <a:ext cx="83376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286000" y="3565440"/>
              <a:ext cx="843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914400" y="60958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28600" y="1523880"/>
            <a:ext cx="2062080" cy="4770720"/>
            <a:chOff x="228600" y="1523880"/>
            <a:chExt cx="2062080" cy="4770720"/>
          </a:xfrm>
        </p:grpSpPr>
        <p:sp>
          <p:nvSpPr>
            <p:cNvPr id="484" name=""/>
            <p:cNvSpPr/>
            <p:nvPr/>
          </p:nvSpPr>
          <p:spPr>
            <a:xfrm>
              <a:off x="233280" y="2955960"/>
              <a:ext cx="205272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issue factor relea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8600" y="3571920"/>
              <a:ext cx="2057400" cy="824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activation of intrinsic pathway of coagul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(systemic thrombin generation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8600" y="4699080"/>
              <a:ext cx="2057400" cy="459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generalized intravascul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fibrin deposi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280" y="2346480"/>
              <a:ext cx="205740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underlying disor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280" y="5470560"/>
              <a:ext cx="2057400" cy="824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activation of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fibrinolytic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(systemic plasmin generation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47680" y="4403880"/>
              <a:ext cx="4680" cy="30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47680" y="5165640"/>
              <a:ext cx="4680" cy="30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57400" y="3263760"/>
              <a:ext cx="0" cy="30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47680" y="2651040"/>
              <a:ext cx="4680" cy="30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9320" y="1828800"/>
              <a:ext cx="204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THOPHYSIOLO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EV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3520" y="1523880"/>
              <a:ext cx="1447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Pathophysiology of DIC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290680" y="1828800"/>
            <a:ext cx="6624720" cy="4419720"/>
            <a:chOff x="2290680" y="1828800"/>
            <a:chExt cx="6624720" cy="4419720"/>
          </a:xfrm>
        </p:grpSpPr>
        <p:sp>
          <p:nvSpPr>
            <p:cNvPr id="497" name=""/>
            <p:cNvSpPr/>
            <p:nvPr/>
          </p:nvSpPr>
          <p:spPr>
            <a:xfrm>
              <a:off x="7319880" y="3610080"/>
              <a:ext cx="159552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emorrh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22400" y="5318280"/>
              <a:ext cx="159048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hrombosis/infar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253200" y="3946320"/>
              <a:ext cx="1143000" cy="197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53200" y="3565440"/>
              <a:ext cx="106668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253200" y="3793680"/>
              <a:ext cx="10666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52840" y="182880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MANIFEST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53200" y="4098960"/>
              <a:ext cx="106668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53200" y="2955960"/>
              <a:ext cx="1066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90680" y="4937040"/>
              <a:ext cx="5029200" cy="561960"/>
            </a:xfrm>
            <a:custGeom>
              <a:avLst/>
              <a:gdLst/>
              <a:ahLst/>
              <a:rect l="l" t="t" r="r" b="b"/>
              <a:pathLst>
                <a:path w="3148" h="354">
                  <a:moveTo>
                    <a:pt x="0" y="0"/>
                  </a:moveTo>
                  <a:lnTo>
                    <a:pt x="530" y="300"/>
                  </a:lnTo>
                  <a:lnTo>
                    <a:pt x="3148" y="35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05080" y="3962520"/>
              <a:ext cx="5238720" cy="2286000"/>
            </a:xfrm>
            <a:custGeom>
              <a:avLst/>
              <a:gdLst/>
              <a:ahLst/>
              <a:rect l="l" t="t" r="r" b="b"/>
              <a:pathLst>
                <a:path w="3300" h="1440">
                  <a:moveTo>
                    <a:pt x="0" y="1266"/>
                  </a:moveTo>
                  <a:lnTo>
                    <a:pt x="516" y="1434"/>
                  </a:lnTo>
                  <a:lnTo>
                    <a:pt x="2628" y="1440"/>
                  </a:lnTo>
                  <a:lnTo>
                    <a:pt x="330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Treatment of DIC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eat the underlying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lacement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yo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F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atelet concent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red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additional pharmacologic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roversial or investigational ag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T, APC, PC concentrate, heparin, antifibrinolytic ag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hrombasth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Qualitative Defects in Primary Hemostasis 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hesion/Adherence 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ycoprotein (Gp) Ib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rnard-Soulier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n Willebrand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gation 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brinoge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de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quired 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bodies to GP IIb-IIIa in NHL and 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Func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14600" y="1203840"/>
            <a:ext cx="1981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dherence Onl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876920" y="1215720"/>
            <a:ext cx="3228840" cy="921600"/>
            <a:chOff x="4876920" y="1215720"/>
            <a:chExt cx="3228840" cy="921600"/>
          </a:xfrm>
        </p:grpSpPr>
        <p:sp>
          <p:nvSpPr>
            <p:cNvPr id="516" name=""/>
            <p:cNvSpPr/>
            <p:nvPr/>
          </p:nvSpPr>
          <p:spPr>
            <a:xfrm>
              <a:off x="5565960" y="1215720"/>
              <a:ext cx="2539800" cy="92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ggregation &amp;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Releas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6920" y="1676520"/>
              <a:ext cx="707760" cy="276480"/>
            </a:xfrm>
            <a:custGeom>
              <a:avLst/>
              <a:gdLst/>
              <a:ahLst/>
              <a:rect l="l" t="t" r="r" b="b"/>
              <a:pathLst>
                <a:path w="502" h="174">
                  <a:moveTo>
                    <a:pt x="197" y="125"/>
                  </a:moveTo>
                  <a:lnTo>
                    <a:pt x="197" y="118"/>
                  </a:lnTo>
                  <a:lnTo>
                    <a:pt x="198" y="110"/>
                  </a:lnTo>
                  <a:lnTo>
                    <a:pt x="201" y="103"/>
                  </a:lnTo>
                  <a:lnTo>
                    <a:pt x="206" y="95"/>
                  </a:lnTo>
                  <a:lnTo>
                    <a:pt x="211" y="89"/>
                  </a:lnTo>
                  <a:lnTo>
                    <a:pt x="218" y="81"/>
                  </a:lnTo>
                  <a:lnTo>
                    <a:pt x="226" y="75"/>
                  </a:lnTo>
                  <a:lnTo>
                    <a:pt x="234" y="68"/>
                  </a:lnTo>
                  <a:lnTo>
                    <a:pt x="244" y="62"/>
                  </a:lnTo>
                  <a:lnTo>
                    <a:pt x="256" y="56"/>
                  </a:lnTo>
                  <a:lnTo>
                    <a:pt x="267" y="51"/>
                  </a:lnTo>
                  <a:lnTo>
                    <a:pt x="280" y="45"/>
                  </a:lnTo>
                  <a:lnTo>
                    <a:pt x="293" y="41"/>
                  </a:lnTo>
                  <a:lnTo>
                    <a:pt x="307" y="37"/>
                  </a:lnTo>
                  <a:lnTo>
                    <a:pt x="321" y="33"/>
                  </a:lnTo>
                  <a:lnTo>
                    <a:pt x="336" y="30"/>
                  </a:lnTo>
                  <a:lnTo>
                    <a:pt x="351" y="27"/>
                  </a:lnTo>
                  <a:lnTo>
                    <a:pt x="366" y="25"/>
                  </a:lnTo>
                  <a:lnTo>
                    <a:pt x="371" y="25"/>
                  </a:lnTo>
                  <a:lnTo>
                    <a:pt x="386" y="23"/>
                  </a:lnTo>
                  <a:lnTo>
                    <a:pt x="402" y="23"/>
                  </a:lnTo>
                  <a:lnTo>
                    <a:pt x="417" y="23"/>
                  </a:lnTo>
                  <a:lnTo>
                    <a:pt x="432" y="23"/>
                  </a:lnTo>
                  <a:lnTo>
                    <a:pt x="446" y="24"/>
                  </a:lnTo>
                  <a:lnTo>
                    <a:pt x="460" y="26"/>
                  </a:lnTo>
                  <a:lnTo>
                    <a:pt x="473" y="28"/>
                  </a:lnTo>
                  <a:lnTo>
                    <a:pt x="486" y="31"/>
                  </a:lnTo>
                  <a:lnTo>
                    <a:pt x="501" y="36"/>
                  </a:lnTo>
                  <a:lnTo>
                    <a:pt x="489" y="29"/>
                  </a:lnTo>
                  <a:lnTo>
                    <a:pt x="476" y="23"/>
                  </a:lnTo>
                  <a:lnTo>
                    <a:pt x="461" y="17"/>
                  </a:lnTo>
                  <a:lnTo>
                    <a:pt x="445" y="12"/>
                  </a:lnTo>
                  <a:lnTo>
                    <a:pt x="428" y="8"/>
                  </a:lnTo>
                  <a:lnTo>
                    <a:pt x="409" y="5"/>
                  </a:lnTo>
                  <a:lnTo>
                    <a:pt x="390" y="3"/>
                  </a:lnTo>
                  <a:lnTo>
                    <a:pt x="370" y="1"/>
                  </a:lnTo>
                  <a:lnTo>
                    <a:pt x="349" y="0"/>
                  </a:lnTo>
                  <a:lnTo>
                    <a:pt x="328" y="0"/>
                  </a:lnTo>
                  <a:lnTo>
                    <a:pt x="307" y="1"/>
                  </a:lnTo>
                  <a:lnTo>
                    <a:pt x="286" y="3"/>
                  </a:lnTo>
                  <a:lnTo>
                    <a:pt x="290" y="3"/>
                  </a:lnTo>
                  <a:lnTo>
                    <a:pt x="268" y="6"/>
                  </a:lnTo>
                  <a:lnTo>
                    <a:pt x="246" y="9"/>
                  </a:lnTo>
                  <a:lnTo>
                    <a:pt x="225" y="14"/>
                  </a:lnTo>
                  <a:lnTo>
                    <a:pt x="204" y="19"/>
                  </a:lnTo>
                  <a:lnTo>
                    <a:pt x="184" y="25"/>
                  </a:lnTo>
                  <a:lnTo>
                    <a:pt x="165" y="32"/>
                  </a:lnTo>
                  <a:lnTo>
                    <a:pt x="147" y="39"/>
                  </a:lnTo>
                  <a:lnTo>
                    <a:pt x="130" y="47"/>
                  </a:lnTo>
                  <a:lnTo>
                    <a:pt x="114" y="55"/>
                  </a:lnTo>
                  <a:lnTo>
                    <a:pt x="100" y="64"/>
                  </a:lnTo>
                  <a:lnTo>
                    <a:pt x="86" y="73"/>
                  </a:lnTo>
                  <a:lnTo>
                    <a:pt x="75" y="83"/>
                  </a:lnTo>
                  <a:lnTo>
                    <a:pt x="66" y="92"/>
                  </a:lnTo>
                  <a:lnTo>
                    <a:pt x="58" y="102"/>
                  </a:lnTo>
                  <a:lnTo>
                    <a:pt x="51" y="112"/>
                  </a:lnTo>
                  <a:lnTo>
                    <a:pt x="47" y="122"/>
                  </a:lnTo>
                  <a:lnTo>
                    <a:pt x="45" y="128"/>
                  </a:lnTo>
                  <a:lnTo>
                    <a:pt x="44" y="135"/>
                  </a:lnTo>
                  <a:lnTo>
                    <a:pt x="45" y="141"/>
                  </a:lnTo>
                  <a:lnTo>
                    <a:pt x="0" y="146"/>
                  </a:lnTo>
                  <a:lnTo>
                    <a:pt x="122" y="173"/>
                  </a:lnTo>
                  <a:lnTo>
                    <a:pt x="242" y="120"/>
                  </a:lnTo>
                  <a:lnTo>
                    <a:pt x="197" y="12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803160" y="2159640"/>
            <a:ext cx="8078760" cy="1458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03160" y="2306160"/>
            <a:ext cx="3302280" cy="2937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905440" y="2317320"/>
            <a:ext cx="2976480" cy="2923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803160" y="2600280"/>
            <a:ext cx="1362240" cy="231840"/>
          </a:xfrm>
          <a:prstGeom prst="rect">
            <a:avLst/>
          </a:prstGeom>
          <a:solidFill>
            <a:srgbClr val="33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831000" y="2616120"/>
            <a:ext cx="2050920" cy="2304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494240" y="2325600"/>
            <a:ext cx="1249200" cy="566640"/>
            <a:chOff x="4494240" y="2325600"/>
            <a:chExt cx="1249200" cy="566640"/>
          </a:xfrm>
        </p:grpSpPr>
        <p:sp>
          <p:nvSpPr>
            <p:cNvPr id="524" name=""/>
            <p:cNvSpPr/>
            <p:nvPr/>
          </p:nvSpPr>
          <p:spPr>
            <a:xfrm flipV="1">
              <a:off x="5054760" y="2682000"/>
              <a:ext cx="599760" cy="20988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803840" y="2630520"/>
              <a:ext cx="596880" cy="2095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4494240" y="2325600"/>
              <a:ext cx="596880" cy="2095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4653000" y="2461320"/>
              <a:ext cx="596880" cy="20988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735440" y="2346480"/>
              <a:ext cx="596880" cy="2095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099040" y="2523240"/>
              <a:ext cx="596880" cy="20988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146560" y="2346480"/>
              <a:ext cx="596880" cy="2095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 flipV="1">
            <a:off x="3139920" y="2647080"/>
            <a:ext cx="596880" cy="20988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765600" y="2638440"/>
            <a:ext cx="59688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340080" y="3040200"/>
            <a:ext cx="596880" cy="21096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59000" y="2725560"/>
            <a:ext cx="934920" cy="408240"/>
          </a:xfrm>
          <a:custGeom>
            <a:avLst/>
            <a:gdLst/>
            <a:ahLst/>
            <a:rect l="l" t="t" r="r" b="b"/>
            <a:pathLst>
              <a:path w="664" h="257">
                <a:moveTo>
                  <a:pt x="265" y="87"/>
                </a:moveTo>
                <a:lnTo>
                  <a:pt x="263" y="91"/>
                </a:lnTo>
                <a:lnTo>
                  <a:pt x="263" y="97"/>
                </a:lnTo>
                <a:lnTo>
                  <a:pt x="266" y="102"/>
                </a:lnTo>
                <a:lnTo>
                  <a:pt x="270" y="108"/>
                </a:lnTo>
                <a:lnTo>
                  <a:pt x="276" y="115"/>
                </a:lnTo>
                <a:lnTo>
                  <a:pt x="284" y="122"/>
                </a:lnTo>
                <a:lnTo>
                  <a:pt x="294" y="129"/>
                </a:lnTo>
                <a:lnTo>
                  <a:pt x="304" y="137"/>
                </a:lnTo>
                <a:lnTo>
                  <a:pt x="317" y="145"/>
                </a:lnTo>
                <a:lnTo>
                  <a:pt x="330" y="152"/>
                </a:lnTo>
                <a:lnTo>
                  <a:pt x="346" y="160"/>
                </a:lnTo>
                <a:lnTo>
                  <a:pt x="362" y="168"/>
                </a:lnTo>
                <a:lnTo>
                  <a:pt x="379" y="176"/>
                </a:lnTo>
                <a:lnTo>
                  <a:pt x="397" y="184"/>
                </a:lnTo>
                <a:lnTo>
                  <a:pt x="416" y="192"/>
                </a:lnTo>
                <a:lnTo>
                  <a:pt x="436" y="199"/>
                </a:lnTo>
                <a:lnTo>
                  <a:pt x="456" y="206"/>
                </a:lnTo>
                <a:lnTo>
                  <a:pt x="476" y="213"/>
                </a:lnTo>
                <a:lnTo>
                  <a:pt x="482" y="215"/>
                </a:lnTo>
                <a:lnTo>
                  <a:pt x="503" y="221"/>
                </a:lnTo>
                <a:lnTo>
                  <a:pt x="524" y="228"/>
                </a:lnTo>
                <a:lnTo>
                  <a:pt x="545" y="233"/>
                </a:lnTo>
                <a:lnTo>
                  <a:pt x="565" y="239"/>
                </a:lnTo>
                <a:lnTo>
                  <a:pt x="586" y="243"/>
                </a:lnTo>
                <a:lnTo>
                  <a:pt x="605" y="247"/>
                </a:lnTo>
                <a:lnTo>
                  <a:pt x="624" y="251"/>
                </a:lnTo>
                <a:lnTo>
                  <a:pt x="642" y="253"/>
                </a:lnTo>
                <a:lnTo>
                  <a:pt x="663" y="256"/>
                </a:lnTo>
                <a:lnTo>
                  <a:pt x="645" y="256"/>
                </a:lnTo>
                <a:lnTo>
                  <a:pt x="626" y="255"/>
                </a:lnTo>
                <a:lnTo>
                  <a:pt x="604" y="253"/>
                </a:lnTo>
                <a:lnTo>
                  <a:pt x="581" y="250"/>
                </a:lnTo>
                <a:lnTo>
                  <a:pt x="556" y="247"/>
                </a:lnTo>
                <a:lnTo>
                  <a:pt x="530" y="242"/>
                </a:lnTo>
                <a:lnTo>
                  <a:pt x="504" y="237"/>
                </a:lnTo>
                <a:lnTo>
                  <a:pt x="476" y="230"/>
                </a:lnTo>
                <a:lnTo>
                  <a:pt x="448" y="223"/>
                </a:lnTo>
                <a:lnTo>
                  <a:pt x="419" y="215"/>
                </a:lnTo>
                <a:lnTo>
                  <a:pt x="390" y="207"/>
                </a:lnTo>
                <a:lnTo>
                  <a:pt x="361" y="197"/>
                </a:lnTo>
                <a:lnTo>
                  <a:pt x="366" y="199"/>
                </a:lnTo>
                <a:lnTo>
                  <a:pt x="337" y="189"/>
                </a:lnTo>
                <a:lnTo>
                  <a:pt x="308" y="179"/>
                </a:lnTo>
                <a:lnTo>
                  <a:pt x="280" y="169"/>
                </a:lnTo>
                <a:lnTo>
                  <a:pt x="252" y="157"/>
                </a:lnTo>
                <a:lnTo>
                  <a:pt x="226" y="146"/>
                </a:lnTo>
                <a:lnTo>
                  <a:pt x="201" y="135"/>
                </a:lnTo>
                <a:lnTo>
                  <a:pt x="178" y="124"/>
                </a:lnTo>
                <a:lnTo>
                  <a:pt x="156" y="112"/>
                </a:lnTo>
                <a:lnTo>
                  <a:pt x="136" y="101"/>
                </a:lnTo>
                <a:lnTo>
                  <a:pt x="118" y="90"/>
                </a:lnTo>
                <a:lnTo>
                  <a:pt x="102" y="79"/>
                </a:lnTo>
                <a:lnTo>
                  <a:pt x="89" y="69"/>
                </a:lnTo>
                <a:lnTo>
                  <a:pt x="78" y="59"/>
                </a:lnTo>
                <a:lnTo>
                  <a:pt x="68" y="50"/>
                </a:lnTo>
                <a:lnTo>
                  <a:pt x="62" y="41"/>
                </a:lnTo>
                <a:lnTo>
                  <a:pt x="58" y="33"/>
                </a:lnTo>
                <a:lnTo>
                  <a:pt x="58" y="29"/>
                </a:lnTo>
                <a:lnTo>
                  <a:pt x="58" y="24"/>
                </a:lnTo>
                <a:lnTo>
                  <a:pt x="60" y="20"/>
                </a:lnTo>
                <a:lnTo>
                  <a:pt x="0" y="0"/>
                </a:lnTo>
                <a:lnTo>
                  <a:pt x="172" y="28"/>
                </a:lnTo>
                <a:lnTo>
                  <a:pt x="325" y="106"/>
                </a:lnTo>
                <a:lnTo>
                  <a:pt x="265" y="87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216320" y="3459240"/>
            <a:ext cx="596880" cy="21096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27000" y="4740120"/>
            <a:ext cx="1370160" cy="235080"/>
          </a:xfrm>
          <a:custGeom>
            <a:avLst/>
            <a:gdLst/>
            <a:ahLst/>
            <a:rect l="l" t="t" r="r" b="b"/>
            <a:pathLst>
              <a:path w="970" h="148">
                <a:moveTo>
                  <a:pt x="969" y="34"/>
                </a:moveTo>
                <a:lnTo>
                  <a:pt x="709" y="34"/>
                </a:lnTo>
                <a:lnTo>
                  <a:pt x="709" y="0"/>
                </a:lnTo>
                <a:lnTo>
                  <a:pt x="0" y="73"/>
                </a:lnTo>
                <a:lnTo>
                  <a:pt x="709" y="147"/>
                </a:lnTo>
                <a:lnTo>
                  <a:pt x="709" y="112"/>
                </a:lnTo>
                <a:lnTo>
                  <a:pt x="969" y="112"/>
                </a:lnTo>
                <a:lnTo>
                  <a:pt x="969" y="34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793800" y="5094720"/>
            <a:ext cx="8051760" cy="157320"/>
          </a:xfrm>
          <a:prstGeom prst="rect">
            <a:avLst/>
          </a:prstGeom>
          <a:solidFill>
            <a:srgbClr val="33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93800" y="5263920"/>
            <a:ext cx="8070840" cy="156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93800" y="5432040"/>
            <a:ext cx="8078760" cy="1144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75000" y="4631760"/>
            <a:ext cx="4002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 of Blood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7600" y="4035600"/>
            <a:ext cx="59832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915240" y="4000680"/>
            <a:ext cx="59688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932600" y="3276720"/>
            <a:ext cx="59688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969320" y="4599000"/>
            <a:ext cx="59832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48240" y="2984400"/>
            <a:ext cx="812880" cy="179640"/>
          </a:xfrm>
          <a:custGeom>
            <a:avLst/>
            <a:gdLst/>
            <a:ahLst/>
            <a:rect l="l" t="t" r="r" b="b"/>
            <a:pathLst>
              <a:path w="576" h="113">
                <a:moveTo>
                  <a:pt x="227" y="32"/>
                </a:moveTo>
                <a:lnTo>
                  <a:pt x="226" y="36"/>
                </a:lnTo>
                <a:lnTo>
                  <a:pt x="227" y="41"/>
                </a:lnTo>
                <a:lnTo>
                  <a:pt x="231" y="45"/>
                </a:lnTo>
                <a:lnTo>
                  <a:pt x="235" y="50"/>
                </a:lnTo>
                <a:lnTo>
                  <a:pt x="242" y="54"/>
                </a:lnTo>
                <a:lnTo>
                  <a:pt x="249" y="58"/>
                </a:lnTo>
                <a:lnTo>
                  <a:pt x="258" y="62"/>
                </a:lnTo>
                <a:lnTo>
                  <a:pt x="268" y="67"/>
                </a:lnTo>
                <a:lnTo>
                  <a:pt x="279" y="71"/>
                </a:lnTo>
                <a:lnTo>
                  <a:pt x="292" y="75"/>
                </a:lnTo>
                <a:lnTo>
                  <a:pt x="305" y="78"/>
                </a:lnTo>
                <a:lnTo>
                  <a:pt x="320" y="82"/>
                </a:lnTo>
                <a:lnTo>
                  <a:pt x="335" y="85"/>
                </a:lnTo>
                <a:lnTo>
                  <a:pt x="351" y="88"/>
                </a:lnTo>
                <a:lnTo>
                  <a:pt x="367" y="91"/>
                </a:lnTo>
                <a:lnTo>
                  <a:pt x="384" y="94"/>
                </a:lnTo>
                <a:lnTo>
                  <a:pt x="401" y="96"/>
                </a:lnTo>
                <a:lnTo>
                  <a:pt x="419" y="98"/>
                </a:lnTo>
                <a:lnTo>
                  <a:pt x="424" y="98"/>
                </a:lnTo>
                <a:lnTo>
                  <a:pt x="442" y="99"/>
                </a:lnTo>
                <a:lnTo>
                  <a:pt x="460" y="100"/>
                </a:lnTo>
                <a:lnTo>
                  <a:pt x="477" y="101"/>
                </a:lnTo>
                <a:lnTo>
                  <a:pt x="494" y="102"/>
                </a:lnTo>
                <a:lnTo>
                  <a:pt x="511" y="102"/>
                </a:lnTo>
                <a:lnTo>
                  <a:pt x="527" y="101"/>
                </a:lnTo>
                <a:lnTo>
                  <a:pt x="543" y="100"/>
                </a:lnTo>
                <a:lnTo>
                  <a:pt x="557" y="99"/>
                </a:lnTo>
                <a:lnTo>
                  <a:pt x="575" y="97"/>
                </a:lnTo>
                <a:lnTo>
                  <a:pt x="561" y="100"/>
                </a:lnTo>
                <a:lnTo>
                  <a:pt x="545" y="103"/>
                </a:lnTo>
                <a:lnTo>
                  <a:pt x="528" y="106"/>
                </a:lnTo>
                <a:lnTo>
                  <a:pt x="509" y="108"/>
                </a:lnTo>
                <a:lnTo>
                  <a:pt x="489" y="110"/>
                </a:lnTo>
                <a:lnTo>
                  <a:pt x="468" y="111"/>
                </a:lnTo>
                <a:lnTo>
                  <a:pt x="445" y="112"/>
                </a:lnTo>
                <a:lnTo>
                  <a:pt x="423" y="112"/>
                </a:lnTo>
                <a:lnTo>
                  <a:pt x="399" y="111"/>
                </a:lnTo>
                <a:lnTo>
                  <a:pt x="374" y="110"/>
                </a:lnTo>
                <a:lnTo>
                  <a:pt x="350" y="109"/>
                </a:lnTo>
                <a:lnTo>
                  <a:pt x="325" y="107"/>
                </a:lnTo>
                <a:lnTo>
                  <a:pt x="330" y="107"/>
                </a:lnTo>
                <a:lnTo>
                  <a:pt x="305" y="105"/>
                </a:lnTo>
                <a:lnTo>
                  <a:pt x="280" y="102"/>
                </a:lnTo>
                <a:lnTo>
                  <a:pt x="255" y="98"/>
                </a:lnTo>
                <a:lnTo>
                  <a:pt x="232" y="94"/>
                </a:lnTo>
                <a:lnTo>
                  <a:pt x="209" y="90"/>
                </a:lnTo>
                <a:lnTo>
                  <a:pt x="187" y="85"/>
                </a:lnTo>
                <a:lnTo>
                  <a:pt x="166" y="80"/>
                </a:lnTo>
                <a:lnTo>
                  <a:pt x="147" y="75"/>
                </a:lnTo>
                <a:lnTo>
                  <a:pt x="129" y="70"/>
                </a:lnTo>
                <a:lnTo>
                  <a:pt x="112" y="64"/>
                </a:lnTo>
                <a:lnTo>
                  <a:pt x="98" y="58"/>
                </a:lnTo>
                <a:lnTo>
                  <a:pt x="85" y="52"/>
                </a:lnTo>
                <a:lnTo>
                  <a:pt x="74" y="46"/>
                </a:lnTo>
                <a:lnTo>
                  <a:pt x="65" y="40"/>
                </a:lnTo>
                <a:lnTo>
                  <a:pt x="58" y="34"/>
                </a:lnTo>
                <a:lnTo>
                  <a:pt x="53" y="28"/>
                </a:lnTo>
                <a:lnTo>
                  <a:pt x="51" y="24"/>
                </a:lnTo>
                <a:lnTo>
                  <a:pt x="51" y="20"/>
                </a:lnTo>
                <a:lnTo>
                  <a:pt x="51" y="16"/>
                </a:lnTo>
                <a:lnTo>
                  <a:pt x="0" y="12"/>
                </a:lnTo>
                <a:lnTo>
                  <a:pt x="142" y="0"/>
                </a:lnTo>
                <a:lnTo>
                  <a:pt x="278" y="37"/>
                </a:lnTo>
                <a:lnTo>
                  <a:pt x="227" y="32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75120" y="2894040"/>
            <a:ext cx="711360" cy="460440"/>
          </a:xfrm>
          <a:custGeom>
            <a:avLst/>
            <a:gdLst/>
            <a:ahLst/>
            <a:rect l="l" t="t" r="r" b="b"/>
            <a:pathLst>
              <a:path w="505" h="290">
                <a:moveTo>
                  <a:pt x="203" y="101"/>
                </a:moveTo>
                <a:lnTo>
                  <a:pt x="201" y="105"/>
                </a:lnTo>
                <a:lnTo>
                  <a:pt x="201" y="110"/>
                </a:lnTo>
                <a:lnTo>
                  <a:pt x="202" y="115"/>
                </a:lnTo>
                <a:lnTo>
                  <a:pt x="205" y="121"/>
                </a:lnTo>
                <a:lnTo>
                  <a:pt x="210" y="127"/>
                </a:lnTo>
                <a:lnTo>
                  <a:pt x="215" y="134"/>
                </a:lnTo>
                <a:lnTo>
                  <a:pt x="222" y="141"/>
                </a:lnTo>
                <a:lnTo>
                  <a:pt x="230" y="149"/>
                </a:lnTo>
                <a:lnTo>
                  <a:pt x="238" y="157"/>
                </a:lnTo>
                <a:lnTo>
                  <a:pt x="249" y="165"/>
                </a:lnTo>
                <a:lnTo>
                  <a:pt x="260" y="173"/>
                </a:lnTo>
                <a:lnTo>
                  <a:pt x="272" y="182"/>
                </a:lnTo>
                <a:lnTo>
                  <a:pt x="285" y="191"/>
                </a:lnTo>
                <a:lnTo>
                  <a:pt x="299" y="199"/>
                </a:lnTo>
                <a:lnTo>
                  <a:pt x="313" y="208"/>
                </a:lnTo>
                <a:lnTo>
                  <a:pt x="328" y="216"/>
                </a:lnTo>
                <a:lnTo>
                  <a:pt x="343" y="225"/>
                </a:lnTo>
                <a:lnTo>
                  <a:pt x="358" y="232"/>
                </a:lnTo>
                <a:lnTo>
                  <a:pt x="363" y="235"/>
                </a:lnTo>
                <a:lnTo>
                  <a:pt x="379" y="243"/>
                </a:lnTo>
                <a:lnTo>
                  <a:pt x="396" y="250"/>
                </a:lnTo>
                <a:lnTo>
                  <a:pt x="412" y="257"/>
                </a:lnTo>
                <a:lnTo>
                  <a:pt x="427" y="264"/>
                </a:lnTo>
                <a:lnTo>
                  <a:pt x="443" y="270"/>
                </a:lnTo>
                <a:lnTo>
                  <a:pt x="458" y="275"/>
                </a:lnTo>
                <a:lnTo>
                  <a:pt x="473" y="280"/>
                </a:lnTo>
                <a:lnTo>
                  <a:pt x="487" y="284"/>
                </a:lnTo>
                <a:lnTo>
                  <a:pt x="504" y="289"/>
                </a:lnTo>
                <a:lnTo>
                  <a:pt x="489" y="287"/>
                </a:lnTo>
                <a:lnTo>
                  <a:pt x="474" y="284"/>
                </a:lnTo>
                <a:lnTo>
                  <a:pt x="457" y="281"/>
                </a:lnTo>
                <a:lnTo>
                  <a:pt x="439" y="275"/>
                </a:lnTo>
                <a:lnTo>
                  <a:pt x="419" y="270"/>
                </a:lnTo>
                <a:lnTo>
                  <a:pt x="399" y="263"/>
                </a:lnTo>
                <a:lnTo>
                  <a:pt x="378" y="255"/>
                </a:lnTo>
                <a:lnTo>
                  <a:pt x="356" y="247"/>
                </a:lnTo>
                <a:lnTo>
                  <a:pt x="335" y="238"/>
                </a:lnTo>
                <a:lnTo>
                  <a:pt x="312" y="229"/>
                </a:lnTo>
                <a:lnTo>
                  <a:pt x="290" y="218"/>
                </a:lnTo>
                <a:lnTo>
                  <a:pt x="268" y="207"/>
                </a:lnTo>
                <a:lnTo>
                  <a:pt x="272" y="209"/>
                </a:lnTo>
                <a:lnTo>
                  <a:pt x="250" y="197"/>
                </a:lnTo>
                <a:lnTo>
                  <a:pt x="228" y="186"/>
                </a:lnTo>
                <a:lnTo>
                  <a:pt x="206" y="174"/>
                </a:lnTo>
                <a:lnTo>
                  <a:pt x="186" y="161"/>
                </a:lnTo>
                <a:lnTo>
                  <a:pt x="166" y="149"/>
                </a:lnTo>
                <a:lnTo>
                  <a:pt x="147" y="137"/>
                </a:lnTo>
                <a:lnTo>
                  <a:pt x="130" y="124"/>
                </a:lnTo>
                <a:lnTo>
                  <a:pt x="113" y="112"/>
                </a:lnTo>
                <a:lnTo>
                  <a:pt x="99" y="101"/>
                </a:lnTo>
                <a:lnTo>
                  <a:pt x="86" y="89"/>
                </a:lnTo>
                <a:lnTo>
                  <a:pt x="74" y="79"/>
                </a:lnTo>
                <a:lnTo>
                  <a:pt x="64" y="68"/>
                </a:lnTo>
                <a:lnTo>
                  <a:pt x="56" y="59"/>
                </a:lnTo>
                <a:lnTo>
                  <a:pt x="50" y="49"/>
                </a:lnTo>
                <a:lnTo>
                  <a:pt x="46" y="41"/>
                </a:lnTo>
                <a:lnTo>
                  <a:pt x="44" y="34"/>
                </a:lnTo>
                <a:lnTo>
                  <a:pt x="44" y="30"/>
                </a:lnTo>
                <a:lnTo>
                  <a:pt x="44" y="26"/>
                </a:lnTo>
                <a:lnTo>
                  <a:pt x="46" y="23"/>
                </a:lnTo>
                <a:lnTo>
                  <a:pt x="0" y="0"/>
                </a:lnTo>
                <a:lnTo>
                  <a:pt x="136" y="41"/>
                </a:lnTo>
                <a:lnTo>
                  <a:pt x="249" y="125"/>
                </a:lnTo>
                <a:lnTo>
                  <a:pt x="203" y="101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624640" y="3301920"/>
            <a:ext cx="59688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11960" y="3015360"/>
            <a:ext cx="598320" cy="20988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43320" y="1895400"/>
            <a:ext cx="801720" cy="623880"/>
          </a:xfrm>
          <a:custGeom>
            <a:avLst/>
            <a:gdLst/>
            <a:ahLst/>
            <a:rect l="l" t="t" r="r" b="b"/>
            <a:pathLst>
              <a:path w="569" h="393">
                <a:moveTo>
                  <a:pt x="332" y="259"/>
                </a:moveTo>
                <a:lnTo>
                  <a:pt x="336" y="252"/>
                </a:lnTo>
                <a:lnTo>
                  <a:pt x="340" y="244"/>
                </a:lnTo>
                <a:lnTo>
                  <a:pt x="340" y="235"/>
                </a:lnTo>
                <a:lnTo>
                  <a:pt x="338" y="226"/>
                </a:lnTo>
                <a:lnTo>
                  <a:pt x="336" y="216"/>
                </a:lnTo>
                <a:lnTo>
                  <a:pt x="331" y="206"/>
                </a:lnTo>
                <a:lnTo>
                  <a:pt x="325" y="194"/>
                </a:lnTo>
                <a:lnTo>
                  <a:pt x="318" y="183"/>
                </a:lnTo>
                <a:lnTo>
                  <a:pt x="309" y="172"/>
                </a:lnTo>
                <a:lnTo>
                  <a:pt x="299" y="160"/>
                </a:lnTo>
                <a:lnTo>
                  <a:pt x="287" y="148"/>
                </a:lnTo>
                <a:lnTo>
                  <a:pt x="274" y="135"/>
                </a:lnTo>
                <a:lnTo>
                  <a:pt x="260" y="123"/>
                </a:lnTo>
                <a:lnTo>
                  <a:pt x="245" y="111"/>
                </a:lnTo>
                <a:lnTo>
                  <a:pt x="229" y="100"/>
                </a:lnTo>
                <a:lnTo>
                  <a:pt x="212" y="88"/>
                </a:lnTo>
                <a:lnTo>
                  <a:pt x="195" y="77"/>
                </a:lnTo>
                <a:lnTo>
                  <a:pt x="177" y="67"/>
                </a:lnTo>
                <a:lnTo>
                  <a:pt x="172" y="64"/>
                </a:lnTo>
                <a:lnTo>
                  <a:pt x="153" y="54"/>
                </a:lnTo>
                <a:lnTo>
                  <a:pt x="134" y="44"/>
                </a:lnTo>
                <a:lnTo>
                  <a:pt x="114" y="35"/>
                </a:lnTo>
                <a:lnTo>
                  <a:pt x="95" y="27"/>
                </a:lnTo>
                <a:lnTo>
                  <a:pt x="76" y="20"/>
                </a:lnTo>
                <a:lnTo>
                  <a:pt x="58" y="14"/>
                </a:lnTo>
                <a:lnTo>
                  <a:pt x="40" y="8"/>
                </a:lnTo>
                <a:lnTo>
                  <a:pt x="22" y="4"/>
                </a:lnTo>
                <a:lnTo>
                  <a:pt x="0" y="0"/>
                </a:lnTo>
                <a:lnTo>
                  <a:pt x="20" y="0"/>
                </a:lnTo>
                <a:lnTo>
                  <a:pt x="40" y="2"/>
                </a:lnTo>
                <a:lnTo>
                  <a:pt x="62" y="5"/>
                </a:lnTo>
                <a:lnTo>
                  <a:pt x="85" y="9"/>
                </a:lnTo>
                <a:lnTo>
                  <a:pt x="110" y="15"/>
                </a:lnTo>
                <a:lnTo>
                  <a:pt x="135" y="23"/>
                </a:lnTo>
                <a:lnTo>
                  <a:pt x="160" y="31"/>
                </a:lnTo>
                <a:lnTo>
                  <a:pt x="187" y="41"/>
                </a:lnTo>
                <a:lnTo>
                  <a:pt x="213" y="52"/>
                </a:lnTo>
                <a:lnTo>
                  <a:pt x="240" y="64"/>
                </a:lnTo>
                <a:lnTo>
                  <a:pt x="266" y="78"/>
                </a:lnTo>
                <a:lnTo>
                  <a:pt x="292" y="92"/>
                </a:lnTo>
                <a:lnTo>
                  <a:pt x="288" y="89"/>
                </a:lnTo>
                <a:lnTo>
                  <a:pt x="313" y="104"/>
                </a:lnTo>
                <a:lnTo>
                  <a:pt x="339" y="120"/>
                </a:lnTo>
                <a:lnTo>
                  <a:pt x="363" y="136"/>
                </a:lnTo>
                <a:lnTo>
                  <a:pt x="386" y="153"/>
                </a:lnTo>
                <a:lnTo>
                  <a:pt x="408" y="170"/>
                </a:lnTo>
                <a:lnTo>
                  <a:pt x="428" y="188"/>
                </a:lnTo>
                <a:lnTo>
                  <a:pt x="447" y="205"/>
                </a:lnTo>
                <a:lnTo>
                  <a:pt x="464" y="222"/>
                </a:lnTo>
                <a:lnTo>
                  <a:pt x="478" y="239"/>
                </a:lnTo>
                <a:lnTo>
                  <a:pt x="492" y="256"/>
                </a:lnTo>
                <a:lnTo>
                  <a:pt x="502" y="272"/>
                </a:lnTo>
                <a:lnTo>
                  <a:pt x="511" y="288"/>
                </a:lnTo>
                <a:lnTo>
                  <a:pt x="518" y="302"/>
                </a:lnTo>
                <a:lnTo>
                  <a:pt x="522" y="317"/>
                </a:lnTo>
                <a:lnTo>
                  <a:pt x="524" y="330"/>
                </a:lnTo>
                <a:lnTo>
                  <a:pt x="523" y="342"/>
                </a:lnTo>
                <a:lnTo>
                  <a:pt x="522" y="349"/>
                </a:lnTo>
                <a:lnTo>
                  <a:pt x="519" y="355"/>
                </a:lnTo>
                <a:lnTo>
                  <a:pt x="514" y="362"/>
                </a:lnTo>
                <a:lnTo>
                  <a:pt x="568" y="392"/>
                </a:lnTo>
                <a:lnTo>
                  <a:pt x="397" y="348"/>
                </a:lnTo>
                <a:lnTo>
                  <a:pt x="278" y="228"/>
                </a:lnTo>
                <a:lnTo>
                  <a:pt x="332" y="259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105520" y="3886200"/>
            <a:ext cx="596880" cy="21096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dherenc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801720" y="2159640"/>
            <a:ext cx="8080200" cy="145800"/>
          </a:xfrm>
          <a:prstGeom prst="rect">
            <a:avLst/>
          </a:prstGeom>
          <a:solidFill>
            <a:srgbClr val="d42a5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893960" y="2310480"/>
            <a:ext cx="914400" cy="378720"/>
            <a:chOff x="1893960" y="2310480"/>
            <a:chExt cx="914400" cy="378720"/>
          </a:xfrm>
        </p:grpSpPr>
        <p:sp>
          <p:nvSpPr>
            <p:cNvPr id="554" name=""/>
            <p:cNvSpPr/>
            <p:nvPr/>
          </p:nvSpPr>
          <p:spPr>
            <a:xfrm flipV="1">
              <a:off x="1893960" y="2317680"/>
              <a:ext cx="914400" cy="35568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17800" y="2310480"/>
              <a:ext cx="7552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2147760" y="2673360"/>
            <a:ext cx="387360" cy="160200"/>
          </a:xfrm>
          <a:custGeom>
            <a:avLst/>
            <a:gdLst/>
            <a:ahLst/>
            <a:rect l="l" t="t" r="r" b="b"/>
            <a:pathLst>
              <a:path w="275" h="101">
                <a:moveTo>
                  <a:pt x="0" y="0"/>
                </a:moveTo>
                <a:lnTo>
                  <a:pt x="137" y="100"/>
                </a:lnTo>
                <a:lnTo>
                  <a:pt x="274" y="0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0800" y="2683440"/>
            <a:ext cx="3173400" cy="1152360"/>
          </a:xfrm>
          <a:prstGeom prst="ellipse">
            <a:avLst/>
          </a:prstGeom>
          <a:solidFill>
            <a:srgbClr val="f8caf4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360440" y="4835880"/>
            <a:ext cx="914400" cy="523440"/>
            <a:chOff x="1360440" y="4835880"/>
            <a:chExt cx="914400" cy="523440"/>
          </a:xfrm>
        </p:grpSpPr>
        <p:sp>
          <p:nvSpPr>
            <p:cNvPr id="559" name=""/>
            <p:cNvSpPr/>
            <p:nvPr/>
          </p:nvSpPr>
          <p:spPr>
            <a:xfrm flipV="1">
              <a:off x="1360440" y="4843440"/>
              <a:ext cx="914400" cy="3571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14240" y="5199120"/>
              <a:ext cx="389520" cy="160200"/>
            </a:xfrm>
            <a:custGeom>
              <a:avLst/>
              <a:gdLst/>
              <a:ahLst/>
              <a:rect l="l" t="t" r="r" b="b"/>
              <a:pathLst>
                <a:path w="276" h="101">
                  <a:moveTo>
                    <a:pt x="0" y="0"/>
                  </a:moveTo>
                  <a:lnTo>
                    <a:pt x="137" y="100"/>
                  </a:lnTo>
                  <a:lnTo>
                    <a:pt x="275" y="0"/>
                  </a:lnTo>
                  <a:lnTo>
                    <a:pt x="0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86080" y="4835880"/>
              <a:ext cx="7552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 flipV="1">
            <a:off x="1886040" y="2705040"/>
            <a:ext cx="914400" cy="3571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p I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666880"/>
            <a:ext cx="387360" cy="160560"/>
          </a:xfrm>
          <a:custGeom>
            <a:avLst/>
            <a:gdLst/>
            <a:ahLst/>
            <a:rect l="l" t="t" r="r" b="b"/>
            <a:pathLst>
              <a:path w="275" h="101">
                <a:moveTo>
                  <a:pt x="0" y="0"/>
                </a:moveTo>
                <a:lnTo>
                  <a:pt x="137" y="100"/>
                </a:lnTo>
                <a:lnTo>
                  <a:pt x="274" y="0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445080" y="3148560"/>
            <a:ext cx="914400" cy="523440"/>
            <a:chOff x="6445080" y="3148560"/>
            <a:chExt cx="914400" cy="523440"/>
          </a:xfrm>
        </p:grpSpPr>
        <p:sp>
          <p:nvSpPr>
            <p:cNvPr id="565" name=""/>
            <p:cNvSpPr/>
            <p:nvPr/>
          </p:nvSpPr>
          <p:spPr>
            <a:xfrm flipV="1">
              <a:off x="6445080" y="3155400"/>
              <a:ext cx="914400" cy="3553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98880" y="3511440"/>
              <a:ext cx="389520" cy="160560"/>
            </a:xfrm>
            <a:custGeom>
              <a:avLst/>
              <a:gdLst/>
              <a:ahLst/>
              <a:rect l="l" t="t" r="r" b="b"/>
              <a:pathLst>
                <a:path w="276" h="101">
                  <a:moveTo>
                    <a:pt x="0" y="0"/>
                  </a:moveTo>
                  <a:lnTo>
                    <a:pt x="137" y="100"/>
                  </a:lnTo>
                  <a:lnTo>
                    <a:pt x="275" y="0"/>
                  </a:lnTo>
                  <a:lnTo>
                    <a:pt x="0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68560" y="3148560"/>
              <a:ext cx="7552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V="1">
            <a:off x="3962520" y="4114080"/>
            <a:ext cx="3173400" cy="1152360"/>
          </a:xfrm>
          <a:prstGeom prst="ellipse">
            <a:avLst/>
          </a:prstGeom>
          <a:solidFill>
            <a:srgbClr val="f8caf4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4113720"/>
            <a:ext cx="880920" cy="3787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p I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3995640" y="5485320"/>
            <a:ext cx="914400" cy="523080"/>
            <a:chOff x="3995640" y="5485320"/>
            <a:chExt cx="914400" cy="523080"/>
          </a:xfrm>
        </p:grpSpPr>
        <p:sp>
          <p:nvSpPr>
            <p:cNvPr id="571" name=""/>
            <p:cNvSpPr/>
            <p:nvPr/>
          </p:nvSpPr>
          <p:spPr>
            <a:xfrm flipV="1">
              <a:off x="3995640" y="5493600"/>
              <a:ext cx="914400" cy="3553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9440" y="5849640"/>
              <a:ext cx="389520" cy="158760"/>
            </a:xfrm>
            <a:custGeom>
              <a:avLst/>
              <a:gdLst/>
              <a:ahLst/>
              <a:rect l="l" t="t" r="r" b="b"/>
              <a:pathLst>
                <a:path w="276" h="100">
                  <a:moveTo>
                    <a:pt x="0" y="0"/>
                  </a:moveTo>
                  <a:lnTo>
                    <a:pt x="137" y="99"/>
                  </a:lnTo>
                  <a:lnTo>
                    <a:pt x="275" y="0"/>
                  </a:lnTo>
                  <a:lnTo>
                    <a:pt x="0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19480" y="5485320"/>
              <a:ext cx="7552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43200" y="1751400"/>
            <a:ext cx="4797360" cy="960120"/>
            <a:chOff x="2743200" y="1751400"/>
            <a:chExt cx="4797360" cy="960120"/>
          </a:xfrm>
        </p:grpSpPr>
        <p:grpSp>
          <p:nvGrpSpPr>
            <p:cNvPr id="575" name=""/>
            <p:cNvGrpSpPr/>
            <p:nvPr/>
          </p:nvGrpSpPr>
          <p:grpSpPr>
            <a:xfrm>
              <a:off x="2743200" y="2062080"/>
              <a:ext cx="709560" cy="649440"/>
              <a:chOff x="2743200" y="2062080"/>
              <a:chExt cx="709560" cy="649440"/>
            </a:xfrm>
          </p:grpSpPr>
          <p:sp>
            <p:nvSpPr>
              <p:cNvPr id="576" name=""/>
              <p:cNvSpPr/>
              <p:nvPr/>
            </p:nvSpPr>
            <p:spPr>
              <a:xfrm flipV="1">
                <a:off x="2743200" y="2062080"/>
                <a:ext cx="709560" cy="649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822040" y="2153520"/>
                <a:ext cx="532800" cy="46188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68840" y="2162160"/>
                <a:ext cx="446760" cy="444600"/>
              </a:xfrm>
              <a:custGeom>
                <a:avLst/>
                <a:gdLst/>
                <a:ahLst/>
                <a:rect l="l" t="t" r="r" b="b"/>
                <a:pathLst>
                  <a:path w="317" h="280">
                    <a:moveTo>
                      <a:pt x="276" y="279"/>
                    </a:moveTo>
                    <a:lnTo>
                      <a:pt x="0" y="34"/>
                    </a:lnTo>
                    <a:lnTo>
                      <a:pt x="39" y="0"/>
                    </a:lnTo>
                    <a:lnTo>
                      <a:pt x="316" y="244"/>
                    </a:lnTo>
                    <a:lnTo>
                      <a:pt x="276" y="279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3511800" y="1751400"/>
              <a:ext cx="40287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von Willebrand Diseas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900760" y="3656520"/>
            <a:ext cx="3241440" cy="1219320"/>
            <a:chOff x="5900760" y="3656520"/>
            <a:chExt cx="3241440" cy="1219320"/>
          </a:xfrm>
        </p:grpSpPr>
        <p:grpSp>
          <p:nvGrpSpPr>
            <p:cNvPr id="581" name=""/>
            <p:cNvGrpSpPr/>
            <p:nvPr/>
          </p:nvGrpSpPr>
          <p:grpSpPr>
            <a:xfrm>
              <a:off x="5900760" y="4097520"/>
              <a:ext cx="641880" cy="778320"/>
              <a:chOff x="5900760" y="4097520"/>
              <a:chExt cx="641880" cy="778320"/>
            </a:xfrm>
          </p:grpSpPr>
          <p:sp>
            <p:nvSpPr>
              <p:cNvPr id="582" name=""/>
              <p:cNvSpPr/>
              <p:nvPr/>
            </p:nvSpPr>
            <p:spPr>
              <a:xfrm flipV="1">
                <a:off x="5900760" y="4097520"/>
                <a:ext cx="641880" cy="778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972040" y="4205160"/>
                <a:ext cx="483480" cy="55620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14160" y="4215240"/>
                <a:ext cx="404280" cy="533160"/>
              </a:xfrm>
              <a:custGeom>
                <a:avLst/>
                <a:gdLst/>
                <a:ahLst/>
                <a:rect l="l" t="t" r="r" b="b"/>
                <a:pathLst>
                  <a:path w="317" h="280">
                    <a:moveTo>
                      <a:pt x="277" y="279"/>
                    </a:moveTo>
                    <a:lnTo>
                      <a:pt x="0" y="34"/>
                    </a:lnTo>
                    <a:lnTo>
                      <a:pt x="39" y="0"/>
                    </a:lnTo>
                    <a:lnTo>
                      <a:pt x="316" y="245"/>
                    </a:lnTo>
                    <a:lnTo>
                      <a:pt x="277" y="279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274800" y="3656520"/>
              <a:ext cx="28674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Bernard-Soulier </a:t>
              </a:r>
              <a:br>
                <a:rPr sz="2700"/>
              </a:b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Syndrom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838080" y="4114800"/>
            <a:ext cx="950760" cy="939960"/>
            <a:chOff x="838080" y="4114800"/>
            <a:chExt cx="950760" cy="939960"/>
          </a:xfrm>
        </p:grpSpPr>
        <p:grpSp>
          <p:nvGrpSpPr>
            <p:cNvPr id="587" name=""/>
            <p:cNvGrpSpPr/>
            <p:nvPr/>
          </p:nvGrpSpPr>
          <p:grpSpPr>
            <a:xfrm>
              <a:off x="838080" y="4405320"/>
              <a:ext cx="709920" cy="649440"/>
              <a:chOff x="838080" y="4405320"/>
              <a:chExt cx="709920" cy="64944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838080" y="4405320"/>
                <a:ext cx="709920" cy="649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916920" y="4496760"/>
                <a:ext cx="533160" cy="46188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963720" y="4505400"/>
                <a:ext cx="447120" cy="444600"/>
              </a:xfrm>
              <a:custGeom>
                <a:avLst/>
                <a:gdLst/>
                <a:ahLst/>
                <a:rect l="l" t="t" r="r" b="b"/>
                <a:pathLst>
                  <a:path w="317" h="280">
                    <a:moveTo>
                      <a:pt x="276" y="279"/>
                    </a:moveTo>
                    <a:lnTo>
                      <a:pt x="0" y="34"/>
                    </a:lnTo>
                    <a:lnTo>
                      <a:pt x="39" y="0"/>
                    </a:lnTo>
                    <a:lnTo>
                      <a:pt x="316" y="244"/>
                    </a:lnTo>
                    <a:lnTo>
                      <a:pt x="276" y="279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604160" y="4114800"/>
              <a:ext cx="1846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Release Func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23920" y="2494440"/>
            <a:ext cx="4498920" cy="297828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400" y="2969280"/>
            <a:ext cx="25225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5555"/>
                </a:solidFill>
                <a:latin typeface="Arial"/>
              </a:rPr>
              <a:t>DenseGranul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6040" y="3732840"/>
            <a:ext cx="24836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5555"/>
                </a:solidFill>
                <a:latin typeface="Arial"/>
              </a:rPr>
              <a:t>Alpha-granul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47360" y="4655880"/>
            <a:ext cx="2349720" cy="671400"/>
            <a:chOff x="747360" y="4655880"/>
            <a:chExt cx="2349720" cy="671400"/>
          </a:xfrm>
        </p:grpSpPr>
        <p:sp>
          <p:nvSpPr>
            <p:cNvPr id="597" name=""/>
            <p:cNvSpPr/>
            <p:nvPr/>
          </p:nvSpPr>
          <p:spPr>
            <a:xfrm flipV="1">
              <a:off x="2444760" y="4655520"/>
              <a:ext cx="652320" cy="671400"/>
            </a:xfrm>
            <a:prstGeom prst="ellipse">
              <a:avLst/>
            </a:prstGeom>
            <a:solidFill>
              <a:srgbClr val="fda92e"/>
            </a:solidFill>
            <a:ln w="0">
              <a:solidFill>
                <a:srgbClr val="fda9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360" y="4799520"/>
              <a:ext cx="1873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555555"/>
                  </a:solidFill>
                  <a:latin typeface="Arial"/>
                </a:rPr>
                <a:t>Lysosom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 flipV="1">
            <a:off x="3097080" y="3460680"/>
            <a:ext cx="1119240" cy="109080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514600" y="2742480"/>
            <a:ext cx="709560" cy="669960"/>
          </a:xfrm>
          <a:prstGeom prst="ellipse">
            <a:avLst/>
          </a:prstGeom>
          <a:solidFill>
            <a:srgbClr val="80ff00"/>
          </a:solidFill>
          <a:ln w="0">
            <a:solidFill>
              <a:srgbClr val="80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911320" y="2327400"/>
            <a:ext cx="596880" cy="482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52760" y="1902240"/>
            <a:ext cx="9032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994200" y="2850840"/>
            <a:ext cx="504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93520" y="2383200"/>
            <a:ext cx="32241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ß-thromboglobuli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216320" y="3187440"/>
            <a:ext cx="709560" cy="523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41280" y="2867400"/>
            <a:ext cx="27363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latelet factor 4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290840" y="3900600"/>
            <a:ext cx="692280" cy="147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76920" y="3636000"/>
            <a:ext cx="41263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latelet-derived Growth 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16320" y="4403880"/>
            <a:ext cx="600120" cy="461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77200" y="4690080"/>
            <a:ext cx="19501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ibrinoge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73680" y="4613400"/>
            <a:ext cx="448920" cy="734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85880" y="5279040"/>
            <a:ext cx="15523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actor V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-3600" y="2027520"/>
            <a:ext cx="2898000" cy="1019880"/>
            <a:chOff x="-3600" y="2027520"/>
            <a:chExt cx="2898000" cy="1019880"/>
          </a:xfrm>
        </p:grpSpPr>
        <p:grpSp>
          <p:nvGrpSpPr>
            <p:cNvPr id="614" name=""/>
            <p:cNvGrpSpPr/>
            <p:nvPr/>
          </p:nvGrpSpPr>
          <p:grpSpPr>
            <a:xfrm>
              <a:off x="2036880" y="2291400"/>
              <a:ext cx="579960" cy="756000"/>
              <a:chOff x="2036880" y="2291400"/>
              <a:chExt cx="579960" cy="756000"/>
            </a:xfrm>
          </p:grpSpPr>
          <p:sp>
            <p:nvSpPr>
              <p:cNvPr id="615" name=""/>
              <p:cNvSpPr/>
              <p:nvPr/>
            </p:nvSpPr>
            <p:spPr>
              <a:xfrm flipV="1">
                <a:off x="2036880" y="2291400"/>
                <a:ext cx="579960" cy="75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2101680" y="2395800"/>
                <a:ext cx="435960" cy="54108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39840" y="2406240"/>
                <a:ext cx="363960" cy="51948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225" y="216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257" y="189"/>
                    </a:lnTo>
                    <a:lnTo>
                      <a:pt x="225" y="216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-3600" y="2027520"/>
              <a:ext cx="28980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Hermansky-Pudlak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syndrome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929040" y="1769760"/>
            <a:ext cx="5039640" cy="792360"/>
            <a:chOff x="3929040" y="1769760"/>
            <a:chExt cx="5039640" cy="792360"/>
          </a:xfrm>
        </p:grpSpPr>
        <p:grpSp>
          <p:nvGrpSpPr>
            <p:cNvPr id="620" name=""/>
            <p:cNvGrpSpPr/>
            <p:nvPr/>
          </p:nvGrpSpPr>
          <p:grpSpPr>
            <a:xfrm>
              <a:off x="3929040" y="2057400"/>
              <a:ext cx="578520" cy="504720"/>
              <a:chOff x="3929040" y="2057400"/>
              <a:chExt cx="578520" cy="504720"/>
            </a:xfrm>
          </p:grpSpPr>
          <p:sp>
            <p:nvSpPr>
              <p:cNvPr id="621" name=""/>
              <p:cNvSpPr/>
              <p:nvPr/>
            </p:nvSpPr>
            <p:spPr>
              <a:xfrm flipV="1">
                <a:off x="3929040" y="2057400"/>
                <a:ext cx="578520" cy="504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992400" y="2130480"/>
                <a:ext cx="435960" cy="35712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30200" y="2135160"/>
                <a:ext cx="365760" cy="344520"/>
              </a:xfrm>
              <a:custGeom>
                <a:avLst/>
                <a:gdLst/>
                <a:ahLst/>
                <a:rect l="l" t="t" r="r" b="b"/>
                <a:pathLst>
                  <a:path w="259" h="217">
                    <a:moveTo>
                      <a:pt x="226" y="216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258" y="189"/>
                    </a:lnTo>
                    <a:lnTo>
                      <a:pt x="226" y="216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4363920" y="1769760"/>
              <a:ext cx="46047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Wiskott-Aldrich syndro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-73800" y="3981240"/>
            <a:ext cx="3429720" cy="574560"/>
            <a:chOff x="-73800" y="3981240"/>
            <a:chExt cx="3429720" cy="574560"/>
          </a:xfrm>
        </p:grpSpPr>
        <p:grpSp>
          <p:nvGrpSpPr>
            <p:cNvPr id="626" name=""/>
            <p:cNvGrpSpPr/>
            <p:nvPr/>
          </p:nvGrpSpPr>
          <p:grpSpPr>
            <a:xfrm>
              <a:off x="2777400" y="3981240"/>
              <a:ext cx="578520" cy="502920"/>
              <a:chOff x="2777400" y="3981240"/>
              <a:chExt cx="578520" cy="502920"/>
            </a:xfrm>
          </p:grpSpPr>
          <p:sp>
            <p:nvSpPr>
              <p:cNvPr id="627" name=""/>
              <p:cNvSpPr/>
              <p:nvPr/>
            </p:nvSpPr>
            <p:spPr>
              <a:xfrm flipV="1">
                <a:off x="2777400" y="3980880"/>
                <a:ext cx="578520" cy="502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2840760" y="4052880"/>
                <a:ext cx="435600" cy="35712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878920" y="4057560"/>
                <a:ext cx="365400" cy="346320"/>
              </a:xfrm>
              <a:custGeom>
                <a:avLst/>
                <a:gdLst/>
                <a:ahLst/>
                <a:rect l="l" t="t" r="r" b="b"/>
                <a:pathLst>
                  <a:path w="259" h="218">
                    <a:moveTo>
                      <a:pt x="226" y="217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258" y="190"/>
                    </a:lnTo>
                    <a:lnTo>
                      <a:pt x="226" y="217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-73800" y="4177080"/>
              <a:ext cx="328500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Gray platelet syndrom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-2520" y="5181480"/>
            <a:ext cx="3107160" cy="1024920"/>
            <a:chOff x="-2520" y="5181480"/>
            <a:chExt cx="3107160" cy="1024920"/>
          </a:xfrm>
        </p:grpSpPr>
        <p:sp>
          <p:nvSpPr>
            <p:cNvPr id="632" name=""/>
            <p:cNvSpPr/>
            <p:nvPr/>
          </p:nvSpPr>
          <p:spPr>
            <a:xfrm>
              <a:off x="2955600" y="5445000"/>
              <a:ext cx="149040" cy="439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2142720" y="5181480"/>
              <a:ext cx="578160" cy="503280"/>
              <a:chOff x="2142720" y="5181480"/>
              <a:chExt cx="578160" cy="503280"/>
            </a:xfrm>
          </p:grpSpPr>
          <p:sp>
            <p:nvSpPr>
              <p:cNvPr id="634" name=""/>
              <p:cNvSpPr/>
              <p:nvPr/>
            </p:nvSpPr>
            <p:spPr>
              <a:xfrm flipV="1">
                <a:off x="2142720" y="5181480"/>
                <a:ext cx="578160" cy="503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2204640" y="5252040"/>
                <a:ext cx="437040" cy="35748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43880" y="5257800"/>
                <a:ext cx="363600" cy="34452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225" y="216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257" y="189"/>
                    </a:lnTo>
                    <a:lnTo>
                      <a:pt x="225" y="216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-2520" y="5407560"/>
              <a:ext cx="250488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Chédiak-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Higashi anomaly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3202200" y="5943600"/>
            <a:ext cx="183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ydrolas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ggreg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03160" y="2159640"/>
            <a:ext cx="8078760" cy="145800"/>
          </a:xfrm>
          <a:prstGeom prst="rect">
            <a:avLst/>
          </a:prstGeom>
          <a:solidFill>
            <a:srgbClr val="33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841320" y="2662920"/>
            <a:ext cx="3171960" cy="115236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63600" y="4442760"/>
            <a:ext cx="3173400" cy="1291320"/>
            <a:chOff x="363600" y="4442760"/>
            <a:chExt cx="3173400" cy="1291320"/>
          </a:xfrm>
        </p:grpSpPr>
        <p:sp>
          <p:nvSpPr>
            <p:cNvPr id="643" name=""/>
            <p:cNvSpPr/>
            <p:nvPr/>
          </p:nvSpPr>
          <p:spPr>
            <a:xfrm flipV="1">
              <a:off x="363600" y="4581360"/>
              <a:ext cx="3173400" cy="11527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895760" y="4447080"/>
              <a:ext cx="692640" cy="469080"/>
              <a:chOff x="1895760" y="4447080"/>
              <a:chExt cx="692640" cy="469080"/>
            </a:xfrm>
          </p:grpSpPr>
          <p:sp>
            <p:nvSpPr>
              <p:cNvPr id="645" name=""/>
              <p:cNvSpPr/>
              <p:nvPr/>
            </p:nvSpPr>
            <p:spPr>
              <a:xfrm flipV="1">
                <a:off x="1922040" y="4466520"/>
                <a:ext cx="542160" cy="39852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895760" y="4447080"/>
                <a:ext cx="692640" cy="46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0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ffff80"/>
                    </a:solidFill>
                    <a:latin typeface="Arial"/>
                  </a:rPr>
                  <a:t>IIIa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189080" y="4442760"/>
              <a:ext cx="534240" cy="417600"/>
              <a:chOff x="1189080" y="4442760"/>
              <a:chExt cx="534240" cy="41760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1240560" y="4455360"/>
                <a:ext cx="372600" cy="39852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89080" y="4442760"/>
                <a:ext cx="53424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80"/>
                    </a:solidFill>
                    <a:latin typeface="Arial"/>
                  </a:rPr>
                  <a:t>IIb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0" name=""/>
          <p:cNvGrpSpPr/>
          <p:nvPr/>
        </p:nvGrpSpPr>
        <p:grpSpPr>
          <a:xfrm>
            <a:off x="3886200" y="4799520"/>
            <a:ext cx="3054240" cy="1497600"/>
            <a:chOff x="3886200" y="4799520"/>
            <a:chExt cx="3054240" cy="1497600"/>
          </a:xfrm>
        </p:grpSpPr>
        <p:sp>
          <p:nvSpPr>
            <p:cNvPr id="651" name=""/>
            <p:cNvSpPr/>
            <p:nvPr/>
          </p:nvSpPr>
          <p:spPr>
            <a:xfrm>
              <a:off x="3886200" y="4908240"/>
              <a:ext cx="3054240" cy="1388880"/>
            </a:xfrm>
            <a:custGeom>
              <a:avLst/>
              <a:gdLst/>
              <a:ahLst/>
              <a:rect l="l" t="t" r="r" b="b"/>
              <a:pathLst>
                <a:path w="2164" h="875">
                  <a:moveTo>
                    <a:pt x="98" y="239"/>
                  </a:moveTo>
                  <a:lnTo>
                    <a:pt x="117" y="222"/>
                  </a:lnTo>
                  <a:lnTo>
                    <a:pt x="127" y="215"/>
                  </a:lnTo>
                  <a:lnTo>
                    <a:pt x="138" y="209"/>
                  </a:lnTo>
                  <a:lnTo>
                    <a:pt x="149" y="204"/>
                  </a:lnTo>
                  <a:lnTo>
                    <a:pt x="160" y="200"/>
                  </a:lnTo>
                  <a:lnTo>
                    <a:pt x="172" y="196"/>
                  </a:lnTo>
                  <a:lnTo>
                    <a:pt x="184" y="194"/>
                  </a:lnTo>
                  <a:lnTo>
                    <a:pt x="196" y="192"/>
                  </a:lnTo>
                  <a:lnTo>
                    <a:pt x="208" y="190"/>
                  </a:lnTo>
                  <a:lnTo>
                    <a:pt x="220" y="189"/>
                  </a:lnTo>
                  <a:lnTo>
                    <a:pt x="233" y="188"/>
                  </a:lnTo>
                  <a:lnTo>
                    <a:pt x="246" y="188"/>
                  </a:lnTo>
                  <a:lnTo>
                    <a:pt x="258" y="187"/>
                  </a:lnTo>
                  <a:lnTo>
                    <a:pt x="271" y="187"/>
                  </a:lnTo>
                  <a:lnTo>
                    <a:pt x="284" y="187"/>
                  </a:lnTo>
                  <a:lnTo>
                    <a:pt x="296" y="187"/>
                  </a:lnTo>
                  <a:lnTo>
                    <a:pt x="309" y="187"/>
                  </a:lnTo>
                  <a:lnTo>
                    <a:pt x="322" y="187"/>
                  </a:lnTo>
                  <a:lnTo>
                    <a:pt x="334" y="186"/>
                  </a:lnTo>
                  <a:lnTo>
                    <a:pt x="346" y="185"/>
                  </a:lnTo>
                  <a:lnTo>
                    <a:pt x="359" y="184"/>
                  </a:lnTo>
                  <a:lnTo>
                    <a:pt x="371" y="182"/>
                  </a:lnTo>
                  <a:lnTo>
                    <a:pt x="383" y="180"/>
                  </a:lnTo>
                  <a:lnTo>
                    <a:pt x="394" y="177"/>
                  </a:lnTo>
                  <a:lnTo>
                    <a:pt x="406" y="174"/>
                  </a:lnTo>
                  <a:lnTo>
                    <a:pt x="417" y="169"/>
                  </a:lnTo>
                  <a:lnTo>
                    <a:pt x="428" y="164"/>
                  </a:lnTo>
                  <a:lnTo>
                    <a:pt x="438" y="158"/>
                  </a:lnTo>
                  <a:lnTo>
                    <a:pt x="448" y="151"/>
                  </a:lnTo>
                  <a:lnTo>
                    <a:pt x="458" y="143"/>
                  </a:lnTo>
                  <a:lnTo>
                    <a:pt x="468" y="134"/>
                  </a:lnTo>
                  <a:lnTo>
                    <a:pt x="478" y="121"/>
                  </a:lnTo>
                  <a:lnTo>
                    <a:pt x="483" y="115"/>
                  </a:lnTo>
                  <a:lnTo>
                    <a:pt x="488" y="109"/>
                  </a:lnTo>
                  <a:lnTo>
                    <a:pt x="492" y="103"/>
                  </a:lnTo>
                  <a:lnTo>
                    <a:pt x="496" y="97"/>
                  </a:lnTo>
                  <a:lnTo>
                    <a:pt x="501" y="91"/>
                  </a:lnTo>
                  <a:lnTo>
                    <a:pt x="505" y="85"/>
                  </a:lnTo>
                  <a:lnTo>
                    <a:pt x="509" y="79"/>
                  </a:lnTo>
                  <a:lnTo>
                    <a:pt x="512" y="74"/>
                  </a:lnTo>
                  <a:lnTo>
                    <a:pt x="516" y="68"/>
                  </a:lnTo>
                  <a:lnTo>
                    <a:pt x="520" y="62"/>
                  </a:lnTo>
                  <a:lnTo>
                    <a:pt x="524" y="57"/>
                  </a:lnTo>
                  <a:lnTo>
                    <a:pt x="528" y="52"/>
                  </a:lnTo>
                  <a:lnTo>
                    <a:pt x="532" y="47"/>
                  </a:lnTo>
                  <a:lnTo>
                    <a:pt x="536" y="42"/>
                  </a:lnTo>
                  <a:lnTo>
                    <a:pt x="540" y="37"/>
                  </a:lnTo>
                  <a:lnTo>
                    <a:pt x="544" y="33"/>
                  </a:lnTo>
                  <a:lnTo>
                    <a:pt x="549" y="29"/>
                  </a:lnTo>
                  <a:lnTo>
                    <a:pt x="554" y="25"/>
                  </a:lnTo>
                  <a:lnTo>
                    <a:pt x="559" y="21"/>
                  </a:lnTo>
                  <a:lnTo>
                    <a:pt x="564" y="18"/>
                  </a:lnTo>
                  <a:lnTo>
                    <a:pt x="570" y="14"/>
                  </a:lnTo>
                  <a:lnTo>
                    <a:pt x="576" y="12"/>
                  </a:lnTo>
                  <a:lnTo>
                    <a:pt x="582" y="9"/>
                  </a:lnTo>
                  <a:lnTo>
                    <a:pt x="589" y="7"/>
                  </a:lnTo>
                  <a:lnTo>
                    <a:pt x="596" y="5"/>
                  </a:lnTo>
                  <a:lnTo>
                    <a:pt x="604" y="4"/>
                  </a:lnTo>
                  <a:lnTo>
                    <a:pt x="612" y="2"/>
                  </a:lnTo>
                  <a:lnTo>
                    <a:pt x="621" y="2"/>
                  </a:lnTo>
                  <a:lnTo>
                    <a:pt x="630" y="1"/>
                  </a:lnTo>
                  <a:lnTo>
                    <a:pt x="640" y="2"/>
                  </a:lnTo>
                  <a:lnTo>
                    <a:pt x="672" y="4"/>
                  </a:lnTo>
                  <a:lnTo>
                    <a:pt x="687" y="5"/>
                  </a:lnTo>
                  <a:lnTo>
                    <a:pt x="702" y="7"/>
                  </a:lnTo>
                  <a:lnTo>
                    <a:pt x="718" y="10"/>
                  </a:lnTo>
                  <a:lnTo>
                    <a:pt x="732" y="13"/>
                  </a:lnTo>
                  <a:lnTo>
                    <a:pt x="747" y="16"/>
                  </a:lnTo>
                  <a:lnTo>
                    <a:pt x="762" y="20"/>
                  </a:lnTo>
                  <a:lnTo>
                    <a:pt x="777" y="24"/>
                  </a:lnTo>
                  <a:lnTo>
                    <a:pt x="791" y="28"/>
                  </a:lnTo>
                  <a:lnTo>
                    <a:pt x="806" y="32"/>
                  </a:lnTo>
                  <a:lnTo>
                    <a:pt x="820" y="36"/>
                  </a:lnTo>
                  <a:lnTo>
                    <a:pt x="834" y="40"/>
                  </a:lnTo>
                  <a:lnTo>
                    <a:pt x="849" y="45"/>
                  </a:lnTo>
                  <a:lnTo>
                    <a:pt x="863" y="49"/>
                  </a:lnTo>
                  <a:lnTo>
                    <a:pt x="878" y="54"/>
                  </a:lnTo>
                  <a:lnTo>
                    <a:pt x="892" y="58"/>
                  </a:lnTo>
                  <a:lnTo>
                    <a:pt x="907" y="63"/>
                  </a:lnTo>
                  <a:lnTo>
                    <a:pt x="921" y="67"/>
                  </a:lnTo>
                  <a:lnTo>
                    <a:pt x="936" y="71"/>
                  </a:lnTo>
                  <a:lnTo>
                    <a:pt x="951" y="75"/>
                  </a:lnTo>
                  <a:lnTo>
                    <a:pt x="966" y="78"/>
                  </a:lnTo>
                  <a:lnTo>
                    <a:pt x="981" y="82"/>
                  </a:lnTo>
                  <a:lnTo>
                    <a:pt x="996" y="85"/>
                  </a:lnTo>
                  <a:lnTo>
                    <a:pt x="1012" y="88"/>
                  </a:lnTo>
                  <a:lnTo>
                    <a:pt x="1028" y="90"/>
                  </a:lnTo>
                  <a:lnTo>
                    <a:pt x="1044" y="92"/>
                  </a:lnTo>
                  <a:lnTo>
                    <a:pt x="1060" y="93"/>
                  </a:lnTo>
                  <a:lnTo>
                    <a:pt x="1077" y="94"/>
                  </a:lnTo>
                  <a:lnTo>
                    <a:pt x="1094" y="95"/>
                  </a:lnTo>
                  <a:lnTo>
                    <a:pt x="1111" y="94"/>
                  </a:lnTo>
                  <a:lnTo>
                    <a:pt x="1129" y="94"/>
                  </a:lnTo>
                  <a:lnTo>
                    <a:pt x="1152" y="92"/>
                  </a:lnTo>
                  <a:lnTo>
                    <a:pt x="1164" y="90"/>
                  </a:lnTo>
                  <a:lnTo>
                    <a:pt x="1176" y="87"/>
                  </a:lnTo>
                  <a:lnTo>
                    <a:pt x="1188" y="84"/>
                  </a:lnTo>
                  <a:lnTo>
                    <a:pt x="1200" y="82"/>
                  </a:lnTo>
                  <a:lnTo>
                    <a:pt x="1212" y="78"/>
                  </a:lnTo>
                  <a:lnTo>
                    <a:pt x="1224" y="74"/>
                  </a:lnTo>
                  <a:lnTo>
                    <a:pt x="1236" y="71"/>
                  </a:lnTo>
                  <a:lnTo>
                    <a:pt x="1248" y="67"/>
                  </a:lnTo>
                  <a:lnTo>
                    <a:pt x="1261" y="62"/>
                  </a:lnTo>
                  <a:lnTo>
                    <a:pt x="1273" y="58"/>
                  </a:lnTo>
                  <a:lnTo>
                    <a:pt x="1285" y="54"/>
                  </a:lnTo>
                  <a:lnTo>
                    <a:pt x="1298" y="49"/>
                  </a:lnTo>
                  <a:lnTo>
                    <a:pt x="1310" y="45"/>
                  </a:lnTo>
                  <a:lnTo>
                    <a:pt x="1322" y="40"/>
                  </a:lnTo>
                  <a:lnTo>
                    <a:pt x="1335" y="36"/>
                  </a:lnTo>
                  <a:lnTo>
                    <a:pt x="1347" y="32"/>
                  </a:lnTo>
                  <a:lnTo>
                    <a:pt x="1360" y="27"/>
                  </a:lnTo>
                  <a:lnTo>
                    <a:pt x="1372" y="23"/>
                  </a:lnTo>
                  <a:lnTo>
                    <a:pt x="1384" y="20"/>
                  </a:lnTo>
                  <a:lnTo>
                    <a:pt x="1396" y="16"/>
                  </a:lnTo>
                  <a:lnTo>
                    <a:pt x="1408" y="12"/>
                  </a:lnTo>
                  <a:lnTo>
                    <a:pt x="1420" y="10"/>
                  </a:lnTo>
                  <a:lnTo>
                    <a:pt x="1432" y="7"/>
                  </a:lnTo>
                  <a:lnTo>
                    <a:pt x="1444" y="5"/>
                  </a:lnTo>
                  <a:lnTo>
                    <a:pt x="1456" y="3"/>
                  </a:lnTo>
                  <a:lnTo>
                    <a:pt x="1467" y="2"/>
                  </a:lnTo>
                  <a:lnTo>
                    <a:pt x="1479" y="1"/>
                  </a:lnTo>
                  <a:lnTo>
                    <a:pt x="1490" y="0"/>
                  </a:lnTo>
                  <a:lnTo>
                    <a:pt x="1501" y="0"/>
                  </a:lnTo>
                  <a:lnTo>
                    <a:pt x="1512" y="2"/>
                  </a:lnTo>
                  <a:lnTo>
                    <a:pt x="1536" y="6"/>
                  </a:lnTo>
                  <a:lnTo>
                    <a:pt x="1547" y="9"/>
                  </a:lnTo>
                  <a:lnTo>
                    <a:pt x="1556" y="13"/>
                  </a:lnTo>
                  <a:lnTo>
                    <a:pt x="1565" y="17"/>
                  </a:lnTo>
                  <a:lnTo>
                    <a:pt x="1573" y="22"/>
                  </a:lnTo>
                  <a:lnTo>
                    <a:pt x="1580" y="27"/>
                  </a:lnTo>
                  <a:lnTo>
                    <a:pt x="1587" y="33"/>
                  </a:lnTo>
                  <a:lnTo>
                    <a:pt x="1592" y="39"/>
                  </a:lnTo>
                  <a:lnTo>
                    <a:pt x="1598" y="45"/>
                  </a:lnTo>
                  <a:lnTo>
                    <a:pt x="1603" y="52"/>
                  </a:lnTo>
                  <a:lnTo>
                    <a:pt x="1608" y="58"/>
                  </a:lnTo>
                  <a:lnTo>
                    <a:pt x="1612" y="66"/>
                  </a:lnTo>
                  <a:lnTo>
                    <a:pt x="1616" y="72"/>
                  </a:lnTo>
                  <a:lnTo>
                    <a:pt x="1620" y="80"/>
                  </a:lnTo>
                  <a:lnTo>
                    <a:pt x="1624" y="87"/>
                  </a:lnTo>
                  <a:lnTo>
                    <a:pt x="1628" y="94"/>
                  </a:lnTo>
                  <a:lnTo>
                    <a:pt x="1632" y="101"/>
                  </a:lnTo>
                  <a:lnTo>
                    <a:pt x="1636" y="108"/>
                  </a:lnTo>
                  <a:lnTo>
                    <a:pt x="1640" y="114"/>
                  </a:lnTo>
                  <a:lnTo>
                    <a:pt x="1645" y="120"/>
                  </a:lnTo>
                  <a:lnTo>
                    <a:pt x="1650" y="127"/>
                  </a:lnTo>
                  <a:lnTo>
                    <a:pt x="1656" y="132"/>
                  </a:lnTo>
                  <a:lnTo>
                    <a:pt x="1662" y="138"/>
                  </a:lnTo>
                  <a:lnTo>
                    <a:pt x="1668" y="142"/>
                  </a:lnTo>
                  <a:lnTo>
                    <a:pt x="1676" y="147"/>
                  </a:lnTo>
                  <a:lnTo>
                    <a:pt x="1684" y="151"/>
                  </a:lnTo>
                  <a:lnTo>
                    <a:pt x="1692" y="154"/>
                  </a:lnTo>
                  <a:lnTo>
                    <a:pt x="1702" y="156"/>
                  </a:lnTo>
                  <a:lnTo>
                    <a:pt x="1713" y="158"/>
                  </a:lnTo>
                  <a:lnTo>
                    <a:pt x="1724" y="160"/>
                  </a:lnTo>
                  <a:lnTo>
                    <a:pt x="1738" y="160"/>
                  </a:lnTo>
                  <a:lnTo>
                    <a:pt x="1754" y="160"/>
                  </a:lnTo>
                  <a:lnTo>
                    <a:pt x="1762" y="160"/>
                  </a:lnTo>
                  <a:lnTo>
                    <a:pt x="1770" y="161"/>
                  </a:lnTo>
                  <a:lnTo>
                    <a:pt x="1778" y="162"/>
                  </a:lnTo>
                  <a:lnTo>
                    <a:pt x="1786" y="163"/>
                  </a:lnTo>
                  <a:lnTo>
                    <a:pt x="1793" y="164"/>
                  </a:lnTo>
                  <a:lnTo>
                    <a:pt x="1801" y="166"/>
                  </a:lnTo>
                  <a:lnTo>
                    <a:pt x="1808" y="167"/>
                  </a:lnTo>
                  <a:lnTo>
                    <a:pt x="1815" y="169"/>
                  </a:lnTo>
                  <a:lnTo>
                    <a:pt x="1822" y="171"/>
                  </a:lnTo>
                  <a:lnTo>
                    <a:pt x="1829" y="173"/>
                  </a:lnTo>
                  <a:lnTo>
                    <a:pt x="1836" y="176"/>
                  </a:lnTo>
                  <a:lnTo>
                    <a:pt x="1843" y="178"/>
                  </a:lnTo>
                  <a:lnTo>
                    <a:pt x="1850" y="181"/>
                  </a:lnTo>
                  <a:lnTo>
                    <a:pt x="1856" y="184"/>
                  </a:lnTo>
                  <a:lnTo>
                    <a:pt x="1863" y="188"/>
                  </a:lnTo>
                  <a:lnTo>
                    <a:pt x="1869" y="191"/>
                  </a:lnTo>
                  <a:lnTo>
                    <a:pt x="1875" y="195"/>
                  </a:lnTo>
                  <a:lnTo>
                    <a:pt x="1882" y="199"/>
                  </a:lnTo>
                  <a:lnTo>
                    <a:pt x="1888" y="203"/>
                  </a:lnTo>
                  <a:lnTo>
                    <a:pt x="1894" y="208"/>
                  </a:lnTo>
                  <a:lnTo>
                    <a:pt x="1900" y="212"/>
                  </a:lnTo>
                  <a:lnTo>
                    <a:pt x="1905" y="217"/>
                  </a:lnTo>
                  <a:lnTo>
                    <a:pt x="1911" y="222"/>
                  </a:lnTo>
                  <a:lnTo>
                    <a:pt x="1917" y="228"/>
                  </a:lnTo>
                  <a:lnTo>
                    <a:pt x="1922" y="234"/>
                  </a:lnTo>
                  <a:lnTo>
                    <a:pt x="1928" y="240"/>
                  </a:lnTo>
                  <a:lnTo>
                    <a:pt x="1933" y="246"/>
                  </a:lnTo>
                  <a:lnTo>
                    <a:pt x="1938" y="252"/>
                  </a:lnTo>
                  <a:lnTo>
                    <a:pt x="1944" y="259"/>
                  </a:lnTo>
                  <a:lnTo>
                    <a:pt x="1949" y="266"/>
                  </a:lnTo>
                  <a:lnTo>
                    <a:pt x="1962" y="286"/>
                  </a:lnTo>
                  <a:lnTo>
                    <a:pt x="1968" y="296"/>
                  </a:lnTo>
                  <a:lnTo>
                    <a:pt x="1972" y="306"/>
                  </a:lnTo>
                  <a:lnTo>
                    <a:pt x="1977" y="316"/>
                  </a:lnTo>
                  <a:lnTo>
                    <a:pt x="1981" y="327"/>
                  </a:lnTo>
                  <a:lnTo>
                    <a:pt x="1984" y="337"/>
                  </a:lnTo>
                  <a:lnTo>
                    <a:pt x="1987" y="347"/>
                  </a:lnTo>
                  <a:lnTo>
                    <a:pt x="1989" y="357"/>
                  </a:lnTo>
                  <a:lnTo>
                    <a:pt x="1992" y="367"/>
                  </a:lnTo>
                  <a:lnTo>
                    <a:pt x="1994" y="377"/>
                  </a:lnTo>
                  <a:lnTo>
                    <a:pt x="1996" y="387"/>
                  </a:lnTo>
                  <a:lnTo>
                    <a:pt x="1997" y="397"/>
                  </a:lnTo>
                  <a:lnTo>
                    <a:pt x="1999" y="407"/>
                  </a:lnTo>
                  <a:lnTo>
                    <a:pt x="2000" y="417"/>
                  </a:lnTo>
                  <a:lnTo>
                    <a:pt x="2002" y="427"/>
                  </a:lnTo>
                  <a:lnTo>
                    <a:pt x="2004" y="437"/>
                  </a:lnTo>
                  <a:lnTo>
                    <a:pt x="2006" y="446"/>
                  </a:lnTo>
                  <a:lnTo>
                    <a:pt x="2008" y="456"/>
                  </a:lnTo>
                  <a:lnTo>
                    <a:pt x="2010" y="465"/>
                  </a:lnTo>
                  <a:lnTo>
                    <a:pt x="2013" y="474"/>
                  </a:lnTo>
                  <a:lnTo>
                    <a:pt x="2016" y="484"/>
                  </a:lnTo>
                  <a:lnTo>
                    <a:pt x="2020" y="493"/>
                  </a:lnTo>
                  <a:lnTo>
                    <a:pt x="2024" y="502"/>
                  </a:lnTo>
                  <a:lnTo>
                    <a:pt x="2028" y="511"/>
                  </a:lnTo>
                  <a:lnTo>
                    <a:pt x="2034" y="520"/>
                  </a:lnTo>
                  <a:lnTo>
                    <a:pt x="2040" y="528"/>
                  </a:lnTo>
                  <a:lnTo>
                    <a:pt x="2046" y="537"/>
                  </a:lnTo>
                  <a:lnTo>
                    <a:pt x="2054" y="545"/>
                  </a:lnTo>
                  <a:lnTo>
                    <a:pt x="2062" y="554"/>
                  </a:lnTo>
                  <a:lnTo>
                    <a:pt x="2071" y="562"/>
                  </a:lnTo>
                  <a:lnTo>
                    <a:pt x="2081" y="570"/>
                  </a:lnTo>
                  <a:lnTo>
                    <a:pt x="2091" y="576"/>
                  </a:lnTo>
                  <a:lnTo>
                    <a:pt x="2095" y="580"/>
                  </a:lnTo>
                  <a:lnTo>
                    <a:pt x="2100" y="584"/>
                  </a:lnTo>
                  <a:lnTo>
                    <a:pt x="2104" y="587"/>
                  </a:lnTo>
                  <a:lnTo>
                    <a:pt x="2109" y="591"/>
                  </a:lnTo>
                  <a:lnTo>
                    <a:pt x="2113" y="594"/>
                  </a:lnTo>
                  <a:lnTo>
                    <a:pt x="2117" y="598"/>
                  </a:lnTo>
                  <a:lnTo>
                    <a:pt x="2121" y="602"/>
                  </a:lnTo>
                  <a:lnTo>
                    <a:pt x="2125" y="606"/>
                  </a:lnTo>
                  <a:lnTo>
                    <a:pt x="2129" y="610"/>
                  </a:lnTo>
                  <a:lnTo>
                    <a:pt x="2133" y="613"/>
                  </a:lnTo>
                  <a:lnTo>
                    <a:pt x="2136" y="617"/>
                  </a:lnTo>
                  <a:lnTo>
                    <a:pt x="2140" y="621"/>
                  </a:lnTo>
                  <a:lnTo>
                    <a:pt x="2142" y="625"/>
                  </a:lnTo>
                  <a:lnTo>
                    <a:pt x="2146" y="630"/>
                  </a:lnTo>
                  <a:lnTo>
                    <a:pt x="2148" y="634"/>
                  </a:lnTo>
                  <a:lnTo>
                    <a:pt x="2151" y="638"/>
                  </a:lnTo>
                  <a:lnTo>
                    <a:pt x="2153" y="643"/>
                  </a:lnTo>
                  <a:lnTo>
                    <a:pt x="2155" y="648"/>
                  </a:lnTo>
                  <a:lnTo>
                    <a:pt x="2157" y="652"/>
                  </a:lnTo>
                  <a:lnTo>
                    <a:pt x="2159" y="657"/>
                  </a:lnTo>
                  <a:lnTo>
                    <a:pt x="2160" y="662"/>
                  </a:lnTo>
                  <a:lnTo>
                    <a:pt x="2161" y="667"/>
                  </a:lnTo>
                  <a:lnTo>
                    <a:pt x="2162" y="673"/>
                  </a:lnTo>
                  <a:lnTo>
                    <a:pt x="2163" y="678"/>
                  </a:lnTo>
                  <a:lnTo>
                    <a:pt x="2163" y="684"/>
                  </a:lnTo>
                  <a:lnTo>
                    <a:pt x="2163" y="690"/>
                  </a:lnTo>
                  <a:lnTo>
                    <a:pt x="2163" y="696"/>
                  </a:lnTo>
                  <a:lnTo>
                    <a:pt x="2162" y="702"/>
                  </a:lnTo>
                  <a:lnTo>
                    <a:pt x="2162" y="708"/>
                  </a:lnTo>
                  <a:lnTo>
                    <a:pt x="2161" y="715"/>
                  </a:lnTo>
                  <a:lnTo>
                    <a:pt x="2142" y="746"/>
                  </a:lnTo>
                  <a:lnTo>
                    <a:pt x="2132" y="757"/>
                  </a:lnTo>
                  <a:lnTo>
                    <a:pt x="2121" y="767"/>
                  </a:lnTo>
                  <a:lnTo>
                    <a:pt x="2110" y="774"/>
                  </a:lnTo>
                  <a:lnTo>
                    <a:pt x="2099" y="780"/>
                  </a:lnTo>
                  <a:lnTo>
                    <a:pt x="2087" y="784"/>
                  </a:lnTo>
                  <a:lnTo>
                    <a:pt x="2075" y="786"/>
                  </a:lnTo>
                  <a:lnTo>
                    <a:pt x="2062" y="787"/>
                  </a:lnTo>
                  <a:lnTo>
                    <a:pt x="2050" y="786"/>
                  </a:lnTo>
                  <a:lnTo>
                    <a:pt x="2036" y="785"/>
                  </a:lnTo>
                  <a:lnTo>
                    <a:pt x="2023" y="782"/>
                  </a:lnTo>
                  <a:lnTo>
                    <a:pt x="2010" y="778"/>
                  </a:lnTo>
                  <a:lnTo>
                    <a:pt x="1996" y="774"/>
                  </a:lnTo>
                  <a:lnTo>
                    <a:pt x="1982" y="768"/>
                  </a:lnTo>
                  <a:lnTo>
                    <a:pt x="1968" y="763"/>
                  </a:lnTo>
                  <a:lnTo>
                    <a:pt x="1954" y="757"/>
                  </a:lnTo>
                  <a:lnTo>
                    <a:pt x="1940" y="750"/>
                  </a:lnTo>
                  <a:lnTo>
                    <a:pt x="1926" y="744"/>
                  </a:lnTo>
                  <a:lnTo>
                    <a:pt x="1912" y="738"/>
                  </a:lnTo>
                  <a:lnTo>
                    <a:pt x="1898" y="731"/>
                  </a:lnTo>
                  <a:lnTo>
                    <a:pt x="1883" y="726"/>
                  </a:lnTo>
                  <a:lnTo>
                    <a:pt x="1869" y="720"/>
                  </a:lnTo>
                  <a:lnTo>
                    <a:pt x="1855" y="715"/>
                  </a:lnTo>
                  <a:lnTo>
                    <a:pt x="1842" y="711"/>
                  </a:lnTo>
                  <a:lnTo>
                    <a:pt x="1828" y="708"/>
                  </a:lnTo>
                  <a:lnTo>
                    <a:pt x="1814" y="706"/>
                  </a:lnTo>
                  <a:lnTo>
                    <a:pt x="1801" y="705"/>
                  </a:lnTo>
                  <a:lnTo>
                    <a:pt x="1788" y="705"/>
                  </a:lnTo>
                  <a:lnTo>
                    <a:pt x="1775" y="707"/>
                  </a:lnTo>
                  <a:lnTo>
                    <a:pt x="1763" y="710"/>
                  </a:lnTo>
                  <a:lnTo>
                    <a:pt x="1751" y="715"/>
                  </a:lnTo>
                  <a:lnTo>
                    <a:pt x="1734" y="724"/>
                  </a:lnTo>
                  <a:lnTo>
                    <a:pt x="1726" y="730"/>
                  </a:lnTo>
                  <a:lnTo>
                    <a:pt x="1718" y="735"/>
                  </a:lnTo>
                  <a:lnTo>
                    <a:pt x="1711" y="741"/>
                  </a:lnTo>
                  <a:lnTo>
                    <a:pt x="1704" y="747"/>
                  </a:lnTo>
                  <a:lnTo>
                    <a:pt x="1696" y="753"/>
                  </a:lnTo>
                  <a:lnTo>
                    <a:pt x="1690" y="759"/>
                  </a:lnTo>
                  <a:lnTo>
                    <a:pt x="1683" y="766"/>
                  </a:lnTo>
                  <a:lnTo>
                    <a:pt x="1676" y="772"/>
                  </a:lnTo>
                  <a:lnTo>
                    <a:pt x="1670" y="779"/>
                  </a:lnTo>
                  <a:lnTo>
                    <a:pt x="1663" y="786"/>
                  </a:lnTo>
                  <a:lnTo>
                    <a:pt x="1657" y="793"/>
                  </a:lnTo>
                  <a:lnTo>
                    <a:pt x="1650" y="800"/>
                  </a:lnTo>
                  <a:lnTo>
                    <a:pt x="1644" y="806"/>
                  </a:lnTo>
                  <a:lnTo>
                    <a:pt x="1637" y="813"/>
                  </a:lnTo>
                  <a:lnTo>
                    <a:pt x="1630" y="819"/>
                  </a:lnTo>
                  <a:lnTo>
                    <a:pt x="1624" y="825"/>
                  </a:lnTo>
                  <a:lnTo>
                    <a:pt x="1617" y="831"/>
                  </a:lnTo>
                  <a:lnTo>
                    <a:pt x="1610" y="837"/>
                  </a:lnTo>
                  <a:lnTo>
                    <a:pt x="1602" y="842"/>
                  </a:lnTo>
                  <a:lnTo>
                    <a:pt x="1595" y="848"/>
                  </a:lnTo>
                  <a:lnTo>
                    <a:pt x="1587" y="852"/>
                  </a:lnTo>
                  <a:lnTo>
                    <a:pt x="1579" y="857"/>
                  </a:lnTo>
                  <a:lnTo>
                    <a:pt x="1570" y="861"/>
                  </a:lnTo>
                  <a:lnTo>
                    <a:pt x="1561" y="864"/>
                  </a:lnTo>
                  <a:lnTo>
                    <a:pt x="1552" y="867"/>
                  </a:lnTo>
                  <a:lnTo>
                    <a:pt x="1542" y="870"/>
                  </a:lnTo>
                  <a:lnTo>
                    <a:pt x="1532" y="872"/>
                  </a:lnTo>
                  <a:lnTo>
                    <a:pt x="1522" y="873"/>
                  </a:lnTo>
                  <a:lnTo>
                    <a:pt x="1511" y="874"/>
                  </a:lnTo>
                  <a:lnTo>
                    <a:pt x="1500" y="874"/>
                  </a:lnTo>
                  <a:lnTo>
                    <a:pt x="1467" y="870"/>
                  </a:lnTo>
                  <a:lnTo>
                    <a:pt x="1451" y="867"/>
                  </a:lnTo>
                  <a:lnTo>
                    <a:pt x="1436" y="863"/>
                  </a:lnTo>
                  <a:lnTo>
                    <a:pt x="1420" y="859"/>
                  </a:lnTo>
                  <a:lnTo>
                    <a:pt x="1406" y="854"/>
                  </a:lnTo>
                  <a:lnTo>
                    <a:pt x="1391" y="848"/>
                  </a:lnTo>
                  <a:lnTo>
                    <a:pt x="1376" y="841"/>
                  </a:lnTo>
                  <a:lnTo>
                    <a:pt x="1362" y="834"/>
                  </a:lnTo>
                  <a:lnTo>
                    <a:pt x="1348" y="827"/>
                  </a:lnTo>
                  <a:lnTo>
                    <a:pt x="1334" y="820"/>
                  </a:lnTo>
                  <a:lnTo>
                    <a:pt x="1320" y="812"/>
                  </a:lnTo>
                  <a:lnTo>
                    <a:pt x="1306" y="804"/>
                  </a:lnTo>
                  <a:lnTo>
                    <a:pt x="1292" y="796"/>
                  </a:lnTo>
                  <a:lnTo>
                    <a:pt x="1278" y="788"/>
                  </a:lnTo>
                  <a:lnTo>
                    <a:pt x="1264" y="781"/>
                  </a:lnTo>
                  <a:lnTo>
                    <a:pt x="1250" y="773"/>
                  </a:lnTo>
                  <a:lnTo>
                    <a:pt x="1236" y="766"/>
                  </a:lnTo>
                  <a:lnTo>
                    <a:pt x="1222" y="759"/>
                  </a:lnTo>
                  <a:lnTo>
                    <a:pt x="1208" y="753"/>
                  </a:lnTo>
                  <a:lnTo>
                    <a:pt x="1194" y="747"/>
                  </a:lnTo>
                  <a:lnTo>
                    <a:pt x="1180" y="742"/>
                  </a:lnTo>
                  <a:lnTo>
                    <a:pt x="1165" y="738"/>
                  </a:lnTo>
                  <a:lnTo>
                    <a:pt x="1151" y="734"/>
                  </a:lnTo>
                  <a:lnTo>
                    <a:pt x="1136" y="731"/>
                  </a:lnTo>
                  <a:lnTo>
                    <a:pt x="1120" y="729"/>
                  </a:lnTo>
                  <a:lnTo>
                    <a:pt x="1105" y="728"/>
                  </a:lnTo>
                  <a:lnTo>
                    <a:pt x="1089" y="728"/>
                  </a:lnTo>
                  <a:lnTo>
                    <a:pt x="1073" y="729"/>
                  </a:lnTo>
                  <a:lnTo>
                    <a:pt x="1057" y="732"/>
                  </a:lnTo>
                  <a:lnTo>
                    <a:pt x="1040" y="736"/>
                  </a:lnTo>
                  <a:lnTo>
                    <a:pt x="1023" y="741"/>
                  </a:lnTo>
                  <a:lnTo>
                    <a:pt x="1003" y="748"/>
                  </a:lnTo>
                  <a:lnTo>
                    <a:pt x="992" y="752"/>
                  </a:lnTo>
                  <a:lnTo>
                    <a:pt x="981" y="756"/>
                  </a:lnTo>
                  <a:lnTo>
                    <a:pt x="970" y="760"/>
                  </a:lnTo>
                  <a:lnTo>
                    <a:pt x="958" y="764"/>
                  </a:lnTo>
                  <a:lnTo>
                    <a:pt x="947" y="767"/>
                  </a:lnTo>
                  <a:lnTo>
                    <a:pt x="935" y="771"/>
                  </a:lnTo>
                  <a:lnTo>
                    <a:pt x="922" y="775"/>
                  </a:lnTo>
                  <a:lnTo>
                    <a:pt x="910" y="779"/>
                  </a:lnTo>
                  <a:lnTo>
                    <a:pt x="898" y="782"/>
                  </a:lnTo>
                  <a:lnTo>
                    <a:pt x="885" y="786"/>
                  </a:lnTo>
                  <a:lnTo>
                    <a:pt x="872" y="789"/>
                  </a:lnTo>
                  <a:lnTo>
                    <a:pt x="859" y="792"/>
                  </a:lnTo>
                  <a:lnTo>
                    <a:pt x="846" y="795"/>
                  </a:lnTo>
                  <a:lnTo>
                    <a:pt x="834" y="798"/>
                  </a:lnTo>
                  <a:lnTo>
                    <a:pt x="820" y="800"/>
                  </a:lnTo>
                  <a:lnTo>
                    <a:pt x="808" y="802"/>
                  </a:lnTo>
                  <a:lnTo>
                    <a:pt x="795" y="803"/>
                  </a:lnTo>
                  <a:lnTo>
                    <a:pt x="782" y="805"/>
                  </a:lnTo>
                  <a:lnTo>
                    <a:pt x="769" y="806"/>
                  </a:lnTo>
                  <a:lnTo>
                    <a:pt x="756" y="806"/>
                  </a:lnTo>
                  <a:lnTo>
                    <a:pt x="744" y="806"/>
                  </a:lnTo>
                  <a:lnTo>
                    <a:pt x="731" y="806"/>
                  </a:lnTo>
                  <a:lnTo>
                    <a:pt x="719" y="804"/>
                  </a:lnTo>
                  <a:lnTo>
                    <a:pt x="707" y="803"/>
                  </a:lnTo>
                  <a:lnTo>
                    <a:pt x="695" y="801"/>
                  </a:lnTo>
                  <a:lnTo>
                    <a:pt x="684" y="798"/>
                  </a:lnTo>
                  <a:lnTo>
                    <a:pt x="672" y="795"/>
                  </a:lnTo>
                  <a:lnTo>
                    <a:pt x="661" y="791"/>
                  </a:lnTo>
                  <a:lnTo>
                    <a:pt x="650" y="786"/>
                  </a:lnTo>
                  <a:lnTo>
                    <a:pt x="640" y="781"/>
                  </a:lnTo>
                  <a:lnTo>
                    <a:pt x="624" y="772"/>
                  </a:lnTo>
                  <a:lnTo>
                    <a:pt x="618" y="767"/>
                  </a:lnTo>
                  <a:lnTo>
                    <a:pt x="611" y="762"/>
                  </a:lnTo>
                  <a:lnTo>
                    <a:pt x="605" y="757"/>
                  </a:lnTo>
                  <a:lnTo>
                    <a:pt x="599" y="752"/>
                  </a:lnTo>
                  <a:lnTo>
                    <a:pt x="593" y="748"/>
                  </a:lnTo>
                  <a:lnTo>
                    <a:pt x="588" y="742"/>
                  </a:lnTo>
                  <a:lnTo>
                    <a:pt x="582" y="738"/>
                  </a:lnTo>
                  <a:lnTo>
                    <a:pt x="578" y="732"/>
                  </a:lnTo>
                  <a:lnTo>
                    <a:pt x="572" y="728"/>
                  </a:lnTo>
                  <a:lnTo>
                    <a:pt x="568" y="723"/>
                  </a:lnTo>
                  <a:lnTo>
                    <a:pt x="563" y="718"/>
                  </a:lnTo>
                  <a:lnTo>
                    <a:pt x="558" y="713"/>
                  </a:lnTo>
                  <a:lnTo>
                    <a:pt x="554" y="709"/>
                  </a:lnTo>
                  <a:lnTo>
                    <a:pt x="549" y="704"/>
                  </a:lnTo>
                  <a:lnTo>
                    <a:pt x="544" y="700"/>
                  </a:lnTo>
                  <a:lnTo>
                    <a:pt x="540" y="696"/>
                  </a:lnTo>
                  <a:lnTo>
                    <a:pt x="534" y="692"/>
                  </a:lnTo>
                  <a:lnTo>
                    <a:pt x="529" y="688"/>
                  </a:lnTo>
                  <a:lnTo>
                    <a:pt x="524" y="684"/>
                  </a:lnTo>
                  <a:lnTo>
                    <a:pt x="518" y="681"/>
                  </a:lnTo>
                  <a:lnTo>
                    <a:pt x="512" y="678"/>
                  </a:lnTo>
                  <a:lnTo>
                    <a:pt x="506" y="675"/>
                  </a:lnTo>
                  <a:lnTo>
                    <a:pt x="500" y="672"/>
                  </a:lnTo>
                  <a:lnTo>
                    <a:pt x="493" y="670"/>
                  </a:lnTo>
                  <a:lnTo>
                    <a:pt x="486" y="668"/>
                  </a:lnTo>
                  <a:lnTo>
                    <a:pt x="478" y="666"/>
                  </a:lnTo>
                  <a:lnTo>
                    <a:pt x="470" y="664"/>
                  </a:lnTo>
                  <a:lnTo>
                    <a:pt x="461" y="663"/>
                  </a:lnTo>
                  <a:lnTo>
                    <a:pt x="451" y="662"/>
                  </a:lnTo>
                  <a:lnTo>
                    <a:pt x="442" y="662"/>
                  </a:lnTo>
                  <a:lnTo>
                    <a:pt x="425" y="662"/>
                  </a:lnTo>
                  <a:lnTo>
                    <a:pt x="417" y="662"/>
                  </a:lnTo>
                  <a:lnTo>
                    <a:pt x="408" y="662"/>
                  </a:lnTo>
                  <a:lnTo>
                    <a:pt x="399" y="663"/>
                  </a:lnTo>
                  <a:lnTo>
                    <a:pt x="390" y="663"/>
                  </a:lnTo>
                  <a:lnTo>
                    <a:pt x="381" y="664"/>
                  </a:lnTo>
                  <a:lnTo>
                    <a:pt x="371" y="664"/>
                  </a:lnTo>
                  <a:lnTo>
                    <a:pt x="362" y="665"/>
                  </a:lnTo>
                  <a:lnTo>
                    <a:pt x="352" y="665"/>
                  </a:lnTo>
                  <a:lnTo>
                    <a:pt x="342" y="666"/>
                  </a:lnTo>
                  <a:lnTo>
                    <a:pt x="332" y="666"/>
                  </a:lnTo>
                  <a:lnTo>
                    <a:pt x="322" y="666"/>
                  </a:lnTo>
                  <a:lnTo>
                    <a:pt x="313" y="666"/>
                  </a:lnTo>
                  <a:lnTo>
                    <a:pt x="303" y="666"/>
                  </a:lnTo>
                  <a:lnTo>
                    <a:pt x="293" y="665"/>
                  </a:lnTo>
                  <a:lnTo>
                    <a:pt x="284" y="664"/>
                  </a:lnTo>
                  <a:lnTo>
                    <a:pt x="274" y="664"/>
                  </a:lnTo>
                  <a:lnTo>
                    <a:pt x="264" y="662"/>
                  </a:lnTo>
                  <a:lnTo>
                    <a:pt x="255" y="661"/>
                  </a:lnTo>
                  <a:lnTo>
                    <a:pt x="246" y="659"/>
                  </a:lnTo>
                  <a:lnTo>
                    <a:pt x="237" y="657"/>
                  </a:lnTo>
                  <a:lnTo>
                    <a:pt x="228" y="654"/>
                  </a:lnTo>
                  <a:lnTo>
                    <a:pt x="220" y="651"/>
                  </a:lnTo>
                  <a:lnTo>
                    <a:pt x="212" y="648"/>
                  </a:lnTo>
                  <a:lnTo>
                    <a:pt x="204" y="644"/>
                  </a:lnTo>
                  <a:lnTo>
                    <a:pt x="196" y="639"/>
                  </a:lnTo>
                  <a:lnTo>
                    <a:pt x="189" y="634"/>
                  </a:lnTo>
                  <a:lnTo>
                    <a:pt x="182" y="629"/>
                  </a:lnTo>
                  <a:lnTo>
                    <a:pt x="176" y="623"/>
                  </a:lnTo>
                  <a:lnTo>
                    <a:pt x="170" y="616"/>
                  </a:lnTo>
                  <a:lnTo>
                    <a:pt x="164" y="609"/>
                  </a:lnTo>
                  <a:lnTo>
                    <a:pt x="153" y="593"/>
                  </a:lnTo>
                  <a:lnTo>
                    <a:pt x="148" y="586"/>
                  </a:lnTo>
                  <a:lnTo>
                    <a:pt x="144" y="579"/>
                  </a:lnTo>
                  <a:lnTo>
                    <a:pt x="141" y="572"/>
                  </a:lnTo>
                  <a:lnTo>
                    <a:pt x="138" y="566"/>
                  </a:lnTo>
                  <a:lnTo>
                    <a:pt x="135" y="560"/>
                  </a:lnTo>
                  <a:lnTo>
                    <a:pt x="132" y="554"/>
                  </a:lnTo>
                  <a:lnTo>
                    <a:pt x="130" y="549"/>
                  </a:lnTo>
                  <a:lnTo>
                    <a:pt x="128" y="544"/>
                  </a:lnTo>
                  <a:lnTo>
                    <a:pt x="126" y="539"/>
                  </a:lnTo>
                  <a:lnTo>
                    <a:pt x="125" y="534"/>
                  </a:lnTo>
                  <a:lnTo>
                    <a:pt x="123" y="530"/>
                  </a:lnTo>
                  <a:lnTo>
                    <a:pt x="122" y="526"/>
                  </a:lnTo>
                  <a:lnTo>
                    <a:pt x="120" y="521"/>
                  </a:lnTo>
                  <a:lnTo>
                    <a:pt x="119" y="517"/>
                  </a:lnTo>
                  <a:lnTo>
                    <a:pt x="118" y="513"/>
                  </a:lnTo>
                  <a:lnTo>
                    <a:pt x="116" y="509"/>
                  </a:lnTo>
                  <a:lnTo>
                    <a:pt x="114" y="506"/>
                  </a:lnTo>
                  <a:lnTo>
                    <a:pt x="112" y="502"/>
                  </a:lnTo>
                  <a:lnTo>
                    <a:pt x="110" y="498"/>
                  </a:lnTo>
                  <a:lnTo>
                    <a:pt x="108" y="494"/>
                  </a:lnTo>
                  <a:lnTo>
                    <a:pt x="105" y="490"/>
                  </a:lnTo>
                  <a:lnTo>
                    <a:pt x="102" y="486"/>
                  </a:lnTo>
                  <a:lnTo>
                    <a:pt x="98" y="482"/>
                  </a:lnTo>
                  <a:lnTo>
                    <a:pt x="94" y="478"/>
                  </a:lnTo>
                  <a:lnTo>
                    <a:pt x="90" y="474"/>
                  </a:lnTo>
                  <a:lnTo>
                    <a:pt x="84" y="470"/>
                  </a:lnTo>
                  <a:lnTo>
                    <a:pt x="79" y="465"/>
                  </a:lnTo>
                  <a:lnTo>
                    <a:pt x="72" y="461"/>
                  </a:lnTo>
                  <a:lnTo>
                    <a:pt x="66" y="456"/>
                  </a:lnTo>
                  <a:lnTo>
                    <a:pt x="58" y="451"/>
                  </a:lnTo>
                  <a:lnTo>
                    <a:pt x="48" y="445"/>
                  </a:lnTo>
                  <a:lnTo>
                    <a:pt x="44" y="442"/>
                  </a:lnTo>
                  <a:lnTo>
                    <a:pt x="40" y="440"/>
                  </a:lnTo>
                  <a:lnTo>
                    <a:pt x="36" y="438"/>
                  </a:lnTo>
                  <a:lnTo>
                    <a:pt x="32" y="437"/>
                  </a:lnTo>
                  <a:lnTo>
                    <a:pt x="29" y="435"/>
                  </a:lnTo>
                  <a:lnTo>
                    <a:pt x="26" y="434"/>
                  </a:lnTo>
                  <a:lnTo>
                    <a:pt x="22" y="433"/>
                  </a:lnTo>
                  <a:lnTo>
                    <a:pt x="20" y="432"/>
                  </a:lnTo>
                  <a:lnTo>
                    <a:pt x="17" y="430"/>
                  </a:lnTo>
                  <a:lnTo>
                    <a:pt x="14" y="430"/>
                  </a:lnTo>
                  <a:lnTo>
                    <a:pt x="12" y="428"/>
                  </a:lnTo>
                  <a:lnTo>
                    <a:pt x="10" y="428"/>
                  </a:lnTo>
                  <a:lnTo>
                    <a:pt x="8" y="426"/>
                  </a:lnTo>
                  <a:lnTo>
                    <a:pt x="6" y="425"/>
                  </a:lnTo>
                  <a:lnTo>
                    <a:pt x="5" y="424"/>
                  </a:lnTo>
                  <a:lnTo>
                    <a:pt x="4" y="422"/>
                  </a:lnTo>
                  <a:lnTo>
                    <a:pt x="2" y="421"/>
                  </a:lnTo>
                  <a:lnTo>
                    <a:pt x="2" y="419"/>
                  </a:lnTo>
                  <a:lnTo>
                    <a:pt x="1" y="417"/>
                  </a:lnTo>
                  <a:lnTo>
                    <a:pt x="0" y="415"/>
                  </a:lnTo>
                  <a:lnTo>
                    <a:pt x="0" y="412"/>
                  </a:lnTo>
                  <a:lnTo>
                    <a:pt x="0" y="409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8"/>
                  </a:lnTo>
                  <a:lnTo>
                    <a:pt x="1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4" y="378"/>
                  </a:lnTo>
                  <a:lnTo>
                    <a:pt x="5" y="372"/>
                  </a:lnTo>
                  <a:lnTo>
                    <a:pt x="9" y="356"/>
                  </a:lnTo>
                  <a:lnTo>
                    <a:pt x="12" y="350"/>
                  </a:lnTo>
                  <a:lnTo>
                    <a:pt x="16" y="344"/>
                  </a:lnTo>
                  <a:lnTo>
                    <a:pt x="20" y="338"/>
                  </a:lnTo>
                  <a:lnTo>
                    <a:pt x="24" y="332"/>
                  </a:lnTo>
                  <a:lnTo>
                    <a:pt x="29" y="327"/>
                  </a:lnTo>
                  <a:lnTo>
                    <a:pt x="34" y="322"/>
                  </a:lnTo>
                  <a:lnTo>
                    <a:pt x="39" y="318"/>
                  </a:lnTo>
                  <a:lnTo>
                    <a:pt x="45" y="314"/>
                  </a:lnTo>
                  <a:lnTo>
                    <a:pt x="51" y="309"/>
                  </a:lnTo>
                  <a:lnTo>
                    <a:pt x="57" y="306"/>
                  </a:lnTo>
                  <a:lnTo>
                    <a:pt x="63" y="302"/>
                  </a:lnTo>
                  <a:lnTo>
                    <a:pt x="69" y="298"/>
                  </a:lnTo>
                  <a:lnTo>
                    <a:pt x="75" y="294"/>
                  </a:lnTo>
                  <a:lnTo>
                    <a:pt x="82" y="291"/>
                  </a:lnTo>
                  <a:lnTo>
                    <a:pt x="88" y="288"/>
                  </a:lnTo>
                  <a:lnTo>
                    <a:pt x="94" y="284"/>
                  </a:lnTo>
                  <a:lnTo>
                    <a:pt x="100" y="280"/>
                  </a:lnTo>
                  <a:lnTo>
                    <a:pt x="106" y="277"/>
                  </a:lnTo>
                  <a:lnTo>
                    <a:pt x="112" y="273"/>
                  </a:lnTo>
                  <a:lnTo>
                    <a:pt x="117" y="269"/>
                  </a:lnTo>
                  <a:lnTo>
                    <a:pt x="122" y="265"/>
                  </a:lnTo>
                  <a:lnTo>
                    <a:pt x="127" y="260"/>
                  </a:lnTo>
                  <a:lnTo>
                    <a:pt x="132" y="256"/>
                  </a:lnTo>
                  <a:lnTo>
                    <a:pt x="136" y="251"/>
                  </a:lnTo>
                  <a:lnTo>
                    <a:pt x="140" y="245"/>
                  </a:lnTo>
                  <a:lnTo>
                    <a:pt x="143" y="240"/>
                  </a:lnTo>
                  <a:lnTo>
                    <a:pt x="146" y="234"/>
                  </a:lnTo>
                  <a:lnTo>
                    <a:pt x="148" y="227"/>
                  </a:lnTo>
                  <a:lnTo>
                    <a:pt x="149" y="220"/>
                  </a:lnTo>
                  <a:lnTo>
                    <a:pt x="150" y="213"/>
                  </a:lnTo>
                  <a:lnTo>
                    <a:pt x="147" y="214"/>
                  </a:lnTo>
                  <a:lnTo>
                    <a:pt x="145" y="215"/>
                  </a:lnTo>
                  <a:lnTo>
                    <a:pt x="144" y="216"/>
                  </a:lnTo>
                  <a:lnTo>
                    <a:pt x="142" y="217"/>
                  </a:lnTo>
                  <a:lnTo>
                    <a:pt x="140" y="218"/>
                  </a:lnTo>
                  <a:lnTo>
                    <a:pt x="139" y="218"/>
                  </a:lnTo>
                  <a:lnTo>
                    <a:pt x="137" y="220"/>
                  </a:lnTo>
                  <a:lnTo>
                    <a:pt x="135" y="220"/>
                  </a:lnTo>
                  <a:lnTo>
                    <a:pt x="134" y="221"/>
                  </a:lnTo>
                  <a:lnTo>
                    <a:pt x="132" y="222"/>
                  </a:lnTo>
                  <a:lnTo>
                    <a:pt x="130" y="223"/>
                  </a:lnTo>
                  <a:lnTo>
                    <a:pt x="129" y="224"/>
                  </a:lnTo>
                  <a:lnTo>
                    <a:pt x="127" y="224"/>
                  </a:lnTo>
                  <a:lnTo>
                    <a:pt x="126" y="225"/>
                  </a:lnTo>
                  <a:lnTo>
                    <a:pt x="124" y="226"/>
                  </a:lnTo>
                  <a:lnTo>
                    <a:pt x="122" y="227"/>
                  </a:lnTo>
                  <a:lnTo>
                    <a:pt x="120" y="228"/>
                  </a:lnTo>
                  <a:lnTo>
                    <a:pt x="119" y="228"/>
                  </a:lnTo>
                  <a:lnTo>
                    <a:pt x="117" y="229"/>
                  </a:lnTo>
                  <a:lnTo>
                    <a:pt x="116" y="230"/>
                  </a:lnTo>
                  <a:lnTo>
                    <a:pt x="114" y="231"/>
                  </a:lnTo>
                  <a:lnTo>
                    <a:pt x="112" y="232"/>
                  </a:lnTo>
                  <a:lnTo>
                    <a:pt x="111" y="233"/>
                  </a:lnTo>
                  <a:lnTo>
                    <a:pt x="109" y="233"/>
                  </a:lnTo>
                  <a:lnTo>
                    <a:pt x="107" y="234"/>
                  </a:lnTo>
                  <a:lnTo>
                    <a:pt x="106" y="235"/>
                  </a:lnTo>
                  <a:lnTo>
                    <a:pt x="104" y="236"/>
                  </a:lnTo>
                  <a:lnTo>
                    <a:pt x="102" y="236"/>
                  </a:lnTo>
                  <a:lnTo>
                    <a:pt x="101" y="237"/>
                  </a:lnTo>
                  <a:lnTo>
                    <a:pt x="99" y="238"/>
                  </a:lnTo>
                  <a:lnTo>
                    <a:pt x="98" y="239"/>
                  </a:lnTo>
                </a:path>
              </a:pathLst>
            </a:cu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4911840" y="4799520"/>
              <a:ext cx="1120320" cy="474840"/>
              <a:chOff x="4911840" y="4799520"/>
              <a:chExt cx="1120320" cy="47484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5339520" y="4805280"/>
                <a:ext cx="692640" cy="469080"/>
                <a:chOff x="5339520" y="4805280"/>
                <a:chExt cx="692640" cy="469080"/>
              </a:xfrm>
            </p:grpSpPr>
            <p:sp>
              <p:nvSpPr>
                <p:cNvPr id="654" name=""/>
                <p:cNvSpPr/>
                <p:nvPr/>
              </p:nvSpPr>
              <p:spPr>
                <a:xfrm flipV="1">
                  <a:off x="5365800" y="4825080"/>
                  <a:ext cx="542160" cy="396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339520" y="4805280"/>
                  <a:ext cx="6926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10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900" spc="-1" strike="noStrike">
                      <a:solidFill>
                        <a:srgbClr val="ffff80"/>
                      </a:solidFill>
                      <a:latin typeface="Arial"/>
                    </a:rPr>
                    <a:t>IIIa</a:t>
                  </a:r>
                  <a:endParaRPr b="0" lang="en-US" sz="2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4911840" y="4799520"/>
                <a:ext cx="534240" cy="417600"/>
                <a:chOff x="4911840" y="4799520"/>
                <a:chExt cx="534240" cy="417600"/>
              </a:xfrm>
            </p:grpSpPr>
            <p:sp>
              <p:nvSpPr>
                <p:cNvPr id="657" name=""/>
                <p:cNvSpPr/>
                <p:nvPr/>
              </p:nvSpPr>
              <p:spPr>
                <a:xfrm flipV="1">
                  <a:off x="4963320" y="4814280"/>
                  <a:ext cx="374040" cy="398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911840" y="4799520"/>
                  <a:ext cx="534240" cy="4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ff80"/>
                      </a:solidFill>
                      <a:latin typeface="Arial"/>
                    </a:rPr>
                    <a:t>IIb</a:t>
                  </a:r>
                  <a:endParaRPr b="0" lang="en-US" sz="2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9" name=""/>
          <p:cNvGrpSpPr/>
          <p:nvPr/>
        </p:nvGrpSpPr>
        <p:grpSpPr>
          <a:xfrm>
            <a:off x="4572000" y="2362320"/>
            <a:ext cx="3052800" cy="1529280"/>
            <a:chOff x="4572000" y="2362320"/>
            <a:chExt cx="3052800" cy="1529280"/>
          </a:xfrm>
        </p:grpSpPr>
        <p:sp>
          <p:nvSpPr>
            <p:cNvPr id="660" name=""/>
            <p:cNvSpPr/>
            <p:nvPr/>
          </p:nvSpPr>
          <p:spPr>
            <a:xfrm>
              <a:off x="4572000" y="2362320"/>
              <a:ext cx="3052800" cy="1387080"/>
            </a:xfrm>
            <a:custGeom>
              <a:avLst/>
              <a:gdLst/>
              <a:ahLst/>
              <a:rect l="l" t="t" r="r" b="b"/>
              <a:pathLst>
                <a:path w="2164" h="874">
                  <a:moveTo>
                    <a:pt x="98" y="239"/>
                  </a:moveTo>
                  <a:lnTo>
                    <a:pt x="117" y="221"/>
                  </a:lnTo>
                  <a:lnTo>
                    <a:pt x="127" y="214"/>
                  </a:lnTo>
                  <a:lnTo>
                    <a:pt x="138" y="208"/>
                  </a:lnTo>
                  <a:lnTo>
                    <a:pt x="149" y="203"/>
                  </a:lnTo>
                  <a:lnTo>
                    <a:pt x="161" y="199"/>
                  </a:lnTo>
                  <a:lnTo>
                    <a:pt x="172" y="195"/>
                  </a:lnTo>
                  <a:lnTo>
                    <a:pt x="184" y="193"/>
                  </a:lnTo>
                  <a:lnTo>
                    <a:pt x="196" y="191"/>
                  </a:lnTo>
                  <a:lnTo>
                    <a:pt x="208" y="189"/>
                  </a:lnTo>
                  <a:lnTo>
                    <a:pt x="221" y="188"/>
                  </a:lnTo>
                  <a:lnTo>
                    <a:pt x="233" y="187"/>
                  </a:lnTo>
                  <a:lnTo>
                    <a:pt x="246" y="187"/>
                  </a:lnTo>
                  <a:lnTo>
                    <a:pt x="258" y="186"/>
                  </a:lnTo>
                  <a:lnTo>
                    <a:pt x="271" y="186"/>
                  </a:lnTo>
                  <a:lnTo>
                    <a:pt x="284" y="186"/>
                  </a:lnTo>
                  <a:lnTo>
                    <a:pt x="296" y="186"/>
                  </a:lnTo>
                  <a:lnTo>
                    <a:pt x="309" y="186"/>
                  </a:lnTo>
                  <a:lnTo>
                    <a:pt x="322" y="186"/>
                  </a:lnTo>
                  <a:lnTo>
                    <a:pt x="334" y="185"/>
                  </a:lnTo>
                  <a:lnTo>
                    <a:pt x="347" y="185"/>
                  </a:lnTo>
                  <a:lnTo>
                    <a:pt x="359" y="183"/>
                  </a:lnTo>
                  <a:lnTo>
                    <a:pt x="371" y="181"/>
                  </a:lnTo>
                  <a:lnTo>
                    <a:pt x="383" y="179"/>
                  </a:lnTo>
                  <a:lnTo>
                    <a:pt x="395" y="177"/>
                  </a:lnTo>
                  <a:lnTo>
                    <a:pt x="406" y="173"/>
                  </a:lnTo>
                  <a:lnTo>
                    <a:pt x="417" y="169"/>
                  </a:lnTo>
                  <a:lnTo>
                    <a:pt x="428" y="163"/>
                  </a:lnTo>
                  <a:lnTo>
                    <a:pt x="439" y="157"/>
                  </a:lnTo>
                  <a:lnTo>
                    <a:pt x="449" y="150"/>
                  </a:lnTo>
                  <a:lnTo>
                    <a:pt x="459" y="142"/>
                  </a:lnTo>
                  <a:lnTo>
                    <a:pt x="468" y="133"/>
                  </a:lnTo>
                  <a:lnTo>
                    <a:pt x="479" y="121"/>
                  </a:lnTo>
                  <a:lnTo>
                    <a:pt x="483" y="115"/>
                  </a:lnTo>
                  <a:lnTo>
                    <a:pt x="488" y="108"/>
                  </a:lnTo>
                  <a:lnTo>
                    <a:pt x="493" y="102"/>
                  </a:lnTo>
                  <a:lnTo>
                    <a:pt x="497" y="96"/>
                  </a:lnTo>
                  <a:lnTo>
                    <a:pt x="501" y="90"/>
                  </a:lnTo>
                  <a:lnTo>
                    <a:pt x="505" y="84"/>
                  </a:lnTo>
                  <a:lnTo>
                    <a:pt x="509" y="79"/>
                  </a:lnTo>
                  <a:lnTo>
                    <a:pt x="513" y="73"/>
                  </a:lnTo>
                  <a:lnTo>
                    <a:pt x="517" y="67"/>
                  </a:lnTo>
                  <a:lnTo>
                    <a:pt x="520" y="62"/>
                  </a:lnTo>
                  <a:lnTo>
                    <a:pt x="524" y="56"/>
                  </a:lnTo>
                  <a:lnTo>
                    <a:pt x="528" y="51"/>
                  </a:lnTo>
                  <a:lnTo>
                    <a:pt x="532" y="46"/>
                  </a:lnTo>
                  <a:lnTo>
                    <a:pt x="536" y="41"/>
                  </a:lnTo>
                  <a:lnTo>
                    <a:pt x="540" y="37"/>
                  </a:lnTo>
                  <a:lnTo>
                    <a:pt x="545" y="32"/>
                  </a:lnTo>
                  <a:lnTo>
                    <a:pt x="549" y="28"/>
                  </a:lnTo>
                  <a:lnTo>
                    <a:pt x="554" y="24"/>
                  </a:lnTo>
                  <a:lnTo>
                    <a:pt x="559" y="20"/>
                  </a:lnTo>
                  <a:lnTo>
                    <a:pt x="565" y="17"/>
                  </a:lnTo>
                  <a:lnTo>
                    <a:pt x="570" y="13"/>
                  </a:lnTo>
                  <a:lnTo>
                    <a:pt x="576" y="11"/>
                  </a:lnTo>
                  <a:lnTo>
                    <a:pt x="583" y="8"/>
                  </a:lnTo>
                  <a:lnTo>
                    <a:pt x="589" y="6"/>
                  </a:lnTo>
                  <a:lnTo>
                    <a:pt x="596" y="4"/>
                  </a:lnTo>
                  <a:lnTo>
                    <a:pt x="604" y="3"/>
                  </a:lnTo>
                  <a:lnTo>
                    <a:pt x="612" y="2"/>
                  </a:lnTo>
                  <a:lnTo>
                    <a:pt x="621" y="1"/>
                  </a:lnTo>
                  <a:lnTo>
                    <a:pt x="630" y="1"/>
                  </a:lnTo>
                  <a:lnTo>
                    <a:pt x="640" y="1"/>
                  </a:lnTo>
                  <a:lnTo>
                    <a:pt x="671" y="3"/>
                  </a:lnTo>
                  <a:lnTo>
                    <a:pt x="687" y="5"/>
                  </a:lnTo>
                  <a:lnTo>
                    <a:pt x="702" y="7"/>
                  </a:lnTo>
                  <a:lnTo>
                    <a:pt x="717" y="9"/>
                  </a:lnTo>
                  <a:lnTo>
                    <a:pt x="733" y="12"/>
                  </a:lnTo>
                  <a:lnTo>
                    <a:pt x="747" y="15"/>
                  </a:lnTo>
                  <a:lnTo>
                    <a:pt x="762" y="19"/>
                  </a:lnTo>
                  <a:lnTo>
                    <a:pt x="777" y="23"/>
                  </a:lnTo>
                  <a:lnTo>
                    <a:pt x="791" y="27"/>
                  </a:lnTo>
                  <a:lnTo>
                    <a:pt x="806" y="31"/>
                  </a:lnTo>
                  <a:lnTo>
                    <a:pt x="820" y="35"/>
                  </a:lnTo>
                  <a:lnTo>
                    <a:pt x="835" y="40"/>
                  </a:lnTo>
                  <a:lnTo>
                    <a:pt x="849" y="44"/>
                  </a:lnTo>
                  <a:lnTo>
                    <a:pt x="863" y="49"/>
                  </a:lnTo>
                  <a:lnTo>
                    <a:pt x="878" y="53"/>
                  </a:lnTo>
                  <a:lnTo>
                    <a:pt x="892" y="58"/>
                  </a:lnTo>
                  <a:lnTo>
                    <a:pt x="907" y="62"/>
                  </a:lnTo>
                  <a:lnTo>
                    <a:pt x="921" y="66"/>
                  </a:lnTo>
                  <a:lnTo>
                    <a:pt x="936" y="71"/>
                  </a:lnTo>
                  <a:lnTo>
                    <a:pt x="951" y="74"/>
                  </a:lnTo>
                  <a:lnTo>
                    <a:pt x="966" y="78"/>
                  </a:lnTo>
                  <a:lnTo>
                    <a:pt x="981" y="81"/>
                  </a:lnTo>
                  <a:lnTo>
                    <a:pt x="997" y="84"/>
                  </a:lnTo>
                  <a:lnTo>
                    <a:pt x="1012" y="87"/>
                  </a:lnTo>
                  <a:lnTo>
                    <a:pt x="1028" y="89"/>
                  </a:lnTo>
                  <a:lnTo>
                    <a:pt x="1044" y="91"/>
                  </a:lnTo>
                  <a:lnTo>
                    <a:pt x="1061" y="93"/>
                  </a:lnTo>
                  <a:lnTo>
                    <a:pt x="1077" y="94"/>
                  </a:lnTo>
                  <a:lnTo>
                    <a:pt x="1094" y="94"/>
                  </a:lnTo>
                  <a:lnTo>
                    <a:pt x="1111" y="94"/>
                  </a:lnTo>
                  <a:lnTo>
                    <a:pt x="1129" y="93"/>
                  </a:lnTo>
                  <a:lnTo>
                    <a:pt x="1152" y="91"/>
                  </a:lnTo>
                  <a:lnTo>
                    <a:pt x="1164" y="89"/>
                  </a:lnTo>
                  <a:lnTo>
                    <a:pt x="1176" y="87"/>
                  </a:lnTo>
                  <a:lnTo>
                    <a:pt x="1188" y="84"/>
                  </a:lnTo>
                  <a:lnTo>
                    <a:pt x="1200" y="81"/>
                  </a:lnTo>
                  <a:lnTo>
                    <a:pt x="1212" y="77"/>
                  </a:lnTo>
                  <a:lnTo>
                    <a:pt x="1224" y="74"/>
                  </a:lnTo>
                  <a:lnTo>
                    <a:pt x="1236" y="70"/>
                  </a:lnTo>
                  <a:lnTo>
                    <a:pt x="1249" y="66"/>
                  </a:lnTo>
                  <a:lnTo>
                    <a:pt x="1261" y="62"/>
                  </a:lnTo>
                  <a:lnTo>
                    <a:pt x="1273" y="57"/>
                  </a:lnTo>
                  <a:lnTo>
                    <a:pt x="1285" y="53"/>
                  </a:lnTo>
                  <a:lnTo>
                    <a:pt x="1298" y="49"/>
                  </a:lnTo>
                  <a:lnTo>
                    <a:pt x="1310" y="44"/>
                  </a:lnTo>
                  <a:lnTo>
                    <a:pt x="1323" y="39"/>
                  </a:lnTo>
                  <a:lnTo>
                    <a:pt x="1335" y="35"/>
                  </a:lnTo>
                  <a:lnTo>
                    <a:pt x="1347" y="31"/>
                  </a:lnTo>
                  <a:lnTo>
                    <a:pt x="1360" y="27"/>
                  </a:lnTo>
                  <a:lnTo>
                    <a:pt x="1372" y="23"/>
                  </a:lnTo>
                  <a:lnTo>
                    <a:pt x="1384" y="19"/>
                  </a:lnTo>
                  <a:lnTo>
                    <a:pt x="1397" y="15"/>
                  </a:lnTo>
                  <a:lnTo>
                    <a:pt x="1409" y="12"/>
                  </a:lnTo>
                  <a:lnTo>
                    <a:pt x="1421" y="9"/>
                  </a:lnTo>
                  <a:lnTo>
                    <a:pt x="1433" y="6"/>
                  </a:lnTo>
                  <a:lnTo>
                    <a:pt x="1444" y="4"/>
                  </a:lnTo>
                  <a:lnTo>
                    <a:pt x="1456" y="2"/>
                  </a:lnTo>
                  <a:lnTo>
                    <a:pt x="1467" y="1"/>
                  </a:lnTo>
                  <a:lnTo>
                    <a:pt x="1479" y="0"/>
                  </a:lnTo>
                  <a:lnTo>
                    <a:pt x="1490" y="0"/>
                  </a:lnTo>
                  <a:lnTo>
                    <a:pt x="1501" y="0"/>
                  </a:lnTo>
                  <a:lnTo>
                    <a:pt x="1513" y="1"/>
                  </a:lnTo>
                  <a:lnTo>
                    <a:pt x="1537" y="5"/>
                  </a:lnTo>
                  <a:lnTo>
                    <a:pt x="1547" y="8"/>
                  </a:lnTo>
                  <a:lnTo>
                    <a:pt x="1557" y="12"/>
                  </a:lnTo>
                  <a:lnTo>
                    <a:pt x="1565" y="16"/>
                  </a:lnTo>
                  <a:lnTo>
                    <a:pt x="1573" y="21"/>
                  </a:lnTo>
                  <a:lnTo>
                    <a:pt x="1580" y="26"/>
                  </a:lnTo>
                  <a:lnTo>
                    <a:pt x="1587" y="32"/>
                  </a:lnTo>
                  <a:lnTo>
                    <a:pt x="1593" y="38"/>
                  </a:lnTo>
                  <a:lnTo>
                    <a:pt x="1598" y="44"/>
                  </a:lnTo>
                  <a:lnTo>
                    <a:pt x="1603" y="51"/>
                  </a:lnTo>
                  <a:lnTo>
                    <a:pt x="1608" y="58"/>
                  </a:lnTo>
                  <a:lnTo>
                    <a:pt x="1612" y="65"/>
                  </a:lnTo>
                  <a:lnTo>
                    <a:pt x="1616" y="72"/>
                  </a:lnTo>
                  <a:lnTo>
                    <a:pt x="1620" y="79"/>
                  </a:lnTo>
                  <a:lnTo>
                    <a:pt x="1624" y="86"/>
                  </a:lnTo>
                  <a:lnTo>
                    <a:pt x="1628" y="93"/>
                  </a:lnTo>
                  <a:lnTo>
                    <a:pt x="1632" y="100"/>
                  </a:lnTo>
                  <a:lnTo>
                    <a:pt x="1636" y="107"/>
                  </a:lnTo>
                  <a:lnTo>
                    <a:pt x="1641" y="113"/>
                  </a:lnTo>
                  <a:lnTo>
                    <a:pt x="1645" y="120"/>
                  </a:lnTo>
                  <a:lnTo>
                    <a:pt x="1650" y="126"/>
                  </a:lnTo>
                  <a:lnTo>
                    <a:pt x="1656" y="131"/>
                  </a:lnTo>
                  <a:lnTo>
                    <a:pt x="1662" y="137"/>
                  </a:lnTo>
                  <a:lnTo>
                    <a:pt x="1668" y="142"/>
                  </a:lnTo>
                  <a:lnTo>
                    <a:pt x="1675" y="146"/>
                  </a:lnTo>
                  <a:lnTo>
                    <a:pt x="1683" y="150"/>
                  </a:lnTo>
                  <a:lnTo>
                    <a:pt x="1692" y="153"/>
                  </a:lnTo>
                  <a:lnTo>
                    <a:pt x="1702" y="156"/>
                  </a:lnTo>
                  <a:lnTo>
                    <a:pt x="1713" y="158"/>
                  </a:lnTo>
                  <a:lnTo>
                    <a:pt x="1724" y="159"/>
                  </a:lnTo>
                  <a:lnTo>
                    <a:pt x="1737" y="159"/>
                  </a:lnTo>
                  <a:lnTo>
                    <a:pt x="1754" y="159"/>
                  </a:lnTo>
                  <a:lnTo>
                    <a:pt x="1762" y="160"/>
                  </a:lnTo>
                  <a:lnTo>
                    <a:pt x="1770" y="160"/>
                  </a:lnTo>
                  <a:lnTo>
                    <a:pt x="1778" y="161"/>
                  </a:lnTo>
                  <a:lnTo>
                    <a:pt x="1785" y="162"/>
                  </a:lnTo>
                  <a:lnTo>
                    <a:pt x="1793" y="163"/>
                  </a:lnTo>
                  <a:lnTo>
                    <a:pt x="1801" y="165"/>
                  </a:lnTo>
                  <a:lnTo>
                    <a:pt x="1808" y="166"/>
                  </a:lnTo>
                  <a:lnTo>
                    <a:pt x="1815" y="168"/>
                  </a:lnTo>
                  <a:lnTo>
                    <a:pt x="1822" y="170"/>
                  </a:lnTo>
                  <a:lnTo>
                    <a:pt x="1829" y="172"/>
                  </a:lnTo>
                  <a:lnTo>
                    <a:pt x="1836" y="175"/>
                  </a:lnTo>
                  <a:lnTo>
                    <a:pt x="1843" y="177"/>
                  </a:lnTo>
                  <a:lnTo>
                    <a:pt x="1850" y="180"/>
                  </a:lnTo>
                  <a:lnTo>
                    <a:pt x="1856" y="183"/>
                  </a:lnTo>
                  <a:lnTo>
                    <a:pt x="1863" y="187"/>
                  </a:lnTo>
                  <a:lnTo>
                    <a:pt x="1869" y="190"/>
                  </a:lnTo>
                  <a:lnTo>
                    <a:pt x="1875" y="194"/>
                  </a:lnTo>
                  <a:lnTo>
                    <a:pt x="1881" y="198"/>
                  </a:lnTo>
                  <a:lnTo>
                    <a:pt x="1888" y="202"/>
                  </a:lnTo>
                  <a:lnTo>
                    <a:pt x="1894" y="207"/>
                  </a:lnTo>
                  <a:lnTo>
                    <a:pt x="1899" y="211"/>
                  </a:lnTo>
                  <a:lnTo>
                    <a:pt x="1905" y="216"/>
                  </a:lnTo>
                  <a:lnTo>
                    <a:pt x="1911" y="221"/>
                  </a:lnTo>
                  <a:lnTo>
                    <a:pt x="1917" y="227"/>
                  </a:lnTo>
                  <a:lnTo>
                    <a:pt x="1922" y="233"/>
                  </a:lnTo>
                  <a:lnTo>
                    <a:pt x="1928" y="239"/>
                  </a:lnTo>
                  <a:lnTo>
                    <a:pt x="1933" y="245"/>
                  </a:lnTo>
                  <a:lnTo>
                    <a:pt x="1939" y="251"/>
                  </a:lnTo>
                  <a:lnTo>
                    <a:pt x="1944" y="258"/>
                  </a:lnTo>
                  <a:lnTo>
                    <a:pt x="1949" y="265"/>
                  </a:lnTo>
                  <a:lnTo>
                    <a:pt x="1962" y="285"/>
                  </a:lnTo>
                  <a:lnTo>
                    <a:pt x="1968" y="295"/>
                  </a:lnTo>
                  <a:lnTo>
                    <a:pt x="1973" y="305"/>
                  </a:lnTo>
                  <a:lnTo>
                    <a:pt x="1977" y="316"/>
                  </a:lnTo>
                  <a:lnTo>
                    <a:pt x="1981" y="326"/>
                  </a:lnTo>
                  <a:lnTo>
                    <a:pt x="1984" y="336"/>
                  </a:lnTo>
                  <a:lnTo>
                    <a:pt x="1987" y="346"/>
                  </a:lnTo>
                  <a:lnTo>
                    <a:pt x="1989" y="357"/>
                  </a:lnTo>
                  <a:lnTo>
                    <a:pt x="1992" y="367"/>
                  </a:lnTo>
                  <a:lnTo>
                    <a:pt x="1994" y="377"/>
                  </a:lnTo>
                  <a:lnTo>
                    <a:pt x="1995" y="387"/>
                  </a:lnTo>
                  <a:lnTo>
                    <a:pt x="1997" y="397"/>
                  </a:lnTo>
                  <a:lnTo>
                    <a:pt x="1999" y="407"/>
                  </a:lnTo>
                  <a:lnTo>
                    <a:pt x="2001" y="417"/>
                  </a:lnTo>
                  <a:lnTo>
                    <a:pt x="2002" y="426"/>
                  </a:lnTo>
                  <a:lnTo>
                    <a:pt x="2004" y="436"/>
                  </a:lnTo>
                  <a:lnTo>
                    <a:pt x="2006" y="445"/>
                  </a:lnTo>
                  <a:lnTo>
                    <a:pt x="2008" y="455"/>
                  </a:lnTo>
                  <a:lnTo>
                    <a:pt x="2010" y="465"/>
                  </a:lnTo>
                  <a:lnTo>
                    <a:pt x="2013" y="474"/>
                  </a:lnTo>
                  <a:lnTo>
                    <a:pt x="2016" y="483"/>
                  </a:lnTo>
                  <a:lnTo>
                    <a:pt x="2020" y="492"/>
                  </a:lnTo>
                  <a:lnTo>
                    <a:pt x="2024" y="501"/>
                  </a:lnTo>
                  <a:lnTo>
                    <a:pt x="2029" y="510"/>
                  </a:lnTo>
                  <a:lnTo>
                    <a:pt x="2034" y="519"/>
                  </a:lnTo>
                  <a:lnTo>
                    <a:pt x="2039" y="528"/>
                  </a:lnTo>
                  <a:lnTo>
                    <a:pt x="2046" y="536"/>
                  </a:lnTo>
                  <a:lnTo>
                    <a:pt x="2054" y="545"/>
                  </a:lnTo>
                  <a:lnTo>
                    <a:pt x="2062" y="553"/>
                  </a:lnTo>
                  <a:lnTo>
                    <a:pt x="2071" y="561"/>
                  </a:lnTo>
                  <a:lnTo>
                    <a:pt x="2081" y="569"/>
                  </a:lnTo>
                  <a:lnTo>
                    <a:pt x="2091" y="576"/>
                  </a:lnTo>
                  <a:lnTo>
                    <a:pt x="2095" y="579"/>
                  </a:lnTo>
                  <a:lnTo>
                    <a:pt x="2100" y="583"/>
                  </a:lnTo>
                  <a:lnTo>
                    <a:pt x="2105" y="587"/>
                  </a:lnTo>
                  <a:lnTo>
                    <a:pt x="2109" y="590"/>
                  </a:lnTo>
                  <a:lnTo>
                    <a:pt x="2113" y="594"/>
                  </a:lnTo>
                  <a:lnTo>
                    <a:pt x="2117" y="597"/>
                  </a:lnTo>
                  <a:lnTo>
                    <a:pt x="2121" y="601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3" y="613"/>
                  </a:lnTo>
                  <a:lnTo>
                    <a:pt x="2136" y="617"/>
                  </a:lnTo>
                  <a:lnTo>
                    <a:pt x="2140" y="621"/>
                  </a:lnTo>
                  <a:lnTo>
                    <a:pt x="2143" y="625"/>
                  </a:lnTo>
                  <a:lnTo>
                    <a:pt x="2146" y="629"/>
                  </a:lnTo>
                  <a:lnTo>
                    <a:pt x="2149" y="633"/>
                  </a:lnTo>
                  <a:lnTo>
                    <a:pt x="2151" y="637"/>
                  </a:lnTo>
                  <a:lnTo>
                    <a:pt x="2153" y="642"/>
                  </a:lnTo>
                  <a:lnTo>
                    <a:pt x="2155" y="647"/>
                  </a:lnTo>
                  <a:lnTo>
                    <a:pt x="2157" y="651"/>
                  </a:lnTo>
                  <a:lnTo>
                    <a:pt x="2159" y="656"/>
                  </a:lnTo>
                  <a:lnTo>
                    <a:pt x="2160" y="661"/>
                  </a:lnTo>
                  <a:lnTo>
                    <a:pt x="2161" y="667"/>
                  </a:lnTo>
                  <a:lnTo>
                    <a:pt x="2163" y="672"/>
                  </a:lnTo>
                  <a:lnTo>
                    <a:pt x="2163" y="677"/>
                  </a:lnTo>
                  <a:lnTo>
                    <a:pt x="2163" y="683"/>
                  </a:lnTo>
                  <a:lnTo>
                    <a:pt x="2163" y="689"/>
                  </a:lnTo>
                  <a:lnTo>
                    <a:pt x="2163" y="695"/>
                  </a:lnTo>
                  <a:lnTo>
                    <a:pt x="2163" y="701"/>
                  </a:lnTo>
                  <a:lnTo>
                    <a:pt x="2162" y="707"/>
                  </a:lnTo>
                  <a:lnTo>
                    <a:pt x="2161" y="714"/>
                  </a:lnTo>
                  <a:lnTo>
                    <a:pt x="2142" y="745"/>
                  </a:lnTo>
                  <a:lnTo>
                    <a:pt x="2132" y="756"/>
                  </a:lnTo>
                  <a:lnTo>
                    <a:pt x="2121" y="766"/>
                  </a:lnTo>
                  <a:lnTo>
                    <a:pt x="2110" y="773"/>
                  </a:lnTo>
                  <a:lnTo>
                    <a:pt x="2099" y="779"/>
                  </a:lnTo>
                  <a:lnTo>
                    <a:pt x="2087" y="783"/>
                  </a:lnTo>
                  <a:lnTo>
                    <a:pt x="2075" y="785"/>
                  </a:lnTo>
                  <a:lnTo>
                    <a:pt x="2062" y="786"/>
                  </a:lnTo>
                  <a:lnTo>
                    <a:pt x="2050" y="785"/>
                  </a:lnTo>
                  <a:lnTo>
                    <a:pt x="2037" y="784"/>
                  </a:lnTo>
                  <a:lnTo>
                    <a:pt x="2023" y="781"/>
                  </a:lnTo>
                  <a:lnTo>
                    <a:pt x="2010" y="777"/>
                  </a:lnTo>
                  <a:lnTo>
                    <a:pt x="1996" y="773"/>
                  </a:lnTo>
                  <a:lnTo>
                    <a:pt x="1982" y="767"/>
                  </a:lnTo>
                  <a:lnTo>
                    <a:pt x="1969" y="762"/>
                  </a:lnTo>
                  <a:lnTo>
                    <a:pt x="1954" y="756"/>
                  </a:lnTo>
                  <a:lnTo>
                    <a:pt x="1940" y="749"/>
                  </a:lnTo>
                  <a:lnTo>
                    <a:pt x="1926" y="743"/>
                  </a:lnTo>
                  <a:lnTo>
                    <a:pt x="1912" y="737"/>
                  </a:lnTo>
                  <a:lnTo>
                    <a:pt x="1898" y="730"/>
                  </a:lnTo>
                  <a:lnTo>
                    <a:pt x="1883" y="725"/>
                  </a:lnTo>
                  <a:lnTo>
                    <a:pt x="1869" y="719"/>
                  </a:lnTo>
                  <a:lnTo>
                    <a:pt x="1855" y="714"/>
                  </a:lnTo>
                  <a:lnTo>
                    <a:pt x="1842" y="710"/>
                  </a:lnTo>
                  <a:lnTo>
                    <a:pt x="1828" y="707"/>
                  </a:lnTo>
                  <a:lnTo>
                    <a:pt x="1815" y="705"/>
                  </a:lnTo>
                  <a:lnTo>
                    <a:pt x="1801" y="704"/>
                  </a:lnTo>
                  <a:lnTo>
                    <a:pt x="1788" y="704"/>
                  </a:lnTo>
                  <a:lnTo>
                    <a:pt x="1775" y="706"/>
                  </a:lnTo>
                  <a:lnTo>
                    <a:pt x="1763" y="709"/>
                  </a:lnTo>
                  <a:lnTo>
                    <a:pt x="1751" y="714"/>
                  </a:lnTo>
                  <a:lnTo>
                    <a:pt x="1734" y="723"/>
                  </a:lnTo>
                  <a:lnTo>
                    <a:pt x="1726" y="729"/>
                  </a:lnTo>
                  <a:lnTo>
                    <a:pt x="1718" y="734"/>
                  </a:lnTo>
                  <a:lnTo>
                    <a:pt x="1711" y="740"/>
                  </a:lnTo>
                  <a:lnTo>
                    <a:pt x="1704" y="746"/>
                  </a:lnTo>
                  <a:lnTo>
                    <a:pt x="1697" y="752"/>
                  </a:lnTo>
                  <a:lnTo>
                    <a:pt x="1690" y="758"/>
                  </a:lnTo>
                  <a:lnTo>
                    <a:pt x="1683" y="765"/>
                  </a:lnTo>
                  <a:lnTo>
                    <a:pt x="1677" y="771"/>
                  </a:lnTo>
                  <a:lnTo>
                    <a:pt x="1670" y="778"/>
                  </a:lnTo>
                  <a:lnTo>
                    <a:pt x="1663" y="785"/>
                  </a:lnTo>
                  <a:lnTo>
                    <a:pt x="1657" y="792"/>
                  </a:lnTo>
                  <a:lnTo>
                    <a:pt x="1651" y="799"/>
                  </a:lnTo>
                  <a:lnTo>
                    <a:pt x="1644" y="805"/>
                  </a:lnTo>
                  <a:lnTo>
                    <a:pt x="1637" y="812"/>
                  </a:lnTo>
                  <a:lnTo>
                    <a:pt x="1631" y="818"/>
                  </a:lnTo>
                  <a:lnTo>
                    <a:pt x="1624" y="824"/>
                  </a:lnTo>
                  <a:lnTo>
                    <a:pt x="1617" y="830"/>
                  </a:lnTo>
                  <a:lnTo>
                    <a:pt x="1610" y="836"/>
                  </a:lnTo>
                  <a:lnTo>
                    <a:pt x="1602" y="841"/>
                  </a:lnTo>
                  <a:lnTo>
                    <a:pt x="1595" y="847"/>
                  </a:lnTo>
                  <a:lnTo>
                    <a:pt x="1587" y="851"/>
                  </a:lnTo>
                  <a:lnTo>
                    <a:pt x="1579" y="856"/>
                  </a:lnTo>
                  <a:lnTo>
                    <a:pt x="1570" y="860"/>
                  </a:lnTo>
                  <a:lnTo>
                    <a:pt x="1561" y="863"/>
                  </a:lnTo>
                  <a:lnTo>
                    <a:pt x="1552" y="866"/>
                  </a:lnTo>
                  <a:lnTo>
                    <a:pt x="1543" y="869"/>
                  </a:lnTo>
                  <a:lnTo>
                    <a:pt x="1533" y="871"/>
                  </a:lnTo>
                  <a:lnTo>
                    <a:pt x="1522" y="872"/>
                  </a:lnTo>
                  <a:lnTo>
                    <a:pt x="1511" y="873"/>
                  </a:lnTo>
                  <a:lnTo>
                    <a:pt x="1500" y="873"/>
                  </a:lnTo>
                  <a:lnTo>
                    <a:pt x="1467" y="869"/>
                  </a:lnTo>
                  <a:lnTo>
                    <a:pt x="1451" y="866"/>
                  </a:lnTo>
                  <a:lnTo>
                    <a:pt x="1436" y="862"/>
                  </a:lnTo>
                  <a:lnTo>
                    <a:pt x="1421" y="858"/>
                  </a:lnTo>
                  <a:lnTo>
                    <a:pt x="1406" y="853"/>
                  </a:lnTo>
                  <a:lnTo>
                    <a:pt x="1391" y="847"/>
                  </a:lnTo>
                  <a:lnTo>
                    <a:pt x="1376" y="840"/>
                  </a:lnTo>
                  <a:lnTo>
                    <a:pt x="1362" y="833"/>
                  </a:lnTo>
                  <a:lnTo>
                    <a:pt x="1348" y="826"/>
                  </a:lnTo>
                  <a:lnTo>
                    <a:pt x="1334" y="819"/>
                  </a:lnTo>
                  <a:lnTo>
                    <a:pt x="1320" y="811"/>
                  </a:lnTo>
                  <a:lnTo>
                    <a:pt x="1306" y="803"/>
                  </a:lnTo>
                  <a:lnTo>
                    <a:pt x="1292" y="795"/>
                  </a:lnTo>
                  <a:lnTo>
                    <a:pt x="1278" y="787"/>
                  </a:lnTo>
                  <a:lnTo>
                    <a:pt x="1264" y="780"/>
                  </a:lnTo>
                  <a:lnTo>
                    <a:pt x="1250" y="772"/>
                  </a:lnTo>
                  <a:lnTo>
                    <a:pt x="1237" y="765"/>
                  </a:lnTo>
                  <a:lnTo>
                    <a:pt x="1223" y="759"/>
                  </a:lnTo>
                  <a:lnTo>
                    <a:pt x="1209" y="752"/>
                  </a:lnTo>
                  <a:lnTo>
                    <a:pt x="1194" y="746"/>
                  </a:lnTo>
                  <a:lnTo>
                    <a:pt x="1180" y="741"/>
                  </a:lnTo>
                  <a:lnTo>
                    <a:pt x="1165" y="737"/>
                  </a:lnTo>
                  <a:lnTo>
                    <a:pt x="1151" y="733"/>
                  </a:lnTo>
                  <a:lnTo>
                    <a:pt x="1136" y="730"/>
                  </a:lnTo>
                  <a:lnTo>
                    <a:pt x="1121" y="728"/>
                  </a:lnTo>
                  <a:lnTo>
                    <a:pt x="1105" y="727"/>
                  </a:lnTo>
                  <a:lnTo>
                    <a:pt x="1089" y="727"/>
                  </a:lnTo>
                  <a:lnTo>
                    <a:pt x="1073" y="729"/>
                  </a:lnTo>
                  <a:lnTo>
                    <a:pt x="1057" y="731"/>
                  </a:lnTo>
                  <a:lnTo>
                    <a:pt x="1040" y="735"/>
                  </a:lnTo>
                  <a:lnTo>
                    <a:pt x="1023" y="741"/>
                  </a:lnTo>
                  <a:lnTo>
                    <a:pt x="1003" y="747"/>
                  </a:lnTo>
                  <a:lnTo>
                    <a:pt x="992" y="751"/>
                  </a:lnTo>
                  <a:lnTo>
                    <a:pt x="981" y="755"/>
                  </a:lnTo>
                  <a:lnTo>
                    <a:pt x="970" y="759"/>
                  </a:lnTo>
                  <a:lnTo>
                    <a:pt x="959" y="763"/>
                  </a:lnTo>
                  <a:lnTo>
                    <a:pt x="947" y="767"/>
                  </a:lnTo>
                  <a:lnTo>
                    <a:pt x="935" y="771"/>
                  </a:lnTo>
                  <a:lnTo>
                    <a:pt x="923" y="774"/>
                  </a:lnTo>
                  <a:lnTo>
                    <a:pt x="910" y="778"/>
                  </a:lnTo>
                  <a:lnTo>
                    <a:pt x="898" y="782"/>
                  </a:lnTo>
                  <a:lnTo>
                    <a:pt x="885" y="785"/>
                  </a:lnTo>
                  <a:lnTo>
                    <a:pt x="872" y="788"/>
                  </a:lnTo>
                  <a:lnTo>
                    <a:pt x="859" y="791"/>
                  </a:lnTo>
                  <a:lnTo>
                    <a:pt x="847" y="794"/>
                  </a:lnTo>
                  <a:lnTo>
                    <a:pt x="834" y="797"/>
                  </a:lnTo>
                  <a:lnTo>
                    <a:pt x="821" y="799"/>
                  </a:lnTo>
                  <a:lnTo>
                    <a:pt x="808" y="801"/>
                  </a:lnTo>
                  <a:lnTo>
                    <a:pt x="795" y="803"/>
                  </a:lnTo>
                  <a:lnTo>
                    <a:pt x="782" y="804"/>
                  </a:lnTo>
                  <a:lnTo>
                    <a:pt x="769" y="805"/>
                  </a:lnTo>
                  <a:lnTo>
                    <a:pt x="756" y="805"/>
                  </a:lnTo>
                  <a:lnTo>
                    <a:pt x="744" y="805"/>
                  </a:lnTo>
                  <a:lnTo>
                    <a:pt x="731" y="805"/>
                  </a:lnTo>
                  <a:lnTo>
                    <a:pt x="719" y="804"/>
                  </a:lnTo>
                  <a:lnTo>
                    <a:pt x="707" y="802"/>
                  </a:lnTo>
                  <a:lnTo>
                    <a:pt x="695" y="800"/>
                  </a:lnTo>
                  <a:lnTo>
                    <a:pt x="683" y="797"/>
                  </a:lnTo>
                  <a:lnTo>
                    <a:pt x="672" y="794"/>
                  </a:lnTo>
                  <a:lnTo>
                    <a:pt x="661" y="790"/>
                  </a:lnTo>
                  <a:lnTo>
                    <a:pt x="650" y="785"/>
                  </a:lnTo>
                  <a:lnTo>
                    <a:pt x="640" y="780"/>
                  </a:lnTo>
                  <a:lnTo>
                    <a:pt x="625" y="771"/>
                  </a:lnTo>
                  <a:lnTo>
                    <a:pt x="617" y="766"/>
                  </a:lnTo>
                  <a:lnTo>
                    <a:pt x="611" y="761"/>
                  </a:lnTo>
                  <a:lnTo>
                    <a:pt x="605" y="757"/>
                  </a:lnTo>
                  <a:lnTo>
                    <a:pt x="599" y="751"/>
                  </a:lnTo>
                  <a:lnTo>
                    <a:pt x="593" y="747"/>
                  </a:lnTo>
                  <a:lnTo>
                    <a:pt x="588" y="742"/>
                  </a:lnTo>
                  <a:lnTo>
                    <a:pt x="583" y="737"/>
                  </a:lnTo>
                  <a:lnTo>
                    <a:pt x="577" y="732"/>
                  </a:lnTo>
                  <a:lnTo>
                    <a:pt x="573" y="727"/>
                  </a:lnTo>
                  <a:lnTo>
                    <a:pt x="568" y="722"/>
                  </a:lnTo>
                  <a:lnTo>
                    <a:pt x="563" y="717"/>
                  </a:lnTo>
                  <a:lnTo>
                    <a:pt x="559" y="713"/>
                  </a:lnTo>
                  <a:lnTo>
                    <a:pt x="554" y="708"/>
                  </a:lnTo>
                  <a:lnTo>
                    <a:pt x="549" y="703"/>
                  </a:lnTo>
                  <a:lnTo>
                    <a:pt x="545" y="699"/>
                  </a:lnTo>
                  <a:lnTo>
                    <a:pt x="540" y="695"/>
                  </a:lnTo>
                  <a:lnTo>
                    <a:pt x="535" y="691"/>
                  </a:lnTo>
                  <a:lnTo>
                    <a:pt x="529" y="687"/>
                  </a:lnTo>
                  <a:lnTo>
                    <a:pt x="524" y="683"/>
                  </a:lnTo>
                  <a:lnTo>
                    <a:pt x="519" y="680"/>
                  </a:lnTo>
                  <a:lnTo>
                    <a:pt x="513" y="677"/>
                  </a:lnTo>
                  <a:lnTo>
                    <a:pt x="507" y="674"/>
                  </a:lnTo>
                  <a:lnTo>
                    <a:pt x="500" y="671"/>
                  </a:lnTo>
                  <a:lnTo>
                    <a:pt x="493" y="669"/>
                  </a:lnTo>
                  <a:lnTo>
                    <a:pt x="486" y="667"/>
                  </a:lnTo>
                  <a:lnTo>
                    <a:pt x="478" y="665"/>
                  </a:lnTo>
                  <a:lnTo>
                    <a:pt x="470" y="663"/>
                  </a:lnTo>
                  <a:lnTo>
                    <a:pt x="461" y="662"/>
                  </a:lnTo>
                  <a:lnTo>
                    <a:pt x="451" y="661"/>
                  </a:lnTo>
                  <a:lnTo>
                    <a:pt x="442" y="661"/>
                  </a:lnTo>
                  <a:lnTo>
                    <a:pt x="425" y="661"/>
                  </a:lnTo>
                  <a:lnTo>
                    <a:pt x="417" y="661"/>
                  </a:lnTo>
                  <a:lnTo>
                    <a:pt x="408" y="662"/>
                  </a:lnTo>
                  <a:lnTo>
                    <a:pt x="399" y="662"/>
                  </a:lnTo>
                  <a:lnTo>
                    <a:pt x="390" y="663"/>
                  </a:lnTo>
                  <a:lnTo>
                    <a:pt x="381" y="663"/>
                  </a:lnTo>
                  <a:lnTo>
                    <a:pt x="371" y="664"/>
                  </a:lnTo>
                  <a:lnTo>
                    <a:pt x="361" y="664"/>
                  </a:lnTo>
                  <a:lnTo>
                    <a:pt x="352" y="665"/>
                  </a:lnTo>
                  <a:lnTo>
                    <a:pt x="342" y="665"/>
                  </a:lnTo>
                  <a:lnTo>
                    <a:pt x="332" y="665"/>
                  </a:lnTo>
                  <a:lnTo>
                    <a:pt x="323" y="665"/>
                  </a:lnTo>
                  <a:lnTo>
                    <a:pt x="313" y="665"/>
                  </a:lnTo>
                  <a:lnTo>
                    <a:pt x="303" y="665"/>
                  </a:lnTo>
                  <a:lnTo>
                    <a:pt x="293" y="665"/>
                  </a:lnTo>
                  <a:lnTo>
                    <a:pt x="283" y="664"/>
                  </a:lnTo>
                  <a:lnTo>
                    <a:pt x="274" y="663"/>
                  </a:lnTo>
                  <a:lnTo>
                    <a:pt x="264" y="662"/>
                  </a:lnTo>
                  <a:lnTo>
                    <a:pt x="255" y="660"/>
                  </a:lnTo>
                  <a:lnTo>
                    <a:pt x="246" y="658"/>
                  </a:lnTo>
                  <a:lnTo>
                    <a:pt x="237" y="656"/>
                  </a:lnTo>
                  <a:lnTo>
                    <a:pt x="228" y="653"/>
                  </a:lnTo>
                  <a:lnTo>
                    <a:pt x="220" y="651"/>
                  </a:lnTo>
                  <a:lnTo>
                    <a:pt x="211" y="647"/>
                  </a:lnTo>
                  <a:lnTo>
                    <a:pt x="204" y="643"/>
                  </a:lnTo>
                  <a:lnTo>
                    <a:pt x="196" y="639"/>
                  </a:lnTo>
                  <a:lnTo>
                    <a:pt x="189" y="634"/>
                  </a:lnTo>
                  <a:lnTo>
                    <a:pt x="182" y="628"/>
                  </a:lnTo>
                  <a:lnTo>
                    <a:pt x="175" y="622"/>
                  </a:lnTo>
                  <a:lnTo>
                    <a:pt x="169" y="616"/>
                  </a:lnTo>
                  <a:lnTo>
                    <a:pt x="164" y="609"/>
                  </a:lnTo>
                  <a:lnTo>
                    <a:pt x="153" y="593"/>
                  </a:lnTo>
                  <a:lnTo>
                    <a:pt x="148" y="585"/>
                  </a:lnTo>
                  <a:lnTo>
                    <a:pt x="144" y="578"/>
                  </a:lnTo>
                  <a:lnTo>
                    <a:pt x="141" y="571"/>
                  </a:lnTo>
                  <a:lnTo>
                    <a:pt x="137" y="565"/>
                  </a:lnTo>
                  <a:lnTo>
                    <a:pt x="135" y="559"/>
                  </a:lnTo>
                  <a:lnTo>
                    <a:pt x="132" y="554"/>
                  </a:lnTo>
                  <a:lnTo>
                    <a:pt x="130" y="548"/>
                  </a:lnTo>
                  <a:lnTo>
                    <a:pt x="128" y="543"/>
                  </a:lnTo>
                  <a:lnTo>
                    <a:pt x="127" y="538"/>
                  </a:lnTo>
                  <a:lnTo>
                    <a:pt x="125" y="533"/>
                  </a:lnTo>
                  <a:lnTo>
                    <a:pt x="123" y="529"/>
                  </a:lnTo>
                  <a:lnTo>
                    <a:pt x="122" y="525"/>
                  </a:lnTo>
                  <a:lnTo>
                    <a:pt x="121" y="521"/>
                  </a:lnTo>
                  <a:lnTo>
                    <a:pt x="119" y="517"/>
                  </a:lnTo>
                  <a:lnTo>
                    <a:pt x="118" y="513"/>
                  </a:lnTo>
                  <a:lnTo>
                    <a:pt x="116" y="509"/>
                  </a:lnTo>
                  <a:lnTo>
                    <a:pt x="114" y="505"/>
                  </a:lnTo>
                  <a:lnTo>
                    <a:pt x="113" y="501"/>
                  </a:lnTo>
                  <a:lnTo>
                    <a:pt x="110" y="497"/>
                  </a:lnTo>
                  <a:lnTo>
                    <a:pt x="108" y="493"/>
                  </a:lnTo>
                  <a:lnTo>
                    <a:pt x="105" y="489"/>
                  </a:lnTo>
                  <a:lnTo>
                    <a:pt x="102" y="486"/>
                  </a:lnTo>
                  <a:lnTo>
                    <a:pt x="98" y="482"/>
                  </a:lnTo>
                  <a:lnTo>
                    <a:pt x="94" y="477"/>
                  </a:lnTo>
                  <a:lnTo>
                    <a:pt x="90" y="473"/>
                  </a:lnTo>
                  <a:lnTo>
                    <a:pt x="85" y="469"/>
                  </a:lnTo>
                  <a:lnTo>
                    <a:pt x="79" y="465"/>
                  </a:lnTo>
                  <a:lnTo>
                    <a:pt x="73" y="460"/>
                  </a:lnTo>
                  <a:lnTo>
                    <a:pt x="66" y="455"/>
                  </a:lnTo>
                  <a:lnTo>
                    <a:pt x="58" y="450"/>
                  </a:lnTo>
                  <a:lnTo>
                    <a:pt x="49" y="444"/>
                  </a:lnTo>
                  <a:lnTo>
                    <a:pt x="44" y="442"/>
                  </a:lnTo>
                  <a:lnTo>
                    <a:pt x="40" y="440"/>
                  </a:lnTo>
                  <a:lnTo>
                    <a:pt x="36" y="438"/>
                  </a:lnTo>
                  <a:lnTo>
                    <a:pt x="32" y="436"/>
                  </a:lnTo>
                  <a:lnTo>
                    <a:pt x="29" y="435"/>
                  </a:lnTo>
                  <a:lnTo>
                    <a:pt x="25" y="433"/>
                  </a:lnTo>
                  <a:lnTo>
                    <a:pt x="23" y="432"/>
                  </a:lnTo>
                  <a:lnTo>
                    <a:pt x="19" y="431"/>
                  </a:lnTo>
                  <a:lnTo>
                    <a:pt x="17" y="430"/>
                  </a:lnTo>
                  <a:lnTo>
                    <a:pt x="14" y="429"/>
                  </a:lnTo>
                  <a:lnTo>
                    <a:pt x="12" y="428"/>
                  </a:lnTo>
                  <a:lnTo>
                    <a:pt x="10" y="427"/>
                  </a:lnTo>
                  <a:lnTo>
                    <a:pt x="8" y="426"/>
                  </a:lnTo>
                  <a:lnTo>
                    <a:pt x="6" y="425"/>
                  </a:lnTo>
                  <a:lnTo>
                    <a:pt x="5" y="423"/>
                  </a:lnTo>
                  <a:lnTo>
                    <a:pt x="3" y="422"/>
                  </a:lnTo>
                  <a:lnTo>
                    <a:pt x="2" y="420"/>
                  </a:lnTo>
                  <a:lnTo>
                    <a:pt x="1" y="419"/>
                  </a:lnTo>
                  <a:lnTo>
                    <a:pt x="1" y="416"/>
                  </a:lnTo>
                  <a:lnTo>
                    <a:pt x="0" y="414"/>
                  </a:lnTo>
                  <a:lnTo>
                    <a:pt x="0" y="411"/>
                  </a:lnTo>
                  <a:lnTo>
                    <a:pt x="0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8"/>
                  </a:lnTo>
                  <a:lnTo>
                    <a:pt x="1" y="393"/>
                  </a:lnTo>
                  <a:lnTo>
                    <a:pt x="1" y="388"/>
                  </a:lnTo>
                  <a:lnTo>
                    <a:pt x="3" y="383"/>
                  </a:lnTo>
                  <a:lnTo>
                    <a:pt x="3" y="377"/>
                  </a:lnTo>
                  <a:lnTo>
                    <a:pt x="5" y="371"/>
                  </a:lnTo>
                  <a:lnTo>
                    <a:pt x="9" y="355"/>
                  </a:lnTo>
                  <a:lnTo>
                    <a:pt x="12" y="349"/>
                  </a:lnTo>
                  <a:lnTo>
                    <a:pt x="16" y="343"/>
                  </a:lnTo>
                  <a:lnTo>
                    <a:pt x="20" y="337"/>
                  </a:lnTo>
                  <a:lnTo>
                    <a:pt x="24" y="331"/>
                  </a:lnTo>
                  <a:lnTo>
                    <a:pt x="29" y="326"/>
                  </a:lnTo>
                  <a:lnTo>
                    <a:pt x="34" y="321"/>
                  </a:lnTo>
                  <a:lnTo>
                    <a:pt x="39" y="317"/>
                  </a:lnTo>
                  <a:lnTo>
                    <a:pt x="45" y="313"/>
                  </a:lnTo>
                  <a:lnTo>
                    <a:pt x="51" y="309"/>
                  </a:lnTo>
                  <a:lnTo>
                    <a:pt x="57" y="305"/>
                  </a:lnTo>
                  <a:lnTo>
                    <a:pt x="63" y="301"/>
                  </a:lnTo>
                  <a:lnTo>
                    <a:pt x="69" y="297"/>
                  </a:lnTo>
                  <a:lnTo>
                    <a:pt x="75" y="294"/>
                  </a:lnTo>
                  <a:lnTo>
                    <a:pt x="82" y="290"/>
                  </a:lnTo>
                  <a:lnTo>
                    <a:pt x="88" y="287"/>
                  </a:lnTo>
                  <a:lnTo>
                    <a:pt x="94" y="283"/>
                  </a:lnTo>
                  <a:lnTo>
                    <a:pt x="100" y="280"/>
                  </a:lnTo>
                  <a:lnTo>
                    <a:pt x="106" y="276"/>
                  </a:lnTo>
                  <a:lnTo>
                    <a:pt x="112" y="272"/>
                  </a:lnTo>
                  <a:lnTo>
                    <a:pt x="117" y="268"/>
                  </a:lnTo>
                  <a:lnTo>
                    <a:pt x="123" y="264"/>
                  </a:lnTo>
                  <a:lnTo>
                    <a:pt x="127" y="259"/>
                  </a:lnTo>
                  <a:lnTo>
                    <a:pt x="132" y="255"/>
                  </a:lnTo>
                  <a:lnTo>
                    <a:pt x="136" y="250"/>
                  </a:lnTo>
                  <a:lnTo>
                    <a:pt x="140" y="245"/>
                  </a:lnTo>
                  <a:lnTo>
                    <a:pt x="143" y="239"/>
                  </a:lnTo>
                  <a:lnTo>
                    <a:pt x="146" y="233"/>
                  </a:lnTo>
                  <a:lnTo>
                    <a:pt x="148" y="227"/>
                  </a:lnTo>
                  <a:lnTo>
                    <a:pt x="149" y="219"/>
                  </a:lnTo>
                  <a:lnTo>
                    <a:pt x="151" y="212"/>
                  </a:lnTo>
                  <a:lnTo>
                    <a:pt x="147" y="214"/>
                  </a:lnTo>
                  <a:lnTo>
                    <a:pt x="145" y="215"/>
                  </a:lnTo>
                  <a:lnTo>
                    <a:pt x="144" y="215"/>
                  </a:lnTo>
                  <a:lnTo>
                    <a:pt x="142" y="216"/>
                  </a:lnTo>
                  <a:lnTo>
                    <a:pt x="141" y="217"/>
                  </a:lnTo>
                  <a:lnTo>
                    <a:pt x="139" y="218"/>
                  </a:lnTo>
                  <a:lnTo>
                    <a:pt x="137" y="219"/>
                  </a:lnTo>
                  <a:lnTo>
                    <a:pt x="135" y="219"/>
                  </a:lnTo>
                  <a:lnTo>
                    <a:pt x="134" y="220"/>
                  </a:lnTo>
                  <a:lnTo>
                    <a:pt x="132" y="221"/>
                  </a:lnTo>
                  <a:lnTo>
                    <a:pt x="131" y="222"/>
                  </a:lnTo>
                  <a:lnTo>
                    <a:pt x="129" y="223"/>
                  </a:lnTo>
                  <a:lnTo>
                    <a:pt x="127" y="223"/>
                  </a:lnTo>
                  <a:lnTo>
                    <a:pt x="126" y="224"/>
                  </a:lnTo>
                  <a:lnTo>
                    <a:pt x="124" y="225"/>
                  </a:lnTo>
                  <a:lnTo>
                    <a:pt x="122" y="226"/>
                  </a:lnTo>
                  <a:lnTo>
                    <a:pt x="121" y="227"/>
                  </a:lnTo>
                  <a:lnTo>
                    <a:pt x="119" y="228"/>
                  </a:lnTo>
                  <a:lnTo>
                    <a:pt x="117" y="229"/>
                  </a:lnTo>
                  <a:lnTo>
                    <a:pt x="116" y="229"/>
                  </a:lnTo>
                  <a:lnTo>
                    <a:pt x="114" y="230"/>
                  </a:lnTo>
                  <a:lnTo>
                    <a:pt x="113" y="231"/>
                  </a:lnTo>
                  <a:lnTo>
                    <a:pt x="111" y="232"/>
                  </a:lnTo>
                  <a:lnTo>
                    <a:pt x="109" y="233"/>
                  </a:lnTo>
                  <a:lnTo>
                    <a:pt x="107" y="233"/>
                  </a:lnTo>
                  <a:lnTo>
                    <a:pt x="106" y="234"/>
                  </a:lnTo>
                  <a:lnTo>
                    <a:pt x="104" y="235"/>
                  </a:lnTo>
                  <a:lnTo>
                    <a:pt x="103" y="236"/>
                  </a:lnTo>
                  <a:lnTo>
                    <a:pt x="101" y="237"/>
                  </a:lnTo>
                  <a:lnTo>
                    <a:pt x="99" y="237"/>
                  </a:lnTo>
                  <a:lnTo>
                    <a:pt x="98" y="239"/>
                  </a:lnTo>
                </a:path>
              </a:pathLst>
            </a:cu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570640" y="3416760"/>
              <a:ext cx="1119960" cy="474840"/>
              <a:chOff x="5570640" y="3416760"/>
              <a:chExt cx="1119960" cy="47484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5997960" y="3422520"/>
                <a:ext cx="692640" cy="469080"/>
                <a:chOff x="5997960" y="3422520"/>
                <a:chExt cx="692640" cy="469080"/>
              </a:xfrm>
            </p:grpSpPr>
            <p:sp>
              <p:nvSpPr>
                <p:cNvPr id="663" name=""/>
                <p:cNvSpPr/>
                <p:nvPr/>
              </p:nvSpPr>
              <p:spPr>
                <a:xfrm flipV="1">
                  <a:off x="6024240" y="3440160"/>
                  <a:ext cx="542160" cy="397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997960" y="3422520"/>
                  <a:ext cx="6926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10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900" spc="-1" strike="noStrike">
                      <a:solidFill>
                        <a:srgbClr val="ffff80"/>
                      </a:solidFill>
                      <a:latin typeface="Arial"/>
                    </a:rPr>
                    <a:t>IIIa</a:t>
                  </a:r>
                  <a:endParaRPr b="0" lang="en-US" sz="2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5570640" y="3416760"/>
                <a:ext cx="534240" cy="417600"/>
                <a:chOff x="5570640" y="3416760"/>
                <a:chExt cx="534240" cy="417600"/>
              </a:xfrm>
            </p:grpSpPr>
            <p:sp>
              <p:nvSpPr>
                <p:cNvPr id="666" name=""/>
                <p:cNvSpPr/>
                <p:nvPr/>
              </p:nvSpPr>
              <p:spPr>
                <a:xfrm flipV="1">
                  <a:off x="5623560" y="3431520"/>
                  <a:ext cx="372600" cy="398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70640" y="3416760"/>
                  <a:ext cx="534240" cy="4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ff80"/>
                      </a:solidFill>
                      <a:latin typeface="Arial"/>
                    </a:rPr>
                    <a:t>IIb</a:t>
                  </a:r>
                  <a:endParaRPr b="0" lang="en-US" sz="2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8" name=""/>
          <p:cNvGrpSpPr/>
          <p:nvPr/>
        </p:nvGrpSpPr>
        <p:grpSpPr>
          <a:xfrm>
            <a:off x="3581280" y="3352680"/>
            <a:ext cx="1972440" cy="1509480"/>
            <a:chOff x="3581280" y="3352680"/>
            <a:chExt cx="1972440" cy="1509480"/>
          </a:xfrm>
        </p:grpSpPr>
        <p:sp>
          <p:nvSpPr>
            <p:cNvPr id="669" name=""/>
            <p:cNvSpPr/>
            <p:nvPr/>
          </p:nvSpPr>
          <p:spPr>
            <a:xfrm>
              <a:off x="4269600" y="4418640"/>
              <a:ext cx="90324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50480" y="3504240"/>
              <a:ext cx="90324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81280" y="3705120"/>
              <a:ext cx="773280" cy="863640"/>
            </a:xfrm>
            <a:custGeom>
              <a:avLst/>
              <a:gdLst/>
              <a:ahLst/>
              <a:rect l="l" t="t" r="r" b="b"/>
              <a:pathLst>
                <a:path w="547" h="544">
                  <a:moveTo>
                    <a:pt x="53" y="0"/>
                  </a:moveTo>
                  <a:lnTo>
                    <a:pt x="192" y="140"/>
                  </a:lnTo>
                  <a:lnTo>
                    <a:pt x="215" y="121"/>
                  </a:lnTo>
                  <a:lnTo>
                    <a:pt x="546" y="543"/>
                  </a:lnTo>
                  <a:lnTo>
                    <a:pt x="117" y="202"/>
                  </a:lnTo>
                  <a:lnTo>
                    <a:pt x="140" y="183"/>
                  </a:lnTo>
                  <a:lnTo>
                    <a:pt x="0" y="43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24200" y="3352680"/>
              <a:ext cx="1023840" cy="330480"/>
            </a:xfrm>
            <a:custGeom>
              <a:avLst/>
              <a:gdLst/>
              <a:ahLst/>
              <a:rect l="l" t="t" r="r" b="b"/>
              <a:pathLst>
                <a:path w="727" h="208">
                  <a:moveTo>
                    <a:pt x="22" y="0"/>
                  </a:moveTo>
                  <a:lnTo>
                    <a:pt x="214" y="47"/>
                  </a:lnTo>
                  <a:lnTo>
                    <a:pt x="224" y="19"/>
                  </a:lnTo>
                  <a:lnTo>
                    <a:pt x="726" y="207"/>
                  </a:lnTo>
                  <a:lnTo>
                    <a:pt x="182" y="139"/>
                  </a:lnTo>
                  <a:lnTo>
                    <a:pt x="192" y="111"/>
                  </a:lnTo>
                  <a:lnTo>
                    <a:pt x="0" y="64"/>
                  </a:lnTo>
                  <a:lnTo>
                    <a:pt x="2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830920" y="3732840"/>
            <a:ext cx="3312720" cy="1415520"/>
            <a:chOff x="5830920" y="3732840"/>
            <a:chExt cx="3312720" cy="1415520"/>
          </a:xfrm>
        </p:grpSpPr>
        <p:sp>
          <p:nvSpPr>
            <p:cNvPr id="674" name=""/>
            <p:cNvSpPr/>
            <p:nvPr/>
          </p:nvSpPr>
          <p:spPr>
            <a:xfrm flipV="1">
              <a:off x="5830920" y="4494960"/>
              <a:ext cx="299880" cy="336600"/>
            </a:xfrm>
            <a:prstGeom prst="ellipse">
              <a:avLst/>
            </a:prstGeom>
            <a:solidFill>
              <a:srgbClr val="555555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078680" y="4621320"/>
              <a:ext cx="298440" cy="334800"/>
            </a:xfrm>
            <a:prstGeom prst="ellipse">
              <a:avLst/>
            </a:prstGeom>
            <a:solidFill>
              <a:srgbClr val="555555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6481800" y="3801240"/>
              <a:ext cx="298440" cy="336600"/>
            </a:xfrm>
            <a:prstGeom prst="ellipse">
              <a:avLst/>
            </a:prstGeom>
            <a:solidFill>
              <a:srgbClr val="555555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720" y="4138560"/>
              <a:ext cx="449280" cy="523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70680" y="4746600"/>
              <a:ext cx="1008000" cy="41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88640" y="4569840"/>
              <a:ext cx="17550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brinog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74360" y="4606200"/>
              <a:ext cx="34992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32360" y="4494960"/>
              <a:ext cx="3650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58400" y="373284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555555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105680" y="4938840"/>
              <a:ext cx="38160" cy="18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34280" y="4938840"/>
              <a:ext cx="38160" cy="209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7321680" y="4430520"/>
              <a:ext cx="93600" cy="23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7377120" y="4598640"/>
              <a:ext cx="2048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441840" y="3809160"/>
              <a:ext cx="3650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 flipV="1">
            <a:off x="2894040" y="2977560"/>
            <a:ext cx="669960" cy="587160"/>
          </a:xfrm>
          <a:prstGeom prst="ellipse">
            <a:avLst/>
          </a:prstGeom>
          <a:solidFill>
            <a:srgbClr val="00ff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44160" y="3199680"/>
            <a:ext cx="1977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se Gran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870200" y="2663640"/>
            <a:ext cx="934920" cy="392040"/>
            <a:chOff x="1870200" y="2663640"/>
            <a:chExt cx="934920" cy="392040"/>
          </a:xfrm>
        </p:grpSpPr>
        <p:sp>
          <p:nvSpPr>
            <p:cNvPr id="691" name=""/>
            <p:cNvSpPr/>
            <p:nvPr/>
          </p:nvSpPr>
          <p:spPr>
            <a:xfrm flipV="1">
              <a:off x="1890720" y="2663280"/>
              <a:ext cx="914400" cy="355320"/>
            </a:xfrm>
            <a:prstGeom prst="rect">
              <a:avLst/>
            </a:prstGeom>
            <a:solidFill>
              <a:srgbClr val="000044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70200" y="2676960"/>
              <a:ext cx="86364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p Ib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895400" y="2310480"/>
            <a:ext cx="914400" cy="523080"/>
            <a:chOff x="1895400" y="2310480"/>
            <a:chExt cx="914400" cy="523080"/>
          </a:xfrm>
        </p:grpSpPr>
        <p:sp>
          <p:nvSpPr>
            <p:cNvPr id="694" name=""/>
            <p:cNvSpPr/>
            <p:nvPr/>
          </p:nvSpPr>
          <p:spPr>
            <a:xfrm flipV="1">
              <a:off x="1895400" y="2317680"/>
              <a:ext cx="914400" cy="35568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49560" y="2673360"/>
              <a:ext cx="385560" cy="160200"/>
            </a:xfrm>
            <a:custGeom>
              <a:avLst/>
              <a:gdLst/>
              <a:ahLst/>
              <a:rect l="l" t="t" r="r" b="b"/>
              <a:pathLst>
                <a:path w="275" h="101">
                  <a:moveTo>
                    <a:pt x="0" y="0"/>
                  </a:moveTo>
                  <a:lnTo>
                    <a:pt x="137" y="100"/>
                  </a:lnTo>
                  <a:lnTo>
                    <a:pt x="274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19600" y="2310480"/>
              <a:ext cx="755280" cy="378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3422520" y="3090960"/>
            <a:ext cx="501840" cy="482400"/>
            <a:chOff x="3422520" y="3090960"/>
            <a:chExt cx="501840" cy="482400"/>
          </a:xfrm>
        </p:grpSpPr>
        <p:sp>
          <p:nvSpPr>
            <p:cNvPr id="698" name=""/>
            <p:cNvSpPr/>
            <p:nvPr/>
          </p:nvSpPr>
          <p:spPr>
            <a:xfrm flipV="1">
              <a:off x="3422520" y="3090960"/>
              <a:ext cx="501840" cy="482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477240" y="3158280"/>
              <a:ext cx="379080" cy="343080"/>
            </a:xfrm>
            <a:prstGeom prst="ellipse">
              <a:avLst/>
            </a:prstGeom>
            <a:solidFill>
              <a:srgbClr val="ffffbf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11080" y="3165480"/>
              <a:ext cx="317520" cy="328680"/>
            </a:xfrm>
            <a:custGeom>
              <a:avLst/>
              <a:gdLst/>
              <a:ahLst/>
              <a:rect l="l" t="t" r="r" b="b"/>
              <a:pathLst>
                <a:path w="225" h="207">
                  <a:moveTo>
                    <a:pt x="196" y="206"/>
                  </a:moveTo>
                  <a:lnTo>
                    <a:pt x="0" y="25"/>
                  </a:lnTo>
                  <a:lnTo>
                    <a:pt x="28" y="0"/>
                  </a:lnTo>
                  <a:lnTo>
                    <a:pt x="224" y="181"/>
                  </a:lnTo>
                  <a:lnTo>
                    <a:pt x="196" y="2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800600" y="3048120"/>
            <a:ext cx="501480" cy="480960"/>
            <a:chOff x="4800600" y="3048120"/>
            <a:chExt cx="501480" cy="480960"/>
          </a:xfrm>
        </p:grpSpPr>
        <p:sp>
          <p:nvSpPr>
            <p:cNvPr id="702" name=""/>
            <p:cNvSpPr/>
            <p:nvPr/>
          </p:nvSpPr>
          <p:spPr>
            <a:xfrm flipV="1">
              <a:off x="4800600" y="3048120"/>
              <a:ext cx="501480" cy="480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855320" y="3115440"/>
              <a:ext cx="377280" cy="341640"/>
            </a:xfrm>
            <a:prstGeom prst="ellipse">
              <a:avLst/>
            </a:prstGeom>
            <a:solidFill>
              <a:srgbClr val="ffffbf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87720" y="3121200"/>
              <a:ext cx="316800" cy="330120"/>
            </a:xfrm>
            <a:custGeom>
              <a:avLst/>
              <a:gdLst/>
              <a:ahLst/>
              <a:rect l="l" t="t" r="r" b="b"/>
              <a:pathLst>
                <a:path w="225" h="208">
                  <a:moveTo>
                    <a:pt x="196" y="207"/>
                  </a:moveTo>
                  <a:lnTo>
                    <a:pt x="0" y="26"/>
                  </a:lnTo>
                  <a:lnTo>
                    <a:pt x="28" y="0"/>
                  </a:lnTo>
                  <a:lnTo>
                    <a:pt x="224" y="181"/>
                  </a:lnTo>
                  <a:lnTo>
                    <a:pt x="196" y="20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191120" y="3962520"/>
            <a:ext cx="501480" cy="482400"/>
            <a:chOff x="4191120" y="3962520"/>
            <a:chExt cx="501480" cy="482400"/>
          </a:xfrm>
        </p:grpSpPr>
        <p:sp>
          <p:nvSpPr>
            <p:cNvPr id="706" name=""/>
            <p:cNvSpPr/>
            <p:nvPr/>
          </p:nvSpPr>
          <p:spPr>
            <a:xfrm flipV="1">
              <a:off x="4191120" y="3962520"/>
              <a:ext cx="501480" cy="482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247280" y="4029840"/>
              <a:ext cx="377280" cy="342360"/>
            </a:xfrm>
            <a:prstGeom prst="ellipse">
              <a:avLst/>
            </a:prstGeom>
            <a:solidFill>
              <a:srgbClr val="ffffbf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79680" y="4035240"/>
              <a:ext cx="316800" cy="331560"/>
            </a:xfrm>
            <a:custGeom>
              <a:avLst/>
              <a:gdLst/>
              <a:ahLst/>
              <a:rect l="l" t="t" r="r" b="b"/>
              <a:pathLst>
                <a:path w="225" h="209">
                  <a:moveTo>
                    <a:pt x="196" y="208"/>
                  </a:moveTo>
                  <a:lnTo>
                    <a:pt x="0" y="26"/>
                  </a:lnTo>
                  <a:lnTo>
                    <a:pt x="28" y="0"/>
                  </a:lnTo>
                  <a:lnTo>
                    <a:pt x="224" y="182"/>
                  </a:lnTo>
                  <a:lnTo>
                    <a:pt x="196" y="20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3103560" y="2676960"/>
            <a:ext cx="280980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Release Defect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231840" y="3732840"/>
            <a:ext cx="2844720" cy="810720"/>
            <a:chOff x="231840" y="3732840"/>
            <a:chExt cx="2844720" cy="810720"/>
          </a:xfrm>
        </p:grpSpPr>
        <p:grpSp>
          <p:nvGrpSpPr>
            <p:cNvPr id="711" name=""/>
            <p:cNvGrpSpPr/>
            <p:nvPr/>
          </p:nvGrpSpPr>
          <p:grpSpPr>
            <a:xfrm>
              <a:off x="1576440" y="4062600"/>
              <a:ext cx="502560" cy="480960"/>
              <a:chOff x="1576440" y="4062600"/>
              <a:chExt cx="502560" cy="48096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576440" y="4062600"/>
                <a:ext cx="502560" cy="4809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1632600" y="4131000"/>
                <a:ext cx="378360" cy="34272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65360" y="4135680"/>
                <a:ext cx="317520" cy="330120"/>
              </a:xfrm>
              <a:custGeom>
                <a:avLst/>
                <a:gdLst/>
                <a:ahLst/>
                <a:rect l="l" t="t" r="r" b="b"/>
                <a:pathLst>
                  <a:path w="225" h="208">
                    <a:moveTo>
                      <a:pt x="196" y="207"/>
                    </a:moveTo>
                    <a:lnTo>
                      <a:pt x="0" y="26"/>
                    </a:lnTo>
                    <a:lnTo>
                      <a:pt x="28" y="0"/>
                    </a:lnTo>
                    <a:lnTo>
                      <a:pt x="224" y="181"/>
                    </a:lnTo>
                    <a:lnTo>
                      <a:pt x="196" y="207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231840" y="3732840"/>
              <a:ext cx="28447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Thrombastheni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365160" y="4952880"/>
            <a:ext cx="2585520" cy="1073520"/>
            <a:chOff x="6365160" y="4952880"/>
            <a:chExt cx="2585520" cy="1073520"/>
          </a:xfrm>
        </p:grpSpPr>
        <p:grpSp>
          <p:nvGrpSpPr>
            <p:cNvPr id="717" name=""/>
            <p:cNvGrpSpPr/>
            <p:nvPr/>
          </p:nvGrpSpPr>
          <p:grpSpPr>
            <a:xfrm>
              <a:off x="6585120" y="4952880"/>
              <a:ext cx="765360" cy="606960"/>
              <a:chOff x="6585120" y="4952880"/>
              <a:chExt cx="765360" cy="606960"/>
            </a:xfrm>
          </p:grpSpPr>
          <p:sp>
            <p:nvSpPr>
              <p:cNvPr id="718" name=""/>
              <p:cNvSpPr/>
              <p:nvPr/>
            </p:nvSpPr>
            <p:spPr>
              <a:xfrm flipV="1">
                <a:off x="6585120" y="4952880"/>
                <a:ext cx="765360" cy="6069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6670440" y="5037840"/>
                <a:ext cx="574920" cy="43092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720120" y="5044680"/>
                <a:ext cx="482400" cy="415080"/>
              </a:xfrm>
              <a:custGeom>
                <a:avLst/>
                <a:gdLst/>
                <a:ahLst/>
                <a:rect l="l" t="t" r="r" b="b"/>
                <a:pathLst>
                  <a:path w="225" h="208">
                    <a:moveTo>
                      <a:pt x="197" y="207"/>
                    </a:moveTo>
                    <a:lnTo>
                      <a:pt x="0" y="26"/>
                    </a:lnTo>
                    <a:lnTo>
                      <a:pt x="28" y="0"/>
                    </a:lnTo>
                    <a:lnTo>
                      <a:pt x="224" y="181"/>
                    </a:lnTo>
                    <a:lnTo>
                      <a:pt x="197" y="207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6365160" y="5621760"/>
              <a:ext cx="25855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Afibrinogenem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ggreg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-vivo platelet aggregation is induce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in mech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imulates ADP rel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hances formation of Tx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oxane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mediated thr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achidonic acid release form membrane phospholip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-oxygen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peroxid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080"/>
            <a:ext cx="77724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T disorders: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itative disorder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ias” &amp; “Philias”  &amp; Malignanc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litative disorders - function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genit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ombasthenia, Bernad Soulier  syndr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quir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pirin, Hepar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remia, diabetes, hyperglobul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350720" y="380880"/>
            <a:ext cx="779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aboratory Tests for Primary Hemostasis Func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elet 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eeding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elet Aggregation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inance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edance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t re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ected results: clots should normally be reduced by 50% of their original mass within 1 h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cytometric studies for Glyco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ggregometr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6200000">
            <a:off x="-896400" y="3424680"/>
            <a:ext cx="29239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% Transmittanc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008000" y="1866960"/>
            <a:ext cx="0" cy="3984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008000" y="5851440"/>
            <a:ext cx="759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50400" y="4732920"/>
            <a:ext cx="15904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Baselin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176000" y="5823360"/>
            <a:ext cx="98100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193760" y="5389560"/>
            <a:ext cx="317160" cy="334800"/>
            <a:chOff x="1193760" y="5389560"/>
            <a:chExt cx="317160" cy="334800"/>
          </a:xfrm>
        </p:grpSpPr>
        <p:sp>
          <p:nvSpPr>
            <p:cNvPr id="733" name=""/>
            <p:cNvSpPr/>
            <p:nvPr/>
          </p:nvSpPr>
          <p:spPr>
            <a:xfrm flipV="1">
              <a:off x="1193760" y="5432400"/>
              <a:ext cx="3636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30120" y="5432400"/>
              <a:ext cx="56520" cy="25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1286640" y="5389560"/>
              <a:ext cx="18000" cy="29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05000" y="5389560"/>
              <a:ext cx="74880" cy="33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379880" y="5452560"/>
              <a:ext cx="37800" cy="25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8040" y="5452920"/>
              <a:ext cx="74520" cy="25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492560" y="5452560"/>
              <a:ext cx="18360" cy="25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509840" y="5106600"/>
            <a:ext cx="177480" cy="624240"/>
            <a:chOff x="1509840" y="5106600"/>
            <a:chExt cx="177480" cy="624240"/>
          </a:xfrm>
        </p:grpSpPr>
        <p:sp>
          <p:nvSpPr>
            <p:cNvPr id="741" name=""/>
            <p:cNvSpPr/>
            <p:nvPr/>
          </p:nvSpPr>
          <p:spPr>
            <a:xfrm flipV="1">
              <a:off x="1509840" y="5106600"/>
              <a:ext cx="74520" cy="344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88680" y="5106960"/>
              <a:ext cx="47880" cy="6238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636560" y="5473800"/>
              <a:ext cx="50760" cy="257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111320" y="3935880"/>
            <a:ext cx="26985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Reagent Adde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704960" y="4037040"/>
            <a:ext cx="1557000" cy="1677960"/>
            <a:chOff x="1704960" y="4037040"/>
            <a:chExt cx="1557000" cy="1677960"/>
          </a:xfrm>
        </p:grpSpPr>
        <p:sp>
          <p:nvSpPr>
            <p:cNvPr id="746" name=""/>
            <p:cNvSpPr/>
            <p:nvPr/>
          </p:nvSpPr>
          <p:spPr>
            <a:xfrm>
              <a:off x="1704960" y="5505480"/>
              <a:ext cx="28080" cy="209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1733040" y="5378040"/>
              <a:ext cx="74520" cy="3366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07920" y="5378400"/>
              <a:ext cx="46080" cy="2318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1854360" y="5221440"/>
              <a:ext cx="56520" cy="3888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10880" y="5221440"/>
              <a:ext cx="64800" cy="284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1975680" y="5127480"/>
              <a:ext cx="46080" cy="3556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32200" y="5127480"/>
              <a:ext cx="36720" cy="2937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068920" y="5000760"/>
              <a:ext cx="64800" cy="4204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5000760"/>
              <a:ext cx="47520" cy="3254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2181600" y="4863960"/>
              <a:ext cx="54720" cy="4413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36320" y="4863960"/>
              <a:ext cx="46440" cy="368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283120" y="4791240"/>
              <a:ext cx="64800" cy="419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48280" y="4791240"/>
              <a:ext cx="47880" cy="3459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396160" y="4696920"/>
              <a:ext cx="4500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41160" y="4697280"/>
              <a:ext cx="56160" cy="3463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2497680" y="4613040"/>
              <a:ext cx="4644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44120" y="4613400"/>
              <a:ext cx="5616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2600640" y="4508280"/>
              <a:ext cx="64800" cy="4712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665440" y="4497480"/>
              <a:ext cx="37800" cy="398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2703600" y="4403520"/>
              <a:ext cx="73080" cy="4712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76680" y="4403880"/>
              <a:ext cx="37800" cy="3981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2814840" y="4267080"/>
              <a:ext cx="74520" cy="5241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89720" y="4267080"/>
              <a:ext cx="46440" cy="4622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936520" y="4203360"/>
              <a:ext cx="74520" cy="4827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11040" y="4203720"/>
              <a:ext cx="1836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3029760" y="4121280"/>
              <a:ext cx="92880" cy="512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22640" y="4130640"/>
              <a:ext cx="26640" cy="4507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3149640" y="4046400"/>
              <a:ext cx="74520" cy="5349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24160" y="4037040"/>
              <a:ext cx="3780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298520" y="3358080"/>
            <a:ext cx="28162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Shape Chang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273480" y="4000320"/>
            <a:ext cx="1317240" cy="471600"/>
            <a:chOff x="3273480" y="4000320"/>
            <a:chExt cx="1317240" cy="471600"/>
          </a:xfrm>
        </p:grpSpPr>
        <p:sp>
          <p:nvSpPr>
            <p:cNvPr id="777" name=""/>
            <p:cNvSpPr/>
            <p:nvPr/>
          </p:nvSpPr>
          <p:spPr>
            <a:xfrm flipV="1">
              <a:off x="3273480" y="4032000"/>
              <a:ext cx="6624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39720" y="4032360"/>
              <a:ext cx="36360" cy="4395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3376080" y="4062240"/>
              <a:ext cx="56520" cy="4003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32960" y="4062240"/>
              <a:ext cx="46440" cy="3891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479400" y="4032000"/>
              <a:ext cx="46440" cy="398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525840" y="4032360"/>
              <a:ext cx="46440" cy="419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572280" y="4020840"/>
              <a:ext cx="6480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37440" y="4021200"/>
              <a:ext cx="47880" cy="398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685680" y="4032000"/>
              <a:ext cx="5508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740760" y="4032360"/>
              <a:ext cx="3780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778560" y="4032000"/>
              <a:ext cx="6480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43720" y="4032360"/>
              <a:ext cx="3672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3880440" y="4041360"/>
              <a:ext cx="56160" cy="368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36960" y="4041720"/>
              <a:ext cx="5652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993480" y="4032360"/>
              <a:ext cx="36360" cy="3348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39920" y="4032360"/>
              <a:ext cx="36720" cy="3348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086720" y="4041360"/>
              <a:ext cx="46440" cy="284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33160" y="4032360"/>
              <a:ext cx="28080" cy="323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171320" y="4010040"/>
              <a:ext cx="3672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08040" y="4010040"/>
              <a:ext cx="46440" cy="368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4254480" y="4020840"/>
              <a:ext cx="46440" cy="314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301280" y="4021200"/>
              <a:ext cx="2808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4329720" y="4000320"/>
              <a:ext cx="5616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85880" y="4000680"/>
              <a:ext cx="36720" cy="3870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422960" y="4009680"/>
              <a:ext cx="56160" cy="368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79120" y="4010040"/>
              <a:ext cx="2844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507560" y="4020840"/>
              <a:ext cx="45000" cy="3459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552920" y="4021200"/>
              <a:ext cx="3780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2362320" y="2759760"/>
            <a:ext cx="37335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Aggregation Plateau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191120" y="3276720"/>
            <a:ext cx="0" cy="608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340920" y="1629360"/>
            <a:ext cx="8261280" cy="4637520"/>
            <a:chOff x="340920" y="1629360"/>
            <a:chExt cx="8261280" cy="4637520"/>
          </a:xfrm>
        </p:grpSpPr>
        <p:sp>
          <p:nvSpPr>
            <p:cNvPr id="808" name=""/>
            <p:cNvSpPr/>
            <p:nvPr/>
          </p:nvSpPr>
          <p:spPr>
            <a:xfrm>
              <a:off x="1007280" y="1866960"/>
              <a:ext cx="0" cy="398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07280" y="5851440"/>
              <a:ext cx="759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76000" y="5823360"/>
              <a:ext cx="9810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-898920" y="3421440"/>
              <a:ext cx="29239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% Transmittanc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1193760" y="5389560"/>
              <a:ext cx="316800" cy="334800"/>
              <a:chOff x="1193760" y="5389560"/>
              <a:chExt cx="316800" cy="334800"/>
            </a:xfrm>
          </p:grpSpPr>
          <p:sp>
            <p:nvSpPr>
              <p:cNvPr id="813" name=""/>
              <p:cNvSpPr/>
              <p:nvPr/>
            </p:nvSpPr>
            <p:spPr>
              <a:xfrm flipV="1">
                <a:off x="1193760" y="5432400"/>
                <a:ext cx="36360" cy="209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30120" y="5432400"/>
                <a:ext cx="56520" cy="25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1286640" y="5389560"/>
                <a:ext cx="18000" cy="293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05000" y="5389560"/>
                <a:ext cx="74520" cy="334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1379520" y="5452560"/>
                <a:ext cx="37800" cy="25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417680" y="5452920"/>
                <a:ext cx="74160" cy="25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1492200" y="5452560"/>
                <a:ext cx="18360" cy="25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1509480" y="5106600"/>
              <a:ext cx="177480" cy="624240"/>
              <a:chOff x="1509480" y="5106600"/>
              <a:chExt cx="177480" cy="624240"/>
            </a:xfrm>
          </p:grpSpPr>
          <p:sp>
            <p:nvSpPr>
              <p:cNvPr id="821" name=""/>
              <p:cNvSpPr/>
              <p:nvPr/>
            </p:nvSpPr>
            <p:spPr>
              <a:xfrm flipV="1">
                <a:off x="1509480" y="5106600"/>
                <a:ext cx="74520" cy="344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588320" y="5106960"/>
                <a:ext cx="47880" cy="6238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1636200" y="5473800"/>
                <a:ext cx="50760" cy="257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1704240" y="4037040"/>
              <a:ext cx="1557360" cy="1677960"/>
              <a:chOff x="1704240" y="4037040"/>
              <a:chExt cx="1557360" cy="1677960"/>
            </a:xfrm>
          </p:grpSpPr>
          <p:sp>
            <p:nvSpPr>
              <p:cNvPr id="825" name=""/>
              <p:cNvSpPr/>
              <p:nvPr/>
            </p:nvSpPr>
            <p:spPr>
              <a:xfrm>
                <a:off x="1704240" y="5505480"/>
                <a:ext cx="28080" cy="209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1732320" y="5378040"/>
                <a:ext cx="74880" cy="336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807200" y="5378400"/>
                <a:ext cx="46080" cy="2318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1853640" y="5221440"/>
                <a:ext cx="56520" cy="388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910160" y="5221440"/>
                <a:ext cx="64800" cy="284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1974960" y="5127480"/>
                <a:ext cx="46080" cy="355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031480" y="5127480"/>
                <a:ext cx="36720" cy="293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068200" y="5000760"/>
                <a:ext cx="64800" cy="4204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133360" y="5000760"/>
                <a:ext cx="47520" cy="325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2180880" y="4863960"/>
                <a:ext cx="54720" cy="4413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35960" y="4863960"/>
                <a:ext cx="46440" cy="36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2282760" y="4791240"/>
                <a:ext cx="64800" cy="419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347560" y="4791240"/>
                <a:ext cx="47880" cy="345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2395440" y="4696920"/>
                <a:ext cx="4500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440800" y="4697280"/>
                <a:ext cx="56160" cy="3463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2496960" y="4613040"/>
                <a:ext cx="4644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543760" y="4613400"/>
                <a:ext cx="5616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2599920" y="4508280"/>
                <a:ext cx="64800" cy="4712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665080" y="4497480"/>
                <a:ext cx="37800" cy="398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2703240" y="4403520"/>
                <a:ext cx="73080" cy="4712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776320" y="4403880"/>
                <a:ext cx="37800" cy="398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2814480" y="4267080"/>
                <a:ext cx="74880" cy="5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889360" y="4267080"/>
                <a:ext cx="46440" cy="4622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2936160" y="4203360"/>
                <a:ext cx="74520" cy="482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010680" y="4203720"/>
                <a:ext cx="1836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3029040" y="4121280"/>
                <a:ext cx="92880" cy="512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122280" y="4130640"/>
                <a:ext cx="26640" cy="4507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3149280" y="4046400"/>
                <a:ext cx="74520" cy="534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23800" y="4037040"/>
                <a:ext cx="3780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3273840" y="4000320"/>
              <a:ext cx="1316160" cy="471600"/>
              <a:chOff x="3273840" y="4000320"/>
              <a:chExt cx="1316160" cy="471600"/>
            </a:xfrm>
          </p:grpSpPr>
          <p:sp>
            <p:nvSpPr>
              <p:cNvPr id="855" name=""/>
              <p:cNvSpPr/>
              <p:nvPr/>
            </p:nvSpPr>
            <p:spPr>
              <a:xfrm flipV="1">
                <a:off x="3273840" y="4032000"/>
                <a:ext cx="6624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40080" y="4032360"/>
                <a:ext cx="36360" cy="4395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3376440" y="4062240"/>
                <a:ext cx="56520" cy="4003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432960" y="4062240"/>
                <a:ext cx="46080" cy="389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3479400" y="4032000"/>
                <a:ext cx="46440" cy="398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526200" y="4032360"/>
                <a:ext cx="46080" cy="419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3572640" y="4020840"/>
                <a:ext cx="6480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37440" y="4021200"/>
                <a:ext cx="47880" cy="398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3685680" y="4032000"/>
                <a:ext cx="5472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740400" y="4032360"/>
                <a:ext cx="3780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3778560" y="4032000"/>
                <a:ext cx="6480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43720" y="4032360"/>
                <a:ext cx="3672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3880440" y="4041360"/>
                <a:ext cx="56160" cy="36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936600" y="4041720"/>
                <a:ext cx="5652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3993480" y="4032360"/>
                <a:ext cx="36360" cy="334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39920" y="4032360"/>
                <a:ext cx="36720" cy="334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4086360" y="4041360"/>
                <a:ext cx="46080" cy="284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32800" y="4032360"/>
                <a:ext cx="28080" cy="323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4170960" y="4010040"/>
                <a:ext cx="3672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207680" y="4010040"/>
                <a:ext cx="46080" cy="36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4254120" y="4020840"/>
                <a:ext cx="46440" cy="31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300920" y="4021200"/>
                <a:ext cx="2808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4329000" y="4000320"/>
                <a:ext cx="5616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385520" y="4000680"/>
                <a:ext cx="36720" cy="38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4422240" y="4009680"/>
                <a:ext cx="56160" cy="36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478400" y="4010040"/>
                <a:ext cx="2844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4506840" y="4020840"/>
                <a:ext cx="45000" cy="345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552200" y="4021200"/>
                <a:ext cx="3780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4590360" y="2184480"/>
              <a:ext cx="2061000" cy="2193480"/>
              <a:chOff x="4590360" y="2184480"/>
              <a:chExt cx="2061000" cy="21934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4590360" y="3895200"/>
                <a:ext cx="46080" cy="4827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636440" y="3895560"/>
                <a:ext cx="56520" cy="4194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4693320" y="3800160"/>
                <a:ext cx="54720" cy="5144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748400" y="3800520"/>
                <a:ext cx="28080" cy="4413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4776480" y="3706920"/>
                <a:ext cx="74520" cy="5349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851360" y="3706920"/>
                <a:ext cx="18000" cy="4824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4869360" y="3549600"/>
                <a:ext cx="92880" cy="6285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962600" y="3549600"/>
                <a:ext cx="3780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5000760" y="3454200"/>
                <a:ext cx="56160" cy="6411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056920" y="3454560"/>
                <a:ext cx="45360" cy="5569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5102640" y="3317400"/>
                <a:ext cx="56160" cy="6829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158800" y="3317760"/>
                <a:ext cx="56160" cy="6192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5214960" y="3203280"/>
                <a:ext cx="64800" cy="7239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280120" y="3203640"/>
                <a:ext cx="56520" cy="6285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5336640" y="3056040"/>
                <a:ext cx="56160" cy="7668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93160" y="3056040"/>
                <a:ext cx="36720" cy="6602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5429880" y="2971800"/>
                <a:ext cx="64440" cy="6825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494320" y="2971800"/>
                <a:ext cx="1980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5514480" y="2918880"/>
                <a:ext cx="73440" cy="5986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587920" y="2919240"/>
                <a:ext cx="37800" cy="5144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5626080" y="2771640"/>
                <a:ext cx="46080" cy="6508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72520" y="2771640"/>
                <a:ext cx="56160" cy="5572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5728680" y="2687760"/>
                <a:ext cx="45360" cy="6206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774040" y="2687760"/>
                <a:ext cx="56160" cy="5666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5830560" y="2625480"/>
                <a:ext cx="64800" cy="6188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895360" y="2625840"/>
                <a:ext cx="56160" cy="5238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5951880" y="2530080"/>
                <a:ext cx="6588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8120" y="2530440"/>
                <a:ext cx="36720" cy="5572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6064560" y="2457000"/>
                <a:ext cx="8316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48080" y="2457360"/>
                <a:ext cx="18000" cy="5670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6166080" y="2405160"/>
                <a:ext cx="66240" cy="5983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232680" y="2405160"/>
                <a:ext cx="46080" cy="5554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6279120" y="2329920"/>
                <a:ext cx="73440" cy="6210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352560" y="2330280"/>
                <a:ext cx="19440" cy="5986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6372360" y="2289240"/>
                <a:ext cx="64800" cy="6300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437160" y="2289240"/>
                <a:ext cx="46440" cy="5778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6483960" y="2215800"/>
                <a:ext cx="6480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48760" y="2216160"/>
                <a:ext cx="46080" cy="6397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6595200" y="2184480"/>
                <a:ext cx="56160" cy="6508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3337200" y="1629360"/>
              <a:ext cx="36630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Secondary Respons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19120" y="2181240"/>
              <a:ext cx="0" cy="1006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4572000" y="4572000"/>
            <a:ext cx="440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ith impe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 there is increased res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f the sample and ATP rel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sults of platelet aggregation studi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ggregation with arachidonic acid and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ly reduced aggregation with colla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aggregation with ristocet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P release with thrombin is normal but absent with arachidonic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ggregometry interpret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6120" y="3243240"/>
            <a:ext cx="8867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232920" y="2139480"/>
            <a:ext cx="8902080" cy="4336560"/>
            <a:chOff x="232920" y="2139480"/>
            <a:chExt cx="8902080" cy="4336560"/>
          </a:xfrm>
        </p:grpSpPr>
        <p:sp>
          <p:nvSpPr>
            <p:cNvPr id="931" name=""/>
            <p:cNvSpPr/>
            <p:nvPr/>
          </p:nvSpPr>
          <p:spPr>
            <a:xfrm>
              <a:off x="251640" y="2890440"/>
              <a:ext cx="10144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or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520" y="2890440"/>
              <a:ext cx="6091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75960" y="2890440"/>
              <a:ext cx="496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83680" y="2890440"/>
              <a:ext cx="5068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88560" y="2890440"/>
              <a:ext cx="496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093080" y="2890440"/>
              <a:ext cx="5068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00800" y="2890440"/>
              <a:ext cx="5191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3640" y="3566520"/>
              <a:ext cx="27363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ernard-Soulier syndro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46280" y="3566520"/>
              <a:ext cx="529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54720" y="3566520"/>
              <a:ext cx="529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660640" y="3566520"/>
              <a:ext cx="5083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70400" y="3566520"/>
              <a:ext cx="5083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179920" y="3566520"/>
              <a:ext cx="529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4000" y="4218840"/>
              <a:ext cx="26449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édiak-Higashi anomal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445920" y="4218840"/>
              <a:ext cx="957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/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554360" y="4218840"/>
              <a:ext cx="957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/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071120" y="4218840"/>
              <a:ext cx="957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/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177040" y="4218840"/>
              <a:ext cx="957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/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35440" y="4868280"/>
              <a:ext cx="2846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lanzmann thrombasthen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446280" y="486828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54720" y="486828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660640" y="486828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71840" y="486828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33640" y="5523120"/>
              <a:ext cx="24667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ranule release def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46280" y="552312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54720" y="552312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71840" y="552312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2920" y="6175440"/>
              <a:ext cx="25948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on Willebrand's dise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65880" y="6174000"/>
              <a:ext cx="573840" cy="300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581720" y="2139480"/>
              <a:ext cx="29224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ggregating Ag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6321600" y="4800600"/>
            <a:ext cx="5616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4"/>
                </a:solidFill>
                <a:latin typeface="Tahoma"/>
              </a:rPr>
              <a:t>N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325200" y="3505320"/>
            <a:ext cx="581400" cy="337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831"/>
                </a:solidFill>
                <a:latin typeface="Tahoma"/>
              </a:rPr>
              <a:t>A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low cytometry for the detection of Gp defecienc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P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Ib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I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howed reduction in PAC-1 which is a finding consistent with Glanzmann thrombasth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 hepatosplenomegaly is not explainable by th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ent was readmitted on 18-11-02 for further investigations to clarify the hepatosplenomeg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7716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Thrombasthenia</a:t>
            </a:r>
            <a:br>
              <a:rPr sz="4000"/>
            </a:b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Synonyms: Glanzmann thrombasthenia, constitutional thrombopathy, hereditary hemorrhagic thrombopathy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asthenia was first describe in 1918 by Glanzmann when he noted purpuric bleeding in patients with normal platelet cou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ly, thrombasthenia is diagnosed at an early 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ophysiolo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somal recessive tra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duction and assembly of the platelet membrane glycoprotein IIb-IIIa is altered, preventing the aggregation of platelets and subsequent clot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view of platelet func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elets adhere to the site of endothelial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ggreg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rete &amp; promote further platelet recruitment &amp; aggre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WF binds to the exposed collagen and binds GP Ib-IX-V complex on the surface of platelet, adhering platelets to the site of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inogen and vWF bind to the GP IIb-IIIa complex on the activated platelet’s surface, allowing cross-linking and formation of c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pecific Deficienc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P IIb and IIIa have separate genes on the long arm of chromosome 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genetic abnormalities of each GP 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ense mu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sense mu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lice site mu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etions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normalities in either gene or in the assembly of the complex result in an abnormal or deficient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qu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or other GP is not formed properly, leaving the other unpaired in the endoplasmic reticulum, where it is degra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let aggregation is rendered deficient or completely ab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terozygotes are asympt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ding sites for thrombin are preserved in thrombasthenic plate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are classified into: type1, type2, or  the variant type, depending on the degree of GP IIb-IIIa deficiency, fibrinogen binding, and clot re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1 : most severe form, less than 5% of normal GP IIb-IIIa present with absent fibrinogen binding and clot re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2 : 10-20% of GP IIb-IIIa, normal to moderately deficient clot retraction with fibrinogen bi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nt type : 50% of the normal amount of GP IIb-IIIa with extremely variable fibrinogen binding and clot re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lassification of platelet disord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37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ution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19360" y="2514240"/>
            <a:ext cx="381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ed disorders (r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quired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renal fail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diopulmonary by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" y="2286000"/>
            <a:ext cx="7721640" cy="0"/>
          </a:xfrm>
          <a:prstGeom prst="line">
            <a:avLst/>
          </a:prstGeom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c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cases are reported in medical 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se diagnosed in HU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tality/Morbid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th following bleeding approx. 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ly diagnosed during inf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staxis is more severe in children but rare in ad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neonatal period: mucocutaneous bleed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hildhood: purpura, epistaxis &amp; gingival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leeding tendency decreases with 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/>
          </p:nvPr>
        </p:nvSpPr>
        <p:spPr>
          <a:xfrm>
            <a:off x="12193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presentations inclu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ive bleeding at menarche &amp; following partur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 surgical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arthrosis and deep hematomas are unu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sence of family history should not delay a workup for thrombasthenia as it is a recessive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 identification of hemorrhage, physical examination is usually of limite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ther disorders to be considered in the differential diagnos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ay platelet synd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rmansky-Pudlak synd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ediak-Higashi synd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cation-induced platelet inhib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staglandin synthetase inhibitors (Aspirin, NSAID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P receptor inhibitors (Clopidogrel, Ticlopidi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ceptor blocking drugs (Dipyridamo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eta-lactam antibio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par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coh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rem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yperglobulinem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b investig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eeding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gregation stud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latelet count and morph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T/ AP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low cytometric stud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Medical Car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0" y="1868400"/>
            <a:ext cx="9144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cy c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ractory bleeding requires transfusion of normal plate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LA-matched platelets is the treatment of 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rare cases, antibodies to Gp IIb-IIIa are detec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treat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fibrinolytic agents inhibit fibrinolysis via inhibition of plasminogen activator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inocaproic acid; may be useful in controlling bleeding after dental ext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indicated in the evidence of active intravascular clotting process (D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maturia is relative contraind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administration with estrogens may cause increase clotting factors, leading to hypercoagulable s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Medical treatment contd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sopressin analogs, act like ADH to increase factor VIII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mopressin (DDAVP); synthetic vasopressin anal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use of DDAVP not recommended routin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indicated in documented hyper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ting 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agulation factor VIIa, recombin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therapies cited in lit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 I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ated plasma pher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ne marrow transpl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342800" y="-360"/>
            <a:ext cx="780084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nclusion &amp; Take home messag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diagnosis of our  patient was Glanzmann thrombasth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studies for platelet function defect are recomm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further investigations are required to clarify the cause of hepatosplenomegaly and low factor 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ractory haemorrhage in the presence of normal platelet count and normal coagulation factors need to be investigated further (Now in HU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Quantitative PLT disorders: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reased Produ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row failures - aplasia, malignancy, dru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creased consump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C, TTP, Septi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creased destru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immune, drugs, SLE, viral inf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lutional thrombocytopen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sive transfusions of stored bl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hrombocytopenia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920" y="2017800"/>
            <a:ext cx="7436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-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ioapth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in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phoproliferativ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coid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angiopathic hemolytic a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lassification of thrombocytopenia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44960" y="1663560"/>
            <a:ext cx="40449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ed with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une-mediated thrombocytopenia (IT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ed with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otic thrombocytopenic purp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parin-associated thrombocytop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usseau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opathic autoimmune platelet de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#1 cause of isolated thrombocytopenia in otherwise healthy young per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diagnosis of ex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23:28:13Z</dcterms:created>
  <dc:creator>IT</dc:creator>
  <dc:description/>
  <dc:language>en-US</dc:language>
  <cp:lastModifiedBy>Dr.abdel-hamid</cp:lastModifiedBy>
  <dcterms:modified xsi:type="dcterms:W3CDTF">2006-10-23T19:56:43Z</dcterms:modified>
  <cp:revision>42</cp:revision>
  <dc:subject/>
  <dc:title>HEMATOLOGY: NON-MALIGNANT DISORDERS</dc:title>
</cp:coreProperties>
</file>