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70236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6"/>
          </p:nvPr>
        </p:nvSpPr>
        <p:spPr>
          <a:xfrm>
            <a:off x="397800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4440" cy="34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7"/>
          </p:nvPr>
        </p:nvSpPr>
        <p:spPr>
          <a:xfrm>
            <a:off x="-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8"/>
          </p:nvPr>
        </p:nvSpPr>
        <p:spPr>
          <a:xfrm>
            <a:off x="397800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6FB4F-20CC-48F4-B313-57234A30A9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C59F41-781E-499D-BD55-BAB4D7679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7C479B-8A46-42AA-BBB0-8282E9E31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1737E4-C05D-4DEC-8509-9A2156193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F00D6B-D63E-459E-A0DC-52A48CA79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5EECE8-EDD5-4FBE-851A-621BE7CE9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890C50-58F2-49FD-97EF-504D776E3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0950B5-058F-40E0-9723-1C72904CB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336DDD-9A75-4C6B-98A6-171B9D54D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E51272-0850-43CD-AACD-7C1DA9B1C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E2D87F-8ECA-4441-A0D7-7C33B1765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9480C5-A603-440D-865B-5D0CE7449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B5A815-7483-4A0B-ACF8-01B840BC7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0" y="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Haema - Non Mal:</a:t>
            </a:r>
            <a:fld id="{E5AB910A-CD84-4815-87E3-9DF1AED66EC8}" type="slidenum"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7869240" y="6477120"/>
            <a:ext cx="120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hashi: 03/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1E5F1-C3DA-4CC2-875B-5A72871048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4.jpe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image" Target="../media/image4.jpeg"/><Relationship Id="rId16" Type="http://schemas.openxmlformats.org/officeDocument/2006/relationships/image" Target="../media/image4.jpeg"/><Relationship Id="rId17" Type="http://schemas.openxmlformats.org/officeDocument/2006/relationships/image" Target="../media/image4.jpeg"/><Relationship Id="rId18" Type="http://schemas.openxmlformats.org/officeDocument/2006/relationships/image" Target="../media/image4.jpeg"/><Relationship Id="rId19" Type="http://schemas.openxmlformats.org/officeDocument/2006/relationships/image" Target="../media/image4.jpeg"/><Relationship Id="rId20" Type="http://schemas.openxmlformats.org/officeDocument/2006/relationships/image" Target="../media/image4.jpeg"/><Relationship Id="rId21" Type="http://schemas.openxmlformats.org/officeDocument/2006/relationships/image" Target="../media/image4.jpeg"/><Relationship Id="rId22" Type="http://schemas.openxmlformats.org/officeDocument/2006/relationships/image" Target="../media/image4.jpeg"/><Relationship Id="rId23" Type="http://schemas.openxmlformats.org/officeDocument/2006/relationships/image" Target="../media/image4.jpeg"/><Relationship Id="rId24" Type="http://schemas.openxmlformats.org/officeDocument/2006/relationships/image" Target="../media/image4.jpeg"/><Relationship Id="rId25" Type="http://schemas.openxmlformats.org/officeDocument/2006/relationships/image" Target="../media/image4.jpeg"/><Relationship Id="rId26" Type="http://schemas.openxmlformats.org/officeDocument/2006/relationships/image" Target="../media/image4.jpeg"/><Relationship Id="rId27" Type="http://schemas.openxmlformats.org/officeDocument/2006/relationships/image" Target="../media/image4.jpeg"/><Relationship Id="rId28" Type="http://schemas.openxmlformats.org/officeDocument/2006/relationships/image" Target="../media/image4.jpeg"/><Relationship Id="rId29" Type="http://schemas.openxmlformats.org/officeDocument/2006/relationships/image" Target="../media/image4.jpeg"/><Relationship Id="rId30" Type="http://schemas.openxmlformats.org/officeDocument/2006/relationships/image" Target="../media/image4.jpeg"/><Relationship Id="rId31" Type="http://schemas.openxmlformats.org/officeDocument/2006/relationships/image" Target="../media/image4.jpeg"/><Relationship Id="rId32" Type="http://schemas.openxmlformats.org/officeDocument/2006/relationships/image" Target="../media/image4.jpeg"/><Relationship Id="rId33" Type="http://schemas.openxmlformats.org/officeDocument/2006/relationships/image" Target="../media/image4.jpeg"/><Relationship Id="rId34" Type="http://schemas.openxmlformats.org/officeDocument/2006/relationships/image" Target="../media/image4.jpeg"/><Relationship Id="rId35" Type="http://schemas.openxmlformats.org/officeDocument/2006/relationships/image" Target="../media/image4.jpeg"/><Relationship Id="rId36" Type="http://schemas.openxmlformats.org/officeDocument/2006/relationships/image" Target="../media/image4.jpeg"/><Relationship Id="rId37" Type="http://schemas.openxmlformats.org/officeDocument/2006/relationships/image" Target="../media/image4.jpeg"/><Relationship Id="rId38" Type="http://schemas.openxmlformats.org/officeDocument/2006/relationships/image" Target="../media/image4.jpeg"/><Relationship Id="rId39" Type="http://schemas.openxmlformats.org/officeDocument/2006/relationships/image" Target="../media/image4.jpeg"/><Relationship Id="rId40" Type="http://schemas.openxmlformats.org/officeDocument/2006/relationships/image" Target="../media/image4.jpeg"/><Relationship Id="rId41" Type="http://schemas.openxmlformats.org/officeDocument/2006/relationships/image" Target="../media/image4.jpeg"/><Relationship Id="rId42" Type="http://schemas.openxmlformats.org/officeDocument/2006/relationships/image" Target="../media/image4.jpeg"/><Relationship Id="rId43" Type="http://schemas.openxmlformats.org/officeDocument/2006/relationships/image" Target="../media/image4.jpeg"/><Relationship Id="rId44" Type="http://schemas.openxmlformats.org/officeDocument/2006/relationships/image" Target="../media/image4.jpeg"/><Relationship Id="rId45" Type="http://schemas.openxmlformats.org/officeDocument/2006/relationships/image" Target="../media/image4.jpeg"/><Relationship Id="rId46" Type="http://schemas.openxmlformats.org/officeDocument/2006/relationships/image" Target="../media/image4.jpeg"/><Relationship Id="rId47" Type="http://schemas.openxmlformats.org/officeDocument/2006/relationships/image" Target="../media/image4.jpeg"/><Relationship Id="rId48" Type="http://schemas.openxmlformats.org/officeDocument/2006/relationships/image" Target="../media/image4.jpeg"/><Relationship Id="rId49" Type="http://schemas.openxmlformats.org/officeDocument/2006/relationships/image" Target="../media/image4.jpeg"/><Relationship Id="rId50" Type="http://schemas.openxmlformats.org/officeDocument/2006/relationships/image" Target="../media/image4.jpeg"/><Relationship Id="rId51" Type="http://schemas.openxmlformats.org/officeDocument/2006/relationships/image" Target="../media/image4.jpeg"/><Relationship Id="rId52" Type="http://schemas.openxmlformats.org/officeDocument/2006/relationships/image" Target="../media/image4.jpeg"/><Relationship Id="rId53" Type="http://schemas.openxmlformats.org/officeDocument/2006/relationships/image" Target="../media/image4.jpeg"/><Relationship Id="rId54" Type="http://schemas.openxmlformats.org/officeDocument/2006/relationships/image" Target="../media/image4.jpeg"/><Relationship Id="rId5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66"/>
                </a:solidFill>
                <a:latin typeface="Times New Roman"/>
              </a:rPr>
              <a:t>Platelets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14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Platelets are fragments of cytoplasm of bone marrow megakaryocy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Count 150 – 400 x 10</a:t>
            </a:r>
            <a:r>
              <a:rPr b="0" lang="en-US" sz="2800" spc="-1" strike="noStrike" baseline="30000">
                <a:solidFill>
                  <a:srgbClr val="99ffcc"/>
                </a:solidFill>
                <a:latin typeface="Times New Roman"/>
              </a:rPr>
              <a:t>9</a:t>
            </a: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/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Major role in coagu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638680" y="4267080"/>
            <a:ext cx="3019680" cy="21877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flipV="1">
            <a:off x="6095880" y="3123720"/>
            <a:ext cx="83844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7467480" y="4800600"/>
            <a:ext cx="38124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5867280" y="5105160"/>
            <a:ext cx="3049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647960" y="1218960"/>
            <a:ext cx="380988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Times New Roman"/>
              </a:rPr>
              <a:t>ITP: Clinical features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ccurs in any age or sex, but typically young fema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n be preceeded by viral inf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igns and symptoms depend on platelet cou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nset usually insidio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Times New Roman"/>
              </a:rPr>
              <a:t>ITP: Laboratory features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TP IS A DIAGNOSIS OF EXCLU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o sensitive and specific test for IT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solated thrombocytopen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creased MP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ormal PT, PT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one marrow investigation not essential in straightforward c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Times New Roman"/>
              </a:rPr>
              <a:t>ITP: Treatment</a:t>
            </a:r>
            <a:br>
              <a:rPr sz="4400"/>
            </a:br>
            <a:r>
              <a:rPr b="1" lang="en-GB" sz="4400" spc="-1" strike="noStrike">
                <a:solidFill>
                  <a:srgbClr val="ffcc66"/>
                </a:solidFill>
                <a:latin typeface="Times New Roman"/>
              </a:rPr>
              <a:t>Patient is not bleeding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lt &gt; 50: Rx not indica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lt 20-50: Rx usually not needed, monitor close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lt &lt; 20: Rx indicated with one or more of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rednis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VI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nti-D if Rh p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plenectomy if relapsing severe IT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(No role for prophylactic platelet transfusion, even if plt = 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Times New Roman"/>
              </a:rPr>
              <a:t>ITP: Treatment</a:t>
            </a:r>
            <a:br>
              <a:rPr sz="4400"/>
            </a:br>
            <a:r>
              <a:rPr b="1" lang="en-GB" sz="4400" spc="-1" strike="noStrike">
                <a:solidFill>
                  <a:srgbClr val="ffcc66"/>
                </a:solidFill>
                <a:latin typeface="Times New Roman"/>
              </a:rPr>
              <a:t>Patient is bleeding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or serious bleeding (eg. CNS, retroperitoneal, GI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rednisone and IVI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ransfuse platel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sider urgent splenectom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rovide other supportive/resuscitative care as nee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Times New Roman"/>
              </a:rPr>
              <a:t>ITP: Prognosis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hildren: usually permanent remi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dults: usually relapsing (chronic ITP), but course is relatively benig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Features of Acute and Chronic ITP</a:t>
            </a:r>
            <a:endParaRPr b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3040" y="1600200"/>
            <a:ext cx="89409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atur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u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ronic IT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ak ag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ildren (2-6 yrs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ults (20-40 yr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male:ma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: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: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ecedent infec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o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set of symptom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rup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rupt-indol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telet count at present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20,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50,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r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-6 week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ng-te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ontaneous remiss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comm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707240" y="5083200"/>
            <a:ext cx="16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46600" y="4702320"/>
            <a:ext cx="16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33720" y="2492280"/>
            <a:ext cx="16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57040" y="1577880"/>
            <a:ext cx="16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33720" y="6531120"/>
            <a:ext cx="16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981600" y="-22320"/>
            <a:ext cx="164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62520" y="739800"/>
            <a:ext cx="16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400" y="2438280"/>
            <a:ext cx="8669160" cy="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6477120"/>
            <a:ext cx="8669160" cy="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02680" y="228240"/>
            <a:ext cx="826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Incidence of adult ITP increases with age</a:t>
            </a:r>
            <a:endParaRPr b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39240" y="1739880"/>
            <a:ext cx="7495920" cy="35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cidenc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per 10</a:t>
            </a:r>
            <a:r>
              <a:rPr b="0" lang="en-US" sz="2400" spc="-1" strike="noStrike" baseline="50000">
                <a:solidFill>
                  <a:srgbClr val="ffffff"/>
                </a:solidFill>
                <a:latin typeface="Times New Roman"/>
              </a:rPr>
              <a:t>5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/ yea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 (yrs)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emal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l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5-3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2.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1.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3.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0-5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3.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1.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4.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0+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4.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4.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9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3.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2.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2.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422360" y="3276720"/>
            <a:ext cx="5554800" cy="0"/>
          </a:xfrm>
          <a:prstGeom prst="line">
            <a:avLst/>
          </a:prstGeom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22360" y="4724280"/>
            <a:ext cx="5554800" cy="0"/>
          </a:xfrm>
          <a:prstGeom prst="line">
            <a:avLst/>
          </a:prstGeom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Initial Treatment of ITP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98480" y="1730520"/>
            <a:ext cx="74646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telet cou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mptom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per µ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gt;50,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-50,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bleed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eed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ucocorticoi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VI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20,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bleed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ucocorticoi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eed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ucocorticoi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VI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spitaliz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80920" y="2590920"/>
            <a:ext cx="6772320" cy="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80920" y="6629400"/>
            <a:ext cx="6772320" cy="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5000" y="380520"/>
            <a:ext cx="7789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Summary of case series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Adults with ITP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6680" y="2022480"/>
            <a:ext cx="734508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riabl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./tota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%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lete respons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th glucocorticoid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70/144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26%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th splenectom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81/88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66%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ath from hemorrhag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8/176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4%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althy at last observ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27/160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64%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44480" y="2514600"/>
            <a:ext cx="6502320" cy="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44480" y="5334120"/>
            <a:ext cx="6502320" cy="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93280" y="546120"/>
            <a:ext cx="822636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Long-term morbidity and mortality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in adults with ITP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41440" y="2286000"/>
            <a:ext cx="86025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34 patients with severe ITP studied for mean of 10.5 y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R and PR patients (85%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increased mortality compared to control populatio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n-responders/maintenance therap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creased morbidity due to ITP-related hospitalization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creased mortality related equally to bleeding and infe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06440" y="5410080"/>
            <a:ext cx="8399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182880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66"/>
                </a:solidFill>
                <a:latin typeface="Times New Roman"/>
              </a:rPr>
              <a:t>Non-Malignant Platelets Disorders</a:t>
            </a:r>
            <a:endParaRPr b="1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Approach to the thrombocytopenic patient</a:t>
            </a:r>
            <a:endParaRPr b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Histo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the patient bleeding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 there symptoms of a secondary illness? (neoplasm, infection, autoimmune diseas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there a history of medications, alcohol use, or recent transfusion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 there risk factors for HIV infection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there a family history of thrombocytopenia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 the sites of bleeding suggest a platelet defec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Assess the number and function of platel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BC with peripheral sme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eeding time or platelet aggregation stu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Times New Roman"/>
              </a:rPr>
              <a:t>Approach to thrombocytopenia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352680" y="4191120"/>
            <a:ext cx="28195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Arial Narrow"/>
              </a:rPr>
              <a:t>aplas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Arial Narrow"/>
              </a:rPr>
              <a:t>infiltr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Arial Narrow"/>
              </a:rPr>
              <a:t>ineffective megakaryopoiesi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Narrow"/>
              </a:rPr>
              <a:t>     </a:t>
            </a:r>
            <a:r>
              <a:rPr b="0" lang="en-GB" sz="1600" spc="-1" strike="noStrike">
                <a:solidFill>
                  <a:srgbClr val="ffffff"/>
                </a:solidFill>
                <a:latin typeface="Arial Narrow"/>
              </a:rPr>
              <a:t>eg. MD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Arial Narrow"/>
              </a:rPr>
              <a:t>selective impairment of platelet produc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43000" y="4191120"/>
            <a:ext cx="2301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Narrow"/>
              </a:rPr>
              <a:t>Causes of splenomegal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Arial Narrow"/>
              </a:rPr>
              <a:t>infec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Arial Narrow"/>
              </a:rPr>
              <a:t>inflamm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Arial Narrow"/>
              </a:rPr>
              <a:t>conges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Arial Narrow"/>
              </a:rPr>
              <a:t>maliganc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Arial Narrow"/>
              </a:rPr>
              <a:t>red cell disord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Arial Narrow"/>
              </a:rPr>
              <a:t>storage diseas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65120" y="4191120"/>
            <a:ext cx="30063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Arial Narrow"/>
              </a:rPr>
              <a:t>immu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en-GB" sz="1600" spc="-1" strike="noStrike">
                <a:solidFill>
                  <a:srgbClr val="ffffff"/>
                </a:solidFill>
                <a:latin typeface="Arial Narrow"/>
              </a:rPr>
              <a:t>auto-immune (ITP, S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en-GB" sz="1600" spc="-1" strike="noStrike">
                <a:solidFill>
                  <a:srgbClr val="ffffff"/>
                </a:solidFill>
                <a:latin typeface="Arial Narrow"/>
              </a:rPr>
              <a:t>drug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en-GB" sz="1600" spc="-1" strike="noStrike">
                <a:solidFill>
                  <a:srgbClr val="ffffff"/>
                </a:solidFill>
                <a:latin typeface="Arial Narrow"/>
              </a:rPr>
              <a:t>infec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en-GB" sz="1600" spc="-1" strike="noStrike">
                <a:solidFill>
                  <a:srgbClr val="ffffff"/>
                </a:solidFill>
                <a:latin typeface="Arial Narrow"/>
              </a:rPr>
              <a:t>allo-immu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Arial Narrow"/>
              </a:rPr>
              <a:t>non-immu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en-GB" sz="1600" spc="-1" strike="noStrike">
                <a:solidFill>
                  <a:srgbClr val="ffffff"/>
                </a:solidFill>
                <a:latin typeface="Arial Narrow"/>
              </a:rPr>
              <a:t>sepsi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en-GB" sz="1600" spc="-1" strike="noStrike">
                <a:solidFill>
                  <a:srgbClr val="ffffff"/>
                </a:solidFill>
                <a:latin typeface="Arial Narrow"/>
              </a:rPr>
              <a:t>DIC, TTP, HU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en-GB" sz="1600" spc="-1" strike="noStrike">
                <a:solidFill>
                  <a:srgbClr val="ffffff"/>
                </a:solidFill>
                <a:latin typeface="Arial Narrow"/>
              </a:rPr>
              <a:t>hypertensive disorders of pregnanc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43000" y="358128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look for splenomegal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36920" y="3581280"/>
            <a:ext cx="23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bone marrow investig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review med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875200" y="3581280"/>
            <a:ext cx="25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look for underlying disord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review med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143000" y="1676520"/>
            <a:ext cx="6934320" cy="1922760"/>
            <a:chOff x="1143000" y="1676520"/>
            <a:chExt cx="6934320" cy="1922760"/>
          </a:xfrm>
        </p:grpSpPr>
        <p:sp>
          <p:nvSpPr>
            <p:cNvPr id="180" name=""/>
            <p:cNvSpPr/>
            <p:nvPr/>
          </p:nvSpPr>
          <p:spPr>
            <a:xfrm>
              <a:off x="3352320" y="1676520"/>
              <a:ext cx="247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HROMBOCYTOPENI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590920" y="2361960"/>
              <a:ext cx="402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rule out pseudothrombocytopeni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143000" y="3200400"/>
              <a:ext cx="2209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SEQUESTR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505320" y="3200400"/>
              <a:ext cx="213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RODUC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19920" y="320040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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DESTRUC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572000" y="2057400"/>
              <a:ext cx="0" cy="304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572000" y="281916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286000" y="2971800"/>
              <a:ext cx="0" cy="228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858000" y="2971800"/>
              <a:ext cx="0" cy="228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286000" y="2971800"/>
              <a:ext cx="2286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572000" y="2971800"/>
              <a:ext cx="2286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Bleeding time and bleeding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00560" y="4227480"/>
            <a:ext cx="165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19880" y="4684680"/>
            <a:ext cx="165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387680" y="2627280"/>
            <a:ext cx="165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30680" y="6665760"/>
            <a:ext cx="16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-10% of patients have a prolonged bleeding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of the prolonged bleeding  times are due to aspirin or drug inges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longed bleeding time does not predict excess surgical blood lo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recommended for routine testing in preoperative pati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Times New Roman"/>
              </a:rPr>
              <a:t>Thrombocytopoiesis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182880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Narrow"/>
              </a:rPr>
              <a:t>PLURIPOT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Narrow"/>
              </a:rPr>
              <a:t>STEM CE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582360" y="1828800"/>
            <a:ext cx="144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Narrow"/>
              </a:rPr>
              <a:t>COMMIT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Narrow"/>
              </a:rPr>
              <a:t>PROGENIT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Narrow"/>
              </a:rPr>
              <a:t>CE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181480" y="182880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Narrow"/>
              </a:rPr>
              <a:t>RECOGNIZABLE BONE MARROW PRECURSOR CE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315200" y="1828800"/>
            <a:ext cx="115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Narrow"/>
              </a:rPr>
              <a:t>MATURE BLOOD CE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642280" y="3200400"/>
            <a:ext cx="107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myelobla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monobla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643720" y="2895480"/>
            <a:ext cx="137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pronormobla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547040" y="289548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red ce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549200" y="3200400"/>
            <a:ext cx="99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neutrophi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monocy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548120" y="426708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basophi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547040" y="4724280"/>
            <a:ext cx="83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Narrow"/>
              </a:rPr>
              <a:t>platel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657600" y="4267080"/>
            <a:ext cx="1513800" cy="380880"/>
            <a:chOff x="3657600" y="4267080"/>
            <a:chExt cx="1513800" cy="38088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4267080"/>
              <a:ext cx="456840" cy="380880"/>
              <a:chOff x="3657600" y="4267080"/>
              <a:chExt cx="456840" cy="380880"/>
            </a:xfrm>
          </p:grpSpPr>
          <p:sp>
            <p:nvSpPr>
              <p:cNvPr id="211" name=""/>
              <p:cNvSpPr/>
              <p:nvPr/>
            </p:nvSpPr>
            <p:spPr>
              <a:xfrm>
                <a:off x="3657600" y="4267080"/>
                <a:ext cx="456840" cy="38088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717720" y="4300200"/>
                <a:ext cx="304560" cy="3049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3" name=""/>
            <p:cNvSpPr/>
            <p:nvPr/>
          </p:nvSpPr>
          <p:spPr>
            <a:xfrm>
              <a:off x="4115880" y="4267080"/>
              <a:ext cx="105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 Narrow"/>
                </a:rPr>
                <a:t>CFU-Bas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3657600" y="3809880"/>
            <a:ext cx="1410120" cy="380880"/>
            <a:chOff x="3657600" y="3809880"/>
            <a:chExt cx="1410120" cy="380880"/>
          </a:xfrm>
        </p:grpSpPr>
        <p:grpSp>
          <p:nvGrpSpPr>
            <p:cNvPr id="215" name=""/>
            <p:cNvGrpSpPr/>
            <p:nvPr/>
          </p:nvGrpSpPr>
          <p:grpSpPr>
            <a:xfrm>
              <a:off x="3657600" y="3809880"/>
              <a:ext cx="457200" cy="380880"/>
              <a:chOff x="3657600" y="3809880"/>
              <a:chExt cx="457200" cy="380880"/>
            </a:xfrm>
          </p:grpSpPr>
          <p:sp>
            <p:nvSpPr>
              <p:cNvPr id="216" name=""/>
              <p:cNvSpPr/>
              <p:nvPr/>
            </p:nvSpPr>
            <p:spPr>
              <a:xfrm>
                <a:off x="3657600" y="3809880"/>
                <a:ext cx="457200" cy="38088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718080" y="3843000"/>
                <a:ext cx="304920" cy="3049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8" name=""/>
            <p:cNvSpPr/>
            <p:nvPr/>
          </p:nvSpPr>
          <p:spPr>
            <a:xfrm>
              <a:off x="4115880" y="3809880"/>
              <a:ext cx="95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 Narrow"/>
                </a:rPr>
                <a:t>CFU-Eo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657600" y="3352680"/>
            <a:ext cx="1388160" cy="380880"/>
            <a:chOff x="3657600" y="3352680"/>
            <a:chExt cx="1388160" cy="380880"/>
          </a:xfrm>
        </p:grpSpPr>
        <p:grpSp>
          <p:nvGrpSpPr>
            <p:cNvPr id="220" name=""/>
            <p:cNvGrpSpPr/>
            <p:nvPr/>
          </p:nvGrpSpPr>
          <p:grpSpPr>
            <a:xfrm>
              <a:off x="3657600" y="3352680"/>
              <a:ext cx="457200" cy="380880"/>
              <a:chOff x="3657600" y="3352680"/>
              <a:chExt cx="457200" cy="380880"/>
            </a:xfrm>
          </p:grpSpPr>
          <p:sp>
            <p:nvSpPr>
              <p:cNvPr id="221" name=""/>
              <p:cNvSpPr/>
              <p:nvPr/>
            </p:nvSpPr>
            <p:spPr>
              <a:xfrm>
                <a:off x="3657600" y="3352680"/>
                <a:ext cx="457200" cy="38088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718080" y="3385800"/>
                <a:ext cx="304920" cy="3049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4115160" y="3352680"/>
              <a:ext cx="93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 Narrow"/>
                </a:rPr>
                <a:t>CFU-G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3657600" y="2895480"/>
            <a:ext cx="1825920" cy="380880"/>
            <a:chOff x="3657600" y="2895480"/>
            <a:chExt cx="1825920" cy="380880"/>
          </a:xfrm>
        </p:grpSpPr>
        <p:grpSp>
          <p:nvGrpSpPr>
            <p:cNvPr id="225" name=""/>
            <p:cNvGrpSpPr/>
            <p:nvPr/>
          </p:nvGrpSpPr>
          <p:grpSpPr>
            <a:xfrm>
              <a:off x="3657600" y="2895480"/>
              <a:ext cx="457200" cy="380880"/>
              <a:chOff x="3657600" y="2895480"/>
              <a:chExt cx="457200" cy="380880"/>
            </a:xfrm>
          </p:grpSpPr>
          <p:sp>
            <p:nvSpPr>
              <p:cNvPr id="226" name=""/>
              <p:cNvSpPr/>
              <p:nvPr/>
            </p:nvSpPr>
            <p:spPr>
              <a:xfrm>
                <a:off x="3657600" y="2895480"/>
                <a:ext cx="457200" cy="38088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718080" y="2928600"/>
                <a:ext cx="304920" cy="3049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4115520" y="2895480"/>
              <a:ext cx="136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 Narrow"/>
                </a:rPr>
                <a:t>BFU-E/CFU-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 flipH="1">
            <a:off x="3428640" y="3124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3428640" y="35812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3428640" y="44956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3428640" y="49528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429000" y="3124080"/>
            <a:ext cx="0" cy="1828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486400" y="3124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257800" y="4038480"/>
            <a:ext cx="2209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548480" y="380988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eosinophi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257800" y="4495680"/>
            <a:ext cx="2209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257800" y="49528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495288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086600" y="31240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781320" y="34290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6705720" y="373392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5257800" y="3429000"/>
            <a:ext cx="380160" cy="304920"/>
            <a:chOff x="5257800" y="3429000"/>
            <a:chExt cx="380160" cy="304920"/>
          </a:xfrm>
        </p:grpSpPr>
        <p:sp>
          <p:nvSpPr>
            <p:cNvPr id="244" name=""/>
            <p:cNvSpPr/>
            <p:nvPr/>
          </p:nvSpPr>
          <p:spPr>
            <a:xfrm>
              <a:off x="5257800" y="3581280"/>
              <a:ext cx="228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5485680" y="342900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5485680" y="373392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486040" y="342900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2895480" y="40384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3657600" y="5715000"/>
            <a:ext cx="457200" cy="380880"/>
            <a:chOff x="3657600" y="5715000"/>
            <a:chExt cx="457200" cy="380880"/>
          </a:xfrm>
        </p:grpSpPr>
        <p:sp>
          <p:nvSpPr>
            <p:cNvPr id="250" name=""/>
            <p:cNvSpPr/>
            <p:nvPr/>
          </p:nvSpPr>
          <p:spPr>
            <a:xfrm>
              <a:off x="3657600" y="5715000"/>
              <a:ext cx="457200" cy="3808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718080" y="5748120"/>
              <a:ext cx="304920" cy="3049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3657600" y="5257800"/>
            <a:ext cx="457200" cy="380880"/>
            <a:chOff x="3657600" y="5257800"/>
            <a:chExt cx="457200" cy="380880"/>
          </a:xfrm>
        </p:grpSpPr>
        <p:sp>
          <p:nvSpPr>
            <p:cNvPr id="253" name=""/>
            <p:cNvSpPr/>
            <p:nvPr/>
          </p:nvSpPr>
          <p:spPr>
            <a:xfrm>
              <a:off x="3657600" y="5257800"/>
              <a:ext cx="457200" cy="3808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718080" y="5290920"/>
              <a:ext cx="304920" cy="3049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4116960" y="5257800"/>
            <a:ext cx="6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pre-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117320" y="57150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pre-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3428640" y="5486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3428640" y="59436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429000" y="54864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2895480" y="571500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067480" y="4191120"/>
            <a:ext cx="11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Narrow"/>
              </a:rPr>
              <a:t>myeloi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Narrow"/>
              </a:rPr>
              <a:t>progenit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Narrow"/>
              </a:rPr>
              <a:t>ce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2362320" y="5486400"/>
            <a:ext cx="457200" cy="380880"/>
            <a:chOff x="2362320" y="5486400"/>
            <a:chExt cx="457200" cy="380880"/>
          </a:xfrm>
        </p:grpSpPr>
        <p:sp>
          <p:nvSpPr>
            <p:cNvPr id="263" name=""/>
            <p:cNvSpPr/>
            <p:nvPr/>
          </p:nvSpPr>
          <p:spPr>
            <a:xfrm>
              <a:off x="2362320" y="5486400"/>
              <a:ext cx="457200" cy="3808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422800" y="5519520"/>
              <a:ext cx="304920" cy="3049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2213640" y="586728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lymphoi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642640" y="525780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lymphobla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642640" y="571500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lymphobla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548640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594360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0" y="548640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58000" y="594360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545600" y="52578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T-ce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545600" y="571500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B-ce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914400" y="4648320"/>
            <a:ext cx="457200" cy="380880"/>
            <a:chOff x="914400" y="4648320"/>
            <a:chExt cx="457200" cy="380880"/>
          </a:xfrm>
        </p:grpSpPr>
        <p:sp>
          <p:nvSpPr>
            <p:cNvPr id="275" name=""/>
            <p:cNvSpPr/>
            <p:nvPr/>
          </p:nvSpPr>
          <p:spPr>
            <a:xfrm>
              <a:off x="914400" y="4648320"/>
              <a:ext cx="457200" cy="38088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974880" y="4681440"/>
              <a:ext cx="304920" cy="30492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 flipH="1">
            <a:off x="1980720" y="40384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1980720" y="57150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981080" y="4038480"/>
            <a:ext cx="0" cy="1676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447920" y="487692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544160" y="6018120"/>
            <a:ext cx="92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Narrow"/>
              </a:rPr>
              <a:t>&amp; plasma cel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828800" y="1828800"/>
            <a:ext cx="161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Narrow"/>
              </a:rPr>
              <a:t>MIXED PROGENITOR CE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2362320" y="3809880"/>
            <a:ext cx="457200" cy="380880"/>
            <a:chOff x="2362320" y="3809880"/>
            <a:chExt cx="457200" cy="380880"/>
          </a:xfrm>
        </p:grpSpPr>
        <p:sp>
          <p:nvSpPr>
            <p:cNvPr id="284" name=""/>
            <p:cNvSpPr/>
            <p:nvPr/>
          </p:nvSpPr>
          <p:spPr>
            <a:xfrm>
              <a:off x="2362320" y="3809880"/>
              <a:ext cx="457200" cy="38088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422800" y="3843000"/>
              <a:ext cx="304920" cy="30492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3657600" y="4724280"/>
            <a:ext cx="457200" cy="380880"/>
            <a:chOff x="3657600" y="4724280"/>
            <a:chExt cx="457200" cy="380880"/>
          </a:xfrm>
        </p:grpSpPr>
        <p:sp>
          <p:nvSpPr>
            <p:cNvPr id="287" name=""/>
            <p:cNvSpPr/>
            <p:nvPr/>
          </p:nvSpPr>
          <p:spPr>
            <a:xfrm>
              <a:off x="3657600" y="4724280"/>
              <a:ext cx="457200" cy="380880"/>
            </a:xfrm>
            <a:prstGeom prst="ellipse">
              <a:avLst/>
            </a:prstGeom>
            <a:solidFill>
              <a:srgbClr val="cc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718080" y="4757400"/>
              <a:ext cx="304920" cy="304920"/>
            </a:xfrm>
            <a:prstGeom prst="ellipse">
              <a:avLst/>
            </a:prstGeom>
            <a:solidFill>
              <a:srgbClr val="33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4115880" y="4724280"/>
            <a:ext cx="100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Narrow"/>
              </a:rPr>
              <a:t>CFU-Me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644800" y="472428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Narrow"/>
              </a:rPr>
              <a:t>megakaryocy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35680" y="5029200"/>
            <a:ext cx="115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Narrow"/>
              </a:rPr>
              <a:t>pluripot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Narrow"/>
              </a:rPr>
              <a:t>stem ce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447920" y="4038480"/>
            <a:ext cx="761760" cy="838440"/>
          </a:xfrm>
          <a:custGeom>
            <a:avLst/>
            <a:gdLst/>
            <a:ahLst/>
            <a:rect l="l" t="t" r="r" b="b"/>
            <a:pathLst>
              <a:path w="480" h="528">
                <a:moveTo>
                  <a:pt x="0" y="528"/>
                </a:moveTo>
                <a:lnTo>
                  <a:pt x="336" y="528"/>
                </a:lnTo>
                <a:lnTo>
                  <a:pt x="336" y="0"/>
                </a:lnTo>
                <a:lnTo>
                  <a:pt x="48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895480" y="4038480"/>
            <a:ext cx="685800" cy="914400"/>
          </a:xfrm>
          <a:custGeom>
            <a:avLst/>
            <a:gdLst/>
            <a:ahLst/>
            <a:rect l="l" t="t" r="r" b="b"/>
            <a:pathLst>
              <a:path w="432" h="576">
                <a:moveTo>
                  <a:pt x="0" y="0"/>
                </a:moveTo>
                <a:lnTo>
                  <a:pt x="336" y="0"/>
                </a:lnTo>
                <a:lnTo>
                  <a:pt x="336" y="576"/>
                </a:lnTo>
                <a:lnTo>
                  <a:pt x="432" y="576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257800" y="4952880"/>
            <a:ext cx="3808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162920" y="4952880"/>
            <a:ext cx="3045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Times New Roman"/>
              </a:rPr>
              <a:t>Platelet formation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711000" y="2087280"/>
            <a:ext cx="2159640" cy="2150280"/>
            <a:chOff x="711000" y="2087280"/>
            <a:chExt cx="2159640" cy="2150280"/>
          </a:xfrm>
        </p:grpSpPr>
        <p:sp>
          <p:nvSpPr>
            <p:cNvPr id="298" name=""/>
            <p:cNvSpPr/>
            <p:nvPr/>
          </p:nvSpPr>
          <p:spPr>
            <a:xfrm rot="18949800">
              <a:off x="914400" y="2514600"/>
              <a:ext cx="1752480" cy="1295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rot="2046600">
              <a:off x="1218960" y="3124080"/>
              <a:ext cx="380880" cy="53352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rot="17797200">
              <a:off x="1600200" y="3200400"/>
              <a:ext cx="380880" cy="53352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rot="1659000">
              <a:off x="1371240" y="2666520"/>
              <a:ext cx="380880" cy="53352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rot="3700200">
              <a:off x="1676160" y="2819160"/>
              <a:ext cx="381240" cy="533520"/>
            </a:xfrm>
            <a:prstGeom prst="ellips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835560" y="4343400"/>
            <a:ext cx="191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egakaryocy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3454200" y="2120760"/>
            <a:ext cx="2159640" cy="2150280"/>
            <a:chOff x="3454200" y="2120760"/>
            <a:chExt cx="2159640" cy="2150280"/>
          </a:xfrm>
        </p:grpSpPr>
        <p:grpSp>
          <p:nvGrpSpPr>
            <p:cNvPr id="305" name=""/>
            <p:cNvGrpSpPr/>
            <p:nvPr/>
          </p:nvGrpSpPr>
          <p:grpSpPr>
            <a:xfrm>
              <a:off x="3454200" y="2120760"/>
              <a:ext cx="2159640" cy="2150280"/>
              <a:chOff x="3454200" y="2120760"/>
              <a:chExt cx="2159640" cy="2150280"/>
            </a:xfrm>
          </p:grpSpPr>
          <p:sp>
            <p:nvSpPr>
              <p:cNvPr id="306" name=""/>
              <p:cNvSpPr/>
              <p:nvPr/>
            </p:nvSpPr>
            <p:spPr>
              <a:xfrm rot="18949800">
                <a:off x="3657600" y="2548080"/>
                <a:ext cx="1752480" cy="1295280"/>
              </a:xfrm>
              <a:prstGeom prst="ellipse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2046600">
                <a:off x="3961800" y="3157560"/>
                <a:ext cx="381240" cy="533520"/>
              </a:xfrm>
              <a:prstGeom prst="ellipse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17797200">
                <a:off x="4343400" y="3233160"/>
                <a:ext cx="381240" cy="533520"/>
              </a:xfrm>
              <a:prstGeom prst="ellipse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1659000">
                <a:off x="4114440" y="2700000"/>
                <a:ext cx="380880" cy="533520"/>
              </a:xfrm>
              <a:prstGeom prst="ellipse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3700200">
                <a:off x="4419000" y="2852640"/>
                <a:ext cx="380880" cy="533160"/>
              </a:xfrm>
              <a:prstGeom prst="ellipse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643280" y="2438280"/>
                <a:ext cx="209520" cy="223920"/>
              </a:xfrm>
              <a:custGeom>
                <a:avLst/>
                <a:gdLst/>
                <a:ahLst/>
                <a:rect l="l" t="t" r="r" b="b"/>
                <a:pathLst>
                  <a:path w="132" h="141">
                    <a:moveTo>
                      <a:pt x="132" y="0"/>
                    </a:moveTo>
                    <a:cubicBezTo>
                      <a:pt x="118" y="5"/>
                      <a:pt x="119" y="19"/>
                      <a:pt x="114" y="33"/>
                    </a:cubicBezTo>
                    <a:cubicBezTo>
                      <a:pt x="113" y="36"/>
                      <a:pt x="111" y="42"/>
                      <a:pt x="111" y="42"/>
                    </a:cubicBezTo>
                    <a:cubicBezTo>
                      <a:pt x="110" y="49"/>
                      <a:pt x="109" y="75"/>
                      <a:pt x="99" y="81"/>
                    </a:cubicBezTo>
                    <a:cubicBezTo>
                      <a:pt x="76" y="94"/>
                      <a:pt x="69" y="84"/>
                      <a:pt x="51" y="111"/>
                    </a:cubicBezTo>
                    <a:cubicBezTo>
                      <a:pt x="47" y="128"/>
                      <a:pt x="44" y="130"/>
                      <a:pt x="27" y="126"/>
                    </a:cubicBezTo>
                    <a:cubicBezTo>
                      <a:pt x="18" y="127"/>
                      <a:pt x="0" y="127"/>
                      <a:pt x="0" y="141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814640" y="2514600"/>
                <a:ext cx="133560" cy="247680"/>
              </a:xfrm>
              <a:custGeom>
                <a:avLst/>
                <a:gdLst/>
                <a:ahLst/>
                <a:rect l="l" t="t" r="r" b="b"/>
                <a:pathLst>
                  <a:path w="84" h="156">
                    <a:moveTo>
                      <a:pt x="0" y="0"/>
                    </a:moveTo>
                    <a:cubicBezTo>
                      <a:pt x="4" y="4"/>
                      <a:pt x="9" y="7"/>
                      <a:pt x="12" y="12"/>
                    </a:cubicBezTo>
                    <a:cubicBezTo>
                      <a:pt x="14" y="15"/>
                      <a:pt x="13" y="19"/>
                      <a:pt x="15" y="21"/>
                    </a:cubicBezTo>
                    <a:cubicBezTo>
                      <a:pt x="28" y="36"/>
                      <a:pt x="42" y="42"/>
                      <a:pt x="54" y="57"/>
                    </a:cubicBezTo>
                    <a:cubicBezTo>
                      <a:pt x="65" y="89"/>
                      <a:pt x="38" y="128"/>
                      <a:pt x="66" y="156"/>
                    </a:cubicBezTo>
                    <a:cubicBezTo>
                      <a:pt x="71" y="154"/>
                      <a:pt x="77" y="153"/>
                      <a:pt x="81" y="150"/>
                    </a:cubicBezTo>
                    <a:cubicBezTo>
                      <a:pt x="83" y="148"/>
                      <a:pt x="84" y="141"/>
                      <a:pt x="84" y="141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857480" y="2638440"/>
                <a:ext cx="187560" cy="638280"/>
              </a:xfrm>
              <a:custGeom>
                <a:avLst/>
                <a:gdLst/>
                <a:ahLst/>
                <a:rect l="l" t="t" r="r" b="b"/>
                <a:pathLst>
                  <a:path w="118" h="402">
                    <a:moveTo>
                      <a:pt x="114" y="0"/>
                    </a:moveTo>
                    <a:cubicBezTo>
                      <a:pt x="118" y="31"/>
                      <a:pt x="117" y="60"/>
                      <a:pt x="108" y="90"/>
                    </a:cubicBezTo>
                    <a:cubicBezTo>
                      <a:pt x="106" y="116"/>
                      <a:pt x="105" y="142"/>
                      <a:pt x="102" y="168"/>
                    </a:cubicBezTo>
                    <a:cubicBezTo>
                      <a:pt x="100" y="191"/>
                      <a:pt x="78" y="221"/>
                      <a:pt x="72" y="246"/>
                    </a:cubicBezTo>
                    <a:cubicBezTo>
                      <a:pt x="77" y="282"/>
                      <a:pt x="75" y="252"/>
                      <a:pt x="72" y="291"/>
                    </a:cubicBezTo>
                    <a:cubicBezTo>
                      <a:pt x="68" y="354"/>
                      <a:pt x="75" y="402"/>
                      <a:pt x="0" y="402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910040" y="2548080"/>
                <a:ext cx="200160" cy="419040"/>
              </a:xfrm>
              <a:custGeom>
                <a:avLst/>
                <a:gdLst/>
                <a:ahLst/>
                <a:rect l="l" t="t" r="r" b="b"/>
                <a:pathLst>
                  <a:path w="126" h="264">
                    <a:moveTo>
                      <a:pt x="126" y="0"/>
                    </a:moveTo>
                    <a:cubicBezTo>
                      <a:pt x="118" y="16"/>
                      <a:pt x="102" y="35"/>
                      <a:pt x="87" y="45"/>
                    </a:cubicBezTo>
                    <a:cubicBezTo>
                      <a:pt x="81" y="63"/>
                      <a:pt x="67" y="74"/>
                      <a:pt x="57" y="90"/>
                    </a:cubicBezTo>
                    <a:cubicBezTo>
                      <a:pt x="56" y="98"/>
                      <a:pt x="57" y="106"/>
                      <a:pt x="54" y="114"/>
                    </a:cubicBezTo>
                    <a:cubicBezTo>
                      <a:pt x="52" y="119"/>
                      <a:pt x="36" y="130"/>
                      <a:pt x="33" y="132"/>
                    </a:cubicBezTo>
                    <a:cubicBezTo>
                      <a:pt x="19" y="144"/>
                      <a:pt x="9" y="154"/>
                      <a:pt x="0" y="171"/>
                    </a:cubicBezTo>
                    <a:cubicBezTo>
                      <a:pt x="4" y="189"/>
                      <a:pt x="12" y="202"/>
                      <a:pt x="18" y="219"/>
                    </a:cubicBezTo>
                    <a:cubicBezTo>
                      <a:pt x="15" y="260"/>
                      <a:pt x="21" y="246"/>
                      <a:pt x="12" y="264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671720" y="2481120"/>
                <a:ext cx="290520" cy="328680"/>
              </a:xfrm>
              <a:custGeom>
                <a:avLst/>
                <a:gdLst/>
                <a:ahLst/>
                <a:rect l="l" t="t" r="r" b="b"/>
                <a:pathLst>
                  <a:path w="183" h="207">
                    <a:moveTo>
                      <a:pt x="183" y="0"/>
                    </a:moveTo>
                    <a:cubicBezTo>
                      <a:pt x="174" y="14"/>
                      <a:pt x="160" y="22"/>
                      <a:pt x="150" y="36"/>
                    </a:cubicBezTo>
                    <a:cubicBezTo>
                      <a:pt x="139" y="51"/>
                      <a:pt x="133" y="69"/>
                      <a:pt x="123" y="84"/>
                    </a:cubicBezTo>
                    <a:cubicBezTo>
                      <a:pt x="122" y="109"/>
                      <a:pt x="123" y="134"/>
                      <a:pt x="120" y="159"/>
                    </a:cubicBezTo>
                    <a:cubicBezTo>
                      <a:pt x="117" y="182"/>
                      <a:pt x="44" y="184"/>
                      <a:pt x="24" y="189"/>
                    </a:cubicBezTo>
                    <a:cubicBezTo>
                      <a:pt x="20" y="192"/>
                      <a:pt x="5" y="207"/>
                      <a:pt x="0" y="207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919400" y="2747880"/>
                <a:ext cx="61920" cy="405000"/>
              </a:xfrm>
              <a:custGeom>
                <a:avLst/>
                <a:gdLst/>
                <a:ahLst/>
                <a:rect l="l" t="t" r="r" b="b"/>
                <a:pathLst>
                  <a:path w="39" h="255">
                    <a:moveTo>
                      <a:pt x="39" y="0"/>
                    </a:moveTo>
                    <a:cubicBezTo>
                      <a:pt x="36" y="14"/>
                      <a:pt x="34" y="26"/>
                      <a:pt x="27" y="39"/>
                    </a:cubicBezTo>
                    <a:cubicBezTo>
                      <a:pt x="25" y="62"/>
                      <a:pt x="23" y="80"/>
                      <a:pt x="18" y="102"/>
                    </a:cubicBezTo>
                    <a:cubicBezTo>
                      <a:pt x="34" y="150"/>
                      <a:pt x="23" y="210"/>
                      <a:pt x="0" y="255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671720" y="2562120"/>
                <a:ext cx="171720" cy="195480"/>
              </a:xfrm>
              <a:custGeom>
                <a:avLst/>
                <a:gdLst/>
                <a:ahLst/>
                <a:rect l="l" t="t" r="r" b="b"/>
                <a:pathLst>
                  <a:path w="108" h="123">
                    <a:moveTo>
                      <a:pt x="108" y="0"/>
                    </a:moveTo>
                    <a:cubicBezTo>
                      <a:pt x="103" y="11"/>
                      <a:pt x="98" y="21"/>
                      <a:pt x="96" y="33"/>
                    </a:cubicBezTo>
                    <a:cubicBezTo>
                      <a:pt x="94" y="47"/>
                      <a:pt x="103" y="69"/>
                      <a:pt x="90" y="75"/>
                    </a:cubicBezTo>
                    <a:cubicBezTo>
                      <a:pt x="72" y="84"/>
                      <a:pt x="53" y="84"/>
                      <a:pt x="33" y="87"/>
                    </a:cubicBezTo>
                    <a:cubicBezTo>
                      <a:pt x="30" y="99"/>
                      <a:pt x="26" y="110"/>
                      <a:pt x="15" y="117"/>
                    </a:cubicBezTo>
                    <a:cubicBezTo>
                      <a:pt x="10" y="120"/>
                      <a:pt x="0" y="123"/>
                      <a:pt x="0" y="123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952880" y="2467080"/>
                <a:ext cx="34920" cy="185760"/>
              </a:xfrm>
              <a:custGeom>
                <a:avLst/>
                <a:gdLst/>
                <a:ahLst/>
                <a:rect l="l" t="t" r="r" b="b"/>
                <a:pathLst>
                  <a:path w="22" h="117">
                    <a:moveTo>
                      <a:pt x="6" y="0"/>
                    </a:moveTo>
                    <a:cubicBezTo>
                      <a:pt x="22" y="31"/>
                      <a:pt x="17" y="48"/>
                      <a:pt x="12" y="90"/>
                    </a:cubicBezTo>
                    <a:cubicBezTo>
                      <a:pt x="11" y="100"/>
                      <a:pt x="0" y="117"/>
                      <a:pt x="0" y="117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076720" y="2700360"/>
                <a:ext cx="166680" cy="152280"/>
              </a:xfrm>
              <a:custGeom>
                <a:avLst/>
                <a:gdLst/>
                <a:ahLst/>
                <a:rect l="l" t="t" r="r" b="b"/>
                <a:pathLst>
                  <a:path w="105" h="96">
                    <a:moveTo>
                      <a:pt x="105" y="0"/>
                    </a:moveTo>
                    <a:cubicBezTo>
                      <a:pt x="79" y="9"/>
                      <a:pt x="65" y="30"/>
                      <a:pt x="42" y="45"/>
                    </a:cubicBezTo>
                    <a:cubicBezTo>
                      <a:pt x="39" y="55"/>
                      <a:pt x="38" y="72"/>
                      <a:pt x="33" y="81"/>
                    </a:cubicBezTo>
                    <a:cubicBezTo>
                      <a:pt x="26" y="93"/>
                      <a:pt x="0" y="82"/>
                      <a:pt x="0" y="9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757760" y="2557440"/>
                <a:ext cx="404640" cy="176400"/>
              </a:xfrm>
              <a:custGeom>
                <a:avLst/>
                <a:gdLst/>
                <a:ahLst/>
                <a:rect l="l" t="t" r="r" b="b"/>
                <a:pathLst>
                  <a:path w="255" h="111">
                    <a:moveTo>
                      <a:pt x="240" y="12"/>
                    </a:moveTo>
                    <a:cubicBezTo>
                      <a:pt x="207" y="45"/>
                      <a:pt x="255" y="0"/>
                      <a:pt x="219" y="24"/>
                    </a:cubicBezTo>
                    <a:cubicBezTo>
                      <a:pt x="216" y="26"/>
                      <a:pt x="216" y="31"/>
                      <a:pt x="213" y="33"/>
                    </a:cubicBezTo>
                    <a:cubicBezTo>
                      <a:pt x="205" y="39"/>
                      <a:pt x="193" y="38"/>
                      <a:pt x="183" y="39"/>
                    </a:cubicBezTo>
                    <a:cubicBezTo>
                      <a:pt x="173" y="49"/>
                      <a:pt x="163" y="59"/>
                      <a:pt x="153" y="69"/>
                    </a:cubicBezTo>
                    <a:cubicBezTo>
                      <a:pt x="147" y="75"/>
                      <a:pt x="147" y="84"/>
                      <a:pt x="141" y="90"/>
                    </a:cubicBezTo>
                    <a:cubicBezTo>
                      <a:pt x="131" y="100"/>
                      <a:pt x="102" y="97"/>
                      <a:pt x="87" y="102"/>
                    </a:cubicBezTo>
                    <a:cubicBezTo>
                      <a:pt x="72" y="101"/>
                      <a:pt x="13" y="86"/>
                      <a:pt x="0" y="111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814640" y="2438280"/>
                <a:ext cx="9720" cy="38160"/>
              </a:xfrm>
              <a:custGeom>
                <a:avLst/>
                <a:gdLst/>
                <a:ahLst/>
                <a:rect l="l" t="t" r="r" b="b"/>
                <a:pathLst>
                  <a:path w="6" h="24">
                    <a:moveTo>
                      <a:pt x="0" y="0"/>
                    </a:moveTo>
                    <a:cubicBezTo>
                      <a:pt x="3" y="8"/>
                      <a:pt x="6" y="16"/>
                      <a:pt x="6" y="24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733640" y="2471760"/>
                <a:ext cx="76320" cy="68400"/>
              </a:xfrm>
              <a:custGeom>
                <a:avLst/>
                <a:gdLst/>
                <a:ahLst/>
                <a:rect l="l" t="t" r="r" b="b"/>
                <a:pathLst>
                  <a:path w="48" h="43">
                    <a:moveTo>
                      <a:pt x="48" y="0"/>
                    </a:moveTo>
                    <a:cubicBezTo>
                      <a:pt x="34" y="21"/>
                      <a:pt x="28" y="20"/>
                      <a:pt x="9" y="33"/>
                    </a:cubicBezTo>
                    <a:cubicBezTo>
                      <a:pt x="2" y="43"/>
                      <a:pt x="7" y="42"/>
                      <a:pt x="0" y="42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709880" y="2448000"/>
                <a:ext cx="184320" cy="135000"/>
              </a:xfrm>
              <a:custGeom>
                <a:avLst/>
                <a:gdLst/>
                <a:ahLst/>
                <a:rect l="l" t="t" r="r" b="b"/>
                <a:pathLst>
                  <a:path w="116" h="85">
                    <a:moveTo>
                      <a:pt x="114" y="0"/>
                    </a:moveTo>
                    <a:cubicBezTo>
                      <a:pt x="108" y="12"/>
                      <a:pt x="102" y="20"/>
                      <a:pt x="99" y="33"/>
                    </a:cubicBezTo>
                    <a:cubicBezTo>
                      <a:pt x="116" y="85"/>
                      <a:pt x="25" y="75"/>
                      <a:pt x="0" y="75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195880" y="2662200"/>
                <a:ext cx="19080" cy="71640"/>
              </a:xfrm>
              <a:custGeom>
                <a:avLst/>
                <a:gdLst/>
                <a:ahLst/>
                <a:rect l="l" t="t" r="r" b="b"/>
                <a:pathLst>
                  <a:path w="12" h="45">
                    <a:moveTo>
                      <a:pt x="12" y="0"/>
                    </a:moveTo>
                    <a:cubicBezTo>
                      <a:pt x="6" y="17"/>
                      <a:pt x="0" y="26"/>
                      <a:pt x="0" y="45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043240" y="2695680"/>
                <a:ext cx="157320" cy="14040"/>
              </a:xfrm>
              <a:custGeom>
                <a:avLst/>
                <a:gdLst/>
                <a:ahLst/>
                <a:rect l="l" t="t" r="r" b="b"/>
                <a:pathLst>
                  <a:path w="99" h="9">
                    <a:moveTo>
                      <a:pt x="99" y="0"/>
                    </a:moveTo>
                    <a:cubicBezTo>
                      <a:pt x="81" y="2"/>
                      <a:pt x="63" y="6"/>
                      <a:pt x="45" y="9"/>
                    </a:cubicBezTo>
                    <a:cubicBezTo>
                      <a:pt x="21" y="7"/>
                      <a:pt x="18" y="9"/>
                      <a:pt x="0" y="9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092560" y="2790720"/>
                <a:ext cx="46080" cy="52560"/>
              </a:xfrm>
              <a:custGeom>
                <a:avLst/>
                <a:gdLst/>
                <a:ahLst/>
                <a:rect l="l" t="t" r="r" b="b"/>
                <a:pathLst>
                  <a:path w="29" h="33">
                    <a:moveTo>
                      <a:pt x="29" y="0"/>
                    </a:moveTo>
                    <a:cubicBezTo>
                      <a:pt x="0" y="10"/>
                      <a:pt x="17" y="18"/>
                      <a:pt x="2" y="33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057640" y="2524320"/>
                <a:ext cx="23760" cy="71280"/>
              </a:xfrm>
              <a:custGeom>
                <a:avLst/>
                <a:gdLst/>
                <a:ahLst/>
                <a:rect l="l" t="t" r="r" b="b"/>
                <a:pathLst>
                  <a:path w="15" h="45">
                    <a:moveTo>
                      <a:pt x="15" y="45"/>
                    </a:moveTo>
                    <a:cubicBezTo>
                      <a:pt x="12" y="35"/>
                      <a:pt x="0" y="18"/>
                      <a:pt x="0" y="18"/>
                    </a:cubicBezTo>
                    <a:cubicBezTo>
                      <a:pt x="4" y="4"/>
                      <a:pt x="1" y="10"/>
                      <a:pt x="6" y="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138640" y="2629080"/>
                <a:ext cx="57240" cy="133200"/>
              </a:xfrm>
              <a:custGeom>
                <a:avLst/>
                <a:gdLst/>
                <a:ahLst/>
                <a:rect l="l" t="t" r="r" b="b"/>
                <a:pathLst>
                  <a:path w="36" h="84">
                    <a:moveTo>
                      <a:pt x="18" y="84"/>
                    </a:moveTo>
                    <a:cubicBezTo>
                      <a:pt x="25" y="56"/>
                      <a:pt x="36" y="38"/>
                      <a:pt x="3" y="33"/>
                    </a:cubicBezTo>
                    <a:cubicBezTo>
                      <a:pt x="10" y="13"/>
                      <a:pt x="0" y="33"/>
                      <a:pt x="18" y="27"/>
                    </a:cubicBezTo>
                    <a:cubicBezTo>
                      <a:pt x="26" y="24"/>
                      <a:pt x="27" y="6"/>
                      <a:pt x="27" y="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041800" y="2570040"/>
                <a:ext cx="216000" cy="387360"/>
              </a:xfrm>
              <a:custGeom>
                <a:avLst/>
                <a:gdLst/>
                <a:ahLst/>
                <a:rect l="l" t="t" r="r" b="b"/>
                <a:pathLst>
                  <a:path w="136" h="244">
                    <a:moveTo>
                      <a:pt x="60" y="0"/>
                    </a:moveTo>
                    <a:cubicBezTo>
                      <a:pt x="69" y="13"/>
                      <a:pt x="66" y="27"/>
                      <a:pt x="82" y="32"/>
                    </a:cubicBezTo>
                    <a:cubicBezTo>
                      <a:pt x="85" y="40"/>
                      <a:pt x="90" y="43"/>
                      <a:pt x="94" y="50"/>
                    </a:cubicBezTo>
                    <a:cubicBezTo>
                      <a:pt x="92" y="65"/>
                      <a:pt x="95" y="74"/>
                      <a:pt x="98" y="88"/>
                    </a:cubicBezTo>
                    <a:cubicBezTo>
                      <a:pt x="95" y="119"/>
                      <a:pt x="102" y="121"/>
                      <a:pt x="82" y="134"/>
                    </a:cubicBezTo>
                    <a:cubicBezTo>
                      <a:pt x="72" y="148"/>
                      <a:pt x="72" y="154"/>
                      <a:pt x="78" y="172"/>
                    </a:cubicBezTo>
                    <a:cubicBezTo>
                      <a:pt x="82" y="171"/>
                      <a:pt x="86" y="169"/>
                      <a:pt x="90" y="168"/>
                    </a:cubicBezTo>
                    <a:cubicBezTo>
                      <a:pt x="95" y="166"/>
                      <a:pt x="102" y="156"/>
                      <a:pt x="102" y="156"/>
                    </a:cubicBezTo>
                    <a:cubicBezTo>
                      <a:pt x="105" y="135"/>
                      <a:pt x="108" y="127"/>
                      <a:pt x="126" y="116"/>
                    </a:cubicBezTo>
                    <a:cubicBezTo>
                      <a:pt x="118" y="113"/>
                      <a:pt x="114" y="116"/>
                      <a:pt x="106" y="118"/>
                    </a:cubicBezTo>
                    <a:cubicBezTo>
                      <a:pt x="91" y="128"/>
                      <a:pt x="109" y="106"/>
                      <a:pt x="112" y="102"/>
                    </a:cubicBezTo>
                    <a:cubicBezTo>
                      <a:pt x="113" y="99"/>
                      <a:pt x="111" y="93"/>
                      <a:pt x="114" y="94"/>
                    </a:cubicBezTo>
                    <a:cubicBezTo>
                      <a:pt x="118" y="96"/>
                      <a:pt x="118" y="104"/>
                      <a:pt x="122" y="106"/>
                    </a:cubicBezTo>
                    <a:cubicBezTo>
                      <a:pt x="132" y="111"/>
                      <a:pt x="128" y="108"/>
                      <a:pt x="136" y="114"/>
                    </a:cubicBezTo>
                    <a:cubicBezTo>
                      <a:pt x="121" y="119"/>
                      <a:pt x="112" y="146"/>
                      <a:pt x="100" y="158"/>
                    </a:cubicBezTo>
                    <a:cubicBezTo>
                      <a:pt x="95" y="174"/>
                      <a:pt x="83" y="172"/>
                      <a:pt x="68" y="174"/>
                    </a:cubicBezTo>
                    <a:cubicBezTo>
                      <a:pt x="60" y="179"/>
                      <a:pt x="53" y="183"/>
                      <a:pt x="44" y="186"/>
                    </a:cubicBezTo>
                    <a:cubicBezTo>
                      <a:pt x="37" y="213"/>
                      <a:pt x="46" y="223"/>
                      <a:pt x="12" y="226"/>
                    </a:cubicBezTo>
                    <a:cubicBezTo>
                      <a:pt x="9" y="231"/>
                      <a:pt x="7" y="244"/>
                      <a:pt x="0" y="244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143320" y="2621160"/>
                <a:ext cx="44640" cy="4428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0" y="28"/>
                    </a:moveTo>
                    <a:cubicBezTo>
                      <a:pt x="2" y="24"/>
                      <a:pt x="6" y="12"/>
                      <a:pt x="10" y="10"/>
                    </a:cubicBezTo>
                    <a:cubicBezTo>
                      <a:pt x="15" y="8"/>
                      <a:pt x="26" y="6"/>
                      <a:pt x="26" y="6"/>
                    </a:cubicBezTo>
                    <a:cubicBezTo>
                      <a:pt x="27" y="4"/>
                      <a:pt x="28" y="0"/>
                      <a:pt x="28" y="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187960" y="2976480"/>
                <a:ext cx="110880" cy="47880"/>
              </a:xfrm>
              <a:custGeom>
                <a:avLst/>
                <a:gdLst/>
                <a:ahLst/>
                <a:rect l="l" t="t" r="r" b="b"/>
                <a:pathLst>
                  <a:path w="70" h="30">
                    <a:moveTo>
                      <a:pt x="70" y="4"/>
                    </a:moveTo>
                    <a:cubicBezTo>
                      <a:pt x="57" y="0"/>
                      <a:pt x="54" y="8"/>
                      <a:pt x="44" y="14"/>
                    </a:cubicBezTo>
                    <a:cubicBezTo>
                      <a:pt x="39" y="17"/>
                      <a:pt x="28" y="22"/>
                      <a:pt x="28" y="22"/>
                    </a:cubicBezTo>
                    <a:cubicBezTo>
                      <a:pt x="17" y="15"/>
                      <a:pt x="12" y="17"/>
                      <a:pt x="0" y="20"/>
                    </a:cubicBezTo>
                    <a:cubicBezTo>
                      <a:pt x="3" y="25"/>
                      <a:pt x="16" y="30"/>
                      <a:pt x="16" y="30"/>
                    </a:cubicBezTo>
                    <a:cubicBezTo>
                      <a:pt x="20" y="23"/>
                      <a:pt x="20" y="26"/>
                      <a:pt x="20" y="22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498920" y="2550960"/>
                <a:ext cx="412560" cy="295560"/>
              </a:xfrm>
              <a:custGeom>
                <a:avLst/>
                <a:gdLst/>
                <a:ahLst/>
                <a:rect l="l" t="t" r="r" b="b"/>
                <a:pathLst>
                  <a:path w="260" h="186">
                    <a:moveTo>
                      <a:pt x="110" y="108"/>
                    </a:moveTo>
                    <a:cubicBezTo>
                      <a:pt x="124" y="122"/>
                      <a:pt x="143" y="136"/>
                      <a:pt x="160" y="146"/>
                    </a:cubicBezTo>
                    <a:cubicBezTo>
                      <a:pt x="169" y="152"/>
                      <a:pt x="192" y="154"/>
                      <a:pt x="192" y="154"/>
                    </a:cubicBezTo>
                    <a:cubicBezTo>
                      <a:pt x="197" y="153"/>
                      <a:pt x="203" y="153"/>
                      <a:pt x="208" y="150"/>
                    </a:cubicBezTo>
                    <a:cubicBezTo>
                      <a:pt x="217" y="144"/>
                      <a:pt x="202" y="137"/>
                      <a:pt x="216" y="146"/>
                    </a:cubicBezTo>
                    <a:cubicBezTo>
                      <a:pt x="220" y="153"/>
                      <a:pt x="225" y="158"/>
                      <a:pt x="228" y="166"/>
                    </a:cubicBezTo>
                    <a:cubicBezTo>
                      <a:pt x="239" y="163"/>
                      <a:pt x="249" y="168"/>
                      <a:pt x="260" y="172"/>
                    </a:cubicBezTo>
                    <a:cubicBezTo>
                      <a:pt x="252" y="184"/>
                      <a:pt x="248" y="186"/>
                      <a:pt x="234" y="184"/>
                    </a:cubicBezTo>
                    <a:cubicBezTo>
                      <a:pt x="228" y="166"/>
                      <a:pt x="227" y="148"/>
                      <a:pt x="208" y="142"/>
                    </a:cubicBezTo>
                    <a:cubicBezTo>
                      <a:pt x="200" y="132"/>
                      <a:pt x="195" y="121"/>
                      <a:pt x="186" y="112"/>
                    </a:cubicBezTo>
                    <a:cubicBezTo>
                      <a:pt x="163" y="117"/>
                      <a:pt x="136" y="111"/>
                      <a:pt x="112" y="108"/>
                    </a:cubicBezTo>
                    <a:cubicBezTo>
                      <a:pt x="98" y="103"/>
                      <a:pt x="88" y="105"/>
                      <a:pt x="74" y="110"/>
                    </a:cubicBezTo>
                    <a:cubicBezTo>
                      <a:pt x="77" y="118"/>
                      <a:pt x="81" y="121"/>
                      <a:pt x="88" y="126"/>
                    </a:cubicBezTo>
                    <a:cubicBezTo>
                      <a:pt x="95" y="137"/>
                      <a:pt x="97" y="136"/>
                      <a:pt x="110" y="134"/>
                    </a:cubicBezTo>
                    <a:cubicBezTo>
                      <a:pt x="113" y="120"/>
                      <a:pt x="120" y="111"/>
                      <a:pt x="134" y="106"/>
                    </a:cubicBezTo>
                    <a:cubicBezTo>
                      <a:pt x="143" y="99"/>
                      <a:pt x="152" y="92"/>
                      <a:pt x="162" y="86"/>
                    </a:cubicBezTo>
                    <a:cubicBezTo>
                      <a:pt x="173" y="69"/>
                      <a:pt x="194" y="70"/>
                      <a:pt x="208" y="56"/>
                    </a:cubicBezTo>
                    <a:cubicBezTo>
                      <a:pt x="204" y="39"/>
                      <a:pt x="206" y="18"/>
                      <a:pt x="190" y="8"/>
                    </a:cubicBezTo>
                    <a:cubicBezTo>
                      <a:pt x="172" y="36"/>
                      <a:pt x="177" y="43"/>
                      <a:pt x="142" y="46"/>
                    </a:cubicBezTo>
                    <a:cubicBezTo>
                      <a:pt x="145" y="36"/>
                      <a:pt x="138" y="37"/>
                      <a:pt x="130" y="34"/>
                    </a:cubicBezTo>
                    <a:cubicBezTo>
                      <a:pt x="126" y="23"/>
                      <a:pt x="124" y="21"/>
                      <a:pt x="134" y="14"/>
                    </a:cubicBezTo>
                    <a:cubicBezTo>
                      <a:pt x="133" y="13"/>
                      <a:pt x="122" y="5"/>
                      <a:pt x="120" y="4"/>
                    </a:cubicBezTo>
                    <a:cubicBezTo>
                      <a:pt x="116" y="2"/>
                      <a:pt x="108" y="0"/>
                      <a:pt x="108" y="0"/>
                    </a:cubicBezTo>
                    <a:cubicBezTo>
                      <a:pt x="96" y="2"/>
                      <a:pt x="83" y="5"/>
                      <a:pt x="72" y="10"/>
                    </a:cubicBezTo>
                    <a:cubicBezTo>
                      <a:pt x="65" y="13"/>
                      <a:pt x="52" y="20"/>
                      <a:pt x="52" y="20"/>
                    </a:cubicBezTo>
                    <a:cubicBezTo>
                      <a:pt x="63" y="24"/>
                      <a:pt x="64" y="25"/>
                      <a:pt x="66" y="36"/>
                    </a:cubicBezTo>
                    <a:cubicBezTo>
                      <a:pt x="64" y="46"/>
                      <a:pt x="66" y="55"/>
                      <a:pt x="56" y="48"/>
                    </a:cubicBezTo>
                    <a:cubicBezTo>
                      <a:pt x="50" y="31"/>
                      <a:pt x="51" y="27"/>
                      <a:pt x="32" y="22"/>
                    </a:cubicBezTo>
                    <a:cubicBezTo>
                      <a:pt x="25" y="25"/>
                      <a:pt x="12" y="34"/>
                      <a:pt x="12" y="34"/>
                    </a:cubicBezTo>
                    <a:cubicBezTo>
                      <a:pt x="7" y="42"/>
                      <a:pt x="0" y="50"/>
                      <a:pt x="26" y="34"/>
                    </a:cubicBezTo>
                    <a:cubicBezTo>
                      <a:pt x="36" y="28"/>
                      <a:pt x="51" y="11"/>
                      <a:pt x="60" y="2"/>
                    </a:cubicBezTo>
                    <a:cubicBezTo>
                      <a:pt x="65" y="18"/>
                      <a:pt x="43" y="34"/>
                      <a:pt x="34" y="46"/>
                    </a:cubicBezTo>
                    <a:cubicBezTo>
                      <a:pt x="27" y="67"/>
                      <a:pt x="37" y="35"/>
                      <a:pt x="30" y="92"/>
                    </a:cubicBezTo>
                    <a:cubicBezTo>
                      <a:pt x="29" y="97"/>
                      <a:pt x="24" y="106"/>
                      <a:pt x="24" y="10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4900320" y="3186000"/>
              <a:ext cx="209880" cy="74880"/>
            </a:xfrm>
            <a:custGeom>
              <a:avLst/>
              <a:gdLst/>
              <a:ahLst/>
              <a:rect l="l" t="t" r="r" b="b"/>
              <a:pathLst>
                <a:path w="132" h="47">
                  <a:moveTo>
                    <a:pt x="0" y="24"/>
                  </a:moveTo>
                  <a:cubicBezTo>
                    <a:pt x="29" y="22"/>
                    <a:pt x="53" y="21"/>
                    <a:pt x="81" y="27"/>
                  </a:cubicBezTo>
                  <a:cubicBezTo>
                    <a:pt x="90" y="40"/>
                    <a:pt x="93" y="40"/>
                    <a:pt x="108" y="36"/>
                  </a:cubicBezTo>
                  <a:cubicBezTo>
                    <a:pt x="112" y="37"/>
                    <a:pt x="116" y="37"/>
                    <a:pt x="120" y="39"/>
                  </a:cubicBezTo>
                  <a:cubicBezTo>
                    <a:pt x="123" y="40"/>
                    <a:pt x="126" y="47"/>
                    <a:pt x="129" y="45"/>
                  </a:cubicBezTo>
                  <a:cubicBezTo>
                    <a:pt x="132" y="44"/>
                    <a:pt x="127" y="39"/>
                    <a:pt x="126" y="36"/>
                  </a:cubicBezTo>
                  <a:cubicBezTo>
                    <a:pt x="122" y="19"/>
                    <a:pt x="125" y="13"/>
                    <a:pt x="111" y="3"/>
                  </a:cubicBezTo>
                  <a:cubicBezTo>
                    <a:pt x="89" y="7"/>
                    <a:pt x="100" y="3"/>
                    <a:pt x="78" y="18"/>
                  </a:cubicBezTo>
                  <a:cubicBezTo>
                    <a:pt x="75" y="20"/>
                    <a:pt x="69" y="24"/>
                    <a:pt x="69" y="24"/>
                  </a:cubicBezTo>
                  <a:cubicBezTo>
                    <a:pt x="64" y="20"/>
                    <a:pt x="59" y="15"/>
                    <a:pt x="54" y="12"/>
                  </a:cubicBezTo>
                  <a:cubicBezTo>
                    <a:pt x="46" y="7"/>
                    <a:pt x="30" y="0"/>
                    <a:pt x="30" y="0"/>
                  </a:cubicBezTo>
                  <a:cubicBezTo>
                    <a:pt x="27" y="1"/>
                    <a:pt x="23" y="1"/>
                    <a:pt x="21" y="3"/>
                  </a:cubicBezTo>
                  <a:cubicBezTo>
                    <a:pt x="18" y="5"/>
                    <a:pt x="15" y="12"/>
                    <a:pt x="15" y="12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105160" y="3238560"/>
              <a:ext cx="71640" cy="1908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0" y="12"/>
                  </a:moveTo>
                  <a:cubicBezTo>
                    <a:pt x="15" y="7"/>
                    <a:pt x="28" y="0"/>
                    <a:pt x="45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924440" y="2843280"/>
              <a:ext cx="28440" cy="1908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0" y="12"/>
                  </a:moveTo>
                  <a:cubicBezTo>
                    <a:pt x="6" y="10"/>
                    <a:pt x="18" y="8"/>
                    <a:pt x="18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537080" y="2457360"/>
              <a:ext cx="68040" cy="119160"/>
            </a:xfrm>
            <a:custGeom>
              <a:avLst/>
              <a:gdLst/>
              <a:ahLst/>
              <a:rect l="l" t="t" r="r" b="b"/>
              <a:pathLst>
                <a:path w="43" h="75">
                  <a:moveTo>
                    <a:pt x="37" y="75"/>
                  </a:moveTo>
                  <a:cubicBezTo>
                    <a:pt x="43" y="41"/>
                    <a:pt x="26" y="37"/>
                    <a:pt x="4" y="15"/>
                  </a:cubicBezTo>
                  <a:cubicBezTo>
                    <a:pt x="0" y="4"/>
                    <a:pt x="1" y="9"/>
                    <a:pt x="1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572000" y="2479680"/>
              <a:ext cx="95040" cy="777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19"/>
                  </a:moveTo>
                  <a:cubicBezTo>
                    <a:pt x="12" y="7"/>
                    <a:pt x="10" y="0"/>
                    <a:pt x="27" y="4"/>
                  </a:cubicBezTo>
                  <a:cubicBezTo>
                    <a:pt x="31" y="10"/>
                    <a:pt x="32" y="17"/>
                    <a:pt x="36" y="22"/>
                  </a:cubicBezTo>
                  <a:cubicBezTo>
                    <a:pt x="41" y="29"/>
                    <a:pt x="49" y="33"/>
                    <a:pt x="54" y="40"/>
                  </a:cubicBezTo>
                  <a:cubicBezTo>
                    <a:pt x="56" y="43"/>
                    <a:pt x="60" y="49"/>
                    <a:pt x="60" y="49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867200" y="2603520"/>
              <a:ext cx="147600" cy="92160"/>
            </a:xfrm>
            <a:custGeom>
              <a:avLst/>
              <a:gdLst/>
              <a:ahLst/>
              <a:rect l="l" t="t" r="r" b="b"/>
              <a:pathLst>
                <a:path w="93" h="58">
                  <a:moveTo>
                    <a:pt x="0" y="58"/>
                  </a:moveTo>
                  <a:cubicBezTo>
                    <a:pt x="17" y="52"/>
                    <a:pt x="27" y="30"/>
                    <a:pt x="36" y="16"/>
                  </a:cubicBezTo>
                  <a:cubicBezTo>
                    <a:pt x="47" y="0"/>
                    <a:pt x="74" y="16"/>
                    <a:pt x="93" y="1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943520" y="2643120"/>
              <a:ext cx="14040" cy="190440"/>
            </a:xfrm>
            <a:custGeom>
              <a:avLst/>
              <a:gdLst/>
              <a:ahLst/>
              <a:rect l="l" t="t" r="r" b="b"/>
              <a:pathLst>
                <a:path w="9" h="120">
                  <a:moveTo>
                    <a:pt x="9" y="120"/>
                  </a:moveTo>
                  <a:cubicBezTo>
                    <a:pt x="7" y="89"/>
                    <a:pt x="5" y="77"/>
                    <a:pt x="0" y="51"/>
                  </a:cubicBezTo>
                  <a:cubicBezTo>
                    <a:pt x="1" y="40"/>
                    <a:pt x="1" y="29"/>
                    <a:pt x="3" y="18"/>
                  </a:cubicBezTo>
                  <a:cubicBezTo>
                    <a:pt x="4" y="12"/>
                    <a:pt x="9" y="0"/>
                    <a:pt x="9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572000" y="2714760"/>
              <a:ext cx="47520" cy="3312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30" y="12"/>
                  </a:moveTo>
                  <a:cubicBezTo>
                    <a:pt x="23" y="9"/>
                    <a:pt x="16" y="0"/>
                    <a:pt x="9" y="3"/>
                  </a:cubicBezTo>
                  <a:cubicBezTo>
                    <a:pt x="6" y="4"/>
                    <a:pt x="7" y="9"/>
                    <a:pt x="6" y="12"/>
                  </a:cubicBezTo>
                  <a:cubicBezTo>
                    <a:pt x="4" y="15"/>
                    <a:pt x="0" y="21"/>
                    <a:pt x="0" y="21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862520" y="2862360"/>
              <a:ext cx="180720" cy="123840"/>
            </a:xfrm>
            <a:custGeom>
              <a:avLst/>
              <a:gdLst/>
              <a:ahLst/>
              <a:rect l="l" t="t" r="r" b="b"/>
              <a:pathLst>
                <a:path w="114" h="78">
                  <a:moveTo>
                    <a:pt x="0" y="42"/>
                  </a:moveTo>
                  <a:cubicBezTo>
                    <a:pt x="19" y="36"/>
                    <a:pt x="37" y="34"/>
                    <a:pt x="57" y="30"/>
                  </a:cubicBezTo>
                  <a:cubicBezTo>
                    <a:pt x="74" y="36"/>
                    <a:pt x="75" y="43"/>
                    <a:pt x="81" y="60"/>
                  </a:cubicBezTo>
                  <a:cubicBezTo>
                    <a:pt x="84" y="69"/>
                    <a:pt x="95" y="71"/>
                    <a:pt x="102" y="78"/>
                  </a:cubicBezTo>
                  <a:cubicBezTo>
                    <a:pt x="107" y="70"/>
                    <a:pt x="114" y="51"/>
                    <a:pt x="114" y="51"/>
                  </a:cubicBezTo>
                  <a:cubicBezTo>
                    <a:pt x="113" y="43"/>
                    <a:pt x="114" y="35"/>
                    <a:pt x="111" y="27"/>
                  </a:cubicBezTo>
                  <a:cubicBezTo>
                    <a:pt x="101" y="0"/>
                    <a:pt x="102" y="26"/>
                    <a:pt x="102" y="15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05280" y="2762280"/>
              <a:ext cx="371520" cy="81000"/>
            </a:xfrm>
            <a:custGeom>
              <a:avLst/>
              <a:gdLst/>
              <a:ahLst/>
              <a:rect l="l" t="t" r="r" b="b"/>
              <a:pathLst>
                <a:path w="234" h="51">
                  <a:moveTo>
                    <a:pt x="0" y="51"/>
                  </a:moveTo>
                  <a:cubicBezTo>
                    <a:pt x="34" y="45"/>
                    <a:pt x="52" y="41"/>
                    <a:pt x="75" y="18"/>
                  </a:cubicBezTo>
                  <a:cubicBezTo>
                    <a:pt x="80" y="4"/>
                    <a:pt x="89" y="3"/>
                    <a:pt x="102" y="0"/>
                  </a:cubicBezTo>
                  <a:cubicBezTo>
                    <a:pt x="129" y="3"/>
                    <a:pt x="148" y="11"/>
                    <a:pt x="174" y="18"/>
                  </a:cubicBezTo>
                  <a:cubicBezTo>
                    <a:pt x="184" y="16"/>
                    <a:pt x="194" y="11"/>
                    <a:pt x="204" y="12"/>
                  </a:cubicBezTo>
                  <a:cubicBezTo>
                    <a:pt x="214" y="13"/>
                    <a:pt x="234" y="18"/>
                    <a:pt x="234" y="1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014800" y="2571840"/>
              <a:ext cx="47520" cy="85680"/>
            </a:xfrm>
            <a:custGeom>
              <a:avLst/>
              <a:gdLst/>
              <a:ahLst/>
              <a:rect l="l" t="t" r="r" b="b"/>
              <a:pathLst>
                <a:path w="30" h="54">
                  <a:moveTo>
                    <a:pt x="3" y="54"/>
                  </a:moveTo>
                  <a:cubicBezTo>
                    <a:pt x="7" y="38"/>
                    <a:pt x="4" y="25"/>
                    <a:pt x="0" y="9"/>
                  </a:cubicBezTo>
                  <a:cubicBezTo>
                    <a:pt x="17" y="0"/>
                    <a:pt x="8" y="3"/>
                    <a:pt x="30" y="3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371840" y="2500200"/>
              <a:ext cx="131760" cy="185760"/>
            </a:xfrm>
            <a:custGeom>
              <a:avLst/>
              <a:gdLst/>
              <a:ahLst/>
              <a:rect l="l" t="t" r="r" b="b"/>
              <a:pathLst>
                <a:path w="83" h="117">
                  <a:moveTo>
                    <a:pt x="0" y="117"/>
                  </a:moveTo>
                  <a:cubicBezTo>
                    <a:pt x="6" y="105"/>
                    <a:pt x="11" y="98"/>
                    <a:pt x="6" y="84"/>
                  </a:cubicBezTo>
                  <a:cubicBezTo>
                    <a:pt x="17" y="51"/>
                    <a:pt x="16" y="58"/>
                    <a:pt x="45" y="48"/>
                  </a:cubicBezTo>
                  <a:cubicBezTo>
                    <a:pt x="40" y="0"/>
                    <a:pt x="49" y="25"/>
                    <a:pt x="75" y="48"/>
                  </a:cubicBezTo>
                  <a:cubicBezTo>
                    <a:pt x="80" y="58"/>
                    <a:pt x="83" y="82"/>
                    <a:pt x="69" y="90"/>
                  </a:cubicBezTo>
                  <a:cubicBezTo>
                    <a:pt x="65" y="93"/>
                    <a:pt x="54" y="93"/>
                    <a:pt x="54" y="93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3505320" y="4343400"/>
            <a:ext cx="194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mation of demarcation membra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6559920" y="2514600"/>
            <a:ext cx="1587960" cy="1541880"/>
            <a:chOff x="6559920" y="2514600"/>
            <a:chExt cx="1587960" cy="1541880"/>
          </a:xfrm>
        </p:grpSpPr>
        <p:grpSp>
          <p:nvGrpSpPr>
            <p:cNvPr id="347" name=""/>
            <p:cNvGrpSpPr/>
            <p:nvPr/>
          </p:nvGrpSpPr>
          <p:grpSpPr>
            <a:xfrm>
              <a:off x="6629400" y="2768760"/>
              <a:ext cx="604800" cy="922320"/>
              <a:chOff x="6629400" y="2768760"/>
              <a:chExt cx="604800" cy="922320"/>
            </a:xfrm>
          </p:grpSpPr>
          <p:sp>
            <p:nvSpPr>
              <p:cNvPr id="348" name=""/>
              <p:cNvSpPr/>
              <p:nvPr/>
            </p:nvSpPr>
            <p:spPr>
              <a:xfrm>
                <a:off x="6629400" y="2768760"/>
                <a:ext cx="160200" cy="201600"/>
              </a:xfrm>
              <a:custGeom>
                <a:avLst/>
                <a:gdLst/>
                <a:ahLst/>
                <a:rect l="l" t="t" r="r" b="b"/>
                <a:pathLst>
                  <a:path w="101" h="127">
                    <a:moveTo>
                      <a:pt x="95" y="2"/>
                    </a:moveTo>
                    <a:cubicBezTo>
                      <a:pt x="70" y="15"/>
                      <a:pt x="44" y="29"/>
                      <a:pt x="17" y="38"/>
                    </a:cubicBezTo>
                    <a:cubicBezTo>
                      <a:pt x="0" y="63"/>
                      <a:pt x="6" y="76"/>
                      <a:pt x="35" y="86"/>
                    </a:cubicBezTo>
                    <a:cubicBezTo>
                      <a:pt x="8" y="127"/>
                      <a:pt x="43" y="93"/>
                      <a:pt x="71" y="86"/>
                    </a:cubicBezTo>
                    <a:cubicBezTo>
                      <a:pt x="78" y="66"/>
                      <a:pt x="81" y="45"/>
                      <a:pt x="89" y="26"/>
                    </a:cubicBezTo>
                    <a:cubicBezTo>
                      <a:pt x="93" y="18"/>
                      <a:pt x="99" y="11"/>
                      <a:pt x="101" y="2"/>
                    </a:cubicBezTo>
                    <a:cubicBezTo>
                      <a:pt x="101" y="0"/>
                      <a:pt x="97" y="2"/>
                      <a:pt x="95" y="2"/>
                    </a:cubicBezTo>
                    <a:close/>
                  </a:path>
                </a:pathLst>
              </a:custGeom>
              <a:blipFill rotWithShape="0">
                <a:blip r:embed="rId11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919920" y="2775240"/>
                <a:ext cx="79200" cy="76320"/>
              </a:xfrm>
              <a:custGeom>
                <a:avLst/>
                <a:gdLst/>
                <a:ahLst/>
                <a:rect l="l" t="t" r="r" b="b"/>
                <a:pathLst>
                  <a:path w="50" h="48">
                    <a:moveTo>
                      <a:pt x="28" y="0"/>
                    </a:moveTo>
                    <a:cubicBezTo>
                      <a:pt x="16" y="5"/>
                      <a:pt x="15" y="6"/>
                      <a:pt x="12" y="18"/>
                    </a:cubicBezTo>
                    <a:cubicBezTo>
                      <a:pt x="15" y="28"/>
                      <a:pt x="8" y="31"/>
                      <a:pt x="0" y="36"/>
                    </a:cubicBezTo>
                    <a:cubicBezTo>
                      <a:pt x="8" y="42"/>
                      <a:pt x="26" y="48"/>
                      <a:pt x="26" y="48"/>
                    </a:cubicBezTo>
                    <a:cubicBezTo>
                      <a:pt x="49" y="45"/>
                      <a:pt x="47" y="44"/>
                      <a:pt x="50" y="22"/>
                    </a:cubicBezTo>
                    <a:cubicBezTo>
                      <a:pt x="42" y="1"/>
                      <a:pt x="32" y="14"/>
                      <a:pt x="24" y="2"/>
                    </a:cubicBezTo>
                    <a:cubicBezTo>
                      <a:pt x="23" y="1"/>
                      <a:pt x="27" y="1"/>
                      <a:pt x="28" y="0"/>
                    </a:cubicBezTo>
                    <a:close/>
                  </a:path>
                </a:pathLst>
              </a:custGeom>
              <a:blipFill rotWithShape="0">
                <a:blip r:embed="rId12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870600" y="2921400"/>
                <a:ext cx="93600" cy="108000"/>
              </a:xfrm>
              <a:custGeom>
                <a:avLst/>
                <a:gdLst/>
                <a:ahLst/>
                <a:rect l="l" t="t" r="r" b="b"/>
                <a:pathLst>
                  <a:path w="59" h="68">
                    <a:moveTo>
                      <a:pt x="7" y="8"/>
                    </a:moveTo>
                    <a:cubicBezTo>
                      <a:pt x="5" y="32"/>
                      <a:pt x="1" y="52"/>
                      <a:pt x="29" y="56"/>
                    </a:cubicBezTo>
                    <a:cubicBezTo>
                      <a:pt x="47" y="68"/>
                      <a:pt x="51" y="43"/>
                      <a:pt x="59" y="32"/>
                    </a:cubicBezTo>
                    <a:cubicBezTo>
                      <a:pt x="56" y="27"/>
                      <a:pt x="54" y="19"/>
                      <a:pt x="49" y="16"/>
                    </a:cubicBezTo>
                    <a:cubicBezTo>
                      <a:pt x="43" y="12"/>
                      <a:pt x="37" y="8"/>
                      <a:pt x="31" y="4"/>
                    </a:cubicBezTo>
                    <a:cubicBezTo>
                      <a:pt x="29" y="3"/>
                      <a:pt x="25" y="0"/>
                      <a:pt x="25" y="0"/>
                    </a:cubicBezTo>
                    <a:cubicBezTo>
                      <a:pt x="21" y="1"/>
                      <a:pt x="17" y="0"/>
                      <a:pt x="13" y="2"/>
                    </a:cubicBezTo>
                    <a:cubicBezTo>
                      <a:pt x="0" y="9"/>
                      <a:pt x="14" y="8"/>
                      <a:pt x="7" y="8"/>
                    </a:cubicBezTo>
                    <a:close/>
                  </a:path>
                </a:pathLst>
              </a:custGeom>
              <a:blipFill rotWithShape="0">
                <a:blip r:embed="rId13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716520" y="3003840"/>
                <a:ext cx="74520" cy="95400"/>
              </a:xfrm>
              <a:prstGeom prst="ellipse">
                <a:avLst/>
              </a:prstGeom>
              <a:blipFill rotWithShape="0">
                <a:blip r:embed="rId14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119720" y="2854800"/>
                <a:ext cx="114480" cy="66600"/>
              </a:xfrm>
              <a:custGeom>
                <a:avLst/>
                <a:gdLst/>
                <a:ahLst/>
                <a:rect l="l" t="t" r="r" b="b"/>
                <a:pathLst>
                  <a:path w="72" h="42">
                    <a:moveTo>
                      <a:pt x="64" y="28"/>
                    </a:moveTo>
                    <a:cubicBezTo>
                      <a:pt x="47" y="38"/>
                      <a:pt x="31" y="40"/>
                      <a:pt x="12" y="42"/>
                    </a:cubicBezTo>
                    <a:cubicBezTo>
                      <a:pt x="9" y="41"/>
                      <a:pt x="6" y="42"/>
                      <a:pt x="4" y="40"/>
                    </a:cubicBezTo>
                    <a:cubicBezTo>
                      <a:pt x="1" y="37"/>
                      <a:pt x="0" y="28"/>
                      <a:pt x="0" y="28"/>
                    </a:cubicBezTo>
                    <a:cubicBezTo>
                      <a:pt x="4" y="7"/>
                      <a:pt x="21" y="5"/>
                      <a:pt x="40" y="0"/>
                    </a:cubicBezTo>
                    <a:cubicBezTo>
                      <a:pt x="53" y="2"/>
                      <a:pt x="58" y="1"/>
                      <a:pt x="68" y="8"/>
                    </a:cubicBezTo>
                    <a:cubicBezTo>
                      <a:pt x="69" y="10"/>
                      <a:pt x="72" y="20"/>
                      <a:pt x="72" y="22"/>
                    </a:cubicBezTo>
                    <a:cubicBezTo>
                      <a:pt x="71" y="26"/>
                      <a:pt x="59" y="33"/>
                      <a:pt x="64" y="28"/>
                    </a:cubicBezTo>
                    <a:close/>
                  </a:path>
                </a:pathLst>
              </a:custGeom>
              <a:blipFill rotWithShape="0">
                <a:blip r:embed="rId15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913440" y="3061080"/>
                <a:ext cx="88920" cy="123840"/>
              </a:xfrm>
              <a:custGeom>
                <a:avLst/>
                <a:gdLst/>
                <a:ahLst/>
                <a:rect l="l" t="t" r="r" b="b"/>
                <a:pathLst>
                  <a:path w="56" h="78">
                    <a:moveTo>
                      <a:pt x="8" y="0"/>
                    </a:moveTo>
                    <a:cubicBezTo>
                      <a:pt x="4" y="17"/>
                      <a:pt x="0" y="39"/>
                      <a:pt x="10" y="54"/>
                    </a:cubicBezTo>
                    <a:cubicBezTo>
                      <a:pt x="14" y="78"/>
                      <a:pt x="21" y="63"/>
                      <a:pt x="36" y="58"/>
                    </a:cubicBezTo>
                    <a:cubicBezTo>
                      <a:pt x="43" y="53"/>
                      <a:pt x="56" y="40"/>
                      <a:pt x="56" y="40"/>
                    </a:cubicBezTo>
                    <a:cubicBezTo>
                      <a:pt x="53" y="28"/>
                      <a:pt x="52" y="21"/>
                      <a:pt x="40" y="18"/>
                    </a:cubicBezTo>
                    <a:cubicBezTo>
                      <a:pt x="34" y="12"/>
                      <a:pt x="17" y="0"/>
                      <a:pt x="8" y="0"/>
                    </a:cubicBezTo>
                    <a:close/>
                  </a:path>
                </a:pathLst>
              </a:custGeom>
              <a:blipFill rotWithShape="0">
                <a:blip r:embed="rId16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7097760" y="3029400"/>
                <a:ext cx="79200" cy="156960"/>
              </a:xfrm>
              <a:custGeom>
                <a:avLst/>
                <a:gdLst/>
                <a:ahLst/>
                <a:rect l="l" t="t" r="r" b="b"/>
                <a:pathLst>
                  <a:path w="50" h="99">
                    <a:moveTo>
                      <a:pt x="20" y="4"/>
                    </a:moveTo>
                    <a:cubicBezTo>
                      <a:pt x="12" y="25"/>
                      <a:pt x="6" y="43"/>
                      <a:pt x="4" y="66"/>
                    </a:cubicBezTo>
                    <a:cubicBezTo>
                      <a:pt x="6" y="90"/>
                      <a:pt x="0" y="92"/>
                      <a:pt x="18" y="98"/>
                    </a:cubicBezTo>
                    <a:cubicBezTo>
                      <a:pt x="28" y="96"/>
                      <a:pt x="41" y="99"/>
                      <a:pt x="48" y="92"/>
                    </a:cubicBezTo>
                    <a:cubicBezTo>
                      <a:pt x="50" y="90"/>
                      <a:pt x="43" y="59"/>
                      <a:pt x="42" y="54"/>
                    </a:cubicBezTo>
                    <a:cubicBezTo>
                      <a:pt x="41" y="50"/>
                      <a:pt x="38" y="42"/>
                      <a:pt x="38" y="42"/>
                    </a:cubicBezTo>
                    <a:cubicBezTo>
                      <a:pt x="36" y="25"/>
                      <a:pt x="34" y="11"/>
                      <a:pt x="20" y="0"/>
                    </a:cubicBezTo>
                    <a:cubicBezTo>
                      <a:pt x="18" y="7"/>
                      <a:pt x="17" y="7"/>
                      <a:pt x="20" y="4"/>
                    </a:cubicBezTo>
                    <a:close/>
                  </a:path>
                </a:pathLst>
              </a:custGeom>
              <a:blipFill rotWithShape="0">
                <a:blip r:embed="rId17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846840" y="3283200"/>
                <a:ext cx="93600" cy="108000"/>
              </a:xfrm>
              <a:custGeom>
                <a:avLst/>
                <a:gdLst/>
                <a:ahLst/>
                <a:rect l="l" t="t" r="r" b="b"/>
                <a:pathLst>
                  <a:path w="59" h="68">
                    <a:moveTo>
                      <a:pt x="7" y="8"/>
                    </a:moveTo>
                    <a:cubicBezTo>
                      <a:pt x="5" y="32"/>
                      <a:pt x="1" y="52"/>
                      <a:pt x="29" y="56"/>
                    </a:cubicBezTo>
                    <a:cubicBezTo>
                      <a:pt x="47" y="68"/>
                      <a:pt x="51" y="43"/>
                      <a:pt x="59" y="32"/>
                    </a:cubicBezTo>
                    <a:cubicBezTo>
                      <a:pt x="56" y="27"/>
                      <a:pt x="54" y="19"/>
                      <a:pt x="49" y="16"/>
                    </a:cubicBezTo>
                    <a:cubicBezTo>
                      <a:pt x="43" y="12"/>
                      <a:pt x="37" y="8"/>
                      <a:pt x="31" y="4"/>
                    </a:cubicBezTo>
                    <a:cubicBezTo>
                      <a:pt x="29" y="3"/>
                      <a:pt x="25" y="0"/>
                      <a:pt x="25" y="0"/>
                    </a:cubicBezTo>
                    <a:cubicBezTo>
                      <a:pt x="21" y="1"/>
                      <a:pt x="17" y="0"/>
                      <a:pt x="13" y="2"/>
                    </a:cubicBezTo>
                    <a:cubicBezTo>
                      <a:pt x="0" y="9"/>
                      <a:pt x="14" y="8"/>
                      <a:pt x="7" y="8"/>
                    </a:cubicBezTo>
                    <a:close/>
                  </a:path>
                </a:pathLst>
              </a:custGeom>
              <a:blipFill rotWithShape="0">
                <a:blip r:embed="rId18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991200" y="3608640"/>
                <a:ext cx="85680" cy="82440"/>
              </a:xfrm>
              <a:custGeom>
                <a:avLst/>
                <a:gdLst/>
                <a:ahLst/>
                <a:rect l="l" t="t" r="r" b="b"/>
                <a:pathLst>
                  <a:path w="54" h="52">
                    <a:moveTo>
                      <a:pt x="50" y="1"/>
                    </a:moveTo>
                    <a:cubicBezTo>
                      <a:pt x="37" y="2"/>
                      <a:pt x="23" y="0"/>
                      <a:pt x="11" y="4"/>
                    </a:cubicBezTo>
                    <a:cubicBezTo>
                      <a:pt x="0" y="8"/>
                      <a:pt x="14" y="44"/>
                      <a:pt x="20" y="52"/>
                    </a:cubicBezTo>
                    <a:cubicBezTo>
                      <a:pt x="27" y="51"/>
                      <a:pt x="35" y="52"/>
                      <a:pt x="41" y="49"/>
                    </a:cubicBezTo>
                    <a:cubicBezTo>
                      <a:pt x="53" y="44"/>
                      <a:pt x="54" y="9"/>
                      <a:pt x="50" y="1"/>
                    </a:cubicBezTo>
                    <a:close/>
                  </a:path>
                </a:pathLst>
              </a:custGeom>
              <a:blipFill rotWithShape="0">
                <a:blip r:embed="rId19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694200" y="3135600"/>
                <a:ext cx="93960" cy="108000"/>
              </a:xfrm>
              <a:custGeom>
                <a:avLst/>
                <a:gdLst/>
                <a:ahLst/>
                <a:rect l="l" t="t" r="r" b="b"/>
                <a:pathLst>
                  <a:path w="59" h="68">
                    <a:moveTo>
                      <a:pt x="7" y="8"/>
                    </a:moveTo>
                    <a:cubicBezTo>
                      <a:pt x="5" y="32"/>
                      <a:pt x="1" y="52"/>
                      <a:pt x="29" y="56"/>
                    </a:cubicBezTo>
                    <a:cubicBezTo>
                      <a:pt x="47" y="68"/>
                      <a:pt x="51" y="43"/>
                      <a:pt x="59" y="32"/>
                    </a:cubicBezTo>
                    <a:cubicBezTo>
                      <a:pt x="56" y="27"/>
                      <a:pt x="54" y="19"/>
                      <a:pt x="49" y="16"/>
                    </a:cubicBezTo>
                    <a:cubicBezTo>
                      <a:pt x="43" y="12"/>
                      <a:pt x="37" y="8"/>
                      <a:pt x="31" y="4"/>
                    </a:cubicBezTo>
                    <a:cubicBezTo>
                      <a:pt x="29" y="3"/>
                      <a:pt x="25" y="0"/>
                      <a:pt x="25" y="0"/>
                    </a:cubicBezTo>
                    <a:cubicBezTo>
                      <a:pt x="21" y="1"/>
                      <a:pt x="17" y="0"/>
                      <a:pt x="13" y="2"/>
                    </a:cubicBezTo>
                    <a:cubicBezTo>
                      <a:pt x="0" y="9"/>
                      <a:pt x="14" y="8"/>
                      <a:pt x="7" y="8"/>
                    </a:cubicBezTo>
                    <a:close/>
                  </a:path>
                </a:pathLst>
              </a:custGeom>
              <a:blipFill rotWithShape="0">
                <a:blip r:embed="rId20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634080" y="2951640"/>
                <a:ext cx="79200" cy="75960"/>
              </a:xfrm>
              <a:custGeom>
                <a:avLst/>
                <a:gdLst/>
                <a:ahLst/>
                <a:rect l="l" t="t" r="r" b="b"/>
                <a:pathLst>
                  <a:path w="50" h="48">
                    <a:moveTo>
                      <a:pt x="28" y="0"/>
                    </a:moveTo>
                    <a:cubicBezTo>
                      <a:pt x="16" y="5"/>
                      <a:pt x="15" y="6"/>
                      <a:pt x="12" y="18"/>
                    </a:cubicBezTo>
                    <a:cubicBezTo>
                      <a:pt x="15" y="28"/>
                      <a:pt x="8" y="31"/>
                      <a:pt x="0" y="36"/>
                    </a:cubicBezTo>
                    <a:cubicBezTo>
                      <a:pt x="8" y="42"/>
                      <a:pt x="26" y="48"/>
                      <a:pt x="26" y="48"/>
                    </a:cubicBezTo>
                    <a:cubicBezTo>
                      <a:pt x="49" y="45"/>
                      <a:pt x="47" y="44"/>
                      <a:pt x="50" y="22"/>
                    </a:cubicBezTo>
                    <a:cubicBezTo>
                      <a:pt x="42" y="1"/>
                      <a:pt x="32" y="14"/>
                      <a:pt x="24" y="2"/>
                    </a:cubicBezTo>
                    <a:cubicBezTo>
                      <a:pt x="23" y="1"/>
                      <a:pt x="27" y="1"/>
                      <a:pt x="28" y="0"/>
                    </a:cubicBezTo>
                    <a:close/>
                  </a:path>
                </a:pathLst>
              </a:custGeom>
              <a:blipFill rotWithShape="0">
                <a:blip r:embed="rId21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7075440" y="2514600"/>
              <a:ext cx="604800" cy="922320"/>
              <a:chOff x="7075440" y="2514600"/>
              <a:chExt cx="604800" cy="922320"/>
            </a:xfrm>
          </p:grpSpPr>
          <p:sp>
            <p:nvSpPr>
              <p:cNvPr id="360" name=""/>
              <p:cNvSpPr/>
              <p:nvPr/>
            </p:nvSpPr>
            <p:spPr>
              <a:xfrm>
                <a:off x="7075440" y="2514600"/>
                <a:ext cx="160200" cy="201600"/>
              </a:xfrm>
              <a:custGeom>
                <a:avLst/>
                <a:gdLst/>
                <a:ahLst/>
                <a:rect l="l" t="t" r="r" b="b"/>
                <a:pathLst>
                  <a:path w="101" h="127">
                    <a:moveTo>
                      <a:pt x="95" y="2"/>
                    </a:moveTo>
                    <a:cubicBezTo>
                      <a:pt x="70" y="15"/>
                      <a:pt x="44" y="29"/>
                      <a:pt x="17" y="38"/>
                    </a:cubicBezTo>
                    <a:cubicBezTo>
                      <a:pt x="0" y="63"/>
                      <a:pt x="6" y="76"/>
                      <a:pt x="35" y="86"/>
                    </a:cubicBezTo>
                    <a:cubicBezTo>
                      <a:pt x="8" y="127"/>
                      <a:pt x="43" y="93"/>
                      <a:pt x="71" y="86"/>
                    </a:cubicBezTo>
                    <a:cubicBezTo>
                      <a:pt x="78" y="66"/>
                      <a:pt x="81" y="45"/>
                      <a:pt x="89" y="26"/>
                    </a:cubicBezTo>
                    <a:cubicBezTo>
                      <a:pt x="93" y="18"/>
                      <a:pt x="99" y="11"/>
                      <a:pt x="101" y="2"/>
                    </a:cubicBezTo>
                    <a:cubicBezTo>
                      <a:pt x="101" y="0"/>
                      <a:pt x="97" y="2"/>
                      <a:pt x="95" y="2"/>
                    </a:cubicBezTo>
                    <a:close/>
                  </a:path>
                </a:pathLst>
              </a:custGeom>
              <a:blipFill rotWithShape="0">
                <a:blip r:embed="rId22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7365960" y="2521080"/>
                <a:ext cx="79200" cy="76320"/>
              </a:xfrm>
              <a:custGeom>
                <a:avLst/>
                <a:gdLst/>
                <a:ahLst/>
                <a:rect l="l" t="t" r="r" b="b"/>
                <a:pathLst>
                  <a:path w="50" h="48">
                    <a:moveTo>
                      <a:pt x="28" y="0"/>
                    </a:moveTo>
                    <a:cubicBezTo>
                      <a:pt x="16" y="5"/>
                      <a:pt x="15" y="6"/>
                      <a:pt x="12" y="18"/>
                    </a:cubicBezTo>
                    <a:cubicBezTo>
                      <a:pt x="15" y="28"/>
                      <a:pt x="8" y="31"/>
                      <a:pt x="0" y="36"/>
                    </a:cubicBezTo>
                    <a:cubicBezTo>
                      <a:pt x="8" y="42"/>
                      <a:pt x="26" y="48"/>
                      <a:pt x="26" y="48"/>
                    </a:cubicBezTo>
                    <a:cubicBezTo>
                      <a:pt x="49" y="45"/>
                      <a:pt x="47" y="44"/>
                      <a:pt x="50" y="22"/>
                    </a:cubicBezTo>
                    <a:cubicBezTo>
                      <a:pt x="42" y="1"/>
                      <a:pt x="32" y="14"/>
                      <a:pt x="24" y="2"/>
                    </a:cubicBezTo>
                    <a:cubicBezTo>
                      <a:pt x="23" y="1"/>
                      <a:pt x="27" y="1"/>
                      <a:pt x="28" y="0"/>
                    </a:cubicBezTo>
                    <a:close/>
                  </a:path>
                </a:pathLst>
              </a:custGeom>
              <a:blipFill rotWithShape="0">
                <a:blip r:embed="rId23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316640" y="2667240"/>
                <a:ext cx="93600" cy="108000"/>
              </a:xfrm>
              <a:custGeom>
                <a:avLst/>
                <a:gdLst/>
                <a:ahLst/>
                <a:rect l="l" t="t" r="r" b="b"/>
                <a:pathLst>
                  <a:path w="59" h="68">
                    <a:moveTo>
                      <a:pt x="7" y="8"/>
                    </a:moveTo>
                    <a:cubicBezTo>
                      <a:pt x="5" y="32"/>
                      <a:pt x="1" y="52"/>
                      <a:pt x="29" y="56"/>
                    </a:cubicBezTo>
                    <a:cubicBezTo>
                      <a:pt x="47" y="68"/>
                      <a:pt x="51" y="43"/>
                      <a:pt x="59" y="32"/>
                    </a:cubicBezTo>
                    <a:cubicBezTo>
                      <a:pt x="56" y="27"/>
                      <a:pt x="54" y="19"/>
                      <a:pt x="49" y="16"/>
                    </a:cubicBezTo>
                    <a:cubicBezTo>
                      <a:pt x="43" y="12"/>
                      <a:pt x="37" y="8"/>
                      <a:pt x="31" y="4"/>
                    </a:cubicBezTo>
                    <a:cubicBezTo>
                      <a:pt x="29" y="3"/>
                      <a:pt x="25" y="0"/>
                      <a:pt x="25" y="0"/>
                    </a:cubicBezTo>
                    <a:cubicBezTo>
                      <a:pt x="21" y="1"/>
                      <a:pt x="17" y="0"/>
                      <a:pt x="13" y="2"/>
                    </a:cubicBezTo>
                    <a:cubicBezTo>
                      <a:pt x="0" y="9"/>
                      <a:pt x="14" y="8"/>
                      <a:pt x="7" y="8"/>
                    </a:cubicBezTo>
                    <a:close/>
                  </a:path>
                </a:pathLst>
              </a:custGeom>
              <a:blipFill rotWithShape="0">
                <a:blip r:embed="rId24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162560" y="2749680"/>
                <a:ext cx="74520" cy="95400"/>
              </a:xfrm>
              <a:prstGeom prst="ellipse">
                <a:avLst/>
              </a:prstGeom>
              <a:blipFill rotWithShape="0">
                <a:blip r:embed="rId25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565760" y="2600640"/>
                <a:ext cx="114480" cy="66600"/>
              </a:xfrm>
              <a:custGeom>
                <a:avLst/>
                <a:gdLst/>
                <a:ahLst/>
                <a:rect l="l" t="t" r="r" b="b"/>
                <a:pathLst>
                  <a:path w="72" h="42">
                    <a:moveTo>
                      <a:pt x="64" y="28"/>
                    </a:moveTo>
                    <a:cubicBezTo>
                      <a:pt x="47" y="38"/>
                      <a:pt x="31" y="40"/>
                      <a:pt x="12" y="42"/>
                    </a:cubicBezTo>
                    <a:cubicBezTo>
                      <a:pt x="9" y="41"/>
                      <a:pt x="6" y="42"/>
                      <a:pt x="4" y="40"/>
                    </a:cubicBezTo>
                    <a:cubicBezTo>
                      <a:pt x="1" y="37"/>
                      <a:pt x="0" y="28"/>
                      <a:pt x="0" y="28"/>
                    </a:cubicBezTo>
                    <a:cubicBezTo>
                      <a:pt x="4" y="7"/>
                      <a:pt x="21" y="5"/>
                      <a:pt x="40" y="0"/>
                    </a:cubicBezTo>
                    <a:cubicBezTo>
                      <a:pt x="53" y="2"/>
                      <a:pt x="58" y="1"/>
                      <a:pt x="68" y="8"/>
                    </a:cubicBezTo>
                    <a:cubicBezTo>
                      <a:pt x="69" y="10"/>
                      <a:pt x="72" y="20"/>
                      <a:pt x="72" y="22"/>
                    </a:cubicBezTo>
                    <a:cubicBezTo>
                      <a:pt x="71" y="26"/>
                      <a:pt x="59" y="33"/>
                      <a:pt x="64" y="28"/>
                    </a:cubicBezTo>
                    <a:close/>
                  </a:path>
                </a:pathLst>
              </a:custGeom>
              <a:blipFill rotWithShape="0">
                <a:blip r:embed="rId26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359480" y="2806920"/>
                <a:ext cx="88920" cy="123840"/>
              </a:xfrm>
              <a:custGeom>
                <a:avLst/>
                <a:gdLst/>
                <a:ahLst/>
                <a:rect l="l" t="t" r="r" b="b"/>
                <a:pathLst>
                  <a:path w="56" h="78">
                    <a:moveTo>
                      <a:pt x="8" y="0"/>
                    </a:moveTo>
                    <a:cubicBezTo>
                      <a:pt x="4" y="17"/>
                      <a:pt x="0" y="39"/>
                      <a:pt x="10" y="54"/>
                    </a:cubicBezTo>
                    <a:cubicBezTo>
                      <a:pt x="14" y="78"/>
                      <a:pt x="21" y="63"/>
                      <a:pt x="36" y="58"/>
                    </a:cubicBezTo>
                    <a:cubicBezTo>
                      <a:pt x="43" y="53"/>
                      <a:pt x="56" y="40"/>
                      <a:pt x="56" y="40"/>
                    </a:cubicBezTo>
                    <a:cubicBezTo>
                      <a:pt x="53" y="28"/>
                      <a:pt x="52" y="21"/>
                      <a:pt x="40" y="18"/>
                    </a:cubicBezTo>
                    <a:cubicBezTo>
                      <a:pt x="34" y="12"/>
                      <a:pt x="17" y="0"/>
                      <a:pt x="8" y="0"/>
                    </a:cubicBezTo>
                    <a:close/>
                  </a:path>
                </a:pathLst>
              </a:custGeom>
              <a:blipFill rotWithShape="0">
                <a:blip r:embed="rId27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543800" y="2775240"/>
                <a:ext cx="79200" cy="156960"/>
              </a:xfrm>
              <a:custGeom>
                <a:avLst/>
                <a:gdLst/>
                <a:ahLst/>
                <a:rect l="l" t="t" r="r" b="b"/>
                <a:pathLst>
                  <a:path w="50" h="99">
                    <a:moveTo>
                      <a:pt x="20" y="4"/>
                    </a:moveTo>
                    <a:cubicBezTo>
                      <a:pt x="12" y="25"/>
                      <a:pt x="6" y="43"/>
                      <a:pt x="4" y="66"/>
                    </a:cubicBezTo>
                    <a:cubicBezTo>
                      <a:pt x="6" y="90"/>
                      <a:pt x="0" y="92"/>
                      <a:pt x="18" y="98"/>
                    </a:cubicBezTo>
                    <a:cubicBezTo>
                      <a:pt x="28" y="96"/>
                      <a:pt x="41" y="99"/>
                      <a:pt x="48" y="92"/>
                    </a:cubicBezTo>
                    <a:cubicBezTo>
                      <a:pt x="50" y="90"/>
                      <a:pt x="43" y="59"/>
                      <a:pt x="42" y="54"/>
                    </a:cubicBezTo>
                    <a:cubicBezTo>
                      <a:pt x="41" y="50"/>
                      <a:pt x="38" y="42"/>
                      <a:pt x="38" y="42"/>
                    </a:cubicBezTo>
                    <a:cubicBezTo>
                      <a:pt x="36" y="25"/>
                      <a:pt x="34" y="11"/>
                      <a:pt x="20" y="0"/>
                    </a:cubicBezTo>
                    <a:cubicBezTo>
                      <a:pt x="18" y="7"/>
                      <a:pt x="17" y="7"/>
                      <a:pt x="20" y="4"/>
                    </a:cubicBezTo>
                    <a:close/>
                  </a:path>
                </a:pathLst>
              </a:custGeom>
              <a:blipFill rotWithShape="0">
                <a:blip r:embed="rId28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7292880" y="3029040"/>
                <a:ext cx="93600" cy="108000"/>
              </a:xfrm>
              <a:custGeom>
                <a:avLst/>
                <a:gdLst/>
                <a:ahLst/>
                <a:rect l="l" t="t" r="r" b="b"/>
                <a:pathLst>
                  <a:path w="59" h="68">
                    <a:moveTo>
                      <a:pt x="7" y="8"/>
                    </a:moveTo>
                    <a:cubicBezTo>
                      <a:pt x="5" y="32"/>
                      <a:pt x="1" y="52"/>
                      <a:pt x="29" y="56"/>
                    </a:cubicBezTo>
                    <a:cubicBezTo>
                      <a:pt x="47" y="68"/>
                      <a:pt x="51" y="43"/>
                      <a:pt x="59" y="32"/>
                    </a:cubicBezTo>
                    <a:cubicBezTo>
                      <a:pt x="56" y="27"/>
                      <a:pt x="54" y="19"/>
                      <a:pt x="49" y="16"/>
                    </a:cubicBezTo>
                    <a:cubicBezTo>
                      <a:pt x="43" y="12"/>
                      <a:pt x="37" y="8"/>
                      <a:pt x="31" y="4"/>
                    </a:cubicBezTo>
                    <a:cubicBezTo>
                      <a:pt x="29" y="3"/>
                      <a:pt x="25" y="0"/>
                      <a:pt x="25" y="0"/>
                    </a:cubicBezTo>
                    <a:cubicBezTo>
                      <a:pt x="21" y="1"/>
                      <a:pt x="17" y="0"/>
                      <a:pt x="13" y="2"/>
                    </a:cubicBezTo>
                    <a:cubicBezTo>
                      <a:pt x="0" y="9"/>
                      <a:pt x="14" y="8"/>
                      <a:pt x="7" y="8"/>
                    </a:cubicBezTo>
                    <a:close/>
                  </a:path>
                </a:pathLst>
              </a:custGeom>
              <a:blipFill rotWithShape="0">
                <a:blip r:embed="rId29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437240" y="3354480"/>
                <a:ext cx="85680" cy="82440"/>
              </a:xfrm>
              <a:custGeom>
                <a:avLst/>
                <a:gdLst/>
                <a:ahLst/>
                <a:rect l="l" t="t" r="r" b="b"/>
                <a:pathLst>
                  <a:path w="54" h="52">
                    <a:moveTo>
                      <a:pt x="50" y="1"/>
                    </a:moveTo>
                    <a:cubicBezTo>
                      <a:pt x="37" y="2"/>
                      <a:pt x="23" y="0"/>
                      <a:pt x="11" y="4"/>
                    </a:cubicBezTo>
                    <a:cubicBezTo>
                      <a:pt x="0" y="8"/>
                      <a:pt x="14" y="44"/>
                      <a:pt x="20" y="52"/>
                    </a:cubicBezTo>
                    <a:cubicBezTo>
                      <a:pt x="27" y="51"/>
                      <a:pt x="35" y="52"/>
                      <a:pt x="41" y="49"/>
                    </a:cubicBezTo>
                    <a:cubicBezTo>
                      <a:pt x="53" y="44"/>
                      <a:pt x="54" y="9"/>
                      <a:pt x="50" y="1"/>
                    </a:cubicBezTo>
                    <a:close/>
                  </a:path>
                </a:pathLst>
              </a:custGeom>
              <a:blipFill rotWithShape="0">
                <a:blip r:embed="rId30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140240" y="2881440"/>
                <a:ext cx="93960" cy="108000"/>
              </a:xfrm>
              <a:custGeom>
                <a:avLst/>
                <a:gdLst/>
                <a:ahLst/>
                <a:rect l="l" t="t" r="r" b="b"/>
                <a:pathLst>
                  <a:path w="59" h="68">
                    <a:moveTo>
                      <a:pt x="7" y="8"/>
                    </a:moveTo>
                    <a:cubicBezTo>
                      <a:pt x="5" y="32"/>
                      <a:pt x="1" y="52"/>
                      <a:pt x="29" y="56"/>
                    </a:cubicBezTo>
                    <a:cubicBezTo>
                      <a:pt x="47" y="68"/>
                      <a:pt x="51" y="43"/>
                      <a:pt x="59" y="32"/>
                    </a:cubicBezTo>
                    <a:cubicBezTo>
                      <a:pt x="56" y="27"/>
                      <a:pt x="54" y="19"/>
                      <a:pt x="49" y="16"/>
                    </a:cubicBezTo>
                    <a:cubicBezTo>
                      <a:pt x="43" y="12"/>
                      <a:pt x="37" y="8"/>
                      <a:pt x="31" y="4"/>
                    </a:cubicBezTo>
                    <a:cubicBezTo>
                      <a:pt x="29" y="3"/>
                      <a:pt x="25" y="0"/>
                      <a:pt x="25" y="0"/>
                    </a:cubicBezTo>
                    <a:cubicBezTo>
                      <a:pt x="21" y="1"/>
                      <a:pt x="17" y="0"/>
                      <a:pt x="13" y="2"/>
                    </a:cubicBezTo>
                    <a:cubicBezTo>
                      <a:pt x="0" y="9"/>
                      <a:pt x="14" y="8"/>
                      <a:pt x="7" y="8"/>
                    </a:cubicBezTo>
                    <a:close/>
                  </a:path>
                </a:pathLst>
              </a:custGeom>
              <a:blipFill rotWithShape="0">
                <a:blip r:embed="rId31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080120" y="2697480"/>
                <a:ext cx="79200" cy="75960"/>
              </a:xfrm>
              <a:custGeom>
                <a:avLst/>
                <a:gdLst/>
                <a:ahLst/>
                <a:rect l="l" t="t" r="r" b="b"/>
                <a:pathLst>
                  <a:path w="50" h="48">
                    <a:moveTo>
                      <a:pt x="28" y="0"/>
                    </a:moveTo>
                    <a:cubicBezTo>
                      <a:pt x="16" y="5"/>
                      <a:pt x="15" y="6"/>
                      <a:pt x="12" y="18"/>
                    </a:cubicBezTo>
                    <a:cubicBezTo>
                      <a:pt x="15" y="28"/>
                      <a:pt x="8" y="31"/>
                      <a:pt x="0" y="36"/>
                    </a:cubicBezTo>
                    <a:cubicBezTo>
                      <a:pt x="8" y="42"/>
                      <a:pt x="26" y="48"/>
                      <a:pt x="26" y="48"/>
                    </a:cubicBezTo>
                    <a:cubicBezTo>
                      <a:pt x="49" y="45"/>
                      <a:pt x="47" y="44"/>
                      <a:pt x="50" y="22"/>
                    </a:cubicBezTo>
                    <a:cubicBezTo>
                      <a:pt x="42" y="1"/>
                      <a:pt x="32" y="14"/>
                      <a:pt x="24" y="2"/>
                    </a:cubicBezTo>
                    <a:cubicBezTo>
                      <a:pt x="23" y="1"/>
                      <a:pt x="27" y="1"/>
                      <a:pt x="28" y="0"/>
                    </a:cubicBezTo>
                    <a:close/>
                  </a:path>
                </a:pathLst>
              </a:custGeom>
              <a:blipFill rotWithShape="0">
                <a:blip r:embed="rId32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6559920" y="3031560"/>
              <a:ext cx="655920" cy="1024920"/>
              <a:chOff x="6559920" y="3031560"/>
              <a:chExt cx="655920" cy="1024920"/>
            </a:xfrm>
          </p:grpSpPr>
          <p:sp>
            <p:nvSpPr>
              <p:cNvPr id="372" name=""/>
              <p:cNvSpPr/>
              <p:nvPr/>
            </p:nvSpPr>
            <p:spPr>
              <a:xfrm rot="12368400">
                <a:off x="6957360" y="3829680"/>
                <a:ext cx="160200" cy="201600"/>
              </a:xfrm>
              <a:custGeom>
                <a:avLst/>
                <a:gdLst/>
                <a:ahLst/>
                <a:rect l="l" t="t" r="r" b="b"/>
                <a:pathLst>
                  <a:path w="101" h="127">
                    <a:moveTo>
                      <a:pt x="95" y="2"/>
                    </a:moveTo>
                    <a:cubicBezTo>
                      <a:pt x="70" y="15"/>
                      <a:pt x="44" y="29"/>
                      <a:pt x="17" y="38"/>
                    </a:cubicBezTo>
                    <a:cubicBezTo>
                      <a:pt x="0" y="63"/>
                      <a:pt x="6" y="76"/>
                      <a:pt x="35" y="86"/>
                    </a:cubicBezTo>
                    <a:cubicBezTo>
                      <a:pt x="8" y="127"/>
                      <a:pt x="43" y="93"/>
                      <a:pt x="71" y="86"/>
                    </a:cubicBezTo>
                    <a:cubicBezTo>
                      <a:pt x="78" y="66"/>
                      <a:pt x="81" y="45"/>
                      <a:pt x="89" y="26"/>
                    </a:cubicBezTo>
                    <a:cubicBezTo>
                      <a:pt x="93" y="18"/>
                      <a:pt x="99" y="11"/>
                      <a:pt x="101" y="2"/>
                    </a:cubicBezTo>
                    <a:cubicBezTo>
                      <a:pt x="101" y="0"/>
                      <a:pt x="97" y="2"/>
                      <a:pt x="95" y="2"/>
                    </a:cubicBezTo>
                    <a:close/>
                  </a:path>
                </a:pathLst>
              </a:custGeom>
              <a:blipFill rotWithShape="0">
                <a:blip r:embed="rId33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rot="12368400">
                <a:off x="6748200" y="3832560"/>
                <a:ext cx="79200" cy="76320"/>
              </a:xfrm>
              <a:custGeom>
                <a:avLst/>
                <a:gdLst/>
                <a:ahLst/>
                <a:rect l="l" t="t" r="r" b="b"/>
                <a:pathLst>
                  <a:path w="50" h="48">
                    <a:moveTo>
                      <a:pt x="28" y="0"/>
                    </a:moveTo>
                    <a:cubicBezTo>
                      <a:pt x="16" y="5"/>
                      <a:pt x="15" y="6"/>
                      <a:pt x="12" y="18"/>
                    </a:cubicBezTo>
                    <a:cubicBezTo>
                      <a:pt x="15" y="28"/>
                      <a:pt x="8" y="31"/>
                      <a:pt x="0" y="36"/>
                    </a:cubicBezTo>
                    <a:cubicBezTo>
                      <a:pt x="8" y="42"/>
                      <a:pt x="26" y="48"/>
                      <a:pt x="26" y="48"/>
                    </a:cubicBezTo>
                    <a:cubicBezTo>
                      <a:pt x="49" y="45"/>
                      <a:pt x="47" y="44"/>
                      <a:pt x="50" y="22"/>
                    </a:cubicBezTo>
                    <a:cubicBezTo>
                      <a:pt x="42" y="1"/>
                      <a:pt x="32" y="14"/>
                      <a:pt x="24" y="2"/>
                    </a:cubicBezTo>
                    <a:cubicBezTo>
                      <a:pt x="23" y="1"/>
                      <a:pt x="27" y="1"/>
                      <a:pt x="28" y="0"/>
                    </a:cubicBezTo>
                    <a:close/>
                  </a:path>
                </a:pathLst>
              </a:custGeom>
              <a:blipFill rotWithShape="0">
                <a:blip r:embed="rId34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rot="12368400">
                <a:off x="6850440" y="3690000"/>
                <a:ext cx="93600" cy="108000"/>
              </a:xfrm>
              <a:custGeom>
                <a:avLst/>
                <a:gdLst/>
                <a:ahLst/>
                <a:rect l="l" t="t" r="r" b="b"/>
                <a:pathLst>
                  <a:path w="59" h="68">
                    <a:moveTo>
                      <a:pt x="7" y="8"/>
                    </a:moveTo>
                    <a:cubicBezTo>
                      <a:pt x="5" y="32"/>
                      <a:pt x="1" y="52"/>
                      <a:pt x="29" y="56"/>
                    </a:cubicBezTo>
                    <a:cubicBezTo>
                      <a:pt x="47" y="68"/>
                      <a:pt x="51" y="43"/>
                      <a:pt x="59" y="32"/>
                    </a:cubicBezTo>
                    <a:cubicBezTo>
                      <a:pt x="56" y="27"/>
                      <a:pt x="54" y="19"/>
                      <a:pt x="49" y="16"/>
                    </a:cubicBezTo>
                    <a:cubicBezTo>
                      <a:pt x="43" y="12"/>
                      <a:pt x="37" y="8"/>
                      <a:pt x="31" y="4"/>
                    </a:cubicBezTo>
                    <a:cubicBezTo>
                      <a:pt x="29" y="3"/>
                      <a:pt x="25" y="0"/>
                      <a:pt x="25" y="0"/>
                    </a:cubicBezTo>
                    <a:cubicBezTo>
                      <a:pt x="21" y="1"/>
                      <a:pt x="17" y="0"/>
                      <a:pt x="13" y="2"/>
                    </a:cubicBezTo>
                    <a:cubicBezTo>
                      <a:pt x="0" y="9"/>
                      <a:pt x="14" y="8"/>
                      <a:pt x="7" y="8"/>
                    </a:cubicBezTo>
                    <a:close/>
                  </a:path>
                </a:pathLst>
              </a:custGeom>
              <a:blipFill rotWithShape="0">
                <a:blip r:embed="rId35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rot="12368400">
                <a:off x="7040160" y="3699720"/>
                <a:ext cx="74520" cy="95400"/>
              </a:xfrm>
              <a:prstGeom prst="ellipse">
                <a:avLst/>
              </a:prstGeom>
              <a:blipFill rotWithShape="0">
                <a:blip r:embed="rId36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rot="12368400">
                <a:off x="6568560" y="3674520"/>
                <a:ext cx="114480" cy="66600"/>
              </a:xfrm>
              <a:custGeom>
                <a:avLst/>
                <a:gdLst/>
                <a:ahLst/>
                <a:rect l="l" t="t" r="r" b="b"/>
                <a:pathLst>
                  <a:path w="72" h="42">
                    <a:moveTo>
                      <a:pt x="64" y="28"/>
                    </a:moveTo>
                    <a:cubicBezTo>
                      <a:pt x="47" y="38"/>
                      <a:pt x="31" y="40"/>
                      <a:pt x="12" y="42"/>
                    </a:cubicBezTo>
                    <a:cubicBezTo>
                      <a:pt x="9" y="41"/>
                      <a:pt x="6" y="42"/>
                      <a:pt x="4" y="40"/>
                    </a:cubicBezTo>
                    <a:cubicBezTo>
                      <a:pt x="1" y="37"/>
                      <a:pt x="0" y="28"/>
                      <a:pt x="0" y="28"/>
                    </a:cubicBezTo>
                    <a:cubicBezTo>
                      <a:pt x="4" y="7"/>
                      <a:pt x="21" y="5"/>
                      <a:pt x="40" y="0"/>
                    </a:cubicBezTo>
                    <a:cubicBezTo>
                      <a:pt x="53" y="2"/>
                      <a:pt x="58" y="1"/>
                      <a:pt x="68" y="8"/>
                    </a:cubicBezTo>
                    <a:cubicBezTo>
                      <a:pt x="69" y="10"/>
                      <a:pt x="72" y="20"/>
                      <a:pt x="72" y="22"/>
                    </a:cubicBezTo>
                    <a:cubicBezTo>
                      <a:pt x="71" y="26"/>
                      <a:pt x="59" y="33"/>
                      <a:pt x="64" y="28"/>
                    </a:cubicBezTo>
                    <a:close/>
                  </a:path>
                </a:pathLst>
              </a:custGeom>
              <a:blipFill rotWithShape="0">
                <a:blip r:embed="rId37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rot="12368400">
                <a:off x="6881400" y="3531600"/>
                <a:ext cx="88920" cy="123840"/>
              </a:xfrm>
              <a:custGeom>
                <a:avLst/>
                <a:gdLst/>
                <a:ahLst/>
                <a:rect l="l" t="t" r="r" b="b"/>
                <a:pathLst>
                  <a:path w="56" h="78">
                    <a:moveTo>
                      <a:pt x="8" y="0"/>
                    </a:moveTo>
                    <a:cubicBezTo>
                      <a:pt x="4" y="17"/>
                      <a:pt x="0" y="39"/>
                      <a:pt x="10" y="54"/>
                    </a:cubicBezTo>
                    <a:cubicBezTo>
                      <a:pt x="14" y="78"/>
                      <a:pt x="21" y="63"/>
                      <a:pt x="36" y="58"/>
                    </a:cubicBezTo>
                    <a:cubicBezTo>
                      <a:pt x="43" y="53"/>
                      <a:pt x="56" y="40"/>
                      <a:pt x="56" y="40"/>
                    </a:cubicBezTo>
                    <a:cubicBezTo>
                      <a:pt x="53" y="28"/>
                      <a:pt x="52" y="21"/>
                      <a:pt x="40" y="18"/>
                    </a:cubicBezTo>
                    <a:cubicBezTo>
                      <a:pt x="34" y="12"/>
                      <a:pt x="17" y="0"/>
                      <a:pt x="8" y="0"/>
                    </a:cubicBezTo>
                    <a:close/>
                  </a:path>
                </a:pathLst>
              </a:custGeom>
              <a:blipFill rotWithShape="0">
                <a:blip r:embed="rId38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12368400">
                <a:off x="6718680" y="3449520"/>
                <a:ext cx="79200" cy="156960"/>
              </a:xfrm>
              <a:custGeom>
                <a:avLst/>
                <a:gdLst/>
                <a:ahLst/>
                <a:rect l="l" t="t" r="r" b="b"/>
                <a:pathLst>
                  <a:path w="50" h="99">
                    <a:moveTo>
                      <a:pt x="20" y="4"/>
                    </a:moveTo>
                    <a:cubicBezTo>
                      <a:pt x="12" y="25"/>
                      <a:pt x="6" y="43"/>
                      <a:pt x="4" y="66"/>
                    </a:cubicBezTo>
                    <a:cubicBezTo>
                      <a:pt x="6" y="90"/>
                      <a:pt x="0" y="92"/>
                      <a:pt x="18" y="98"/>
                    </a:cubicBezTo>
                    <a:cubicBezTo>
                      <a:pt x="28" y="96"/>
                      <a:pt x="41" y="99"/>
                      <a:pt x="48" y="92"/>
                    </a:cubicBezTo>
                    <a:cubicBezTo>
                      <a:pt x="50" y="90"/>
                      <a:pt x="43" y="59"/>
                      <a:pt x="42" y="54"/>
                    </a:cubicBezTo>
                    <a:cubicBezTo>
                      <a:pt x="41" y="50"/>
                      <a:pt x="38" y="42"/>
                      <a:pt x="38" y="42"/>
                    </a:cubicBezTo>
                    <a:cubicBezTo>
                      <a:pt x="36" y="25"/>
                      <a:pt x="34" y="11"/>
                      <a:pt x="20" y="0"/>
                    </a:cubicBezTo>
                    <a:cubicBezTo>
                      <a:pt x="18" y="7"/>
                      <a:pt x="17" y="7"/>
                      <a:pt x="20" y="4"/>
                    </a:cubicBezTo>
                    <a:close/>
                  </a:path>
                </a:pathLst>
              </a:custGeom>
              <a:blipFill rotWithShape="0">
                <a:blip r:embed="rId39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12368400">
                <a:off x="7031160" y="3375720"/>
                <a:ext cx="93600" cy="108000"/>
              </a:xfrm>
              <a:custGeom>
                <a:avLst/>
                <a:gdLst/>
                <a:ahLst/>
                <a:rect l="l" t="t" r="r" b="b"/>
                <a:pathLst>
                  <a:path w="59" h="68">
                    <a:moveTo>
                      <a:pt x="7" y="8"/>
                    </a:moveTo>
                    <a:cubicBezTo>
                      <a:pt x="5" y="32"/>
                      <a:pt x="1" y="52"/>
                      <a:pt x="29" y="56"/>
                    </a:cubicBezTo>
                    <a:cubicBezTo>
                      <a:pt x="47" y="68"/>
                      <a:pt x="51" y="43"/>
                      <a:pt x="59" y="32"/>
                    </a:cubicBezTo>
                    <a:cubicBezTo>
                      <a:pt x="56" y="27"/>
                      <a:pt x="54" y="19"/>
                      <a:pt x="49" y="16"/>
                    </a:cubicBezTo>
                    <a:cubicBezTo>
                      <a:pt x="43" y="12"/>
                      <a:pt x="37" y="8"/>
                      <a:pt x="31" y="4"/>
                    </a:cubicBezTo>
                    <a:cubicBezTo>
                      <a:pt x="29" y="3"/>
                      <a:pt x="25" y="0"/>
                      <a:pt x="25" y="0"/>
                    </a:cubicBezTo>
                    <a:cubicBezTo>
                      <a:pt x="21" y="1"/>
                      <a:pt x="17" y="0"/>
                      <a:pt x="13" y="2"/>
                    </a:cubicBezTo>
                    <a:cubicBezTo>
                      <a:pt x="0" y="9"/>
                      <a:pt x="14" y="8"/>
                      <a:pt x="7" y="8"/>
                    </a:cubicBezTo>
                    <a:close/>
                  </a:path>
                </a:pathLst>
              </a:custGeom>
              <a:blipFill rotWithShape="0">
                <a:blip r:embed="rId40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rot="12368400">
                <a:off x="7046640" y="3045960"/>
                <a:ext cx="85680" cy="82440"/>
              </a:xfrm>
              <a:custGeom>
                <a:avLst/>
                <a:gdLst/>
                <a:ahLst/>
                <a:rect l="l" t="t" r="r" b="b"/>
                <a:pathLst>
                  <a:path w="54" h="52">
                    <a:moveTo>
                      <a:pt x="50" y="1"/>
                    </a:moveTo>
                    <a:cubicBezTo>
                      <a:pt x="37" y="2"/>
                      <a:pt x="23" y="0"/>
                      <a:pt x="11" y="4"/>
                    </a:cubicBezTo>
                    <a:cubicBezTo>
                      <a:pt x="0" y="8"/>
                      <a:pt x="14" y="44"/>
                      <a:pt x="20" y="52"/>
                    </a:cubicBezTo>
                    <a:cubicBezTo>
                      <a:pt x="27" y="51"/>
                      <a:pt x="35" y="52"/>
                      <a:pt x="41" y="49"/>
                    </a:cubicBezTo>
                    <a:cubicBezTo>
                      <a:pt x="53" y="44"/>
                      <a:pt x="54" y="9"/>
                      <a:pt x="50" y="1"/>
                    </a:cubicBezTo>
                    <a:close/>
                  </a:path>
                </a:pathLst>
              </a:custGeom>
              <a:blipFill rotWithShape="0">
                <a:blip r:embed="rId41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12368400">
                <a:off x="7102800" y="3575160"/>
                <a:ext cx="93960" cy="108000"/>
              </a:xfrm>
              <a:custGeom>
                <a:avLst/>
                <a:gdLst/>
                <a:ahLst/>
                <a:rect l="l" t="t" r="r" b="b"/>
                <a:pathLst>
                  <a:path w="59" h="68">
                    <a:moveTo>
                      <a:pt x="7" y="8"/>
                    </a:moveTo>
                    <a:cubicBezTo>
                      <a:pt x="5" y="32"/>
                      <a:pt x="1" y="52"/>
                      <a:pt x="29" y="56"/>
                    </a:cubicBezTo>
                    <a:cubicBezTo>
                      <a:pt x="47" y="68"/>
                      <a:pt x="51" y="43"/>
                      <a:pt x="59" y="32"/>
                    </a:cubicBezTo>
                    <a:cubicBezTo>
                      <a:pt x="56" y="27"/>
                      <a:pt x="54" y="19"/>
                      <a:pt x="49" y="16"/>
                    </a:cubicBezTo>
                    <a:cubicBezTo>
                      <a:pt x="43" y="12"/>
                      <a:pt x="37" y="8"/>
                      <a:pt x="31" y="4"/>
                    </a:cubicBezTo>
                    <a:cubicBezTo>
                      <a:pt x="29" y="3"/>
                      <a:pt x="25" y="0"/>
                      <a:pt x="25" y="0"/>
                    </a:cubicBezTo>
                    <a:cubicBezTo>
                      <a:pt x="21" y="1"/>
                      <a:pt x="17" y="0"/>
                      <a:pt x="13" y="2"/>
                    </a:cubicBezTo>
                    <a:cubicBezTo>
                      <a:pt x="0" y="9"/>
                      <a:pt x="14" y="8"/>
                      <a:pt x="7" y="8"/>
                    </a:cubicBezTo>
                    <a:close/>
                  </a:path>
                </a:pathLst>
              </a:custGeom>
              <a:blipFill rotWithShape="0">
                <a:blip r:embed="rId42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rot="12368400">
                <a:off x="7082640" y="3800520"/>
                <a:ext cx="79200" cy="75960"/>
              </a:xfrm>
              <a:custGeom>
                <a:avLst/>
                <a:gdLst/>
                <a:ahLst/>
                <a:rect l="l" t="t" r="r" b="b"/>
                <a:pathLst>
                  <a:path w="50" h="48">
                    <a:moveTo>
                      <a:pt x="28" y="0"/>
                    </a:moveTo>
                    <a:cubicBezTo>
                      <a:pt x="16" y="5"/>
                      <a:pt x="15" y="6"/>
                      <a:pt x="12" y="18"/>
                    </a:cubicBezTo>
                    <a:cubicBezTo>
                      <a:pt x="15" y="28"/>
                      <a:pt x="8" y="31"/>
                      <a:pt x="0" y="36"/>
                    </a:cubicBezTo>
                    <a:cubicBezTo>
                      <a:pt x="8" y="42"/>
                      <a:pt x="26" y="48"/>
                      <a:pt x="26" y="48"/>
                    </a:cubicBezTo>
                    <a:cubicBezTo>
                      <a:pt x="49" y="45"/>
                      <a:pt x="47" y="44"/>
                      <a:pt x="50" y="22"/>
                    </a:cubicBezTo>
                    <a:cubicBezTo>
                      <a:pt x="42" y="1"/>
                      <a:pt x="32" y="14"/>
                      <a:pt x="24" y="2"/>
                    </a:cubicBezTo>
                    <a:cubicBezTo>
                      <a:pt x="23" y="1"/>
                      <a:pt x="27" y="1"/>
                      <a:pt x="28" y="0"/>
                    </a:cubicBezTo>
                    <a:close/>
                  </a:path>
                </a:pathLst>
              </a:custGeom>
              <a:blipFill rotWithShape="0">
                <a:blip r:embed="rId43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7130880" y="3051000"/>
              <a:ext cx="1017000" cy="664560"/>
              <a:chOff x="7130880" y="3051000"/>
              <a:chExt cx="1017000" cy="664560"/>
            </a:xfrm>
          </p:grpSpPr>
          <p:sp>
            <p:nvSpPr>
              <p:cNvPr id="384" name=""/>
              <p:cNvSpPr/>
              <p:nvPr/>
            </p:nvSpPr>
            <p:spPr>
              <a:xfrm rot="18190800">
                <a:off x="7178760" y="3397320"/>
                <a:ext cx="160200" cy="201600"/>
              </a:xfrm>
              <a:custGeom>
                <a:avLst/>
                <a:gdLst/>
                <a:ahLst/>
                <a:rect l="l" t="t" r="r" b="b"/>
                <a:pathLst>
                  <a:path w="101" h="127">
                    <a:moveTo>
                      <a:pt x="95" y="2"/>
                    </a:moveTo>
                    <a:cubicBezTo>
                      <a:pt x="70" y="15"/>
                      <a:pt x="44" y="29"/>
                      <a:pt x="17" y="38"/>
                    </a:cubicBezTo>
                    <a:cubicBezTo>
                      <a:pt x="0" y="63"/>
                      <a:pt x="6" y="76"/>
                      <a:pt x="35" y="86"/>
                    </a:cubicBezTo>
                    <a:cubicBezTo>
                      <a:pt x="8" y="127"/>
                      <a:pt x="43" y="93"/>
                      <a:pt x="71" y="86"/>
                    </a:cubicBezTo>
                    <a:cubicBezTo>
                      <a:pt x="78" y="66"/>
                      <a:pt x="81" y="45"/>
                      <a:pt x="89" y="26"/>
                    </a:cubicBezTo>
                    <a:cubicBezTo>
                      <a:pt x="93" y="18"/>
                      <a:pt x="99" y="11"/>
                      <a:pt x="101" y="2"/>
                    </a:cubicBezTo>
                    <a:cubicBezTo>
                      <a:pt x="101" y="0"/>
                      <a:pt x="97" y="2"/>
                      <a:pt x="95" y="2"/>
                    </a:cubicBezTo>
                    <a:close/>
                  </a:path>
                </a:pathLst>
              </a:custGeom>
              <a:blipFill rotWithShape="0">
                <a:blip r:embed="rId44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rot="18190800">
                <a:off x="7309080" y="3219480"/>
                <a:ext cx="79200" cy="76320"/>
              </a:xfrm>
              <a:custGeom>
                <a:avLst/>
                <a:gdLst/>
                <a:ahLst/>
                <a:rect l="l" t="t" r="r" b="b"/>
                <a:pathLst>
                  <a:path w="50" h="48">
                    <a:moveTo>
                      <a:pt x="28" y="0"/>
                    </a:moveTo>
                    <a:cubicBezTo>
                      <a:pt x="16" y="5"/>
                      <a:pt x="15" y="6"/>
                      <a:pt x="12" y="18"/>
                    </a:cubicBezTo>
                    <a:cubicBezTo>
                      <a:pt x="15" y="28"/>
                      <a:pt x="8" y="31"/>
                      <a:pt x="0" y="36"/>
                    </a:cubicBezTo>
                    <a:cubicBezTo>
                      <a:pt x="8" y="42"/>
                      <a:pt x="26" y="48"/>
                      <a:pt x="26" y="48"/>
                    </a:cubicBezTo>
                    <a:cubicBezTo>
                      <a:pt x="49" y="45"/>
                      <a:pt x="47" y="44"/>
                      <a:pt x="50" y="22"/>
                    </a:cubicBezTo>
                    <a:cubicBezTo>
                      <a:pt x="42" y="1"/>
                      <a:pt x="32" y="14"/>
                      <a:pt x="24" y="2"/>
                    </a:cubicBezTo>
                    <a:cubicBezTo>
                      <a:pt x="23" y="1"/>
                      <a:pt x="27" y="1"/>
                      <a:pt x="28" y="0"/>
                    </a:cubicBezTo>
                    <a:close/>
                  </a:path>
                </a:pathLst>
              </a:custGeom>
              <a:blipFill rotWithShape="0">
                <a:blip r:embed="rId45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rot="18190800">
                <a:off x="7414560" y="3327840"/>
                <a:ext cx="93600" cy="108000"/>
              </a:xfrm>
              <a:custGeom>
                <a:avLst/>
                <a:gdLst/>
                <a:ahLst/>
                <a:rect l="l" t="t" r="r" b="b"/>
                <a:pathLst>
                  <a:path w="59" h="68">
                    <a:moveTo>
                      <a:pt x="7" y="8"/>
                    </a:moveTo>
                    <a:cubicBezTo>
                      <a:pt x="5" y="32"/>
                      <a:pt x="1" y="52"/>
                      <a:pt x="29" y="56"/>
                    </a:cubicBezTo>
                    <a:cubicBezTo>
                      <a:pt x="47" y="68"/>
                      <a:pt x="51" y="43"/>
                      <a:pt x="59" y="32"/>
                    </a:cubicBezTo>
                    <a:cubicBezTo>
                      <a:pt x="56" y="27"/>
                      <a:pt x="54" y="19"/>
                      <a:pt x="49" y="16"/>
                    </a:cubicBezTo>
                    <a:cubicBezTo>
                      <a:pt x="43" y="12"/>
                      <a:pt x="37" y="8"/>
                      <a:pt x="31" y="4"/>
                    </a:cubicBezTo>
                    <a:cubicBezTo>
                      <a:pt x="29" y="3"/>
                      <a:pt x="25" y="0"/>
                      <a:pt x="25" y="0"/>
                    </a:cubicBezTo>
                    <a:cubicBezTo>
                      <a:pt x="21" y="1"/>
                      <a:pt x="17" y="0"/>
                      <a:pt x="13" y="2"/>
                    </a:cubicBezTo>
                    <a:cubicBezTo>
                      <a:pt x="0" y="9"/>
                      <a:pt x="14" y="8"/>
                      <a:pt x="7" y="8"/>
                    </a:cubicBezTo>
                    <a:close/>
                  </a:path>
                </a:pathLst>
              </a:custGeom>
              <a:blipFill rotWithShape="0">
                <a:blip r:embed="rId46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rot="18190800">
                <a:off x="7398360" y="3512880"/>
                <a:ext cx="74520" cy="95400"/>
              </a:xfrm>
              <a:prstGeom prst="ellipse">
                <a:avLst/>
              </a:prstGeom>
              <a:blipFill rotWithShape="0">
                <a:blip r:embed="rId47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rot="18190800">
                <a:off x="7473240" y="3083760"/>
                <a:ext cx="114480" cy="66600"/>
              </a:xfrm>
              <a:custGeom>
                <a:avLst/>
                <a:gdLst/>
                <a:ahLst/>
                <a:rect l="l" t="t" r="r" b="b"/>
                <a:pathLst>
                  <a:path w="72" h="42">
                    <a:moveTo>
                      <a:pt x="64" y="28"/>
                    </a:moveTo>
                    <a:cubicBezTo>
                      <a:pt x="47" y="38"/>
                      <a:pt x="31" y="40"/>
                      <a:pt x="12" y="42"/>
                    </a:cubicBezTo>
                    <a:cubicBezTo>
                      <a:pt x="9" y="41"/>
                      <a:pt x="6" y="42"/>
                      <a:pt x="4" y="40"/>
                    </a:cubicBezTo>
                    <a:cubicBezTo>
                      <a:pt x="1" y="37"/>
                      <a:pt x="0" y="28"/>
                      <a:pt x="0" y="28"/>
                    </a:cubicBezTo>
                    <a:cubicBezTo>
                      <a:pt x="4" y="7"/>
                      <a:pt x="21" y="5"/>
                      <a:pt x="40" y="0"/>
                    </a:cubicBezTo>
                    <a:cubicBezTo>
                      <a:pt x="53" y="2"/>
                      <a:pt x="58" y="1"/>
                      <a:pt x="68" y="8"/>
                    </a:cubicBezTo>
                    <a:cubicBezTo>
                      <a:pt x="69" y="10"/>
                      <a:pt x="72" y="20"/>
                      <a:pt x="72" y="22"/>
                    </a:cubicBezTo>
                    <a:cubicBezTo>
                      <a:pt x="71" y="26"/>
                      <a:pt x="59" y="33"/>
                      <a:pt x="64" y="28"/>
                    </a:cubicBezTo>
                    <a:close/>
                  </a:path>
                </a:pathLst>
              </a:custGeom>
              <a:blipFill rotWithShape="0">
                <a:blip r:embed="rId48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rot="18190800">
                <a:off x="7562880" y="3366720"/>
                <a:ext cx="88920" cy="123840"/>
              </a:xfrm>
              <a:custGeom>
                <a:avLst/>
                <a:gdLst/>
                <a:ahLst/>
                <a:rect l="l" t="t" r="r" b="b"/>
                <a:pathLst>
                  <a:path w="56" h="78">
                    <a:moveTo>
                      <a:pt x="8" y="0"/>
                    </a:moveTo>
                    <a:cubicBezTo>
                      <a:pt x="4" y="17"/>
                      <a:pt x="0" y="39"/>
                      <a:pt x="10" y="54"/>
                    </a:cubicBezTo>
                    <a:cubicBezTo>
                      <a:pt x="14" y="78"/>
                      <a:pt x="21" y="63"/>
                      <a:pt x="36" y="58"/>
                    </a:cubicBezTo>
                    <a:cubicBezTo>
                      <a:pt x="43" y="53"/>
                      <a:pt x="56" y="40"/>
                      <a:pt x="56" y="40"/>
                    </a:cubicBezTo>
                    <a:cubicBezTo>
                      <a:pt x="53" y="28"/>
                      <a:pt x="52" y="21"/>
                      <a:pt x="40" y="18"/>
                    </a:cubicBezTo>
                    <a:cubicBezTo>
                      <a:pt x="34" y="12"/>
                      <a:pt x="17" y="0"/>
                      <a:pt x="8" y="0"/>
                    </a:cubicBezTo>
                    <a:close/>
                  </a:path>
                </a:pathLst>
              </a:custGeom>
              <a:blipFill rotWithShape="0">
                <a:blip r:embed="rId49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18190800">
                <a:off x="7652880" y="3191760"/>
                <a:ext cx="79200" cy="156960"/>
              </a:xfrm>
              <a:custGeom>
                <a:avLst/>
                <a:gdLst/>
                <a:ahLst/>
                <a:rect l="l" t="t" r="r" b="b"/>
                <a:pathLst>
                  <a:path w="50" h="99">
                    <a:moveTo>
                      <a:pt x="20" y="4"/>
                    </a:moveTo>
                    <a:cubicBezTo>
                      <a:pt x="12" y="25"/>
                      <a:pt x="6" y="43"/>
                      <a:pt x="4" y="66"/>
                    </a:cubicBezTo>
                    <a:cubicBezTo>
                      <a:pt x="6" y="90"/>
                      <a:pt x="0" y="92"/>
                      <a:pt x="18" y="98"/>
                    </a:cubicBezTo>
                    <a:cubicBezTo>
                      <a:pt x="28" y="96"/>
                      <a:pt x="41" y="99"/>
                      <a:pt x="48" y="92"/>
                    </a:cubicBezTo>
                    <a:cubicBezTo>
                      <a:pt x="50" y="90"/>
                      <a:pt x="43" y="59"/>
                      <a:pt x="42" y="54"/>
                    </a:cubicBezTo>
                    <a:cubicBezTo>
                      <a:pt x="41" y="50"/>
                      <a:pt x="38" y="42"/>
                      <a:pt x="38" y="42"/>
                    </a:cubicBezTo>
                    <a:cubicBezTo>
                      <a:pt x="36" y="25"/>
                      <a:pt x="34" y="11"/>
                      <a:pt x="20" y="0"/>
                    </a:cubicBezTo>
                    <a:cubicBezTo>
                      <a:pt x="18" y="7"/>
                      <a:pt x="17" y="7"/>
                      <a:pt x="20" y="4"/>
                    </a:cubicBezTo>
                    <a:close/>
                  </a:path>
                </a:pathLst>
              </a:custGeom>
              <a:blipFill rotWithShape="0">
                <a:blip r:embed="rId50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18190800">
                <a:off x="7704360" y="3546000"/>
                <a:ext cx="93600" cy="108000"/>
              </a:xfrm>
              <a:custGeom>
                <a:avLst/>
                <a:gdLst/>
                <a:ahLst/>
                <a:rect l="l" t="t" r="r" b="b"/>
                <a:pathLst>
                  <a:path w="59" h="68">
                    <a:moveTo>
                      <a:pt x="7" y="8"/>
                    </a:moveTo>
                    <a:cubicBezTo>
                      <a:pt x="5" y="32"/>
                      <a:pt x="1" y="52"/>
                      <a:pt x="29" y="56"/>
                    </a:cubicBezTo>
                    <a:cubicBezTo>
                      <a:pt x="47" y="68"/>
                      <a:pt x="51" y="43"/>
                      <a:pt x="59" y="32"/>
                    </a:cubicBezTo>
                    <a:cubicBezTo>
                      <a:pt x="56" y="27"/>
                      <a:pt x="54" y="19"/>
                      <a:pt x="49" y="16"/>
                    </a:cubicBezTo>
                    <a:cubicBezTo>
                      <a:pt x="43" y="12"/>
                      <a:pt x="37" y="8"/>
                      <a:pt x="31" y="4"/>
                    </a:cubicBezTo>
                    <a:cubicBezTo>
                      <a:pt x="29" y="3"/>
                      <a:pt x="25" y="0"/>
                      <a:pt x="25" y="0"/>
                    </a:cubicBezTo>
                    <a:cubicBezTo>
                      <a:pt x="21" y="1"/>
                      <a:pt x="17" y="0"/>
                      <a:pt x="13" y="2"/>
                    </a:cubicBezTo>
                    <a:cubicBezTo>
                      <a:pt x="0" y="9"/>
                      <a:pt x="14" y="8"/>
                      <a:pt x="7" y="8"/>
                    </a:cubicBezTo>
                    <a:close/>
                  </a:path>
                </a:pathLst>
              </a:custGeom>
              <a:blipFill rotWithShape="0">
                <a:blip r:embed="rId51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18190800">
                <a:off x="8046720" y="3612240"/>
                <a:ext cx="85680" cy="82440"/>
              </a:xfrm>
              <a:custGeom>
                <a:avLst/>
                <a:gdLst/>
                <a:ahLst/>
                <a:rect l="l" t="t" r="r" b="b"/>
                <a:pathLst>
                  <a:path w="54" h="52">
                    <a:moveTo>
                      <a:pt x="50" y="1"/>
                    </a:moveTo>
                    <a:cubicBezTo>
                      <a:pt x="37" y="2"/>
                      <a:pt x="23" y="0"/>
                      <a:pt x="11" y="4"/>
                    </a:cubicBezTo>
                    <a:cubicBezTo>
                      <a:pt x="0" y="8"/>
                      <a:pt x="14" y="44"/>
                      <a:pt x="20" y="52"/>
                    </a:cubicBezTo>
                    <a:cubicBezTo>
                      <a:pt x="27" y="51"/>
                      <a:pt x="35" y="52"/>
                      <a:pt x="41" y="49"/>
                    </a:cubicBezTo>
                    <a:cubicBezTo>
                      <a:pt x="53" y="44"/>
                      <a:pt x="54" y="9"/>
                      <a:pt x="50" y="1"/>
                    </a:cubicBezTo>
                    <a:close/>
                  </a:path>
                </a:pathLst>
              </a:custGeom>
              <a:blipFill rotWithShape="0">
                <a:blip r:embed="rId52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18190800">
                <a:off x="7497360" y="3592440"/>
                <a:ext cx="93960" cy="108000"/>
              </a:xfrm>
              <a:custGeom>
                <a:avLst/>
                <a:gdLst/>
                <a:ahLst/>
                <a:rect l="l" t="t" r="r" b="b"/>
                <a:pathLst>
                  <a:path w="59" h="68">
                    <a:moveTo>
                      <a:pt x="7" y="8"/>
                    </a:moveTo>
                    <a:cubicBezTo>
                      <a:pt x="5" y="32"/>
                      <a:pt x="1" y="52"/>
                      <a:pt x="29" y="56"/>
                    </a:cubicBezTo>
                    <a:cubicBezTo>
                      <a:pt x="47" y="68"/>
                      <a:pt x="51" y="43"/>
                      <a:pt x="59" y="32"/>
                    </a:cubicBezTo>
                    <a:cubicBezTo>
                      <a:pt x="56" y="27"/>
                      <a:pt x="54" y="19"/>
                      <a:pt x="49" y="16"/>
                    </a:cubicBezTo>
                    <a:cubicBezTo>
                      <a:pt x="43" y="12"/>
                      <a:pt x="37" y="8"/>
                      <a:pt x="31" y="4"/>
                    </a:cubicBezTo>
                    <a:cubicBezTo>
                      <a:pt x="29" y="3"/>
                      <a:pt x="25" y="0"/>
                      <a:pt x="25" y="0"/>
                    </a:cubicBezTo>
                    <a:cubicBezTo>
                      <a:pt x="21" y="1"/>
                      <a:pt x="17" y="0"/>
                      <a:pt x="13" y="2"/>
                    </a:cubicBezTo>
                    <a:cubicBezTo>
                      <a:pt x="0" y="9"/>
                      <a:pt x="14" y="8"/>
                      <a:pt x="7" y="8"/>
                    </a:cubicBezTo>
                    <a:close/>
                  </a:path>
                </a:pathLst>
              </a:custGeom>
              <a:blipFill rotWithShape="0">
                <a:blip r:embed="rId53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18190800">
                <a:off x="7300080" y="3555720"/>
                <a:ext cx="79200" cy="75960"/>
              </a:xfrm>
              <a:custGeom>
                <a:avLst/>
                <a:gdLst/>
                <a:ahLst/>
                <a:rect l="l" t="t" r="r" b="b"/>
                <a:pathLst>
                  <a:path w="50" h="48">
                    <a:moveTo>
                      <a:pt x="28" y="0"/>
                    </a:moveTo>
                    <a:cubicBezTo>
                      <a:pt x="16" y="5"/>
                      <a:pt x="15" y="6"/>
                      <a:pt x="12" y="18"/>
                    </a:cubicBezTo>
                    <a:cubicBezTo>
                      <a:pt x="15" y="28"/>
                      <a:pt x="8" y="31"/>
                      <a:pt x="0" y="36"/>
                    </a:cubicBezTo>
                    <a:cubicBezTo>
                      <a:pt x="8" y="42"/>
                      <a:pt x="26" y="48"/>
                      <a:pt x="26" y="48"/>
                    </a:cubicBezTo>
                    <a:cubicBezTo>
                      <a:pt x="49" y="45"/>
                      <a:pt x="47" y="44"/>
                      <a:pt x="50" y="22"/>
                    </a:cubicBezTo>
                    <a:cubicBezTo>
                      <a:pt x="42" y="1"/>
                      <a:pt x="32" y="14"/>
                      <a:pt x="24" y="2"/>
                    </a:cubicBezTo>
                    <a:cubicBezTo>
                      <a:pt x="23" y="1"/>
                      <a:pt x="27" y="1"/>
                      <a:pt x="28" y="0"/>
                    </a:cubicBezTo>
                    <a:close/>
                  </a:path>
                </a:pathLst>
              </a:custGeom>
              <a:blipFill rotWithShape="0">
                <a:blip r:embed="rId54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5" name=""/>
          <p:cNvSpPr/>
          <p:nvPr/>
        </p:nvSpPr>
        <p:spPr>
          <a:xfrm>
            <a:off x="6553800" y="434340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latele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895480" y="2971800"/>
            <a:ext cx="609840" cy="304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638680" y="2971800"/>
            <a:ext cx="609840" cy="304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481440" y="487692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(pro)platele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cc66"/>
                </a:solidFill>
                <a:latin typeface="Times New Roman"/>
              </a:rPr>
              <a:t>Platelets in the circulation:</a:t>
            </a:r>
            <a:br>
              <a:rPr sz="4000"/>
            </a:br>
            <a:r>
              <a:rPr b="1" lang="en-GB" sz="4000" spc="-1" strike="noStrike">
                <a:solidFill>
                  <a:srgbClr val="ffcc66"/>
                </a:solidFill>
                <a:latin typeface="Times New Roman"/>
              </a:rPr>
              <a:t>Influx, efflux, and redistribution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048120" y="2514600"/>
            <a:ext cx="2820960" cy="1676520"/>
          </a:xfrm>
          <a:prstGeom prst="ellipse">
            <a:avLst/>
          </a:prstGeom>
          <a:solidFill>
            <a:srgbClr val="ffff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IRCULA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LATELE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657600" y="4572000"/>
            <a:ext cx="1601640" cy="838080"/>
          </a:xfrm>
          <a:prstGeom prst="ellipse">
            <a:avLst/>
          </a:prstGeom>
          <a:solidFill>
            <a:srgbClr val="ffff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PLE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4267080" y="3809880"/>
            <a:ext cx="382320" cy="914400"/>
            <a:chOff x="4267080" y="3809880"/>
            <a:chExt cx="382320" cy="914400"/>
          </a:xfrm>
        </p:grpSpPr>
        <p:sp>
          <p:nvSpPr>
            <p:cNvPr id="403" name=""/>
            <p:cNvSpPr/>
            <p:nvPr/>
          </p:nvSpPr>
          <p:spPr>
            <a:xfrm>
              <a:off x="4267080" y="3809880"/>
              <a:ext cx="153000" cy="914400"/>
            </a:xfrm>
            <a:prstGeom prst="upArrow">
              <a:avLst>
                <a:gd name="adj1" fmla="val 50000"/>
                <a:gd name="adj2" fmla="val 149412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496400" y="3809880"/>
              <a:ext cx="153000" cy="914400"/>
            </a:xfrm>
            <a:prstGeom prst="downArrow">
              <a:avLst>
                <a:gd name="adj1" fmla="val 50000"/>
                <a:gd name="adj2" fmla="val 149412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6325560" y="3075120"/>
            <a:ext cx="2020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ESTRU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or REMOV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62120" y="3200400"/>
            <a:ext cx="189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RODU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743200" y="3200400"/>
            <a:ext cx="685800" cy="380880"/>
          </a:xfrm>
          <a:prstGeom prst="rightArrow">
            <a:avLst>
              <a:gd name="adj1" fmla="val 50000"/>
              <a:gd name="adj2" fmla="val 6835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200400"/>
            <a:ext cx="685800" cy="380880"/>
          </a:xfrm>
          <a:prstGeom prst="rightArrow">
            <a:avLst>
              <a:gd name="adj1" fmla="val 50000"/>
              <a:gd name="adj2" fmla="val 6835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0948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4724280" y="2209680"/>
            <a:ext cx="685800" cy="53352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411520" y="1981080"/>
            <a:ext cx="138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latelet cou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1676520" y="1752480"/>
            <a:ext cx="2743200" cy="1447920"/>
            <a:chOff x="1676520" y="1752480"/>
            <a:chExt cx="2743200" cy="1447920"/>
          </a:xfrm>
        </p:grpSpPr>
        <p:sp>
          <p:nvSpPr>
            <p:cNvPr id="413" name=""/>
            <p:cNvSpPr/>
            <p:nvPr/>
          </p:nvSpPr>
          <p:spPr>
            <a:xfrm>
              <a:off x="2057760" y="1752480"/>
              <a:ext cx="187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00"/>
                  </a:solidFill>
                  <a:latin typeface="Arial Narrow"/>
                </a:rPr>
                <a:t>(+) thrombopoieti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676520" y="2133720"/>
              <a:ext cx="2743200" cy="1066680"/>
            </a:xfrm>
            <a:custGeom>
              <a:avLst/>
              <a:gdLst/>
              <a:ahLst/>
              <a:rect l="l" t="t" r="r" b="b"/>
              <a:pathLst>
                <a:path w="1728" h="672">
                  <a:moveTo>
                    <a:pt x="1728" y="240"/>
                  </a:moveTo>
                  <a:lnTo>
                    <a:pt x="1728" y="0"/>
                  </a:lnTo>
                  <a:lnTo>
                    <a:pt x="0" y="0"/>
                  </a:lnTo>
                  <a:lnTo>
                    <a:pt x="0" y="672"/>
                  </a:lnTo>
                </a:path>
              </a:pathLst>
            </a:custGeom>
            <a:noFill/>
            <a:ln w="25560">
              <a:solidFill>
                <a:srgbClr val="0000ff"/>
              </a:solidFill>
              <a:prstDash val="sysDot"/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4651200" y="3657600"/>
            <a:ext cx="5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70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194000" y="5029200"/>
            <a:ext cx="5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30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Times New Roman"/>
              </a:rPr>
              <a:t>Thrombopoietin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5754960" y="1600200"/>
            <a:ext cx="2360160" cy="4650840"/>
            <a:chOff x="5754960" y="1600200"/>
            <a:chExt cx="2360160" cy="4650840"/>
          </a:xfrm>
        </p:grpSpPr>
        <p:grpSp>
          <p:nvGrpSpPr>
            <p:cNvPr id="419" name=""/>
            <p:cNvGrpSpPr/>
            <p:nvPr/>
          </p:nvGrpSpPr>
          <p:grpSpPr>
            <a:xfrm>
              <a:off x="5981760" y="2133720"/>
              <a:ext cx="1905120" cy="2666880"/>
              <a:chOff x="5981760" y="2133720"/>
              <a:chExt cx="1905120" cy="2666880"/>
            </a:xfrm>
          </p:grpSpPr>
          <p:sp>
            <p:nvSpPr>
              <p:cNvPr id="420" name=""/>
              <p:cNvSpPr/>
              <p:nvPr/>
            </p:nvSpPr>
            <p:spPr>
              <a:xfrm>
                <a:off x="5981760" y="2133720"/>
                <a:ext cx="1905120" cy="26668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363000" y="2743200"/>
                <a:ext cx="304560" cy="30492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286680" y="2895840"/>
                <a:ext cx="76320" cy="7596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7353360" y="259092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353360" y="304812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743880" y="251460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201080" y="4191120"/>
                <a:ext cx="304920" cy="30492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515280" y="3581640"/>
                <a:ext cx="76320" cy="7596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353360" y="411480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048800" y="3733920"/>
                <a:ext cx="75960" cy="763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515280" y="441972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31" name=""/>
            <p:cNvSpPr/>
            <p:nvPr/>
          </p:nvSpPr>
          <p:spPr>
            <a:xfrm>
              <a:off x="6405120" y="5791320"/>
              <a:ext cx="126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Narrow"/>
                </a:rPr>
                <a:t>increas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477120" y="51055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Narrow"/>
                </a:rPr>
                <a:t>norma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754960" y="1600200"/>
              <a:ext cx="236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 Narrow"/>
                </a:rPr>
                <a:t>thrombocytopeni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1028880" y="1600200"/>
            <a:ext cx="3778200" cy="4701240"/>
            <a:chOff x="1028880" y="1600200"/>
            <a:chExt cx="3778200" cy="4701240"/>
          </a:xfrm>
        </p:grpSpPr>
        <p:sp>
          <p:nvSpPr>
            <p:cNvPr id="435" name=""/>
            <p:cNvSpPr/>
            <p:nvPr/>
          </p:nvSpPr>
          <p:spPr>
            <a:xfrm>
              <a:off x="2476440" y="2133720"/>
              <a:ext cx="1905120" cy="26668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857680" y="2743200"/>
              <a:ext cx="304560" cy="30492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781360" y="2895480"/>
              <a:ext cx="76320" cy="763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848040" y="2590920"/>
              <a:ext cx="76320" cy="759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848040" y="3048120"/>
              <a:ext cx="76320" cy="759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238560" y="2514600"/>
              <a:ext cx="76320" cy="763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695760" y="3124080"/>
              <a:ext cx="304920" cy="30492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857680" y="3657600"/>
              <a:ext cx="304560" cy="304920"/>
            </a:xfrm>
            <a:prstGeom prst="ellips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695760" y="4191120"/>
              <a:ext cx="304920" cy="30456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009960" y="3581280"/>
              <a:ext cx="76320" cy="763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848040" y="4114800"/>
              <a:ext cx="76320" cy="763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543480" y="3733920"/>
              <a:ext cx="75960" cy="759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009960" y="4419720"/>
              <a:ext cx="76320" cy="759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028880" y="5791320"/>
              <a:ext cx="1447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 Narrow"/>
                </a:rPr>
                <a:t>[TPO]</a:t>
              </a:r>
              <a:r>
                <a:rPr b="1" lang="en-GB" sz="2400" spc="-1" strike="noStrike" baseline="-25000">
                  <a:solidFill>
                    <a:srgbClr val="ffffff"/>
                  </a:solidFill>
                  <a:latin typeface="Arial Narrow"/>
                </a:rPr>
                <a:t> fre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028880" y="5029200"/>
              <a:ext cx="137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 Narrow"/>
                </a:rPr>
                <a:t>[TPO] </a:t>
              </a:r>
              <a:r>
                <a:rPr b="1" lang="en-GB" sz="2400" spc="-1" strike="noStrike" baseline="-25000">
                  <a:solidFill>
                    <a:srgbClr val="ffffff"/>
                  </a:solidFill>
                  <a:latin typeface="Arial Narrow"/>
                </a:rPr>
                <a:t>tota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936160" y="5105520"/>
              <a:ext cx="94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Narrow"/>
                </a:rPr>
                <a:t>norma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936160" y="5791320"/>
              <a:ext cx="94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Narrow"/>
                </a:rPr>
                <a:t>norma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096640" y="1600200"/>
              <a:ext cx="271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 Narrow"/>
                </a:rPr>
                <a:t>normal platelet cou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334880" y="3252960"/>
              <a:ext cx="85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Narrow"/>
                </a:rPr>
                <a:t>platele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334520" y="2643120"/>
              <a:ext cx="61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Narrow"/>
                </a:rPr>
                <a:t>TP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243440" y="2144880"/>
              <a:ext cx="85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Narrow"/>
                </a:rPr>
                <a:t>plasm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019240" y="2362320"/>
              <a:ext cx="762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>
              <a:off x="2019240" y="2566800"/>
              <a:ext cx="1219320" cy="2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2095560" y="2971800"/>
              <a:ext cx="91440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Times New Roman"/>
              </a:rPr>
              <a:t>Thrombocytopenic bleeding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813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isk of blee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latelet cou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ause of thrombocytopen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morbid dise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ru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linical manifest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etechia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urpura, ecchymo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ucosal blee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enorrhag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racranial blee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61" name=""/>
          <p:cNvGraphicFramePr/>
          <p:nvPr/>
        </p:nvGraphicFramePr>
        <p:xfrm>
          <a:off x="4645080" y="1219320"/>
          <a:ext cx="381312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5080" y="1219320"/>
                    <a:ext cx="381312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Times New Roman"/>
              </a:rPr>
              <a:t>Disseminated Intravascular Coagulation (DIC)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IC is characterized b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systemic activation of the coagulation system followed by activation of fibrinolytic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high thrombin and plasmin gene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IC is not a disease itself, but is a manifestation of a serious underlying disord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877160" cy="13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Hemostasis</a:t>
            </a:r>
            <a:br>
              <a:rPr sz="4000"/>
            </a:b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Primary vs. Secondary vs. Tertiary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961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mary Hemosta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latelet Plug 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pendent on normal platelet number &amp; fun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itial manifestation of clot 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ary Hemosta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vation of the clotting casc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position &amp; Stabilization of fibr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rtiary Hemosta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solution of the fibrin cl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pendent on Plasminogen Activ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Times New Roman"/>
              </a:rPr>
              <a:t>Causes of DIC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6868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fection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- bacterial sepsis, viral infe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eoplasm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- AML, adenocarcino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bstetrical disorder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- retained dead fetus, abruption, et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rauma/surgery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- brain injury, crush, burn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ther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- acute hemolytic transfusion reaction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7" name=""/>
          <p:cNvGrpSpPr/>
          <p:nvPr/>
        </p:nvGrpSpPr>
        <p:grpSpPr>
          <a:xfrm>
            <a:off x="2286000" y="1828800"/>
            <a:ext cx="3967200" cy="4205520"/>
            <a:chOff x="2286000" y="1828800"/>
            <a:chExt cx="3967200" cy="4205520"/>
          </a:xfrm>
        </p:grpSpPr>
        <p:sp>
          <p:nvSpPr>
            <p:cNvPr id="468" name=""/>
            <p:cNvSpPr/>
            <p:nvPr/>
          </p:nvSpPr>
          <p:spPr>
            <a:xfrm>
              <a:off x="3129120" y="2727360"/>
              <a:ext cx="3119400" cy="459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depletion of clotting factor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prolonged PT, PT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133800" y="5757840"/>
              <a:ext cx="3119400" cy="27648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increased FDP and D-dime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133800" y="3427560"/>
              <a:ext cx="3119400" cy="27648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thromboctyopenia (consumption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>
              <a:off x="2286000" y="2955600"/>
              <a:ext cx="843120" cy="1066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286000" y="4022640"/>
              <a:ext cx="843120" cy="76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286000" y="5943600"/>
              <a:ext cx="838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133800" y="1828800"/>
              <a:ext cx="3119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LABORATOR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MANIFESTATION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133800" y="4863960"/>
              <a:ext cx="3119400" cy="27648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microangiopathic hemolytic anemi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286000" y="4940280"/>
              <a:ext cx="843120" cy="73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133800" y="4403880"/>
              <a:ext cx="3119400" cy="27648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decreased fibrinoge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V="1">
              <a:off x="2295360" y="4555800"/>
              <a:ext cx="833760" cy="384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129120" y="3946680"/>
              <a:ext cx="3119400" cy="27648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depletion of physiologic anticoagulant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295360" y="2498760"/>
              <a:ext cx="833760" cy="99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V="1">
              <a:off x="2286000" y="3565440"/>
              <a:ext cx="84312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2" name=""/>
          <p:cNvSpPr/>
          <p:nvPr/>
        </p:nvSpPr>
        <p:spPr>
          <a:xfrm>
            <a:off x="914400" y="6095880"/>
            <a:ext cx="7467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228600" y="1523880"/>
            <a:ext cx="2062080" cy="4770720"/>
            <a:chOff x="228600" y="1523880"/>
            <a:chExt cx="2062080" cy="4770720"/>
          </a:xfrm>
        </p:grpSpPr>
        <p:sp>
          <p:nvSpPr>
            <p:cNvPr id="484" name=""/>
            <p:cNvSpPr/>
            <p:nvPr/>
          </p:nvSpPr>
          <p:spPr>
            <a:xfrm>
              <a:off x="233280" y="2955960"/>
              <a:ext cx="2052720" cy="276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tissue factor releas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8600" y="3571920"/>
              <a:ext cx="2057400" cy="8240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activation of intrinsic pathway of coagula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(systemic thrombin generation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28600" y="4699080"/>
              <a:ext cx="2057400" cy="459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generalized intravascula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fibrin deposi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280" y="2346480"/>
              <a:ext cx="2057400" cy="276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underlying disorde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280" y="5470560"/>
              <a:ext cx="2057400" cy="8240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activation of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fibrinolytic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(systemic plasmin generation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147680" y="4403880"/>
              <a:ext cx="4680" cy="307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147680" y="5165640"/>
              <a:ext cx="4680" cy="308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157400" y="3263760"/>
              <a:ext cx="0" cy="308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147680" y="2651040"/>
              <a:ext cx="4680" cy="308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29320" y="1828800"/>
              <a:ext cx="2040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THOPHYSIOLO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EVEN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33520" y="1523880"/>
              <a:ext cx="14475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Times New Roman"/>
              </a:rPr>
              <a:t>Pathophysiology of DIC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2290680" y="1828800"/>
            <a:ext cx="6624720" cy="4419720"/>
            <a:chOff x="2290680" y="1828800"/>
            <a:chExt cx="6624720" cy="4419720"/>
          </a:xfrm>
        </p:grpSpPr>
        <p:sp>
          <p:nvSpPr>
            <p:cNvPr id="497" name=""/>
            <p:cNvSpPr/>
            <p:nvPr/>
          </p:nvSpPr>
          <p:spPr>
            <a:xfrm>
              <a:off x="7319880" y="3610080"/>
              <a:ext cx="1595520" cy="276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hemorrha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322400" y="5318280"/>
              <a:ext cx="1590480" cy="276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thrombosis/infarc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V="1">
              <a:off x="6253200" y="3946320"/>
              <a:ext cx="1143000" cy="1973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253200" y="3565440"/>
              <a:ext cx="1066680" cy="152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V="1">
              <a:off x="6253200" y="3793680"/>
              <a:ext cx="1066680" cy="762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152840" y="1828800"/>
              <a:ext cx="1761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LINIC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MANIFESTATION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253200" y="4098960"/>
              <a:ext cx="1066680" cy="1295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253200" y="2955960"/>
              <a:ext cx="1066680" cy="685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290680" y="4937040"/>
              <a:ext cx="5029200" cy="561960"/>
            </a:xfrm>
            <a:custGeom>
              <a:avLst/>
              <a:gdLst/>
              <a:ahLst/>
              <a:rect l="l" t="t" r="r" b="b"/>
              <a:pathLst>
                <a:path w="3148" h="354">
                  <a:moveTo>
                    <a:pt x="0" y="0"/>
                  </a:moveTo>
                  <a:lnTo>
                    <a:pt x="530" y="300"/>
                  </a:lnTo>
                  <a:lnTo>
                    <a:pt x="3148" y="354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305080" y="3962520"/>
              <a:ext cx="5238720" cy="2286000"/>
            </a:xfrm>
            <a:custGeom>
              <a:avLst/>
              <a:gdLst/>
              <a:ahLst/>
              <a:rect l="l" t="t" r="r" b="b"/>
              <a:pathLst>
                <a:path w="3300" h="1440">
                  <a:moveTo>
                    <a:pt x="0" y="1266"/>
                  </a:moveTo>
                  <a:lnTo>
                    <a:pt x="516" y="1434"/>
                  </a:lnTo>
                  <a:lnTo>
                    <a:pt x="2628" y="1440"/>
                  </a:lnTo>
                  <a:lnTo>
                    <a:pt x="3300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Times New Roman"/>
              </a:rPr>
              <a:t>Treatment of DIC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reat the underlying dise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eplacement therap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ryoprecipit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F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latelet concentr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acked red cel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nsider additional pharmacologic therap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troversial or investigational ag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T, APC, PC concentrate, heparin, antifibrinolytic ag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Thrombasthenia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Qualitative Defects in Primary Hemostasis 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hesion/Adherence Def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lycoprotein (Gp) Ib defici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rnard-Soulier syndro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on Willebrand dise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gregation def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fibrinogenem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ease def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quired def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tibodies to GP IIb-IIIa in NHL and H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Platelet Function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514600" y="1203840"/>
            <a:ext cx="198108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Adherence Only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4876920" y="1215720"/>
            <a:ext cx="3228840" cy="921600"/>
            <a:chOff x="4876920" y="1215720"/>
            <a:chExt cx="3228840" cy="921600"/>
          </a:xfrm>
        </p:grpSpPr>
        <p:sp>
          <p:nvSpPr>
            <p:cNvPr id="516" name=""/>
            <p:cNvSpPr/>
            <p:nvPr/>
          </p:nvSpPr>
          <p:spPr>
            <a:xfrm>
              <a:off x="5565960" y="1215720"/>
              <a:ext cx="2539800" cy="92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Aggregation &amp;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Release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876920" y="1676520"/>
              <a:ext cx="707760" cy="276480"/>
            </a:xfrm>
            <a:custGeom>
              <a:avLst/>
              <a:gdLst/>
              <a:ahLst/>
              <a:rect l="l" t="t" r="r" b="b"/>
              <a:pathLst>
                <a:path w="502" h="174">
                  <a:moveTo>
                    <a:pt x="197" y="125"/>
                  </a:moveTo>
                  <a:lnTo>
                    <a:pt x="197" y="118"/>
                  </a:lnTo>
                  <a:lnTo>
                    <a:pt x="198" y="110"/>
                  </a:lnTo>
                  <a:lnTo>
                    <a:pt x="201" y="103"/>
                  </a:lnTo>
                  <a:lnTo>
                    <a:pt x="206" y="95"/>
                  </a:lnTo>
                  <a:lnTo>
                    <a:pt x="211" y="89"/>
                  </a:lnTo>
                  <a:lnTo>
                    <a:pt x="218" y="81"/>
                  </a:lnTo>
                  <a:lnTo>
                    <a:pt x="226" y="75"/>
                  </a:lnTo>
                  <a:lnTo>
                    <a:pt x="234" y="68"/>
                  </a:lnTo>
                  <a:lnTo>
                    <a:pt x="244" y="62"/>
                  </a:lnTo>
                  <a:lnTo>
                    <a:pt x="256" y="56"/>
                  </a:lnTo>
                  <a:lnTo>
                    <a:pt x="267" y="51"/>
                  </a:lnTo>
                  <a:lnTo>
                    <a:pt x="280" y="45"/>
                  </a:lnTo>
                  <a:lnTo>
                    <a:pt x="293" y="41"/>
                  </a:lnTo>
                  <a:lnTo>
                    <a:pt x="307" y="37"/>
                  </a:lnTo>
                  <a:lnTo>
                    <a:pt x="321" y="33"/>
                  </a:lnTo>
                  <a:lnTo>
                    <a:pt x="336" y="30"/>
                  </a:lnTo>
                  <a:lnTo>
                    <a:pt x="351" y="27"/>
                  </a:lnTo>
                  <a:lnTo>
                    <a:pt x="366" y="25"/>
                  </a:lnTo>
                  <a:lnTo>
                    <a:pt x="371" y="25"/>
                  </a:lnTo>
                  <a:lnTo>
                    <a:pt x="386" y="23"/>
                  </a:lnTo>
                  <a:lnTo>
                    <a:pt x="402" y="23"/>
                  </a:lnTo>
                  <a:lnTo>
                    <a:pt x="417" y="23"/>
                  </a:lnTo>
                  <a:lnTo>
                    <a:pt x="432" y="23"/>
                  </a:lnTo>
                  <a:lnTo>
                    <a:pt x="446" y="24"/>
                  </a:lnTo>
                  <a:lnTo>
                    <a:pt x="460" y="26"/>
                  </a:lnTo>
                  <a:lnTo>
                    <a:pt x="473" y="28"/>
                  </a:lnTo>
                  <a:lnTo>
                    <a:pt x="486" y="31"/>
                  </a:lnTo>
                  <a:lnTo>
                    <a:pt x="501" y="36"/>
                  </a:lnTo>
                  <a:lnTo>
                    <a:pt x="489" y="29"/>
                  </a:lnTo>
                  <a:lnTo>
                    <a:pt x="476" y="23"/>
                  </a:lnTo>
                  <a:lnTo>
                    <a:pt x="461" y="17"/>
                  </a:lnTo>
                  <a:lnTo>
                    <a:pt x="445" y="12"/>
                  </a:lnTo>
                  <a:lnTo>
                    <a:pt x="428" y="8"/>
                  </a:lnTo>
                  <a:lnTo>
                    <a:pt x="409" y="5"/>
                  </a:lnTo>
                  <a:lnTo>
                    <a:pt x="390" y="3"/>
                  </a:lnTo>
                  <a:lnTo>
                    <a:pt x="370" y="1"/>
                  </a:lnTo>
                  <a:lnTo>
                    <a:pt x="349" y="0"/>
                  </a:lnTo>
                  <a:lnTo>
                    <a:pt x="328" y="0"/>
                  </a:lnTo>
                  <a:lnTo>
                    <a:pt x="307" y="1"/>
                  </a:lnTo>
                  <a:lnTo>
                    <a:pt x="286" y="3"/>
                  </a:lnTo>
                  <a:lnTo>
                    <a:pt x="290" y="3"/>
                  </a:lnTo>
                  <a:lnTo>
                    <a:pt x="268" y="6"/>
                  </a:lnTo>
                  <a:lnTo>
                    <a:pt x="246" y="9"/>
                  </a:lnTo>
                  <a:lnTo>
                    <a:pt x="225" y="14"/>
                  </a:lnTo>
                  <a:lnTo>
                    <a:pt x="204" y="19"/>
                  </a:lnTo>
                  <a:lnTo>
                    <a:pt x="184" y="25"/>
                  </a:lnTo>
                  <a:lnTo>
                    <a:pt x="165" y="32"/>
                  </a:lnTo>
                  <a:lnTo>
                    <a:pt x="147" y="39"/>
                  </a:lnTo>
                  <a:lnTo>
                    <a:pt x="130" y="47"/>
                  </a:lnTo>
                  <a:lnTo>
                    <a:pt x="114" y="55"/>
                  </a:lnTo>
                  <a:lnTo>
                    <a:pt x="100" y="64"/>
                  </a:lnTo>
                  <a:lnTo>
                    <a:pt x="86" y="73"/>
                  </a:lnTo>
                  <a:lnTo>
                    <a:pt x="75" y="83"/>
                  </a:lnTo>
                  <a:lnTo>
                    <a:pt x="66" y="92"/>
                  </a:lnTo>
                  <a:lnTo>
                    <a:pt x="58" y="102"/>
                  </a:lnTo>
                  <a:lnTo>
                    <a:pt x="51" y="112"/>
                  </a:lnTo>
                  <a:lnTo>
                    <a:pt x="47" y="122"/>
                  </a:lnTo>
                  <a:lnTo>
                    <a:pt x="45" y="128"/>
                  </a:lnTo>
                  <a:lnTo>
                    <a:pt x="44" y="135"/>
                  </a:lnTo>
                  <a:lnTo>
                    <a:pt x="45" y="141"/>
                  </a:lnTo>
                  <a:lnTo>
                    <a:pt x="0" y="146"/>
                  </a:lnTo>
                  <a:lnTo>
                    <a:pt x="122" y="173"/>
                  </a:lnTo>
                  <a:lnTo>
                    <a:pt x="242" y="120"/>
                  </a:lnTo>
                  <a:lnTo>
                    <a:pt x="197" y="125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8" name=""/>
          <p:cNvSpPr/>
          <p:nvPr/>
        </p:nvSpPr>
        <p:spPr>
          <a:xfrm flipV="1">
            <a:off x="803160" y="2159640"/>
            <a:ext cx="8078760" cy="145800"/>
          </a:xfrm>
          <a:prstGeom prst="rect">
            <a:avLst/>
          </a:pr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803160" y="2306160"/>
            <a:ext cx="3302280" cy="29376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5905440" y="2317320"/>
            <a:ext cx="2976480" cy="29232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803160" y="2600280"/>
            <a:ext cx="1362240" cy="231840"/>
          </a:xfrm>
          <a:prstGeom prst="rect">
            <a:avLst/>
          </a:prstGeom>
          <a:solidFill>
            <a:srgbClr val="3366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6831000" y="2616120"/>
            <a:ext cx="2050920" cy="230400"/>
          </a:xfrm>
          <a:prstGeom prst="rect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494240" y="2325600"/>
            <a:ext cx="1249200" cy="566640"/>
            <a:chOff x="4494240" y="2325600"/>
            <a:chExt cx="1249200" cy="566640"/>
          </a:xfrm>
        </p:grpSpPr>
        <p:sp>
          <p:nvSpPr>
            <p:cNvPr id="524" name=""/>
            <p:cNvSpPr/>
            <p:nvPr/>
          </p:nvSpPr>
          <p:spPr>
            <a:xfrm flipV="1">
              <a:off x="5054760" y="2682000"/>
              <a:ext cx="599760" cy="209880"/>
            </a:xfrm>
            <a:prstGeom prst="ellipse">
              <a:avLst/>
            </a:prstGeom>
            <a:solidFill>
              <a:srgbClr val="ffccff"/>
            </a:solidFill>
            <a:ln w="0">
              <a:solidFill>
                <a:srgbClr val="341a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V="1">
              <a:off x="4803840" y="2630520"/>
              <a:ext cx="596880" cy="209520"/>
            </a:xfrm>
            <a:prstGeom prst="ellipse">
              <a:avLst/>
            </a:prstGeom>
            <a:solidFill>
              <a:srgbClr val="ffccff"/>
            </a:solidFill>
            <a:ln w="0">
              <a:solidFill>
                <a:srgbClr val="341a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V="1">
              <a:off x="4494240" y="2325600"/>
              <a:ext cx="596880" cy="209520"/>
            </a:xfrm>
            <a:prstGeom prst="ellipse">
              <a:avLst/>
            </a:prstGeom>
            <a:solidFill>
              <a:srgbClr val="ffccff"/>
            </a:solidFill>
            <a:ln w="0">
              <a:solidFill>
                <a:srgbClr val="341a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flipV="1">
              <a:off x="4653000" y="2461320"/>
              <a:ext cx="596880" cy="209880"/>
            </a:xfrm>
            <a:prstGeom prst="ellipse">
              <a:avLst/>
            </a:prstGeom>
            <a:solidFill>
              <a:srgbClr val="ffccff"/>
            </a:solidFill>
            <a:ln w="0">
              <a:solidFill>
                <a:srgbClr val="341a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V="1">
              <a:off x="4735440" y="2346480"/>
              <a:ext cx="596880" cy="209520"/>
            </a:xfrm>
            <a:prstGeom prst="ellipse">
              <a:avLst/>
            </a:prstGeom>
            <a:solidFill>
              <a:srgbClr val="ffccff"/>
            </a:solidFill>
            <a:ln w="0">
              <a:solidFill>
                <a:srgbClr val="341a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V="1">
              <a:off x="5099040" y="2523240"/>
              <a:ext cx="596880" cy="209880"/>
            </a:xfrm>
            <a:prstGeom prst="ellipse">
              <a:avLst/>
            </a:prstGeom>
            <a:solidFill>
              <a:srgbClr val="ffccff"/>
            </a:solidFill>
            <a:ln w="0">
              <a:solidFill>
                <a:srgbClr val="341a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V="1">
              <a:off x="5146560" y="2346480"/>
              <a:ext cx="596880" cy="209520"/>
            </a:xfrm>
            <a:prstGeom prst="ellipse">
              <a:avLst/>
            </a:prstGeom>
            <a:solidFill>
              <a:srgbClr val="ffccff"/>
            </a:solidFill>
            <a:ln w="0">
              <a:solidFill>
                <a:srgbClr val="341a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1" name=""/>
          <p:cNvSpPr/>
          <p:nvPr/>
        </p:nvSpPr>
        <p:spPr>
          <a:xfrm flipV="1">
            <a:off x="3139920" y="2647080"/>
            <a:ext cx="596880" cy="209880"/>
          </a:xfrm>
          <a:prstGeom prst="ellipse">
            <a:avLst/>
          </a:prstGeom>
          <a:solidFill>
            <a:srgbClr val="ffccff"/>
          </a:solidFill>
          <a:ln w="0">
            <a:solidFill>
              <a:srgbClr val="341a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3765600" y="2638440"/>
            <a:ext cx="596880" cy="209520"/>
          </a:xfrm>
          <a:prstGeom prst="ellipse">
            <a:avLst/>
          </a:prstGeom>
          <a:solidFill>
            <a:srgbClr val="ffccff"/>
          </a:solidFill>
          <a:ln w="0">
            <a:solidFill>
              <a:srgbClr val="341a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3340080" y="3040200"/>
            <a:ext cx="596880" cy="210960"/>
          </a:xfrm>
          <a:prstGeom prst="ellipse">
            <a:avLst/>
          </a:prstGeom>
          <a:solidFill>
            <a:srgbClr val="ffccff"/>
          </a:solidFill>
          <a:ln w="0">
            <a:solidFill>
              <a:srgbClr val="341a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259000" y="2725560"/>
            <a:ext cx="934920" cy="408240"/>
          </a:xfrm>
          <a:custGeom>
            <a:avLst/>
            <a:gdLst/>
            <a:ahLst/>
            <a:rect l="l" t="t" r="r" b="b"/>
            <a:pathLst>
              <a:path w="664" h="257">
                <a:moveTo>
                  <a:pt x="265" y="87"/>
                </a:moveTo>
                <a:lnTo>
                  <a:pt x="263" y="91"/>
                </a:lnTo>
                <a:lnTo>
                  <a:pt x="263" y="97"/>
                </a:lnTo>
                <a:lnTo>
                  <a:pt x="266" y="102"/>
                </a:lnTo>
                <a:lnTo>
                  <a:pt x="270" y="108"/>
                </a:lnTo>
                <a:lnTo>
                  <a:pt x="276" y="115"/>
                </a:lnTo>
                <a:lnTo>
                  <a:pt x="284" y="122"/>
                </a:lnTo>
                <a:lnTo>
                  <a:pt x="294" y="129"/>
                </a:lnTo>
                <a:lnTo>
                  <a:pt x="304" y="137"/>
                </a:lnTo>
                <a:lnTo>
                  <a:pt x="317" y="145"/>
                </a:lnTo>
                <a:lnTo>
                  <a:pt x="330" y="152"/>
                </a:lnTo>
                <a:lnTo>
                  <a:pt x="346" y="160"/>
                </a:lnTo>
                <a:lnTo>
                  <a:pt x="362" y="168"/>
                </a:lnTo>
                <a:lnTo>
                  <a:pt x="379" y="176"/>
                </a:lnTo>
                <a:lnTo>
                  <a:pt x="397" y="184"/>
                </a:lnTo>
                <a:lnTo>
                  <a:pt x="416" y="192"/>
                </a:lnTo>
                <a:lnTo>
                  <a:pt x="436" y="199"/>
                </a:lnTo>
                <a:lnTo>
                  <a:pt x="456" y="206"/>
                </a:lnTo>
                <a:lnTo>
                  <a:pt x="476" y="213"/>
                </a:lnTo>
                <a:lnTo>
                  <a:pt x="482" y="215"/>
                </a:lnTo>
                <a:lnTo>
                  <a:pt x="503" y="221"/>
                </a:lnTo>
                <a:lnTo>
                  <a:pt x="524" y="228"/>
                </a:lnTo>
                <a:lnTo>
                  <a:pt x="545" y="233"/>
                </a:lnTo>
                <a:lnTo>
                  <a:pt x="565" y="239"/>
                </a:lnTo>
                <a:lnTo>
                  <a:pt x="586" y="243"/>
                </a:lnTo>
                <a:lnTo>
                  <a:pt x="605" y="247"/>
                </a:lnTo>
                <a:lnTo>
                  <a:pt x="624" y="251"/>
                </a:lnTo>
                <a:lnTo>
                  <a:pt x="642" y="253"/>
                </a:lnTo>
                <a:lnTo>
                  <a:pt x="663" y="256"/>
                </a:lnTo>
                <a:lnTo>
                  <a:pt x="645" y="256"/>
                </a:lnTo>
                <a:lnTo>
                  <a:pt x="626" y="255"/>
                </a:lnTo>
                <a:lnTo>
                  <a:pt x="604" y="253"/>
                </a:lnTo>
                <a:lnTo>
                  <a:pt x="581" y="250"/>
                </a:lnTo>
                <a:lnTo>
                  <a:pt x="556" y="247"/>
                </a:lnTo>
                <a:lnTo>
                  <a:pt x="530" y="242"/>
                </a:lnTo>
                <a:lnTo>
                  <a:pt x="504" y="237"/>
                </a:lnTo>
                <a:lnTo>
                  <a:pt x="476" y="230"/>
                </a:lnTo>
                <a:lnTo>
                  <a:pt x="448" y="223"/>
                </a:lnTo>
                <a:lnTo>
                  <a:pt x="419" y="215"/>
                </a:lnTo>
                <a:lnTo>
                  <a:pt x="390" y="207"/>
                </a:lnTo>
                <a:lnTo>
                  <a:pt x="361" y="197"/>
                </a:lnTo>
                <a:lnTo>
                  <a:pt x="366" y="199"/>
                </a:lnTo>
                <a:lnTo>
                  <a:pt x="337" y="189"/>
                </a:lnTo>
                <a:lnTo>
                  <a:pt x="308" y="179"/>
                </a:lnTo>
                <a:lnTo>
                  <a:pt x="280" y="169"/>
                </a:lnTo>
                <a:lnTo>
                  <a:pt x="252" y="157"/>
                </a:lnTo>
                <a:lnTo>
                  <a:pt x="226" y="146"/>
                </a:lnTo>
                <a:lnTo>
                  <a:pt x="201" y="135"/>
                </a:lnTo>
                <a:lnTo>
                  <a:pt x="178" y="124"/>
                </a:lnTo>
                <a:lnTo>
                  <a:pt x="156" y="112"/>
                </a:lnTo>
                <a:lnTo>
                  <a:pt x="136" y="101"/>
                </a:lnTo>
                <a:lnTo>
                  <a:pt x="118" y="90"/>
                </a:lnTo>
                <a:lnTo>
                  <a:pt x="102" y="79"/>
                </a:lnTo>
                <a:lnTo>
                  <a:pt x="89" y="69"/>
                </a:lnTo>
                <a:lnTo>
                  <a:pt x="78" y="59"/>
                </a:lnTo>
                <a:lnTo>
                  <a:pt x="68" y="50"/>
                </a:lnTo>
                <a:lnTo>
                  <a:pt x="62" y="41"/>
                </a:lnTo>
                <a:lnTo>
                  <a:pt x="58" y="33"/>
                </a:lnTo>
                <a:lnTo>
                  <a:pt x="58" y="29"/>
                </a:lnTo>
                <a:lnTo>
                  <a:pt x="58" y="24"/>
                </a:lnTo>
                <a:lnTo>
                  <a:pt x="60" y="20"/>
                </a:lnTo>
                <a:lnTo>
                  <a:pt x="0" y="0"/>
                </a:lnTo>
                <a:lnTo>
                  <a:pt x="172" y="28"/>
                </a:lnTo>
                <a:lnTo>
                  <a:pt x="325" y="106"/>
                </a:lnTo>
                <a:lnTo>
                  <a:pt x="265" y="87"/>
                </a:lnTo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4216320" y="3459240"/>
            <a:ext cx="596880" cy="210960"/>
          </a:xfrm>
          <a:prstGeom prst="ellipse">
            <a:avLst/>
          </a:prstGeom>
          <a:solidFill>
            <a:srgbClr val="ffccff"/>
          </a:solidFill>
          <a:ln w="0">
            <a:solidFill>
              <a:srgbClr val="341a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927000" y="4740120"/>
            <a:ext cx="1370160" cy="235080"/>
          </a:xfrm>
          <a:custGeom>
            <a:avLst/>
            <a:gdLst/>
            <a:ahLst/>
            <a:rect l="l" t="t" r="r" b="b"/>
            <a:pathLst>
              <a:path w="970" h="148">
                <a:moveTo>
                  <a:pt x="969" y="34"/>
                </a:moveTo>
                <a:lnTo>
                  <a:pt x="709" y="34"/>
                </a:lnTo>
                <a:lnTo>
                  <a:pt x="709" y="0"/>
                </a:lnTo>
                <a:lnTo>
                  <a:pt x="0" y="73"/>
                </a:lnTo>
                <a:lnTo>
                  <a:pt x="709" y="147"/>
                </a:lnTo>
                <a:lnTo>
                  <a:pt x="709" y="112"/>
                </a:lnTo>
                <a:lnTo>
                  <a:pt x="969" y="112"/>
                </a:lnTo>
                <a:lnTo>
                  <a:pt x="969" y="34"/>
                </a:lnTo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793800" y="5094720"/>
            <a:ext cx="8051760" cy="157320"/>
          </a:xfrm>
          <a:prstGeom prst="rect">
            <a:avLst/>
          </a:prstGeom>
          <a:solidFill>
            <a:srgbClr val="3366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793800" y="5263920"/>
            <a:ext cx="8070840" cy="156960"/>
          </a:xfrm>
          <a:prstGeom prst="rect">
            <a:avLst/>
          </a:prstGeom>
          <a:solidFill>
            <a:srgbClr val="804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793800" y="5432040"/>
            <a:ext cx="8078760" cy="114480"/>
          </a:xfrm>
          <a:prstGeom prst="rect">
            <a:avLst/>
          </a:prstGeom>
          <a:solidFill>
            <a:srgbClr val="7f7f7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475000" y="4631760"/>
            <a:ext cx="40021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rection of Blood F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5997600" y="4035600"/>
            <a:ext cx="598320" cy="209520"/>
          </a:xfrm>
          <a:prstGeom prst="ellipse">
            <a:avLst/>
          </a:prstGeom>
          <a:solidFill>
            <a:srgbClr val="ffccff"/>
          </a:solidFill>
          <a:ln w="0">
            <a:solidFill>
              <a:srgbClr val="341a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6915240" y="4000680"/>
            <a:ext cx="596880" cy="209520"/>
          </a:xfrm>
          <a:prstGeom prst="ellipse">
            <a:avLst/>
          </a:prstGeom>
          <a:solidFill>
            <a:srgbClr val="ffccff"/>
          </a:solidFill>
          <a:ln w="0">
            <a:solidFill>
              <a:srgbClr val="341a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7932600" y="3276720"/>
            <a:ext cx="596880" cy="209520"/>
          </a:xfrm>
          <a:prstGeom prst="ellipse">
            <a:avLst/>
          </a:prstGeom>
          <a:solidFill>
            <a:srgbClr val="ffccff"/>
          </a:solidFill>
          <a:ln w="0">
            <a:solidFill>
              <a:srgbClr val="341a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7969320" y="4599000"/>
            <a:ext cx="598320" cy="209520"/>
          </a:xfrm>
          <a:prstGeom prst="ellipse">
            <a:avLst/>
          </a:prstGeom>
          <a:solidFill>
            <a:srgbClr val="ffccff"/>
          </a:solidFill>
          <a:ln w="0">
            <a:solidFill>
              <a:srgbClr val="341a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448240" y="2984400"/>
            <a:ext cx="812880" cy="179640"/>
          </a:xfrm>
          <a:custGeom>
            <a:avLst/>
            <a:gdLst/>
            <a:ahLst/>
            <a:rect l="l" t="t" r="r" b="b"/>
            <a:pathLst>
              <a:path w="576" h="113">
                <a:moveTo>
                  <a:pt x="227" y="32"/>
                </a:moveTo>
                <a:lnTo>
                  <a:pt x="226" y="36"/>
                </a:lnTo>
                <a:lnTo>
                  <a:pt x="227" y="41"/>
                </a:lnTo>
                <a:lnTo>
                  <a:pt x="231" y="45"/>
                </a:lnTo>
                <a:lnTo>
                  <a:pt x="235" y="50"/>
                </a:lnTo>
                <a:lnTo>
                  <a:pt x="242" y="54"/>
                </a:lnTo>
                <a:lnTo>
                  <a:pt x="249" y="58"/>
                </a:lnTo>
                <a:lnTo>
                  <a:pt x="258" y="62"/>
                </a:lnTo>
                <a:lnTo>
                  <a:pt x="268" y="67"/>
                </a:lnTo>
                <a:lnTo>
                  <a:pt x="279" y="71"/>
                </a:lnTo>
                <a:lnTo>
                  <a:pt x="292" y="75"/>
                </a:lnTo>
                <a:lnTo>
                  <a:pt x="305" y="78"/>
                </a:lnTo>
                <a:lnTo>
                  <a:pt x="320" y="82"/>
                </a:lnTo>
                <a:lnTo>
                  <a:pt x="335" y="85"/>
                </a:lnTo>
                <a:lnTo>
                  <a:pt x="351" y="88"/>
                </a:lnTo>
                <a:lnTo>
                  <a:pt x="367" y="91"/>
                </a:lnTo>
                <a:lnTo>
                  <a:pt x="384" y="94"/>
                </a:lnTo>
                <a:lnTo>
                  <a:pt x="401" y="96"/>
                </a:lnTo>
                <a:lnTo>
                  <a:pt x="419" y="98"/>
                </a:lnTo>
                <a:lnTo>
                  <a:pt x="424" y="98"/>
                </a:lnTo>
                <a:lnTo>
                  <a:pt x="442" y="99"/>
                </a:lnTo>
                <a:lnTo>
                  <a:pt x="460" y="100"/>
                </a:lnTo>
                <a:lnTo>
                  <a:pt x="477" y="101"/>
                </a:lnTo>
                <a:lnTo>
                  <a:pt x="494" y="102"/>
                </a:lnTo>
                <a:lnTo>
                  <a:pt x="511" y="102"/>
                </a:lnTo>
                <a:lnTo>
                  <a:pt x="527" y="101"/>
                </a:lnTo>
                <a:lnTo>
                  <a:pt x="543" y="100"/>
                </a:lnTo>
                <a:lnTo>
                  <a:pt x="557" y="99"/>
                </a:lnTo>
                <a:lnTo>
                  <a:pt x="575" y="97"/>
                </a:lnTo>
                <a:lnTo>
                  <a:pt x="561" y="100"/>
                </a:lnTo>
                <a:lnTo>
                  <a:pt x="545" y="103"/>
                </a:lnTo>
                <a:lnTo>
                  <a:pt x="528" y="106"/>
                </a:lnTo>
                <a:lnTo>
                  <a:pt x="509" y="108"/>
                </a:lnTo>
                <a:lnTo>
                  <a:pt x="489" y="110"/>
                </a:lnTo>
                <a:lnTo>
                  <a:pt x="468" y="111"/>
                </a:lnTo>
                <a:lnTo>
                  <a:pt x="445" y="112"/>
                </a:lnTo>
                <a:lnTo>
                  <a:pt x="423" y="112"/>
                </a:lnTo>
                <a:lnTo>
                  <a:pt x="399" y="111"/>
                </a:lnTo>
                <a:lnTo>
                  <a:pt x="374" y="110"/>
                </a:lnTo>
                <a:lnTo>
                  <a:pt x="350" y="109"/>
                </a:lnTo>
                <a:lnTo>
                  <a:pt x="325" y="107"/>
                </a:lnTo>
                <a:lnTo>
                  <a:pt x="330" y="107"/>
                </a:lnTo>
                <a:lnTo>
                  <a:pt x="305" y="105"/>
                </a:lnTo>
                <a:lnTo>
                  <a:pt x="280" y="102"/>
                </a:lnTo>
                <a:lnTo>
                  <a:pt x="255" y="98"/>
                </a:lnTo>
                <a:lnTo>
                  <a:pt x="232" y="94"/>
                </a:lnTo>
                <a:lnTo>
                  <a:pt x="209" y="90"/>
                </a:lnTo>
                <a:lnTo>
                  <a:pt x="187" y="85"/>
                </a:lnTo>
                <a:lnTo>
                  <a:pt x="166" y="80"/>
                </a:lnTo>
                <a:lnTo>
                  <a:pt x="147" y="75"/>
                </a:lnTo>
                <a:lnTo>
                  <a:pt x="129" y="70"/>
                </a:lnTo>
                <a:lnTo>
                  <a:pt x="112" y="64"/>
                </a:lnTo>
                <a:lnTo>
                  <a:pt x="98" y="58"/>
                </a:lnTo>
                <a:lnTo>
                  <a:pt x="85" y="52"/>
                </a:lnTo>
                <a:lnTo>
                  <a:pt x="74" y="46"/>
                </a:lnTo>
                <a:lnTo>
                  <a:pt x="65" y="40"/>
                </a:lnTo>
                <a:lnTo>
                  <a:pt x="58" y="34"/>
                </a:lnTo>
                <a:lnTo>
                  <a:pt x="53" y="28"/>
                </a:lnTo>
                <a:lnTo>
                  <a:pt x="51" y="24"/>
                </a:lnTo>
                <a:lnTo>
                  <a:pt x="51" y="20"/>
                </a:lnTo>
                <a:lnTo>
                  <a:pt x="51" y="16"/>
                </a:lnTo>
                <a:lnTo>
                  <a:pt x="0" y="12"/>
                </a:lnTo>
                <a:lnTo>
                  <a:pt x="142" y="0"/>
                </a:lnTo>
                <a:lnTo>
                  <a:pt x="278" y="37"/>
                </a:lnTo>
                <a:lnTo>
                  <a:pt x="227" y="32"/>
                </a:lnTo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875120" y="2894040"/>
            <a:ext cx="711360" cy="460440"/>
          </a:xfrm>
          <a:custGeom>
            <a:avLst/>
            <a:gdLst/>
            <a:ahLst/>
            <a:rect l="l" t="t" r="r" b="b"/>
            <a:pathLst>
              <a:path w="505" h="290">
                <a:moveTo>
                  <a:pt x="203" y="101"/>
                </a:moveTo>
                <a:lnTo>
                  <a:pt x="201" y="105"/>
                </a:lnTo>
                <a:lnTo>
                  <a:pt x="201" y="110"/>
                </a:lnTo>
                <a:lnTo>
                  <a:pt x="202" y="115"/>
                </a:lnTo>
                <a:lnTo>
                  <a:pt x="205" y="121"/>
                </a:lnTo>
                <a:lnTo>
                  <a:pt x="210" y="127"/>
                </a:lnTo>
                <a:lnTo>
                  <a:pt x="215" y="134"/>
                </a:lnTo>
                <a:lnTo>
                  <a:pt x="222" y="141"/>
                </a:lnTo>
                <a:lnTo>
                  <a:pt x="230" y="149"/>
                </a:lnTo>
                <a:lnTo>
                  <a:pt x="238" y="157"/>
                </a:lnTo>
                <a:lnTo>
                  <a:pt x="249" y="165"/>
                </a:lnTo>
                <a:lnTo>
                  <a:pt x="260" y="173"/>
                </a:lnTo>
                <a:lnTo>
                  <a:pt x="272" y="182"/>
                </a:lnTo>
                <a:lnTo>
                  <a:pt x="285" y="191"/>
                </a:lnTo>
                <a:lnTo>
                  <a:pt x="299" y="199"/>
                </a:lnTo>
                <a:lnTo>
                  <a:pt x="313" y="208"/>
                </a:lnTo>
                <a:lnTo>
                  <a:pt x="328" y="216"/>
                </a:lnTo>
                <a:lnTo>
                  <a:pt x="343" y="225"/>
                </a:lnTo>
                <a:lnTo>
                  <a:pt x="358" y="232"/>
                </a:lnTo>
                <a:lnTo>
                  <a:pt x="363" y="235"/>
                </a:lnTo>
                <a:lnTo>
                  <a:pt x="379" y="243"/>
                </a:lnTo>
                <a:lnTo>
                  <a:pt x="396" y="250"/>
                </a:lnTo>
                <a:lnTo>
                  <a:pt x="412" y="257"/>
                </a:lnTo>
                <a:lnTo>
                  <a:pt x="427" y="264"/>
                </a:lnTo>
                <a:lnTo>
                  <a:pt x="443" y="270"/>
                </a:lnTo>
                <a:lnTo>
                  <a:pt x="458" y="275"/>
                </a:lnTo>
                <a:lnTo>
                  <a:pt x="473" y="280"/>
                </a:lnTo>
                <a:lnTo>
                  <a:pt x="487" y="284"/>
                </a:lnTo>
                <a:lnTo>
                  <a:pt x="504" y="289"/>
                </a:lnTo>
                <a:lnTo>
                  <a:pt x="489" y="287"/>
                </a:lnTo>
                <a:lnTo>
                  <a:pt x="474" y="284"/>
                </a:lnTo>
                <a:lnTo>
                  <a:pt x="457" y="281"/>
                </a:lnTo>
                <a:lnTo>
                  <a:pt x="439" y="275"/>
                </a:lnTo>
                <a:lnTo>
                  <a:pt x="419" y="270"/>
                </a:lnTo>
                <a:lnTo>
                  <a:pt x="399" y="263"/>
                </a:lnTo>
                <a:lnTo>
                  <a:pt x="378" y="255"/>
                </a:lnTo>
                <a:lnTo>
                  <a:pt x="356" y="247"/>
                </a:lnTo>
                <a:lnTo>
                  <a:pt x="335" y="238"/>
                </a:lnTo>
                <a:lnTo>
                  <a:pt x="312" y="229"/>
                </a:lnTo>
                <a:lnTo>
                  <a:pt x="290" y="218"/>
                </a:lnTo>
                <a:lnTo>
                  <a:pt x="268" y="207"/>
                </a:lnTo>
                <a:lnTo>
                  <a:pt x="272" y="209"/>
                </a:lnTo>
                <a:lnTo>
                  <a:pt x="250" y="197"/>
                </a:lnTo>
                <a:lnTo>
                  <a:pt x="228" y="186"/>
                </a:lnTo>
                <a:lnTo>
                  <a:pt x="206" y="174"/>
                </a:lnTo>
                <a:lnTo>
                  <a:pt x="186" y="161"/>
                </a:lnTo>
                <a:lnTo>
                  <a:pt x="166" y="149"/>
                </a:lnTo>
                <a:lnTo>
                  <a:pt x="147" y="137"/>
                </a:lnTo>
                <a:lnTo>
                  <a:pt x="130" y="124"/>
                </a:lnTo>
                <a:lnTo>
                  <a:pt x="113" y="112"/>
                </a:lnTo>
                <a:lnTo>
                  <a:pt x="99" y="101"/>
                </a:lnTo>
                <a:lnTo>
                  <a:pt x="86" y="89"/>
                </a:lnTo>
                <a:lnTo>
                  <a:pt x="74" y="79"/>
                </a:lnTo>
                <a:lnTo>
                  <a:pt x="64" y="68"/>
                </a:lnTo>
                <a:lnTo>
                  <a:pt x="56" y="59"/>
                </a:lnTo>
                <a:lnTo>
                  <a:pt x="50" y="49"/>
                </a:lnTo>
                <a:lnTo>
                  <a:pt x="46" y="41"/>
                </a:lnTo>
                <a:lnTo>
                  <a:pt x="44" y="34"/>
                </a:lnTo>
                <a:lnTo>
                  <a:pt x="44" y="30"/>
                </a:lnTo>
                <a:lnTo>
                  <a:pt x="44" y="26"/>
                </a:lnTo>
                <a:lnTo>
                  <a:pt x="46" y="23"/>
                </a:lnTo>
                <a:lnTo>
                  <a:pt x="0" y="0"/>
                </a:lnTo>
                <a:lnTo>
                  <a:pt x="136" y="41"/>
                </a:lnTo>
                <a:lnTo>
                  <a:pt x="249" y="125"/>
                </a:lnTo>
                <a:lnTo>
                  <a:pt x="203" y="101"/>
                </a:lnTo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5624640" y="3301920"/>
            <a:ext cx="596880" cy="209520"/>
          </a:xfrm>
          <a:prstGeom prst="ellipse">
            <a:avLst/>
          </a:prstGeom>
          <a:solidFill>
            <a:srgbClr val="ffccff"/>
          </a:solidFill>
          <a:ln w="0">
            <a:solidFill>
              <a:srgbClr val="341a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6411960" y="3015360"/>
            <a:ext cx="598320" cy="209880"/>
          </a:xfrm>
          <a:prstGeom prst="ellipse">
            <a:avLst/>
          </a:prstGeom>
          <a:solidFill>
            <a:srgbClr val="ffccff"/>
          </a:solidFill>
          <a:ln w="0">
            <a:solidFill>
              <a:srgbClr val="341a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343320" y="1895400"/>
            <a:ext cx="801720" cy="623880"/>
          </a:xfrm>
          <a:custGeom>
            <a:avLst/>
            <a:gdLst/>
            <a:ahLst/>
            <a:rect l="l" t="t" r="r" b="b"/>
            <a:pathLst>
              <a:path w="569" h="393">
                <a:moveTo>
                  <a:pt x="332" y="259"/>
                </a:moveTo>
                <a:lnTo>
                  <a:pt x="336" y="252"/>
                </a:lnTo>
                <a:lnTo>
                  <a:pt x="340" y="244"/>
                </a:lnTo>
                <a:lnTo>
                  <a:pt x="340" y="235"/>
                </a:lnTo>
                <a:lnTo>
                  <a:pt x="338" y="226"/>
                </a:lnTo>
                <a:lnTo>
                  <a:pt x="336" y="216"/>
                </a:lnTo>
                <a:lnTo>
                  <a:pt x="331" y="206"/>
                </a:lnTo>
                <a:lnTo>
                  <a:pt x="325" y="194"/>
                </a:lnTo>
                <a:lnTo>
                  <a:pt x="318" y="183"/>
                </a:lnTo>
                <a:lnTo>
                  <a:pt x="309" y="172"/>
                </a:lnTo>
                <a:lnTo>
                  <a:pt x="299" y="160"/>
                </a:lnTo>
                <a:lnTo>
                  <a:pt x="287" y="148"/>
                </a:lnTo>
                <a:lnTo>
                  <a:pt x="274" y="135"/>
                </a:lnTo>
                <a:lnTo>
                  <a:pt x="260" y="123"/>
                </a:lnTo>
                <a:lnTo>
                  <a:pt x="245" y="111"/>
                </a:lnTo>
                <a:lnTo>
                  <a:pt x="229" y="100"/>
                </a:lnTo>
                <a:lnTo>
                  <a:pt x="212" y="88"/>
                </a:lnTo>
                <a:lnTo>
                  <a:pt x="195" y="77"/>
                </a:lnTo>
                <a:lnTo>
                  <a:pt x="177" y="67"/>
                </a:lnTo>
                <a:lnTo>
                  <a:pt x="172" y="64"/>
                </a:lnTo>
                <a:lnTo>
                  <a:pt x="153" y="54"/>
                </a:lnTo>
                <a:lnTo>
                  <a:pt x="134" y="44"/>
                </a:lnTo>
                <a:lnTo>
                  <a:pt x="114" y="35"/>
                </a:lnTo>
                <a:lnTo>
                  <a:pt x="95" y="27"/>
                </a:lnTo>
                <a:lnTo>
                  <a:pt x="76" y="20"/>
                </a:lnTo>
                <a:lnTo>
                  <a:pt x="58" y="14"/>
                </a:lnTo>
                <a:lnTo>
                  <a:pt x="40" y="8"/>
                </a:lnTo>
                <a:lnTo>
                  <a:pt x="22" y="4"/>
                </a:lnTo>
                <a:lnTo>
                  <a:pt x="0" y="0"/>
                </a:lnTo>
                <a:lnTo>
                  <a:pt x="20" y="0"/>
                </a:lnTo>
                <a:lnTo>
                  <a:pt x="40" y="2"/>
                </a:lnTo>
                <a:lnTo>
                  <a:pt x="62" y="5"/>
                </a:lnTo>
                <a:lnTo>
                  <a:pt x="85" y="9"/>
                </a:lnTo>
                <a:lnTo>
                  <a:pt x="110" y="15"/>
                </a:lnTo>
                <a:lnTo>
                  <a:pt x="135" y="23"/>
                </a:lnTo>
                <a:lnTo>
                  <a:pt x="160" y="31"/>
                </a:lnTo>
                <a:lnTo>
                  <a:pt x="187" y="41"/>
                </a:lnTo>
                <a:lnTo>
                  <a:pt x="213" y="52"/>
                </a:lnTo>
                <a:lnTo>
                  <a:pt x="240" y="64"/>
                </a:lnTo>
                <a:lnTo>
                  <a:pt x="266" y="78"/>
                </a:lnTo>
                <a:lnTo>
                  <a:pt x="292" y="92"/>
                </a:lnTo>
                <a:lnTo>
                  <a:pt x="288" y="89"/>
                </a:lnTo>
                <a:lnTo>
                  <a:pt x="313" y="104"/>
                </a:lnTo>
                <a:lnTo>
                  <a:pt x="339" y="120"/>
                </a:lnTo>
                <a:lnTo>
                  <a:pt x="363" y="136"/>
                </a:lnTo>
                <a:lnTo>
                  <a:pt x="386" y="153"/>
                </a:lnTo>
                <a:lnTo>
                  <a:pt x="408" y="170"/>
                </a:lnTo>
                <a:lnTo>
                  <a:pt x="428" y="188"/>
                </a:lnTo>
                <a:lnTo>
                  <a:pt x="447" y="205"/>
                </a:lnTo>
                <a:lnTo>
                  <a:pt x="464" y="222"/>
                </a:lnTo>
                <a:lnTo>
                  <a:pt x="478" y="239"/>
                </a:lnTo>
                <a:lnTo>
                  <a:pt x="492" y="256"/>
                </a:lnTo>
                <a:lnTo>
                  <a:pt x="502" y="272"/>
                </a:lnTo>
                <a:lnTo>
                  <a:pt x="511" y="288"/>
                </a:lnTo>
                <a:lnTo>
                  <a:pt x="518" y="302"/>
                </a:lnTo>
                <a:lnTo>
                  <a:pt x="522" y="317"/>
                </a:lnTo>
                <a:lnTo>
                  <a:pt x="524" y="330"/>
                </a:lnTo>
                <a:lnTo>
                  <a:pt x="523" y="342"/>
                </a:lnTo>
                <a:lnTo>
                  <a:pt x="522" y="349"/>
                </a:lnTo>
                <a:lnTo>
                  <a:pt x="519" y="355"/>
                </a:lnTo>
                <a:lnTo>
                  <a:pt x="514" y="362"/>
                </a:lnTo>
                <a:lnTo>
                  <a:pt x="568" y="392"/>
                </a:lnTo>
                <a:lnTo>
                  <a:pt x="397" y="348"/>
                </a:lnTo>
                <a:lnTo>
                  <a:pt x="278" y="228"/>
                </a:lnTo>
                <a:lnTo>
                  <a:pt x="332" y="259"/>
                </a:lnTo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5105520" y="3886200"/>
            <a:ext cx="596880" cy="210960"/>
          </a:xfrm>
          <a:prstGeom prst="ellipse">
            <a:avLst/>
          </a:prstGeom>
          <a:solidFill>
            <a:srgbClr val="ffccff"/>
          </a:solidFill>
          <a:ln w="0">
            <a:solidFill>
              <a:srgbClr val="341a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Platelet Adherence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801720" y="2159640"/>
            <a:ext cx="8080200" cy="145800"/>
          </a:xfrm>
          <a:prstGeom prst="rect">
            <a:avLst/>
          </a:prstGeom>
          <a:solidFill>
            <a:srgbClr val="d42a52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1893960" y="2310480"/>
            <a:ext cx="914400" cy="378720"/>
            <a:chOff x="1893960" y="2310480"/>
            <a:chExt cx="914400" cy="378720"/>
          </a:xfrm>
        </p:grpSpPr>
        <p:sp>
          <p:nvSpPr>
            <p:cNvPr id="554" name=""/>
            <p:cNvSpPr/>
            <p:nvPr/>
          </p:nvSpPr>
          <p:spPr>
            <a:xfrm flipV="1">
              <a:off x="1893960" y="2317680"/>
              <a:ext cx="914400" cy="355680"/>
            </a:xfrm>
            <a:prstGeom prst="rect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017800" y="2310480"/>
              <a:ext cx="755280" cy="37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00"/>
                  </a:solidFill>
                  <a:latin typeface="Arial"/>
                </a:rPr>
                <a:t>vWF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6" name=""/>
          <p:cNvSpPr/>
          <p:nvPr/>
        </p:nvSpPr>
        <p:spPr>
          <a:xfrm>
            <a:off x="2147760" y="2673360"/>
            <a:ext cx="387360" cy="160200"/>
          </a:xfrm>
          <a:custGeom>
            <a:avLst/>
            <a:gdLst/>
            <a:ahLst/>
            <a:rect l="l" t="t" r="r" b="b"/>
            <a:pathLst>
              <a:path w="275" h="101">
                <a:moveTo>
                  <a:pt x="0" y="0"/>
                </a:moveTo>
                <a:lnTo>
                  <a:pt x="137" y="100"/>
                </a:lnTo>
                <a:lnTo>
                  <a:pt x="274" y="0"/>
                </a:lnTo>
                <a:lnTo>
                  <a:pt x="0" y="0"/>
                </a:lnTo>
              </a:path>
            </a:pathLst>
          </a:cu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820800" y="2683440"/>
            <a:ext cx="3173400" cy="1152360"/>
          </a:xfrm>
          <a:prstGeom prst="ellipse">
            <a:avLst/>
          </a:prstGeom>
          <a:solidFill>
            <a:srgbClr val="f8caf4"/>
          </a:solidFill>
          <a:ln w="0">
            <a:solidFill>
              <a:srgbClr val="341a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1360440" y="4835880"/>
            <a:ext cx="914400" cy="523440"/>
            <a:chOff x="1360440" y="4835880"/>
            <a:chExt cx="914400" cy="523440"/>
          </a:xfrm>
        </p:grpSpPr>
        <p:sp>
          <p:nvSpPr>
            <p:cNvPr id="559" name=""/>
            <p:cNvSpPr/>
            <p:nvPr/>
          </p:nvSpPr>
          <p:spPr>
            <a:xfrm flipV="1">
              <a:off x="1360440" y="4843440"/>
              <a:ext cx="914400" cy="357120"/>
            </a:xfrm>
            <a:prstGeom prst="rect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614240" y="5199120"/>
              <a:ext cx="389520" cy="160200"/>
            </a:xfrm>
            <a:custGeom>
              <a:avLst/>
              <a:gdLst/>
              <a:ahLst/>
              <a:rect l="l" t="t" r="r" b="b"/>
              <a:pathLst>
                <a:path w="276" h="101">
                  <a:moveTo>
                    <a:pt x="0" y="0"/>
                  </a:moveTo>
                  <a:lnTo>
                    <a:pt x="137" y="100"/>
                  </a:lnTo>
                  <a:lnTo>
                    <a:pt x="275" y="0"/>
                  </a:lnTo>
                  <a:lnTo>
                    <a:pt x="0" y="0"/>
                  </a:lnTo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486080" y="4835880"/>
              <a:ext cx="755280" cy="37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00"/>
                  </a:solidFill>
                  <a:latin typeface="Arial"/>
                </a:rPr>
                <a:t>vWF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2" name=""/>
          <p:cNvSpPr/>
          <p:nvPr/>
        </p:nvSpPr>
        <p:spPr>
          <a:xfrm flipV="1">
            <a:off x="1886040" y="2705040"/>
            <a:ext cx="914400" cy="357120"/>
          </a:xfrm>
          <a:prstGeom prst="rect">
            <a:avLst/>
          </a:prstGeom>
          <a:solidFill>
            <a:srgbClr val="0000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p Ib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133720" y="2666880"/>
            <a:ext cx="387360" cy="160560"/>
          </a:xfrm>
          <a:custGeom>
            <a:avLst/>
            <a:gdLst/>
            <a:ahLst/>
            <a:rect l="l" t="t" r="r" b="b"/>
            <a:pathLst>
              <a:path w="275" h="101">
                <a:moveTo>
                  <a:pt x="0" y="0"/>
                </a:moveTo>
                <a:lnTo>
                  <a:pt x="137" y="100"/>
                </a:lnTo>
                <a:lnTo>
                  <a:pt x="274" y="0"/>
                </a:lnTo>
                <a:lnTo>
                  <a:pt x="0" y="0"/>
                </a:lnTo>
              </a:path>
            </a:pathLst>
          </a:cu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6445080" y="3148560"/>
            <a:ext cx="914400" cy="523440"/>
            <a:chOff x="6445080" y="3148560"/>
            <a:chExt cx="914400" cy="523440"/>
          </a:xfrm>
        </p:grpSpPr>
        <p:sp>
          <p:nvSpPr>
            <p:cNvPr id="565" name=""/>
            <p:cNvSpPr/>
            <p:nvPr/>
          </p:nvSpPr>
          <p:spPr>
            <a:xfrm flipV="1">
              <a:off x="6445080" y="3155400"/>
              <a:ext cx="914400" cy="355320"/>
            </a:xfrm>
            <a:prstGeom prst="rect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698880" y="3511440"/>
              <a:ext cx="389520" cy="160560"/>
            </a:xfrm>
            <a:custGeom>
              <a:avLst/>
              <a:gdLst/>
              <a:ahLst/>
              <a:rect l="l" t="t" r="r" b="b"/>
              <a:pathLst>
                <a:path w="276" h="101">
                  <a:moveTo>
                    <a:pt x="0" y="0"/>
                  </a:moveTo>
                  <a:lnTo>
                    <a:pt x="137" y="100"/>
                  </a:lnTo>
                  <a:lnTo>
                    <a:pt x="275" y="0"/>
                  </a:lnTo>
                  <a:lnTo>
                    <a:pt x="0" y="0"/>
                  </a:lnTo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568560" y="3148560"/>
              <a:ext cx="755280" cy="37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00"/>
                  </a:solidFill>
                  <a:latin typeface="Arial"/>
                </a:rPr>
                <a:t>vWF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 flipV="1">
            <a:off x="3962520" y="4114080"/>
            <a:ext cx="3173400" cy="1152360"/>
          </a:xfrm>
          <a:prstGeom prst="ellipse">
            <a:avLst/>
          </a:prstGeom>
          <a:solidFill>
            <a:srgbClr val="f8caf4"/>
          </a:solidFill>
          <a:ln w="0">
            <a:solidFill>
              <a:srgbClr val="341a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029200" y="4113720"/>
            <a:ext cx="880920" cy="378720"/>
          </a:xfrm>
          <a:prstGeom prst="rect">
            <a:avLst/>
          </a:prstGeom>
          <a:solidFill>
            <a:srgbClr val="0000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p Ib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3995640" y="5485320"/>
            <a:ext cx="914400" cy="523080"/>
            <a:chOff x="3995640" y="5485320"/>
            <a:chExt cx="914400" cy="523080"/>
          </a:xfrm>
        </p:grpSpPr>
        <p:sp>
          <p:nvSpPr>
            <p:cNvPr id="571" name=""/>
            <p:cNvSpPr/>
            <p:nvPr/>
          </p:nvSpPr>
          <p:spPr>
            <a:xfrm flipV="1">
              <a:off x="3995640" y="5493600"/>
              <a:ext cx="914400" cy="355320"/>
            </a:xfrm>
            <a:prstGeom prst="rect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249440" y="5849640"/>
              <a:ext cx="389520" cy="158760"/>
            </a:xfrm>
            <a:custGeom>
              <a:avLst/>
              <a:gdLst/>
              <a:ahLst/>
              <a:rect l="l" t="t" r="r" b="b"/>
              <a:pathLst>
                <a:path w="276" h="100">
                  <a:moveTo>
                    <a:pt x="0" y="0"/>
                  </a:moveTo>
                  <a:lnTo>
                    <a:pt x="137" y="99"/>
                  </a:lnTo>
                  <a:lnTo>
                    <a:pt x="275" y="0"/>
                  </a:lnTo>
                  <a:lnTo>
                    <a:pt x="0" y="0"/>
                  </a:lnTo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119480" y="5485320"/>
              <a:ext cx="755280" cy="37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00"/>
                  </a:solidFill>
                  <a:latin typeface="Arial"/>
                </a:rPr>
                <a:t>vWF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2743200" y="1751400"/>
            <a:ext cx="4797360" cy="960120"/>
            <a:chOff x="2743200" y="1751400"/>
            <a:chExt cx="4797360" cy="960120"/>
          </a:xfrm>
        </p:grpSpPr>
        <p:grpSp>
          <p:nvGrpSpPr>
            <p:cNvPr id="575" name=""/>
            <p:cNvGrpSpPr/>
            <p:nvPr/>
          </p:nvGrpSpPr>
          <p:grpSpPr>
            <a:xfrm>
              <a:off x="2743200" y="2062080"/>
              <a:ext cx="709560" cy="649440"/>
              <a:chOff x="2743200" y="2062080"/>
              <a:chExt cx="709560" cy="649440"/>
            </a:xfrm>
          </p:grpSpPr>
          <p:sp>
            <p:nvSpPr>
              <p:cNvPr id="576" name=""/>
              <p:cNvSpPr/>
              <p:nvPr/>
            </p:nvSpPr>
            <p:spPr>
              <a:xfrm flipV="1">
                <a:off x="2743200" y="2062080"/>
                <a:ext cx="709560" cy="64944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V="1">
                <a:off x="2822040" y="2153520"/>
                <a:ext cx="532800" cy="461880"/>
              </a:xfrm>
              <a:prstGeom prst="ellipse">
                <a:avLst/>
              </a:prstGeom>
              <a:solidFill>
                <a:srgbClr val="ffffbf"/>
              </a:solidFill>
              <a:ln w="0">
                <a:solidFill>
                  <a:srgbClr val="ffff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868840" y="2162160"/>
                <a:ext cx="446760" cy="444600"/>
              </a:xfrm>
              <a:custGeom>
                <a:avLst/>
                <a:gdLst/>
                <a:ahLst/>
                <a:rect l="l" t="t" r="r" b="b"/>
                <a:pathLst>
                  <a:path w="317" h="280">
                    <a:moveTo>
                      <a:pt x="276" y="279"/>
                    </a:moveTo>
                    <a:lnTo>
                      <a:pt x="0" y="34"/>
                    </a:lnTo>
                    <a:lnTo>
                      <a:pt x="39" y="0"/>
                    </a:lnTo>
                    <a:lnTo>
                      <a:pt x="316" y="244"/>
                    </a:lnTo>
                    <a:lnTo>
                      <a:pt x="276" y="279"/>
                    </a:lnTo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9" name=""/>
            <p:cNvSpPr/>
            <p:nvPr/>
          </p:nvSpPr>
          <p:spPr>
            <a:xfrm>
              <a:off x="3511800" y="1751400"/>
              <a:ext cx="402876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700" spc="-1" strike="noStrike">
                  <a:solidFill>
                    <a:srgbClr val="ffffff"/>
                  </a:solidFill>
                  <a:latin typeface="Arial"/>
                </a:rPr>
                <a:t>von Willebrand Disease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5900760" y="3656520"/>
            <a:ext cx="3241440" cy="1219320"/>
            <a:chOff x="5900760" y="3656520"/>
            <a:chExt cx="3241440" cy="1219320"/>
          </a:xfrm>
        </p:grpSpPr>
        <p:grpSp>
          <p:nvGrpSpPr>
            <p:cNvPr id="581" name=""/>
            <p:cNvGrpSpPr/>
            <p:nvPr/>
          </p:nvGrpSpPr>
          <p:grpSpPr>
            <a:xfrm>
              <a:off x="5900760" y="4097520"/>
              <a:ext cx="641880" cy="778320"/>
              <a:chOff x="5900760" y="4097520"/>
              <a:chExt cx="641880" cy="778320"/>
            </a:xfrm>
          </p:grpSpPr>
          <p:sp>
            <p:nvSpPr>
              <p:cNvPr id="582" name=""/>
              <p:cNvSpPr/>
              <p:nvPr/>
            </p:nvSpPr>
            <p:spPr>
              <a:xfrm flipV="1">
                <a:off x="5900760" y="4097520"/>
                <a:ext cx="641880" cy="77832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V="1">
                <a:off x="5972040" y="4205160"/>
                <a:ext cx="483480" cy="556200"/>
              </a:xfrm>
              <a:prstGeom prst="ellipse">
                <a:avLst/>
              </a:prstGeom>
              <a:solidFill>
                <a:srgbClr val="ffffbf"/>
              </a:solidFill>
              <a:ln w="0">
                <a:solidFill>
                  <a:srgbClr val="ffff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6014160" y="4215240"/>
                <a:ext cx="404280" cy="533160"/>
              </a:xfrm>
              <a:custGeom>
                <a:avLst/>
                <a:gdLst/>
                <a:ahLst/>
                <a:rect l="l" t="t" r="r" b="b"/>
                <a:pathLst>
                  <a:path w="317" h="280">
                    <a:moveTo>
                      <a:pt x="277" y="279"/>
                    </a:moveTo>
                    <a:lnTo>
                      <a:pt x="0" y="34"/>
                    </a:lnTo>
                    <a:lnTo>
                      <a:pt x="39" y="0"/>
                    </a:lnTo>
                    <a:lnTo>
                      <a:pt x="316" y="245"/>
                    </a:lnTo>
                    <a:lnTo>
                      <a:pt x="277" y="279"/>
                    </a:lnTo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5" name=""/>
            <p:cNvSpPr/>
            <p:nvPr/>
          </p:nvSpPr>
          <p:spPr>
            <a:xfrm>
              <a:off x="6274800" y="3656520"/>
              <a:ext cx="2867400" cy="79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700" spc="-1" strike="noStrike">
                  <a:solidFill>
                    <a:srgbClr val="ffffff"/>
                  </a:solidFill>
                  <a:latin typeface="Arial"/>
                </a:rPr>
                <a:t>Bernard-Soulier </a:t>
              </a:r>
              <a:br>
                <a:rPr sz="2700"/>
              </a:br>
              <a:r>
                <a:rPr b="1" i="1" lang="en-US" sz="2700" spc="-1" strike="noStrike">
                  <a:solidFill>
                    <a:srgbClr val="ffffff"/>
                  </a:solidFill>
                  <a:latin typeface="Arial"/>
                </a:rPr>
                <a:t>Syndrome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838080" y="4114800"/>
            <a:ext cx="950760" cy="939960"/>
            <a:chOff x="838080" y="4114800"/>
            <a:chExt cx="950760" cy="939960"/>
          </a:xfrm>
        </p:grpSpPr>
        <p:grpSp>
          <p:nvGrpSpPr>
            <p:cNvPr id="587" name=""/>
            <p:cNvGrpSpPr/>
            <p:nvPr/>
          </p:nvGrpSpPr>
          <p:grpSpPr>
            <a:xfrm>
              <a:off x="838080" y="4405320"/>
              <a:ext cx="709920" cy="649440"/>
              <a:chOff x="838080" y="4405320"/>
              <a:chExt cx="709920" cy="649440"/>
            </a:xfrm>
          </p:grpSpPr>
          <p:sp>
            <p:nvSpPr>
              <p:cNvPr id="588" name=""/>
              <p:cNvSpPr/>
              <p:nvPr/>
            </p:nvSpPr>
            <p:spPr>
              <a:xfrm flipV="1">
                <a:off x="838080" y="4405320"/>
                <a:ext cx="709920" cy="64944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V="1">
                <a:off x="916920" y="4496760"/>
                <a:ext cx="533160" cy="461880"/>
              </a:xfrm>
              <a:prstGeom prst="ellipse">
                <a:avLst/>
              </a:prstGeom>
              <a:solidFill>
                <a:srgbClr val="ffffbf"/>
              </a:solidFill>
              <a:ln w="0">
                <a:solidFill>
                  <a:srgbClr val="ffff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963720" y="4505400"/>
                <a:ext cx="447120" cy="444600"/>
              </a:xfrm>
              <a:custGeom>
                <a:avLst/>
                <a:gdLst/>
                <a:ahLst/>
                <a:rect l="l" t="t" r="r" b="b"/>
                <a:pathLst>
                  <a:path w="317" h="280">
                    <a:moveTo>
                      <a:pt x="276" y="279"/>
                    </a:moveTo>
                    <a:lnTo>
                      <a:pt x="0" y="34"/>
                    </a:lnTo>
                    <a:lnTo>
                      <a:pt x="39" y="0"/>
                    </a:lnTo>
                    <a:lnTo>
                      <a:pt x="316" y="244"/>
                    </a:lnTo>
                    <a:lnTo>
                      <a:pt x="276" y="279"/>
                    </a:lnTo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91" name=""/>
            <p:cNvSpPr/>
            <p:nvPr/>
          </p:nvSpPr>
          <p:spPr>
            <a:xfrm>
              <a:off x="1604160" y="4114800"/>
              <a:ext cx="18468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350720" y="2286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Platelet Release Function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223920" y="2494440"/>
            <a:ext cx="4498920" cy="2978280"/>
          </a:xfrm>
          <a:prstGeom prst="ellipse">
            <a:avLst/>
          </a:prstGeom>
          <a:solidFill>
            <a:srgbClr val="ffccff"/>
          </a:solidFill>
          <a:ln w="0">
            <a:solidFill>
              <a:srgbClr val="341a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8400" y="2969280"/>
            <a:ext cx="2522520" cy="4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55555"/>
                </a:solidFill>
                <a:latin typeface="Arial"/>
              </a:rPr>
              <a:t>DenseGranule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36040" y="3732840"/>
            <a:ext cx="2483640" cy="4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55555"/>
                </a:solidFill>
                <a:latin typeface="Arial"/>
              </a:rPr>
              <a:t>Alpha-granule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747360" y="4655880"/>
            <a:ext cx="2349720" cy="671400"/>
            <a:chOff x="747360" y="4655880"/>
            <a:chExt cx="2349720" cy="671400"/>
          </a:xfrm>
        </p:grpSpPr>
        <p:sp>
          <p:nvSpPr>
            <p:cNvPr id="597" name=""/>
            <p:cNvSpPr/>
            <p:nvPr/>
          </p:nvSpPr>
          <p:spPr>
            <a:xfrm flipV="1">
              <a:off x="2444760" y="4655520"/>
              <a:ext cx="652320" cy="671400"/>
            </a:xfrm>
            <a:prstGeom prst="ellipse">
              <a:avLst/>
            </a:prstGeom>
            <a:solidFill>
              <a:srgbClr val="fda92e"/>
            </a:solidFill>
            <a:ln w="0">
              <a:solidFill>
                <a:srgbClr val="fda92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47360" y="4799520"/>
              <a:ext cx="187380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555555"/>
                  </a:solidFill>
                  <a:latin typeface="Arial"/>
                </a:rPr>
                <a:t>Lysosome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9" name=""/>
          <p:cNvSpPr/>
          <p:nvPr/>
        </p:nvSpPr>
        <p:spPr>
          <a:xfrm flipV="1">
            <a:off x="3097080" y="3460680"/>
            <a:ext cx="1119240" cy="1090800"/>
          </a:xfrm>
          <a:prstGeom prst="ellips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2514600" y="2742480"/>
            <a:ext cx="709560" cy="669960"/>
          </a:xfrm>
          <a:prstGeom prst="ellipse">
            <a:avLst/>
          </a:prstGeom>
          <a:solidFill>
            <a:srgbClr val="80ff00"/>
          </a:solidFill>
          <a:ln w="0">
            <a:solidFill>
              <a:srgbClr val="80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911320" y="2327400"/>
            <a:ext cx="596880" cy="482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452760" y="1902240"/>
            <a:ext cx="903240" cy="4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ADP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3994200" y="2850840"/>
            <a:ext cx="50472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493520" y="2383200"/>
            <a:ext cx="3224160" cy="4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ß-thromboglobulin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4216320" y="3187440"/>
            <a:ext cx="709560" cy="523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841280" y="2867400"/>
            <a:ext cx="2736360" cy="4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Platelet factor 4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4290840" y="3900600"/>
            <a:ext cx="692280" cy="147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876920" y="3636000"/>
            <a:ext cx="412632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Platelet-derived Growth </a:t>
            </a:r>
            <a:br>
              <a:rPr sz="2700"/>
            </a:b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Factor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216320" y="4403880"/>
            <a:ext cx="600120" cy="461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777200" y="4690080"/>
            <a:ext cx="1950120" cy="4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Fibrinogen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973680" y="4613400"/>
            <a:ext cx="448920" cy="7347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385880" y="5279040"/>
            <a:ext cx="1552320" cy="4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Factor V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-3600" y="2027520"/>
            <a:ext cx="2898000" cy="1019880"/>
            <a:chOff x="-3600" y="2027520"/>
            <a:chExt cx="2898000" cy="1019880"/>
          </a:xfrm>
        </p:grpSpPr>
        <p:grpSp>
          <p:nvGrpSpPr>
            <p:cNvPr id="614" name=""/>
            <p:cNvGrpSpPr/>
            <p:nvPr/>
          </p:nvGrpSpPr>
          <p:grpSpPr>
            <a:xfrm>
              <a:off x="2036880" y="2291400"/>
              <a:ext cx="579960" cy="756000"/>
              <a:chOff x="2036880" y="2291400"/>
              <a:chExt cx="579960" cy="756000"/>
            </a:xfrm>
          </p:grpSpPr>
          <p:sp>
            <p:nvSpPr>
              <p:cNvPr id="615" name=""/>
              <p:cNvSpPr/>
              <p:nvPr/>
            </p:nvSpPr>
            <p:spPr>
              <a:xfrm flipV="1">
                <a:off x="2036880" y="2291400"/>
                <a:ext cx="579960" cy="75600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V="1">
                <a:off x="2101680" y="2395800"/>
                <a:ext cx="435960" cy="541080"/>
              </a:xfrm>
              <a:prstGeom prst="ellipse">
                <a:avLst/>
              </a:prstGeom>
              <a:solidFill>
                <a:srgbClr val="ffffbf"/>
              </a:solidFill>
              <a:ln w="0">
                <a:solidFill>
                  <a:srgbClr val="ffff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139840" y="2406240"/>
                <a:ext cx="363960" cy="519480"/>
              </a:xfrm>
              <a:custGeom>
                <a:avLst/>
                <a:gdLst/>
                <a:ahLst/>
                <a:rect l="l" t="t" r="r" b="b"/>
                <a:pathLst>
                  <a:path w="258" h="217">
                    <a:moveTo>
                      <a:pt x="225" y="216"/>
                    </a:moveTo>
                    <a:lnTo>
                      <a:pt x="0" y="27"/>
                    </a:lnTo>
                    <a:lnTo>
                      <a:pt x="32" y="0"/>
                    </a:lnTo>
                    <a:lnTo>
                      <a:pt x="257" y="189"/>
                    </a:lnTo>
                    <a:lnTo>
                      <a:pt x="225" y="216"/>
                    </a:lnTo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18" name=""/>
            <p:cNvSpPr/>
            <p:nvPr/>
          </p:nvSpPr>
          <p:spPr>
            <a:xfrm>
              <a:off x="-3600" y="2027520"/>
              <a:ext cx="2898000" cy="79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8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300" spc="-1" strike="noStrike">
                  <a:solidFill>
                    <a:srgbClr val="ffffff"/>
                  </a:solidFill>
                  <a:latin typeface="Arial"/>
                </a:rPr>
                <a:t>Hermansky-Pudlak 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Bef>
                  <a:spcPts val="8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300" spc="-1" strike="noStrike">
                  <a:solidFill>
                    <a:srgbClr val="ffffff"/>
                  </a:solidFill>
                  <a:latin typeface="Arial"/>
                </a:rPr>
                <a:t>syndrome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3929040" y="1769760"/>
            <a:ext cx="5039640" cy="792360"/>
            <a:chOff x="3929040" y="1769760"/>
            <a:chExt cx="5039640" cy="792360"/>
          </a:xfrm>
        </p:grpSpPr>
        <p:grpSp>
          <p:nvGrpSpPr>
            <p:cNvPr id="620" name=""/>
            <p:cNvGrpSpPr/>
            <p:nvPr/>
          </p:nvGrpSpPr>
          <p:grpSpPr>
            <a:xfrm>
              <a:off x="3929040" y="2057400"/>
              <a:ext cx="578520" cy="504720"/>
              <a:chOff x="3929040" y="2057400"/>
              <a:chExt cx="578520" cy="504720"/>
            </a:xfrm>
          </p:grpSpPr>
          <p:sp>
            <p:nvSpPr>
              <p:cNvPr id="621" name=""/>
              <p:cNvSpPr/>
              <p:nvPr/>
            </p:nvSpPr>
            <p:spPr>
              <a:xfrm flipV="1">
                <a:off x="3929040" y="2057400"/>
                <a:ext cx="578520" cy="50472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V="1">
                <a:off x="3992400" y="2130480"/>
                <a:ext cx="435960" cy="357120"/>
              </a:xfrm>
              <a:prstGeom prst="ellipse">
                <a:avLst/>
              </a:prstGeom>
              <a:solidFill>
                <a:srgbClr val="ffffbf"/>
              </a:solidFill>
              <a:ln w="0">
                <a:solidFill>
                  <a:srgbClr val="ffff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4030200" y="2135160"/>
                <a:ext cx="365760" cy="344520"/>
              </a:xfrm>
              <a:custGeom>
                <a:avLst/>
                <a:gdLst/>
                <a:ahLst/>
                <a:rect l="l" t="t" r="r" b="b"/>
                <a:pathLst>
                  <a:path w="259" h="217">
                    <a:moveTo>
                      <a:pt x="226" y="216"/>
                    </a:moveTo>
                    <a:lnTo>
                      <a:pt x="0" y="27"/>
                    </a:lnTo>
                    <a:lnTo>
                      <a:pt x="32" y="0"/>
                    </a:lnTo>
                    <a:lnTo>
                      <a:pt x="258" y="189"/>
                    </a:lnTo>
                    <a:lnTo>
                      <a:pt x="226" y="216"/>
                    </a:lnTo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24" name=""/>
            <p:cNvSpPr/>
            <p:nvPr/>
          </p:nvSpPr>
          <p:spPr>
            <a:xfrm>
              <a:off x="4363920" y="1769760"/>
              <a:ext cx="4604760" cy="45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ff"/>
                  </a:solidFill>
                  <a:latin typeface="Arial"/>
                </a:rPr>
                <a:t>Wiskott-Aldrich syndrom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5" name=""/>
          <p:cNvGrpSpPr/>
          <p:nvPr/>
        </p:nvGrpSpPr>
        <p:grpSpPr>
          <a:xfrm>
            <a:off x="-73800" y="3981240"/>
            <a:ext cx="3429720" cy="574560"/>
            <a:chOff x="-73800" y="3981240"/>
            <a:chExt cx="3429720" cy="574560"/>
          </a:xfrm>
        </p:grpSpPr>
        <p:grpSp>
          <p:nvGrpSpPr>
            <p:cNvPr id="626" name=""/>
            <p:cNvGrpSpPr/>
            <p:nvPr/>
          </p:nvGrpSpPr>
          <p:grpSpPr>
            <a:xfrm>
              <a:off x="2777400" y="3981240"/>
              <a:ext cx="578520" cy="502920"/>
              <a:chOff x="2777400" y="3981240"/>
              <a:chExt cx="578520" cy="502920"/>
            </a:xfrm>
          </p:grpSpPr>
          <p:sp>
            <p:nvSpPr>
              <p:cNvPr id="627" name=""/>
              <p:cNvSpPr/>
              <p:nvPr/>
            </p:nvSpPr>
            <p:spPr>
              <a:xfrm flipV="1">
                <a:off x="2777400" y="3980880"/>
                <a:ext cx="578520" cy="50292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flipV="1">
                <a:off x="2840760" y="4052880"/>
                <a:ext cx="435600" cy="357120"/>
              </a:xfrm>
              <a:prstGeom prst="ellipse">
                <a:avLst/>
              </a:prstGeom>
              <a:solidFill>
                <a:srgbClr val="ffffbf"/>
              </a:solidFill>
              <a:ln w="0">
                <a:solidFill>
                  <a:srgbClr val="ffff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2878920" y="4057560"/>
                <a:ext cx="365400" cy="346320"/>
              </a:xfrm>
              <a:custGeom>
                <a:avLst/>
                <a:gdLst/>
                <a:ahLst/>
                <a:rect l="l" t="t" r="r" b="b"/>
                <a:pathLst>
                  <a:path w="259" h="218">
                    <a:moveTo>
                      <a:pt x="226" y="217"/>
                    </a:moveTo>
                    <a:lnTo>
                      <a:pt x="0" y="27"/>
                    </a:lnTo>
                    <a:lnTo>
                      <a:pt x="32" y="0"/>
                    </a:lnTo>
                    <a:lnTo>
                      <a:pt x="258" y="190"/>
                    </a:lnTo>
                    <a:lnTo>
                      <a:pt x="226" y="217"/>
                    </a:lnTo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30" name=""/>
            <p:cNvSpPr/>
            <p:nvPr/>
          </p:nvSpPr>
          <p:spPr>
            <a:xfrm>
              <a:off x="-73800" y="4177080"/>
              <a:ext cx="3285000" cy="37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ffff"/>
                  </a:solidFill>
                  <a:latin typeface="Arial"/>
                </a:rPr>
                <a:t>Gray platelet syndrome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1" name=""/>
          <p:cNvGrpSpPr/>
          <p:nvPr/>
        </p:nvGrpSpPr>
        <p:grpSpPr>
          <a:xfrm>
            <a:off x="-2520" y="5181480"/>
            <a:ext cx="3107160" cy="1024920"/>
            <a:chOff x="-2520" y="5181480"/>
            <a:chExt cx="3107160" cy="1024920"/>
          </a:xfrm>
        </p:grpSpPr>
        <p:sp>
          <p:nvSpPr>
            <p:cNvPr id="632" name=""/>
            <p:cNvSpPr/>
            <p:nvPr/>
          </p:nvSpPr>
          <p:spPr>
            <a:xfrm>
              <a:off x="2955600" y="5445000"/>
              <a:ext cx="149040" cy="439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33" name=""/>
            <p:cNvGrpSpPr/>
            <p:nvPr/>
          </p:nvGrpSpPr>
          <p:grpSpPr>
            <a:xfrm>
              <a:off x="2142720" y="5181480"/>
              <a:ext cx="578160" cy="503280"/>
              <a:chOff x="2142720" y="5181480"/>
              <a:chExt cx="578160" cy="503280"/>
            </a:xfrm>
          </p:grpSpPr>
          <p:sp>
            <p:nvSpPr>
              <p:cNvPr id="634" name=""/>
              <p:cNvSpPr/>
              <p:nvPr/>
            </p:nvSpPr>
            <p:spPr>
              <a:xfrm flipV="1">
                <a:off x="2142720" y="5181480"/>
                <a:ext cx="578160" cy="50328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V="1">
                <a:off x="2204640" y="5252040"/>
                <a:ext cx="437040" cy="357480"/>
              </a:xfrm>
              <a:prstGeom prst="ellipse">
                <a:avLst/>
              </a:prstGeom>
              <a:solidFill>
                <a:srgbClr val="ffffbf"/>
              </a:solidFill>
              <a:ln w="0">
                <a:solidFill>
                  <a:srgbClr val="ffff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2243880" y="5257800"/>
                <a:ext cx="363600" cy="344520"/>
              </a:xfrm>
              <a:custGeom>
                <a:avLst/>
                <a:gdLst/>
                <a:ahLst/>
                <a:rect l="l" t="t" r="r" b="b"/>
                <a:pathLst>
                  <a:path w="258" h="217">
                    <a:moveTo>
                      <a:pt x="225" y="216"/>
                    </a:moveTo>
                    <a:lnTo>
                      <a:pt x="0" y="27"/>
                    </a:lnTo>
                    <a:lnTo>
                      <a:pt x="32" y="0"/>
                    </a:lnTo>
                    <a:lnTo>
                      <a:pt x="257" y="189"/>
                    </a:lnTo>
                    <a:lnTo>
                      <a:pt x="225" y="216"/>
                    </a:lnTo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37" name=""/>
            <p:cNvSpPr/>
            <p:nvPr/>
          </p:nvSpPr>
          <p:spPr>
            <a:xfrm>
              <a:off x="-2520" y="5407560"/>
              <a:ext cx="2504880" cy="79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8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300" spc="-1" strike="noStrike">
                  <a:solidFill>
                    <a:srgbClr val="ffffff"/>
                  </a:solidFill>
                  <a:latin typeface="Arial"/>
                </a:rPr>
                <a:t>Chédiak-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Bef>
                  <a:spcPts val="8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300" spc="-1" strike="noStrike">
                  <a:solidFill>
                    <a:srgbClr val="ffffff"/>
                  </a:solidFill>
                  <a:latin typeface="Arial"/>
                </a:rPr>
                <a:t>Higashi anomaly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8" name=""/>
          <p:cNvSpPr/>
          <p:nvPr/>
        </p:nvSpPr>
        <p:spPr>
          <a:xfrm>
            <a:off x="3202200" y="5943600"/>
            <a:ext cx="1837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Hydrolase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7e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7e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7e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350720" y="228240"/>
            <a:ext cx="77929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Platelet Aggregation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V="1">
            <a:off x="803160" y="2159640"/>
            <a:ext cx="8078760" cy="145800"/>
          </a:xfrm>
          <a:prstGeom prst="rect">
            <a:avLst/>
          </a:prstGeom>
          <a:solidFill>
            <a:srgbClr val="3366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841320" y="2662920"/>
            <a:ext cx="3171960" cy="1152360"/>
          </a:xfrm>
          <a:prstGeom prst="ellipse">
            <a:avLst/>
          </a:prstGeom>
          <a:solidFill>
            <a:srgbClr val="ffccff"/>
          </a:solidFill>
          <a:ln w="0">
            <a:solidFill>
              <a:srgbClr val="341a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363600" y="4442760"/>
            <a:ext cx="3173400" cy="1291320"/>
            <a:chOff x="363600" y="4442760"/>
            <a:chExt cx="3173400" cy="1291320"/>
          </a:xfrm>
        </p:grpSpPr>
        <p:sp>
          <p:nvSpPr>
            <p:cNvPr id="643" name=""/>
            <p:cNvSpPr/>
            <p:nvPr/>
          </p:nvSpPr>
          <p:spPr>
            <a:xfrm flipV="1">
              <a:off x="363600" y="4581360"/>
              <a:ext cx="3173400" cy="1152720"/>
            </a:xfrm>
            <a:prstGeom prst="ellipse">
              <a:avLst/>
            </a:prstGeom>
            <a:solidFill>
              <a:srgbClr val="ffccff"/>
            </a:solidFill>
            <a:ln w="0">
              <a:solidFill>
                <a:srgbClr val="341a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44" name=""/>
            <p:cNvGrpSpPr/>
            <p:nvPr/>
          </p:nvGrpSpPr>
          <p:grpSpPr>
            <a:xfrm>
              <a:off x="1895760" y="4447080"/>
              <a:ext cx="692640" cy="469080"/>
              <a:chOff x="1895760" y="4447080"/>
              <a:chExt cx="692640" cy="469080"/>
            </a:xfrm>
          </p:grpSpPr>
          <p:sp>
            <p:nvSpPr>
              <p:cNvPr id="645" name=""/>
              <p:cNvSpPr/>
              <p:nvPr/>
            </p:nvSpPr>
            <p:spPr>
              <a:xfrm flipV="1">
                <a:off x="1922040" y="4466520"/>
                <a:ext cx="542160" cy="398520"/>
              </a:xfrm>
              <a:prstGeom prst="rect">
                <a:avLst/>
              </a:pr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1895760" y="4447080"/>
                <a:ext cx="692640" cy="46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108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900" spc="-1" strike="noStrike">
                    <a:solidFill>
                      <a:srgbClr val="ffff80"/>
                    </a:solidFill>
                    <a:latin typeface="Arial"/>
                  </a:rPr>
                  <a:t>IIIa</a:t>
                </a:r>
                <a:endParaRPr b="0" lang="en-US" sz="2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47" name=""/>
            <p:cNvGrpSpPr/>
            <p:nvPr/>
          </p:nvGrpSpPr>
          <p:grpSpPr>
            <a:xfrm>
              <a:off x="1189080" y="4442760"/>
              <a:ext cx="534240" cy="417600"/>
              <a:chOff x="1189080" y="4442760"/>
              <a:chExt cx="534240" cy="417600"/>
            </a:xfrm>
          </p:grpSpPr>
          <p:sp>
            <p:nvSpPr>
              <p:cNvPr id="648" name=""/>
              <p:cNvSpPr/>
              <p:nvPr/>
            </p:nvSpPr>
            <p:spPr>
              <a:xfrm flipV="1">
                <a:off x="1240560" y="4455360"/>
                <a:ext cx="372600" cy="398520"/>
              </a:xfrm>
              <a:prstGeom prst="rect">
                <a:avLst/>
              </a:pr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1189080" y="4442760"/>
                <a:ext cx="534240" cy="41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ff80"/>
                    </a:solidFill>
                    <a:latin typeface="Arial"/>
                  </a:rPr>
                  <a:t>IIb</a:t>
                </a:r>
                <a:endParaRPr b="0" lang="en-US" sz="2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0" name=""/>
          <p:cNvGrpSpPr/>
          <p:nvPr/>
        </p:nvGrpSpPr>
        <p:grpSpPr>
          <a:xfrm>
            <a:off x="3886200" y="4799520"/>
            <a:ext cx="3054240" cy="1497600"/>
            <a:chOff x="3886200" y="4799520"/>
            <a:chExt cx="3054240" cy="1497600"/>
          </a:xfrm>
        </p:grpSpPr>
        <p:sp>
          <p:nvSpPr>
            <p:cNvPr id="651" name=""/>
            <p:cNvSpPr/>
            <p:nvPr/>
          </p:nvSpPr>
          <p:spPr>
            <a:xfrm>
              <a:off x="3886200" y="4908240"/>
              <a:ext cx="3054240" cy="1388880"/>
            </a:xfrm>
            <a:custGeom>
              <a:avLst/>
              <a:gdLst/>
              <a:ahLst/>
              <a:rect l="l" t="t" r="r" b="b"/>
              <a:pathLst>
                <a:path w="2164" h="875">
                  <a:moveTo>
                    <a:pt x="98" y="239"/>
                  </a:moveTo>
                  <a:lnTo>
                    <a:pt x="117" y="222"/>
                  </a:lnTo>
                  <a:lnTo>
                    <a:pt x="127" y="215"/>
                  </a:lnTo>
                  <a:lnTo>
                    <a:pt x="138" y="209"/>
                  </a:lnTo>
                  <a:lnTo>
                    <a:pt x="149" y="204"/>
                  </a:lnTo>
                  <a:lnTo>
                    <a:pt x="160" y="200"/>
                  </a:lnTo>
                  <a:lnTo>
                    <a:pt x="172" y="196"/>
                  </a:lnTo>
                  <a:lnTo>
                    <a:pt x="184" y="194"/>
                  </a:lnTo>
                  <a:lnTo>
                    <a:pt x="196" y="192"/>
                  </a:lnTo>
                  <a:lnTo>
                    <a:pt x="208" y="190"/>
                  </a:lnTo>
                  <a:lnTo>
                    <a:pt x="220" y="189"/>
                  </a:lnTo>
                  <a:lnTo>
                    <a:pt x="233" y="188"/>
                  </a:lnTo>
                  <a:lnTo>
                    <a:pt x="246" y="188"/>
                  </a:lnTo>
                  <a:lnTo>
                    <a:pt x="258" y="187"/>
                  </a:lnTo>
                  <a:lnTo>
                    <a:pt x="271" y="187"/>
                  </a:lnTo>
                  <a:lnTo>
                    <a:pt x="284" y="187"/>
                  </a:lnTo>
                  <a:lnTo>
                    <a:pt x="296" y="187"/>
                  </a:lnTo>
                  <a:lnTo>
                    <a:pt x="309" y="187"/>
                  </a:lnTo>
                  <a:lnTo>
                    <a:pt x="322" y="187"/>
                  </a:lnTo>
                  <a:lnTo>
                    <a:pt x="334" y="186"/>
                  </a:lnTo>
                  <a:lnTo>
                    <a:pt x="346" y="185"/>
                  </a:lnTo>
                  <a:lnTo>
                    <a:pt x="359" y="184"/>
                  </a:lnTo>
                  <a:lnTo>
                    <a:pt x="371" y="182"/>
                  </a:lnTo>
                  <a:lnTo>
                    <a:pt x="383" y="180"/>
                  </a:lnTo>
                  <a:lnTo>
                    <a:pt x="394" y="177"/>
                  </a:lnTo>
                  <a:lnTo>
                    <a:pt x="406" y="174"/>
                  </a:lnTo>
                  <a:lnTo>
                    <a:pt x="417" y="169"/>
                  </a:lnTo>
                  <a:lnTo>
                    <a:pt x="428" y="164"/>
                  </a:lnTo>
                  <a:lnTo>
                    <a:pt x="438" y="158"/>
                  </a:lnTo>
                  <a:lnTo>
                    <a:pt x="448" y="151"/>
                  </a:lnTo>
                  <a:lnTo>
                    <a:pt x="458" y="143"/>
                  </a:lnTo>
                  <a:lnTo>
                    <a:pt x="468" y="134"/>
                  </a:lnTo>
                  <a:lnTo>
                    <a:pt x="478" y="121"/>
                  </a:lnTo>
                  <a:lnTo>
                    <a:pt x="483" y="115"/>
                  </a:lnTo>
                  <a:lnTo>
                    <a:pt x="488" y="109"/>
                  </a:lnTo>
                  <a:lnTo>
                    <a:pt x="492" y="103"/>
                  </a:lnTo>
                  <a:lnTo>
                    <a:pt x="496" y="97"/>
                  </a:lnTo>
                  <a:lnTo>
                    <a:pt x="501" y="91"/>
                  </a:lnTo>
                  <a:lnTo>
                    <a:pt x="505" y="85"/>
                  </a:lnTo>
                  <a:lnTo>
                    <a:pt x="509" y="79"/>
                  </a:lnTo>
                  <a:lnTo>
                    <a:pt x="512" y="74"/>
                  </a:lnTo>
                  <a:lnTo>
                    <a:pt x="516" y="68"/>
                  </a:lnTo>
                  <a:lnTo>
                    <a:pt x="520" y="62"/>
                  </a:lnTo>
                  <a:lnTo>
                    <a:pt x="524" y="57"/>
                  </a:lnTo>
                  <a:lnTo>
                    <a:pt x="528" y="52"/>
                  </a:lnTo>
                  <a:lnTo>
                    <a:pt x="532" y="47"/>
                  </a:lnTo>
                  <a:lnTo>
                    <a:pt x="536" y="42"/>
                  </a:lnTo>
                  <a:lnTo>
                    <a:pt x="540" y="37"/>
                  </a:lnTo>
                  <a:lnTo>
                    <a:pt x="544" y="33"/>
                  </a:lnTo>
                  <a:lnTo>
                    <a:pt x="549" y="29"/>
                  </a:lnTo>
                  <a:lnTo>
                    <a:pt x="554" y="25"/>
                  </a:lnTo>
                  <a:lnTo>
                    <a:pt x="559" y="21"/>
                  </a:lnTo>
                  <a:lnTo>
                    <a:pt x="564" y="18"/>
                  </a:lnTo>
                  <a:lnTo>
                    <a:pt x="570" y="14"/>
                  </a:lnTo>
                  <a:lnTo>
                    <a:pt x="576" y="12"/>
                  </a:lnTo>
                  <a:lnTo>
                    <a:pt x="582" y="9"/>
                  </a:lnTo>
                  <a:lnTo>
                    <a:pt x="589" y="7"/>
                  </a:lnTo>
                  <a:lnTo>
                    <a:pt x="596" y="5"/>
                  </a:lnTo>
                  <a:lnTo>
                    <a:pt x="604" y="4"/>
                  </a:lnTo>
                  <a:lnTo>
                    <a:pt x="612" y="2"/>
                  </a:lnTo>
                  <a:lnTo>
                    <a:pt x="621" y="2"/>
                  </a:lnTo>
                  <a:lnTo>
                    <a:pt x="630" y="1"/>
                  </a:lnTo>
                  <a:lnTo>
                    <a:pt x="640" y="2"/>
                  </a:lnTo>
                  <a:lnTo>
                    <a:pt x="672" y="4"/>
                  </a:lnTo>
                  <a:lnTo>
                    <a:pt x="687" y="5"/>
                  </a:lnTo>
                  <a:lnTo>
                    <a:pt x="702" y="7"/>
                  </a:lnTo>
                  <a:lnTo>
                    <a:pt x="718" y="10"/>
                  </a:lnTo>
                  <a:lnTo>
                    <a:pt x="732" y="13"/>
                  </a:lnTo>
                  <a:lnTo>
                    <a:pt x="747" y="16"/>
                  </a:lnTo>
                  <a:lnTo>
                    <a:pt x="762" y="20"/>
                  </a:lnTo>
                  <a:lnTo>
                    <a:pt x="777" y="24"/>
                  </a:lnTo>
                  <a:lnTo>
                    <a:pt x="791" y="28"/>
                  </a:lnTo>
                  <a:lnTo>
                    <a:pt x="806" y="32"/>
                  </a:lnTo>
                  <a:lnTo>
                    <a:pt x="820" y="36"/>
                  </a:lnTo>
                  <a:lnTo>
                    <a:pt x="834" y="40"/>
                  </a:lnTo>
                  <a:lnTo>
                    <a:pt x="849" y="45"/>
                  </a:lnTo>
                  <a:lnTo>
                    <a:pt x="863" y="49"/>
                  </a:lnTo>
                  <a:lnTo>
                    <a:pt x="878" y="54"/>
                  </a:lnTo>
                  <a:lnTo>
                    <a:pt x="892" y="58"/>
                  </a:lnTo>
                  <a:lnTo>
                    <a:pt x="907" y="63"/>
                  </a:lnTo>
                  <a:lnTo>
                    <a:pt x="921" y="67"/>
                  </a:lnTo>
                  <a:lnTo>
                    <a:pt x="936" y="71"/>
                  </a:lnTo>
                  <a:lnTo>
                    <a:pt x="951" y="75"/>
                  </a:lnTo>
                  <a:lnTo>
                    <a:pt x="966" y="78"/>
                  </a:lnTo>
                  <a:lnTo>
                    <a:pt x="981" y="82"/>
                  </a:lnTo>
                  <a:lnTo>
                    <a:pt x="996" y="85"/>
                  </a:lnTo>
                  <a:lnTo>
                    <a:pt x="1012" y="88"/>
                  </a:lnTo>
                  <a:lnTo>
                    <a:pt x="1028" y="90"/>
                  </a:lnTo>
                  <a:lnTo>
                    <a:pt x="1044" y="92"/>
                  </a:lnTo>
                  <a:lnTo>
                    <a:pt x="1060" y="93"/>
                  </a:lnTo>
                  <a:lnTo>
                    <a:pt x="1077" y="94"/>
                  </a:lnTo>
                  <a:lnTo>
                    <a:pt x="1094" y="95"/>
                  </a:lnTo>
                  <a:lnTo>
                    <a:pt x="1111" y="94"/>
                  </a:lnTo>
                  <a:lnTo>
                    <a:pt x="1129" y="94"/>
                  </a:lnTo>
                  <a:lnTo>
                    <a:pt x="1152" y="92"/>
                  </a:lnTo>
                  <a:lnTo>
                    <a:pt x="1164" y="90"/>
                  </a:lnTo>
                  <a:lnTo>
                    <a:pt x="1176" y="87"/>
                  </a:lnTo>
                  <a:lnTo>
                    <a:pt x="1188" y="84"/>
                  </a:lnTo>
                  <a:lnTo>
                    <a:pt x="1200" y="82"/>
                  </a:lnTo>
                  <a:lnTo>
                    <a:pt x="1212" y="78"/>
                  </a:lnTo>
                  <a:lnTo>
                    <a:pt x="1224" y="74"/>
                  </a:lnTo>
                  <a:lnTo>
                    <a:pt x="1236" y="71"/>
                  </a:lnTo>
                  <a:lnTo>
                    <a:pt x="1248" y="67"/>
                  </a:lnTo>
                  <a:lnTo>
                    <a:pt x="1261" y="62"/>
                  </a:lnTo>
                  <a:lnTo>
                    <a:pt x="1273" y="58"/>
                  </a:lnTo>
                  <a:lnTo>
                    <a:pt x="1285" y="54"/>
                  </a:lnTo>
                  <a:lnTo>
                    <a:pt x="1298" y="49"/>
                  </a:lnTo>
                  <a:lnTo>
                    <a:pt x="1310" y="45"/>
                  </a:lnTo>
                  <a:lnTo>
                    <a:pt x="1322" y="40"/>
                  </a:lnTo>
                  <a:lnTo>
                    <a:pt x="1335" y="36"/>
                  </a:lnTo>
                  <a:lnTo>
                    <a:pt x="1347" y="32"/>
                  </a:lnTo>
                  <a:lnTo>
                    <a:pt x="1360" y="27"/>
                  </a:lnTo>
                  <a:lnTo>
                    <a:pt x="1372" y="23"/>
                  </a:lnTo>
                  <a:lnTo>
                    <a:pt x="1384" y="20"/>
                  </a:lnTo>
                  <a:lnTo>
                    <a:pt x="1396" y="16"/>
                  </a:lnTo>
                  <a:lnTo>
                    <a:pt x="1408" y="12"/>
                  </a:lnTo>
                  <a:lnTo>
                    <a:pt x="1420" y="10"/>
                  </a:lnTo>
                  <a:lnTo>
                    <a:pt x="1432" y="7"/>
                  </a:lnTo>
                  <a:lnTo>
                    <a:pt x="1444" y="5"/>
                  </a:lnTo>
                  <a:lnTo>
                    <a:pt x="1456" y="3"/>
                  </a:lnTo>
                  <a:lnTo>
                    <a:pt x="1467" y="2"/>
                  </a:lnTo>
                  <a:lnTo>
                    <a:pt x="1479" y="1"/>
                  </a:lnTo>
                  <a:lnTo>
                    <a:pt x="1490" y="0"/>
                  </a:lnTo>
                  <a:lnTo>
                    <a:pt x="1501" y="0"/>
                  </a:lnTo>
                  <a:lnTo>
                    <a:pt x="1512" y="2"/>
                  </a:lnTo>
                  <a:lnTo>
                    <a:pt x="1536" y="6"/>
                  </a:lnTo>
                  <a:lnTo>
                    <a:pt x="1547" y="9"/>
                  </a:lnTo>
                  <a:lnTo>
                    <a:pt x="1556" y="13"/>
                  </a:lnTo>
                  <a:lnTo>
                    <a:pt x="1565" y="17"/>
                  </a:lnTo>
                  <a:lnTo>
                    <a:pt x="1573" y="22"/>
                  </a:lnTo>
                  <a:lnTo>
                    <a:pt x="1580" y="27"/>
                  </a:lnTo>
                  <a:lnTo>
                    <a:pt x="1587" y="33"/>
                  </a:lnTo>
                  <a:lnTo>
                    <a:pt x="1592" y="39"/>
                  </a:lnTo>
                  <a:lnTo>
                    <a:pt x="1598" y="45"/>
                  </a:lnTo>
                  <a:lnTo>
                    <a:pt x="1603" y="52"/>
                  </a:lnTo>
                  <a:lnTo>
                    <a:pt x="1608" y="58"/>
                  </a:lnTo>
                  <a:lnTo>
                    <a:pt x="1612" y="66"/>
                  </a:lnTo>
                  <a:lnTo>
                    <a:pt x="1616" y="72"/>
                  </a:lnTo>
                  <a:lnTo>
                    <a:pt x="1620" y="80"/>
                  </a:lnTo>
                  <a:lnTo>
                    <a:pt x="1624" y="87"/>
                  </a:lnTo>
                  <a:lnTo>
                    <a:pt x="1628" y="94"/>
                  </a:lnTo>
                  <a:lnTo>
                    <a:pt x="1632" y="101"/>
                  </a:lnTo>
                  <a:lnTo>
                    <a:pt x="1636" y="108"/>
                  </a:lnTo>
                  <a:lnTo>
                    <a:pt x="1640" y="114"/>
                  </a:lnTo>
                  <a:lnTo>
                    <a:pt x="1645" y="120"/>
                  </a:lnTo>
                  <a:lnTo>
                    <a:pt x="1650" y="127"/>
                  </a:lnTo>
                  <a:lnTo>
                    <a:pt x="1656" y="132"/>
                  </a:lnTo>
                  <a:lnTo>
                    <a:pt x="1662" y="138"/>
                  </a:lnTo>
                  <a:lnTo>
                    <a:pt x="1668" y="142"/>
                  </a:lnTo>
                  <a:lnTo>
                    <a:pt x="1676" y="147"/>
                  </a:lnTo>
                  <a:lnTo>
                    <a:pt x="1684" y="151"/>
                  </a:lnTo>
                  <a:lnTo>
                    <a:pt x="1692" y="154"/>
                  </a:lnTo>
                  <a:lnTo>
                    <a:pt x="1702" y="156"/>
                  </a:lnTo>
                  <a:lnTo>
                    <a:pt x="1713" y="158"/>
                  </a:lnTo>
                  <a:lnTo>
                    <a:pt x="1724" y="160"/>
                  </a:lnTo>
                  <a:lnTo>
                    <a:pt x="1738" y="160"/>
                  </a:lnTo>
                  <a:lnTo>
                    <a:pt x="1754" y="160"/>
                  </a:lnTo>
                  <a:lnTo>
                    <a:pt x="1762" y="160"/>
                  </a:lnTo>
                  <a:lnTo>
                    <a:pt x="1770" y="161"/>
                  </a:lnTo>
                  <a:lnTo>
                    <a:pt x="1778" y="162"/>
                  </a:lnTo>
                  <a:lnTo>
                    <a:pt x="1786" y="163"/>
                  </a:lnTo>
                  <a:lnTo>
                    <a:pt x="1793" y="164"/>
                  </a:lnTo>
                  <a:lnTo>
                    <a:pt x="1801" y="166"/>
                  </a:lnTo>
                  <a:lnTo>
                    <a:pt x="1808" y="167"/>
                  </a:lnTo>
                  <a:lnTo>
                    <a:pt x="1815" y="169"/>
                  </a:lnTo>
                  <a:lnTo>
                    <a:pt x="1822" y="171"/>
                  </a:lnTo>
                  <a:lnTo>
                    <a:pt x="1829" y="173"/>
                  </a:lnTo>
                  <a:lnTo>
                    <a:pt x="1836" y="176"/>
                  </a:lnTo>
                  <a:lnTo>
                    <a:pt x="1843" y="178"/>
                  </a:lnTo>
                  <a:lnTo>
                    <a:pt x="1850" y="181"/>
                  </a:lnTo>
                  <a:lnTo>
                    <a:pt x="1856" y="184"/>
                  </a:lnTo>
                  <a:lnTo>
                    <a:pt x="1863" y="188"/>
                  </a:lnTo>
                  <a:lnTo>
                    <a:pt x="1869" y="191"/>
                  </a:lnTo>
                  <a:lnTo>
                    <a:pt x="1875" y="195"/>
                  </a:lnTo>
                  <a:lnTo>
                    <a:pt x="1882" y="199"/>
                  </a:lnTo>
                  <a:lnTo>
                    <a:pt x="1888" y="203"/>
                  </a:lnTo>
                  <a:lnTo>
                    <a:pt x="1894" y="208"/>
                  </a:lnTo>
                  <a:lnTo>
                    <a:pt x="1900" y="212"/>
                  </a:lnTo>
                  <a:lnTo>
                    <a:pt x="1905" y="217"/>
                  </a:lnTo>
                  <a:lnTo>
                    <a:pt x="1911" y="222"/>
                  </a:lnTo>
                  <a:lnTo>
                    <a:pt x="1917" y="228"/>
                  </a:lnTo>
                  <a:lnTo>
                    <a:pt x="1922" y="234"/>
                  </a:lnTo>
                  <a:lnTo>
                    <a:pt x="1928" y="240"/>
                  </a:lnTo>
                  <a:lnTo>
                    <a:pt x="1933" y="246"/>
                  </a:lnTo>
                  <a:lnTo>
                    <a:pt x="1938" y="252"/>
                  </a:lnTo>
                  <a:lnTo>
                    <a:pt x="1944" y="259"/>
                  </a:lnTo>
                  <a:lnTo>
                    <a:pt x="1949" y="266"/>
                  </a:lnTo>
                  <a:lnTo>
                    <a:pt x="1962" y="286"/>
                  </a:lnTo>
                  <a:lnTo>
                    <a:pt x="1968" y="296"/>
                  </a:lnTo>
                  <a:lnTo>
                    <a:pt x="1972" y="306"/>
                  </a:lnTo>
                  <a:lnTo>
                    <a:pt x="1977" y="316"/>
                  </a:lnTo>
                  <a:lnTo>
                    <a:pt x="1981" y="327"/>
                  </a:lnTo>
                  <a:lnTo>
                    <a:pt x="1984" y="337"/>
                  </a:lnTo>
                  <a:lnTo>
                    <a:pt x="1987" y="347"/>
                  </a:lnTo>
                  <a:lnTo>
                    <a:pt x="1989" y="357"/>
                  </a:lnTo>
                  <a:lnTo>
                    <a:pt x="1992" y="367"/>
                  </a:lnTo>
                  <a:lnTo>
                    <a:pt x="1994" y="377"/>
                  </a:lnTo>
                  <a:lnTo>
                    <a:pt x="1996" y="387"/>
                  </a:lnTo>
                  <a:lnTo>
                    <a:pt x="1997" y="397"/>
                  </a:lnTo>
                  <a:lnTo>
                    <a:pt x="1999" y="407"/>
                  </a:lnTo>
                  <a:lnTo>
                    <a:pt x="2000" y="417"/>
                  </a:lnTo>
                  <a:lnTo>
                    <a:pt x="2002" y="427"/>
                  </a:lnTo>
                  <a:lnTo>
                    <a:pt x="2004" y="437"/>
                  </a:lnTo>
                  <a:lnTo>
                    <a:pt x="2006" y="446"/>
                  </a:lnTo>
                  <a:lnTo>
                    <a:pt x="2008" y="456"/>
                  </a:lnTo>
                  <a:lnTo>
                    <a:pt x="2010" y="465"/>
                  </a:lnTo>
                  <a:lnTo>
                    <a:pt x="2013" y="474"/>
                  </a:lnTo>
                  <a:lnTo>
                    <a:pt x="2016" y="484"/>
                  </a:lnTo>
                  <a:lnTo>
                    <a:pt x="2020" y="493"/>
                  </a:lnTo>
                  <a:lnTo>
                    <a:pt x="2024" y="502"/>
                  </a:lnTo>
                  <a:lnTo>
                    <a:pt x="2028" y="511"/>
                  </a:lnTo>
                  <a:lnTo>
                    <a:pt x="2034" y="520"/>
                  </a:lnTo>
                  <a:lnTo>
                    <a:pt x="2040" y="528"/>
                  </a:lnTo>
                  <a:lnTo>
                    <a:pt x="2046" y="537"/>
                  </a:lnTo>
                  <a:lnTo>
                    <a:pt x="2054" y="545"/>
                  </a:lnTo>
                  <a:lnTo>
                    <a:pt x="2062" y="554"/>
                  </a:lnTo>
                  <a:lnTo>
                    <a:pt x="2071" y="562"/>
                  </a:lnTo>
                  <a:lnTo>
                    <a:pt x="2081" y="570"/>
                  </a:lnTo>
                  <a:lnTo>
                    <a:pt x="2091" y="576"/>
                  </a:lnTo>
                  <a:lnTo>
                    <a:pt x="2095" y="580"/>
                  </a:lnTo>
                  <a:lnTo>
                    <a:pt x="2100" y="584"/>
                  </a:lnTo>
                  <a:lnTo>
                    <a:pt x="2104" y="587"/>
                  </a:lnTo>
                  <a:lnTo>
                    <a:pt x="2109" y="591"/>
                  </a:lnTo>
                  <a:lnTo>
                    <a:pt x="2113" y="594"/>
                  </a:lnTo>
                  <a:lnTo>
                    <a:pt x="2117" y="598"/>
                  </a:lnTo>
                  <a:lnTo>
                    <a:pt x="2121" y="602"/>
                  </a:lnTo>
                  <a:lnTo>
                    <a:pt x="2125" y="606"/>
                  </a:lnTo>
                  <a:lnTo>
                    <a:pt x="2129" y="610"/>
                  </a:lnTo>
                  <a:lnTo>
                    <a:pt x="2133" y="613"/>
                  </a:lnTo>
                  <a:lnTo>
                    <a:pt x="2136" y="617"/>
                  </a:lnTo>
                  <a:lnTo>
                    <a:pt x="2140" y="621"/>
                  </a:lnTo>
                  <a:lnTo>
                    <a:pt x="2142" y="625"/>
                  </a:lnTo>
                  <a:lnTo>
                    <a:pt x="2146" y="630"/>
                  </a:lnTo>
                  <a:lnTo>
                    <a:pt x="2148" y="634"/>
                  </a:lnTo>
                  <a:lnTo>
                    <a:pt x="2151" y="638"/>
                  </a:lnTo>
                  <a:lnTo>
                    <a:pt x="2153" y="643"/>
                  </a:lnTo>
                  <a:lnTo>
                    <a:pt x="2155" y="648"/>
                  </a:lnTo>
                  <a:lnTo>
                    <a:pt x="2157" y="652"/>
                  </a:lnTo>
                  <a:lnTo>
                    <a:pt x="2159" y="657"/>
                  </a:lnTo>
                  <a:lnTo>
                    <a:pt x="2160" y="662"/>
                  </a:lnTo>
                  <a:lnTo>
                    <a:pt x="2161" y="667"/>
                  </a:lnTo>
                  <a:lnTo>
                    <a:pt x="2162" y="673"/>
                  </a:lnTo>
                  <a:lnTo>
                    <a:pt x="2163" y="678"/>
                  </a:lnTo>
                  <a:lnTo>
                    <a:pt x="2163" y="684"/>
                  </a:lnTo>
                  <a:lnTo>
                    <a:pt x="2163" y="690"/>
                  </a:lnTo>
                  <a:lnTo>
                    <a:pt x="2163" y="696"/>
                  </a:lnTo>
                  <a:lnTo>
                    <a:pt x="2162" y="702"/>
                  </a:lnTo>
                  <a:lnTo>
                    <a:pt x="2162" y="708"/>
                  </a:lnTo>
                  <a:lnTo>
                    <a:pt x="2161" y="715"/>
                  </a:lnTo>
                  <a:lnTo>
                    <a:pt x="2142" y="746"/>
                  </a:lnTo>
                  <a:lnTo>
                    <a:pt x="2132" y="757"/>
                  </a:lnTo>
                  <a:lnTo>
                    <a:pt x="2121" y="767"/>
                  </a:lnTo>
                  <a:lnTo>
                    <a:pt x="2110" y="774"/>
                  </a:lnTo>
                  <a:lnTo>
                    <a:pt x="2099" y="780"/>
                  </a:lnTo>
                  <a:lnTo>
                    <a:pt x="2087" y="784"/>
                  </a:lnTo>
                  <a:lnTo>
                    <a:pt x="2075" y="786"/>
                  </a:lnTo>
                  <a:lnTo>
                    <a:pt x="2062" y="787"/>
                  </a:lnTo>
                  <a:lnTo>
                    <a:pt x="2050" y="786"/>
                  </a:lnTo>
                  <a:lnTo>
                    <a:pt x="2036" y="785"/>
                  </a:lnTo>
                  <a:lnTo>
                    <a:pt x="2023" y="782"/>
                  </a:lnTo>
                  <a:lnTo>
                    <a:pt x="2010" y="778"/>
                  </a:lnTo>
                  <a:lnTo>
                    <a:pt x="1996" y="774"/>
                  </a:lnTo>
                  <a:lnTo>
                    <a:pt x="1982" y="768"/>
                  </a:lnTo>
                  <a:lnTo>
                    <a:pt x="1968" y="763"/>
                  </a:lnTo>
                  <a:lnTo>
                    <a:pt x="1954" y="757"/>
                  </a:lnTo>
                  <a:lnTo>
                    <a:pt x="1940" y="750"/>
                  </a:lnTo>
                  <a:lnTo>
                    <a:pt x="1926" y="744"/>
                  </a:lnTo>
                  <a:lnTo>
                    <a:pt x="1912" y="738"/>
                  </a:lnTo>
                  <a:lnTo>
                    <a:pt x="1898" y="731"/>
                  </a:lnTo>
                  <a:lnTo>
                    <a:pt x="1883" y="726"/>
                  </a:lnTo>
                  <a:lnTo>
                    <a:pt x="1869" y="720"/>
                  </a:lnTo>
                  <a:lnTo>
                    <a:pt x="1855" y="715"/>
                  </a:lnTo>
                  <a:lnTo>
                    <a:pt x="1842" y="711"/>
                  </a:lnTo>
                  <a:lnTo>
                    <a:pt x="1828" y="708"/>
                  </a:lnTo>
                  <a:lnTo>
                    <a:pt x="1814" y="706"/>
                  </a:lnTo>
                  <a:lnTo>
                    <a:pt x="1801" y="705"/>
                  </a:lnTo>
                  <a:lnTo>
                    <a:pt x="1788" y="705"/>
                  </a:lnTo>
                  <a:lnTo>
                    <a:pt x="1775" y="707"/>
                  </a:lnTo>
                  <a:lnTo>
                    <a:pt x="1763" y="710"/>
                  </a:lnTo>
                  <a:lnTo>
                    <a:pt x="1751" y="715"/>
                  </a:lnTo>
                  <a:lnTo>
                    <a:pt x="1734" y="724"/>
                  </a:lnTo>
                  <a:lnTo>
                    <a:pt x="1726" y="730"/>
                  </a:lnTo>
                  <a:lnTo>
                    <a:pt x="1718" y="735"/>
                  </a:lnTo>
                  <a:lnTo>
                    <a:pt x="1711" y="741"/>
                  </a:lnTo>
                  <a:lnTo>
                    <a:pt x="1704" y="747"/>
                  </a:lnTo>
                  <a:lnTo>
                    <a:pt x="1696" y="753"/>
                  </a:lnTo>
                  <a:lnTo>
                    <a:pt x="1690" y="759"/>
                  </a:lnTo>
                  <a:lnTo>
                    <a:pt x="1683" y="766"/>
                  </a:lnTo>
                  <a:lnTo>
                    <a:pt x="1676" y="772"/>
                  </a:lnTo>
                  <a:lnTo>
                    <a:pt x="1670" y="779"/>
                  </a:lnTo>
                  <a:lnTo>
                    <a:pt x="1663" y="786"/>
                  </a:lnTo>
                  <a:lnTo>
                    <a:pt x="1657" y="793"/>
                  </a:lnTo>
                  <a:lnTo>
                    <a:pt x="1650" y="800"/>
                  </a:lnTo>
                  <a:lnTo>
                    <a:pt x="1644" y="806"/>
                  </a:lnTo>
                  <a:lnTo>
                    <a:pt x="1637" y="813"/>
                  </a:lnTo>
                  <a:lnTo>
                    <a:pt x="1630" y="819"/>
                  </a:lnTo>
                  <a:lnTo>
                    <a:pt x="1624" y="825"/>
                  </a:lnTo>
                  <a:lnTo>
                    <a:pt x="1617" y="831"/>
                  </a:lnTo>
                  <a:lnTo>
                    <a:pt x="1610" y="837"/>
                  </a:lnTo>
                  <a:lnTo>
                    <a:pt x="1602" y="842"/>
                  </a:lnTo>
                  <a:lnTo>
                    <a:pt x="1595" y="848"/>
                  </a:lnTo>
                  <a:lnTo>
                    <a:pt x="1587" y="852"/>
                  </a:lnTo>
                  <a:lnTo>
                    <a:pt x="1579" y="857"/>
                  </a:lnTo>
                  <a:lnTo>
                    <a:pt x="1570" y="861"/>
                  </a:lnTo>
                  <a:lnTo>
                    <a:pt x="1561" y="864"/>
                  </a:lnTo>
                  <a:lnTo>
                    <a:pt x="1552" y="867"/>
                  </a:lnTo>
                  <a:lnTo>
                    <a:pt x="1542" y="870"/>
                  </a:lnTo>
                  <a:lnTo>
                    <a:pt x="1532" y="872"/>
                  </a:lnTo>
                  <a:lnTo>
                    <a:pt x="1522" y="873"/>
                  </a:lnTo>
                  <a:lnTo>
                    <a:pt x="1511" y="874"/>
                  </a:lnTo>
                  <a:lnTo>
                    <a:pt x="1500" y="874"/>
                  </a:lnTo>
                  <a:lnTo>
                    <a:pt x="1467" y="870"/>
                  </a:lnTo>
                  <a:lnTo>
                    <a:pt x="1451" y="867"/>
                  </a:lnTo>
                  <a:lnTo>
                    <a:pt x="1436" y="863"/>
                  </a:lnTo>
                  <a:lnTo>
                    <a:pt x="1420" y="859"/>
                  </a:lnTo>
                  <a:lnTo>
                    <a:pt x="1406" y="854"/>
                  </a:lnTo>
                  <a:lnTo>
                    <a:pt x="1391" y="848"/>
                  </a:lnTo>
                  <a:lnTo>
                    <a:pt x="1376" y="841"/>
                  </a:lnTo>
                  <a:lnTo>
                    <a:pt x="1362" y="834"/>
                  </a:lnTo>
                  <a:lnTo>
                    <a:pt x="1348" y="827"/>
                  </a:lnTo>
                  <a:lnTo>
                    <a:pt x="1334" y="820"/>
                  </a:lnTo>
                  <a:lnTo>
                    <a:pt x="1320" y="812"/>
                  </a:lnTo>
                  <a:lnTo>
                    <a:pt x="1306" y="804"/>
                  </a:lnTo>
                  <a:lnTo>
                    <a:pt x="1292" y="796"/>
                  </a:lnTo>
                  <a:lnTo>
                    <a:pt x="1278" y="788"/>
                  </a:lnTo>
                  <a:lnTo>
                    <a:pt x="1264" y="781"/>
                  </a:lnTo>
                  <a:lnTo>
                    <a:pt x="1250" y="773"/>
                  </a:lnTo>
                  <a:lnTo>
                    <a:pt x="1236" y="766"/>
                  </a:lnTo>
                  <a:lnTo>
                    <a:pt x="1222" y="759"/>
                  </a:lnTo>
                  <a:lnTo>
                    <a:pt x="1208" y="753"/>
                  </a:lnTo>
                  <a:lnTo>
                    <a:pt x="1194" y="747"/>
                  </a:lnTo>
                  <a:lnTo>
                    <a:pt x="1180" y="742"/>
                  </a:lnTo>
                  <a:lnTo>
                    <a:pt x="1165" y="738"/>
                  </a:lnTo>
                  <a:lnTo>
                    <a:pt x="1151" y="734"/>
                  </a:lnTo>
                  <a:lnTo>
                    <a:pt x="1136" y="731"/>
                  </a:lnTo>
                  <a:lnTo>
                    <a:pt x="1120" y="729"/>
                  </a:lnTo>
                  <a:lnTo>
                    <a:pt x="1105" y="728"/>
                  </a:lnTo>
                  <a:lnTo>
                    <a:pt x="1089" y="728"/>
                  </a:lnTo>
                  <a:lnTo>
                    <a:pt x="1073" y="729"/>
                  </a:lnTo>
                  <a:lnTo>
                    <a:pt x="1057" y="732"/>
                  </a:lnTo>
                  <a:lnTo>
                    <a:pt x="1040" y="736"/>
                  </a:lnTo>
                  <a:lnTo>
                    <a:pt x="1023" y="741"/>
                  </a:lnTo>
                  <a:lnTo>
                    <a:pt x="1003" y="748"/>
                  </a:lnTo>
                  <a:lnTo>
                    <a:pt x="992" y="752"/>
                  </a:lnTo>
                  <a:lnTo>
                    <a:pt x="981" y="756"/>
                  </a:lnTo>
                  <a:lnTo>
                    <a:pt x="970" y="760"/>
                  </a:lnTo>
                  <a:lnTo>
                    <a:pt x="958" y="764"/>
                  </a:lnTo>
                  <a:lnTo>
                    <a:pt x="947" y="767"/>
                  </a:lnTo>
                  <a:lnTo>
                    <a:pt x="935" y="771"/>
                  </a:lnTo>
                  <a:lnTo>
                    <a:pt x="922" y="775"/>
                  </a:lnTo>
                  <a:lnTo>
                    <a:pt x="910" y="779"/>
                  </a:lnTo>
                  <a:lnTo>
                    <a:pt x="898" y="782"/>
                  </a:lnTo>
                  <a:lnTo>
                    <a:pt x="885" y="786"/>
                  </a:lnTo>
                  <a:lnTo>
                    <a:pt x="872" y="789"/>
                  </a:lnTo>
                  <a:lnTo>
                    <a:pt x="859" y="792"/>
                  </a:lnTo>
                  <a:lnTo>
                    <a:pt x="846" y="795"/>
                  </a:lnTo>
                  <a:lnTo>
                    <a:pt x="834" y="798"/>
                  </a:lnTo>
                  <a:lnTo>
                    <a:pt x="820" y="800"/>
                  </a:lnTo>
                  <a:lnTo>
                    <a:pt x="808" y="802"/>
                  </a:lnTo>
                  <a:lnTo>
                    <a:pt x="795" y="803"/>
                  </a:lnTo>
                  <a:lnTo>
                    <a:pt x="782" y="805"/>
                  </a:lnTo>
                  <a:lnTo>
                    <a:pt x="769" y="806"/>
                  </a:lnTo>
                  <a:lnTo>
                    <a:pt x="756" y="806"/>
                  </a:lnTo>
                  <a:lnTo>
                    <a:pt x="744" y="806"/>
                  </a:lnTo>
                  <a:lnTo>
                    <a:pt x="731" y="806"/>
                  </a:lnTo>
                  <a:lnTo>
                    <a:pt x="719" y="804"/>
                  </a:lnTo>
                  <a:lnTo>
                    <a:pt x="707" y="803"/>
                  </a:lnTo>
                  <a:lnTo>
                    <a:pt x="695" y="801"/>
                  </a:lnTo>
                  <a:lnTo>
                    <a:pt x="684" y="798"/>
                  </a:lnTo>
                  <a:lnTo>
                    <a:pt x="672" y="795"/>
                  </a:lnTo>
                  <a:lnTo>
                    <a:pt x="661" y="791"/>
                  </a:lnTo>
                  <a:lnTo>
                    <a:pt x="650" y="786"/>
                  </a:lnTo>
                  <a:lnTo>
                    <a:pt x="640" y="781"/>
                  </a:lnTo>
                  <a:lnTo>
                    <a:pt x="624" y="772"/>
                  </a:lnTo>
                  <a:lnTo>
                    <a:pt x="618" y="767"/>
                  </a:lnTo>
                  <a:lnTo>
                    <a:pt x="611" y="762"/>
                  </a:lnTo>
                  <a:lnTo>
                    <a:pt x="605" y="757"/>
                  </a:lnTo>
                  <a:lnTo>
                    <a:pt x="599" y="752"/>
                  </a:lnTo>
                  <a:lnTo>
                    <a:pt x="593" y="748"/>
                  </a:lnTo>
                  <a:lnTo>
                    <a:pt x="588" y="742"/>
                  </a:lnTo>
                  <a:lnTo>
                    <a:pt x="582" y="738"/>
                  </a:lnTo>
                  <a:lnTo>
                    <a:pt x="578" y="732"/>
                  </a:lnTo>
                  <a:lnTo>
                    <a:pt x="572" y="728"/>
                  </a:lnTo>
                  <a:lnTo>
                    <a:pt x="568" y="723"/>
                  </a:lnTo>
                  <a:lnTo>
                    <a:pt x="563" y="718"/>
                  </a:lnTo>
                  <a:lnTo>
                    <a:pt x="558" y="713"/>
                  </a:lnTo>
                  <a:lnTo>
                    <a:pt x="554" y="709"/>
                  </a:lnTo>
                  <a:lnTo>
                    <a:pt x="549" y="704"/>
                  </a:lnTo>
                  <a:lnTo>
                    <a:pt x="544" y="700"/>
                  </a:lnTo>
                  <a:lnTo>
                    <a:pt x="540" y="696"/>
                  </a:lnTo>
                  <a:lnTo>
                    <a:pt x="534" y="692"/>
                  </a:lnTo>
                  <a:lnTo>
                    <a:pt x="529" y="688"/>
                  </a:lnTo>
                  <a:lnTo>
                    <a:pt x="524" y="684"/>
                  </a:lnTo>
                  <a:lnTo>
                    <a:pt x="518" y="681"/>
                  </a:lnTo>
                  <a:lnTo>
                    <a:pt x="512" y="678"/>
                  </a:lnTo>
                  <a:lnTo>
                    <a:pt x="506" y="675"/>
                  </a:lnTo>
                  <a:lnTo>
                    <a:pt x="500" y="672"/>
                  </a:lnTo>
                  <a:lnTo>
                    <a:pt x="493" y="670"/>
                  </a:lnTo>
                  <a:lnTo>
                    <a:pt x="486" y="668"/>
                  </a:lnTo>
                  <a:lnTo>
                    <a:pt x="478" y="666"/>
                  </a:lnTo>
                  <a:lnTo>
                    <a:pt x="470" y="664"/>
                  </a:lnTo>
                  <a:lnTo>
                    <a:pt x="461" y="663"/>
                  </a:lnTo>
                  <a:lnTo>
                    <a:pt x="451" y="662"/>
                  </a:lnTo>
                  <a:lnTo>
                    <a:pt x="442" y="662"/>
                  </a:lnTo>
                  <a:lnTo>
                    <a:pt x="425" y="662"/>
                  </a:lnTo>
                  <a:lnTo>
                    <a:pt x="417" y="662"/>
                  </a:lnTo>
                  <a:lnTo>
                    <a:pt x="408" y="662"/>
                  </a:lnTo>
                  <a:lnTo>
                    <a:pt x="399" y="663"/>
                  </a:lnTo>
                  <a:lnTo>
                    <a:pt x="390" y="663"/>
                  </a:lnTo>
                  <a:lnTo>
                    <a:pt x="381" y="664"/>
                  </a:lnTo>
                  <a:lnTo>
                    <a:pt x="371" y="664"/>
                  </a:lnTo>
                  <a:lnTo>
                    <a:pt x="362" y="665"/>
                  </a:lnTo>
                  <a:lnTo>
                    <a:pt x="352" y="665"/>
                  </a:lnTo>
                  <a:lnTo>
                    <a:pt x="342" y="666"/>
                  </a:lnTo>
                  <a:lnTo>
                    <a:pt x="332" y="666"/>
                  </a:lnTo>
                  <a:lnTo>
                    <a:pt x="322" y="666"/>
                  </a:lnTo>
                  <a:lnTo>
                    <a:pt x="313" y="666"/>
                  </a:lnTo>
                  <a:lnTo>
                    <a:pt x="303" y="666"/>
                  </a:lnTo>
                  <a:lnTo>
                    <a:pt x="293" y="665"/>
                  </a:lnTo>
                  <a:lnTo>
                    <a:pt x="284" y="664"/>
                  </a:lnTo>
                  <a:lnTo>
                    <a:pt x="274" y="664"/>
                  </a:lnTo>
                  <a:lnTo>
                    <a:pt x="264" y="662"/>
                  </a:lnTo>
                  <a:lnTo>
                    <a:pt x="255" y="661"/>
                  </a:lnTo>
                  <a:lnTo>
                    <a:pt x="246" y="659"/>
                  </a:lnTo>
                  <a:lnTo>
                    <a:pt x="237" y="657"/>
                  </a:lnTo>
                  <a:lnTo>
                    <a:pt x="228" y="654"/>
                  </a:lnTo>
                  <a:lnTo>
                    <a:pt x="220" y="651"/>
                  </a:lnTo>
                  <a:lnTo>
                    <a:pt x="212" y="648"/>
                  </a:lnTo>
                  <a:lnTo>
                    <a:pt x="204" y="644"/>
                  </a:lnTo>
                  <a:lnTo>
                    <a:pt x="196" y="639"/>
                  </a:lnTo>
                  <a:lnTo>
                    <a:pt x="189" y="634"/>
                  </a:lnTo>
                  <a:lnTo>
                    <a:pt x="182" y="629"/>
                  </a:lnTo>
                  <a:lnTo>
                    <a:pt x="176" y="623"/>
                  </a:lnTo>
                  <a:lnTo>
                    <a:pt x="170" y="616"/>
                  </a:lnTo>
                  <a:lnTo>
                    <a:pt x="164" y="609"/>
                  </a:lnTo>
                  <a:lnTo>
                    <a:pt x="153" y="593"/>
                  </a:lnTo>
                  <a:lnTo>
                    <a:pt x="148" y="586"/>
                  </a:lnTo>
                  <a:lnTo>
                    <a:pt x="144" y="579"/>
                  </a:lnTo>
                  <a:lnTo>
                    <a:pt x="141" y="572"/>
                  </a:lnTo>
                  <a:lnTo>
                    <a:pt x="138" y="566"/>
                  </a:lnTo>
                  <a:lnTo>
                    <a:pt x="135" y="560"/>
                  </a:lnTo>
                  <a:lnTo>
                    <a:pt x="132" y="554"/>
                  </a:lnTo>
                  <a:lnTo>
                    <a:pt x="130" y="549"/>
                  </a:lnTo>
                  <a:lnTo>
                    <a:pt x="128" y="544"/>
                  </a:lnTo>
                  <a:lnTo>
                    <a:pt x="126" y="539"/>
                  </a:lnTo>
                  <a:lnTo>
                    <a:pt x="125" y="534"/>
                  </a:lnTo>
                  <a:lnTo>
                    <a:pt x="123" y="530"/>
                  </a:lnTo>
                  <a:lnTo>
                    <a:pt x="122" y="526"/>
                  </a:lnTo>
                  <a:lnTo>
                    <a:pt x="120" y="521"/>
                  </a:lnTo>
                  <a:lnTo>
                    <a:pt x="119" y="517"/>
                  </a:lnTo>
                  <a:lnTo>
                    <a:pt x="118" y="513"/>
                  </a:lnTo>
                  <a:lnTo>
                    <a:pt x="116" y="509"/>
                  </a:lnTo>
                  <a:lnTo>
                    <a:pt x="114" y="506"/>
                  </a:lnTo>
                  <a:lnTo>
                    <a:pt x="112" y="502"/>
                  </a:lnTo>
                  <a:lnTo>
                    <a:pt x="110" y="498"/>
                  </a:lnTo>
                  <a:lnTo>
                    <a:pt x="108" y="494"/>
                  </a:lnTo>
                  <a:lnTo>
                    <a:pt x="105" y="490"/>
                  </a:lnTo>
                  <a:lnTo>
                    <a:pt x="102" y="486"/>
                  </a:lnTo>
                  <a:lnTo>
                    <a:pt x="98" y="482"/>
                  </a:lnTo>
                  <a:lnTo>
                    <a:pt x="94" y="478"/>
                  </a:lnTo>
                  <a:lnTo>
                    <a:pt x="90" y="474"/>
                  </a:lnTo>
                  <a:lnTo>
                    <a:pt x="84" y="470"/>
                  </a:lnTo>
                  <a:lnTo>
                    <a:pt x="79" y="465"/>
                  </a:lnTo>
                  <a:lnTo>
                    <a:pt x="72" y="461"/>
                  </a:lnTo>
                  <a:lnTo>
                    <a:pt x="66" y="456"/>
                  </a:lnTo>
                  <a:lnTo>
                    <a:pt x="58" y="451"/>
                  </a:lnTo>
                  <a:lnTo>
                    <a:pt x="48" y="445"/>
                  </a:lnTo>
                  <a:lnTo>
                    <a:pt x="44" y="442"/>
                  </a:lnTo>
                  <a:lnTo>
                    <a:pt x="40" y="440"/>
                  </a:lnTo>
                  <a:lnTo>
                    <a:pt x="36" y="438"/>
                  </a:lnTo>
                  <a:lnTo>
                    <a:pt x="32" y="437"/>
                  </a:lnTo>
                  <a:lnTo>
                    <a:pt x="29" y="435"/>
                  </a:lnTo>
                  <a:lnTo>
                    <a:pt x="26" y="434"/>
                  </a:lnTo>
                  <a:lnTo>
                    <a:pt x="22" y="433"/>
                  </a:lnTo>
                  <a:lnTo>
                    <a:pt x="20" y="432"/>
                  </a:lnTo>
                  <a:lnTo>
                    <a:pt x="17" y="430"/>
                  </a:lnTo>
                  <a:lnTo>
                    <a:pt x="14" y="430"/>
                  </a:lnTo>
                  <a:lnTo>
                    <a:pt x="12" y="428"/>
                  </a:lnTo>
                  <a:lnTo>
                    <a:pt x="10" y="428"/>
                  </a:lnTo>
                  <a:lnTo>
                    <a:pt x="8" y="426"/>
                  </a:lnTo>
                  <a:lnTo>
                    <a:pt x="6" y="425"/>
                  </a:lnTo>
                  <a:lnTo>
                    <a:pt x="5" y="424"/>
                  </a:lnTo>
                  <a:lnTo>
                    <a:pt x="4" y="422"/>
                  </a:lnTo>
                  <a:lnTo>
                    <a:pt x="2" y="421"/>
                  </a:lnTo>
                  <a:lnTo>
                    <a:pt x="2" y="419"/>
                  </a:lnTo>
                  <a:lnTo>
                    <a:pt x="1" y="417"/>
                  </a:lnTo>
                  <a:lnTo>
                    <a:pt x="0" y="415"/>
                  </a:lnTo>
                  <a:lnTo>
                    <a:pt x="0" y="412"/>
                  </a:lnTo>
                  <a:lnTo>
                    <a:pt x="0" y="409"/>
                  </a:lnTo>
                  <a:lnTo>
                    <a:pt x="0" y="406"/>
                  </a:lnTo>
                  <a:lnTo>
                    <a:pt x="0" y="402"/>
                  </a:lnTo>
                  <a:lnTo>
                    <a:pt x="0" y="398"/>
                  </a:lnTo>
                  <a:lnTo>
                    <a:pt x="1" y="394"/>
                  </a:lnTo>
                  <a:lnTo>
                    <a:pt x="2" y="389"/>
                  </a:lnTo>
                  <a:lnTo>
                    <a:pt x="2" y="384"/>
                  </a:lnTo>
                  <a:lnTo>
                    <a:pt x="4" y="378"/>
                  </a:lnTo>
                  <a:lnTo>
                    <a:pt x="5" y="372"/>
                  </a:lnTo>
                  <a:lnTo>
                    <a:pt x="9" y="356"/>
                  </a:lnTo>
                  <a:lnTo>
                    <a:pt x="12" y="350"/>
                  </a:lnTo>
                  <a:lnTo>
                    <a:pt x="16" y="344"/>
                  </a:lnTo>
                  <a:lnTo>
                    <a:pt x="20" y="338"/>
                  </a:lnTo>
                  <a:lnTo>
                    <a:pt x="24" y="332"/>
                  </a:lnTo>
                  <a:lnTo>
                    <a:pt x="29" y="327"/>
                  </a:lnTo>
                  <a:lnTo>
                    <a:pt x="34" y="322"/>
                  </a:lnTo>
                  <a:lnTo>
                    <a:pt x="39" y="318"/>
                  </a:lnTo>
                  <a:lnTo>
                    <a:pt x="45" y="314"/>
                  </a:lnTo>
                  <a:lnTo>
                    <a:pt x="51" y="309"/>
                  </a:lnTo>
                  <a:lnTo>
                    <a:pt x="57" y="306"/>
                  </a:lnTo>
                  <a:lnTo>
                    <a:pt x="63" y="302"/>
                  </a:lnTo>
                  <a:lnTo>
                    <a:pt x="69" y="298"/>
                  </a:lnTo>
                  <a:lnTo>
                    <a:pt x="75" y="294"/>
                  </a:lnTo>
                  <a:lnTo>
                    <a:pt x="82" y="291"/>
                  </a:lnTo>
                  <a:lnTo>
                    <a:pt x="88" y="288"/>
                  </a:lnTo>
                  <a:lnTo>
                    <a:pt x="94" y="284"/>
                  </a:lnTo>
                  <a:lnTo>
                    <a:pt x="100" y="280"/>
                  </a:lnTo>
                  <a:lnTo>
                    <a:pt x="106" y="277"/>
                  </a:lnTo>
                  <a:lnTo>
                    <a:pt x="112" y="273"/>
                  </a:lnTo>
                  <a:lnTo>
                    <a:pt x="117" y="269"/>
                  </a:lnTo>
                  <a:lnTo>
                    <a:pt x="122" y="265"/>
                  </a:lnTo>
                  <a:lnTo>
                    <a:pt x="127" y="260"/>
                  </a:lnTo>
                  <a:lnTo>
                    <a:pt x="132" y="256"/>
                  </a:lnTo>
                  <a:lnTo>
                    <a:pt x="136" y="251"/>
                  </a:lnTo>
                  <a:lnTo>
                    <a:pt x="140" y="245"/>
                  </a:lnTo>
                  <a:lnTo>
                    <a:pt x="143" y="240"/>
                  </a:lnTo>
                  <a:lnTo>
                    <a:pt x="146" y="234"/>
                  </a:lnTo>
                  <a:lnTo>
                    <a:pt x="148" y="227"/>
                  </a:lnTo>
                  <a:lnTo>
                    <a:pt x="149" y="220"/>
                  </a:lnTo>
                  <a:lnTo>
                    <a:pt x="150" y="213"/>
                  </a:lnTo>
                  <a:lnTo>
                    <a:pt x="147" y="214"/>
                  </a:lnTo>
                  <a:lnTo>
                    <a:pt x="145" y="215"/>
                  </a:lnTo>
                  <a:lnTo>
                    <a:pt x="144" y="216"/>
                  </a:lnTo>
                  <a:lnTo>
                    <a:pt x="142" y="217"/>
                  </a:lnTo>
                  <a:lnTo>
                    <a:pt x="140" y="218"/>
                  </a:lnTo>
                  <a:lnTo>
                    <a:pt x="139" y="218"/>
                  </a:lnTo>
                  <a:lnTo>
                    <a:pt x="137" y="220"/>
                  </a:lnTo>
                  <a:lnTo>
                    <a:pt x="135" y="220"/>
                  </a:lnTo>
                  <a:lnTo>
                    <a:pt x="134" y="221"/>
                  </a:lnTo>
                  <a:lnTo>
                    <a:pt x="132" y="222"/>
                  </a:lnTo>
                  <a:lnTo>
                    <a:pt x="130" y="223"/>
                  </a:lnTo>
                  <a:lnTo>
                    <a:pt x="129" y="224"/>
                  </a:lnTo>
                  <a:lnTo>
                    <a:pt x="127" y="224"/>
                  </a:lnTo>
                  <a:lnTo>
                    <a:pt x="126" y="225"/>
                  </a:lnTo>
                  <a:lnTo>
                    <a:pt x="124" y="226"/>
                  </a:lnTo>
                  <a:lnTo>
                    <a:pt x="122" y="227"/>
                  </a:lnTo>
                  <a:lnTo>
                    <a:pt x="120" y="228"/>
                  </a:lnTo>
                  <a:lnTo>
                    <a:pt x="119" y="228"/>
                  </a:lnTo>
                  <a:lnTo>
                    <a:pt x="117" y="229"/>
                  </a:lnTo>
                  <a:lnTo>
                    <a:pt x="116" y="230"/>
                  </a:lnTo>
                  <a:lnTo>
                    <a:pt x="114" y="231"/>
                  </a:lnTo>
                  <a:lnTo>
                    <a:pt x="112" y="232"/>
                  </a:lnTo>
                  <a:lnTo>
                    <a:pt x="111" y="233"/>
                  </a:lnTo>
                  <a:lnTo>
                    <a:pt x="109" y="233"/>
                  </a:lnTo>
                  <a:lnTo>
                    <a:pt x="107" y="234"/>
                  </a:lnTo>
                  <a:lnTo>
                    <a:pt x="106" y="235"/>
                  </a:lnTo>
                  <a:lnTo>
                    <a:pt x="104" y="236"/>
                  </a:lnTo>
                  <a:lnTo>
                    <a:pt x="102" y="236"/>
                  </a:lnTo>
                  <a:lnTo>
                    <a:pt x="101" y="237"/>
                  </a:lnTo>
                  <a:lnTo>
                    <a:pt x="99" y="238"/>
                  </a:lnTo>
                  <a:lnTo>
                    <a:pt x="98" y="239"/>
                  </a:lnTo>
                </a:path>
              </a:pathLst>
            </a:custGeom>
            <a:solidFill>
              <a:srgbClr val="ffccff"/>
            </a:solidFill>
            <a:ln w="0">
              <a:solidFill>
                <a:srgbClr val="341a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52" name=""/>
            <p:cNvGrpSpPr/>
            <p:nvPr/>
          </p:nvGrpSpPr>
          <p:grpSpPr>
            <a:xfrm>
              <a:off x="4911840" y="4799520"/>
              <a:ext cx="1120320" cy="474840"/>
              <a:chOff x="4911840" y="4799520"/>
              <a:chExt cx="1120320" cy="474840"/>
            </a:xfrm>
          </p:grpSpPr>
          <p:grpSp>
            <p:nvGrpSpPr>
              <p:cNvPr id="653" name=""/>
              <p:cNvGrpSpPr/>
              <p:nvPr/>
            </p:nvGrpSpPr>
            <p:grpSpPr>
              <a:xfrm>
                <a:off x="5339520" y="4805280"/>
                <a:ext cx="692640" cy="469080"/>
                <a:chOff x="5339520" y="4805280"/>
                <a:chExt cx="692640" cy="469080"/>
              </a:xfrm>
            </p:grpSpPr>
            <p:sp>
              <p:nvSpPr>
                <p:cNvPr id="654" name=""/>
                <p:cNvSpPr/>
                <p:nvPr/>
              </p:nvSpPr>
              <p:spPr>
                <a:xfrm flipV="1">
                  <a:off x="5365800" y="4825080"/>
                  <a:ext cx="542160" cy="3967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solidFill>
                    <a:srgbClr val="ff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5339520" y="4805280"/>
                  <a:ext cx="692640" cy="46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85000"/>
                    </a:lnSpc>
                    <a:spcBef>
                      <a:spcPts val="10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900" spc="-1" strike="noStrike">
                      <a:solidFill>
                        <a:srgbClr val="ffff80"/>
                      </a:solidFill>
                      <a:latin typeface="Arial"/>
                    </a:rPr>
                    <a:t>IIIa</a:t>
                  </a:r>
                  <a:endParaRPr b="0" lang="en-US" sz="2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6" name=""/>
              <p:cNvGrpSpPr/>
              <p:nvPr/>
            </p:nvGrpSpPr>
            <p:grpSpPr>
              <a:xfrm>
                <a:off x="4911840" y="4799520"/>
                <a:ext cx="534240" cy="417600"/>
                <a:chOff x="4911840" y="4799520"/>
                <a:chExt cx="534240" cy="417600"/>
              </a:xfrm>
            </p:grpSpPr>
            <p:sp>
              <p:nvSpPr>
                <p:cNvPr id="657" name=""/>
                <p:cNvSpPr/>
                <p:nvPr/>
              </p:nvSpPr>
              <p:spPr>
                <a:xfrm flipV="1">
                  <a:off x="4963320" y="4814280"/>
                  <a:ext cx="374040" cy="3981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solidFill>
                    <a:srgbClr val="ff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4911840" y="4799520"/>
                  <a:ext cx="534240" cy="41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85000"/>
                    </a:lnSpc>
                    <a:spcBef>
                      <a:spcPts val="93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ffff80"/>
                      </a:solidFill>
                      <a:latin typeface="Arial"/>
                    </a:rPr>
                    <a:t>IIb</a:t>
                  </a:r>
                  <a:endParaRPr b="0" lang="en-US" sz="2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59" name=""/>
          <p:cNvGrpSpPr/>
          <p:nvPr/>
        </p:nvGrpSpPr>
        <p:grpSpPr>
          <a:xfrm>
            <a:off x="4572000" y="2362320"/>
            <a:ext cx="3052800" cy="1529280"/>
            <a:chOff x="4572000" y="2362320"/>
            <a:chExt cx="3052800" cy="1529280"/>
          </a:xfrm>
        </p:grpSpPr>
        <p:sp>
          <p:nvSpPr>
            <p:cNvPr id="660" name=""/>
            <p:cNvSpPr/>
            <p:nvPr/>
          </p:nvSpPr>
          <p:spPr>
            <a:xfrm>
              <a:off x="4572000" y="2362320"/>
              <a:ext cx="3052800" cy="1387080"/>
            </a:xfrm>
            <a:custGeom>
              <a:avLst/>
              <a:gdLst/>
              <a:ahLst/>
              <a:rect l="l" t="t" r="r" b="b"/>
              <a:pathLst>
                <a:path w="2164" h="874">
                  <a:moveTo>
                    <a:pt x="98" y="239"/>
                  </a:moveTo>
                  <a:lnTo>
                    <a:pt x="117" y="221"/>
                  </a:lnTo>
                  <a:lnTo>
                    <a:pt x="127" y="214"/>
                  </a:lnTo>
                  <a:lnTo>
                    <a:pt x="138" y="208"/>
                  </a:lnTo>
                  <a:lnTo>
                    <a:pt x="149" y="203"/>
                  </a:lnTo>
                  <a:lnTo>
                    <a:pt x="161" y="199"/>
                  </a:lnTo>
                  <a:lnTo>
                    <a:pt x="172" y="195"/>
                  </a:lnTo>
                  <a:lnTo>
                    <a:pt x="184" y="193"/>
                  </a:lnTo>
                  <a:lnTo>
                    <a:pt x="196" y="191"/>
                  </a:lnTo>
                  <a:lnTo>
                    <a:pt x="208" y="189"/>
                  </a:lnTo>
                  <a:lnTo>
                    <a:pt x="221" y="188"/>
                  </a:lnTo>
                  <a:lnTo>
                    <a:pt x="233" y="187"/>
                  </a:lnTo>
                  <a:lnTo>
                    <a:pt x="246" y="187"/>
                  </a:lnTo>
                  <a:lnTo>
                    <a:pt x="258" y="186"/>
                  </a:lnTo>
                  <a:lnTo>
                    <a:pt x="271" y="186"/>
                  </a:lnTo>
                  <a:lnTo>
                    <a:pt x="284" y="186"/>
                  </a:lnTo>
                  <a:lnTo>
                    <a:pt x="296" y="186"/>
                  </a:lnTo>
                  <a:lnTo>
                    <a:pt x="309" y="186"/>
                  </a:lnTo>
                  <a:lnTo>
                    <a:pt x="322" y="186"/>
                  </a:lnTo>
                  <a:lnTo>
                    <a:pt x="334" y="185"/>
                  </a:lnTo>
                  <a:lnTo>
                    <a:pt x="347" y="185"/>
                  </a:lnTo>
                  <a:lnTo>
                    <a:pt x="359" y="183"/>
                  </a:lnTo>
                  <a:lnTo>
                    <a:pt x="371" y="181"/>
                  </a:lnTo>
                  <a:lnTo>
                    <a:pt x="383" y="179"/>
                  </a:lnTo>
                  <a:lnTo>
                    <a:pt x="395" y="177"/>
                  </a:lnTo>
                  <a:lnTo>
                    <a:pt x="406" y="173"/>
                  </a:lnTo>
                  <a:lnTo>
                    <a:pt x="417" y="169"/>
                  </a:lnTo>
                  <a:lnTo>
                    <a:pt x="428" y="163"/>
                  </a:lnTo>
                  <a:lnTo>
                    <a:pt x="439" y="157"/>
                  </a:lnTo>
                  <a:lnTo>
                    <a:pt x="449" y="150"/>
                  </a:lnTo>
                  <a:lnTo>
                    <a:pt x="459" y="142"/>
                  </a:lnTo>
                  <a:lnTo>
                    <a:pt x="468" y="133"/>
                  </a:lnTo>
                  <a:lnTo>
                    <a:pt x="479" y="121"/>
                  </a:lnTo>
                  <a:lnTo>
                    <a:pt x="483" y="115"/>
                  </a:lnTo>
                  <a:lnTo>
                    <a:pt x="488" y="108"/>
                  </a:lnTo>
                  <a:lnTo>
                    <a:pt x="493" y="102"/>
                  </a:lnTo>
                  <a:lnTo>
                    <a:pt x="497" y="96"/>
                  </a:lnTo>
                  <a:lnTo>
                    <a:pt x="501" y="90"/>
                  </a:lnTo>
                  <a:lnTo>
                    <a:pt x="505" y="84"/>
                  </a:lnTo>
                  <a:lnTo>
                    <a:pt x="509" y="79"/>
                  </a:lnTo>
                  <a:lnTo>
                    <a:pt x="513" y="73"/>
                  </a:lnTo>
                  <a:lnTo>
                    <a:pt x="517" y="67"/>
                  </a:lnTo>
                  <a:lnTo>
                    <a:pt x="520" y="62"/>
                  </a:lnTo>
                  <a:lnTo>
                    <a:pt x="524" y="56"/>
                  </a:lnTo>
                  <a:lnTo>
                    <a:pt x="528" y="51"/>
                  </a:lnTo>
                  <a:lnTo>
                    <a:pt x="532" y="46"/>
                  </a:lnTo>
                  <a:lnTo>
                    <a:pt x="536" y="41"/>
                  </a:lnTo>
                  <a:lnTo>
                    <a:pt x="540" y="37"/>
                  </a:lnTo>
                  <a:lnTo>
                    <a:pt x="545" y="32"/>
                  </a:lnTo>
                  <a:lnTo>
                    <a:pt x="549" y="28"/>
                  </a:lnTo>
                  <a:lnTo>
                    <a:pt x="554" y="24"/>
                  </a:lnTo>
                  <a:lnTo>
                    <a:pt x="559" y="20"/>
                  </a:lnTo>
                  <a:lnTo>
                    <a:pt x="565" y="17"/>
                  </a:lnTo>
                  <a:lnTo>
                    <a:pt x="570" y="13"/>
                  </a:lnTo>
                  <a:lnTo>
                    <a:pt x="576" y="11"/>
                  </a:lnTo>
                  <a:lnTo>
                    <a:pt x="583" y="8"/>
                  </a:lnTo>
                  <a:lnTo>
                    <a:pt x="589" y="6"/>
                  </a:lnTo>
                  <a:lnTo>
                    <a:pt x="596" y="4"/>
                  </a:lnTo>
                  <a:lnTo>
                    <a:pt x="604" y="3"/>
                  </a:lnTo>
                  <a:lnTo>
                    <a:pt x="612" y="2"/>
                  </a:lnTo>
                  <a:lnTo>
                    <a:pt x="621" y="1"/>
                  </a:lnTo>
                  <a:lnTo>
                    <a:pt x="630" y="1"/>
                  </a:lnTo>
                  <a:lnTo>
                    <a:pt x="640" y="1"/>
                  </a:lnTo>
                  <a:lnTo>
                    <a:pt x="671" y="3"/>
                  </a:lnTo>
                  <a:lnTo>
                    <a:pt x="687" y="5"/>
                  </a:lnTo>
                  <a:lnTo>
                    <a:pt x="702" y="7"/>
                  </a:lnTo>
                  <a:lnTo>
                    <a:pt x="717" y="9"/>
                  </a:lnTo>
                  <a:lnTo>
                    <a:pt x="733" y="12"/>
                  </a:lnTo>
                  <a:lnTo>
                    <a:pt x="747" y="15"/>
                  </a:lnTo>
                  <a:lnTo>
                    <a:pt x="762" y="19"/>
                  </a:lnTo>
                  <a:lnTo>
                    <a:pt x="777" y="23"/>
                  </a:lnTo>
                  <a:lnTo>
                    <a:pt x="791" y="27"/>
                  </a:lnTo>
                  <a:lnTo>
                    <a:pt x="806" y="31"/>
                  </a:lnTo>
                  <a:lnTo>
                    <a:pt x="820" y="35"/>
                  </a:lnTo>
                  <a:lnTo>
                    <a:pt x="835" y="40"/>
                  </a:lnTo>
                  <a:lnTo>
                    <a:pt x="849" y="44"/>
                  </a:lnTo>
                  <a:lnTo>
                    <a:pt x="863" y="49"/>
                  </a:lnTo>
                  <a:lnTo>
                    <a:pt x="878" y="53"/>
                  </a:lnTo>
                  <a:lnTo>
                    <a:pt x="892" y="58"/>
                  </a:lnTo>
                  <a:lnTo>
                    <a:pt x="907" y="62"/>
                  </a:lnTo>
                  <a:lnTo>
                    <a:pt x="921" y="66"/>
                  </a:lnTo>
                  <a:lnTo>
                    <a:pt x="936" y="71"/>
                  </a:lnTo>
                  <a:lnTo>
                    <a:pt x="951" y="74"/>
                  </a:lnTo>
                  <a:lnTo>
                    <a:pt x="966" y="78"/>
                  </a:lnTo>
                  <a:lnTo>
                    <a:pt x="981" y="81"/>
                  </a:lnTo>
                  <a:lnTo>
                    <a:pt x="997" y="84"/>
                  </a:lnTo>
                  <a:lnTo>
                    <a:pt x="1012" y="87"/>
                  </a:lnTo>
                  <a:lnTo>
                    <a:pt x="1028" y="89"/>
                  </a:lnTo>
                  <a:lnTo>
                    <a:pt x="1044" y="91"/>
                  </a:lnTo>
                  <a:lnTo>
                    <a:pt x="1061" y="93"/>
                  </a:lnTo>
                  <a:lnTo>
                    <a:pt x="1077" y="94"/>
                  </a:lnTo>
                  <a:lnTo>
                    <a:pt x="1094" y="94"/>
                  </a:lnTo>
                  <a:lnTo>
                    <a:pt x="1111" y="94"/>
                  </a:lnTo>
                  <a:lnTo>
                    <a:pt x="1129" y="93"/>
                  </a:lnTo>
                  <a:lnTo>
                    <a:pt x="1152" y="91"/>
                  </a:lnTo>
                  <a:lnTo>
                    <a:pt x="1164" y="89"/>
                  </a:lnTo>
                  <a:lnTo>
                    <a:pt x="1176" y="87"/>
                  </a:lnTo>
                  <a:lnTo>
                    <a:pt x="1188" y="84"/>
                  </a:lnTo>
                  <a:lnTo>
                    <a:pt x="1200" y="81"/>
                  </a:lnTo>
                  <a:lnTo>
                    <a:pt x="1212" y="77"/>
                  </a:lnTo>
                  <a:lnTo>
                    <a:pt x="1224" y="74"/>
                  </a:lnTo>
                  <a:lnTo>
                    <a:pt x="1236" y="70"/>
                  </a:lnTo>
                  <a:lnTo>
                    <a:pt x="1249" y="66"/>
                  </a:lnTo>
                  <a:lnTo>
                    <a:pt x="1261" y="62"/>
                  </a:lnTo>
                  <a:lnTo>
                    <a:pt x="1273" y="57"/>
                  </a:lnTo>
                  <a:lnTo>
                    <a:pt x="1285" y="53"/>
                  </a:lnTo>
                  <a:lnTo>
                    <a:pt x="1298" y="49"/>
                  </a:lnTo>
                  <a:lnTo>
                    <a:pt x="1310" y="44"/>
                  </a:lnTo>
                  <a:lnTo>
                    <a:pt x="1323" y="39"/>
                  </a:lnTo>
                  <a:lnTo>
                    <a:pt x="1335" y="35"/>
                  </a:lnTo>
                  <a:lnTo>
                    <a:pt x="1347" y="31"/>
                  </a:lnTo>
                  <a:lnTo>
                    <a:pt x="1360" y="27"/>
                  </a:lnTo>
                  <a:lnTo>
                    <a:pt x="1372" y="23"/>
                  </a:lnTo>
                  <a:lnTo>
                    <a:pt x="1384" y="19"/>
                  </a:lnTo>
                  <a:lnTo>
                    <a:pt x="1397" y="15"/>
                  </a:lnTo>
                  <a:lnTo>
                    <a:pt x="1409" y="12"/>
                  </a:lnTo>
                  <a:lnTo>
                    <a:pt x="1421" y="9"/>
                  </a:lnTo>
                  <a:lnTo>
                    <a:pt x="1433" y="6"/>
                  </a:lnTo>
                  <a:lnTo>
                    <a:pt x="1444" y="4"/>
                  </a:lnTo>
                  <a:lnTo>
                    <a:pt x="1456" y="2"/>
                  </a:lnTo>
                  <a:lnTo>
                    <a:pt x="1467" y="1"/>
                  </a:lnTo>
                  <a:lnTo>
                    <a:pt x="1479" y="0"/>
                  </a:lnTo>
                  <a:lnTo>
                    <a:pt x="1490" y="0"/>
                  </a:lnTo>
                  <a:lnTo>
                    <a:pt x="1501" y="0"/>
                  </a:lnTo>
                  <a:lnTo>
                    <a:pt x="1513" y="1"/>
                  </a:lnTo>
                  <a:lnTo>
                    <a:pt x="1537" y="5"/>
                  </a:lnTo>
                  <a:lnTo>
                    <a:pt x="1547" y="8"/>
                  </a:lnTo>
                  <a:lnTo>
                    <a:pt x="1557" y="12"/>
                  </a:lnTo>
                  <a:lnTo>
                    <a:pt x="1565" y="16"/>
                  </a:lnTo>
                  <a:lnTo>
                    <a:pt x="1573" y="21"/>
                  </a:lnTo>
                  <a:lnTo>
                    <a:pt x="1580" y="26"/>
                  </a:lnTo>
                  <a:lnTo>
                    <a:pt x="1587" y="32"/>
                  </a:lnTo>
                  <a:lnTo>
                    <a:pt x="1593" y="38"/>
                  </a:lnTo>
                  <a:lnTo>
                    <a:pt x="1598" y="44"/>
                  </a:lnTo>
                  <a:lnTo>
                    <a:pt x="1603" y="51"/>
                  </a:lnTo>
                  <a:lnTo>
                    <a:pt x="1608" y="58"/>
                  </a:lnTo>
                  <a:lnTo>
                    <a:pt x="1612" y="65"/>
                  </a:lnTo>
                  <a:lnTo>
                    <a:pt x="1616" y="72"/>
                  </a:lnTo>
                  <a:lnTo>
                    <a:pt x="1620" y="79"/>
                  </a:lnTo>
                  <a:lnTo>
                    <a:pt x="1624" y="86"/>
                  </a:lnTo>
                  <a:lnTo>
                    <a:pt x="1628" y="93"/>
                  </a:lnTo>
                  <a:lnTo>
                    <a:pt x="1632" y="100"/>
                  </a:lnTo>
                  <a:lnTo>
                    <a:pt x="1636" y="107"/>
                  </a:lnTo>
                  <a:lnTo>
                    <a:pt x="1641" y="113"/>
                  </a:lnTo>
                  <a:lnTo>
                    <a:pt x="1645" y="120"/>
                  </a:lnTo>
                  <a:lnTo>
                    <a:pt x="1650" y="126"/>
                  </a:lnTo>
                  <a:lnTo>
                    <a:pt x="1656" y="131"/>
                  </a:lnTo>
                  <a:lnTo>
                    <a:pt x="1662" y="137"/>
                  </a:lnTo>
                  <a:lnTo>
                    <a:pt x="1668" y="142"/>
                  </a:lnTo>
                  <a:lnTo>
                    <a:pt x="1675" y="146"/>
                  </a:lnTo>
                  <a:lnTo>
                    <a:pt x="1683" y="150"/>
                  </a:lnTo>
                  <a:lnTo>
                    <a:pt x="1692" y="153"/>
                  </a:lnTo>
                  <a:lnTo>
                    <a:pt x="1702" y="156"/>
                  </a:lnTo>
                  <a:lnTo>
                    <a:pt x="1713" y="158"/>
                  </a:lnTo>
                  <a:lnTo>
                    <a:pt x="1724" y="159"/>
                  </a:lnTo>
                  <a:lnTo>
                    <a:pt x="1737" y="159"/>
                  </a:lnTo>
                  <a:lnTo>
                    <a:pt x="1754" y="159"/>
                  </a:lnTo>
                  <a:lnTo>
                    <a:pt x="1762" y="160"/>
                  </a:lnTo>
                  <a:lnTo>
                    <a:pt x="1770" y="160"/>
                  </a:lnTo>
                  <a:lnTo>
                    <a:pt x="1778" y="161"/>
                  </a:lnTo>
                  <a:lnTo>
                    <a:pt x="1785" y="162"/>
                  </a:lnTo>
                  <a:lnTo>
                    <a:pt x="1793" y="163"/>
                  </a:lnTo>
                  <a:lnTo>
                    <a:pt x="1801" y="165"/>
                  </a:lnTo>
                  <a:lnTo>
                    <a:pt x="1808" y="166"/>
                  </a:lnTo>
                  <a:lnTo>
                    <a:pt x="1815" y="168"/>
                  </a:lnTo>
                  <a:lnTo>
                    <a:pt x="1822" y="170"/>
                  </a:lnTo>
                  <a:lnTo>
                    <a:pt x="1829" y="172"/>
                  </a:lnTo>
                  <a:lnTo>
                    <a:pt x="1836" y="175"/>
                  </a:lnTo>
                  <a:lnTo>
                    <a:pt x="1843" y="177"/>
                  </a:lnTo>
                  <a:lnTo>
                    <a:pt x="1850" y="180"/>
                  </a:lnTo>
                  <a:lnTo>
                    <a:pt x="1856" y="183"/>
                  </a:lnTo>
                  <a:lnTo>
                    <a:pt x="1863" y="187"/>
                  </a:lnTo>
                  <a:lnTo>
                    <a:pt x="1869" y="190"/>
                  </a:lnTo>
                  <a:lnTo>
                    <a:pt x="1875" y="194"/>
                  </a:lnTo>
                  <a:lnTo>
                    <a:pt x="1881" y="198"/>
                  </a:lnTo>
                  <a:lnTo>
                    <a:pt x="1888" y="202"/>
                  </a:lnTo>
                  <a:lnTo>
                    <a:pt x="1894" y="207"/>
                  </a:lnTo>
                  <a:lnTo>
                    <a:pt x="1899" y="211"/>
                  </a:lnTo>
                  <a:lnTo>
                    <a:pt x="1905" y="216"/>
                  </a:lnTo>
                  <a:lnTo>
                    <a:pt x="1911" y="221"/>
                  </a:lnTo>
                  <a:lnTo>
                    <a:pt x="1917" y="227"/>
                  </a:lnTo>
                  <a:lnTo>
                    <a:pt x="1922" y="233"/>
                  </a:lnTo>
                  <a:lnTo>
                    <a:pt x="1928" y="239"/>
                  </a:lnTo>
                  <a:lnTo>
                    <a:pt x="1933" y="245"/>
                  </a:lnTo>
                  <a:lnTo>
                    <a:pt x="1939" y="251"/>
                  </a:lnTo>
                  <a:lnTo>
                    <a:pt x="1944" y="258"/>
                  </a:lnTo>
                  <a:lnTo>
                    <a:pt x="1949" y="265"/>
                  </a:lnTo>
                  <a:lnTo>
                    <a:pt x="1962" y="285"/>
                  </a:lnTo>
                  <a:lnTo>
                    <a:pt x="1968" y="295"/>
                  </a:lnTo>
                  <a:lnTo>
                    <a:pt x="1973" y="305"/>
                  </a:lnTo>
                  <a:lnTo>
                    <a:pt x="1977" y="316"/>
                  </a:lnTo>
                  <a:lnTo>
                    <a:pt x="1981" y="326"/>
                  </a:lnTo>
                  <a:lnTo>
                    <a:pt x="1984" y="336"/>
                  </a:lnTo>
                  <a:lnTo>
                    <a:pt x="1987" y="346"/>
                  </a:lnTo>
                  <a:lnTo>
                    <a:pt x="1989" y="357"/>
                  </a:lnTo>
                  <a:lnTo>
                    <a:pt x="1992" y="367"/>
                  </a:lnTo>
                  <a:lnTo>
                    <a:pt x="1994" y="377"/>
                  </a:lnTo>
                  <a:lnTo>
                    <a:pt x="1995" y="387"/>
                  </a:lnTo>
                  <a:lnTo>
                    <a:pt x="1997" y="397"/>
                  </a:lnTo>
                  <a:lnTo>
                    <a:pt x="1999" y="407"/>
                  </a:lnTo>
                  <a:lnTo>
                    <a:pt x="2001" y="417"/>
                  </a:lnTo>
                  <a:lnTo>
                    <a:pt x="2002" y="426"/>
                  </a:lnTo>
                  <a:lnTo>
                    <a:pt x="2004" y="436"/>
                  </a:lnTo>
                  <a:lnTo>
                    <a:pt x="2006" y="445"/>
                  </a:lnTo>
                  <a:lnTo>
                    <a:pt x="2008" y="455"/>
                  </a:lnTo>
                  <a:lnTo>
                    <a:pt x="2010" y="465"/>
                  </a:lnTo>
                  <a:lnTo>
                    <a:pt x="2013" y="474"/>
                  </a:lnTo>
                  <a:lnTo>
                    <a:pt x="2016" y="483"/>
                  </a:lnTo>
                  <a:lnTo>
                    <a:pt x="2020" y="492"/>
                  </a:lnTo>
                  <a:lnTo>
                    <a:pt x="2024" y="501"/>
                  </a:lnTo>
                  <a:lnTo>
                    <a:pt x="2029" y="510"/>
                  </a:lnTo>
                  <a:lnTo>
                    <a:pt x="2034" y="519"/>
                  </a:lnTo>
                  <a:lnTo>
                    <a:pt x="2039" y="528"/>
                  </a:lnTo>
                  <a:lnTo>
                    <a:pt x="2046" y="536"/>
                  </a:lnTo>
                  <a:lnTo>
                    <a:pt x="2054" y="545"/>
                  </a:lnTo>
                  <a:lnTo>
                    <a:pt x="2062" y="553"/>
                  </a:lnTo>
                  <a:lnTo>
                    <a:pt x="2071" y="561"/>
                  </a:lnTo>
                  <a:lnTo>
                    <a:pt x="2081" y="569"/>
                  </a:lnTo>
                  <a:lnTo>
                    <a:pt x="2091" y="576"/>
                  </a:lnTo>
                  <a:lnTo>
                    <a:pt x="2095" y="579"/>
                  </a:lnTo>
                  <a:lnTo>
                    <a:pt x="2100" y="583"/>
                  </a:lnTo>
                  <a:lnTo>
                    <a:pt x="2105" y="587"/>
                  </a:lnTo>
                  <a:lnTo>
                    <a:pt x="2109" y="590"/>
                  </a:lnTo>
                  <a:lnTo>
                    <a:pt x="2113" y="594"/>
                  </a:lnTo>
                  <a:lnTo>
                    <a:pt x="2117" y="597"/>
                  </a:lnTo>
                  <a:lnTo>
                    <a:pt x="2121" y="601"/>
                  </a:lnTo>
                  <a:lnTo>
                    <a:pt x="2125" y="605"/>
                  </a:lnTo>
                  <a:lnTo>
                    <a:pt x="2129" y="609"/>
                  </a:lnTo>
                  <a:lnTo>
                    <a:pt x="2133" y="613"/>
                  </a:lnTo>
                  <a:lnTo>
                    <a:pt x="2136" y="617"/>
                  </a:lnTo>
                  <a:lnTo>
                    <a:pt x="2140" y="621"/>
                  </a:lnTo>
                  <a:lnTo>
                    <a:pt x="2143" y="625"/>
                  </a:lnTo>
                  <a:lnTo>
                    <a:pt x="2146" y="629"/>
                  </a:lnTo>
                  <a:lnTo>
                    <a:pt x="2149" y="633"/>
                  </a:lnTo>
                  <a:lnTo>
                    <a:pt x="2151" y="637"/>
                  </a:lnTo>
                  <a:lnTo>
                    <a:pt x="2153" y="642"/>
                  </a:lnTo>
                  <a:lnTo>
                    <a:pt x="2155" y="647"/>
                  </a:lnTo>
                  <a:lnTo>
                    <a:pt x="2157" y="651"/>
                  </a:lnTo>
                  <a:lnTo>
                    <a:pt x="2159" y="656"/>
                  </a:lnTo>
                  <a:lnTo>
                    <a:pt x="2160" y="661"/>
                  </a:lnTo>
                  <a:lnTo>
                    <a:pt x="2161" y="667"/>
                  </a:lnTo>
                  <a:lnTo>
                    <a:pt x="2163" y="672"/>
                  </a:lnTo>
                  <a:lnTo>
                    <a:pt x="2163" y="677"/>
                  </a:lnTo>
                  <a:lnTo>
                    <a:pt x="2163" y="683"/>
                  </a:lnTo>
                  <a:lnTo>
                    <a:pt x="2163" y="689"/>
                  </a:lnTo>
                  <a:lnTo>
                    <a:pt x="2163" y="695"/>
                  </a:lnTo>
                  <a:lnTo>
                    <a:pt x="2163" y="701"/>
                  </a:lnTo>
                  <a:lnTo>
                    <a:pt x="2162" y="707"/>
                  </a:lnTo>
                  <a:lnTo>
                    <a:pt x="2161" y="714"/>
                  </a:lnTo>
                  <a:lnTo>
                    <a:pt x="2142" y="745"/>
                  </a:lnTo>
                  <a:lnTo>
                    <a:pt x="2132" y="756"/>
                  </a:lnTo>
                  <a:lnTo>
                    <a:pt x="2121" y="766"/>
                  </a:lnTo>
                  <a:lnTo>
                    <a:pt x="2110" y="773"/>
                  </a:lnTo>
                  <a:lnTo>
                    <a:pt x="2099" y="779"/>
                  </a:lnTo>
                  <a:lnTo>
                    <a:pt x="2087" y="783"/>
                  </a:lnTo>
                  <a:lnTo>
                    <a:pt x="2075" y="785"/>
                  </a:lnTo>
                  <a:lnTo>
                    <a:pt x="2062" y="786"/>
                  </a:lnTo>
                  <a:lnTo>
                    <a:pt x="2050" y="785"/>
                  </a:lnTo>
                  <a:lnTo>
                    <a:pt x="2037" y="784"/>
                  </a:lnTo>
                  <a:lnTo>
                    <a:pt x="2023" y="781"/>
                  </a:lnTo>
                  <a:lnTo>
                    <a:pt x="2010" y="777"/>
                  </a:lnTo>
                  <a:lnTo>
                    <a:pt x="1996" y="773"/>
                  </a:lnTo>
                  <a:lnTo>
                    <a:pt x="1982" y="767"/>
                  </a:lnTo>
                  <a:lnTo>
                    <a:pt x="1969" y="762"/>
                  </a:lnTo>
                  <a:lnTo>
                    <a:pt x="1954" y="756"/>
                  </a:lnTo>
                  <a:lnTo>
                    <a:pt x="1940" y="749"/>
                  </a:lnTo>
                  <a:lnTo>
                    <a:pt x="1926" y="743"/>
                  </a:lnTo>
                  <a:lnTo>
                    <a:pt x="1912" y="737"/>
                  </a:lnTo>
                  <a:lnTo>
                    <a:pt x="1898" y="730"/>
                  </a:lnTo>
                  <a:lnTo>
                    <a:pt x="1883" y="725"/>
                  </a:lnTo>
                  <a:lnTo>
                    <a:pt x="1869" y="719"/>
                  </a:lnTo>
                  <a:lnTo>
                    <a:pt x="1855" y="714"/>
                  </a:lnTo>
                  <a:lnTo>
                    <a:pt x="1842" y="710"/>
                  </a:lnTo>
                  <a:lnTo>
                    <a:pt x="1828" y="707"/>
                  </a:lnTo>
                  <a:lnTo>
                    <a:pt x="1815" y="705"/>
                  </a:lnTo>
                  <a:lnTo>
                    <a:pt x="1801" y="704"/>
                  </a:lnTo>
                  <a:lnTo>
                    <a:pt x="1788" y="704"/>
                  </a:lnTo>
                  <a:lnTo>
                    <a:pt x="1775" y="706"/>
                  </a:lnTo>
                  <a:lnTo>
                    <a:pt x="1763" y="709"/>
                  </a:lnTo>
                  <a:lnTo>
                    <a:pt x="1751" y="714"/>
                  </a:lnTo>
                  <a:lnTo>
                    <a:pt x="1734" y="723"/>
                  </a:lnTo>
                  <a:lnTo>
                    <a:pt x="1726" y="729"/>
                  </a:lnTo>
                  <a:lnTo>
                    <a:pt x="1718" y="734"/>
                  </a:lnTo>
                  <a:lnTo>
                    <a:pt x="1711" y="740"/>
                  </a:lnTo>
                  <a:lnTo>
                    <a:pt x="1704" y="746"/>
                  </a:lnTo>
                  <a:lnTo>
                    <a:pt x="1697" y="752"/>
                  </a:lnTo>
                  <a:lnTo>
                    <a:pt x="1690" y="758"/>
                  </a:lnTo>
                  <a:lnTo>
                    <a:pt x="1683" y="765"/>
                  </a:lnTo>
                  <a:lnTo>
                    <a:pt x="1677" y="771"/>
                  </a:lnTo>
                  <a:lnTo>
                    <a:pt x="1670" y="778"/>
                  </a:lnTo>
                  <a:lnTo>
                    <a:pt x="1663" y="785"/>
                  </a:lnTo>
                  <a:lnTo>
                    <a:pt x="1657" y="792"/>
                  </a:lnTo>
                  <a:lnTo>
                    <a:pt x="1651" y="799"/>
                  </a:lnTo>
                  <a:lnTo>
                    <a:pt x="1644" y="805"/>
                  </a:lnTo>
                  <a:lnTo>
                    <a:pt x="1637" y="812"/>
                  </a:lnTo>
                  <a:lnTo>
                    <a:pt x="1631" y="818"/>
                  </a:lnTo>
                  <a:lnTo>
                    <a:pt x="1624" y="824"/>
                  </a:lnTo>
                  <a:lnTo>
                    <a:pt x="1617" y="830"/>
                  </a:lnTo>
                  <a:lnTo>
                    <a:pt x="1610" y="836"/>
                  </a:lnTo>
                  <a:lnTo>
                    <a:pt x="1602" y="841"/>
                  </a:lnTo>
                  <a:lnTo>
                    <a:pt x="1595" y="847"/>
                  </a:lnTo>
                  <a:lnTo>
                    <a:pt x="1587" y="851"/>
                  </a:lnTo>
                  <a:lnTo>
                    <a:pt x="1579" y="856"/>
                  </a:lnTo>
                  <a:lnTo>
                    <a:pt x="1570" y="860"/>
                  </a:lnTo>
                  <a:lnTo>
                    <a:pt x="1561" y="863"/>
                  </a:lnTo>
                  <a:lnTo>
                    <a:pt x="1552" y="866"/>
                  </a:lnTo>
                  <a:lnTo>
                    <a:pt x="1543" y="869"/>
                  </a:lnTo>
                  <a:lnTo>
                    <a:pt x="1533" y="871"/>
                  </a:lnTo>
                  <a:lnTo>
                    <a:pt x="1522" y="872"/>
                  </a:lnTo>
                  <a:lnTo>
                    <a:pt x="1511" y="873"/>
                  </a:lnTo>
                  <a:lnTo>
                    <a:pt x="1500" y="873"/>
                  </a:lnTo>
                  <a:lnTo>
                    <a:pt x="1467" y="869"/>
                  </a:lnTo>
                  <a:lnTo>
                    <a:pt x="1451" y="866"/>
                  </a:lnTo>
                  <a:lnTo>
                    <a:pt x="1436" y="862"/>
                  </a:lnTo>
                  <a:lnTo>
                    <a:pt x="1421" y="858"/>
                  </a:lnTo>
                  <a:lnTo>
                    <a:pt x="1406" y="853"/>
                  </a:lnTo>
                  <a:lnTo>
                    <a:pt x="1391" y="847"/>
                  </a:lnTo>
                  <a:lnTo>
                    <a:pt x="1376" y="840"/>
                  </a:lnTo>
                  <a:lnTo>
                    <a:pt x="1362" y="833"/>
                  </a:lnTo>
                  <a:lnTo>
                    <a:pt x="1348" y="826"/>
                  </a:lnTo>
                  <a:lnTo>
                    <a:pt x="1334" y="819"/>
                  </a:lnTo>
                  <a:lnTo>
                    <a:pt x="1320" y="811"/>
                  </a:lnTo>
                  <a:lnTo>
                    <a:pt x="1306" y="803"/>
                  </a:lnTo>
                  <a:lnTo>
                    <a:pt x="1292" y="795"/>
                  </a:lnTo>
                  <a:lnTo>
                    <a:pt x="1278" y="787"/>
                  </a:lnTo>
                  <a:lnTo>
                    <a:pt x="1264" y="780"/>
                  </a:lnTo>
                  <a:lnTo>
                    <a:pt x="1250" y="772"/>
                  </a:lnTo>
                  <a:lnTo>
                    <a:pt x="1237" y="765"/>
                  </a:lnTo>
                  <a:lnTo>
                    <a:pt x="1223" y="759"/>
                  </a:lnTo>
                  <a:lnTo>
                    <a:pt x="1209" y="752"/>
                  </a:lnTo>
                  <a:lnTo>
                    <a:pt x="1194" y="746"/>
                  </a:lnTo>
                  <a:lnTo>
                    <a:pt x="1180" y="741"/>
                  </a:lnTo>
                  <a:lnTo>
                    <a:pt x="1165" y="737"/>
                  </a:lnTo>
                  <a:lnTo>
                    <a:pt x="1151" y="733"/>
                  </a:lnTo>
                  <a:lnTo>
                    <a:pt x="1136" y="730"/>
                  </a:lnTo>
                  <a:lnTo>
                    <a:pt x="1121" y="728"/>
                  </a:lnTo>
                  <a:lnTo>
                    <a:pt x="1105" y="727"/>
                  </a:lnTo>
                  <a:lnTo>
                    <a:pt x="1089" y="727"/>
                  </a:lnTo>
                  <a:lnTo>
                    <a:pt x="1073" y="729"/>
                  </a:lnTo>
                  <a:lnTo>
                    <a:pt x="1057" y="731"/>
                  </a:lnTo>
                  <a:lnTo>
                    <a:pt x="1040" y="735"/>
                  </a:lnTo>
                  <a:lnTo>
                    <a:pt x="1023" y="741"/>
                  </a:lnTo>
                  <a:lnTo>
                    <a:pt x="1003" y="747"/>
                  </a:lnTo>
                  <a:lnTo>
                    <a:pt x="992" y="751"/>
                  </a:lnTo>
                  <a:lnTo>
                    <a:pt x="981" y="755"/>
                  </a:lnTo>
                  <a:lnTo>
                    <a:pt x="970" y="759"/>
                  </a:lnTo>
                  <a:lnTo>
                    <a:pt x="959" y="763"/>
                  </a:lnTo>
                  <a:lnTo>
                    <a:pt x="947" y="767"/>
                  </a:lnTo>
                  <a:lnTo>
                    <a:pt x="935" y="771"/>
                  </a:lnTo>
                  <a:lnTo>
                    <a:pt x="923" y="774"/>
                  </a:lnTo>
                  <a:lnTo>
                    <a:pt x="910" y="778"/>
                  </a:lnTo>
                  <a:lnTo>
                    <a:pt x="898" y="782"/>
                  </a:lnTo>
                  <a:lnTo>
                    <a:pt x="885" y="785"/>
                  </a:lnTo>
                  <a:lnTo>
                    <a:pt x="872" y="788"/>
                  </a:lnTo>
                  <a:lnTo>
                    <a:pt x="859" y="791"/>
                  </a:lnTo>
                  <a:lnTo>
                    <a:pt x="847" y="794"/>
                  </a:lnTo>
                  <a:lnTo>
                    <a:pt x="834" y="797"/>
                  </a:lnTo>
                  <a:lnTo>
                    <a:pt x="821" y="799"/>
                  </a:lnTo>
                  <a:lnTo>
                    <a:pt x="808" y="801"/>
                  </a:lnTo>
                  <a:lnTo>
                    <a:pt x="795" y="803"/>
                  </a:lnTo>
                  <a:lnTo>
                    <a:pt x="782" y="804"/>
                  </a:lnTo>
                  <a:lnTo>
                    <a:pt x="769" y="805"/>
                  </a:lnTo>
                  <a:lnTo>
                    <a:pt x="756" y="805"/>
                  </a:lnTo>
                  <a:lnTo>
                    <a:pt x="744" y="805"/>
                  </a:lnTo>
                  <a:lnTo>
                    <a:pt x="731" y="805"/>
                  </a:lnTo>
                  <a:lnTo>
                    <a:pt x="719" y="804"/>
                  </a:lnTo>
                  <a:lnTo>
                    <a:pt x="707" y="802"/>
                  </a:lnTo>
                  <a:lnTo>
                    <a:pt x="695" y="800"/>
                  </a:lnTo>
                  <a:lnTo>
                    <a:pt x="683" y="797"/>
                  </a:lnTo>
                  <a:lnTo>
                    <a:pt x="672" y="794"/>
                  </a:lnTo>
                  <a:lnTo>
                    <a:pt x="661" y="790"/>
                  </a:lnTo>
                  <a:lnTo>
                    <a:pt x="650" y="785"/>
                  </a:lnTo>
                  <a:lnTo>
                    <a:pt x="640" y="780"/>
                  </a:lnTo>
                  <a:lnTo>
                    <a:pt x="625" y="771"/>
                  </a:lnTo>
                  <a:lnTo>
                    <a:pt x="617" y="766"/>
                  </a:lnTo>
                  <a:lnTo>
                    <a:pt x="611" y="761"/>
                  </a:lnTo>
                  <a:lnTo>
                    <a:pt x="605" y="757"/>
                  </a:lnTo>
                  <a:lnTo>
                    <a:pt x="599" y="751"/>
                  </a:lnTo>
                  <a:lnTo>
                    <a:pt x="593" y="747"/>
                  </a:lnTo>
                  <a:lnTo>
                    <a:pt x="588" y="742"/>
                  </a:lnTo>
                  <a:lnTo>
                    <a:pt x="583" y="737"/>
                  </a:lnTo>
                  <a:lnTo>
                    <a:pt x="577" y="732"/>
                  </a:lnTo>
                  <a:lnTo>
                    <a:pt x="573" y="727"/>
                  </a:lnTo>
                  <a:lnTo>
                    <a:pt x="568" y="722"/>
                  </a:lnTo>
                  <a:lnTo>
                    <a:pt x="563" y="717"/>
                  </a:lnTo>
                  <a:lnTo>
                    <a:pt x="559" y="713"/>
                  </a:lnTo>
                  <a:lnTo>
                    <a:pt x="554" y="708"/>
                  </a:lnTo>
                  <a:lnTo>
                    <a:pt x="549" y="703"/>
                  </a:lnTo>
                  <a:lnTo>
                    <a:pt x="545" y="699"/>
                  </a:lnTo>
                  <a:lnTo>
                    <a:pt x="540" y="695"/>
                  </a:lnTo>
                  <a:lnTo>
                    <a:pt x="535" y="691"/>
                  </a:lnTo>
                  <a:lnTo>
                    <a:pt x="529" y="687"/>
                  </a:lnTo>
                  <a:lnTo>
                    <a:pt x="524" y="683"/>
                  </a:lnTo>
                  <a:lnTo>
                    <a:pt x="519" y="680"/>
                  </a:lnTo>
                  <a:lnTo>
                    <a:pt x="513" y="677"/>
                  </a:lnTo>
                  <a:lnTo>
                    <a:pt x="507" y="674"/>
                  </a:lnTo>
                  <a:lnTo>
                    <a:pt x="500" y="671"/>
                  </a:lnTo>
                  <a:lnTo>
                    <a:pt x="493" y="669"/>
                  </a:lnTo>
                  <a:lnTo>
                    <a:pt x="486" y="667"/>
                  </a:lnTo>
                  <a:lnTo>
                    <a:pt x="478" y="665"/>
                  </a:lnTo>
                  <a:lnTo>
                    <a:pt x="470" y="663"/>
                  </a:lnTo>
                  <a:lnTo>
                    <a:pt x="461" y="662"/>
                  </a:lnTo>
                  <a:lnTo>
                    <a:pt x="451" y="661"/>
                  </a:lnTo>
                  <a:lnTo>
                    <a:pt x="442" y="661"/>
                  </a:lnTo>
                  <a:lnTo>
                    <a:pt x="425" y="661"/>
                  </a:lnTo>
                  <a:lnTo>
                    <a:pt x="417" y="661"/>
                  </a:lnTo>
                  <a:lnTo>
                    <a:pt x="408" y="662"/>
                  </a:lnTo>
                  <a:lnTo>
                    <a:pt x="399" y="662"/>
                  </a:lnTo>
                  <a:lnTo>
                    <a:pt x="390" y="663"/>
                  </a:lnTo>
                  <a:lnTo>
                    <a:pt x="381" y="663"/>
                  </a:lnTo>
                  <a:lnTo>
                    <a:pt x="371" y="664"/>
                  </a:lnTo>
                  <a:lnTo>
                    <a:pt x="361" y="664"/>
                  </a:lnTo>
                  <a:lnTo>
                    <a:pt x="352" y="665"/>
                  </a:lnTo>
                  <a:lnTo>
                    <a:pt x="342" y="665"/>
                  </a:lnTo>
                  <a:lnTo>
                    <a:pt x="332" y="665"/>
                  </a:lnTo>
                  <a:lnTo>
                    <a:pt x="323" y="665"/>
                  </a:lnTo>
                  <a:lnTo>
                    <a:pt x="313" y="665"/>
                  </a:lnTo>
                  <a:lnTo>
                    <a:pt x="303" y="665"/>
                  </a:lnTo>
                  <a:lnTo>
                    <a:pt x="293" y="665"/>
                  </a:lnTo>
                  <a:lnTo>
                    <a:pt x="283" y="664"/>
                  </a:lnTo>
                  <a:lnTo>
                    <a:pt x="274" y="663"/>
                  </a:lnTo>
                  <a:lnTo>
                    <a:pt x="264" y="662"/>
                  </a:lnTo>
                  <a:lnTo>
                    <a:pt x="255" y="660"/>
                  </a:lnTo>
                  <a:lnTo>
                    <a:pt x="246" y="658"/>
                  </a:lnTo>
                  <a:lnTo>
                    <a:pt x="237" y="656"/>
                  </a:lnTo>
                  <a:lnTo>
                    <a:pt x="228" y="653"/>
                  </a:lnTo>
                  <a:lnTo>
                    <a:pt x="220" y="651"/>
                  </a:lnTo>
                  <a:lnTo>
                    <a:pt x="211" y="647"/>
                  </a:lnTo>
                  <a:lnTo>
                    <a:pt x="204" y="643"/>
                  </a:lnTo>
                  <a:lnTo>
                    <a:pt x="196" y="639"/>
                  </a:lnTo>
                  <a:lnTo>
                    <a:pt x="189" y="634"/>
                  </a:lnTo>
                  <a:lnTo>
                    <a:pt x="182" y="628"/>
                  </a:lnTo>
                  <a:lnTo>
                    <a:pt x="175" y="622"/>
                  </a:lnTo>
                  <a:lnTo>
                    <a:pt x="169" y="616"/>
                  </a:lnTo>
                  <a:lnTo>
                    <a:pt x="164" y="609"/>
                  </a:lnTo>
                  <a:lnTo>
                    <a:pt x="153" y="593"/>
                  </a:lnTo>
                  <a:lnTo>
                    <a:pt x="148" y="585"/>
                  </a:lnTo>
                  <a:lnTo>
                    <a:pt x="144" y="578"/>
                  </a:lnTo>
                  <a:lnTo>
                    <a:pt x="141" y="571"/>
                  </a:lnTo>
                  <a:lnTo>
                    <a:pt x="137" y="565"/>
                  </a:lnTo>
                  <a:lnTo>
                    <a:pt x="135" y="559"/>
                  </a:lnTo>
                  <a:lnTo>
                    <a:pt x="132" y="554"/>
                  </a:lnTo>
                  <a:lnTo>
                    <a:pt x="130" y="548"/>
                  </a:lnTo>
                  <a:lnTo>
                    <a:pt x="128" y="543"/>
                  </a:lnTo>
                  <a:lnTo>
                    <a:pt x="127" y="538"/>
                  </a:lnTo>
                  <a:lnTo>
                    <a:pt x="125" y="533"/>
                  </a:lnTo>
                  <a:lnTo>
                    <a:pt x="123" y="529"/>
                  </a:lnTo>
                  <a:lnTo>
                    <a:pt x="122" y="525"/>
                  </a:lnTo>
                  <a:lnTo>
                    <a:pt x="121" y="521"/>
                  </a:lnTo>
                  <a:lnTo>
                    <a:pt x="119" y="517"/>
                  </a:lnTo>
                  <a:lnTo>
                    <a:pt x="118" y="513"/>
                  </a:lnTo>
                  <a:lnTo>
                    <a:pt x="116" y="509"/>
                  </a:lnTo>
                  <a:lnTo>
                    <a:pt x="114" y="505"/>
                  </a:lnTo>
                  <a:lnTo>
                    <a:pt x="113" y="501"/>
                  </a:lnTo>
                  <a:lnTo>
                    <a:pt x="110" y="497"/>
                  </a:lnTo>
                  <a:lnTo>
                    <a:pt x="108" y="493"/>
                  </a:lnTo>
                  <a:lnTo>
                    <a:pt x="105" y="489"/>
                  </a:lnTo>
                  <a:lnTo>
                    <a:pt x="102" y="486"/>
                  </a:lnTo>
                  <a:lnTo>
                    <a:pt x="98" y="482"/>
                  </a:lnTo>
                  <a:lnTo>
                    <a:pt x="94" y="477"/>
                  </a:lnTo>
                  <a:lnTo>
                    <a:pt x="90" y="473"/>
                  </a:lnTo>
                  <a:lnTo>
                    <a:pt x="85" y="469"/>
                  </a:lnTo>
                  <a:lnTo>
                    <a:pt x="79" y="465"/>
                  </a:lnTo>
                  <a:lnTo>
                    <a:pt x="73" y="460"/>
                  </a:lnTo>
                  <a:lnTo>
                    <a:pt x="66" y="455"/>
                  </a:lnTo>
                  <a:lnTo>
                    <a:pt x="58" y="450"/>
                  </a:lnTo>
                  <a:lnTo>
                    <a:pt x="49" y="444"/>
                  </a:lnTo>
                  <a:lnTo>
                    <a:pt x="44" y="442"/>
                  </a:lnTo>
                  <a:lnTo>
                    <a:pt x="40" y="440"/>
                  </a:lnTo>
                  <a:lnTo>
                    <a:pt x="36" y="438"/>
                  </a:lnTo>
                  <a:lnTo>
                    <a:pt x="32" y="436"/>
                  </a:lnTo>
                  <a:lnTo>
                    <a:pt x="29" y="435"/>
                  </a:lnTo>
                  <a:lnTo>
                    <a:pt x="25" y="433"/>
                  </a:lnTo>
                  <a:lnTo>
                    <a:pt x="23" y="432"/>
                  </a:lnTo>
                  <a:lnTo>
                    <a:pt x="19" y="431"/>
                  </a:lnTo>
                  <a:lnTo>
                    <a:pt x="17" y="430"/>
                  </a:lnTo>
                  <a:lnTo>
                    <a:pt x="14" y="429"/>
                  </a:lnTo>
                  <a:lnTo>
                    <a:pt x="12" y="428"/>
                  </a:lnTo>
                  <a:lnTo>
                    <a:pt x="10" y="427"/>
                  </a:lnTo>
                  <a:lnTo>
                    <a:pt x="8" y="426"/>
                  </a:lnTo>
                  <a:lnTo>
                    <a:pt x="6" y="425"/>
                  </a:lnTo>
                  <a:lnTo>
                    <a:pt x="5" y="423"/>
                  </a:lnTo>
                  <a:lnTo>
                    <a:pt x="3" y="422"/>
                  </a:lnTo>
                  <a:lnTo>
                    <a:pt x="2" y="420"/>
                  </a:lnTo>
                  <a:lnTo>
                    <a:pt x="1" y="419"/>
                  </a:lnTo>
                  <a:lnTo>
                    <a:pt x="1" y="416"/>
                  </a:lnTo>
                  <a:lnTo>
                    <a:pt x="0" y="414"/>
                  </a:lnTo>
                  <a:lnTo>
                    <a:pt x="0" y="411"/>
                  </a:lnTo>
                  <a:lnTo>
                    <a:pt x="0" y="409"/>
                  </a:lnTo>
                  <a:lnTo>
                    <a:pt x="0" y="405"/>
                  </a:lnTo>
                  <a:lnTo>
                    <a:pt x="0" y="402"/>
                  </a:lnTo>
                  <a:lnTo>
                    <a:pt x="0" y="398"/>
                  </a:lnTo>
                  <a:lnTo>
                    <a:pt x="1" y="393"/>
                  </a:lnTo>
                  <a:lnTo>
                    <a:pt x="1" y="388"/>
                  </a:lnTo>
                  <a:lnTo>
                    <a:pt x="3" y="383"/>
                  </a:lnTo>
                  <a:lnTo>
                    <a:pt x="3" y="377"/>
                  </a:lnTo>
                  <a:lnTo>
                    <a:pt x="5" y="371"/>
                  </a:lnTo>
                  <a:lnTo>
                    <a:pt x="9" y="355"/>
                  </a:lnTo>
                  <a:lnTo>
                    <a:pt x="12" y="349"/>
                  </a:lnTo>
                  <a:lnTo>
                    <a:pt x="16" y="343"/>
                  </a:lnTo>
                  <a:lnTo>
                    <a:pt x="20" y="337"/>
                  </a:lnTo>
                  <a:lnTo>
                    <a:pt x="24" y="331"/>
                  </a:lnTo>
                  <a:lnTo>
                    <a:pt x="29" y="326"/>
                  </a:lnTo>
                  <a:lnTo>
                    <a:pt x="34" y="321"/>
                  </a:lnTo>
                  <a:lnTo>
                    <a:pt x="39" y="317"/>
                  </a:lnTo>
                  <a:lnTo>
                    <a:pt x="45" y="313"/>
                  </a:lnTo>
                  <a:lnTo>
                    <a:pt x="51" y="309"/>
                  </a:lnTo>
                  <a:lnTo>
                    <a:pt x="57" y="305"/>
                  </a:lnTo>
                  <a:lnTo>
                    <a:pt x="63" y="301"/>
                  </a:lnTo>
                  <a:lnTo>
                    <a:pt x="69" y="297"/>
                  </a:lnTo>
                  <a:lnTo>
                    <a:pt x="75" y="294"/>
                  </a:lnTo>
                  <a:lnTo>
                    <a:pt x="82" y="290"/>
                  </a:lnTo>
                  <a:lnTo>
                    <a:pt x="88" y="287"/>
                  </a:lnTo>
                  <a:lnTo>
                    <a:pt x="94" y="283"/>
                  </a:lnTo>
                  <a:lnTo>
                    <a:pt x="100" y="280"/>
                  </a:lnTo>
                  <a:lnTo>
                    <a:pt x="106" y="276"/>
                  </a:lnTo>
                  <a:lnTo>
                    <a:pt x="112" y="272"/>
                  </a:lnTo>
                  <a:lnTo>
                    <a:pt x="117" y="268"/>
                  </a:lnTo>
                  <a:lnTo>
                    <a:pt x="123" y="264"/>
                  </a:lnTo>
                  <a:lnTo>
                    <a:pt x="127" y="259"/>
                  </a:lnTo>
                  <a:lnTo>
                    <a:pt x="132" y="255"/>
                  </a:lnTo>
                  <a:lnTo>
                    <a:pt x="136" y="250"/>
                  </a:lnTo>
                  <a:lnTo>
                    <a:pt x="140" y="245"/>
                  </a:lnTo>
                  <a:lnTo>
                    <a:pt x="143" y="239"/>
                  </a:lnTo>
                  <a:lnTo>
                    <a:pt x="146" y="233"/>
                  </a:lnTo>
                  <a:lnTo>
                    <a:pt x="148" y="227"/>
                  </a:lnTo>
                  <a:lnTo>
                    <a:pt x="149" y="219"/>
                  </a:lnTo>
                  <a:lnTo>
                    <a:pt x="151" y="212"/>
                  </a:lnTo>
                  <a:lnTo>
                    <a:pt x="147" y="214"/>
                  </a:lnTo>
                  <a:lnTo>
                    <a:pt x="145" y="215"/>
                  </a:lnTo>
                  <a:lnTo>
                    <a:pt x="144" y="215"/>
                  </a:lnTo>
                  <a:lnTo>
                    <a:pt x="142" y="216"/>
                  </a:lnTo>
                  <a:lnTo>
                    <a:pt x="141" y="217"/>
                  </a:lnTo>
                  <a:lnTo>
                    <a:pt x="139" y="218"/>
                  </a:lnTo>
                  <a:lnTo>
                    <a:pt x="137" y="219"/>
                  </a:lnTo>
                  <a:lnTo>
                    <a:pt x="135" y="219"/>
                  </a:lnTo>
                  <a:lnTo>
                    <a:pt x="134" y="220"/>
                  </a:lnTo>
                  <a:lnTo>
                    <a:pt x="132" y="221"/>
                  </a:lnTo>
                  <a:lnTo>
                    <a:pt x="131" y="222"/>
                  </a:lnTo>
                  <a:lnTo>
                    <a:pt x="129" y="223"/>
                  </a:lnTo>
                  <a:lnTo>
                    <a:pt x="127" y="223"/>
                  </a:lnTo>
                  <a:lnTo>
                    <a:pt x="126" y="224"/>
                  </a:lnTo>
                  <a:lnTo>
                    <a:pt x="124" y="225"/>
                  </a:lnTo>
                  <a:lnTo>
                    <a:pt x="122" y="226"/>
                  </a:lnTo>
                  <a:lnTo>
                    <a:pt x="121" y="227"/>
                  </a:lnTo>
                  <a:lnTo>
                    <a:pt x="119" y="228"/>
                  </a:lnTo>
                  <a:lnTo>
                    <a:pt x="117" y="229"/>
                  </a:lnTo>
                  <a:lnTo>
                    <a:pt x="116" y="229"/>
                  </a:lnTo>
                  <a:lnTo>
                    <a:pt x="114" y="230"/>
                  </a:lnTo>
                  <a:lnTo>
                    <a:pt x="113" y="231"/>
                  </a:lnTo>
                  <a:lnTo>
                    <a:pt x="111" y="232"/>
                  </a:lnTo>
                  <a:lnTo>
                    <a:pt x="109" y="233"/>
                  </a:lnTo>
                  <a:lnTo>
                    <a:pt x="107" y="233"/>
                  </a:lnTo>
                  <a:lnTo>
                    <a:pt x="106" y="234"/>
                  </a:lnTo>
                  <a:lnTo>
                    <a:pt x="104" y="235"/>
                  </a:lnTo>
                  <a:lnTo>
                    <a:pt x="103" y="236"/>
                  </a:lnTo>
                  <a:lnTo>
                    <a:pt x="101" y="237"/>
                  </a:lnTo>
                  <a:lnTo>
                    <a:pt x="99" y="237"/>
                  </a:lnTo>
                  <a:lnTo>
                    <a:pt x="98" y="239"/>
                  </a:lnTo>
                </a:path>
              </a:pathLst>
            </a:custGeom>
            <a:solidFill>
              <a:srgbClr val="ffccff"/>
            </a:solidFill>
            <a:ln w="0">
              <a:solidFill>
                <a:srgbClr val="341a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61" name=""/>
            <p:cNvGrpSpPr/>
            <p:nvPr/>
          </p:nvGrpSpPr>
          <p:grpSpPr>
            <a:xfrm>
              <a:off x="5570640" y="3416760"/>
              <a:ext cx="1119960" cy="474840"/>
              <a:chOff x="5570640" y="3416760"/>
              <a:chExt cx="1119960" cy="474840"/>
            </a:xfrm>
          </p:grpSpPr>
          <p:grpSp>
            <p:nvGrpSpPr>
              <p:cNvPr id="662" name=""/>
              <p:cNvGrpSpPr/>
              <p:nvPr/>
            </p:nvGrpSpPr>
            <p:grpSpPr>
              <a:xfrm>
                <a:off x="5997960" y="3422520"/>
                <a:ext cx="692640" cy="469080"/>
                <a:chOff x="5997960" y="3422520"/>
                <a:chExt cx="692640" cy="469080"/>
              </a:xfrm>
            </p:grpSpPr>
            <p:sp>
              <p:nvSpPr>
                <p:cNvPr id="663" name=""/>
                <p:cNvSpPr/>
                <p:nvPr/>
              </p:nvSpPr>
              <p:spPr>
                <a:xfrm flipV="1">
                  <a:off x="6024240" y="3440160"/>
                  <a:ext cx="542160" cy="39780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solidFill>
                    <a:srgbClr val="ff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5997960" y="3422520"/>
                  <a:ext cx="692640" cy="46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85000"/>
                    </a:lnSpc>
                    <a:spcBef>
                      <a:spcPts val="10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900" spc="-1" strike="noStrike">
                      <a:solidFill>
                        <a:srgbClr val="ffff80"/>
                      </a:solidFill>
                      <a:latin typeface="Arial"/>
                    </a:rPr>
                    <a:t>IIIa</a:t>
                  </a:r>
                  <a:endParaRPr b="0" lang="en-US" sz="2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5" name=""/>
              <p:cNvGrpSpPr/>
              <p:nvPr/>
            </p:nvGrpSpPr>
            <p:grpSpPr>
              <a:xfrm>
                <a:off x="5570640" y="3416760"/>
                <a:ext cx="534240" cy="417600"/>
                <a:chOff x="5570640" y="3416760"/>
                <a:chExt cx="534240" cy="417600"/>
              </a:xfrm>
            </p:grpSpPr>
            <p:sp>
              <p:nvSpPr>
                <p:cNvPr id="666" name=""/>
                <p:cNvSpPr/>
                <p:nvPr/>
              </p:nvSpPr>
              <p:spPr>
                <a:xfrm flipV="1">
                  <a:off x="5623560" y="3431520"/>
                  <a:ext cx="372600" cy="3981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solidFill>
                    <a:srgbClr val="ff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5570640" y="3416760"/>
                  <a:ext cx="534240" cy="41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85000"/>
                    </a:lnSpc>
                    <a:spcBef>
                      <a:spcPts val="93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ffff80"/>
                      </a:solidFill>
                      <a:latin typeface="Arial"/>
                    </a:rPr>
                    <a:t>IIb</a:t>
                  </a:r>
                  <a:endParaRPr b="0" lang="en-US" sz="2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68" name=""/>
          <p:cNvGrpSpPr/>
          <p:nvPr/>
        </p:nvGrpSpPr>
        <p:grpSpPr>
          <a:xfrm>
            <a:off x="3581280" y="3352680"/>
            <a:ext cx="1972440" cy="1509480"/>
            <a:chOff x="3581280" y="3352680"/>
            <a:chExt cx="1972440" cy="1509480"/>
          </a:xfrm>
        </p:grpSpPr>
        <p:sp>
          <p:nvSpPr>
            <p:cNvPr id="669" name=""/>
            <p:cNvSpPr/>
            <p:nvPr/>
          </p:nvSpPr>
          <p:spPr>
            <a:xfrm>
              <a:off x="4269600" y="4418640"/>
              <a:ext cx="90324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ADP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650480" y="3504240"/>
              <a:ext cx="90324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ADP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581280" y="3705120"/>
              <a:ext cx="773280" cy="863640"/>
            </a:xfrm>
            <a:custGeom>
              <a:avLst/>
              <a:gdLst/>
              <a:ahLst/>
              <a:rect l="l" t="t" r="r" b="b"/>
              <a:pathLst>
                <a:path w="547" h="544">
                  <a:moveTo>
                    <a:pt x="53" y="0"/>
                  </a:moveTo>
                  <a:lnTo>
                    <a:pt x="192" y="140"/>
                  </a:lnTo>
                  <a:lnTo>
                    <a:pt x="215" y="121"/>
                  </a:lnTo>
                  <a:lnTo>
                    <a:pt x="546" y="543"/>
                  </a:lnTo>
                  <a:lnTo>
                    <a:pt x="117" y="202"/>
                  </a:lnTo>
                  <a:lnTo>
                    <a:pt x="140" y="183"/>
                  </a:lnTo>
                  <a:lnTo>
                    <a:pt x="0" y="43"/>
                  </a:lnTo>
                  <a:lnTo>
                    <a:pt x="53" y="0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724200" y="3352680"/>
              <a:ext cx="1023840" cy="330480"/>
            </a:xfrm>
            <a:custGeom>
              <a:avLst/>
              <a:gdLst/>
              <a:ahLst/>
              <a:rect l="l" t="t" r="r" b="b"/>
              <a:pathLst>
                <a:path w="727" h="208">
                  <a:moveTo>
                    <a:pt x="22" y="0"/>
                  </a:moveTo>
                  <a:lnTo>
                    <a:pt x="214" y="47"/>
                  </a:lnTo>
                  <a:lnTo>
                    <a:pt x="224" y="19"/>
                  </a:lnTo>
                  <a:lnTo>
                    <a:pt x="726" y="207"/>
                  </a:lnTo>
                  <a:lnTo>
                    <a:pt x="182" y="139"/>
                  </a:lnTo>
                  <a:lnTo>
                    <a:pt x="192" y="111"/>
                  </a:lnTo>
                  <a:lnTo>
                    <a:pt x="0" y="64"/>
                  </a:lnTo>
                  <a:lnTo>
                    <a:pt x="22" y="0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3" name=""/>
          <p:cNvGrpSpPr/>
          <p:nvPr/>
        </p:nvGrpSpPr>
        <p:grpSpPr>
          <a:xfrm>
            <a:off x="5830920" y="3732840"/>
            <a:ext cx="3312720" cy="1415520"/>
            <a:chOff x="5830920" y="3732840"/>
            <a:chExt cx="3312720" cy="1415520"/>
          </a:xfrm>
        </p:grpSpPr>
        <p:sp>
          <p:nvSpPr>
            <p:cNvPr id="674" name=""/>
            <p:cNvSpPr/>
            <p:nvPr/>
          </p:nvSpPr>
          <p:spPr>
            <a:xfrm flipV="1">
              <a:off x="5830920" y="4494960"/>
              <a:ext cx="299880" cy="336600"/>
            </a:xfrm>
            <a:prstGeom prst="ellipse">
              <a:avLst/>
            </a:prstGeom>
            <a:solidFill>
              <a:srgbClr val="555555"/>
            </a:solidFill>
            <a:ln w="0">
              <a:solidFill>
                <a:srgbClr val="ffff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V="1">
              <a:off x="7078680" y="4621320"/>
              <a:ext cx="298440" cy="334800"/>
            </a:xfrm>
            <a:prstGeom prst="ellipse">
              <a:avLst/>
            </a:prstGeom>
            <a:solidFill>
              <a:srgbClr val="555555"/>
            </a:solidFill>
            <a:ln w="0">
              <a:solidFill>
                <a:srgbClr val="ffff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V="1">
              <a:off x="6481800" y="3801240"/>
              <a:ext cx="298440" cy="336600"/>
            </a:xfrm>
            <a:prstGeom prst="ellipse">
              <a:avLst/>
            </a:prstGeom>
            <a:solidFill>
              <a:srgbClr val="555555"/>
            </a:solidFill>
            <a:ln w="0">
              <a:solidFill>
                <a:srgbClr val="ffff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705720" y="4138560"/>
              <a:ext cx="449280" cy="523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070680" y="4746600"/>
              <a:ext cx="1008000" cy="414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388640" y="4569840"/>
              <a:ext cx="175500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ibrinoge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074360" y="4606200"/>
              <a:ext cx="349920" cy="3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832360" y="4494960"/>
              <a:ext cx="365040" cy="3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458400" y="3732840"/>
              <a:ext cx="42768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555555"/>
                  </a:solidFill>
                  <a:latin typeface="Arial"/>
                </a:rPr>
                <a:t>D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H="1">
              <a:off x="7105680" y="4938840"/>
              <a:ext cx="38160" cy="188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334280" y="4938840"/>
              <a:ext cx="38160" cy="209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V="1">
              <a:off x="7321680" y="4430520"/>
              <a:ext cx="93600" cy="231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V="1">
              <a:off x="7377120" y="4598640"/>
              <a:ext cx="2048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441840" y="3809160"/>
              <a:ext cx="365040" cy="3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88" name=""/>
          <p:cNvSpPr/>
          <p:nvPr/>
        </p:nvSpPr>
        <p:spPr>
          <a:xfrm flipV="1">
            <a:off x="2894040" y="2977560"/>
            <a:ext cx="669960" cy="587160"/>
          </a:xfrm>
          <a:prstGeom prst="ellipse">
            <a:avLst/>
          </a:prstGeom>
          <a:solidFill>
            <a:srgbClr val="00ffff"/>
          </a:solidFill>
          <a:ln w="0">
            <a:solidFill>
              <a:srgbClr val="341a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244160" y="3199680"/>
            <a:ext cx="197748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nse Granu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870200" y="2663640"/>
            <a:ext cx="934920" cy="392040"/>
            <a:chOff x="1870200" y="2663640"/>
            <a:chExt cx="934920" cy="392040"/>
          </a:xfrm>
        </p:grpSpPr>
        <p:sp>
          <p:nvSpPr>
            <p:cNvPr id="691" name=""/>
            <p:cNvSpPr/>
            <p:nvPr/>
          </p:nvSpPr>
          <p:spPr>
            <a:xfrm flipV="1">
              <a:off x="1890720" y="2663280"/>
              <a:ext cx="914400" cy="355320"/>
            </a:xfrm>
            <a:prstGeom prst="rect">
              <a:avLst/>
            </a:prstGeom>
            <a:solidFill>
              <a:srgbClr val="000044"/>
            </a:solidFill>
            <a:ln w="0">
              <a:solidFill>
                <a:srgbClr val="d4d4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870200" y="2676960"/>
              <a:ext cx="863640" cy="37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Gp Ib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1895400" y="2310480"/>
            <a:ext cx="914400" cy="523080"/>
            <a:chOff x="1895400" y="2310480"/>
            <a:chExt cx="914400" cy="523080"/>
          </a:xfrm>
        </p:grpSpPr>
        <p:sp>
          <p:nvSpPr>
            <p:cNvPr id="694" name=""/>
            <p:cNvSpPr/>
            <p:nvPr/>
          </p:nvSpPr>
          <p:spPr>
            <a:xfrm flipV="1">
              <a:off x="1895400" y="2317680"/>
              <a:ext cx="914400" cy="355680"/>
            </a:xfrm>
            <a:prstGeom prst="rect">
              <a:avLst/>
            </a:prstGeom>
            <a:solidFill>
              <a:srgbClr val="3366ff"/>
            </a:solidFill>
            <a:ln w="0">
              <a:solidFill>
                <a:srgbClr val="d4d4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149560" y="2673360"/>
              <a:ext cx="385560" cy="160200"/>
            </a:xfrm>
            <a:custGeom>
              <a:avLst/>
              <a:gdLst/>
              <a:ahLst/>
              <a:rect l="l" t="t" r="r" b="b"/>
              <a:pathLst>
                <a:path w="275" h="101">
                  <a:moveTo>
                    <a:pt x="0" y="0"/>
                  </a:moveTo>
                  <a:lnTo>
                    <a:pt x="137" y="100"/>
                  </a:lnTo>
                  <a:lnTo>
                    <a:pt x="274" y="0"/>
                  </a:lnTo>
                  <a:lnTo>
                    <a:pt x="0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d4d4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019600" y="2310480"/>
              <a:ext cx="755280" cy="37872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00"/>
                  </a:solidFill>
                  <a:latin typeface="Arial"/>
                </a:rPr>
                <a:t>vWF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7" name=""/>
          <p:cNvGrpSpPr/>
          <p:nvPr/>
        </p:nvGrpSpPr>
        <p:grpSpPr>
          <a:xfrm>
            <a:off x="3422520" y="3090960"/>
            <a:ext cx="501840" cy="482400"/>
            <a:chOff x="3422520" y="3090960"/>
            <a:chExt cx="501840" cy="482400"/>
          </a:xfrm>
        </p:grpSpPr>
        <p:sp>
          <p:nvSpPr>
            <p:cNvPr id="698" name=""/>
            <p:cNvSpPr/>
            <p:nvPr/>
          </p:nvSpPr>
          <p:spPr>
            <a:xfrm flipV="1">
              <a:off x="3422520" y="3090960"/>
              <a:ext cx="501840" cy="48240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V="1">
              <a:off x="3477240" y="3158280"/>
              <a:ext cx="379080" cy="343080"/>
            </a:xfrm>
            <a:prstGeom prst="ellipse">
              <a:avLst/>
            </a:prstGeom>
            <a:solidFill>
              <a:srgbClr val="ffffbf"/>
            </a:solidFill>
            <a:ln w="0">
              <a:solidFill>
                <a:srgbClr val="ffff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511080" y="3165480"/>
              <a:ext cx="317520" cy="328680"/>
            </a:xfrm>
            <a:custGeom>
              <a:avLst/>
              <a:gdLst/>
              <a:ahLst/>
              <a:rect l="l" t="t" r="r" b="b"/>
              <a:pathLst>
                <a:path w="225" h="207">
                  <a:moveTo>
                    <a:pt x="196" y="206"/>
                  </a:moveTo>
                  <a:lnTo>
                    <a:pt x="0" y="25"/>
                  </a:lnTo>
                  <a:lnTo>
                    <a:pt x="28" y="0"/>
                  </a:lnTo>
                  <a:lnTo>
                    <a:pt x="224" y="181"/>
                  </a:lnTo>
                  <a:lnTo>
                    <a:pt x="196" y="206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4800600" y="3048120"/>
            <a:ext cx="501480" cy="480960"/>
            <a:chOff x="4800600" y="3048120"/>
            <a:chExt cx="501480" cy="480960"/>
          </a:xfrm>
        </p:grpSpPr>
        <p:sp>
          <p:nvSpPr>
            <p:cNvPr id="702" name=""/>
            <p:cNvSpPr/>
            <p:nvPr/>
          </p:nvSpPr>
          <p:spPr>
            <a:xfrm flipV="1">
              <a:off x="4800600" y="3048120"/>
              <a:ext cx="501480" cy="480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V="1">
              <a:off x="4855320" y="3115440"/>
              <a:ext cx="377280" cy="341640"/>
            </a:xfrm>
            <a:prstGeom prst="ellipse">
              <a:avLst/>
            </a:prstGeom>
            <a:solidFill>
              <a:srgbClr val="ffffbf"/>
            </a:solidFill>
            <a:ln w="0">
              <a:solidFill>
                <a:srgbClr val="ffff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887720" y="3121200"/>
              <a:ext cx="316800" cy="330120"/>
            </a:xfrm>
            <a:custGeom>
              <a:avLst/>
              <a:gdLst/>
              <a:ahLst/>
              <a:rect l="l" t="t" r="r" b="b"/>
              <a:pathLst>
                <a:path w="225" h="208">
                  <a:moveTo>
                    <a:pt x="196" y="207"/>
                  </a:moveTo>
                  <a:lnTo>
                    <a:pt x="0" y="26"/>
                  </a:lnTo>
                  <a:lnTo>
                    <a:pt x="28" y="0"/>
                  </a:lnTo>
                  <a:lnTo>
                    <a:pt x="224" y="181"/>
                  </a:lnTo>
                  <a:lnTo>
                    <a:pt x="196" y="207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05" name=""/>
          <p:cNvGrpSpPr/>
          <p:nvPr/>
        </p:nvGrpSpPr>
        <p:grpSpPr>
          <a:xfrm>
            <a:off x="4191120" y="3962520"/>
            <a:ext cx="501480" cy="482400"/>
            <a:chOff x="4191120" y="3962520"/>
            <a:chExt cx="501480" cy="482400"/>
          </a:xfrm>
        </p:grpSpPr>
        <p:sp>
          <p:nvSpPr>
            <p:cNvPr id="706" name=""/>
            <p:cNvSpPr/>
            <p:nvPr/>
          </p:nvSpPr>
          <p:spPr>
            <a:xfrm flipV="1">
              <a:off x="4191120" y="3962520"/>
              <a:ext cx="501480" cy="48240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4247280" y="4029840"/>
              <a:ext cx="377280" cy="342360"/>
            </a:xfrm>
            <a:prstGeom prst="ellipse">
              <a:avLst/>
            </a:prstGeom>
            <a:solidFill>
              <a:srgbClr val="ffffbf"/>
            </a:solidFill>
            <a:ln w="0">
              <a:solidFill>
                <a:srgbClr val="ffff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279680" y="4035240"/>
              <a:ext cx="316800" cy="331560"/>
            </a:xfrm>
            <a:custGeom>
              <a:avLst/>
              <a:gdLst/>
              <a:ahLst/>
              <a:rect l="l" t="t" r="r" b="b"/>
              <a:pathLst>
                <a:path w="225" h="209">
                  <a:moveTo>
                    <a:pt x="196" y="208"/>
                  </a:moveTo>
                  <a:lnTo>
                    <a:pt x="0" y="26"/>
                  </a:lnTo>
                  <a:lnTo>
                    <a:pt x="28" y="0"/>
                  </a:lnTo>
                  <a:lnTo>
                    <a:pt x="224" y="182"/>
                  </a:lnTo>
                  <a:lnTo>
                    <a:pt x="196" y="208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9" name=""/>
          <p:cNvSpPr/>
          <p:nvPr/>
        </p:nvSpPr>
        <p:spPr>
          <a:xfrm>
            <a:off x="3103560" y="2676960"/>
            <a:ext cx="2809800" cy="4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ffffff"/>
                </a:solidFill>
                <a:latin typeface="Arial"/>
              </a:rPr>
              <a:t>Release Defects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231840" y="3732840"/>
            <a:ext cx="2844720" cy="810720"/>
            <a:chOff x="231840" y="3732840"/>
            <a:chExt cx="2844720" cy="810720"/>
          </a:xfrm>
        </p:grpSpPr>
        <p:grpSp>
          <p:nvGrpSpPr>
            <p:cNvPr id="711" name=""/>
            <p:cNvGrpSpPr/>
            <p:nvPr/>
          </p:nvGrpSpPr>
          <p:grpSpPr>
            <a:xfrm>
              <a:off x="1576440" y="4062600"/>
              <a:ext cx="502560" cy="480960"/>
              <a:chOff x="1576440" y="4062600"/>
              <a:chExt cx="502560" cy="480960"/>
            </a:xfrm>
          </p:grpSpPr>
          <p:sp>
            <p:nvSpPr>
              <p:cNvPr id="712" name=""/>
              <p:cNvSpPr/>
              <p:nvPr/>
            </p:nvSpPr>
            <p:spPr>
              <a:xfrm flipV="1">
                <a:off x="1576440" y="4062600"/>
                <a:ext cx="502560" cy="48096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V="1">
                <a:off x="1632600" y="4131000"/>
                <a:ext cx="378360" cy="342720"/>
              </a:xfrm>
              <a:prstGeom prst="ellipse">
                <a:avLst/>
              </a:prstGeom>
              <a:solidFill>
                <a:srgbClr val="ffffbf"/>
              </a:solidFill>
              <a:ln w="0">
                <a:solidFill>
                  <a:srgbClr val="ffff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665360" y="4135680"/>
                <a:ext cx="317520" cy="330120"/>
              </a:xfrm>
              <a:custGeom>
                <a:avLst/>
                <a:gdLst/>
                <a:ahLst/>
                <a:rect l="l" t="t" r="r" b="b"/>
                <a:pathLst>
                  <a:path w="225" h="208">
                    <a:moveTo>
                      <a:pt x="196" y="207"/>
                    </a:moveTo>
                    <a:lnTo>
                      <a:pt x="0" y="26"/>
                    </a:lnTo>
                    <a:lnTo>
                      <a:pt x="28" y="0"/>
                    </a:lnTo>
                    <a:lnTo>
                      <a:pt x="224" y="181"/>
                    </a:lnTo>
                    <a:lnTo>
                      <a:pt x="196" y="207"/>
                    </a:lnTo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15" name=""/>
            <p:cNvSpPr/>
            <p:nvPr/>
          </p:nvSpPr>
          <p:spPr>
            <a:xfrm>
              <a:off x="231840" y="3732840"/>
              <a:ext cx="284472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700" spc="-1" strike="noStrike">
                  <a:solidFill>
                    <a:srgbClr val="ffffff"/>
                  </a:solidFill>
                  <a:latin typeface="Arial"/>
                </a:rPr>
                <a:t>Thrombasthenia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6365160" y="4952880"/>
            <a:ext cx="2585520" cy="1073520"/>
            <a:chOff x="6365160" y="4952880"/>
            <a:chExt cx="2585520" cy="1073520"/>
          </a:xfrm>
        </p:grpSpPr>
        <p:grpSp>
          <p:nvGrpSpPr>
            <p:cNvPr id="717" name=""/>
            <p:cNvGrpSpPr/>
            <p:nvPr/>
          </p:nvGrpSpPr>
          <p:grpSpPr>
            <a:xfrm>
              <a:off x="6585120" y="4952880"/>
              <a:ext cx="765360" cy="606960"/>
              <a:chOff x="6585120" y="4952880"/>
              <a:chExt cx="765360" cy="606960"/>
            </a:xfrm>
          </p:grpSpPr>
          <p:sp>
            <p:nvSpPr>
              <p:cNvPr id="718" name=""/>
              <p:cNvSpPr/>
              <p:nvPr/>
            </p:nvSpPr>
            <p:spPr>
              <a:xfrm flipV="1">
                <a:off x="6585120" y="4952880"/>
                <a:ext cx="765360" cy="60696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flipV="1">
                <a:off x="6670440" y="5037840"/>
                <a:ext cx="574920" cy="430920"/>
              </a:xfrm>
              <a:prstGeom prst="ellipse">
                <a:avLst/>
              </a:prstGeom>
              <a:solidFill>
                <a:srgbClr val="ffffbf"/>
              </a:solidFill>
              <a:ln w="0">
                <a:solidFill>
                  <a:srgbClr val="ffff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6720120" y="5044680"/>
                <a:ext cx="482400" cy="415080"/>
              </a:xfrm>
              <a:custGeom>
                <a:avLst/>
                <a:gdLst/>
                <a:ahLst/>
                <a:rect l="l" t="t" r="r" b="b"/>
                <a:pathLst>
                  <a:path w="225" h="208">
                    <a:moveTo>
                      <a:pt x="197" y="207"/>
                    </a:moveTo>
                    <a:lnTo>
                      <a:pt x="0" y="26"/>
                    </a:lnTo>
                    <a:lnTo>
                      <a:pt x="28" y="0"/>
                    </a:lnTo>
                    <a:lnTo>
                      <a:pt x="224" y="181"/>
                    </a:lnTo>
                    <a:lnTo>
                      <a:pt x="197" y="207"/>
                    </a:lnTo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21" name=""/>
            <p:cNvSpPr/>
            <p:nvPr/>
          </p:nvSpPr>
          <p:spPr>
            <a:xfrm>
              <a:off x="6365160" y="5621760"/>
              <a:ext cx="258552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</a:rPr>
                <a:t>Afibrinogenemi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Platelet Aggregation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-vivo platelet aggregation is induced 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rombin mechanis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imulates ADP relea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nhances formation of Tx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romboxane 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mediated throu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rachidonic acid release form membrane phospholip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yclo-oxygena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ndoperoxida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89080"/>
            <a:ext cx="7772400" cy="73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PLT disorders: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Quantitative disorders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enias” &amp; “Philias”  &amp; Malignanc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Qualitative disorders - function disord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ongenita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rombasthenia, Bernad Soulier  syndro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cquire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spirin, Hepari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remia, diabetes, hyperglobulinem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350720" y="380880"/>
            <a:ext cx="7792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Laboratory Tests for Primary Hemostasis Function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telet cou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leeding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telet Aggregation Stud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minance metho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pedance metho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ot retr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t avail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xpected results: clots should normally be reduced by 50% of their original mass within 1 hou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low cytometric studies for Glycoprotei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142640" y="2286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Platelet Aggregometry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rot="16200000">
            <a:off x="-896400" y="3424680"/>
            <a:ext cx="2923920" cy="4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% Transmittance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008000" y="1866960"/>
            <a:ext cx="0" cy="39844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008000" y="5851440"/>
            <a:ext cx="7594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950400" y="4732920"/>
            <a:ext cx="1590480" cy="4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ffffff"/>
                </a:solidFill>
                <a:latin typeface="Arial"/>
              </a:rPr>
              <a:t>Baseline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176000" y="5823360"/>
            <a:ext cx="981000" cy="4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2" name=""/>
          <p:cNvGrpSpPr/>
          <p:nvPr/>
        </p:nvGrpSpPr>
        <p:grpSpPr>
          <a:xfrm>
            <a:off x="1193760" y="5389560"/>
            <a:ext cx="317160" cy="334800"/>
            <a:chOff x="1193760" y="5389560"/>
            <a:chExt cx="317160" cy="334800"/>
          </a:xfrm>
        </p:grpSpPr>
        <p:sp>
          <p:nvSpPr>
            <p:cNvPr id="733" name=""/>
            <p:cNvSpPr/>
            <p:nvPr/>
          </p:nvSpPr>
          <p:spPr>
            <a:xfrm flipV="1">
              <a:off x="1193760" y="5432400"/>
              <a:ext cx="36360" cy="20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230120" y="5432400"/>
              <a:ext cx="56520" cy="250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V="1">
              <a:off x="1286640" y="5389560"/>
              <a:ext cx="18000" cy="29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305000" y="5389560"/>
              <a:ext cx="74880" cy="334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V="1">
              <a:off x="1379880" y="5452560"/>
              <a:ext cx="37800" cy="250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418040" y="5452920"/>
              <a:ext cx="74520" cy="250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V="1">
              <a:off x="1492560" y="5452560"/>
              <a:ext cx="18360" cy="250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0" name=""/>
          <p:cNvGrpSpPr/>
          <p:nvPr/>
        </p:nvGrpSpPr>
        <p:grpSpPr>
          <a:xfrm>
            <a:off x="1509840" y="5106600"/>
            <a:ext cx="177480" cy="624240"/>
            <a:chOff x="1509840" y="5106600"/>
            <a:chExt cx="177480" cy="624240"/>
          </a:xfrm>
        </p:grpSpPr>
        <p:sp>
          <p:nvSpPr>
            <p:cNvPr id="741" name=""/>
            <p:cNvSpPr/>
            <p:nvPr/>
          </p:nvSpPr>
          <p:spPr>
            <a:xfrm flipV="1">
              <a:off x="1509840" y="5106600"/>
              <a:ext cx="74520" cy="344520"/>
            </a:xfrm>
            <a:prstGeom prst="line">
              <a:avLst/>
            </a:prstGeom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588680" y="5106960"/>
              <a:ext cx="47880" cy="623880"/>
            </a:xfrm>
            <a:prstGeom prst="line">
              <a:avLst/>
            </a:prstGeom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V="1">
              <a:off x="1636560" y="5473800"/>
              <a:ext cx="50760" cy="257040"/>
            </a:xfrm>
            <a:prstGeom prst="line">
              <a:avLst/>
            </a:prstGeom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4" name=""/>
          <p:cNvSpPr/>
          <p:nvPr/>
        </p:nvSpPr>
        <p:spPr>
          <a:xfrm>
            <a:off x="1111320" y="3935880"/>
            <a:ext cx="2698560" cy="4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ffffff"/>
                </a:solidFill>
                <a:latin typeface="Arial"/>
              </a:rPr>
              <a:t>Reagent Added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45" name=""/>
          <p:cNvGrpSpPr/>
          <p:nvPr/>
        </p:nvGrpSpPr>
        <p:grpSpPr>
          <a:xfrm>
            <a:off x="1704960" y="4037040"/>
            <a:ext cx="1557000" cy="1677960"/>
            <a:chOff x="1704960" y="4037040"/>
            <a:chExt cx="1557000" cy="1677960"/>
          </a:xfrm>
        </p:grpSpPr>
        <p:sp>
          <p:nvSpPr>
            <p:cNvPr id="746" name=""/>
            <p:cNvSpPr/>
            <p:nvPr/>
          </p:nvSpPr>
          <p:spPr>
            <a:xfrm>
              <a:off x="1704960" y="5505480"/>
              <a:ext cx="28080" cy="209520"/>
            </a:xfrm>
            <a:prstGeom prst="line">
              <a:avLst/>
            </a:prstGeom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V="1">
              <a:off x="1733040" y="5378040"/>
              <a:ext cx="74520" cy="336600"/>
            </a:xfrm>
            <a:prstGeom prst="line">
              <a:avLst/>
            </a:prstGeom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807920" y="5378400"/>
              <a:ext cx="46080" cy="231840"/>
            </a:xfrm>
            <a:prstGeom prst="line">
              <a:avLst/>
            </a:prstGeom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V="1">
              <a:off x="1854360" y="5221440"/>
              <a:ext cx="56520" cy="388800"/>
            </a:xfrm>
            <a:prstGeom prst="line">
              <a:avLst/>
            </a:prstGeom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910880" y="5221440"/>
              <a:ext cx="64800" cy="284040"/>
            </a:xfrm>
            <a:prstGeom prst="line">
              <a:avLst/>
            </a:prstGeom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V="1">
              <a:off x="1975680" y="5127480"/>
              <a:ext cx="46080" cy="355680"/>
            </a:xfrm>
            <a:prstGeom prst="line">
              <a:avLst/>
            </a:prstGeom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032200" y="5127480"/>
              <a:ext cx="36720" cy="293760"/>
            </a:xfrm>
            <a:prstGeom prst="line">
              <a:avLst/>
            </a:prstGeom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>
              <a:off x="2068920" y="5000760"/>
              <a:ext cx="64800" cy="420480"/>
            </a:xfrm>
            <a:prstGeom prst="line">
              <a:avLst/>
            </a:prstGeom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133720" y="5000760"/>
              <a:ext cx="47520" cy="325440"/>
            </a:xfrm>
            <a:prstGeom prst="line">
              <a:avLst/>
            </a:prstGeom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V="1">
              <a:off x="2181600" y="4863960"/>
              <a:ext cx="54720" cy="441360"/>
            </a:xfrm>
            <a:prstGeom prst="line">
              <a:avLst/>
            </a:prstGeom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236320" y="4863960"/>
              <a:ext cx="46440" cy="368280"/>
            </a:xfrm>
            <a:prstGeom prst="line">
              <a:avLst/>
            </a:prstGeom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V="1">
              <a:off x="2283120" y="4791240"/>
              <a:ext cx="64800" cy="419040"/>
            </a:xfrm>
            <a:prstGeom prst="line">
              <a:avLst/>
            </a:prstGeom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348280" y="4791240"/>
              <a:ext cx="47880" cy="345960"/>
            </a:xfrm>
            <a:prstGeom prst="line">
              <a:avLst/>
            </a:prstGeom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V="1">
              <a:off x="2396160" y="4696920"/>
              <a:ext cx="45000" cy="430200"/>
            </a:xfrm>
            <a:prstGeom prst="line">
              <a:avLst/>
            </a:prstGeom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441160" y="4697280"/>
              <a:ext cx="56160" cy="346320"/>
            </a:xfrm>
            <a:prstGeom prst="line">
              <a:avLst/>
            </a:prstGeom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V="1">
              <a:off x="2497680" y="4613040"/>
              <a:ext cx="46440" cy="430200"/>
            </a:xfrm>
            <a:prstGeom prst="line">
              <a:avLst/>
            </a:prstGeom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544120" y="4613400"/>
              <a:ext cx="56160" cy="377640"/>
            </a:xfrm>
            <a:prstGeom prst="line">
              <a:avLst/>
            </a:prstGeom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V="1">
              <a:off x="2600640" y="4508280"/>
              <a:ext cx="64800" cy="471240"/>
            </a:xfrm>
            <a:prstGeom prst="line">
              <a:avLst/>
            </a:prstGeom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665440" y="4497480"/>
              <a:ext cx="37800" cy="398520"/>
            </a:xfrm>
            <a:prstGeom prst="line">
              <a:avLst/>
            </a:prstGeom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V="1">
              <a:off x="2703600" y="4403520"/>
              <a:ext cx="73080" cy="471240"/>
            </a:xfrm>
            <a:prstGeom prst="line">
              <a:avLst/>
            </a:prstGeom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776680" y="4403880"/>
              <a:ext cx="37800" cy="398160"/>
            </a:xfrm>
            <a:prstGeom prst="line">
              <a:avLst/>
            </a:prstGeom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flipV="1">
              <a:off x="2814840" y="4267080"/>
              <a:ext cx="74520" cy="524160"/>
            </a:xfrm>
            <a:prstGeom prst="line">
              <a:avLst/>
            </a:prstGeom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889720" y="4267080"/>
              <a:ext cx="46440" cy="462240"/>
            </a:xfrm>
            <a:prstGeom prst="line">
              <a:avLst/>
            </a:prstGeom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936520" y="4203360"/>
              <a:ext cx="74520" cy="482760"/>
            </a:xfrm>
            <a:prstGeom prst="line">
              <a:avLst/>
            </a:prstGeom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011040" y="4203720"/>
              <a:ext cx="18360" cy="430200"/>
            </a:xfrm>
            <a:prstGeom prst="line">
              <a:avLst/>
            </a:prstGeom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V="1">
              <a:off x="3029760" y="4121280"/>
              <a:ext cx="92880" cy="512640"/>
            </a:xfrm>
            <a:prstGeom prst="line">
              <a:avLst/>
            </a:prstGeom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122640" y="4130640"/>
              <a:ext cx="26640" cy="450720"/>
            </a:xfrm>
            <a:prstGeom prst="line">
              <a:avLst/>
            </a:prstGeom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V="1">
              <a:off x="3149640" y="4046400"/>
              <a:ext cx="74520" cy="534960"/>
            </a:xfrm>
            <a:prstGeom prst="line">
              <a:avLst/>
            </a:prstGeom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224160" y="4037040"/>
              <a:ext cx="37800" cy="430200"/>
            </a:xfrm>
            <a:prstGeom prst="line">
              <a:avLst/>
            </a:prstGeom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75" name=""/>
          <p:cNvSpPr/>
          <p:nvPr/>
        </p:nvSpPr>
        <p:spPr>
          <a:xfrm>
            <a:off x="1298520" y="3358080"/>
            <a:ext cx="2816280" cy="4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ffffff"/>
                </a:solidFill>
                <a:latin typeface="Arial"/>
              </a:rPr>
              <a:t>Shape Change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6" name=""/>
          <p:cNvGrpSpPr/>
          <p:nvPr/>
        </p:nvGrpSpPr>
        <p:grpSpPr>
          <a:xfrm>
            <a:off x="3273480" y="4000320"/>
            <a:ext cx="1317240" cy="471600"/>
            <a:chOff x="3273480" y="4000320"/>
            <a:chExt cx="1317240" cy="471600"/>
          </a:xfrm>
        </p:grpSpPr>
        <p:sp>
          <p:nvSpPr>
            <p:cNvPr id="777" name=""/>
            <p:cNvSpPr/>
            <p:nvPr/>
          </p:nvSpPr>
          <p:spPr>
            <a:xfrm flipV="1">
              <a:off x="3273480" y="4032000"/>
              <a:ext cx="66240" cy="430200"/>
            </a:xfrm>
            <a:prstGeom prst="line">
              <a:avLst/>
            </a:prstGeom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339720" y="4032360"/>
              <a:ext cx="36360" cy="439560"/>
            </a:xfrm>
            <a:prstGeom prst="line">
              <a:avLst/>
            </a:prstGeom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V="1">
              <a:off x="3376080" y="4062240"/>
              <a:ext cx="56520" cy="400320"/>
            </a:xfrm>
            <a:prstGeom prst="line">
              <a:avLst/>
            </a:prstGeom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432960" y="4062240"/>
              <a:ext cx="46440" cy="389160"/>
            </a:xfrm>
            <a:prstGeom prst="line">
              <a:avLst/>
            </a:prstGeom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V="1">
              <a:off x="3479400" y="4032000"/>
              <a:ext cx="46440" cy="398520"/>
            </a:xfrm>
            <a:prstGeom prst="line">
              <a:avLst/>
            </a:prstGeom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525840" y="4032360"/>
              <a:ext cx="46440" cy="419040"/>
            </a:xfrm>
            <a:prstGeom prst="line">
              <a:avLst/>
            </a:prstGeom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V="1">
              <a:off x="3572280" y="4020840"/>
              <a:ext cx="64800" cy="430200"/>
            </a:xfrm>
            <a:prstGeom prst="line">
              <a:avLst/>
            </a:prstGeom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637440" y="4021200"/>
              <a:ext cx="47880" cy="398520"/>
            </a:xfrm>
            <a:prstGeom prst="line">
              <a:avLst/>
            </a:prstGeom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V="1">
              <a:off x="3685680" y="4032000"/>
              <a:ext cx="55080" cy="377640"/>
            </a:xfrm>
            <a:prstGeom prst="line">
              <a:avLst/>
            </a:prstGeom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740760" y="4032360"/>
              <a:ext cx="37800" cy="377640"/>
            </a:xfrm>
            <a:prstGeom prst="line">
              <a:avLst/>
            </a:prstGeom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>
              <a:off x="3778560" y="4032000"/>
              <a:ext cx="64800" cy="377640"/>
            </a:xfrm>
            <a:prstGeom prst="line">
              <a:avLst/>
            </a:prstGeom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843720" y="4032360"/>
              <a:ext cx="36720" cy="377640"/>
            </a:xfrm>
            <a:prstGeom prst="line">
              <a:avLst/>
            </a:prstGeom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V="1">
              <a:off x="3880440" y="4041360"/>
              <a:ext cx="56160" cy="368280"/>
            </a:xfrm>
            <a:prstGeom prst="line">
              <a:avLst/>
            </a:prstGeom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36960" y="4041720"/>
              <a:ext cx="56520" cy="357120"/>
            </a:xfrm>
            <a:prstGeom prst="line">
              <a:avLst/>
            </a:prstGeom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V="1">
              <a:off x="3993480" y="4032360"/>
              <a:ext cx="36360" cy="334800"/>
            </a:xfrm>
            <a:prstGeom prst="line">
              <a:avLst/>
            </a:prstGeom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39920" y="4032360"/>
              <a:ext cx="36720" cy="334800"/>
            </a:xfrm>
            <a:prstGeom prst="line">
              <a:avLst/>
            </a:prstGeom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V="1">
              <a:off x="4086720" y="4041360"/>
              <a:ext cx="46440" cy="284040"/>
            </a:xfrm>
            <a:prstGeom prst="line">
              <a:avLst/>
            </a:prstGeom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133160" y="4032360"/>
              <a:ext cx="28080" cy="323640"/>
            </a:xfrm>
            <a:prstGeom prst="line">
              <a:avLst/>
            </a:prstGeom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V="1">
              <a:off x="4171320" y="4010040"/>
              <a:ext cx="36720" cy="357120"/>
            </a:xfrm>
            <a:prstGeom prst="line">
              <a:avLst/>
            </a:prstGeom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208040" y="4010040"/>
              <a:ext cx="46440" cy="368280"/>
            </a:xfrm>
            <a:prstGeom prst="line">
              <a:avLst/>
            </a:prstGeom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V="1">
              <a:off x="4254480" y="4020840"/>
              <a:ext cx="46440" cy="314280"/>
            </a:xfrm>
            <a:prstGeom prst="line">
              <a:avLst/>
            </a:prstGeom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301280" y="4021200"/>
              <a:ext cx="28080" cy="357120"/>
            </a:xfrm>
            <a:prstGeom prst="line">
              <a:avLst/>
            </a:prstGeom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V="1">
              <a:off x="4329720" y="4000320"/>
              <a:ext cx="56160" cy="377640"/>
            </a:xfrm>
            <a:prstGeom prst="line">
              <a:avLst/>
            </a:prstGeom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385880" y="4000680"/>
              <a:ext cx="36720" cy="387000"/>
            </a:xfrm>
            <a:prstGeom prst="line">
              <a:avLst/>
            </a:prstGeom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4422960" y="4009680"/>
              <a:ext cx="56160" cy="368280"/>
            </a:xfrm>
            <a:prstGeom prst="line">
              <a:avLst/>
            </a:prstGeom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479120" y="4010040"/>
              <a:ext cx="28440" cy="357120"/>
            </a:xfrm>
            <a:prstGeom prst="line">
              <a:avLst/>
            </a:prstGeom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V="1">
              <a:off x="4507560" y="4020840"/>
              <a:ext cx="45000" cy="345960"/>
            </a:xfrm>
            <a:prstGeom prst="line">
              <a:avLst/>
            </a:prstGeom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552920" y="4021200"/>
              <a:ext cx="37800" cy="357120"/>
            </a:xfrm>
            <a:prstGeom prst="line">
              <a:avLst/>
            </a:prstGeom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05" name=""/>
          <p:cNvSpPr/>
          <p:nvPr/>
        </p:nvSpPr>
        <p:spPr>
          <a:xfrm>
            <a:off x="2362320" y="2759760"/>
            <a:ext cx="3733560" cy="4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ffffff"/>
                </a:solidFill>
                <a:latin typeface="Arial"/>
              </a:rPr>
              <a:t>Aggregation Plateau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4191120" y="3276720"/>
            <a:ext cx="0" cy="6080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07" name=""/>
          <p:cNvGrpSpPr/>
          <p:nvPr/>
        </p:nvGrpSpPr>
        <p:grpSpPr>
          <a:xfrm>
            <a:off x="340920" y="1629360"/>
            <a:ext cx="8261280" cy="4637520"/>
            <a:chOff x="340920" y="1629360"/>
            <a:chExt cx="8261280" cy="4637520"/>
          </a:xfrm>
        </p:grpSpPr>
        <p:sp>
          <p:nvSpPr>
            <p:cNvPr id="808" name=""/>
            <p:cNvSpPr/>
            <p:nvPr/>
          </p:nvSpPr>
          <p:spPr>
            <a:xfrm>
              <a:off x="1007280" y="1866960"/>
              <a:ext cx="0" cy="3984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007280" y="5851440"/>
              <a:ext cx="7594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176000" y="5823360"/>
              <a:ext cx="98100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rot="16200000">
              <a:off x="-898920" y="3421440"/>
              <a:ext cx="292392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% Transmittance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12" name=""/>
            <p:cNvGrpSpPr/>
            <p:nvPr/>
          </p:nvGrpSpPr>
          <p:grpSpPr>
            <a:xfrm>
              <a:off x="1193760" y="5389560"/>
              <a:ext cx="316800" cy="334800"/>
              <a:chOff x="1193760" y="5389560"/>
              <a:chExt cx="316800" cy="334800"/>
            </a:xfrm>
          </p:grpSpPr>
          <p:sp>
            <p:nvSpPr>
              <p:cNvPr id="813" name=""/>
              <p:cNvSpPr/>
              <p:nvPr/>
            </p:nvSpPr>
            <p:spPr>
              <a:xfrm flipV="1">
                <a:off x="1193760" y="5432400"/>
                <a:ext cx="36360" cy="2095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1230120" y="5432400"/>
                <a:ext cx="56520" cy="2509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flipV="1">
                <a:off x="1286640" y="5389560"/>
                <a:ext cx="18000" cy="29376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1305000" y="5389560"/>
                <a:ext cx="74520" cy="334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flipV="1">
                <a:off x="1379520" y="5452560"/>
                <a:ext cx="37800" cy="2509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417680" y="5452920"/>
                <a:ext cx="74160" cy="2509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flipV="1">
                <a:off x="1492200" y="5452560"/>
                <a:ext cx="18360" cy="2509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20" name=""/>
            <p:cNvGrpSpPr/>
            <p:nvPr/>
          </p:nvGrpSpPr>
          <p:grpSpPr>
            <a:xfrm>
              <a:off x="1509480" y="5106600"/>
              <a:ext cx="177480" cy="624240"/>
              <a:chOff x="1509480" y="5106600"/>
              <a:chExt cx="177480" cy="624240"/>
            </a:xfrm>
          </p:grpSpPr>
          <p:sp>
            <p:nvSpPr>
              <p:cNvPr id="821" name=""/>
              <p:cNvSpPr/>
              <p:nvPr/>
            </p:nvSpPr>
            <p:spPr>
              <a:xfrm flipV="1">
                <a:off x="1509480" y="5106600"/>
                <a:ext cx="74520" cy="3445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1588320" y="5106960"/>
                <a:ext cx="47880" cy="62388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flipV="1">
                <a:off x="1636200" y="5473800"/>
                <a:ext cx="50760" cy="2570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24" name=""/>
            <p:cNvGrpSpPr/>
            <p:nvPr/>
          </p:nvGrpSpPr>
          <p:grpSpPr>
            <a:xfrm>
              <a:off x="1704240" y="4037040"/>
              <a:ext cx="1557360" cy="1677960"/>
              <a:chOff x="1704240" y="4037040"/>
              <a:chExt cx="1557360" cy="1677960"/>
            </a:xfrm>
          </p:grpSpPr>
          <p:sp>
            <p:nvSpPr>
              <p:cNvPr id="825" name=""/>
              <p:cNvSpPr/>
              <p:nvPr/>
            </p:nvSpPr>
            <p:spPr>
              <a:xfrm>
                <a:off x="1704240" y="5505480"/>
                <a:ext cx="28080" cy="2095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V="1">
                <a:off x="1732320" y="5378040"/>
                <a:ext cx="74880" cy="336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1807200" y="5378400"/>
                <a:ext cx="46080" cy="2318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V="1">
                <a:off x="1853640" y="5221440"/>
                <a:ext cx="56520" cy="388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910160" y="5221440"/>
                <a:ext cx="64800" cy="2840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flipV="1">
                <a:off x="1974960" y="5127480"/>
                <a:ext cx="46080" cy="35568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2031480" y="5127480"/>
                <a:ext cx="36720" cy="29376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flipV="1">
                <a:off x="2068200" y="5000760"/>
                <a:ext cx="64800" cy="42048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2133360" y="5000760"/>
                <a:ext cx="47520" cy="325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flipV="1">
                <a:off x="2180880" y="4863960"/>
                <a:ext cx="54720" cy="44136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35960" y="4863960"/>
                <a:ext cx="46440" cy="36828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V="1">
                <a:off x="2282760" y="4791240"/>
                <a:ext cx="64800" cy="4190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2347560" y="4791240"/>
                <a:ext cx="47880" cy="34596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V="1">
                <a:off x="2395440" y="4696920"/>
                <a:ext cx="45000" cy="4302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2440800" y="4697280"/>
                <a:ext cx="56160" cy="3463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flipV="1">
                <a:off x="2496960" y="4613040"/>
                <a:ext cx="46440" cy="4302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2543760" y="4613400"/>
                <a:ext cx="56160" cy="3776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flipV="1">
                <a:off x="2599920" y="4508280"/>
                <a:ext cx="64800" cy="4712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2665080" y="4497480"/>
                <a:ext cx="37800" cy="3985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V="1">
                <a:off x="2703240" y="4403520"/>
                <a:ext cx="73080" cy="4712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776320" y="4403880"/>
                <a:ext cx="37800" cy="39816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flipV="1">
                <a:off x="2814480" y="4267080"/>
                <a:ext cx="74880" cy="52416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2889360" y="4267080"/>
                <a:ext cx="46440" cy="4622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flipV="1">
                <a:off x="2936160" y="4203360"/>
                <a:ext cx="74520" cy="48276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010680" y="4203720"/>
                <a:ext cx="18360" cy="4302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flipV="1">
                <a:off x="3029040" y="4121280"/>
                <a:ext cx="92880" cy="5126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122280" y="4130640"/>
                <a:ext cx="26640" cy="4507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flipV="1">
                <a:off x="3149280" y="4046400"/>
                <a:ext cx="74520" cy="53496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3223800" y="4037040"/>
                <a:ext cx="37800" cy="4302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54" name=""/>
            <p:cNvGrpSpPr/>
            <p:nvPr/>
          </p:nvGrpSpPr>
          <p:grpSpPr>
            <a:xfrm>
              <a:off x="3273840" y="4000320"/>
              <a:ext cx="1316160" cy="471600"/>
              <a:chOff x="3273840" y="4000320"/>
              <a:chExt cx="1316160" cy="471600"/>
            </a:xfrm>
          </p:grpSpPr>
          <p:sp>
            <p:nvSpPr>
              <p:cNvPr id="855" name=""/>
              <p:cNvSpPr/>
              <p:nvPr/>
            </p:nvSpPr>
            <p:spPr>
              <a:xfrm flipV="1">
                <a:off x="3273840" y="4032000"/>
                <a:ext cx="66240" cy="4302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340080" y="4032360"/>
                <a:ext cx="36360" cy="43956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flipV="1">
                <a:off x="3376440" y="4062240"/>
                <a:ext cx="56520" cy="4003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3432960" y="4062240"/>
                <a:ext cx="46080" cy="38916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flipV="1">
                <a:off x="3479400" y="4032000"/>
                <a:ext cx="46440" cy="3985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3526200" y="4032360"/>
                <a:ext cx="46080" cy="4190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flipV="1">
                <a:off x="3572640" y="4020840"/>
                <a:ext cx="64800" cy="4302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3637440" y="4021200"/>
                <a:ext cx="47880" cy="3985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flipV="1">
                <a:off x="3685680" y="4032000"/>
                <a:ext cx="54720" cy="3776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3740400" y="4032360"/>
                <a:ext cx="37800" cy="3776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flipV="1">
                <a:off x="3778560" y="4032000"/>
                <a:ext cx="64800" cy="3776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3843720" y="4032360"/>
                <a:ext cx="36720" cy="3776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flipV="1">
                <a:off x="3880440" y="4041360"/>
                <a:ext cx="56160" cy="36828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3936600" y="4041720"/>
                <a:ext cx="56520" cy="3571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flipV="1">
                <a:off x="3993480" y="4032360"/>
                <a:ext cx="36360" cy="334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4039920" y="4032360"/>
                <a:ext cx="36720" cy="334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flipV="1">
                <a:off x="4086360" y="4041360"/>
                <a:ext cx="46080" cy="2840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4132800" y="4032360"/>
                <a:ext cx="28080" cy="3236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flipV="1">
                <a:off x="4170960" y="4010040"/>
                <a:ext cx="36720" cy="3571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4207680" y="4010040"/>
                <a:ext cx="46080" cy="36828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flipV="1">
                <a:off x="4254120" y="4020840"/>
                <a:ext cx="46440" cy="31428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4300920" y="4021200"/>
                <a:ext cx="28080" cy="3571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flipV="1">
                <a:off x="4329000" y="4000320"/>
                <a:ext cx="56160" cy="3776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4385520" y="4000680"/>
                <a:ext cx="36720" cy="38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flipV="1">
                <a:off x="4422240" y="4009680"/>
                <a:ext cx="56160" cy="36828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4478400" y="4010040"/>
                <a:ext cx="28440" cy="3571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flipV="1">
                <a:off x="4506840" y="4020840"/>
                <a:ext cx="45000" cy="34596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4552200" y="4021200"/>
                <a:ext cx="37800" cy="3571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83" name=""/>
            <p:cNvGrpSpPr/>
            <p:nvPr/>
          </p:nvGrpSpPr>
          <p:grpSpPr>
            <a:xfrm>
              <a:off x="4590360" y="2184480"/>
              <a:ext cx="2061000" cy="2193480"/>
              <a:chOff x="4590360" y="2184480"/>
              <a:chExt cx="2061000" cy="2193480"/>
            </a:xfrm>
          </p:grpSpPr>
          <p:sp>
            <p:nvSpPr>
              <p:cNvPr id="884" name=""/>
              <p:cNvSpPr/>
              <p:nvPr/>
            </p:nvSpPr>
            <p:spPr>
              <a:xfrm flipV="1">
                <a:off x="4590360" y="3895200"/>
                <a:ext cx="46080" cy="482760"/>
              </a:xfrm>
              <a:prstGeom prst="line">
                <a:avLst/>
              </a:prstGeom>
              <a:ln w="0">
                <a:solidFill>
                  <a:srgbClr val="0099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4636440" y="3895560"/>
                <a:ext cx="56520" cy="419400"/>
              </a:xfrm>
              <a:prstGeom prst="line">
                <a:avLst/>
              </a:prstGeom>
              <a:ln w="0">
                <a:solidFill>
                  <a:srgbClr val="0099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flipV="1">
                <a:off x="4693320" y="3800160"/>
                <a:ext cx="54720" cy="514440"/>
              </a:xfrm>
              <a:prstGeom prst="line">
                <a:avLst/>
              </a:prstGeom>
              <a:ln w="0">
                <a:solidFill>
                  <a:srgbClr val="0099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4748400" y="3800520"/>
                <a:ext cx="28080" cy="441360"/>
              </a:xfrm>
              <a:prstGeom prst="line">
                <a:avLst/>
              </a:prstGeom>
              <a:ln w="0">
                <a:solidFill>
                  <a:srgbClr val="0099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flipV="1">
                <a:off x="4776480" y="3706920"/>
                <a:ext cx="74520" cy="534960"/>
              </a:xfrm>
              <a:prstGeom prst="line">
                <a:avLst/>
              </a:prstGeom>
              <a:ln w="0">
                <a:solidFill>
                  <a:srgbClr val="0099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4851360" y="3706920"/>
                <a:ext cx="18000" cy="482400"/>
              </a:xfrm>
              <a:prstGeom prst="line">
                <a:avLst/>
              </a:prstGeom>
              <a:ln w="0">
                <a:solidFill>
                  <a:srgbClr val="0099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flipV="1">
                <a:off x="4869360" y="3549600"/>
                <a:ext cx="92880" cy="628560"/>
              </a:xfrm>
              <a:prstGeom prst="line">
                <a:avLst/>
              </a:prstGeom>
              <a:ln w="0">
                <a:solidFill>
                  <a:srgbClr val="0099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4962600" y="3549600"/>
                <a:ext cx="37800" cy="546120"/>
              </a:xfrm>
              <a:prstGeom prst="line">
                <a:avLst/>
              </a:prstGeom>
              <a:ln w="0">
                <a:solidFill>
                  <a:srgbClr val="0099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flipV="1">
                <a:off x="5000760" y="3454200"/>
                <a:ext cx="56160" cy="641160"/>
              </a:xfrm>
              <a:prstGeom prst="line">
                <a:avLst/>
              </a:prstGeom>
              <a:ln w="0">
                <a:solidFill>
                  <a:srgbClr val="0099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5056920" y="3454560"/>
                <a:ext cx="45360" cy="556920"/>
              </a:xfrm>
              <a:prstGeom prst="line">
                <a:avLst/>
              </a:prstGeom>
              <a:ln w="0">
                <a:solidFill>
                  <a:srgbClr val="0099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flipV="1">
                <a:off x="5102640" y="3317400"/>
                <a:ext cx="56160" cy="682920"/>
              </a:xfrm>
              <a:prstGeom prst="line">
                <a:avLst/>
              </a:prstGeom>
              <a:ln w="0">
                <a:solidFill>
                  <a:srgbClr val="0099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5158800" y="3317760"/>
                <a:ext cx="56160" cy="619200"/>
              </a:xfrm>
              <a:prstGeom prst="line">
                <a:avLst/>
              </a:prstGeom>
              <a:ln w="0">
                <a:solidFill>
                  <a:srgbClr val="0099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flipV="1">
                <a:off x="5214960" y="3203280"/>
                <a:ext cx="64800" cy="723960"/>
              </a:xfrm>
              <a:prstGeom prst="line">
                <a:avLst/>
              </a:prstGeom>
              <a:ln w="0">
                <a:solidFill>
                  <a:srgbClr val="0099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5280120" y="3203640"/>
                <a:ext cx="56520" cy="628560"/>
              </a:xfrm>
              <a:prstGeom prst="line">
                <a:avLst/>
              </a:prstGeom>
              <a:ln w="0">
                <a:solidFill>
                  <a:srgbClr val="0099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flipV="1">
                <a:off x="5336640" y="3056040"/>
                <a:ext cx="56160" cy="766800"/>
              </a:xfrm>
              <a:prstGeom prst="line">
                <a:avLst/>
              </a:prstGeom>
              <a:ln w="0">
                <a:solidFill>
                  <a:srgbClr val="0099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5393160" y="3056040"/>
                <a:ext cx="36720" cy="660240"/>
              </a:xfrm>
              <a:prstGeom prst="line">
                <a:avLst/>
              </a:prstGeom>
              <a:ln w="0">
                <a:solidFill>
                  <a:srgbClr val="0099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flipV="1">
                <a:off x="5429880" y="2971800"/>
                <a:ext cx="64440" cy="682560"/>
              </a:xfrm>
              <a:prstGeom prst="line">
                <a:avLst/>
              </a:prstGeom>
              <a:ln w="0">
                <a:solidFill>
                  <a:srgbClr val="0099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5494320" y="2971800"/>
                <a:ext cx="19800" cy="546120"/>
              </a:xfrm>
              <a:prstGeom prst="line">
                <a:avLst/>
              </a:prstGeom>
              <a:ln w="0">
                <a:solidFill>
                  <a:srgbClr val="0099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flipV="1">
                <a:off x="5514480" y="2918880"/>
                <a:ext cx="73440" cy="598680"/>
              </a:xfrm>
              <a:prstGeom prst="line">
                <a:avLst/>
              </a:prstGeom>
              <a:ln w="0">
                <a:solidFill>
                  <a:srgbClr val="0099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5587920" y="2919240"/>
                <a:ext cx="37800" cy="514440"/>
              </a:xfrm>
              <a:prstGeom prst="line">
                <a:avLst/>
              </a:prstGeom>
              <a:ln w="0">
                <a:solidFill>
                  <a:srgbClr val="0099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flipV="1">
                <a:off x="5626080" y="2771640"/>
                <a:ext cx="46080" cy="650880"/>
              </a:xfrm>
              <a:prstGeom prst="line">
                <a:avLst/>
              </a:prstGeom>
              <a:ln w="0">
                <a:solidFill>
                  <a:srgbClr val="0099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5672520" y="2771640"/>
                <a:ext cx="56160" cy="557280"/>
              </a:xfrm>
              <a:prstGeom prst="line">
                <a:avLst/>
              </a:prstGeom>
              <a:ln w="0">
                <a:solidFill>
                  <a:srgbClr val="0099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 flipV="1">
                <a:off x="5728680" y="2687760"/>
                <a:ext cx="45360" cy="620640"/>
              </a:xfrm>
              <a:prstGeom prst="line">
                <a:avLst/>
              </a:prstGeom>
              <a:ln w="0">
                <a:solidFill>
                  <a:srgbClr val="0099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5774040" y="2687760"/>
                <a:ext cx="56160" cy="566640"/>
              </a:xfrm>
              <a:prstGeom prst="line">
                <a:avLst/>
              </a:prstGeom>
              <a:ln w="0">
                <a:solidFill>
                  <a:srgbClr val="0099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 flipV="1">
                <a:off x="5830560" y="2625480"/>
                <a:ext cx="64800" cy="618840"/>
              </a:xfrm>
              <a:prstGeom prst="line">
                <a:avLst/>
              </a:prstGeom>
              <a:ln w="0">
                <a:solidFill>
                  <a:srgbClr val="0099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5895360" y="2625840"/>
                <a:ext cx="56160" cy="523800"/>
              </a:xfrm>
              <a:prstGeom prst="line">
                <a:avLst/>
              </a:prstGeom>
              <a:ln w="0">
                <a:solidFill>
                  <a:srgbClr val="0099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flipV="1">
                <a:off x="5951880" y="2530080"/>
                <a:ext cx="65880" cy="546120"/>
              </a:xfrm>
              <a:prstGeom prst="line">
                <a:avLst/>
              </a:prstGeom>
              <a:ln w="0">
                <a:solidFill>
                  <a:srgbClr val="0099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6018120" y="2530440"/>
                <a:ext cx="36720" cy="557280"/>
              </a:xfrm>
              <a:prstGeom prst="line">
                <a:avLst/>
              </a:prstGeom>
              <a:ln w="0">
                <a:solidFill>
                  <a:srgbClr val="0099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 flipV="1">
                <a:off x="6064560" y="2457000"/>
                <a:ext cx="83160" cy="546120"/>
              </a:xfrm>
              <a:prstGeom prst="line">
                <a:avLst/>
              </a:prstGeom>
              <a:ln w="0">
                <a:solidFill>
                  <a:srgbClr val="0099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6148080" y="2457360"/>
                <a:ext cx="18000" cy="567000"/>
              </a:xfrm>
              <a:prstGeom prst="line">
                <a:avLst/>
              </a:prstGeom>
              <a:ln w="0">
                <a:solidFill>
                  <a:srgbClr val="0099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 flipV="1">
                <a:off x="6166080" y="2405160"/>
                <a:ext cx="66240" cy="598320"/>
              </a:xfrm>
              <a:prstGeom prst="line">
                <a:avLst/>
              </a:prstGeom>
              <a:ln w="0">
                <a:solidFill>
                  <a:srgbClr val="0099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6232680" y="2405160"/>
                <a:ext cx="46080" cy="555480"/>
              </a:xfrm>
              <a:prstGeom prst="line">
                <a:avLst/>
              </a:prstGeom>
              <a:ln w="0">
                <a:solidFill>
                  <a:srgbClr val="0099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 flipV="1">
                <a:off x="6279120" y="2329920"/>
                <a:ext cx="73440" cy="621000"/>
              </a:xfrm>
              <a:prstGeom prst="line">
                <a:avLst/>
              </a:prstGeom>
              <a:ln w="0">
                <a:solidFill>
                  <a:srgbClr val="0099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6352560" y="2330280"/>
                <a:ext cx="19440" cy="598680"/>
              </a:xfrm>
              <a:prstGeom prst="line">
                <a:avLst/>
              </a:prstGeom>
              <a:ln w="0">
                <a:solidFill>
                  <a:srgbClr val="0099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flipV="1">
                <a:off x="6372360" y="2289240"/>
                <a:ext cx="64800" cy="630000"/>
              </a:xfrm>
              <a:prstGeom prst="line">
                <a:avLst/>
              </a:prstGeom>
              <a:ln w="0">
                <a:solidFill>
                  <a:srgbClr val="0099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6437160" y="2289240"/>
                <a:ext cx="46440" cy="577800"/>
              </a:xfrm>
              <a:prstGeom prst="line">
                <a:avLst/>
              </a:prstGeom>
              <a:ln w="0">
                <a:solidFill>
                  <a:srgbClr val="0099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 flipV="1">
                <a:off x="6483960" y="2215800"/>
                <a:ext cx="64800" cy="546120"/>
              </a:xfrm>
              <a:prstGeom prst="line">
                <a:avLst/>
              </a:prstGeom>
              <a:ln w="0">
                <a:solidFill>
                  <a:srgbClr val="0099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6548760" y="2216160"/>
                <a:ext cx="46080" cy="639720"/>
              </a:xfrm>
              <a:prstGeom prst="line">
                <a:avLst/>
              </a:prstGeom>
              <a:ln w="0">
                <a:solidFill>
                  <a:srgbClr val="0099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 flipV="1">
                <a:off x="6595200" y="2184480"/>
                <a:ext cx="56160" cy="650880"/>
              </a:xfrm>
              <a:prstGeom prst="line">
                <a:avLst/>
              </a:prstGeom>
              <a:ln w="0">
                <a:solidFill>
                  <a:srgbClr val="0099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23" name=""/>
            <p:cNvSpPr/>
            <p:nvPr/>
          </p:nvSpPr>
          <p:spPr>
            <a:xfrm>
              <a:off x="3337200" y="1629360"/>
              <a:ext cx="366300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700" spc="-1" strike="noStrike">
                  <a:solidFill>
                    <a:srgbClr val="ffffff"/>
                  </a:solidFill>
                  <a:latin typeface="Arial"/>
                </a:rPr>
                <a:t>Secondary Response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019120" y="2181240"/>
              <a:ext cx="0" cy="10065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25" name=""/>
          <p:cNvSpPr/>
          <p:nvPr/>
        </p:nvSpPr>
        <p:spPr>
          <a:xfrm>
            <a:off x="4572000" y="4572000"/>
            <a:ext cx="4402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te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With imped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thod there is increased resist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f the sample and ATP relea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7e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7e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7e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7e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1350720" y="228600"/>
            <a:ext cx="7792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Results of platelet aggregation studies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aggregation with arachidonic acid and AD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rkedly reduced aggregation with collag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rmal aggregation with ristocet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P release with thrombin is normal but absent with arachidonic ac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142640" y="228600"/>
            <a:ext cx="779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Platelet Aggregometry interpretation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76120" y="3243240"/>
            <a:ext cx="88678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30" name=""/>
          <p:cNvGrpSpPr/>
          <p:nvPr/>
        </p:nvGrpSpPr>
        <p:grpSpPr>
          <a:xfrm>
            <a:off x="232920" y="2139480"/>
            <a:ext cx="8902080" cy="4336560"/>
            <a:chOff x="232920" y="2139480"/>
            <a:chExt cx="8902080" cy="4336560"/>
          </a:xfrm>
        </p:grpSpPr>
        <p:sp>
          <p:nvSpPr>
            <p:cNvPr id="931" name=""/>
            <p:cNvSpPr/>
            <p:nvPr/>
          </p:nvSpPr>
          <p:spPr>
            <a:xfrm>
              <a:off x="251640" y="2890440"/>
              <a:ext cx="101448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sord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467520" y="2890440"/>
              <a:ext cx="60912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575960" y="2890440"/>
              <a:ext cx="49608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p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683680" y="2890440"/>
              <a:ext cx="50688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h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388560" y="2890440"/>
              <a:ext cx="49608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i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093080" y="2890440"/>
              <a:ext cx="50688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8200800" y="2890440"/>
              <a:ext cx="51912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r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33640" y="3566520"/>
              <a:ext cx="273636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ernard-Soulier syndrom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446280" y="3566520"/>
              <a:ext cx="52956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o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554720" y="3566520"/>
              <a:ext cx="52956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o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660640" y="3566520"/>
              <a:ext cx="50832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Va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070400" y="3566520"/>
              <a:ext cx="50832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Va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8179920" y="3566520"/>
              <a:ext cx="52956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o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34000" y="4218840"/>
              <a:ext cx="264492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hédiak-Higashi anomal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3445920" y="4218840"/>
              <a:ext cx="95796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bn/Va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554360" y="4218840"/>
              <a:ext cx="95796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bn/Va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071120" y="4218840"/>
              <a:ext cx="95796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bn/Va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8177040" y="4218840"/>
              <a:ext cx="95796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bn/Va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35440" y="4868280"/>
              <a:ext cx="284616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Glanzmann thrombasthen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446280" y="4868280"/>
              <a:ext cx="57384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b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554720" y="4868280"/>
              <a:ext cx="57384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b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5660640" y="4868280"/>
              <a:ext cx="57384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b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7071840" y="4868280"/>
              <a:ext cx="57384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b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33640" y="5523120"/>
              <a:ext cx="246672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Granule release defect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3446280" y="5523120"/>
              <a:ext cx="57384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b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4554720" y="5523120"/>
              <a:ext cx="57384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b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7071840" y="5523120"/>
              <a:ext cx="57384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b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32920" y="6175440"/>
              <a:ext cx="259488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von Willebrand's disea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365880" y="6174000"/>
              <a:ext cx="573840" cy="30060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Ab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581720" y="2139480"/>
              <a:ext cx="292248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ggregating Ag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61" name=""/>
          <p:cNvSpPr/>
          <p:nvPr/>
        </p:nvSpPr>
        <p:spPr>
          <a:xfrm>
            <a:off x="6321600" y="4800600"/>
            <a:ext cx="561600" cy="3373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44"/>
                </a:solidFill>
                <a:latin typeface="Tahoma"/>
              </a:rPr>
              <a:t>N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6325200" y="3505320"/>
            <a:ext cx="581400" cy="33732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d831"/>
                </a:solidFill>
                <a:latin typeface="Tahoma"/>
              </a:rPr>
              <a:t>Ab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low cytometry for the detection of Gp defeciency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990360" y="2017800"/>
            <a:ext cx="796428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tudy of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GP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Ib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II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howed reduction in PAC-1 which is a finding consistent with Glanzmann thrombasthen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ever hepatosplenomegaly is not explainable by the diagno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tient was readmitted on 18-11-02 for further investigations to clarify the hepatosplenomega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877160" cy="14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Thrombasthenia</a:t>
            </a:r>
            <a:br>
              <a:rPr sz="4000"/>
            </a:br>
            <a:r>
              <a:rPr b="1" i="1" lang="en-US" sz="2400" spc="-1" strike="noStrike">
                <a:solidFill>
                  <a:srgbClr val="ffcc66"/>
                </a:solidFill>
                <a:latin typeface="Times New Roman"/>
              </a:rPr>
              <a:t>Synonyms: Glanzmann thrombasthenia, constitutional thrombopathy, hereditary hemorrhagic thrombopathy</a:t>
            </a:r>
            <a:endParaRPr b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228600" y="2017800"/>
            <a:ext cx="8726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ckgroun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rombasthenia was first describe in 1918 by Glanzmann when he noted purpuric bleeding in patients with normal platelet cou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ypically, thrombasthenia is diagnosed at an early 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thophysiolog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utosomal recessive tra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production and assembly of the platelet membrane glycoprotein IIb-IIIa is altered, preventing the aggregation of platelets and subsequent clot 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Review of platelet function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837720" y="2017800"/>
            <a:ext cx="811692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telets adhere to the site of endothelial inju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ctiv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ggreg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crete &amp; promote further platelet recruitment &amp; aggreg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WF binds to the exposed collagen and binds GP Ib-IX-V complex on the surface of platelet, adhering platelets to the site of inju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brinogen and vWF bind to the GP IIb-IIIa complex on the activated platelet’s surface, allowing cross-linking and formation of clo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Specific Deficiency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P IIb and IIIa have separate genes on the long arm of chromosome 1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cific genetic abnormalities of each GP inclu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ssense mut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nsense mut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plice site mut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letions 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int mut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normalities in either gene or in the assembly of the complex result in an abnormal or deficient recep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equent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e or other GP is not formed properly, leaving the other unpaired in the endoplasmic reticulum, where it is degrad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latelet aggregation is rendered deficient or completely abs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terozygotes are asymptomat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inding sites for thrombin are preserved in thrombasthenic platel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/>
          </p:nvPr>
        </p:nvSpPr>
        <p:spPr>
          <a:xfrm>
            <a:off x="761760" y="17524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tients are classified into: type1, type2, or  the variant type, depending on the degree of GP IIb-IIIa deficiency, fibrinogen binding, and clot retr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ype 1 : most severe form, less than 5% of normal GP IIb-IIIa present with absent fibrinogen binding and clot retra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ype 2 : 10-20% of GP IIb-IIIa, normal to moderately deficient clot retraction with fibrinogen bin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riant type : 50% of the normal amount of GP IIb-IIIa with extremely variable fibrinogen binding and clot retra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Classification of platelet disorders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560" y="2743200"/>
            <a:ext cx="3795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ntitative disor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normal distribu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lution eff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reased produc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d destr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419360" y="2514240"/>
            <a:ext cx="3817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litative disor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herited disorders (rar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quired disord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d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ronic renal fail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diopulmonary bypa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7880" y="2286000"/>
            <a:ext cx="7721640" cy="0"/>
          </a:xfrm>
          <a:prstGeom prst="line">
            <a:avLst/>
          </a:prstGeom>
          <a:ln w="1260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equenc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0 cases are reported in medical litera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ase diagnosed in HUS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tality/Morbidit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ath following bleeding approx. 5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ypically diagnosed during infa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pistaxis is more severe in children but rare in adul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sto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the neonatal period: mucocutaneous bleedi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childhood: purpura, epistaxis &amp; gingival blee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bleeding tendency decreases with 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/>
          </p:nvPr>
        </p:nvSpPr>
        <p:spPr>
          <a:xfrm>
            <a:off x="1219320" y="2133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ditional presentations includ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I blee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cessive bleeding at menarche &amp; following partur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st surgical blee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marthrosis and deep hematomas are unusu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absence of family history should not delay a workup for thrombasthenia as it is a recessive tra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yond identification of hemorrhage, physical examination is usually of limited 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Other disorders to be considered in the differential diagnosi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Gray platelet syndro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ermansky-Pudlak syndro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hediak-Higashi syndro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T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DI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edication-induced platelet inhib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rostaglandin synthetase inhibitors (Aspirin, NSAID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DP receptor inhibitors (Clopidogrel, Ticlopidin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Receptor blocking drugs (Dipyridamol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Beta-lactam antibiotic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Hepar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Oth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lcoho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Urem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hyperglobulinem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ab investigation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Bleeding ti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ggregation stud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latelet count and morpholog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T/ APT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low cytometric stud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1350720" y="22860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Medical Care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0" y="1868400"/>
            <a:ext cx="914400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ergency car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fractory bleeding requires transfusion of normal platel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LA-matched platelets is the treatment of ch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 rare cases, antibodies to Gp IIb-IIIa are detect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dical treatmen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tifibrinolytic agents inhibit fibrinolysis via inhibition of plasminogen activator substa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minocaproic acid; may be useful in controlling bleeding after dental extra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traindicated in the evidence of active intravascular clotting process (DIC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ematuria is relative contraind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-administration with estrogens may cause increase clotting factors, leading to hypercoagulable st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Medical treatment contd</a:t>
            </a:r>
            <a:endParaRPr b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sopressin analogs, act like ADH to increase factor VIII leve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smopressin (DDAVP); synthetic vasopressin analo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use of DDAVP not recommended routinel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ntraindicated in documented hypersensitiv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otting fac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agulation factor VIIa, recombina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ther therapies cited in litera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V I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peated plasma phere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ne marrow transpla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1342800" y="-360"/>
            <a:ext cx="7800840" cy="15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Conclusion &amp; Take home message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nal diagnosis of our  patient was Glanzmann thrombasthen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mily studies for platelet function defect are recommen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ever, further investigations are required to clarify the cause of hepatosplenomegaly and low factor I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ractory haemorrhage in the presence of normal platelet count and normal coagulation factors need to be investigated further (Now in HUS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6304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Quantitative PLT disorders: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Decreased Produc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rrow failures - aplasia, malignancy, drug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ncreased consump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IC, TTP, Septicem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ncreased destruc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utoimmune, drugs, SLE, viral infect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Dilutional thrombocytopeni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ssive transfusions of stored bloo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Thrombocytopenia</a:t>
            </a:r>
            <a:endParaRPr b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920" y="2017800"/>
            <a:ext cx="74365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mune-media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ioapth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g-induc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agen vascular dise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ymphoproliferative dise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rcoido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immune media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croangiopathic hemolytic anem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Classification of thrombocytopenia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944960" y="1663560"/>
            <a:ext cx="404496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Associated with blee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mune-mediated thrombocytopenia (IT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st oth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4480" y="167652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Associated with thrombo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rombotic thrombocytopenic purpu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parin-associated thrombocytopen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ousseau’s syndro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Times New Roman"/>
              </a:rPr>
              <a:t>ITP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diopathic autoimmune platelet destru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#1 cause of isolated thrombocytopenia in otherwise healthy young pers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 diagnosis of exclu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3T23:28:13Z</dcterms:created>
  <dc:creator>IT</dc:creator>
  <dc:description/>
  <dc:language>en-US</dc:language>
  <cp:lastModifiedBy>Dr.abdel-hamid</cp:lastModifiedBy>
  <dcterms:modified xsi:type="dcterms:W3CDTF">2006-10-23T19:56:43Z</dcterms:modified>
  <cp:revision>42</cp:revision>
  <dc:subject/>
  <dc:title>HEMATOLOGY: NON-MALIGNANT DISORDERS</dc:title>
</cp:coreProperties>
</file>