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A4759-FCA9-4440-9A90-D018519E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2DEE1-421A-4518-9FF1-A9BDA140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97224-865D-4389-9B08-B407CF46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23D45-C445-4808-8A47-F7BA1E07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CEEF7-1DFB-4047-AADA-2E3E5460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28BD9-4189-4B85-9819-4BEF789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6AA72-933B-48B6-BBD3-F07777C1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8DC44-E64D-4F51-93D2-06A5D0B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B6043-A00A-4013-8563-F27C2BFB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C7B90-9466-414B-9189-36C8830E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65454-D6EE-42C6-97C4-977411E5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49377-E7A6-4E30-AE5C-EDB34FDE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aema - Non Mal:</a:t>
            </a:r>
            <a:fld id="{F98E19F3-529D-4928-B883-54CE5C5CC3AB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869240" y="647712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shi: 03/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65EC-3461-4F73-84B7-F69B0FD15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-6858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3600"/>
            </a:b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Non Malignant WBC - Disorders</a:t>
            </a:r>
            <a:endParaRPr b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Neutrop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lastic a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ns that damage m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ction Viral (Hep-B), Mycoplasma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row infiltration by infections or carcinomas, Radiation therapy Chemo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ologic malignancies such as leukem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eloprolifer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nit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eutrophil destruction as in Splenomegaly, Immune de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Lymphocyt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varies with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1.5 – 3.5 x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The subset cell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B-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Antibody mediated i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T-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Cell mediated i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NK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475080" cy="432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5867280" y="44953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Disorders of lymphocytes</a:t>
            </a:r>
            <a:br>
              <a:rPr sz="4000"/>
            </a:b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Benign disord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Lymphocy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Viral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Bacterial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Protozoal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Lymph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Marrow failure (drugs, irradi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Infections (viral infe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Immune-deficiency syndr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Antibody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ell mediated immune def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ombined cell and antibody immune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Disorders of lymphocytes </a:t>
            </a:r>
            <a:br>
              <a:rPr sz="4000"/>
            </a:b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Benign disord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Infectious mononucle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Epstein-Barr virus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Autoimmune lymphoproliferative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619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Disorders of Lymphocytes</a:t>
            </a:r>
            <a:br>
              <a:rPr sz="4000"/>
            </a:b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Malignant disord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Acute lymphoblastic (ALL) leuk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hronic lymphocytic leukemia (C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Lympho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Non Hodgkin’s lymph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Hodgkin’s dis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03640" y="1219320"/>
            <a:ext cx="3310200" cy="2354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298600" cy="2462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386400" y="1636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  <a:ea typeface="Arial"/>
              </a:rPr>
              <a:t>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95880" y="399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  <a:ea typeface="Arial"/>
              </a:rPr>
              <a:t>C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ymphocytosi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ly be observed in infants and young childr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infections, including pertussis, typhoid, and paratypho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us mononucleosis, with "atypical" lymphocy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al infections, including measles, mumps, adenovirus, enterovirus, and Coxsackie 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LV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ymphop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odeficiency syndromes, including congenital (DiGeorge syndrome, etc) and acquired 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ticosteroid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plasia, including Hodgkin's disease, non-Hodgkin's lymphomas, and advanced carcino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Monocyt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is 0.2-0.8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Antigen 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ytokine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Phagocyt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91240" y="1440000"/>
            <a:ext cx="3519360" cy="443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 flipV="1">
            <a:off x="6324480" y="4267080"/>
            <a:ext cx="9907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Disorders of Monocyt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Monocy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en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hronic bacterial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alig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hronic Myelomonocytic Leukaemia CM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Monocytosis 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: such as brucellosis, tuberculosis and rickett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eloproliferative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dgkin's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intestinal disorders, including inflammatory bowel diseases and sp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BC Histogram: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219320"/>
            <a:ext cx="1371600" cy="1523880"/>
          </a:xfrm>
          <a:prstGeom prst="rect">
            <a:avLst/>
          </a:prstGeom>
          <a:noFill/>
          <a:ln cap="sq"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2552760"/>
            <a:ext cx="2057400" cy="266760"/>
          </a:xfrm>
          <a:prstGeom prst="rect">
            <a:avLst/>
          </a:prstGeom>
          <a:noFill/>
          <a:ln cap="sq"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857680"/>
            <a:ext cx="2057400" cy="304560"/>
          </a:xfrm>
          <a:prstGeom prst="rect">
            <a:avLst/>
          </a:prstGeom>
          <a:noFill/>
          <a:ln cap="sq"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219320"/>
            <a:ext cx="990720" cy="2133360"/>
          </a:xfrm>
          <a:prstGeom prst="rect">
            <a:avLst/>
          </a:prstGeom>
          <a:noFill/>
          <a:ln cap="sq"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905120"/>
            <a:ext cx="2057400" cy="266760"/>
          </a:xfrm>
          <a:prstGeom prst="rect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1219320"/>
            <a:ext cx="685800" cy="2133360"/>
          </a:xfrm>
          <a:prstGeom prst="rect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2743200"/>
            <a:ext cx="1295280" cy="11430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2209680"/>
            <a:ext cx="2057400" cy="3049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0720" y="4572000"/>
            <a:ext cx="2971800" cy="5335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81080" y="5105160"/>
            <a:ext cx="0" cy="1066680"/>
          </a:xfrm>
          <a:prstGeom prst="line">
            <a:avLst/>
          </a:prstGeom>
          <a:ln cap="sq"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56386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Eosinophil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0.2 – 0.8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ilobed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Phagocytic activity is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odulation of hypersensitivity and allergic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749840" y="1452600"/>
            <a:ext cx="3602160" cy="4410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>
            <a:off x="6629400" y="289548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Disorders of Eosinophil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osinoph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&gt;0.8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Allergic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Parasitic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ali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HD, N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Inflammatory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yeloprolifer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Hypereosinophilic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osinophil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ic drug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sitic infestations  - with tissue inv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insic asth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f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insic allergic alveolitis ("farmer's lung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c 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logic malignancies: CML, Hodgkin's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osinopenia, Monocytopenia &amp; Basop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stress reactions with increased glucocorticoid and epinephrine secr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hing's syndrome with corticosteroid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inflam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Basophil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0.1 – 0.2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ilobed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Nucleus is hided behind the gran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Inflammatory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asophilia is seen in Myeloproliferative disorders (C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002120" cy="4314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V="1">
            <a:off x="6019920" y="40381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89080"/>
            <a:ext cx="77724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BC disorders: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itative disord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“Penias” &amp; “Philias”  &amp; Maligna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litative disorders - function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genit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zy leucocyte syndro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ic granulomatous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lger Huet, May Hegglin, Alder-Rei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diak-Higashi (penias with giant granul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quir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roids, aspirin, alcoho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betes, hypogammaglobulin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Leucocyt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Lymph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onocytes / Macroph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Granul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Neutroph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Eosinoph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Basoph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1120" y="1382760"/>
            <a:ext cx="4246560" cy="4437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164720" y="3809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4200" y="2057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5080" y="4800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24280" y="4227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5320" y="4532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1160" y="1752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867280" y="251424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6760" y="2550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Neutrophil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69680"/>
            <a:ext cx="381492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2.5 - 7.5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Granular cytopl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Transient stay in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ajor phagocytic r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acterial ki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3-5 lobes of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59200" y="1303200"/>
            <a:ext cx="3583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Disorders of Neutrophil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Neutrophil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Infection (Bacteri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Inflammatory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Neopla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Metabolic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99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Times New Roman"/>
              </a:rPr>
              <a:t>Ura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Haemorhage / haemo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Cortico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Marrow infil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Haematological maligna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Chronic Myeloid Leuka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Myeloproliferative dis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75280" y="1433520"/>
            <a:ext cx="3095640" cy="4448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43400" y="55227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3120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10640" y="369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0280" y="217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4880" y="4419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Myeloid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malignanci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400040"/>
            <a:ext cx="3309840" cy="3943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2520" y="5715000"/>
            <a:ext cx="29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Acute Myeloid Leuka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(AML M-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32360" y="1467000"/>
            <a:ext cx="3309840" cy="413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30280" y="571500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Chronic Myeloid Leuka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Disorders of Neutrophil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Neutropenia Count &lt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1.5 x 10</a:t>
            </a:r>
            <a:r>
              <a:rPr b="0" lang="en-US" sz="24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hemo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Viral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Inherited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Morphological abnorma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Pelger-Huet anom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May-Hegglin anom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hediak-Higashi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Neutrophil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ently with stress and exercise by a shift of neutrophils from the marginating pool to the circulating poo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ns: metabolic (uremia), drugs, chem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ssue destruction or necrosis: infarction, burns, neoplasia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orrhage, especially into a body c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hemo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23:28:13Z</dcterms:created>
  <dc:creator>IT</dc:creator>
  <dc:description/>
  <dc:language>en-US</dc:language>
  <cp:lastModifiedBy>Dr.abdel-hamid</cp:lastModifiedBy>
  <dcterms:modified xsi:type="dcterms:W3CDTF">2006-10-23T20:00:13Z</dcterms:modified>
  <cp:revision>41</cp:revision>
  <dc:subject/>
  <dc:title>HEMATOLOGY: NON-MALIGNANT DISORDERS</dc:title>
</cp:coreProperties>
</file>