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F3C1-CE3B-435A-8420-96A5CE5C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57E73-0AAF-4570-9314-63F2E14D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6E8AF-ED55-40AD-B149-3475400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C067A-4DE7-45D9-A941-AF26DCD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3BA2-D7C8-48B0-A3B1-D82EC74E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EEA4B-A6BC-4249-BC8D-F90E6C91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EAED-6009-44FC-B877-DA641A1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CCF2F-07C1-436A-88C5-B8A525B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9E411-0497-4200-8B78-0A2DAED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9E879-5F75-44D5-A77F-C61E4F6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3F700-D61C-4BB1-8382-0DF6B0CE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AB7F-FEC9-486C-A429-A384FB83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ema - Non Mal:</a:t>
            </a:r>
            <a:fld id="{2F6BF802-8FF0-456D-BBF6-4067289D3932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869240" y="647712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shi: 03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97A7-BE57-46AD-92C2-D321750F2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-6858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3600"/>
            </a:b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Non Malignant WBC - Disorders</a:t>
            </a:r>
            <a:endParaRPr b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utr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lastic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ns that damage m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ction Viral (Hep-B), Mycoplasma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row infiltration by infections or carcinomas, Radiation therapy Chem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ologic malignancies such as leukem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eloprolifer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eutrophil destruction as in Splenomegaly, Immune de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Lymph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varies with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1.5 – 3.5 x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The subset cell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B-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Antibody mediated i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T-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ell mediated i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NK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75080" cy="432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867280" y="44953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Benign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Lymph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Vir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Bacteri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rotozo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Lymph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Marrow failure (drugs, irradi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Infections (viral infe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Immune-deficiency syndr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Antibody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ell mediated immune def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ombined cell and antibody immun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 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Benign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ectious mononucle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Epstein-Barr virus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utoimmune lymphoproliferative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619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Disorders of Lymphocytes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Malignant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cute lymphoblastic (ALL) leuk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hronic lymphocytic leukemia (C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Lympho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on Hodgkin’s lymph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Hodgkin’s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03640" y="1219320"/>
            <a:ext cx="3310200" cy="2354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298600" cy="2462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86400" y="1636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  <a:ea typeface="Arial"/>
              </a:rPr>
              <a:t>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5880" y="399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  <a:ea typeface="Arial"/>
              </a:rPr>
              <a:t>C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ymphocyto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ly be observed in infants and young childr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infections, including pertussis, typhoid, and paratypho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us mononucleosis, with "atypical" lymph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al infections, including measles, mumps, adenovirus, enterovirus, and Coxsackie 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LV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ymph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odeficiency syndromes, including congenital (DiGeorge syndrome, etc) and acquired 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ico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plasia, including Hodgkin's disease, non-Hodgkin's lymphomas, and advanced carcino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on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is 0.2-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Antigen 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ytokine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91240" y="1440000"/>
            <a:ext cx="3519360" cy="44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6324480" y="4267080"/>
            <a:ext cx="9907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Mon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Monocy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en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ronic bacterial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lig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ronic Myelomonocytic Leukaemia CM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onocytosis 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: such as brucellosis, tuberculosis and rickett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dgkin'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orders, including inflammatory bowel diseases and sp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BC Histogram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219320"/>
            <a:ext cx="1371600" cy="1523880"/>
          </a:xfrm>
          <a:prstGeom prst="rect">
            <a:avLst/>
          </a:prstGeom>
          <a:noFill/>
          <a:ln cap="sq"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552760"/>
            <a:ext cx="2057400" cy="266760"/>
          </a:xfrm>
          <a:prstGeom prst="rect">
            <a:avLst/>
          </a:prstGeom>
          <a:noFill/>
          <a:ln cap="sq"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857680"/>
            <a:ext cx="2057400" cy="304560"/>
          </a:xfrm>
          <a:prstGeom prst="rect">
            <a:avLst/>
          </a:prstGeom>
          <a:noFill/>
          <a:ln cap="sq"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219320"/>
            <a:ext cx="990720" cy="2133360"/>
          </a:xfrm>
          <a:prstGeom prst="rect">
            <a:avLst/>
          </a:prstGeom>
          <a:noFill/>
          <a:ln cap="sq"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1905120"/>
            <a:ext cx="2057400" cy="26676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219320"/>
            <a:ext cx="685800" cy="213336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2743200"/>
            <a:ext cx="1295280" cy="114300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09680"/>
            <a:ext cx="2057400" cy="30492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0720" y="4572000"/>
            <a:ext cx="2971800" cy="5335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5105160"/>
            <a:ext cx="0" cy="1066680"/>
          </a:xfrm>
          <a:prstGeom prst="line">
            <a:avLst/>
          </a:prstGeom>
          <a:ln cap="sq"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56386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Eosin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0.2 – 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ilobed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hagocytic activity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odulation of hypersensitivity and aller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749840" y="1452600"/>
            <a:ext cx="3602160" cy="4410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>
            <a:off x="6629400" y="289548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Eosin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sinoph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&gt;0.8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Aller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arasitic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li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HD, N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lammatory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yeloprolifer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Hypereosinophilic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osinophil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ergic drug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sitic infestations  - with tissue inv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insic asth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f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insic allergic alveolitis ("farmer's lung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c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logic malignancies: CML, Hodgkin'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osinopenia, Monocytopenia &amp; Bas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stress reactions with increased glucocorticoid and epinephrine secr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hing's syndrome with cortico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Bas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0.1 – 0.2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ilobed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Nucleus is hided behind the gran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Inflammatory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asophilia is seen in Myeloproliferative disorders (C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002120" cy="4314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60199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BC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itative disord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“Penias” &amp; “Philias”  &amp; Maligna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litative disorders - function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enit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zy leucocyte syndro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ic granulomatous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lger Huet, May Hegglin, Alder-Rei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diak-Higashi (penias with giant granul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quir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roids, aspirin, alcoho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betes, hypogammaglobulin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Leucocyt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Lymph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onocytes / Macroph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Granul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eutr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Eosin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Basoph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382760"/>
            <a:ext cx="4246560" cy="4437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164720" y="380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4200" y="20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5080" y="480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24280" y="4227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5320" y="4532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1160" y="1752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867280" y="251424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6760" y="255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Neutrophil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69680"/>
            <a:ext cx="381492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2.5 - 7.5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Granular cytopl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Transient stay in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jor phagocytic 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Bacterial k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3-5 lobes of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59200" y="1303200"/>
            <a:ext cx="3583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Neutr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Neutrophi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Infection (Bacter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Inflammatory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Neopla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etabolic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99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Times New Roman"/>
              </a:rPr>
              <a:t>Ur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Haemorhage / haem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ortico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arrow infil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Haematological maligna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Chronic Myeloid Leuka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Times New Roman"/>
              </a:rPr>
              <a:t>Myeloproliferative dis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75280" y="1433520"/>
            <a:ext cx="3095640" cy="4448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43400" y="55227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3120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10640" y="369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0280" y="217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4880" y="4419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yeloid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malignanci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40004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2520" y="571500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Acute Myeloid Leuk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(AML M-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32360" y="1467000"/>
            <a:ext cx="3309840" cy="413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0280" y="571500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Arial"/>
                <a:ea typeface="Arial"/>
              </a:rPr>
              <a:t>Chronic Myeloid Leuka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Disorders of Neutrophil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Neutropenia Count &lt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1.5 x 10</a:t>
            </a:r>
            <a:r>
              <a:rPr b="0" lang="en-US" sz="24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emo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Viral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Inherit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Morphological abnorm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Pelger-Huet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May-Hegglin anom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Chediak-Higashi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utrophil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ly with stress and exercise by a shift of neutrophils from the marginating pool to the circulating po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ns: metabolic (uremia), drugs,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ssue destruction or necrosis: infarction, burns, neoplasia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rrhage, especially into a body c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hemo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23:28:13Z</dcterms:created>
  <dc:creator>IT</dc:creator>
  <dc:description/>
  <dc:language>en-US</dc:language>
  <cp:lastModifiedBy>Dr.abdel-hamid</cp:lastModifiedBy>
  <dcterms:modified xsi:type="dcterms:W3CDTF">2006-10-23T20:00:13Z</dcterms:modified>
  <cp:revision>41</cp:revision>
  <dc:subject/>
  <dc:title>HEMATOLOGY: NON-MALIGNANT DISORDERS</dc:title>
</cp:coreProperties>
</file>