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839-4363-40FB-AE93-95B3F20A9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938-FBCC-4C10-9BE8-31C1162A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9D63-133B-452E-9361-1BFC2294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874C-D5C3-48B3-AF2A-629C3F38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015-B987-451A-9F43-46E7E5941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0737-E449-48F7-80B9-162DA1F9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CD31-5695-4709-A14B-69BD4DE6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2E01-ACC0-46B8-B98B-9FFE9102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DD0C-565C-447B-A820-78C800476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98AC-37A3-4D77-A3AF-142604969F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33814-F6EC-49C2-A324-4F5E983321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19406-34BB-4F65-A684-F8445D71D9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08056-9B6E-467A-A057-89858BBC34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18695-4EC9-4BC3-BB1D-89CC4C121F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7635B-79B5-4012-B9B0-17F93EB225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8FD9A-A8BD-4C81-8BC7-2A2E27FABA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A228D-E4DD-4985-A8E7-BA5F14C995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EB6FB-ED5E-42BB-B6B9-B74FDC67E2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D3FEE-D944-4076-BEB6-B1E6C76423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7539E-9ABD-4547-A0E0-FF97467F8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A73B-661F-4F7E-B020-5E4093537B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4BC282-943E-4B62-9E34-71C098E263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FAB677-5AE0-422A-87F0-F53CCCA4E7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04BD3-4300-43FD-BC70-301EB125E7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BF31F-BBE7-4F3A-826C-02AA440D979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97695-760B-4A9B-84F9-2A1C15CF557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670D14-C535-4816-8B2E-DB5DAFEA67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AC88D7-BA16-4F15-AB46-2F483FA130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AB625-6B8C-43B7-BB92-1F6C7D5819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A146D5-864C-424A-A99D-5F76023714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AAD23-2F94-47B7-A3F8-A9F81F4A1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BF36-A423-451D-94F6-7894B3EEAF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044CF-DE60-4DCC-9E53-2B2D47DF6F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B8014-D4CE-47AE-8F69-FF8405E3F3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0E6E-FA85-47C5-8988-C25BC67C8B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8CD7-3D41-48AD-B85A-B9CEBC5220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FD4A-B9EF-423F-8C88-B59192FE47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281F-E395-458B-9A50-B9E9E96C1C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F039-382F-4C3B-80A9-BA1B0A47BE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8890-5C8B-4042-8B89-987988FD41E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4368E-105B-4049-869D-F13A925726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6290-BB39-44CC-B729-1BEA5BA97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8A5A-8FBD-46DA-A5D9-6BC03984B2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49DB-DD4A-4DD4-95AF-2836FBD4B3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F8676-9321-4FCE-89D3-4D62C37F78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CC65C-27EB-49D5-A5CA-21F7990BEB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6C5B3-E486-4BBA-A30C-C8024496D2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E9389-204A-4115-96A8-EB58DA9405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AA47F-3E01-49C9-B0A5-53353A2620B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CC162-8BCE-43B1-B9A8-E7EC4C991C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57BDD-AA8F-4B5B-9C51-97A612EB6C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B9223-BF23-48EC-9D8C-D88503098E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E2490-E313-48B3-99C3-226E3E33008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799DD-C870-4C0E-A664-6EFEF67E55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63229-ADED-4DE5-846C-74A2C0D59F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985D38-9417-4AE3-B42B-6FD41260EC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3366A-6154-49FB-BA19-7E30FE7A1FB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4FAE9-544F-4EB9-9111-0A37786F0E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37F95-DED4-410A-AC50-C0122D88E62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32453-90DD-4399-901E-AEFE877EA5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BB849-DBFB-44D3-933A-04DFD0066EC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401B0-C31C-4B14-BCCE-14FFB6CDC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43379-CE97-4AC3-9DA5-66B9F7A633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0DA7-21BE-43B3-96FF-077146E139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88850-0C13-4F06-869D-C945FC158E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582F-09A6-41DD-9E42-57E2D85BEC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6A058-54C5-4222-AD8E-08AB2C5F2A4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B6CCC-C9C7-4A29-846D-83EAADA7906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53988-CF0D-464B-B155-C51FFF7F36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9FE13-B1A1-4590-9559-2B426F7185C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A0C2A-3B0F-4CD4-A72F-E0A172C25B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9AC81-F998-4649-9DDE-126C9A8D1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5BC2C-B6A8-44D3-B262-C57D13043A9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4F8C-9B71-487B-8158-5D5BF0A533F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037C-B71C-4FE6-9DD5-C8E3C0E9AE3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1FE7B-E1BA-4B7B-807E-754C5B093D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B2A97-949F-4EDB-A0B1-6C3F1F74B0D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B232-1FDF-4161-839D-41E0DE50A2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53C55-9462-43E9-A29C-66C6F8FAF9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6BF99-77D6-4FB7-A761-0D27D39BD83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CEE0-F12C-497F-B3C1-3AC0400762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F42B-213C-4F6B-AF00-D9B87CA00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DD2B-DE02-42D2-A613-CBDD49467E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4660D-25DB-46BA-987C-C6218B375C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4E8B8-809E-45DA-A35E-DB0BDD11EA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43BD7-DA02-4F09-82E8-890EF12DB1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5E00-B9BF-49DD-93B3-AD4F3104E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9F8B-B2CE-4954-B8B2-D025EEFD37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4230-4BFA-4E3D-8F3A-B4DD8D2AE5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06445-FF22-4B28-83BF-BA16EB9803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94D6-C220-4CF3-8D5C-A12DF1D6C5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E33F-7BED-467C-BC22-2880712C91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EDD1-572C-40A0-8C7B-57BBD6809E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176B-AFBC-498B-A4C0-CEF28856E3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61EA0-4940-4796-AAA2-173AF09548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7E740-537A-485B-8638-77010EF80B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C56DC-21B6-410F-83B4-E5A29D1416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999AB-9F79-4878-8F2C-EEBBE089C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D3B8-AD66-4AD1-81EC-A626C3E8C8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FD617-BD96-47E1-B87C-9F6165F872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5F1D4-B5CB-4104-B8E8-2278CBD2EC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17D62-87AC-465E-9344-0EEA3E7D71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BEFC4-DCF4-4028-BCF7-0F0DCB1908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C1AB9-D5B1-4743-92AB-F0697CF61F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F8C1D-C0CF-43E3-9E5A-12457BFC14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8F8B6-66AE-45BC-92BA-5F4B0BB5D5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25890-E267-4A66-A2FB-E9995F5C30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E9B8E-AC0C-4BE6-A971-605E7A2642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1A74-5E06-4BDA-B740-50B9321DC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33A7-3B1F-4713-A5A5-177741E8AF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AB83-FC5F-490D-BE82-E74F9E9283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0310-9A43-4E64-AB13-CF87FAE011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AD8F-51B9-40E8-AECD-3B1A67EEEF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530F-7AF6-4E78-B9C9-0A201AF6E1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CBF9-2A81-45BB-B8A5-63BDD1FC58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F52E-B0E0-4D64-903E-A86017D0A7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EFB9-175A-4D39-83DA-3C1E71CFA8E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8184-C3E6-4C82-9F4F-D6CE5B5240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3536-EEDB-4B5F-9D4A-90FF6D1DEB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A627-A3C9-4173-9C4F-509E763F8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7BB3-405E-477E-B61F-EC6DD0FDCE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2A79-129D-4440-AE8B-19A7BD819B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0CD3F-A843-4C10-8612-5ADE06E1D1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2061B-03E1-4BE7-B164-7BEEE65582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3AFA1-42A5-4B17-845E-9E1CD8DD07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0B987-5032-4569-8389-C2540BB410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087AB-2B01-4CD7-A048-518026A3F3A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99BF9-761E-47B6-96B9-825DD9284A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CDF59-FD62-4EC8-9B3F-930A27B5F7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D21B2-4F26-4FFC-8E7A-EDB1A81427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1B7EF-8D20-42F8-9630-8957B4D11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364C-339F-44EB-A72A-88258A4D94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E6005-4BBC-42BB-B09A-4D8C8C0762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D4984-9E8A-4215-919F-834084F5FF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E7664-9EEF-4F89-B427-871D9B0B2E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2308A-26DE-4343-AF9D-A5FE561B23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20045-1B06-4E0C-A350-B5E15B1A30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D20DA-C678-4446-B3B2-1DA8D001E3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C7E4B-6142-429E-B3EC-EA4AE0F0E98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F8467-30FD-4C85-A32C-6A41B837E1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8E941-DB73-4F45-B0B8-D1A8E5E493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4A9E5-4C1F-4355-91E2-8CE4FF6F7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D46D-7DBD-4A5F-9CBB-5A5AC7B124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826E7-116A-4572-95A7-2B7C049B9B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99157-2E40-4B86-B1B1-0B0C2A9FC9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E00449-27C9-4485-B27C-816D2901E7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9D9C8-60CD-4744-900A-3DEE33B787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E295D0-14F0-480E-9D92-AEB6484581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5966-5B42-40AD-BAD6-DE0707149E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7901-4EC0-40AE-9334-A5F7AED55B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ED5E-84C9-49C8-B2A6-786736CA88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E612-1D06-49A8-96E2-9FDF64B131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6DCA7-13EC-4C06-9EEA-C5090BA50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8E12-A2CB-424F-8D1B-28981132F99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9A3B3-C02D-4881-B967-2F9715A8D5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88D6-5114-490A-B905-3A42B05D4F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2902-A5C9-4BF2-81D3-F008E260DF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72C7-7BED-4C8C-9ADD-A706DA168D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FD335-9E07-4BAC-80EF-ADD7E01859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C970F-3767-4316-87B4-3D044544FB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EC95-BED2-4889-AD4F-AB572596C1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40E5E-0A95-4D9D-8E56-DC965CA237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03770-729C-49FE-9B86-EB5A226ADD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4DFC3-63F8-4EB2-ADF0-8042DBE7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D6F-BBF4-43CF-8728-4161DC542F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54DBA9C7-7878-43E3-BD63-0970207DFE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BBC1-EC18-4DEB-B197-22B02ED5018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E113-89F9-4F62-8B64-0837599DCC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CD6-CB66-41BD-8366-502B9B027C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7F4-8B4A-4D0B-A1BF-D35034211D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E4A-2D0A-44B5-8128-3B1C3AD815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266-40E1-47B4-9267-56B559BB1F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B57-543B-4F38-B880-6DD8B85199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06BE-682B-467E-BC3C-CC68884CE2E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820D-0F74-47D8-90F6-3702958C6CD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599-0F41-4FB6-BC3B-7DADE48B98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A90B-7E14-4AAA-883A-108C225A99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B54-89AA-492B-BCB7-5C58E75F92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01-21T08:12:34Z</dcterms:modified>
  <cp:revision>220</cp:revision>
  <dc:subject>Probability Distributions</dc:subject>
  <dc:title>Chapter 6</dc:title>
</cp:coreProperties>
</file>