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025-83F6-4E28-A9FF-DD289EF2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5C58-49D0-4103-868C-6B8F2710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B001-97EF-4D07-A0B7-AFB34997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6FE0-BF71-4137-9DB6-B6F682F9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DEF-8389-49D5-9BEC-25EE112D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E86-799D-4681-B1B9-C1E1F460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B2EB-0173-4B45-A882-FA1801AF9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AAB-1B59-424D-A669-F4C9DDA6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1D84-CD4F-4F03-AB1E-3AF5677C9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C41D-3A98-43F8-A993-A1FA99E4AD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90032-B373-483C-948B-A48F0D9F29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EE80C-FF57-47F0-A26C-B83EB8A03A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3286D-B10F-45D6-9052-65F3D8CAAD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7A3B5-385B-42FC-882D-72BEDE374E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17DDA-A7B9-4E26-97F9-38C5B5F367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8D802-3AF4-4C3D-9A88-80EF071F55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C9137-3080-4478-AE09-BDB76A2CB7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3CEDD-2AEB-4CCE-940C-6C48A6E335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07309-F4CA-4E0D-A4E0-CC659A3962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3AC3F-3F00-442D-9836-06B4DC290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95CA-035E-48B0-93A5-DB4FF88B23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11BE7-B780-42FA-ABB3-ECCAAD7ABE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AF8F3-BDC7-45A9-98C4-87F0F9AAF4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36B09-EC3D-4C1F-8C4D-12F1DB1440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28F30-B708-40A1-B085-A0BDEDC971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DE081D-6DA1-4945-A02E-1D335073BF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D735E2-46BC-41D7-A306-6DB0CD73B3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F8B23-718C-4015-80A8-947C3AB293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9B8FB-B216-497C-8FBF-626779C649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DDCB7B-EA1D-426F-94D3-7448F8822A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80807-9FF3-49C4-BD1E-A34060323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27B4-5E58-4DC2-A805-5786FAA242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85243-9D01-4A8D-894A-22182264F3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093F-8426-4122-9E7B-0E71590ECE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626A-F42E-45FA-9E27-478B983F8E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ABA2-CB39-4E2E-ADC9-8939ADB9D6E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8B8F-6D79-44E6-872E-35D80020F2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EAAE-54E8-48DC-B873-A7705FFF9E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04AE-26E1-4AF9-8C0C-E08DAC5979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E524-DCCD-4430-8BCA-07B082682C0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FBD1-7D60-44CA-B45D-E70039C7163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54EB-EA15-4D3D-BF44-44DF02472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91B87-14BD-4849-8DEB-693438AC04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A507-4CAE-493C-81F3-29205F9DAB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88BF-53A8-4BBD-8EEF-06ECB092B0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6C946-7BA7-4BE6-884D-4928CFF92A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0CE19-5FEE-4211-A11E-22BEEEA9E3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B2DE9-5F99-466A-987F-EB0B53C7C5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E0156-4307-4222-B868-F1C5060A77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EE6DA-71F5-4BF7-AD05-D1423F7CBD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3C965-7C7E-4471-980C-4B0EDEDFEE4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FC8FD-D54C-499E-B4BE-3A6FE98E00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C5FF7-DF95-439A-B60E-9EC3A24741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6B416-6CE7-4BF0-955D-CA023C396B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571C13-C5B8-47B4-971B-9745B2DE6D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D5B78-7707-4096-BCA5-4FC1B4DAB0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FD474-EC81-4ADE-9EAA-C15B7ACB9D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262CF-0B32-4398-800D-0319D4F9A9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490AF-C3A5-40A2-9C6A-0709CBF1A07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25916-610B-439C-B3B3-8194B0B00C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9B97A-A19D-4CFD-9C0F-214366D316F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CDFF8-B6A8-4449-82DB-5DBB4F530E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8F7F2-CC0E-477A-AC7B-C3073F37C8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19438-0C51-40D1-8A63-C0354EABA7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DF432-65C0-47FA-BF32-DCDEA795F7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5A43D-F8F2-49FD-95B5-2BA22CB9798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2761B-2F15-4B31-844C-012F223A9B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42863-BCA1-4B6E-939C-C0D1AAA6103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571C2-1A8A-4B9D-936B-05B7DC823F5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2454-FE67-4BCA-BB08-A3073AB5DBD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AE349-BB52-4E08-8FE1-BDBD37D527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37EA-36F6-4BF6-9021-CEA10EBFC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AD184-9F69-4282-8EB5-D5785761DCD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D23ED-911A-4F24-81CD-E0B891CEEB0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79BC8-E20B-4F23-920F-D41F2AAC6EF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517D-893F-4CA7-8640-94F96EEA99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C445F-338C-4385-9161-C12AB06D34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329D9-19A1-4802-8A67-88865FC6D9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FC80F-12E9-40FF-8095-B6CAD6809F8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BA77-9AEE-4A82-AC54-E994646694D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C89C5-6114-4035-8614-42771C522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DDCD-E90C-4FFC-B6F9-A82F1FDE8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2DAC6-C0D5-4BCD-8128-E4EDAF90CD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8383-5CC0-4F09-9B91-68447F5659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65EAD-7C9D-4FED-BD48-38ADE16E1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9BD79-3D0A-4DD3-A302-2152F9D55B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AE82C-6366-419A-ABAB-762B77FDA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BD58-B1E4-4876-904F-EDEED4A9F0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111BA-EA3D-4312-9965-9B2B0D9960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0B8D3-2249-48C3-827F-0474E9EBAF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0C510-C192-43FA-A352-93F989ED39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1B905-5C6D-494D-866C-D3B7084D9D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1C59-8ED8-495E-8AE4-F275B1CA19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2F14E-FFA4-4740-BA68-BE72C15C6E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E0F5-4A82-4AAB-9256-B4F987CD7E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B923D-FFAD-40E4-A936-EB514CF3FB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32BF0-DCB4-4657-B583-D59386F1D4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80BA1-27E5-4BDB-AE6B-53956F02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EC9A-EB89-4028-95C5-BC7B0C6684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FEEF8-1175-4F88-B974-92092B828D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B3090-91DC-4AD6-912A-5D9DED81D0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84D67-3319-49E1-9218-7FDEC13B4B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1F78A-13F9-4213-A917-F89BF8C6C6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D976F-B18C-4079-BD76-9E9B265E9B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8A54B-8882-4E9D-8C25-91D3223C11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F0E1E-D890-436D-919C-FC9AE8C23D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DD7BD-EC3E-457B-969F-12A8E9DA32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32226-8BE1-4F2B-845D-3A7D3B82C5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80AA-D4C7-43A5-9C96-EACDCACB3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CD09-385F-4B5E-B849-D1175EFEF67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7EFD-3B1A-4109-A436-B783F2E633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A803-944A-4F8A-9B7C-22E3657AC3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DC78-D527-4E1E-979A-07F5FF721C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BB69-4CB3-4C8F-BE23-258D458BB8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DDE7-1428-4098-AD91-AB31018F60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6E62-AB48-45C0-8B0B-E3FB050764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0F49-E3AC-4CEA-8A9D-498225CB5E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36D7-A353-48E3-93EB-CEEA6C14BE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4416-6DCA-43E5-8FDD-2853066310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7428-20FB-40C2-9D07-D109061A9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3B21-3E81-4FEB-8F65-8A4F9854D8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7D8C-98EB-48A5-87AF-CAD4041561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6B9F0-9AF0-4664-99A7-7D4057175C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EB6EB-B189-4E53-AFB0-038A430883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19AAF-42C1-4B4B-A688-C61D791049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770A1-BEC1-4DFC-A87C-3C059DD9DD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A1DEE-0044-4B34-A9C6-390D59D3DD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6E161-0A50-43EA-9A2E-B7CDA502E9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244AB-0648-4015-9386-FCB22CA5B9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C41DA-591A-4393-B6D6-4C805C6FB0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DF166-9416-40CF-9A29-B8A863904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CB97-5C54-4830-A362-EB3D2C8D11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517F7-734E-493E-B1F2-6D9C4997C3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3EC1C-5E06-481B-9FBD-B263437657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E6292-CA38-43F0-8ABD-AEC288A763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922239-F16C-4841-839D-B623C84F11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8B522-C417-409B-912D-8BADF02684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53380-A97E-4900-B14F-B833BF13F4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DA3BD-F1BF-4985-A071-0F1DEB9F3F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A7BC75-8E28-4363-892C-AF1FC10484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113C4-96B2-48EF-ACE6-EB6B207DB8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DCDA1-4A66-453A-8BC6-42E8EBF3A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6FDC-DC08-49F7-96E1-D8ABDBBDC9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50716-1A14-4FBC-9F0D-1C901AC9C2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A984B6-8F2E-4D26-9F22-3FCEE9B7A2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3DE5C-38A8-477C-A23D-49AB32E584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356616-1178-4ABB-A641-3591E06373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9B3B1-44D5-46D7-8E86-5B29FB49DE9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93C3-4BE0-4BDC-92F1-2956611AA4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78DB-EF8A-4A46-AC0A-73A5E4E3CC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B118-254F-4264-94C3-C0243180D6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E172-CDA0-45E1-8E68-A29634489F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3B08-D0C6-4FF4-97EE-EF1DA6004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6974-6B68-4067-AF73-63E5DA5486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B450-2A90-471E-BD59-3B3EAB1662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2E97-7486-44D3-80A5-83227C4C3E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3625-0D92-4CCE-9E12-FB915A892D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8AA0-3EAC-44FF-A8A3-66C4629138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EEAB-0520-4F88-B74E-E0B8293D7F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97A0-33E2-4158-8796-F018AFBFEA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1B33-76AC-4445-AABF-01AF8C0D76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5ADC2-ABCC-4090-9B2B-28A523FD16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4326E-9DF2-40A7-8A36-D3439C4147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0CAAF-372D-48DE-AD16-7BD35F723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32D7-AB3D-4945-AB86-7336075FC5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EF228E8F-CD76-4533-AA72-095280E22A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E642-EF2A-46B3-B8AF-8E062AAE90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6FF8-B8DA-48D1-AA00-F152E7AAF3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5DC8-5118-467E-9907-31A9F43AF93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D37-1066-4A17-B848-26F79EBC68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BB4-1C39-4044-9461-F5614ED6FF7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626-A61B-48F8-9826-1D59CA60E6A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CE5D-8530-4C5F-904E-1ED59E5EF7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EEF-97D1-4DAB-9AE5-B9E3CCE1490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FE3-787F-4B96-A097-3D755B9D5E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D2D-415F-49FD-88BE-FC09AC790B3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4B7-398D-4C5E-A77E-75A0B38BC4E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E64-2CFC-43D3-BAA7-AE260E5009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7-01-21T08:12:34Z</dcterms:modified>
  <cp:revision>220</cp:revision>
  <dc:subject>Probability Distributions</dc:subject>
  <dc:title>Chapter 6</dc:title>
</cp:coreProperties>
</file>