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dt" idx="28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ftr" idx="29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 type="sldNum" idx="30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5C425-CC5A-478C-8DC6-C24F6DB3B9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F6FC1-FE32-44D2-89C8-018558FB81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05655-4790-465C-8B7A-8F05875E73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B5A2D-CA1C-4DD0-A418-754F9478B0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6EE75-4E57-4D9C-BCFF-730C8DB62F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6D2C8-538C-4B85-BD1D-2225FE27EF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94886-1F22-4346-870D-C372444D8C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09F27-2B62-4142-BDFF-23915A2AB7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14097-7030-44FF-A397-C1540019E7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FD1BE-4B03-4FCA-8649-A62CA623B66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05CCBC-BE22-4DC1-8916-71EAD407F0B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7E9AF4-0CAE-418A-A709-D19294C055B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499ED5-43CA-4FA9-8F03-4349861877D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20B9E2-64B6-4B88-BF4B-8ADE4E36FF8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ACD5DA-D9F4-4C4E-9C8A-2C0F27F2E36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10B955-52CE-4DA3-B5E1-DDE76276FFB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AB0FC2-A4E6-409F-9F23-D8C3C940E06F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C72E46-E7A3-4DDF-B987-1BDA041F705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C16095-79F1-40C4-9521-1187B587CF9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8EC6862-2105-4093-9710-E975046377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3F8A7-FFB1-4A43-ADFA-C106CE0A998E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164BE7D-A6CE-426E-97AD-A27531F262C1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B805B0A-5603-407B-A95E-7A66256703A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5E5F3C2-B466-4A66-A153-AC7E47DF5E6B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BDCEBB0-CD14-442F-906C-D6ACCDB9D90A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EAF6E26-074B-42F4-97A2-3E32F93EC432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2FD95CF-89AE-4B55-A169-3ADA2F197232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7ABD424-57DE-4E44-B25A-048063147CF6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6908691-575F-4D11-97D3-32C8A69EE5D7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3725585-3772-4C54-B88D-BDFDAB4A15F0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E5FD8E9-36D6-4140-8932-E5B2CE2A27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49E11-C867-419C-99B6-1D0BDBDD0911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F3CD5CE-FC06-4E86-9F30-EF035CAE627A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B0A76C-D026-4588-A13A-A2AF306F3A3A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4AA389-06B9-41A0-A2C1-7B121722C42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985095-E8CC-4F16-8AE3-2EA24B52D57C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0A84F9-35D7-4EAE-8F9B-58EC28297661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AD9C0A-A429-4E18-A41D-3DE0EC91ECAD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12236D-C126-44C0-A2B4-DCC4BE53CF62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D50368-6E45-4F46-8069-E73C96CA211F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E72EF1-A70D-4C05-B79C-928E014DA174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8EA7C1-4389-4C9D-9CAE-EBB03BAF90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450368-7BEA-4358-B0E0-E19E3D73E7D1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2A8261-0850-4D4E-9F18-12D46CBB35D2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604D80-0567-4F54-9195-3D7F48561126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52F157-C6A0-42B7-BA8C-D51AE010BAE8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1A4531B-2A5B-431D-8F3A-6526BF12ED2B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6A09851-AD85-4243-9EE2-349D2BAB64FF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B4E177B-AB80-4DC5-92C0-CFBB2ADD2C44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5877FA5-28C6-4F28-B878-09CAEE0D36C1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8344B6-D5DA-44E8-9A89-01BC8E2A2A28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65F6947-F7B1-46F9-A88D-DFBAB195E9C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5E0A025-5145-485B-BE98-7B15CFC44BA8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6AC114F-C148-4408-9ED2-3BCBB4124B8B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177EB6-71EE-4A85-89E0-0ECF551BD562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80D01AD-C67D-4380-B22C-1FC278AE25F7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6C27EE0-4372-41EE-A6AF-1C04094BFA84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BDC2AF-8DDA-47CD-AC60-96A53E05A3B2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71F06F-517C-4682-8746-530C7C0C01A8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020353-0CAB-431E-9EF3-BF6FAFDD456C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37BA59-2647-478A-BE90-4AF28D1D66CA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E56744-6350-491B-8495-C3AE4FCCF1F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CEC0F2-2280-49FB-AA26-22A355CD0B85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4341E7-153E-43D9-9C8F-D4DB79AC568B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08FF78-1FA4-429B-996A-2477D7C02FE0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EA2055-306B-4473-BDB8-52BBECBED142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40A861-7348-43EC-991C-761060F20ED1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60AD70-AD9F-4329-9720-2D066E32E7A1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A11772-22AB-4000-85F8-C3B1E21ACBF5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3F9B2A-FF06-4CD7-8130-393B41FD2B51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C99A00-D609-4DF3-8B11-0A7532CC47DF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AFB469-97EE-4A24-8DD8-7A28EC9752B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8C4E37-CFC9-4FC9-BF2B-9367126A2796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846A96-9CF2-46E6-B57D-FDD0B8F49F69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187750-C088-426A-BE15-816AE3C144A2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227BE7-EBBD-495B-B2BE-8D47EC66DB14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2A0D8C-0604-48E7-9261-C5A823B29915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AA0551-2D24-4642-B221-DB3D905CC7B2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35EA6A-4653-4E61-B6EF-520693D49EFC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55B636-736C-4BE1-9BF5-71E5E1B2DA31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A789B5-03B2-430A-82EA-0A6F9580ECC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4A85D-6B61-4CB1-B95C-73E10720B1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F90F5C-849B-439D-A49A-D22C89C0EF4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34DC61-4367-42EB-B4D5-F9ACB10C633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259627-02BD-428B-A71F-0FBAF365C79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5B351F-7A85-4F57-9471-506CB316B09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C69774-2745-4311-A3E2-95EBE0254B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17ED8-BC2B-4259-8C85-DFE56B9DA2D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FD6A02-9964-4733-B8A1-5D29AF9C53C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1FB4C4-4129-4C8A-9DBA-1EE0467F6EA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283649-0A6D-4353-9EFB-0F3D3B63825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1B3B61-F724-4D2C-B2FA-0DE3135AFCE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DE90AF-A4E6-4C0B-BDBE-5EDB24AA78A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A777CA-ED19-4CD5-9F12-6CD1DBDF496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4005E4-F0D9-4168-8DA0-4FD33A672BC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97A0E4-1CD5-4963-A543-83BACD9E07B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91CD8F-208B-482A-9812-B4E7658A21E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663528-7A46-439C-ACE6-319706B254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FA608-FDDD-4DD5-8B37-772CB88FB2D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69DD5A-0B7A-4B46-981B-C65C74584D1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5E94DD-CF95-4B84-910D-2E98EED8B8D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14A03B-2D56-4A7E-94F9-CAA90371716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E0F433-7D0B-4059-A3A3-15B4BC4EFE6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A34C9A-7762-4E6F-9A0D-F09FDEA29B6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2D0261-025B-4A5C-A496-86F0FD962A4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56F8B2-8AAD-41C9-8CFD-B6A26976D8C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61C717-4402-4A7E-9395-7AB7CB338C0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CB0793-FBFA-466A-BA6B-E957102D626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61EBA-D8BD-4EEC-94F1-41D652F787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2A5A0-D658-4C75-9392-2F5F1224ACB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80C1E-C1A7-4B3B-856C-E3FD91B92A8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66C66-7BB5-45C4-8048-810F4B301C3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976C0-AE02-4AE6-B5AF-9F373F8403B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2879D-8B02-49C3-95BB-5B94C80584E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68AA6-A0F3-456E-8E06-297C40B964A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923E6-0131-4387-A82A-163ABEA7706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B6C51-D31C-4554-BAB7-CEAB2585D9E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70DE9-F8E2-4416-8EE5-4DE78B21662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2B79B-8CDB-4BF6-B94F-0FF7B8C339D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48C74-D40D-4828-986C-F21B8F28F0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C37F7-0608-4EEE-8110-AF835B8D962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5468E-4CBF-4D49-BBB3-8ABC70B4EF5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52CF12-ECD9-44E3-A6E6-563F2400E13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B7F25D-0B95-4F4A-819E-DF5EFF75599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541827-BE4B-453B-A947-0FB478159A1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49B8D6-4AE2-43FA-9F45-87741908A03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5E3958-9B6A-401F-B748-5792E68A690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19F6AC-0B9B-4AAA-998D-2018A8BDA7E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06CD18-E4F5-4CAD-BA2F-2770741DA0B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989DF9-C1E4-4115-886D-B8F12628570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7A85CE-0D95-4B04-934C-3AA500279F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8E647-8287-4F07-9DE7-32FFB6D34CF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087857-6BF7-49D9-9271-9897467DF4C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927823-B8A8-4BFD-B387-F1A1C9B8025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DDF777-AA67-4D49-B71F-9489F602EF5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EAA9332-613C-4C93-A70C-B6A297F18D3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F8F77E8-5BA6-48F8-B1F5-6656DB8D2C2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F4CF022-30F8-4FA7-ADD5-47FF361F5DE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99B4F90-9224-4732-AF88-3B1E1F7AB43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C04458F-72D9-4F7C-9D3B-F548F7572EE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B886D5B-3D04-48ED-9A87-1E7BC670053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F995FD5-9109-45BC-9B79-CD87F35C33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2BED3-EB0A-4B78-BC70-3FD605C7F86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A391264-C267-47AE-A828-E1B252DCC3C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0ECDC57-9A94-4853-A64B-30C2F15AEF0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2AB2D0D-D810-46CC-8860-39D091678F2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5987778-9A2F-4F72-AA01-4C0D665F505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8B848B9-21EE-4E29-A524-58A3497D608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45140-A1C6-49C5-92BD-82AC1DA526D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CF0050-912B-4D4F-9BB7-CDAB5ABD0FA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16FCE5-E162-4538-851A-CD192043935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809C6-EA07-4F8A-8E9C-33074B6DF48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A372EA-E430-4892-B3D7-05A930B0D4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C3189-1D75-4AD4-813F-35BFCD06FD98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9208B0-FDE1-4E36-A363-D870556A063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5030D-7485-4552-B429-470460D1165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80BE02-BC28-4CE4-BBC1-28B2A7C0890B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36821D-8816-4626-8A38-59C07986B3A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BEE887-DC30-4FF5-B9B5-3E35D1CA1B0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D50092-B45C-473E-8E46-2CE096ABDBB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3FA05-1A9D-4057-B43F-970AC5F974D4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E36A24-D665-44DA-9CF8-511609D307F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EB4DBE-737F-4644-920F-E9011C58F37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C30E53-B2CB-460B-9358-A1A0BEACCB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3886200" cy="685800"/>
          </a:xfrm>
          <a:custGeom>
            <a:avLst/>
            <a:gdLst/>
            <a:ahLst/>
            <a:rect l="l" t="t" r="r" b="b"/>
            <a:pathLst>
              <a:path w="1728" h="735">
                <a:moveTo>
                  <a:pt x="1728" y="0"/>
                </a:moveTo>
                <a:lnTo>
                  <a:pt x="1728" y="480"/>
                </a:lnTo>
                <a:lnTo>
                  <a:pt x="380" y="482"/>
                </a:lnTo>
                <a:lnTo>
                  <a:pt x="354" y="480"/>
                </a:lnTo>
                <a:lnTo>
                  <a:pt x="308" y="489"/>
                </a:lnTo>
                <a:cubicBezTo>
                  <a:pt x="290" y="498"/>
                  <a:pt x="263" y="513"/>
                  <a:pt x="246" y="531"/>
                </a:cubicBezTo>
                <a:cubicBezTo>
                  <a:pt x="229" y="549"/>
                  <a:pt x="215" y="574"/>
                  <a:pt x="206" y="597"/>
                </a:cubicBezTo>
                <a:cubicBezTo>
                  <a:pt x="197" y="620"/>
                  <a:pt x="194" y="643"/>
                  <a:pt x="192" y="666"/>
                </a:cubicBezTo>
                <a:lnTo>
                  <a:pt x="192" y="735"/>
                </a:lnTo>
                <a:lnTo>
                  <a:pt x="0" y="735"/>
                </a:lnTo>
                <a:lnTo>
                  <a:pt x="0" y="480"/>
                </a:lnTo>
                <a:lnTo>
                  <a:pt x="0" y="0"/>
                </a:lnTo>
                <a:lnTo>
                  <a:pt x="1728" y="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3" name="AutoShape 5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22F1E-CDBE-4506-A648-1C0FAD414582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-234000" y="6578640"/>
            <a:ext cx="945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6-</a:t>
            </a:r>
            <a:fld id="{0A75554F-4796-4BEF-A455-E56DFBAC752C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ftr" idx="1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sldNum" idx="19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14C7F-EE15-45D8-B6F8-6F2D76FE9522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ftr" idx="20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sldNum" idx="21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FB051-8921-43AD-A6BA-00452BD466BB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ftr" idx="2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sldNum" idx="23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9399A-944A-4F00-B426-3646E9C0ECF4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ftr" idx="2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sldNum" idx="25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5FF53-DD44-48AD-94ED-3061AD6A920C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26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27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FE7E1-A1B7-47B4-AEBA-F4618D65F28F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7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0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Text Box 13"/>
          <p:cNvSpPr/>
          <p:nvPr/>
        </p:nvSpPr>
        <p:spPr>
          <a:xfrm>
            <a:off x="87480" y="6545160"/>
            <a:ext cx="160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3486240" y="6507000"/>
            <a:ext cx="580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pyright © 2010 by The McGraw-Hill Companies,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ftr" idx="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sldNum" idx="5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D766C-7D73-4B95-831A-B4C1A4E5987E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ftr" idx="6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sldNum" idx="7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2DBF3-4E2D-4F6C-820B-514652718714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sldNum" idx="9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A939C-EB2E-43F2-8013-F5D5BD6C60F2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ftr" idx="10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sldNum" idx="11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6C15D-1046-4034-A23A-CBE682058F96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ftr" idx="1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sldNum" idx="13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0969D-EB9F-4E3F-BBB7-5F5C8116A811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sldNum" idx="15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ED4FE-5922-4C34-AE1B-D564A8CE22FE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ftr" idx="16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sldNum" idx="17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C7ACF-0212-4534-B976-2D31BADDFB06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57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 txBox="1"/>
          <p:nvPr/>
        </p:nvSpPr>
        <p:spPr>
          <a:xfrm>
            <a:off x="964800" y="213300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Normal Probability Distribution</a:t>
            </a:r>
            <a:endParaRPr b="1" lang="en-US" sz="4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Normal Probability Distribution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542520" y="1904760"/>
            <a:ext cx="3954600" cy="10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5000"/>
          </a:bodyPr>
          <a:p>
            <a:pPr marL="251280" indent="-251280">
              <a:spcBef>
                <a:spcPts val="3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bell-shap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has a single peak at the center of the distribu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1280" indent="-251280">
              <a:spcBef>
                <a:spcPts val="3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symmetrica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the m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1280" indent="-251280">
              <a:spcBef>
                <a:spcPts val="3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asymptotic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urve gets closer and closer to th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xis but never actually touches 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1280" indent="-251280">
              <a:spcBef>
                <a:spcPts val="3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cation of a normal distribution is determined by the mean,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the dispersion or spread of the distribution is determined by the standard deviation,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1280" indent="-251280">
              <a:spcBef>
                <a:spcPts val="3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ithmetic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mean, media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mode are equ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1280" indent="-251280">
              <a:spcBef>
                <a:spcPts val="3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tal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area under the curve is 1.0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 half the area under the normal curve is to the right of this center point and the other half to the left of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12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5" name="Picture 8" descr="0711"/>
          <p:cNvPicPr/>
          <p:nvPr/>
        </p:nvPicPr>
        <p:blipFill>
          <a:blip r:embed="rId1"/>
          <a:stretch/>
        </p:blipFill>
        <p:spPr>
          <a:xfrm>
            <a:off x="1047600" y="4848120"/>
            <a:ext cx="2897280" cy="1809720"/>
          </a:xfrm>
          <a:prstGeom prst="rect">
            <a:avLst/>
          </a:prstGeom>
          <a:ln w="0">
            <a:noFill/>
          </a:ln>
        </p:spPr>
      </p:pic>
      <p:grpSp>
        <p:nvGrpSpPr>
          <p:cNvPr id="586" name="Group 16"/>
          <p:cNvGrpSpPr/>
          <p:nvPr/>
        </p:nvGrpSpPr>
        <p:grpSpPr>
          <a:xfrm>
            <a:off x="5021280" y="2209680"/>
            <a:ext cx="3579840" cy="4058280"/>
            <a:chOff x="5021280" y="2209680"/>
            <a:chExt cx="3579840" cy="4058280"/>
          </a:xfrm>
        </p:grpSpPr>
        <p:grpSp>
          <p:nvGrpSpPr>
            <p:cNvPr id="587" name="Group 6"/>
            <p:cNvGrpSpPr/>
            <p:nvPr/>
          </p:nvGrpSpPr>
          <p:grpSpPr>
            <a:xfrm>
              <a:off x="5021280" y="2664360"/>
              <a:ext cx="1804320" cy="1705680"/>
              <a:chOff x="5021280" y="2664360"/>
              <a:chExt cx="1804320" cy="1705680"/>
            </a:xfrm>
          </p:grpSpPr>
          <p:pic>
            <p:nvPicPr>
              <p:cNvPr id="588" name="Picture 15" descr="0712b"/>
              <p:cNvPicPr/>
              <p:nvPr/>
            </p:nvPicPr>
            <p:blipFill>
              <a:blip r:embed="rId2"/>
              <a:stretch/>
            </p:blipFill>
            <p:spPr>
              <a:xfrm>
                <a:off x="5021280" y="2664360"/>
                <a:ext cx="1804320" cy="1407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9" name="Rectangle 8"/>
              <p:cNvSpPr/>
              <p:nvPr/>
            </p:nvSpPr>
            <p:spPr>
              <a:xfrm>
                <a:off x="5294160" y="3971520"/>
                <a:ext cx="1463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ifferent Means and Standard Deviation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0" name="Group 9"/>
            <p:cNvGrpSpPr/>
            <p:nvPr/>
          </p:nvGrpSpPr>
          <p:grpSpPr>
            <a:xfrm>
              <a:off x="6825960" y="2666880"/>
              <a:ext cx="1594440" cy="1868040"/>
              <a:chOff x="6825960" y="2666880"/>
              <a:chExt cx="1594440" cy="1868040"/>
            </a:xfrm>
          </p:grpSpPr>
          <p:pic>
            <p:nvPicPr>
              <p:cNvPr id="591" name="Picture 13" descr="0712a"/>
              <p:cNvPicPr/>
              <p:nvPr/>
            </p:nvPicPr>
            <p:blipFill>
              <a:blip r:embed="rId3"/>
              <a:stretch/>
            </p:blipFill>
            <p:spPr>
              <a:xfrm>
                <a:off x="6825960" y="2666880"/>
                <a:ext cx="1594440" cy="133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2" name="Rectangle 11"/>
              <p:cNvSpPr/>
              <p:nvPr/>
            </p:nvSpPr>
            <p:spPr>
              <a:xfrm>
                <a:off x="6941880" y="3984120"/>
                <a:ext cx="14702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Equal Means and Different Standard Deviation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3" name="Group 12"/>
            <p:cNvGrpSpPr/>
            <p:nvPr/>
          </p:nvGrpSpPr>
          <p:grpSpPr>
            <a:xfrm>
              <a:off x="5071320" y="4587840"/>
              <a:ext cx="3529800" cy="1680120"/>
              <a:chOff x="5071320" y="4587840"/>
              <a:chExt cx="3529800" cy="1680120"/>
            </a:xfrm>
          </p:grpSpPr>
          <p:pic>
            <p:nvPicPr>
              <p:cNvPr id="594" name="Picture 17" descr="0712c"/>
              <p:cNvPicPr/>
              <p:nvPr/>
            </p:nvPicPr>
            <p:blipFill>
              <a:blip r:embed="rId4"/>
              <a:stretch/>
            </p:blipFill>
            <p:spPr>
              <a:xfrm>
                <a:off x="5071320" y="4587840"/>
                <a:ext cx="3529800" cy="140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5" name="Rectangle 14"/>
              <p:cNvSpPr/>
              <p:nvPr/>
            </p:nvSpPr>
            <p:spPr>
              <a:xfrm>
                <a:off x="5213160" y="6021720"/>
                <a:ext cx="3186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ifferent Means and Equal Standard Deviation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6" name="Rectangle 15"/>
            <p:cNvSpPr/>
            <p:nvPr/>
          </p:nvSpPr>
          <p:spPr>
            <a:xfrm>
              <a:off x="5732280" y="2209680"/>
              <a:ext cx="218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amily of Distribu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The Standard Normal  Probability Distribution</a:t>
            </a:r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/>
          </p:nvPr>
        </p:nvSpPr>
        <p:spPr>
          <a:xfrm>
            <a:off x="685800" y="1834920"/>
            <a:ext cx="3279600" cy="14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-274320"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ndard normal distribution is a normal distribution with a mean of 0 and a standard deviation of 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lso called th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z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1200" spc="-1" strike="noStrike">
                <a:solidFill>
                  <a:srgbClr val="33cc33"/>
                </a:solidFill>
                <a:latin typeface="Arial"/>
              </a:rPr>
              <a:t>z-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value</a:t>
            </a:r>
            <a:r>
              <a:rPr b="0" lang="en-US" sz="1200" spc="-1" strike="noStrike">
                <a:solidFill>
                  <a:srgbClr val="4db14b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the signed distance between a selected value, designated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nd the population mean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divided by the population standard deviation, 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mula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7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0" name="Picture 9" descr="0713"/>
          <p:cNvPicPr/>
          <p:nvPr/>
        </p:nvPicPr>
        <p:blipFill>
          <a:blip r:embed="rId1"/>
          <a:stretch/>
        </p:blipFill>
        <p:spPr>
          <a:xfrm>
            <a:off x="1263600" y="3787920"/>
            <a:ext cx="2013120" cy="70956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12" descr="0714"/>
          <p:cNvPicPr/>
          <p:nvPr/>
        </p:nvPicPr>
        <p:blipFill>
          <a:blip r:embed="rId2"/>
          <a:stretch/>
        </p:blipFill>
        <p:spPr>
          <a:xfrm>
            <a:off x="3728880" y="2963880"/>
            <a:ext cx="5121360" cy="3054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The Normal Distribution – Example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333216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eekly incomes of shift foremen in the glass industry follow the normal probability distribution with a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mean of $1,0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a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standard deviation of $1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</a:t>
            </a:r>
            <a:r>
              <a:rPr b="0" i="1" lang="en-US" sz="2000" spc="-1" strike="noStrike">
                <a:solidFill>
                  <a:srgbClr val="33cc33"/>
                </a:solidFill>
                <a:latin typeface="Arial"/>
              </a:rPr>
              <a:t>z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the income, let’s call i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a foreman who earns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$1,1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 week? For a foreman who earns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$9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 wee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Picture 8" descr="0715"/>
          <p:cNvPicPr/>
          <p:nvPr/>
        </p:nvPicPr>
        <p:blipFill>
          <a:blip r:embed="rId1"/>
          <a:stretch/>
        </p:blipFill>
        <p:spPr>
          <a:xfrm>
            <a:off x="4559400" y="2781360"/>
            <a:ext cx="4228920" cy="2905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The Empirical Rule - Example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/>
          </p:nvPr>
        </p:nvSpPr>
        <p:spPr>
          <a:xfrm>
            <a:off x="439560" y="1904760"/>
            <a:ext cx="313560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 part of its quality assurance program, the Autolite Battery Company conducts tests on battery life. For a particular D-cell alkaline battery, the mean life is 19 hours. The useful life of the battery follows a normal distribution with a standard deviation of 1.2 hour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swer the following ques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out 68 percent of the batteries failed between what two values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out 95 percent of the batteries failed between what two valu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rtually all of the batteries failed between what two valu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Picture 14" descr="0717"/>
          <p:cNvPicPr/>
          <p:nvPr/>
        </p:nvPicPr>
        <p:blipFill>
          <a:blip r:embed="rId1"/>
          <a:stretch/>
        </p:blipFill>
        <p:spPr>
          <a:xfrm>
            <a:off x="3579840" y="2220840"/>
            <a:ext cx="5332320" cy="3989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 txBox="1"/>
          <p:nvPr/>
        </p:nvSpPr>
        <p:spPr>
          <a:xfrm>
            <a:off x="591480" y="515160"/>
            <a:ext cx="816264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Normal Distribution – Finding Probabilities</a:t>
            </a:r>
            <a:endParaRPr b="1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7075440" cy="196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mean weekly income of a shift foreman in the glass industry is normally distributed with a mean of $1,000 and a standard deviation of $10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is the likelihood of selecting a foreman whose weekly income is between $1,000 and $1,100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Picture 25" descr="0719"/>
          <p:cNvPicPr/>
          <p:nvPr/>
        </p:nvPicPr>
        <p:blipFill>
          <a:blip r:embed="rId1"/>
          <a:srcRect l="0" t="17356" r="48680" b="18155"/>
          <a:stretch/>
        </p:blipFill>
        <p:spPr>
          <a:xfrm>
            <a:off x="792000" y="3646440"/>
            <a:ext cx="4108680" cy="2025720"/>
          </a:xfrm>
          <a:prstGeom prst="rect">
            <a:avLst/>
          </a:prstGeom>
          <a:ln w="0">
            <a:noFill/>
          </a:ln>
        </p:spPr>
      </p:pic>
      <p:sp>
        <p:nvSpPr>
          <p:cNvPr id="611" name="Text Box 8"/>
          <p:cNvSpPr/>
          <p:nvPr/>
        </p:nvSpPr>
        <p:spPr>
          <a:xfrm>
            <a:off x="825480" y="5956200"/>
            <a:ext cx="71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d probability is 0.34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101"/>
                </a:solidFill>
                <a:latin typeface="Arial"/>
              </a:rPr>
              <a:t>Between $790 and $1,000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Normal Distribution – Finding Probabilities (Example 2)</a:t>
            </a:r>
            <a:endParaRPr b="1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614" name="Picture 15" descr="0721"/>
          <p:cNvPicPr/>
          <p:nvPr/>
        </p:nvPicPr>
        <p:blipFill>
          <a:blip r:embed="rId1"/>
          <a:stretch/>
        </p:blipFill>
        <p:spPr>
          <a:xfrm>
            <a:off x="1271520" y="3592440"/>
            <a:ext cx="2598840" cy="3084480"/>
          </a:xfrm>
          <a:prstGeom prst="rect">
            <a:avLst/>
          </a:prstGeom>
          <a:ln w="0">
            <a:noFill/>
          </a:ln>
        </p:spPr>
      </p:pic>
      <p:sp>
        <p:nvSpPr>
          <p:cNvPr id="615" name="Rectangle 5"/>
          <p:cNvSpPr/>
          <p:nvPr/>
        </p:nvSpPr>
        <p:spPr>
          <a:xfrm>
            <a:off x="4730760" y="2941560"/>
            <a:ext cx="403056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101"/>
                </a:solidFill>
                <a:latin typeface="Arial"/>
              </a:rPr>
              <a:t>Between $840 and $1,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6" name="Picture 13" descr="0723"/>
          <p:cNvPicPr/>
          <p:nvPr/>
        </p:nvPicPr>
        <p:blipFill>
          <a:blip r:embed="rId2"/>
          <a:stretch/>
        </p:blipFill>
        <p:spPr>
          <a:xfrm>
            <a:off x="5038560" y="3583080"/>
            <a:ext cx="2575080" cy="3093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7T15:17:12Z</dcterms:created>
  <dc:creator>Rene Leo E. Ordonez</dc:creator>
  <dc:description/>
  <dc:language>en-US</dc:language>
  <cp:lastModifiedBy>DELL</cp:lastModifiedBy>
  <dcterms:modified xsi:type="dcterms:W3CDTF">2017-02-11T11:58:36Z</dcterms:modified>
  <cp:revision>220</cp:revision>
  <dc:subject>Probability Distributions</dc:subject>
  <dc:title>Chapter 6</dc:title>
</cp:coreProperties>
</file>