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dt" idx="28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ftr" idx="29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 type="sldNum" idx="30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8E01-D6CB-4FB6-AEE2-1F36405B8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0A25-2E90-4900-BA04-E72C96EE0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A42B-F4E1-4F93-9C81-65159F045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63EE-42F8-41EE-808B-24F3950B4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57BD-C8C7-4763-B713-F57169E00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13D9-6C74-414D-8B0C-8DB14ADA1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42C1-303C-4D51-9088-042ACF9C6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5AA2-331D-463F-A149-CE391A19D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8F4DE-2126-4122-9C62-DCD45CA864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39854-8528-4DB2-BA0C-C6C8AD5EB19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9C7E0B-1D02-45C0-825F-8A1EA69F0AD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824C8E-3D6D-453E-9FF5-97065013A01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FD2FD7-958A-4E89-965F-7A0C8A6FA92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233798-E08A-4BB3-8D8B-6C53337908D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57252E-766D-47DC-A21F-90B2E9285CD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F715A3-0496-4488-84E2-F79B84C150F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79CAD4-EC84-44A5-94BF-0C8A608F1B4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3D0386-EC7C-425F-AECF-6B9D38908E8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7D4E78-C5D1-4E56-8CAE-DB3E21CF798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898B49-6344-44C6-8F4B-1BC0658B14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8AE38-4340-407A-A4A3-CCCA97A8843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6DD350-CA12-4398-A68D-3F065A658A0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F84444-BA9B-4594-8EA8-0BCA384F4E9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835A10-B226-4FDE-8DB8-96FF8829A51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0CE43C-7E94-4F98-9732-410DD69B093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590100-2FDE-4B73-97B8-2805FE70441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D1A785-D5A4-4EF2-A188-076A4B8598F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C52C7A-B7AE-431D-B6C1-17AAA7A215A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6AEEAB-898C-4CED-B471-15300D8C1FC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B463A6-F8E1-4A64-A467-DCB450F814D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9F0C39-F998-4608-9B8E-76E94A8EB8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18178-20CD-4CD8-A04F-4732AB32A0E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D6C1DC-4778-4EB3-9FE8-3574A4516ED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C9952-CB6F-43E2-ABD6-840204AF3F1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05269-2CCE-4899-84E8-538F78C89E9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C0D2F-3173-4E83-9058-A8E6D7D9890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78E17-EE45-4BF4-B3E0-0497888F3FB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53C26-77FB-46B2-ACF6-0116ED2C643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6489C-95E0-4E32-ACB2-EC94CE8C5AA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68036-B1D0-48B8-9D01-59ADE850F81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120D0-B313-407F-A545-A76A2DDE543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52437-77FF-4C47-B8D2-1DE1EDE60F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1B32D-EB23-4E57-8443-9937F08068E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FF5E5-FD2E-49C0-B2EA-014BC1A5405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740AC-F79E-489E-9512-46D08F14D5F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D8F930-06EE-4DBD-8644-1F45AFFE683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8F0F52-CBB4-446F-A551-5521446DB2C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038155-906F-4C21-9666-FCFB7C02C63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77C713-D50B-4132-B878-62FE76DBAC6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4DCCE6-CC0C-4781-A7BF-46379F4E68A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2125D2-D2FA-4362-AC62-704106EE5D9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A3209D-8C1A-4773-9FFD-6A73F56AAF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5868D3-D2B6-4C37-AC49-D5E3DC944D4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BAF913-8F2D-40DE-AE9C-A5DA3990D6F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8CF366-D898-4847-9CE8-AFEC6841651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A8CC25-974B-4DC0-9799-684D6AA660C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745A21-904C-4A79-AC02-E881E87B7B0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D4E642-272C-49DB-B9D8-29382166906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D59D60-6FE0-432A-A755-FFD45C5B193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EC8D1F-7B91-406B-9847-617E161C488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8A79A6-C3CF-4624-A0F0-C83BFAA7F8E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C4915D-13D4-4705-8737-EAD5334B05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21FC5E-6B18-4980-90A6-6CBDF233C08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41EFC6-D6DD-46D2-9226-05089F4D0FC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2BF7B7-4662-4942-AF96-2073B2D55A4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A8513E-BDDC-4F68-A3AC-A7D30F9E342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B3D603-5CF9-4441-ADBA-D3A7FCB04BA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9FA8CE-D9B3-4382-8C93-FEDDA5138D2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592F31-C057-459F-9167-02A05AA62F7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A6EB70-7D01-4F8F-8DD4-2FC1BE48E9B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FA2BD3-4F7E-42A5-99E3-3488E8E2D380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286A3D-1D33-46FB-A75D-F4F6138242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DB0E4A-95CD-49FB-90DF-B1CC5A621A6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EAE36-FF54-4D05-A9A0-9ACCC26F16F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D2AE53-5D33-4B4D-ACFF-83543A72CA6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E21399-FC4E-4206-ACBB-DBF185871DD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C8C1B8-0BA2-4C9B-AE93-8B3438BDBED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95A198-5DAD-421F-B2ED-1B1C6A0B559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F5FBD2-97D1-4918-8F2F-F6499ACB4A4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FC57B1-C2BA-4F72-98C7-090B2E37F149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686BFE-C0EA-42A8-8C54-8F7731AA73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2BD5F-32E4-47ED-B38A-2142BD28B8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D0AB7-5090-471A-B4CC-4FB36A4D209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1EB0C-3FE4-46C0-8C16-CE59FF3E127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156DE-C7AC-4A38-B4B0-3E992D8BEA0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93F0B-5B00-419F-9DC8-424009FB742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BC7DA2-DA32-47EA-8625-E175715343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EA8CD-4041-429B-B709-E47CE134A1D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16EF6-5D78-4DB3-9192-666BC865346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0AC5BE-0D10-464C-946D-98DF8D88BB8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53A5D-4216-43D8-97FF-D1168916291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061DE-B63C-4EB5-AEF5-0A1B947D4B3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A2922-3DF7-4AA4-8773-154FBCAFF3E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8448D-29A0-4D94-844B-E947598D1AA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E4A35-8DFA-43C9-A1E2-B678F778C34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EBEC60-5D0F-4792-90F5-59200F1B0B2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952468-C884-4834-9B59-8D5793711D5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34961C-501B-4236-B4F3-321DB6AB6F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961DA-6CCD-4F1E-ACAA-563086E603A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13E700-D825-45B3-932D-CE257393696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FC0A28-0739-42DE-AAC4-AAAB480E1A3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B6C0AE-1B59-4D36-A526-DEFAD9BCDDC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BF4CF1-8A0A-43E0-B0ED-E5A91EED64A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F498D0-3E88-4D42-A1EE-A645C98A214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73AC73-1F4F-48E4-B076-68BF6ADE910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6B284C-03C4-48E0-B399-DBE22734CC9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6EA059-8A1F-482E-A7BC-7016C2AFC17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494796-F6E1-4724-838B-2C5245C0618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57543-3B6A-4266-BED0-850B18F206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0C874-85DE-4145-A18A-5E83F0651C6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2AD91-C570-4E3A-A56E-A2CFF3C2D08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D3303-3ACD-4821-9A95-F082196F80A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62F1A-390E-472D-B033-54C8FCC4C10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6FAAD-2437-4C1C-B7B1-2F9EE412700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B2706-1FEC-4A78-B7E9-4033819307C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0D625-7238-4658-AD4A-38A38F73E38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020B6-23E5-4EC5-AB8B-03305758631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3A702-03EB-4FD2-8B03-06E895113B9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8B222-1F9A-4FB3-AB8C-F78953091CD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D22B4-1A85-40CC-942A-BB5AFBDEA3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EAB72-3500-40FF-A16A-E46843F8573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A5851-775E-48FB-862E-99F5B1F3B48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3CB36E-277E-4E51-91EB-72AF11054E3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29C51E-9CA0-43A1-BB8F-2F394977633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B66A5B-3240-44E9-9518-B7940D61A72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A27433-697E-4DFE-9AC8-1B0206A8D1B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9E6935-D4FB-4578-A26D-85144F14CA9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76A7B6-3602-4726-A4B2-A99E043EB91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E40CED-6347-425A-9CB5-BB418109742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C9C597-8652-45A3-A5BA-405C2CA06A3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670873-A3E2-4A8C-BF8E-69DA5C3E5E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870A4-2246-448C-950A-E4A93CB7D08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5C5D1D-1C7A-4D2D-812D-F98974AF173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1F0F6D-956F-4C5B-B851-2002DDCC1D6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5CFB8D-9A1E-4903-AF8F-25F88596039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BB33F2-8BEC-4DF2-9F90-7211E90C10A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C5FD51-7335-498B-8180-D8456B93AC4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5CA3F9-2B3B-4DD7-9981-D5079F0EFC7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D0A4BE-4000-429F-AF02-9EA195011F6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639DCB-953D-4B45-9510-FBD58313EBB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5C9864-7A1D-47F8-A2C9-9053ACBF845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9A928A-382B-4ABB-BC5C-F5712A7CD9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36850-8BAF-4473-BDF8-54E00401DC1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FDA145-4603-41BE-BCD5-8C86219FBDC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BBAB6C-0152-42DC-BA50-464459A82F9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380F6C-FB40-4088-8F08-7755617612E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1D3FF3-0E54-4111-A63A-09406DB80A5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411AAD-E292-4D2D-9DA3-A04384DB56C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4AB77-A450-4B63-BE8A-BB7CC54DF3F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6DCB9-5188-472A-9D33-A0FCB4B3336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9ADFE-7D09-4BC5-BC9B-A8E4CE03329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80B97-706D-4314-B38A-7F1466E7637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E31C6-416D-4A82-BE65-505C6CCA36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C320D-FA4F-4013-8434-AF56455FF8F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FAC94-C560-4CDF-AB52-B70530EBCD2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093AD-9DCA-4E56-876D-F7291381A74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F1455-D222-4C68-8218-D38DDFCC959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BEA23-8EF4-4723-9624-0718CB3D136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EE3AD-410F-4788-B488-0623A61ABDB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7BDD3-6447-4D40-8F2E-1F0ED3C5641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BAD07-BF54-480B-9304-175D1E4E293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06C791-AA0C-4CA6-8A74-2AC370B3102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90D464-2861-4F5D-804F-F5D1A314AB8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B7A99B-24B7-466F-AB4C-5060E44200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DA03-15BA-4D54-9BD4-F3DCB159AF7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-234000" y="657864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-</a:t>
            </a:r>
            <a:fld id="{CADB1D7D-1CC5-46A4-8244-34DFE974AF2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ftr" idx="1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sldNum" idx="19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BC0B-B765-4041-9812-67B80B15CEA4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sldNum" idx="21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072D-E6BB-4748-8C90-815CB74E064B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ftr" idx="2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sldNum" idx="23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19ED-FC2C-4C8B-BB68-B4C634690D6D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ftr" idx="2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sldNum" idx="25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0790-CB19-42F2-A426-FF3A373A287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27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F70C-E57D-4F27-8322-BDBBBDE84934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7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0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Text Box 13"/>
          <p:cNvSpPr/>
          <p:nvPr/>
        </p:nvSpPr>
        <p:spPr>
          <a:xfrm>
            <a:off x="87480" y="6545160"/>
            <a:ext cx="160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3486240" y="6507000"/>
            <a:ext cx="580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pyright © 2010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5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F677-63EE-4241-AC6D-FE62F9801CBB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7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1AD6-25CE-43BC-81D4-D4E84BCE2DC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9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A2D9-3E3A-4950-9A4B-52EDFA2ED5E8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ftr" idx="1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1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5F12-50FA-4E32-8776-094BD9003A6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ftr" idx="1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13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BD3F-EB3D-46A6-BD4E-2816F545B00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sldNum" idx="15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C1B4-3F13-4D72-AC88-693FD9BE8D94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ftr" idx="1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17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DDE5-D1E2-4CC6-9E7A-752876FD98C4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964800" y="213300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Normal Probability Distribution</a:t>
            </a:r>
            <a:endParaRPr b="1" lang="en-US" sz="4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Normal Probability Distribution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542520" y="1904760"/>
            <a:ext cx="395460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5000"/>
          </a:bodyPr>
          <a:p>
            <a:pPr marL="251280" indent="-25128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bell-shap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has a single peak at the center of the distrib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symmetrica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m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asymptoti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rve gets closer and closer to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xis but never actually touches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cation of a normal distribution is determined by the mean,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 dispersion or spread of the distribution is determined by the standard deviation,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ithmetic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mean, medi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mode are equ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area under the curve is 1.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half the area under the normal curve is to the right of this center point and the other half to the left of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12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8" descr="0711"/>
          <p:cNvPicPr/>
          <p:nvPr/>
        </p:nvPicPr>
        <p:blipFill>
          <a:blip r:embed="rId1"/>
          <a:stretch/>
        </p:blipFill>
        <p:spPr>
          <a:xfrm>
            <a:off x="1047600" y="4848120"/>
            <a:ext cx="2897280" cy="1809720"/>
          </a:xfrm>
          <a:prstGeom prst="rect">
            <a:avLst/>
          </a:prstGeom>
          <a:ln w="0">
            <a:noFill/>
          </a:ln>
        </p:spPr>
      </p:pic>
      <p:grpSp>
        <p:nvGrpSpPr>
          <p:cNvPr id="586" name="Group 16"/>
          <p:cNvGrpSpPr/>
          <p:nvPr/>
        </p:nvGrpSpPr>
        <p:grpSpPr>
          <a:xfrm>
            <a:off x="5021280" y="2209680"/>
            <a:ext cx="3579840" cy="4058280"/>
            <a:chOff x="5021280" y="2209680"/>
            <a:chExt cx="3579840" cy="4058280"/>
          </a:xfrm>
        </p:grpSpPr>
        <p:grpSp>
          <p:nvGrpSpPr>
            <p:cNvPr id="587" name="Group 6"/>
            <p:cNvGrpSpPr/>
            <p:nvPr/>
          </p:nvGrpSpPr>
          <p:grpSpPr>
            <a:xfrm>
              <a:off x="5021280" y="2664360"/>
              <a:ext cx="1804320" cy="1705680"/>
              <a:chOff x="5021280" y="2664360"/>
              <a:chExt cx="1804320" cy="1705680"/>
            </a:xfrm>
          </p:grpSpPr>
          <p:pic>
            <p:nvPicPr>
              <p:cNvPr id="588" name="Picture 15" descr="0712b"/>
              <p:cNvPicPr/>
              <p:nvPr/>
            </p:nvPicPr>
            <p:blipFill>
              <a:blip r:embed="rId2"/>
              <a:stretch/>
            </p:blipFill>
            <p:spPr>
              <a:xfrm>
                <a:off x="5021280" y="2664360"/>
                <a:ext cx="1804320" cy="140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9" name="Rectangle 8"/>
              <p:cNvSpPr/>
              <p:nvPr/>
            </p:nvSpPr>
            <p:spPr>
              <a:xfrm>
                <a:off x="5294160" y="3971520"/>
                <a:ext cx="1463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ifferent Means and Standard Devi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Group 9"/>
            <p:cNvGrpSpPr/>
            <p:nvPr/>
          </p:nvGrpSpPr>
          <p:grpSpPr>
            <a:xfrm>
              <a:off x="6825960" y="2666880"/>
              <a:ext cx="1594440" cy="1868040"/>
              <a:chOff x="6825960" y="2666880"/>
              <a:chExt cx="1594440" cy="1868040"/>
            </a:xfrm>
          </p:grpSpPr>
          <p:pic>
            <p:nvPicPr>
              <p:cNvPr id="591" name="Picture 13" descr="0712a"/>
              <p:cNvPicPr/>
              <p:nvPr/>
            </p:nvPicPr>
            <p:blipFill>
              <a:blip r:embed="rId3"/>
              <a:stretch/>
            </p:blipFill>
            <p:spPr>
              <a:xfrm>
                <a:off x="6825960" y="2666880"/>
                <a:ext cx="1594440" cy="133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2" name="Rectangle 11"/>
              <p:cNvSpPr/>
              <p:nvPr/>
            </p:nvSpPr>
            <p:spPr>
              <a:xfrm>
                <a:off x="6941880" y="3984120"/>
                <a:ext cx="1470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Equal Means and Different Standard Devi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Group 12"/>
            <p:cNvGrpSpPr/>
            <p:nvPr/>
          </p:nvGrpSpPr>
          <p:grpSpPr>
            <a:xfrm>
              <a:off x="5071320" y="4587840"/>
              <a:ext cx="3529800" cy="1680120"/>
              <a:chOff x="5071320" y="4587840"/>
              <a:chExt cx="3529800" cy="1680120"/>
            </a:xfrm>
          </p:grpSpPr>
          <p:pic>
            <p:nvPicPr>
              <p:cNvPr id="594" name="Picture 17" descr="0712c"/>
              <p:cNvPicPr/>
              <p:nvPr/>
            </p:nvPicPr>
            <p:blipFill>
              <a:blip r:embed="rId4"/>
              <a:stretch/>
            </p:blipFill>
            <p:spPr>
              <a:xfrm>
                <a:off x="5071320" y="4587840"/>
                <a:ext cx="3529800" cy="140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5" name="Rectangle 14"/>
              <p:cNvSpPr/>
              <p:nvPr/>
            </p:nvSpPr>
            <p:spPr>
              <a:xfrm>
                <a:off x="5213160" y="6021720"/>
                <a:ext cx="318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ifferent Means and Equal Standard Devi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6" name="Rectangle 15"/>
            <p:cNvSpPr/>
            <p:nvPr/>
          </p:nvSpPr>
          <p:spPr>
            <a:xfrm>
              <a:off x="5732280" y="2209680"/>
              <a:ext cx="218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amily of Distribu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The Standard Normal  Probability Distribution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685800" y="1834920"/>
            <a:ext cx="3279600" cy="14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ndard normal distribution is a normal distribution with a mean of 0 and a standard deviation of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lso called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1200" spc="-1" strike="noStrike">
                <a:solidFill>
                  <a:srgbClr val="33cc33"/>
                </a:solidFill>
                <a:latin typeface="Arial"/>
              </a:rPr>
              <a:t>z-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value</a:t>
            </a:r>
            <a:r>
              <a:rPr b="0" lang="en-US" sz="1200" spc="-1" strike="noStrike">
                <a:solidFill>
                  <a:srgbClr val="4db14b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the signed distance between a selected value, designate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the population mean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divided by the population standard deviation,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mula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7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Picture 9" descr="0713"/>
          <p:cNvPicPr/>
          <p:nvPr/>
        </p:nvPicPr>
        <p:blipFill>
          <a:blip r:embed="rId1"/>
          <a:stretch/>
        </p:blipFill>
        <p:spPr>
          <a:xfrm>
            <a:off x="1263600" y="3787920"/>
            <a:ext cx="2013120" cy="70956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12" descr="0714"/>
          <p:cNvPicPr/>
          <p:nvPr/>
        </p:nvPicPr>
        <p:blipFill>
          <a:blip r:embed="rId2"/>
          <a:stretch/>
        </p:blipFill>
        <p:spPr>
          <a:xfrm>
            <a:off x="3728880" y="2963880"/>
            <a:ext cx="5121360" cy="3054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he Normal Distribution – Example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333216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eekly incomes of shift foremen in the glass industry follow the normal probability distribution with a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mean of $1,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standard deviation of $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0" i="1" lang="en-US" sz="2000" spc="-1" strike="noStrike">
                <a:solidFill>
                  <a:srgbClr val="33cc33"/>
                </a:solidFill>
                <a:latin typeface="Arial"/>
              </a:rPr>
              <a:t>z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the income, let’s call i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a foreman who earns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$1,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 week? For a foreman who earns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$9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 wee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8" descr="0715"/>
          <p:cNvPicPr/>
          <p:nvPr/>
        </p:nvPicPr>
        <p:blipFill>
          <a:blip r:embed="rId1"/>
          <a:stretch/>
        </p:blipFill>
        <p:spPr>
          <a:xfrm>
            <a:off x="4559400" y="2781360"/>
            <a:ext cx="4228920" cy="2905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he Empirical Rule - Example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439560" y="1904760"/>
            <a:ext cx="31356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part of its quality assurance program, the Autolite Battery Company conducts tests on battery life. For a particular D-cell alkaline battery, the mean life is 19 hours. The useful life of the battery follows a normal distribution with a standard deviation of 1.2 hou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swer the following ques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ut 68 percent of the batteries failed between what two values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ut 95 percent of the batteries failed between what two valu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tually all of the batteries failed between what two valu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cture 14" descr="0717"/>
          <p:cNvPicPr/>
          <p:nvPr/>
        </p:nvPicPr>
        <p:blipFill>
          <a:blip r:embed="rId1"/>
          <a:stretch/>
        </p:blipFill>
        <p:spPr>
          <a:xfrm>
            <a:off x="3579840" y="2220840"/>
            <a:ext cx="5332320" cy="3989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591480" y="515160"/>
            <a:ext cx="816264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Normal Distribution – Finding Probabilities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075440" cy="19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ean weekly income of a shift foreman in the glass industry is normally distributed with a mean of $1,000 and a standard deviation of $1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the likelihood of selecting a foreman whose weekly income is between $1,000 and $1,100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25" descr="0719"/>
          <p:cNvPicPr/>
          <p:nvPr/>
        </p:nvPicPr>
        <p:blipFill>
          <a:blip r:embed="rId1"/>
          <a:srcRect l="0" t="17356" r="48680" b="18155"/>
          <a:stretch/>
        </p:blipFill>
        <p:spPr>
          <a:xfrm>
            <a:off x="792000" y="3646440"/>
            <a:ext cx="4108680" cy="202572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8"/>
          <p:cNvSpPr/>
          <p:nvPr/>
        </p:nvSpPr>
        <p:spPr>
          <a:xfrm>
            <a:off x="825480" y="5956200"/>
            <a:ext cx="71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d probability is 0.34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101"/>
                </a:solidFill>
                <a:latin typeface="Arial"/>
              </a:rPr>
              <a:t>Between $790 and $1,00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Normal Distribution – Finding Probabilities (Example 2)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614" name="Picture 15" descr="0721"/>
          <p:cNvPicPr/>
          <p:nvPr/>
        </p:nvPicPr>
        <p:blipFill>
          <a:blip r:embed="rId1"/>
          <a:stretch/>
        </p:blipFill>
        <p:spPr>
          <a:xfrm>
            <a:off x="1271520" y="3592440"/>
            <a:ext cx="2598840" cy="3084480"/>
          </a:xfrm>
          <a:prstGeom prst="rect">
            <a:avLst/>
          </a:prstGeom>
          <a:ln w="0">
            <a:noFill/>
          </a:ln>
        </p:spPr>
      </p:pic>
      <p:sp>
        <p:nvSpPr>
          <p:cNvPr id="615" name="Rectangle 5"/>
          <p:cNvSpPr/>
          <p:nvPr/>
        </p:nvSpPr>
        <p:spPr>
          <a:xfrm>
            <a:off x="4730760" y="2941560"/>
            <a:ext cx="403056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101"/>
                </a:solidFill>
                <a:latin typeface="Arial"/>
              </a:rPr>
              <a:t>Between $840 and $1,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Picture 13" descr="0723"/>
          <p:cNvPicPr/>
          <p:nvPr/>
        </p:nvPicPr>
        <p:blipFill>
          <a:blip r:embed="rId2"/>
          <a:stretch/>
        </p:blipFill>
        <p:spPr>
          <a:xfrm>
            <a:off x="5038560" y="3583080"/>
            <a:ext cx="2575080" cy="3093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DELL</cp:lastModifiedBy>
  <dcterms:modified xsi:type="dcterms:W3CDTF">2017-02-11T11:58:36Z</dcterms:modified>
  <cp:revision>220</cp:revision>
  <dc:subject>Probability Distributions</dc:subject>
  <dc:title>Chapter 6</dc:title>
</cp:coreProperties>
</file>