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C67D-B153-480B-A16A-650CC982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3CD-1F38-4909-9185-30C2FB3C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CA0-E921-4829-AC5E-1B8BFA3C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4412-BE31-401E-A6B9-63B0774C1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4E4-D51B-4894-BC38-312CC2FA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66B-B9F7-4C1E-8BC5-A55FE0C4F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483-609E-47BA-9A6E-E2F05BA2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C90-9D7B-4794-B8DF-B088A43A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8F10-8340-4E7D-8A3E-01E35F1F3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CAC8-1ED3-427D-A22F-3A4FE03B20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0DAE8-C997-49B6-BFA8-EE17D99B2B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2B308-B62E-4A07-96F1-21A879FFD65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DB1FE-9A53-455C-BD17-8141A19F22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2C02C-038C-48AD-B706-3C6B4C5802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E8135-E7E3-4E6D-9620-A5E1AC44F4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D1F66-B260-40ED-95C5-5326019BD01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69806-3FC6-4952-8AE2-731FB3011A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9E455-A243-4617-AF68-F6CD63BD6B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0EF5A-2E71-448E-87B0-9785ECF94D2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3F9E9-8DE3-4815-AEAC-4EEE7D578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4F3F-3DE7-4A36-BD8A-F2744964215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231BA-BFEF-4B5B-852C-B66382D327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16EA34-FFBA-4892-BEBD-B1A233750C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78044-9106-4476-B940-A4CB4BD0FB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5DD68-AA66-470F-BF94-F865BE269B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38305-E15E-4DCA-8324-9142CF266A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29DAA7-0DB6-4FA7-94A6-D1E7A7B6C9D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7FEBA8-D1B9-4BA8-AC72-01500CA050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8D19B-C950-4A10-857A-16BF9A40A26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9E9BC-8D71-4CD2-B53A-426188895E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A9A1E-75B2-44E0-8276-372F944DF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03ED-C192-4520-8FC6-EF990E59FF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72B82-AF44-4DD7-8924-BC8CDA7EAD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914E-05E1-4E1D-A2B3-5C42E3D8DC1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347F-0E18-4AB2-8AD6-95CFCCF8970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69C7-A836-4C8F-BA3C-3F9CAEB0FE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05CDA-FA6F-4490-BEBE-F20AE540A5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11D6-E7DA-45B8-A03F-AA2F2B6C60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273E-6932-4DD7-9FAC-DF361B0529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D70A-04C6-4610-B3AE-4FAE56A562C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3262-2970-49A6-B285-4A746BBCD0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73EDB-A0F8-4C5E-9D06-48A44040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F90C-B538-44C6-AB21-59FDA3AFEE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93D9B-8B1D-4846-8D6A-766FF60E3D9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F94C-684C-4430-A85E-4F54AF5F89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0F127-89D3-4862-B865-251579B3B38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42CEE-8620-46CE-9F2B-F912D781FC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47F66-07AA-493C-BB9F-0ABDD0CE886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8EBA43-4692-4BB4-A43C-44453F47919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31FB5-22D0-4EE2-9D9D-CA38C2B9807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87DB1-7BCA-4922-905C-E39960E012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73B35E-FB3D-4336-86CA-6365E1614A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26F8F-434B-4AC8-AD32-AFB1C04735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71FAA-85E3-4F61-B2A6-6AEAB96E1A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40BC8-CD14-4975-B8F3-DE35DD7AB6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E255E-D1E3-4F74-8775-01F34DDD557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BF306-09A6-45FD-9880-FBB8316EBF5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7AB67-C877-4EB4-89A6-AD324B73973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C940E-A548-4DF8-8322-2EA7FC1A8E7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F4E66-6BD1-4072-B6A1-35C73959C7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3BFAE-1770-4856-A691-F8FEEA9D18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5DCCF-5A49-495F-AB4F-B1A919DA0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B42AE-CF4D-4EAB-9E02-281AFE1B19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8A51A-33C6-4547-9016-8C1591F1B4C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A596E-2E40-443A-BA8B-CE263923EB7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D4034-7F1E-40D1-9C9C-379AA354A4C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C1087-E6B6-451E-9A32-447549B0D79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D6F18-782B-4A6B-A4DF-CC129194CE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5B8EC-45DF-46C6-98AA-2047A01287C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75234-9DDF-4557-80BC-6514AAE65EB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EF5D3-CC48-4292-948B-830E793C97E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E4B65-49EF-40C5-B38D-6F3F518B7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D6C14-AB86-4B0E-A293-760571A3E4C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A8FD6-2AFB-4EE6-A526-27975713124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BEFAE-7973-48BB-87A2-8400214F3B5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A6CD6-97A9-452C-B55F-E4211D8177C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ABCF-18A6-4F1B-8EF4-40B219DDDD8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8341D-0871-4632-9EF0-C0F126B4D7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A7A20-EA78-47AE-8791-6C9925190DB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A3D08-EF20-41B3-BE87-37DE6985300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CDA3E-2376-4B04-B013-2F1450E473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5795-F2D3-44A7-A24A-4773D652B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64BAA-ADE5-49B6-8EF4-B737500D3C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9BB21-1E6C-4928-B820-96C14C37EC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26C8A-B201-43D7-8B28-0AAF9FAE2F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A19C0-49F1-4913-A2BA-E9F5BA8F85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4528-E019-4ED5-9E87-ABA42B145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7D94-8F84-468A-8945-768F53BCC0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203DE-BA9E-41A8-88EB-C5FE31777D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490EF-325E-4DB2-8904-3A4BC16F74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1FC2D-A2E6-4916-8873-AD33A2BE3D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5DA8C-984A-4A05-B105-56E1905F0E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50FC6-5745-4332-A94F-D16B40B91E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02097-39CE-4E68-9D6E-5CCC216F6E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51CEC-E029-4C3F-A37C-FDC2E46701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6F380-7314-4327-BF27-5BA97D410D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E45B5-D0C6-4B46-87DB-89027F49A8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F4FD2-6A9E-4A6E-84DC-6323C098F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316C-4793-46BA-9348-5C46275301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236BA-2711-4D8C-B17C-69936CBBEF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C351D-F9C8-4967-8F1A-F68BA80825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519AA-EDA2-49EB-B0A4-34BCFDE27E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E6CAA-F144-4DA7-AE0E-E0B53ABF8B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C997D-CA6A-46BE-8B86-B78A98BCFD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A210A-373B-4DDD-BB92-7D005737F1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FD765-57F8-4B18-80C4-426D65CD1A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7A5A3-1BE7-42CD-A617-9230023F14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9A464-74B2-485B-A75F-C01A63529A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CADE-5EEA-48A6-BF72-C77B54AD6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72F1-B6FC-4040-A70B-71819AF5F4F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E60B-AD92-4F7D-89F7-4429FCD1E0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D260-E808-40B1-9231-7382604515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DB95-DAF1-42FA-8BE9-C1A154944A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D475-0B44-48CE-932D-9CDA4DC457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CA15-CAD6-4127-AFAA-CC8DF73DDF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FD6F-828C-4217-BA28-199735D4EC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A71A-1F9A-4769-A581-38D11DDD06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5B90-7F22-4C6B-9F03-C0B591C6F8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0AC7-B121-4842-875D-52CAB6B619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8D7B-3F81-4A2E-80B9-93B99A5B1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29D5-F878-45E2-85BF-70F7D31AFD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F3FF-9BED-42B1-B8F8-17A79EFA2E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EBF4C-46EE-4141-8D70-9136193F29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C53C2-8E9D-41F7-9DED-3CDB20AA9D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49610-0D46-4E5F-9C85-4625C6506F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AE9AE-9742-4EFE-AA26-31BBCE0315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BA4F2-10E6-48F2-B080-1513B57F0A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D686F-475E-494F-BFAE-3BE1ACD774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632DC-07BD-4E87-982C-078D1FF6C9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09CFC-5677-4084-BFF0-F8818DEC4C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659F2-01B6-4AB0-85F3-3D2643B97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CA0F-2395-410E-9391-2AF705980D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DA623-3F77-472B-AA91-9D99ED2095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37106-8F88-46F2-BC01-433979D1A7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78630-B75A-4200-B1CB-F59FAA48FD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855521-A93D-4A34-AB6F-3E0EF581A6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4BD864-FBD7-4F1E-9949-D54770EF40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F0F611-F8E7-41E8-A910-4E634BE8409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2DAF2-F11A-410F-AEA8-4E1B207932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7DBE61-4E69-40F5-90DA-000801737F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2B11A-50DA-4CEC-B1B8-169FA7D0AB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E4504F-27F5-4DC8-91C1-C3D70E2BB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57E8-1EFD-4306-B1A1-48000A4F47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385AB-904C-4833-BAAE-AD8611B44B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C763E-3763-4C6D-87C1-0C5E115807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DFC0CD-A36C-4E43-961D-F8A549034B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D1EFF-9EFE-4C44-A001-BF3FB8EF7A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58A79-8D22-4C70-B202-2E70C60455C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6B7B-0E8E-407F-B753-4C0F35B5E9C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C15B-590D-4C7D-887A-6B2D5BC4CEA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ED8F-365C-4733-A08A-9AB0D3A7EF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3C9F-EEAD-4491-AE27-98F7C72992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AFF7-8114-4C0E-B582-413A99B34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8649-341B-453A-828C-010CEB275C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6001-CBE2-40B9-B728-9347D58E2C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31F7-BD0C-4194-B189-61C9AB907D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0517-E723-4D5D-9A39-6780DDDB0D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23B7-D7CF-4D7B-842B-1DBF609351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7B64-060A-47B6-8F92-F21030DA0E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AB1C-CD77-4694-A6B7-29F3D5F942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AA9A-59EE-464B-AB53-B404CC42C6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35313-C0C4-41FB-BA38-62025DF225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51DE8-60F6-4EF3-9D97-DBFC8E6E93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3F665-E3FC-43C8-9835-E3309B66C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622-1DC5-42A6-95EC-1466468F04A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8D4CA746-72F2-46E4-B1D8-4849FDCEA4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314-C90B-43D4-8B56-DF4C420F6F8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A08-2856-401A-8BF6-289A11FD6DA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348-098D-4ADE-9615-211BB522E7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B22B-75BD-4424-B9EC-8895CB21EBE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C322-EDEF-4571-B23B-F5BD88E84F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274-BE5E-4C25-AA42-EEBDAB83977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CE9-3E38-443D-9387-747CBC930D2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1DF-900F-4FAF-AF3D-977BF28B652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59FB-AFFC-4805-ADAF-D05F7EAC266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785E-64C8-4CF9-82E1-B5CCE1A592D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654-2B98-4EE6-BB5A-07FE6DE97A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2283-7A14-4F4C-A5CB-51B8C7E3FD1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eshael Alshehri</cp:lastModifiedBy>
  <dcterms:modified xsi:type="dcterms:W3CDTF">2017-02-12T08:03:13Z</dcterms:modified>
  <cp:revision>220</cp:revision>
  <dc:subject>Probability Distributions</dc:subject>
  <dc:title>Chapter 6</dc:title>
</cp:coreProperties>
</file>