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B870-2CD3-4DC7-8D65-BA2B37F88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C64-B119-4539-8849-24C2015C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0A0E-D089-4B77-9BBC-1D3024BEA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408-59CE-4E28-B5B8-A33986E42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20AF-CC6C-4AF3-8EC1-ECAE3D00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0D6-A46C-477A-8FE2-6C17ED460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746C-0FA4-4FBE-9E3E-2757FCCF9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4D4B-300D-434D-9C2F-356718E15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357A-8140-4227-8C6B-54E0CB30D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16B3-7FDA-4FC7-AA83-2648C35BBA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0FD3B-5177-42C9-BBCD-6C4FD8BB76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1434F-D888-4696-A5D8-E61AB7B6EA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A2AAF2-8B61-4215-B009-B6AC3B607A3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20BA0D-AAFE-442E-B80C-D6161F5B14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73E546-627D-4E5C-9FD3-5ABBF0FCC06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B2BD3-6816-42B2-A98A-4A41244646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504F1-4FA4-401B-AC95-B54C75F3CE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155A8-4CAC-496B-B917-4B1863A3AF3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1C290-2AA4-493C-B737-DF4B44FEEDF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2F8482-9257-451F-BD49-DD2473610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53A14-FA6C-4C50-B1DB-F5F3222FE7B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D98243-78F2-4718-981C-2155D386A25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01F4CD-8664-43BA-ABEF-4450DC2AEF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1F9A70-76F1-41C8-AFCA-4187F6080E4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48A398-00F4-4FBB-B2A7-16E52DF980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F5B207-F901-4BFA-8BE7-B3DCBA8946D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96DFC-2E3B-4C6D-8BE8-463A65676D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62A186-8BB4-49C3-A662-BE3089663C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81172-09CA-4958-9915-047E13F40B6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065389-6956-4079-BAC4-4640416FFEB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42284-957E-410F-BB6F-BD27939D1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93A9-E9ED-4D20-BDA6-8FE39D8F42B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C4626-B986-4019-A5AE-49BC9988CB2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75C2-EE26-46AC-B7BD-614A82E0028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1630-BF22-4D69-890B-A0D6D51BD68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39E0-7F2A-4247-9903-C452357300A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D0905-4530-4854-98F8-FE5FD5B1523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3659-5ACC-445E-A0B4-0046D47214C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FF49-6089-4FEA-AF6E-0A6C37765DC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3CCE1-5616-4ABB-BA66-2655E70A10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8619-3C69-4631-8A1F-F9DBA9B1478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A98F-C022-4C59-B129-D517102B2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9A86A-0FFA-4FF9-987A-AFF1761F1D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BDB2-88FD-4A1A-8CF8-1FB1BF8BA2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8FFED-4720-47A1-A85E-F040C87F189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14A17-35E3-41C5-BD20-FBFBB88777A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ED1F8-CB4D-4169-9032-75E1795DE6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EA2784-743E-4FFE-86ED-81217444BA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8804E-0897-4CB9-8379-FF8CA8567AC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9CC492-72C1-4610-BB15-52943D714E3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133D1-44B0-47A2-B7D2-861CAC87BDB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DBEB67-B43D-4A04-AA5E-D940432ECC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0BB60-509D-47E6-A31B-CE12477C600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E2FF3-BC0D-4D80-9439-C73850D3D6D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93328-685B-4FF0-B952-9067CD669B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09908-2BE6-4FF2-B385-553B23C27CD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968F86-837B-46C0-B37B-628A036DBE8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0DECA-ABFB-4825-84BF-BE891EF61C8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C3140C-4789-4E1B-B34C-A6D43865CDF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B7E42-6A1A-4309-A7BA-0C75B315A23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6C74B-98B4-4954-8E5F-5F41CFFB32B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985068-9ED6-4846-ABB8-59CF5796B0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BF8A7-BB9F-4B56-A5B8-029D4D41220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089C02-81FE-4887-93CA-DF741448D4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1BB88-AE44-4ABD-A6FB-CBF98CE6260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C25047-D730-48FC-A62E-40435F6323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E8336-AD68-409B-B933-B6E81CF5B17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AFF50F-B510-4AE1-BAE9-4F993A91C25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C6601-5BE0-445C-8F54-FCAE7CA4DD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4CC15-CE33-48CC-AB20-5CE34C00D37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5B83E-3942-47A3-B91C-EF0C8A4BE0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3FCE5-3165-4C67-8EBF-6C876AD73A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13765-0EA4-46E0-8C92-CF0932FE950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16A4A-F607-401B-870B-52081D30E56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9946-D457-4D7C-8402-56ACE5D3CC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9281B-23CA-4A77-BA00-61A9EF293B0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96733-2A92-48A8-A6AA-E1FD34EED7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301F6-3E8A-4352-BAAE-3431104AD44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17A70-60AF-43B7-B74E-398EC03A416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3DDF-8B62-4A99-BE38-42B6F7459B7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F7C10-6806-4F45-8622-3A5FB4A79E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C3790-0FBA-4680-958A-4965726A3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AB2C-B1BC-4F9C-B9A6-DA796CECBB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C488-25F7-4171-85D4-9E53C3A406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76517-75BE-4F32-B78F-1FCD36F410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C70E9-407C-4F04-8065-A7C6FD4545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19A71-B9AD-4DAD-80F7-03F51DB59D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C25B-2A56-4C88-AD53-4A7BD1747F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B96F4-87E5-450E-AA6F-02375F0131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13EB9-B24D-4AC5-8D61-B31638DD68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AF004-19BB-4261-A6AD-3AE605BA6A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22BBE-76FF-42F9-A84B-62DB13B85C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B94C1-24F5-49CE-91CA-521A44A1FE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B989D-D1AB-4B64-AB1C-3E5AECCD7B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4B100-E254-4270-ABFF-01D98C74CC8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5869CC-7E0E-4399-B056-761FD4F315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621E1-6146-4D4C-8820-BB8CE0569F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811B8-1DCA-4D37-BABD-A8C916580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4904-DD3D-48E2-BD7C-64A045965A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8C1B9-F211-4660-8D23-241D8DA20E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B682E0-5CBD-47AA-BDBC-BA27D236C7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7E9E5D-2DC5-4D32-ACC8-10CB274833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F4F87-0B64-4D89-B6E9-B77F2FA75E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70F460-6F79-498A-BF07-BDFD131A19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A74C1-BE4F-4010-93E9-4258B4DDA4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F6E03F-B32F-41CB-822A-7261F1EE86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A6966-0DEA-4522-8709-F0201CB3E5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CB123E-4D80-4F5E-AF72-428C1E5473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02DC-6EA3-41EB-A193-EF93BC8AF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A543-192A-448A-A273-41979AEC65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A1DE-2D65-4ECF-AA82-70575FD6165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9EFA-63FC-4E6B-A0AB-FDCB244DF4A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4633-8509-462E-8890-26E4D7C5899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2FC7-CC50-467C-B808-C67909DE568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358A-4FAE-4464-AADA-36B5B7DE1B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4D6B-ECD2-4E78-8766-5DB22FEE0C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9630F-564D-46DF-B8FF-B094EDDFE63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30EC-62A7-4FD1-BD16-3FEADECCDC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463E-7985-4D96-BC56-9F262B19FD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99EF4-3A61-4DD2-9F41-9825AFED6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0C7E-C240-44DC-96F2-B527A68768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9B4B7-6353-4A73-B26F-B641FB8FF5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48F62-BF89-434F-A248-0854078208C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85E1B8-86B8-4E3E-9C7C-3ADACB9316F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11CA8-123E-464D-BADB-01BB2B8B72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52261-4DCE-4C44-9D57-E34D250E14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6A733-7403-4812-862F-F8F11AC27D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1D1AD2-B0A0-480F-A7D9-9A64180D080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2D7728-6D1B-4C2B-853F-333CA0AC640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0E3572-F03C-4D02-81F1-FF7D4CEA806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13816-17A4-4525-82B9-7641FFE13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4119C-CEC1-4596-9D8A-3D79F73BA14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0B185-4B70-4B92-9875-55B94E8CB8F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62080-4D55-415A-A03C-C52BB03FE69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AAC2F1-F8D2-4B3B-A1A4-0D91381E8D2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16A1B0-836C-47A5-AA92-8CDA1A19A9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1CDF87-73D9-4726-A38A-2C3CEC3B9FE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79B583-F994-4A6A-8BF1-9E2D08BA736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4F012E-B8DE-4920-8558-F87E27D585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8DC264-D9DB-4F03-BE5F-87245E44ED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E65A3-164F-4434-90E5-BE1C0BF365D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9A5FD-3EE9-487E-AC88-5CB281FB4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8A35-632E-482F-A0A0-F16F1836DF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5D049D-2D67-4B02-9688-1290A0B7B94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22011-296A-4E82-84CE-074EAD0983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2233C-06EC-4D0F-A72C-2B46F7DC10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44B50F-6400-4FE5-85EA-09AC277B33F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D0E2CE-5443-4701-B91D-8EF767CD83C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5632-BDE7-4E79-86E9-EABD86820BF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BFD0-4BE2-4CE4-9BA6-1B9970077F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B6C8C-1FBC-40F6-AF5B-F25DD941B6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77D28-EAA5-46B8-94FC-EDDF9FE46F9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F424-5484-4309-86EB-2F565048C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9A8D-1693-433B-BF20-9C8A72FB8F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8E28-9411-4EB0-9DF1-6660189166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8DBF-C450-41C2-B426-28C1EE51859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33A03-0255-4E85-9E29-5E4E3AC7310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86C0-4152-4AEF-8615-ABAF8979BD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B51D-C740-4C51-A2D1-D343328FF3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8E3FE-67FE-4A56-A723-60387D95D3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A9D22-45B8-493A-AD4C-29D9A587D9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A3E47-D562-4080-A857-CB214904F55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6180A-3CCE-4DE6-B972-0285EBFA80E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16385-BFD6-40D7-B4EC-26E3B6374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39C4-FE20-4130-8784-D9346DCE43F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-</a:t>
            </a:r>
            <a:fld id="{0FB1DE3F-37D3-4EE1-A227-AE55036938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1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1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2D15-AB79-4F31-B6D2-4B9F55A36F4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2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662-6AC3-4314-83AE-260F5EF883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7A87-A8A1-4798-A6A0-92E07CF61CBA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3EA-CE59-4BAE-BA5E-41AF407B0C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2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C483-C79C-4185-B6CD-2C0D1104C97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163C-51A4-4678-A040-CAA6BF08777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B7B6-81FD-4A1C-A686-083F692C43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0C8B-F95B-48C9-95E6-F10DB4F8B50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1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A095-920C-42CD-B0CC-3F6EF03A3BC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474F-6731-4B7C-997E-AD1935BAF48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BDD-95E6-4E5C-B519-CCD1765E39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ftr" idx="1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7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72F0-9275-47C9-982F-DAB9B2A576A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964800" y="213300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ormal Probability Distribution</a:t>
            </a:r>
            <a:endParaRPr b="1" lang="en-US" sz="4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42520" y="1904760"/>
            <a:ext cx="39546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-25128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1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8" descr="0711"/>
          <p:cNvPicPr/>
          <p:nvPr/>
        </p:nvPicPr>
        <p:blipFill>
          <a:blip r:embed="rId1"/>
          <a:stretch/>
        </p:blipFill>
        <p:spPr>
          <a:xfrm>
            <a:off x="1047600" y="4848120"/>
            <a:ext cx="2897280" cy="1809720"/>
          </a:xfrm>
          <a:prstGeom prst="rect">
            <a:avLst/>
          </a:prstGeom>
          <a:ln w="0">
            <a:noFill/>
          </a:ln>
        </p:spPr>
      </p:pic>
      <p:grpSp>
        <p:nvGrpSpPr>
          <p:cNvPr id="586" name="Group 16"/>
          <p:cNvGrpSpPr/>
          <p:nvPr/>
        </p:nvGrpSpPr>
        <p:grpSpPr>
          <a:xfrm>
            <a:off x="5021280" y="2209680"/>
            <a:ext cx="3579840" cy="4058280"/>
            <a:chOff x="5021280" y="2209680"/>
            <a:chExt cx="3579840" cy="4058280"/>
          </a:xfrm>
        </p:grpSpPr>
        <p:grpSp>
          <p:nvGrpSpPr>
            <p:cNvPr id="587" name="Group 6"/>
            <p:cNvGrpSpPr/>
            <p:nvPr/>
          </p:nvGrpSpPr>
          <p:grpSpPr>
            <a:xfrm>
              <a:off x="5021280" y="2664360"/>
              <a:ext cx="1804320" cy="1705680"/>
              <a:chOff x="5021280" y="2664360"/>
              <a:chExt cx="1804320" cy="1705680"/>
            </a:xfrm>
          </p:grpSpPr>
          <p:pic>
            <p:nvPicPr>
              <p:cNvPr id="588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5021280" y="2664360"/>
                <a:ext cx="1804320" cy="14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9" name="Rectangle 8"/>
              <p:cNvSpPr/>
              <p:nvPr/>
            </p:nvSpPr>
            <p:spPr>
              <a:xfrm>
                <a:off x="5294160" y="3971520"/>
                <a:ext cx="146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9"/>
            <p:cNvGrpSpPr/>
            <p:nvPr/>
          </p:nvGrpSpPr>
          <p:grpSpPr>
            <a:xfrm>
              <a:off x="6825960" y="2666880"/>
              <a:ext cx="1594440" cy="1868040"/>
              <a:chOff x="6825960" y="2666880"/>
              <a:chExt cx="1594440" cy="1868040"/>
            </a:xfrm>
          </p:grpSpPr>
          <p:pic>
            <p:nvPicPr>
              <p:cNvPr id="591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825960" y="2666880"/>
                <a:ext cx="1594440" cy="13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Rectangle 11"/>
              <p:cNvSpPr/>
              <p:nvPr/>
            </p:nvSpPr>
            <p:spPr>
              <a:xfrm>
                <a:off x="6941880" y="3984120"/>
                <a:ext cx="1470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12"/>
            <p:cNvGrpSpPr/>
            <p:nvPr/>
          </p:nvGrpSpPr>
          <p:grpSpPr>
            <a:xfrm>
              <a:off x="5071320" y="4587840"/>
              <a:ext cx="3529800" cy="1680120"/>
              <a:chOff x="5071320" y="4587840"/>
              <a:chExt cx="3529800" cy="1680120"/>
            </a:xfrm>
          </p:grpSpPr>
          <p:pic>
            <p:nvPicPr>
              <p:cNvPr id="594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5071320" y="4587840"/>
                <a:ext cx="3529800" cy="140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Rectangle 14"/>
              <p:cNvSpPr/>
              <p:nvPr/>
            </p:nvSpPr>
            <p:spPr>
              <a:xfrm>
                <a:off x="5213160" y="6021720"/>
                <a:ext cx="3186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Rectangle 15"/>
            <p:cNvSpPr/>
            <p:nvPr/>
          </p:nvSpPr>
          <p:spPr>
            <a:xfrm>
              <a:off x="5732280" y="2209680"/>
              <a:ext cx="218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685800" y="1834920"/>
            <a:ext cx="3279600" cy="14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2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2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9" descr="0713"/>
          <p:cNvPicPr/>
          <p:nvPr/>
        </p:nvPicPr>
        <p:blipFill>
          <a:blip r:embed="rId1"/>
          <a:stretch/>
        </p:blipFill>
        <p:spPr>
          <a:xfrm>
            <a:off x="1263600" y="3787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2" descr="0714"/>
          <p:cNvPicPr/>
          <p:nvPr/>
        </p:nvPicPr>
        <p:blipFill>
          <a:blip r:embed="rId2"/>
          <a:stretch/>
        </p:blipFill>
        <p:spPr>
          <a:xfrm>
            <a:off x="3728880" y="2963880"/>
            <a:ext cx="5121360" cy="305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333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8" descr="0715"/>
          <p:cNvPicPr/>
          <p:nvPr/>
        </p:nvPicPr>
        <p:blipFill>
          <a:blip r:embed="rId1"/>
          <a:stretch/>
        </p:blipFill>
        <p:spPr>
          <a:xfrm>
            <a:off x="4559400" y="2781360"/>
            <a:ext cx="4228920" cy="2905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39560" y="1904760"/>
            <a:ext cx="313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14" descr="0717"/>
          <p:cNvPicPr/>
          <p:nvPr/>
        </p:nvPicPr>
        <p:blipFill>
          <a:blip r:embed="rId1"/>
          <a:stretch/>
        </p:blipFill>
        <p:spPr>
          <a:xfrm>
            <a:off x="3579840" y="2220840"/>
            <a:ext cx="5332320" cy="3989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591480" y="515160"/>
            <a:ext cx="81626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075440" cy="19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4108680" cy="2025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614" name="Picture 15" descr="0721"/>
          <p:cNvPicPr/>
          <p:nvPr/>
        </p:nvPicPr>
        <p:blipFill>
          <a:blip r:embed="rId1"/>
          <a:stretch/>
        </p:blipFill>
        <p:spPr>
          <a:xfrm>
            <a:off x="1271520" y="3592440"/>
            <a:ext cx="2598840" cy="3084480"/>
          </a:xfrm>
          <a:prstGeom prst="rect">
            <a:avLst/>
          </a:prstGeom>
          <a:ln w="0">
            <a:noFill/>
          </a:ln>
        </p:spPr>
      </p:pic>
      <p:sp>
        <p:nvSpPr>
          <p:cNvPr id="615" name="Rectangle 5"/>
          <p:cNvSpPr/>
          <p:nvPr/>
        </p:nvSpPr>
        <p:spPr>
          <a:xfrm>
            <a:off x="4730760" y="294156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3" descr="0723"/>
          <p:cNvPicPr/>
          <p:nvPr/>
        </p:nvPicPr>
        <p:blipFill>
          <a:blip r:embed="rId2"/>
          <a:stretch/>
        </p:blipFill>
        <p:spPr>
          <a:xfrm>
            <a:off x="5038560" y="3583080"/>
            <a:ext cx="2575080" cy="309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eshael Alshehri</cp:lastModifiedBy>
  <dcterms:modified xsi:type="dcterms:W3CDTF">2017-02-12T08:03:13Z</dcterms:modified>
  <cp:revision>220</cp:revision>
  <dc:subject>Probability Distributions</dc:subject>
  <dc:title>Chapter 6</dc:title>
</cp:coreProperties>
</file>