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61FE-CED3-4D46-A2D4-C54396816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F4AE-7D87-471A-ACFD-5EBE8070377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n a semantic-scale survey, customers are asked to rate alternatives with regard to a number of specific attribu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erceptual maps are graphical visualizations of customer’s perceptions of products or bra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E689-F617-4E07-9DE4-76D444ECB19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et orientation has been shown to lead to superior firm-level performance, including profitability, ROI, and stock retur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2C97-0239-41AE-9ADC-D843D75D7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WOT analysis - The systematic assessment of the firm’s Strengths, Weaknesses, Opportunities, and Threats and the recognition of their strategic implications—is  basic tool of strategic thin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basic process of conducting a SWOT analysis begins with the identification of the firm’s strengths and weaknesses (internal analysis) and of opportunities and threats in the environment (external analys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WOT analysis is only powerful when the analysis of strengths is rigor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 strength isn’t merely something the firm does well; it is something the firm does better than the relevant competition does it or, even better, better than the competition does it or could adapt to do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outcome of a SWOT analysis must be prescrip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DEC3-5553-4DD9-90A3-AB3ACE6F51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D913-7469-48B6-B2D0-0DD671A926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4CD1-AE58-43B0-99FF-7373AFB28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0C6F-E64B-49CC-A13C-3BE0F6DFD09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EDEB04-F59A-4E16-BEAC-BF467663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D4D721-A822-4EFB-A552-5459A519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C2AB9-50A2-4EFB-8439-CEAD898A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D6E293-40F7-425D-A12E-74EEE97D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02F861-5D1A-4621-834C-871CF554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46F7D-1AA3-42FC-A7A5-149EABC8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AAF920-832E-4283-946E-2D93B024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A05216-084D-49A4-B8A4-978F9780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48B15-FC32-41EE-B649-133C9847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38512A-DB26-488E-981E-488C679C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02C7-3955-4A57-A2B6-5C6DC56E460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8DC29B-D197-4EA8-BDC9-7E62C14A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35B455-D1FA-413C-935B-7C664E62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03569C-B5F0-4E1E-A01B-3F3EC331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1DE5DF-3564-4F0F-81A1-51F5E7A0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7A043F-BCBC-4577-98CE-40CCE907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375A6C-0ADB-4D38-9D0D-66D30FBD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4D676D-165E-48F6-84B3-E1403D47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2EEB31-9CC1-447B-8605-1496CE84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78FF3F-83CA-4586-A1EB-8D7E3FC0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7D04F7-89B3-4B18-B7F8-D80032DA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5F5A-CF72-4D7D-85D8-07DD4DB1CAB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8ADDFA-AD0E-422B-AB82-BB3AE928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92EA47-1FF2-4768-A856-ED9B34FE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4651C2-A914-49B0-98C8-6648505E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913F4A-A139-4454-B804-7A06B571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CEBC86-DA34-4E09-8496-B0DC78FF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D30F6F-CA99-4A16-A74B-5E59D2B9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21BAAC-0822-4934-B864-177A9774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3B8EA3-9317-47F6-ACC4-F1DA2466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8367C0-5477-4853-A156-06C0B84B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730220-7DAB-4076-B730-127AE6C6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DD6692-CF6C-4D9C-A8EE-8DF96652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1664CF-DFB6-4654-B397-2D5BD425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BBB005-64F2-4AF4-9EA1-A83A2241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F41461-24E2-4625-936B-02C040A6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DD7BB2-F352-4647-8B14-546F3478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ADF2A0-BDBA-4E69-B763-F4A3EB6C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2098B2-5E29-4C28-9D24-4BDD08ED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DC15DE-DB10-494A-9748-95B450FE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B1A0C1-4F5C-4A1C-BB28-A1D18B56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FEE9E0-708A-4ADC-B890-68519CAD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73FECC-4880-43A0-86E2-FF4B11B7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7125D1-9FF1-4E73-A6AA-46795882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FF1AB0-A305-4597-8674-A8A49111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0BD76F-45F6-46F6-834C-92D640D2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DE3287-2225-48D9-843B-37CFFDF4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49F6-5E61-489F-8580-C5298809D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0226-68B6-4A70-A492-085C6EF246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40AD-7425-4CB2-B7FF-F19A40BCD7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9A2C-C420-41A7-A95A-755662769E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FDDFA-544F-4996-A285-A2307BE718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DEC51-03E5-4BE2-AC3D-F43E08C897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9566-A491-4685-BDA5-8281BFCB71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47A2C-6AF0-41AC-A100-9F32B42DD2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7FA3-4017-4C0B-AE9C-14E072D79A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0FCCF-E2B6-4839-B265-CFADCF53BA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8291-A9A3-4DE2-9189-3DE9029BF3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E577C-3C9E-45F0-9540-9370606A55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5336-38B5-4AFD-B5FA-4F2354C03C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BB9D-CADB-4782-8EC1-69E51D6426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4D1F4-D2F6-40A7-BB58-4D3E73CB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E5BAD-9EEF-4A76-959F-F124980D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15873-4068-4F5C-BC19-B7130B12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9DE1-6852-425E-9BE5-CED5BD83F2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893FB-2CB1-4BFF-BA03-CA5CD75F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98D9A-0A44-492C-A99D-8AE373FC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620C5-92BE-428D-944D-20CF944D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5A552-B53C-4EBD-BCA8-1D043403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0E98F-4ED7-4B36-91B0-0137EBE6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D3ABC-B5C8-4836-97B5-393E6549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BE267-79B1-4CDA-A243-30EFBF23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86A28-0325-4C1E-A193-59051CA8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9C99A-4289-400A-8617-BC71E4FC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9EA41-316B-466B-A24A-D7F238C4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D86D-1BEC-4CA0-924D-2EDE5DA959B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6B045-C3A2-45EE-89C7-9D09BA47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577A1-BB00-480C-AC2D-3118514A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3072A-C7B6-467B-BAC9-0B68B815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70C6F-A1D3-4DF9-8AFE-EF669A16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AB334-6C4E-4735-9FBF-F9D42EF1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6D79D-FA21-44B6-8E59-C9807DF6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80855-AC25-4C69-99D3-D955AA0E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40984-A702-4748-9B1C-6CC4D889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009D6-16EB-4457-AB26-16AD7F6E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6FF12-42CC-4452-8528-950E1E0D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D80E-B360-48EB-9F3B-5E491F51B1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B7504-3B9A-410D-A7CA-ED3E0605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3398D-3A96-449F-ABFF-E0970E82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E29BD-DA7D-4208-ADF8-7DD98244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50DAE-7E6B-4D5B-9BC5-3640FA31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1BFAF5-F4E8-4A9A-8A6D-998BA290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9B203F-4986-4926-8110-7CD67411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72807-CE88-4498-9491-D55B1DFC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AEBA5C-5282-4024-A1CE-1F272CCF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9EB0B1-5F46-4C42-B959-8011E2AB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492DA7-7BB1-4BA7-8E48-1F80AD4D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9B8B-FB22-42A4-960F-299DEC4CAC4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7CCE82-779A-44F3-A162-07A114FF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DD1CA6-16F5-4EFB-8053-91AECC4F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0AE42-21BB-4AE1-941E-45863C43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49DB1-461B-4542-8A89-E355A740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CDC995-D65E-4D7E-AE3C-0DD811F2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8EBCD-446D-490F-8A34-C012C5E7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277DF-281A-4CB3-B95A-1769B202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BCC83-9D43-4038-AC7B-33CE6568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43C50C-96B8-4A10-B6A9-FCF7B315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518F77-8B32-4E30-BA9F-A2D011A6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EEA4-B414-4157-94FA-0A081D4E533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BB8F88-5E77-4328-A647-2A2CCB98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8BEE4-0484-4833-A3B0-95C54081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55558-0ADE-403E-A4A5-6CD7CE6C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30733-CF3F-400E-8D88-817C45FD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62CC9-525F-4B02-B9DD-938AA30B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1DF6D-6D42-411E-919A-170FC975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D4216-3F0D-46E6-AF5F-95A42F15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AF9D8-21E9-411D-BEA6-7885D92E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D85A8-7DEA-45AE-BC28-FB56F1CF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7F4C2-7489-4A59-99E4-5D3DF513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395F-6E58-49BA-83FB-BEFAED27C2B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4C042-DE89-4D26-B3FA-80AB913D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8232F-BCA4-40B1-901F-ECD58040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475474-0F3B-4F30-8608-33C505F8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EE317-AA58-47A2-AD2C-94BD1F5F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D5388B-A333-4001-9D1D-C203404F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D2D18-E32F-4196-87BE-C6DA5149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2C277-EC78-4988-B7CD-144FF468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924EE-E8DA-4B5C-B6D2-F9150BFC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4348E-C90E-4ECF-B871-EDB2B358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616418-3C30-478E-AE3B-7022CD4E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E55E-F45C-4393-B3C9-CECB9A1ADBC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4700-CE85-4B33-B056-A575F703267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1C89-A471-4CA3-92D2-D1CDF9E51E9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440D-4DD0-4E50-94E3-54DDF37A46B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9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mooradian_cover.PNG"/>
          <p:cNvPicPr/>
          <p:nvPr/>
        </p:nvPicPr>
        <p:blipFill>
          <a:blip r:embed="rId2"/>
          <a:stretch/>
        </p:blipFill>
        <p:spPr>
          <a:xfrm>
            <a:off x="-195120" y="36360"/>
            <a:ext cx="5688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60F0-429D-43F5-8785-C37BEC31F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B8D1-5726-4036-ABBD-4E9AE7361D5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BE66-2388-484D-9D0F-EE7B198E8A3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0DE1-25FA-417D-96C4-3E2C690A084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6045-548A-4D0B-BE71-F5D7FCF4680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731E-18D0-40DE-8F1B-713DF08B01A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501D-90F4-4001-BB5E-9305C8C320E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486400" y="533160"/>
            <a:ext cx="327672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Note 25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SWOT Analysi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fter a company has segmented its markets and has developed detailed segment profiles, two important decisions have to be ma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hould the company adopt a differentiated or undifferentiated marketing approa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f it adopts a differentiated marketing approach, which segments should be targe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B4CE-B449-4CE6-9A4D-90D9C2E581E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Undifferentiated Versus Differentiated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Marketing Approach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Undifferentiated marke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gnores segment differences and applies a “one-size-fits-all”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559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is leads to benefits from economies of scale in research and development, production, advertising, distribution, and other overhead expendi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implifies organizational stru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B0CF-AE8E-40CB-A5CE-7B663F1CF25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Undifferentiated Versus Differentiated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Marketing Approach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iated marke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 company develops adapted or customized marketing mixes for different target market se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t can better meet the segment-specific needs and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559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reates superior value and demand price premiu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D12E-E3E6-4614-B0AA-8C0FB95EC22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Undifferentiated Versus Differentiated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Marketing Approach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downside of differentiated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higher complexity of the organization and of the product portfol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diluted benefits of 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higher per-unit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iated marketing can consist of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lected spe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gment spe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duct spe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ull market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3AFA-273A-4462-ACE2-810177B3F3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Figure Note 26-1 - Differentiated Marketing Approach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359C-0D29-4B00-8950-025E481D6FF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wsx.PNG"/>
          <p:cNvPicPr/>
          <p:nvPr/>
        </p:nvPicPr>
        <p:blipFill>
          <a:blip r:embed="rId1"/>
          <a:stretch/>
        </p:blipFill>
        <p:spPr>
          <a:xfrm>
            <a:off x="457200" y="2133720"/>
            <a:ext cx="830592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Target Market Sele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9E16-3590-4B48-8F8B-55F92247F44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6"/>
          <p:cNvSpPr/>
          <p:nvPr/>
        </p:nvSpPr>
        <p:spPr>
          <a:xfrm>
            <a:off x="1523880" y="1981080"/>
            <a:ext cx="5181840" cy="121932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348560" tIns="104400" bIns="10440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iteria for segment attractiveness are defined, they are weighted and evalu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1981080" y="3403440"/>
            <a:ext cx="5181840" cy="121932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353960" tIns="104400" bIns="10440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alyze whether a company has competitive advantages in the individual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8"/>
          <p:cNvSpPr/>
          <p:nvPr/>
        </p:nvSpPr>
        <p:spPr>
          <a:xfrm>
            <a:off x="2438280" y="4826160"/>
            <a:ext cx="5181840" cy="121896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353960" tIns="104400" bIns="10440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weighted scores of segment attractiveness and competitive advantages are used to position each segment in a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9"/>
          <p:cNvSpPr/>
          <p:nvPr/>
        </p:nvSpPr>
        <p:spPr>
          <a:xfrm>
            <a:off x="5913360" y="2905200"/>
            <a:ext cx="792360" cy="793800"/>
          </a:xfrm>
          <a:custGeom>
            <a:avLst/>
            <a:gdLst/>
            <a:ahLst/>
            <a:rect l="l" t="t" r="r" b="b"/>
            <a:pathLst>
              <a:path w="792480" h="792480">
                <a:moveTo>
                  <a:pt x="0" y="435864"/>
                </a:moveTo>
                <a:lnTo>
                  <a:pt x="178308" y="435864"/>
                </a:lnTo>
                <a:lnTo>
                  <a:pt x="178308" y="0"/>
                </a:lnTo>
                <a:lnTo>
                  <a:pt x="614172" y="0"/>
                </a:lnTo>
                <a:lnTo>
                  <a:pt x="614172" y="435864"/>
                </a:lnTo>
                <a:lnTo>
                  <a:pt x="792480" y="435864"/>
                </a:lnTo>
                <a:lnTo>
                  <a:pt x="396240" y="792480"/>
                </a:lnTo>
                <a:lnTo>
                  <a:pt x="0" y="435864"/>
                </a:lnTo>
                <a:close/>
              </a:path>
            </a:pathLst>
          </a:custGeom>
          <a:solidFill>
            <a:srgbClr val="d0d8e8">
              <a:alpha val="90000"/>
            </a:srgbClr>
          </a:solidFill>
          <a:ln w="25560">
            <a:solidFill>
              <a:srgbClr val="d0d8e8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23920" rIns="223920" tIns="46800" bIns="241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0"/>
          <p:cNvSpPr/>
          <p:nvPr/>
        </p:nvSpPr>
        <p:spPr>
          <a:xfrm>
            <a:off x="6370560" y="4319640"/>
            <a:ext cx="792360" cy="792000"/>
          </a:xfrm>
          <a:custGeom>
            <a:avLst/>
            <a:gdLst/>
            <a:ahLst/>
            <a:rect l="l" t="t" r="r" b="b"/>
            <a:pathLst>
              <a:path w="792480" h="792480">
                <a:moveTo>
                  <a:pt x="0" y="435864"/>
                </a:moveTo>
                <a:lnTo>
                  <a:pt x="178308" y="435864"/>
                </a:lnTo>
                <a:lnTo>
                  <a:pt x="178308" y="0"/>
                </a:lnTo>
                <a:lnTo>
                  <a:pt x="614172" y="0"/>
                </a:lnTo>
                <a:lnTo>
                  <a:pt x="614172" y="435864"/>
                </a:lnTo>
                <a:lnTo>
                  <a:pt x="792480" y="435864"/>
                </a:lnTo>
                <a:lnTo>
                  <a:pt x="396240" y="792480"/>
                </a:lnTo>
                <a:lnTo>
                  <a:pt x="0" y="435864"/>
                </a:lnTo>
                <a:close/>
              </a:path>
            </a:pathLst>
          </a:custGeom>
          <a:solidFill>
            <a:srgbClr val="d0d8e8">
              <a:alpha val="90000"/>
            </a:srgbClr>
          </a:solidFill>
          <a:ln w="25560">
            <a:solidFill>
              <a:srgbClr val="d0d8e8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23920" rIns="223920" tIns="46800" bIns="241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Target Market Sele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dditional criteria can be use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yner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re compet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rategic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D43B-62B7-40C7-B45C-D2EE367B33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Position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ositioning requires a thorough understanding of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needs of the target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mpetitor’s positions in the target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firm’s own competitive advantages and points of differen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E1D7-C8D0-463C-8608-AA3DB4BA049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Specific Tools for Position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E885-BD53-4163-938D-C5CDC98F00A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Diagram 4" descr=""/>
          <p:cNvPicPr/>
          <p:nvPr/>
        </p:nvPicPr>
        <p:blipFill>
          <a:blip r:embed="rId1"/>
          <a:stretch/>
        </p:blipFill>
        <p:spPr>
          <a:xfrm>
            <a:off x="938160" y="1847880"/>
            <a:ext cx="71946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Marketing concep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keting concept - firms will be most successful at achieving goals when they orient around the consumers’ needs and align the entire organization around satisfying those nee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ket orientation - a firm wide customer and competitor focus and coordination of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0F7F-8D2D-477A-8F6F-25EC6EC0C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Figure Note 25-1 - SWOT Analysis Identifying Strengths and Weaknes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CC58-4879-4283-8D21-8D9D378A7D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dc.PNG"/>
          <p:cNvPicPr/>
          <p:nvPr/>
        </p:nvPicPr>
        <p:blipFill>
          <a:blip r:embed="rId1"/>
          <a:stretch/>
        </p:blipFill>
        <p:spPr>
          <a:xfrm>
            <a:off x="2133720" y="1525680"/>
            <a:ext cx="50292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able Note 15-1 - Needs, Motives, Wants, and Deman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C724-B74A-4DEE-B854-FFEFB9CD2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fgh.PNG"/>
          <p:cNvPicPr/>
          <p:nvPr/>
        </p:nvPicPr>
        <p:blipFill>
          <a:blip r:embed="rId1"/>
          <a:stretch/>
        </p:blipFill>
        <p:spPr>
          <a:xfrm>
            <a:off x="649440" y="1365120"/>
            <a:ext cx="788508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Customer Assessmen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xternal forces represent opportunities or threats because of the changes they produce in the way customers meet or can possibly meet a ne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onsidering and continuously reconsidering customer assessment and segmentation is essential to identifying opportunities and thre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0C61-C2DB-4560-80D6-3F09A7C710D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Segment Chang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arket segments are never stat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gments grow, shrink, and change their buying habits, preferences, and buying criter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egments can split into subsegments or can merge or combine into a single, larger seg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AB08-DA18-4ADD-A40C-795584157A0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Environmental Scann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herever an opportunity or threat arises, monitoring the environment is essential to feed understandings of changes, trends, and events to SWOT analy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A1B3-A978-4003-8604-AFB70AE2499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Figure Note 25-2 - Strategic Implications of SWOT Analysi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3773-206A-4117-B524-9E9D4C4C639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67yuui.PNG"/>
          <p:cNvPicPr/>
          <p:nvPr/>
        </p:nvPicPr>
        <p:blipFill>
          <a:blip r:embed="rId1"/>
          <a:stretch/>
        </p:blipFill>
        <p:spPr>
          <a:xfrm>
            <a:off x="749160" y="1828800"/>
            <a:ext cx="7632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ducting a SWOT Analysi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ssess the firm’s competitive advant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tudy the environment for opportunities and thre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dentify strategic alternatives and imperatives from the “fit” or match between the strengths and weaknesses and the opportunities and thre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rioritize, plan, and 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0B0B-77C8-44A6-9690-7A3F34226C9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Figure Note 25-4 - Strengths and Weaknesses, Opportunities and Threats Drive Strategi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7050-69E5-41D5-B616-6B19D0B7BC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rft.PNG"/>
          <p:cNvPicPr/>
          <p:nvPr/>
        </p:nvPicPr>
        <p:blipFill>
          <a:blip r:embed="rId1"/>
          <a:stretch/>
        </p:blipFill>
        <p:spPr>
          <a:xfrm>
            <a:off x="1676520" y="1600200"/>
            <a:ext cx="5794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86400" y="533160"/>
            <a:ext cx="327672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Note 26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Targeting &amp; Position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9:42:26Z</dcterms:created>
  <dc:creator>Jagruti Gadekar</dc:creator>
  <dc:description/>
  <dc:language>en-US</dc:language>
  <cp:lastModifiedBy>MonaSh</cp:lastModifiedBy>
  <dcterms:modified xsi:type="dcterms:W3CDTF">2015-05-22T17:18:43Z</dcterms:modified>
  <cp:revision>1738</cp:revision>
  <dc:subject/>
  <dc:title>Slide 1</dc:title>
</cp:coreProperties>
</file>