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6DEC-C438-40C6-9B64-92FA13970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2718-9B62-41C5-BECE-52C056450E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n a semantic-scale survey, customers are asked to rate alternatives with regard to a number of specific attribu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erceptual maps are graphical visualizations of customer’s perceptions of products or bra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A2EA-F564-4A88-B8C2-1D4537A200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et orientation has been shown to lead to superior firm-level performance, including profitability, ROI, and stock retur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6057-4F91-43AE-9A2A-57B8947B9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WOT analysis - The systematic assessment of the firm’s Strengths, Weaknesses, Opportunities, and Threats and the recognition of their strategic implications—is  basic tool of strategic thin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basic process of conducting a SWOT analysis begins with the identification of the firm’s strengths and weaknesses (internal analysis) and of opportunities and threats in the environment (external analys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WOT analysis is only powerful when the analysis of strengths is rigor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 strength isn’t merely something the firm does well; it is something the firm does better than the relevant competition does it or, even better, better than the competition does it or could adapt to do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outcome of a SWOT analysis must be prescrip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954C-F8DE-4D8A-8F6A-F5B804F090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F0F0-E8CC-4542-BF99-5170D9013DC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A124-6D48-4AE6-AAA6-24F657E62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B21A-7643-443F-877C-54ABD558D6B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6FCB8-7692-4EEE-9FC9-A82CB280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5892E-3969-4BB9-B5A4-15B1070E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890CED-68FD-4E09-B779-E18C90A9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9DA05-4868-4BFA-B701-65384878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DB48A-2C9B-4E6A-B74B-E730E96E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84150-0016-4C0A-BE3C-1A0CC239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5987A-5055-40D9-BCB3-148A64BC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72303-0711-49DD-882C-838AEF96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549C7F-50F2-4663-BD8B-385AA07E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93D54E-E739-4101-8DAA-8D12650C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6535-B678-410B-BE2F-AE8AA05698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25409D-BBD2-4AE5-9CBE-36708914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D27F12-091A-4C94-B7B3-36B52462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E19F03-FF0D-4268-89C0-4B64A4FB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28BACB-0193-47B6-9505-29F7A4CA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F897BA-F2A4-4E32-B9A1-EEF3C21A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68AF87-0AD9-48EC-BD3B-38806D3F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3E980E-F29B-4552-9DF6-A3CD06F0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980A69-5E8A-4503-932D-A525CD3E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B41B05-2C98-447B-BE38-AC8F0E65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C642C1-1A2C-4977-B22F-4ADF7051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A6AE-D157-47C4-9854-A394DF6922C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11B5BD-F471-44CF-8A4E-D24E8632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831C61-3103-440E-920D-F965229A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F352D0-6901-4FA2-B145-B30D646F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2B5EB5-6EA6-41E9-A32D-6C9E0E2E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B86297-17C5-4C48-BE39-47D7F08E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06BF72-702B-402E-9121-1117C1BA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8EE984-802C-4527-B796-C955736D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2BD0A1-DF5F-47CE-B35F-04D375E0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FC476B-F860-441C-B6D2-EFD70011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DC304D-089F-4453-8C71-D8215E5B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1E772A-6E53-429B-860A-28F4BB9A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A5F52C-53C8-42E6-A665-73841281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A8D4AA-9F41-49FD-B626-CC7E488A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ADDFE4-C9D9-4D10-A79D-262B2E99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1A7BAF-7EFB-413F-8A58-058F124D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4E96BA-37CC-4910-94AB-C6CEAE55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B91BBD-D171-459E-AEE7-FA8DE75A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51A89B-4387-4441-9562-E9313C90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D7058D-5EA5-4FCB-A1AF-361C00D8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8BBD4D-C92B-4626-95C2-4397B49E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DAC409-3B98-4731-B41D-E6025E3D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D7D681-C4A1-4EFD-A201-E37175DD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B57BC6-3771-477A-AF19-52E2EA22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E30BAE-587D-4159-9915-297407DE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3336F3-355B-42A6-BB48-7FE31B8C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C48F-A018-4C7A-81F4-A0700343A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1071-84EE-4CB7-9B56-920D4C709B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F926A-2802-42C9-9E43-EB9C33951A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F0A07-476F-4F12-8071-8A01B0FF30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14FCC-F326-4656-B7B1-159BDDA375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EB546-6A90-41FB-AEE6-0C0E3E3932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397F-6740-4B95-90B4-10F8D187DC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8D3C-F0A5-442C-9DF1-974EE6DA95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6338-590B-4F39-8F2F-375527ACD1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63201-11BE-4D1E-9173-09278458AF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4568E-4C0B-4264-AFAA-DE80360235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1747-5C2C-4F71-BB74-4081289BE8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45871-6AA6-4545-A5C8-7A193B8D80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E2BC-1D24-45B8-B0E6-A3F4EA9FA8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2D21A-4C4C-4373-88D6-BA9D5897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A7FF6-A99A-441E-B14E-2F913B71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D4793-9326-400A-B6FA-1B91852A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1F97-5471-4217-AB3C-1746C94AA3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90A26-5616-4F1B-A1A9-CF0586AB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1FA8B-0C27-4401-A652-F115716C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1EB24-523C-477A-9A5D-446A59CD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943E4-EE8A-45C9-99BC-FE38E614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4FA5C-9E53-42C0-B862-527CA58C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84108-EF0D-4B8B-9B03-CEAB88DB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6461B-D297-437E-9411-7DD0ABF5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CDE19-F9DC-4B13-BCCF-3FC21345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390C8-C58A-4980-B6D0-B6124D37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411C7-E7E2-453C-8AD5-708965CE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2FAC-7040-458F-8236-E229E566923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63E4E-7427-4859-89B8-DDF43358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5BD35-7B10-43D2-AA96-E001DD14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89046-92EA-4BC5-9D4F-BD57895E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78DD7-80D9-4C72-AC78-7DB54497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22B06-5721-4A1B-8A61-E214DB44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64365-45EE-46B2-AF97-C167AE35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420D5-0DBD-43CA-899B-88A0EAA4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7C06A-E2F5-4FF9-B7CB-57C7D4E4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07956-9147-4053-8575-2B8B3BF1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BADF0-3A9A-416B-8CF5-EFDB761B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8C36-1785-43BC-A184-FD6BC05401D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147CF-1855-491D-A4C0-532E5243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767E29-CA2C-42C6-95C1-FE8006B2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12349-99B2-4EFA-A1C8-154C5D96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63E99-6957-4321-B7D3-C5117871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24173B-2EF0-4D18-880B-81CBA4EC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E3FD36-390A-4B68-9DDC-34CA9173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D3C3B-0886-4AE8-A8EB-F111B0B3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04BCBE-B653-441D-BD41-2640382E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8C1697-12A6-4B21-A8EB-E2ED0725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2CCDE7-109A-4EC3-B93E-B139CF4E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1B27-7234-488B-BA23-FEE5735F638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8C3AF-7458-4328-9955-3E6DE22D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A3137-2D9F-44AE-BB41-3E6786DF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B2468-5D25-40F2-B278-0758EE0B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6543A-F57A-45FC-823A-7C660377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64EB1-0A49-4848-952C-FE6436F6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902BCE-1F58-403E-B74A-3774D74A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75D4F-D886-4F85-A148-0E3F7DA7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F03493-75AB-4FE7-851B-9C8E2127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FBC89-E6B9-4D1B-8C64-91531150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605C3-811E-4AB2-B529-A9313B66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70EF-D8BF-4021-B85A-1C26ACD6BD0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19E91-30E1-4771-975B-49EE3CED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C9EF0-F6B3-426F-A373-4F023E8C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30215-7EE9-4153-B211-EBD0004C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2ECA1-3AF6-4E98-B1DA-5475797A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F82C5-F7FF-4E2D-A45E-C325E8BC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5608D-C16E-492C-B280-48949975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8E372B-A7C2-493C-8D45-3066D3AF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9A383-2F27-4273-9953-4CF80482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838127-D04B-433F-98D3-70B40002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5C183-0AA3-4510-8226-17A5270B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7F72-C97A-4E66-9FEA-870D83C9CDD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47B56-332C-4845-B5B0-FDE8F4A0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C9E0C-68EE-4974-AED1-78116233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B6B20-7232-43FE-8294-E95D147D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0D100-43F6-4890-A694-3BE6C3EF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F1620-85C0-4173-BB86-767E146E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ABF55D-24A6-40E9-9FB4-5869E8D5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752126-A607-49E8-8B9E-D8825B7F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01E0A-2985-4761-8D98-5EAD1AC1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F53214-A3B8-42B9-A52E-2E6B73D0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BCB1FB-F1D0-4AAA-9B7E-1C03D2C0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55BB-2D41-43E0-A61A-EC2F0727146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6BBC-EBA1-4A04-AD1C-6330BD5D32C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9B05-CA91-4BBF-8CEA-DE618748E24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A78B-5463-4BB2-B978-399C1BF32A6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9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mooradian_cover.PNG"/>
          <p:cNvPicPr/>
          <p:nvPr/>
        </p:nvPicPr>
        <p:blipFill>
          <a:blip r:embed="rId2"/>
          <a:stretch/>
        </p:blipFill>
        <p:spPr>
          <a:xfrm>
            <a:off x="-195120" y="36360"/>
            <a:ext cx="5688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33A7-E543-43DA-AAB4-8FCDFBC6C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4E12-709F-48D2-9157-AA2A4137E93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583E-A570-4324-9B6E-EDC1DD7F39E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D6F6-ACE6-40E9-925F-85C80D48D64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9826-E657-4172-969B-45CFC6871AB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A265-DCE0-40A3-B352-F6745FB8ED5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4F0D-B1F2-45D8-B52F-B651BCBB49C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486400" y="533160"/>
            <a:ext cx="327672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Note 25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SWOT Analysi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fter a company has segmented its markets and has developed detailed segment profiles, two important decisions have to be ma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hould the company adopt a differentiated or undifferentiated marketing approa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f it adopts a differentiated marketing approach, which segments should be targe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6A81-6D9D-48BD-B77A-9D183E8EE9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Undifferentiated Versus Differentiated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Marketing Approach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Undifferentiated marke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gnores segment differences and applies a “one-size-fits-all”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559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is leads to benefits from economies of scale in research and development, production, advertising, distribution, and other overhead expendi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implifies organizational stru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3FB8-5522-4585-A1EA-3EA8341B79F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Undifferentiated Versus Differentiated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Marketing Approach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iated marke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 company develops adapted or customized marketing mixes for different target market se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t can better meet the segment-specific needs and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559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reates superior value and demand price premiu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122B-4949-464E-9BDB-ABBA71207EE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Undifferentiated Versus Differentiated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Marketing Approach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downside of differentiated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higher complexity of the organization and of the product portfol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diluted benefits of 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higher per-unit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iated marketing can consist of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lected spe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gment spe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duct speci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ull market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2A72-9B8E-4C38-A196-14CC63C5379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Figure Note 26-1 - Differentiated Marketing Approach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F9BC-8259-4D82-BA4F-49FC4F9AE3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wsx.PNG"/>
          <p:cNvPicPr/>
          <p:nvPr/>
        </p:nvPicPr>
        <p:blipFill>
          <a:blip r:embed="rId1"/>
          <a:stretch/>
        </p:blipFill>
        <p:spPr>
          <a:xfrm>
            <a:off x="457200" y="2133720"/>
            <a:ext cx="830592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Target Market Sele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03B0-C627-4940-8FB7-0AF6EBF08D9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6"/>
          <p:cNvSpPr/>
          <p:nvPr/>
        </p:nvSpPr>
        <p:spPr>
          <a:xfrm>
            <a:off x="1523880" y="1981080"/>
            <a:ext cx="5181840" cy="121932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348560" tIns="104400" bIns="10440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iteria for segment attractiveness are defined, they are weighted and evalu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1981080" y="3403440"/>
            <a:ext cx="5181840" cy="121932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353960" tIns="104400" bIns="10440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alyze whether a company has competitive advantages in the individual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8"/>
          <p:cNvSpPr/>
          <p:nvPr/>
        </p:nvSpPr>
        <p:spPr>
          <a:xfrm>
            <a:off x="2438280" y="4826160"/>
            <a:ext cx="5181840" cy="121896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353960" tIns="104400" bIns="10440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weighted scores of segment attractiveness and competitive advantages are used to position each segment in a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9"/>
          <p:cNvSpPr/>
          <p:nvPr/>
        </p:nvSpPr>
        <p:spPr>
          <a:xfrm>
            <a:off x="5913360" y="2905200"/>
            <a:ext cx="792360" cy="793800"/>
          </a:xfrm>
          <a:custGeom>
            <a:avLst/>
            <a:gdLst/>
            <a:ahLst/>
            <a:rect l="l" t="t" r="r" b="b"/>
            <a:pathLst>
              <a:path w="792480" h="792480">
                <a:moveTo>
                  <a:pt x="0" y="435864"/>
                </a:moveTo>
                <a:lnTo>
                  <a:pt x="178308" y="435864"/>
                </a:lnTo>
                <a:lnTo>
                  <a:pt x="178308" y="0"/>
                </a:lnTo>
                <a:lnTo>
                  <a:pt x="614172" y="0"/>
                </a:lnTo>
                <a:lnTo>
                  <a:pt x="614172" y="435864"/>
                </a:lnTo>
                <a:lnTo>
                  <a:pt x="792480" y="435864"/>
                </a:lnTo>
                <a:lnTo>
                  <a:pt x="396240" y="792480"/>
                </a:lnTo>
                <a:lnTo>
                  <a:pt x="0" y="435864"/>
                </a:lnTo>
                <a:close/>
              </a:path>
            </a:pathLst>
          </a:custGeom>
          <a:solidFill>
            <a:srgbClr val="d0d8e8">
              <a:alpha val="90000"/>
            </a:srgbClr>
          </a:solidFill>
          <a:ln w="25560">
            <a:solidFill>
              <a:srgbClr val="d0d8e8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23920" rIns="223920" tIns="46800" bIns="241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0"/>
          <p:cNvSpPr/>
          <p:nvPr/>
        </p:nvSpPr>
        <p:spPr>
          <a:xfrm>
            <a:off x="6370560" y="4319640"/>
            <a:ext cx="792360" cy="792000"/>
          </a:xfrm>
          <a:custGeom>
            <a:avLst/>
            <a:gdLst/>
            <a:ahLst/>
            <a:rect l="l" t="t" r="r" b="b"/>
            <a:pathLst>
              <a:path w="792480" h="792480">
                <a:moveTo>
                  <a:pt x="0" y="435864"/>
                </a:moveTo>
                <a:lnTo>
                  <a:pt x="178308" y="435864"/>
                </a:lnTo>
                <a:lnTo>
                  <a:pt x="178308" y="0"/>
                </a:lnTo>
                <a:lnTo>
                  <a:pt x="614172" y="0"/>
                </a:lnTo>
                <a:lnTo>
                  <a:pt x="614172" y="435864"/>
                </a:lnTo>
                <a:lnTo>
                  <a:pt x="792480" y="435864"/>
                </a:lnTo>
                <a:lnTo>
                  <a:pt x="396240" y="792480"/>
                </a:lnTo>
                <a:lnTo>
                  <a:pt x="0" y="435864"/>
                </a:lnTo>
                <a:close/>
              </a:path>
            </a:pathLst>
          </a:custGeom>
          <a:solidFill>
            <a:srgbClr val="d0d8e8">
              <a:alpha val="90000"/>
            </a:srgbClr>
          </a:solidFill>
          <a:ln w="25560">
            <a:solidFill>
              <a:srgbClr val="d0d8e8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23920" rIns="223920" tIns="46800" bIns="241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Target Market Sele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dditional criteria can be use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yner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re compet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rategic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68EA-E19F-413D-ACAC-2859C881BB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Position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ositioning requires a thorough understanding of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needs of the target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mpetitor’s positions in the target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firm’s own competitive advantages and points of differen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78CA-E47C-46EF-B1D1-E3B13AAC92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Specific Tools for Position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AAC1-829A-45A0-9C8A-1FE89272368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Diagram 4" descr=""/>
          <p:cNvPicPr/>
          <p:nvPr/>
        </p:nvPicPr>
        <p:blipFill>
          <a:blip r:embed="rId1"/>
          <a:stretch/>
        </p:blipFill>
        <p:spPr>
          <a:xfrm>
            <a:off x="938160" y="1847880"/>
            <a:ext cx="71946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Marketing concep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keting concept - firms will be most successful at achieving goals when they orient around the consumers’ needs and align the entire organization around satisfying those nee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ket orientation - a firm wide customer and competitor focus and coordination of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C285-0301-4C99-A256-4AE75E944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Figure Note 25-1 - SWOT Analysis Identifying Strengths and Weaknes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6784-64CB-42DC-8A3C-ABF52C6374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dc.PNG"/>
          <p:cNvPicPr/>
          <p:nvPr/>
        </p:nvPicPr>
        <p:blipFill>
          <a:blip r:embed="rId1"/>
          <a:stretch/>
        </p:blipFill>
        <p:spPr>
          <a:xfrm>
            <a:off x="2133720" y="1525680"/>
            <a:ext cx="50292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able Note 15-1 - Needs, Motives, Wants, and Deman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CF3D-8E0A-44B7-9C47-90A842D4D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fgh.PNG"/>
          <p:cNvPicPr/>
          <p:nvPr/>
        </p:nvPicPr>
        <p:blipFill>
          <a:blip r:embed="rId1"/>
          <a:stretch/>
        </p:blipFill>
        <p:spPr>
          <a:xfrm>
            <a:off x="649440" y="1365120"/>
            <a:ext cx="788508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Customer Assessmen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xternal forces represent opportunities or threats because of the changes they produce in the way customers meet or can possibly meet a ne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onsidering and continuously reconsidering customer assessment and segmentation is essential to identifying opportunities and thre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C0F7-CBE7-4CC5-A658-88840E3FF3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Segment Chang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arket segments are never stat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gments grow, shrink, and change their buying habits, preferences, and buying criter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egments can split into subsegments or can merge or combine into a single, larger seg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8040-8EE3-4C5D-883E-42D265785D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Environmental Scann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herever an opportunity or threat arises, monitoring the environment is essential to feed understandings of changes, trends, and events to SWOT analy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645D-071B-49B4-9D2D-640E85A403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Figure Note 25-2 - Strategic Implications of SWOT Analysi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CFA6-14A1-442E-902D-13FF0B3B478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67yuui.PNG"/>
          <p:cNvPicPr/>
          <p:nvPr/>
        </p:nvPicPr>
        <p:blipFill>
          <a:blip r:embed="rId1"/>
          <a:stretch/>
        </p:blipFill>
        <p:spPr>
          <a:xfrm>
            <a:off x="749160" y="1828800"/>
            <a:ext cx="7632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ducting a SWOT Analysi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ssess the firm’s competitive advant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tudy the environment for opportunities and thre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dentify strategic alternatives and imperatives from the “fit” or match between the strengths and weaknesses and the opportunities and thre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rioritize, plan, and 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3C34-1344-467D-A719-5E0E9F2575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Figure Note 25-4 - Strengths and Weaknesses, Opportunities and Threats Drive Strategi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D4F4-DE40-4AD7-B1EB-AA2BF41F30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rft.PNG"/>
          <p:cNvPicPr/>
          <p:nvPr/>
        </p:nvPicPr>
        <p:blipFill>
          <a:blip r:embed="rId1"/>
          <a:stretch/>
        </p:blipFill>
        <p:spPr>
          <a:xfrm>
            <a:off x="1676520" y="1600200"/>
            <a:ext cx="5794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86400" y="533160"/>
            <a:ext cx="327672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Note 26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Targeting &amp; Position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9:42:26Z</dcterms:created>
  <dc:creator>Jagruti Gadekar</dc:creator>
  <dc:description/>
  <dc:language>en-US</dc:language>
  <cp:lastModifiedBy>MonaSh</cp:lastModifiedBy>
  <dcterms:modified xsi:type="dcterms:W3CDTF">2015-05-22T17:18:43Z</dcterms:modified>
  <cp:revision>1738</cp:revision>
  <dc:subject/>
  <dc:title>Slide 1</dc:title>
</cp:coreProperties>
</file>