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021-5B94-46FF-9B5A-5CF0A05C4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474-BD75-4173-B854-611DC223FC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organizes the many controllable factors that can influence brand identity/ meaning, brand equity, and brand 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0B0-912B-4981-B6F5-FA65A6FBA8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able presents various aspects of corporate image that can influence product brand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F64F-12E7-4F08-B4A6-2E6824C675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728B-BF0F-4323-9E1B-9C31126DA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98F9-DA5F-491B-8B8A-5665CC7B8E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73C8F-7098-428B-9D1E-C8360DD7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95322-7DC9-488C-916B-4E0377AE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0FE7E-E563-4935-AE4A-E4FC0BB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7DE42-E259-4673-85EB-8B735D2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497269-4D83-42FB-AB6C-5AA727D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3B919-0AF6-4586-9C94-CF7F961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BAD00-ABD2-4479-80D5-4D11C1EA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0AFB8-EAD5-4ABE-A489-16CA52E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6E53A-8DDE-43B9-8C30-487557B2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BF7C4-74A6-4708-8F18-B1F489A2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ECD0-2B00-4476-AE47-C641C37A6D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07F534-C643-4301-8DFB-42207176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6164B-0A74-4089-B2EA-6B7E2B83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034A9-DDE7-4BB8-9F59-311163C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DDE5D-7933-4A5F-96DB-474CCEA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B4B5A-B25E-4920-B68D-03A3A42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8E890-1D9F-4454-88A0-C9920ED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FE571-655A-4358-9468-003E229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92139-A3B2-4C34-A2B4-ACA6A97A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7E872-5FA5-4BD6-81F9-55A54CE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117AF-26E6-4E52-ACE7-C4B179A2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2C75-2047-44B7-A455-867E5A6A1A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4427F-F1E2-47A1-8997-81C57DF8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AA8CC-1F4A-4EF3-9A37-6DFDEE17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06166-2694-4376-BBA6-82FF93B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BF680-21D2-440E-B387-F20E5F1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43415-0A04-468D-8ED6-AF645FC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79AD8F-61E1-4D84-9FE7-4A8A479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A5C07-2CBA-49BE-A10E-E55A398E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16771-086C-4F66-8965-736BED5C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A8EF0-CCDE-4461-BDD6-AA3ECC4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9540E-A729-47BD-9163-9EAD60F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8F999-C75B-46FF-B4F8-2554409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3E40B-DB83-4F36-9C99-C67CC4B0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AF45B-FB12-41C6-B2DB-A3B21B5F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3CFA5A-7859-4FA6-B7C6-7A2562F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CD70A-37AC-40D3-A0DA-A3A3B80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3F8AD-753A-4457-BB99-86DCA1A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35A4F-1DEB-4A8C-A514-5001E5A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967BF4-35AF-4154-9C32-E53E080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3335DC-9E71-4A1A-A5DB-D545B592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E5B8CA-5A67-41C1-9584-37A7E74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72016-F6AF-464D-9F8C-39896FE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0C99E-9141-4347-960D-A965B2C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AD78A0-E0B9-4BE3-9B78-C65874D6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19A8F-99BB-4533-B636-53A3B20D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7D600-1F61-4CB7-851E-56271BE7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43D2-FF3E-4E6A-9C08-94B5E93E6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46CE-8A36-4A2D-9130-33908EA736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0670-B5AE-40F3-91A1-3EFF6E8DB1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A742-2914-464B-906D-189E112C5D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202D-942E-49B2-981E-77A430DBEB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E341-FF30-486A-AB50-88F52CBA9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5AC4-7EBC-4E34-8C70-45F1FDDA8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CC15-B711-4E57-9E56-8A644C891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BEC5-D570-40CD-A5CD-5D07133E02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909D-04A1-4F41-93F5-8BBB091145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91C3-2C58-4766-AB85-C6C896FAB5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AC1E-4D83-4C0A-87BE-9F3F1CBA96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C1AF-9949-4DF4-A77C-303EAE2B48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F747-D106-4BAF-B6EA-49F2673941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46C8-8EAF-4BD5-AC2F-56553EE5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D0646-527F-4D66-96CA-57788EC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DECB-FB2C-47D9-8FA8-C5E86FF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6BFE-1467-4CBB-BD12-08D7E3BC79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A5BC4-73FB-4F64-B8B7-CABF76C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7F7C-ACDD-4F2F-B005-436842A4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15959-DBAA-4F87-BD2C-C42F3C8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2DC4B-58C9-425F-A99B-45A2AB1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69AEC-101F-43FA-A679-B7664B5A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2E65B-1F17-48D6-9DA1-6DB72B87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A161F-1F24-485D-AA79-4B8390F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4975-199D-4971-B3D2-F97FA946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41E75-220B-4D23-900B-87D432ED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E4FBA-8F5B-4027-A225-23E947DD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D929-DF23-46EF-8E6C-EB8196AA99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B0615-69E5-4BBA-98BE-0AB2B952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6A838-5EB6-45BD-8378-C019C62D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C35DE-C394-464F-A585-6AE6583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F9E33-9020-4BAA-A529-0DBED97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FA340-01AF-4C5E-8033-45CF5C24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C5677-68AB-4123-B15B-10EC1D9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A5F8A-7FEE-41E7-B3E3-1261CED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45F97-953B-4298-BCD3-DA86D0C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01191-1712-48B6-98C3-8D914E1A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4E747-9FAF-4A6B-9F56-89B2D1BB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7AB5-EBE0-41BE-A64A-C6616CEAEC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34E8A-51A7-406F-9B84-676A56D1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688DC-FA42-42A3-AD49-DFB9EB6A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0A5EC-CE93-4400-8C9C-A2B2240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A43E4-7718-436A-85AF-3B8EDFDE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1BCC5-8465-454B-862B-4A2E362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87A95-A1A3-44E0-BDEE-16EEEEFD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3A9F1-8B71-4FAE-9E87-4081AB50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36ABE-8B40-4500-A201-E35040D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06FFF-6736-4AC9-8A96-F4C74E2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4990E-A3C2-4303-95D7-706FB418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EA54-4543-424C-8211-B03823AC17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07328-8211-4DF6-8983-7CBE0DD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71296-D2BE-45AD-A794-9A8903B8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D4A95-00F8-4B97-8B7B-EC9FCB0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48192-2BC8-4C6D-8B3B-E38EB092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791A5-966C-4C4C-AE30-F343473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3FF6B-8FE0-4A91-9389-91DBB2C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02F48-E8B6-4FA5-801E-C5912BF6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85EEA-8F7B-4C7B-AB45-DF70ACB7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CB171-1896-4096-9F28-C574ED64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FAB58-457F-419E-B6B1-0A1CDBB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1C63-7D71-4A98-939F-31C5AE5446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A532A-B669-4AE4-AC7D-96699CA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CE5CA-7EC0-4FED-9D05-80A78DB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A49E7-B205-4C3E-BA90-F698641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F495C-ABB6-4353-957E-41AF46C4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F91AC-9378-4541-B6D8-47F1C5A9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85E1B-0DFE-4B13-BFEB-0C440456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BD042-98BE-4D03-AA23-95D0A47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3094B-9415-49D5-A1A6-60C44CF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E5C62-7CCA-41AA-AA60-3FFF85A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36397-8B04-462E-8AC1-72E4B9F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8742-0418-4A2F-B75E-134DDB00D8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1C4DD-1072-4241-85AC-78E227F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F8BC9-4081-49B9-A099-4362517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A8B17-6602-442A-9A94-46E7CBB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F2A66-F8D8-40A5-ACF3-BAED35D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3428E-FEA4-436B-80B0-CA462118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B560C-E74D-4B14-9BE7-C8EF9C20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900E0-1433-403F-968B-9684BE27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D9001-CC0E-462B-9A4A-F6235A48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03555-BD3B-4D6A-96CE-4CE46785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35C99-5E49-4471-9C6A-B264D01D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074A-AE81-4A3F-BA2B-D0E435654A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4249-EC4C-4412-B2B1-1DD3E347A85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7DD-5508-4B19-B833-6FAAAD8640B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84E5-B529-4A73-BE73-37F3AE2C50B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mooradian_cover.PNG"/>
          <p:cNvPicPr/>
          <p:nvPr/>
        </p:nvPicPr>
        <p:blipFill>
          <a:blip r:embed="rId2"/>
          <a:stretch/>
        </p:blipFill>
        <p:spPr>
          <a:xfrm>
            <a:off x="-195120" y="36360"/>
            <a:ext cx="5688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6CF-7D29-4621-9FE6-75FC6F914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1193-E732-4EE8-97C2-01AD469FFA9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928C-6897-44BE-A885-2D48AE348B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E86-5126-4B76-B350-BD44F57158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2FE8-F982-4E66-8443-BE5033BA6F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575-47A3-420E-B329-21CE8E29D76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F06-CD10-44E7-8C1D-901B062735E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9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s and Bran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2 - Building Brand Identity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B3B-6908-4EA6-9E40-0BAC454BAC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qm.PNG"/>
          <p:cNvPicPr/>
          <p:nvPr/>
        </p:nvPicPr>
        <p:blipFill>
          <a:blip r:embed="rId1"/>
          <a:stretch/>
        </p:blipFill>
        <p:spPr>
          <a:xfrm>
            <a:off x="685800" y="1633680"/>
            <a:ext cx="7848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2 - Dimensions of Corpora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4868-438A-48C9-8590-8CA50D46B2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56yu.PNG"/>
          <p:cNvPicPr/>
          <p:nvPr/>
        </p:nvPicPr>
        <p:blipFill>
          <a:blip r:embed="rId1"/>
          <a:stretch/>
        </p:blipFill>
        <p:spPr>
          <a:xfrm>
            <a:off x="2362320" y="1581120"/>
            <a:ext cx="45050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ing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easuring brands can be approached in at least two basic way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mer-level brand meaning, brand equity, and bran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rm- or brand-level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450-0B0E-4688-A2F4-9A2E9C1977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3 - Brand Personal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A64-5AFD-45B6-8AEE-085AC8FCBC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4rft.PNG"/>
          <p:cNvPicPr/>
          <p:nvPr/>
        </p:nvPicPr>
        <p:blipFill>
          <a:blip r:embed="rId1"/>
          <a:stretch/>
        </p:blipFill>
        <p:spPr>
          <a:xfrm>
            <a:off x="492120" y="1677960"/>
            <a:ext cx="81532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3 - Millward Brown’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Dynamics® Mod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32C-089E-4C78-AC4D-A08C4AB4A1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qdft.PNG"/>
          <p:cNvPicPr/>
          <p:nvPr/>
        </p:nvPicPr>
        <p:blipFill>
          <a:blip r:embed="rId1"/>
          <a:stretch/>
        </p:blipFill>
        <p:spPr>
          <a:xfrm>
            <a:off x="1844640" y="1595520"/>
            <a:ext cx="5622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4 - Hypothetical Effect of a Communications Investment on Brand Dynam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A5F-3A9F-42A9-AE83-EEACA80850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gnm.PNG"/>
          <p:cNvPicPr/>
          <p:nvPr/>
        </p:nvPicPr>
        <p:blipFill>
          <a:blip r:embed="rId1"/>
          <a:stretch/>
        </p:blipFill>
        <p:spPr>
          <a:xfrm>
            <a:off x="762120" y="2328840"/>
            <a:ext cx="76960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Valu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is a brand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th taken as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tribution to the firm’s financial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brand is valuable to the firm 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can be expected to generate sales and command margin in the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les and margins are the product of cumulative individual-level feelings about the b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C72C-87D6-4EEB-8B16-52D9BF562D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- a name, term, design, symbol, or any other feature that identifies one seller’s good or service as distinct from those of other sell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legal term for brand is tradema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concepts in customers’ minds and hearts, brands have rich symbolism and meanings that go beyond their identifying fun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EB6B-2FD5-4FD0-BD89-C49CD8AAC9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rategic roles of a br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identify the product and its producer to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differentiate the offering in a valued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command mar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E9E-8AB5-4EC6-BA2C-96BE00F0BB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Marks and the Functions of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brand’s identifying characteristics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brand name (or “trade nam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os and marks (“trademark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tinguishing features such as packaging, colors, 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C6DF-9606-436F-A7AA-446BFB18DE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1 - The Benefits of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728-C9FF-42A2-BBB9-464A8FBA61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rfd.PNG"/>
          <p:cNvPicPr/>
          <p:nvPr/>
        </p:nvPicPr>
        <p:blipFill>
          <a:blip r:embed="rId1"/>
          <a:stretch/>
        </p:blipFill>
        <p:spPr>
          <a:xfrm>
            <a:off x="355680" y="2292480"/>
            <a:ext cx="8472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Meaning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s hold meaning that can encompas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nctional and hedonic benefi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significance and sym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se meanings reside in the minds of consu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equity - a summary of brand meaning/associations along with brand awareness, brand loyalty, brand quality, and other brand as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702-86A9-4EEA-A305-FC2C071437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1 - Brand Meaning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711-5EEC-4F66-949B-B7E9365B3A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r678.PNG"/>
          <p:cNvPicPr/>
          <p:nvPr/>
        </p:nvPicPr>
        <p:blipFill>
          <a:blip r:embed="rId1"/>
          <a:stretch/>
        </p:blipFill>
        <p:spPr>
          <a:xfrm>
            <a:off x="457200" y="1855800"/>
            <a:ext cx="82296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Who Owns the Bran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s begin with producers and mark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managers may influence the brand’s m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, brands belong to the consumers who use them and who assign meaning to th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C7BA-7E23-4453-A594-C77D0581D9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uilding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ilding or maintaining a brand must begin with a clear understanding of what the brand is meant to be in consumer perce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strategic position that the brand intends to claim in the marketplace must be determined, based on customer and competitive analy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uld be recorded in a positioning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rketing strategist has a variety of tools to use in claiming and reinforcing the brand’s pos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8A96-FDB5-487E-AA7F-F743B19EC9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42:26Z</dcterms:created>
  <dc:creator>Jagruti Gadekar</dc:creator>
  <dc:description/>
  <dc:language>en-US</dc:language>
  <cp:lastModifiedBy>MonaSh</cp:lastModifiedBy>
  <dcterms:modified xsi:type="dcterms:W3CDTF">2015-05-22T17:14:21Z</dcterms:modified>
  <cp:revision>1624</cp:revision>
  <dc:subject/>
  <dc:title>Slide 1</dc:title>
</cp:coreProperties>
</file>