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2DA0-BE7F-4CBD-9BBB-FFBD26762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82FA-756E-4DC8-A700-23E7527369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organizes the many controllable factors that can influence brand identity/ meaning, brand equity, and brand 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CE36-F5BD-48AD-B824-B850FA32BF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able presents various aspects of corporate image that can influence product brand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C3C-C5F6-4E01-8DC4-C7202E0EA2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635A-32F1-4F73-A3F5-6561196F1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2B52-FB19-433E-998C-2A287A52EF1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72A85-1C88-4570-9F52-E698790D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5028C-AAB4-48A4-8145-4683FDCC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B30AE-5EF3-45D3-8A20-EE9D7F5B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11426-5DD5-4832-A3E1-1863BCD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CF940-7CFE-4DE0-B3BE-5DABE48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197A6-3D18-4205-B263-099B9F82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93BA9-1993-468A-ADAC-AA2FA9D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7BEF0-F131-4520-8273-8EF1663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409B9-CC3C-4CAB-B932-81BBCAB6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86355-AF43-496B-B48B-4CF9C2F3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D508-44BF-4970-93ED-2779B25667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B705D-71B5-4F80-814C-3D1CBE8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3CBC1-627A-4901-BC38-89F62047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FECE0-B186-4938-8840-E2B4B51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B4D38A-46C2-4430-B992-A84BAF57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A5E10-F5B2-4860-95A2-60207C9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B581F-45B4-465A-989D-095107F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F9C84E-CCE2-4F8E-BD27-6E3AC48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C1463-0394-4DB9-B915-0DEFB700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2808F-BF50-4A47-8E0A-91AC5FB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FEC92-3C03-4B64-A118-77CEE468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85ED-3F23-4F1E-8D13-FE286455A1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5DB04-26F1-4538-8B12-1CF195CA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37E5A-427B-46E4-9EE8-03F4B930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D5C05-C670-4070-8CFA-4F7C1380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B8E70-63A2-4FCF-AC5D-30F0E20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15B7B4-CB43-49D2-BBDF-76DF190B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A1081-3254-484E-AC37-BD9F2176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71E56-80FD-413E-BC79-19F41A6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86A3A-4801-4DF8-A648-065CAAD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1AA42-723A-48B6-9DC0-0D1B790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B1051-F8CC-4CF0-80C5-50D9DF9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9790E9-CF1D-4B96-A81F-A4B09DF9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39671-A006-4AAC-92EC-3D13CA91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FF2BFC-B621-4A7C-92E4-8335C51E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D4F94C-9440-424F-8E51-9C900301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5AFD23-3B72-4236-A936-3ED373BD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E0947A-4141-48C8-A093-1B810D9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DFC12-41FA-482C-A715-F6068316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A35B26-517A-4924-B6C9-CDCFA472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10A61-5B19-4A12-B410-04A38AA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20BC84-FCF8-4BC8-9EF0-3A49683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3C04A3-2A6A-4299-AEC6-E13EB93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25DEC5-F5F7-4BA3-A96E-43AB99A6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8DB980-6D48-4AC5-94A3-86C96A5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CFE870-E36C-49E9-8E34-8F84D85F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1BE615-904E-47E4-AD64-AA23046E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4D15-189F-475F-A27F-419584E7C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7E94-7599-4C61-9382-0C8E8B195F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E2E5-5D79-49AE-9325-F9BE4D3DAB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9629-DC74-44F5-8C01-339622F936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8996-7994-4B5F-9002-7DAE9EAE73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1721-3588-4D6F-83F9-4E937997F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DBA9-6B24-47F6-80A4-673F6D15E9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C540-F457-4D7C-8876-90C1731D9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C79B-8D7D-4B3D-AEE3-B3E21FFFA0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F005-BC80-4440-8ACF-1AE549349A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F13B-902A-4897-B24A-9249D42BDC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8106-9652-42C7-8B66-0ABC793D77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A921-6FBE-46C7-AD5F-7B28DDBE8F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53D9-54F1-43B4-B895-20A797A54A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7750C-E2D0-4D33-BB30-A60E691F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77FDB-1D2F-469D-B899-563E128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CAA1C-EA02-4E08-9E03-2A686611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C0C8-72B6-4FCA-AE51-20F585C981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4317A-9C90-4183-8118-C959B01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6D82B-13FB-4D04-871F-63F2D44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F3AF6-BCD3-4228-94EC-D6215311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105CD-F4DB-4B38-A066-EDA34E5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4BAC-B24E-4524-BBDF-056B0B85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1D72-83B7-4CCD-B425-6F55F10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28C5D-6953-457B-8EB4-B163753A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AF324-9F72-4B74-9792-2C5D416F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5C1F0-7A9E-483C-B2DF-964DDEAA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06C6C-FE8A-4C9D-BC80-A49B9A3D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88B9-9116-40E3-92E3-D2360E59C3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6FCD1-6CD7-4A21-8D3F-A3DF6022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3CA47-6D95-4487-98FE-064ACE05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6691C-B8A6-4EC1-A62F-807114B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81280-5FDE-46FA-94DE-B9D83B7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B5315-180A-42BB-A6B3-8E3D6DC4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6D2FF-6772-45DE-B5DA-DC6BF55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593E8-CF31-4E6A-B3F0-CDB980A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2BC3F-BD4D-44F1-9203-CD2CD13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C0AD7-F225-4DAC-AA19-EFAC02E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F2A4D-334C-4DDE-8346-3C1C8CD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A16E-0CD4-4334-A011-A282A0782D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9636B-7B06-4A27-AF36-1FA7E0B9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2A94D-029A-49D9-BDCB-DE47A1F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90399-CF17-41C6-9DCE-D9D654CD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6262D-40FD-49EE-A218-5439904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0513F-86BA-4EDE-86A3-8237DB4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FE681-60CB-4BEC-93D0-BA12D3D6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2C08C-419E-405F-9129-1271593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6FF7D-164A-4AAF-A0E1-F8B4058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9D569-BB13-4B92-B873-9835CE9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A38DB-A799-4E40-9FA7-1F8B218E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66CD-8006-4DA3-92C4-CD887E901B5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72708-A4F4-4642-B6F1-9A9DB168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948EB-279E-498E-B82E-75E76EE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E28CA-9385-40DD-8430-E959AE9D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C5B8B-18EB-4BF5-9FF6-D64C83D9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7B1E2-2619-4CE3-8DF1-255CE2F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D6403-EAA3-49B9-9649-10A19820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BA2C1-9A90-4FD7-AD93-2521DA5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8B8D2-DB7B-48F9-A0FA-DB2811F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9D5EB-C13F-445B-A394-73268487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54C64-3C27-45D1-AD9E-A15B0F5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774B-BB01-4955-B31F-B1CA15C86F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EF708-38A9-45E9-B791-7D8C616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571DD-9A43-4B7D-844D-01242F8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19903-2880-4EF9-92FD-462A8814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4F950-0F82-48E8-8305-B7B71298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A76C0-8FF7-47E8-AF61-C68A7200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B0DE0-A31D-4C03-A21C-A60AB3E5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4AE22-F12C-4713-8D73-DDF609DC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026CD-668F-4893-B376-3DC0617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ADCD1-6FA7-4EF5-A9D5-5752FF8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BFD40-8CD1-449D-9A9F-ED4DA48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56FB-1888-4054-899D-B715151A3E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12C6A-3F2A-4B00-96C0-EA2C3556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8410A-8970-4146-8C9E-9D4D1D2D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B6ED5-3786-46A2-92CD-B430700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5497C-B068-4C8A-ADF9-5CCDBCA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7F8D89-D804-4175-B2F7-C7662807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3505D-5C65-4A6B-ABDF-D5BF78CE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12E49-D4B5-40C1-9B8B-3E179021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551D4-B84B-4785-B0DF-9A0296B3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5F75C-6388-43CF-AF8A-C263DE2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EFBF5-BD25-4499-B8B9-E92FBAD7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504-B9CC-4DE4-9799-7A11DA78846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2C2-37AA-4047-A644-8403673ADEF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4214-83D4-42C1-A3BF-21100215882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77EB-ADD9-49CA-ACA6-D6BF643083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9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mooradian_cover.PNG"/>
          <p:cNvPicPr/>
          <p:nvPr/>
        </p:nvPicPr>
        <p:blipFill>
          <a:blip r:embed="rId2"/>
          <a:stretch/>
        </p:blipFill>
        <p:spPr>
          <a:xfrm>
            <a:off x="-195120" y="36360"/>
            <a:ext cx="5688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8D7-D188-40E1-BC8D-60077B9B4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A4A-C875-4C72-9623-8608BA163EC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450A-AF94-499B-BB54-C0548F444DA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0890-FA9F-40FE-999C-BDB4642E985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9BF-7BF4-4113-ABE7-4B160AF8E24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021-70E2-44CC-A274-CE34536CF4B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1295280" y="66261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12 Pearson Education, Inc. publishing Prentice H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4B1-686C-4C9D-87FA-0119B92DCF4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2767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Note 29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s and Brand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2 - Building Brand Identity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812C-0034-41B9-8EFE-30FD6B71EC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qm.PNG"/>
          <p:cNvPicPr/>
          <p:nvPr/>
        </p:nvPicPr>
        <p:blipFill>
          <a:blip r:embed="rId1"/>
          <a:stretch/>
        </p:blipFill>
        <p:spPr>
          <a:xfrm>
            <a:off x="685800" y="1633680"/>
            <a:ext cx="7848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2 - Dimensions of Corporate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mag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DD53-38CE-454F-9203-612071D475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56yu.PNG"/>
          <p:cNvPicPr/>
          <p:nvPr/>
        </p:nvPicPr>
        <p:blipFill>
          <a:blip r:embed="rId1"/>
          <a:stretch/>
        </p:blipFill>
        <p:spPr>
          <a:xfrm>
            <a:off x="2362320" y="1581120"/>
            <a:ext cx="45050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Measuring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easuring brands can be approached in at least two basic way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mer-level brand meaning, brand equity, and bran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rm- or brand-level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385-AAA9-45DE-A720-EA3E9298DB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3 - Brand Personal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FDBF-113C-4E53-B2A5-DD3A7FF3FA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4rft.PNG"/>
          <p:cNvPicPr/>
          <p:nvPr/>
        </p:nvPicPr>
        <p:blipFill>
          <a:blip r:embed="rId1"/>
          <a:stretch/>
        </p:blipFill>
        <p:spPr>
          <a:xfrm>
            <a:off x="492120" y="1677960"/>
            <a:ext cx="81532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3 - Millward Brown’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Dynamics® Mod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66B5-4976-4152-BD28-A767FB7302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qdft.PNG"/>
          <p:cNvPicPr/>
          <p:nvPr/>
        </p:nvPicPr>
        <p:blipFill>
          <a:blip r:embed="rId1"/>
          <a:stretch/>
        </p:blipFill>
        <p:spPr>
          <a:xfrm>
            <a:off x="1844640" y="1595520"/>
            <a:ext cx="56228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4 - Hypothetical Effect of a Communications Investment on Brand Dynam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5D92-1838-4ADF-A4BE-CD802BFE23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gnm.PNG"/>
          <p:cNvPicPr/>
          <p:nvPr/>
        </p:nvPicPr>
        <p:blipFill>
          <a:blip r:embed="rId1"/>
          <a:stretch/>
        </p:blipFill>
        <p:spPr>
          <a:xfrm>
            <a:off x="762120" y="2328840"/>
            <a:ext cx="76960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Valu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is a brand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orth taken as a w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tribution to the firm’s financial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brand is valuable to the firm bec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can be expected to generate sales and command margin in the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les and margins are the product of cumulative individual-level feelings about the b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2C7-8ED2-4F9A-AED3-C4B505C34D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- a name, term, design, symbol, or any other feature that identifies one seller’s good or service as distinct from those of other sell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legal term for brand is tradema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concepts in customers’ minds and hearts, brands have rich symbolism and meanings that go beyond their identifying fun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61A9-56DE-4C74-A062-541DB8F5C7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rategic roles of a br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identify the product and its producer to consu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differentiate the offering in a valued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 command mar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B29-69BF-4588-8A60-BB8C7A99A4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Marks and the Functions of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brand’s identifying characteristics inclu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brand name (or “trade nam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os and marks (“trademarks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tinguishing features such as packaging, colors, 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49E-2182-4987-8C3F-C4855AA1FA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Table Note 29-1 - The Benefits of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2AA-1E72-4C86-B168-1AF2F1CBC9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rfd.PNG"/>
          <p:cNvPicPr/>
          <p:nvPr/>
        </p:nvPicPr>
        <p:blipFill>
          <a:blip r:embed="rId1"/>
          <a:stretch/>
        </p:blipFill>
        <p:spPr>
          <a:xfrm>
            <a:off x="355680" y="2292480"/>
            <a:ext cx="8472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nd Meaning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s hold meaning that can encompas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nctional and hedonic benefi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significance and sym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se meanings reside in the minds of consu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equity - a summary of brand meaning/associations along with brand awareness, brand loyalty, brand quality, and other brand ass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1F11-5C70-41D6-B468-BE4C994013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Figure Note 29-1 - Brand Meaning and Brand Equ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8A63-0F75-4352-93E8-2F7061C4A5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r678.PNG"/>
          <p:cNvPicPr/>
          <p:nvPr/>
        </p:nvPicPr>
        <p:blipFill>
          <a:blip r:embed="rId1"/>
          <a:stretch/>
        </p:blipFill>
        <p:spPr>
          <a:xfrm>
            <a:off x="457200" y="1855800"/>
            <a:ext cx="82296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Who Owns the Brand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s begin with producers and mark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and managers may influence the brand’s mea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, brands belong to the consumers who use them and who assign meaning to th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DDD-0639-410A-A212-6EA8C4E47B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Building Bra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b8ca7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ilding or maintaining a brand must begin with a clear understanding of what the brand is meant to be in consumer perce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strategic position that the brand intends to claim in the marketplace must be determined, based on customer and competitive analy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uld be recorded in a positioning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rketing strategist has a variety of tools to use in claiming and reinforcing the brand’s pos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559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1E3D-D4BD-44BE-A2BC-495E024C1F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9:42:26Z</dcterms:created>
  <dc:creator>Jagruti Gadekar</dc:creator>
  <dc:description/>
  <dc:language>en-US</dc:language>
  <cp:lastModifiedBy>MonaSh</cp:lastModifiedBy>
  <dcterms:modified xsi:type="dcterms:W3CDTF">2015-05-22T17:14:21Z</dcterms:modified>
  <cp:revision>1624</cp:revision>
  <dc:subject/>
  <dc:title>Slide 1</dc:title>
</cp:coreProperties>
</file>