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0.png" ContentType="image/png"/>
  <Override PartName="/ppt/media/image5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12.png" ContentType="image/png"/>
  <Override PartName="/ppt/media/image35.wmf" ContentType="image/x-wmf"/>
  <Override PartName="/ppt/media/image8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40.wmf" ContentType="image/x-wmf"/>
  <Override PartName="/ppt/media/image18.png" ContentType="image/png"/>
  <Override PartName="/ppt/media/image39.wmf" ContentType="image/x-wmf"/>
  <Override PartName="/ppt/media/image11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2766-E5E0-441C-8525-FF8BFBFB3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64BE-643A-4CD1-9DD5-9861062601E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863-4F92-4910-8526-A7C4F4B1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2FE-635D-4CD9-BA04-228E08A9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4ED-DE3D-4828-8051-91528A4E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E65-269D-4BA0-9F81-75F3DE26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EFA-4D5C-436A-8C2C-CC779F2B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32D-9212-413C-8D99-DAD995C1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258-3AFB-4F1A-99CE-85607C99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C53-3961-4D5D-B461-EE39095D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21C-4E04-4EF4-AA79-8FC3D7C2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12D-D657-45E2-8A3D-83AF32EB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2C5-C1DB-4D11-8061-2D85223B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D8A-7E48-4BA6-ADC4-153C04A9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2473-C04A-45C3-BEDB-A3E4EFD93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General_data/056_Hybridization2.mo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Organic Chemistry (1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. Shatha Al-Aqe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http://www.citycollegiate.com/methane2.gif"/>
          <p:cNvPicPr/>
          <p:nvPr/>
        </p:nvPicPr>
        <p:blipFill>
          <a:blip r:embed="rId1"/>
          <a:stretch/>
        </p:blipFill>
        <p:spPr>
          <a:xfrm>
            <a:off x="2454120" y="2590920"/>
            <a:ext cx="4556160" cy="4144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p</a:t>
            </a:r>
            <a:r>
              <a:rPr b="1" lang="en-US" sz="40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hybridization in Metha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1" descr="http://ibchem.com/IB/ibfiles/bonding/bon_img/hybrid.gif"/>
          <p:cNvPicPr/>
          <p:nvPr/>
        </p:nvPicPr>
        <p:blipFill>
          <a:blip r:embed="rId2"/>
          <a:stretch/>
        </p:blipFill>
        <p:spPr>
          <a:xfrm>
            <a:off x="0" y="457200"/>
            <a:ext cx="8712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methane.gif (2100 bytes)"/>
          <p:cNvPicPr/>
          <p:nvPr/>
        </p:nvPicPr>
        <p:blipFill>
          <a:blip r:embed="rId1"/>
          <a:stretch/>
        </p:blipFill>
        <p:spPr>
          <a:xfrm>
            <a:off x="990720" y="304920"/>
            <a:ext cx="1724040" cy="21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ethane.gif (2541 bytes)"/>
          <p:cNvPicPr/>
          <p:nvPr/>
        </p:nvPicPr>
        <p:blipFill>
          <a:blip r:embed="rId2"/>
          <a:stretch/>
        </p:blipFill>
        <p:spPr>
          <a:xfrm>
            <a:off x="6248520" y="457200"/>
            <a:ext cx="2361960" cy="211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propane.gif (3020 bytes)"/>
          <p:cNvPicPr/>
          <p:nvPr/>
        </p:nvPicPr>
        <p:blipFill>
          <a:blip r:embed="rId3"/>
          <a:stretch/>
        </p:blipFill>
        <p:spPr>
          <a:xfrm>
            <a:off x="685800" y="3200400"/>
            <a:ext cx="2533680" cy="1952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butane.gif (3512 bytes)"/>
          <p:cNvPicPr/>
          <p:nvPr/>
        </p:nvPicPr>
        <p:blipFill>
          <a:blip r:embed="rId4"/>
          <a:stretch/>
        </p:blipFill>
        <p:spPr>
          <a:xfrm>
            <a:off x="5334120" y="2971800"/>
            <a:ext cx="3276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nd lengths of Ethyne, Ethene, and Etha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04-06-OrganicIsomers-L.gif                                     000022A4KARL's Pocketrans              B81D7FDE:"/>
          <p:cNvPicPr/>
          <p:nvPr/>
        </p:nvPicPr>
        <p:blipFill>
          <a:blip r:embed="rId1"/>
          <a:srcRect l="0" t="1165" r="0" b="69770"/>
          <a:stretch/>
        </p:blipFill>
        <p:spPr>
          <a:xfrm>
            <a:off x="990720" y="3429000"/>
            <a:ext cx="699264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685800" y="1066680"/>
            <a:ext cx="8153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somers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 - compounds with the same molecular formula but different struc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  <a:ea typeface="Arial"/>
              </a:rPr>
              <a:t>Example:</a:t>
            </a:r>
            <a:r>
              <a:rPr b="0" lang="ar-EG" sz="32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  <a:ea typeface="Arial"/>
              </a:rPr>
              <a:t>Butane and Isobu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uctural Isomers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شابه التركيب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762120" y="579132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utane                                                         Isobut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oiling point              0                                                                 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elting point         -138                                                              -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alibri"/>
                <a:ea typeface="Majalla UI"/>
              </a:rPr>
              <a:t>Pentane, C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Calibri"/>
                <a:ea typeface="Majalla UI"/>
              </a:rPr>
              <a:t>5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  <a:ea typeface="Majalla UI"/>
              </a:rPr>
              <a:t>H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Calibri"/>
                <a:ea typeface="Majalla UI"/>
              </a:rPr>
              <a:t>12 </a:t>
            </a:r>
            <a:r>
              <a:rPr b="1" lang="en-US" sz="3200" spc="-1" strike="noStrike">
                <a:solidFill>
                  <a:srgbClr val="a50021"/>
                </a:solidFill>
                <a:latin typeface="Calibri"/>
                <a:ea typeface="Majalla UI"/>
              </a:rPr>
              <a:t>has three chain isomer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Majalla U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entane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IUPAC Nomenclatu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UPAC (International Union of Pure and Applied Chemistry) nam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- The unbranched alkanes (homologous seri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- Branched alka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2501" t="4732" r="23334" b="87002"/>
          <a:stretch/>
        </p:blipFill>
        <p:spPr>
          <a:xfrm>
            <a:off x="1295280" y="228600"/>
            <a:ext cx="707544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rcRect l="0" t="9576" r="50840" b="20216"/>
          <a:stretch/>
        </p:blipFill>
        <p:spPr>
          <a:xfrm>
            <a:off x="762120" y="838080"/>
            <a:ext cx="7151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0" t="3329" r="0" b="11107"/>
          <a:stretch/>
        </p:blipFill>
        <p:spPr>
          <a:xfrm>
            <a:off x="0" y="990720"/>
            <a:ext cx="9083520" cy="5867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0" y="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Unbranched alkyl grou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457200" y="3429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But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457200" y="4114800"/>
          <a:ext cx="8358120" cy="18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14800"/>
                    <a:ext cx="835812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"/>
          <p:cNvSpPr/>
          <p:nvPr/>
        </p:nvSpPr>
        <p:spPr>
          <a:xfrm>
            <a:off x="380880" y="457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Prop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066680" y="1066680"/>
          <a:ext cx="6400800" cy="21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066680"/>
                    <a:ext cx="640080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0" y="958680"/>
            <a:ext cx="914400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0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Number and Symbol: Chem. 24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edit hours: 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NOMENCLATURE OF BRANCHED-CHAIN ALKAN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104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- Locate the longest continuous chain of carbon atoms; this chain determines the parent name for the alka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6672" t="0" r="10088" b="0"/>
          <a:stretch/>
        </p:blipFill>
        <p:spPr>
          <a:xfrm>
            <a:off x="533520" y="4114800"/>
            <a:ext cx="8162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052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- Number the longest chain beginning with the end of the chain nearer the substit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2222640"/>
            <a:ext cx="82296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3- Use the numbers 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obtained by application of </a:t>
            </a:r>
            <a:r>
              <a:rPr b="0" lang="en-US" sz="3200" spc="-1" strike="noStrike">
                <a:solidFill>
                  <a:srgbClr val="0000ff"/>
                </a:solidFill>
                <a:latin typeface="TimesNewRomanPSMT"/>
                <a:ea typeface="Majalla UI"/>
              </a:rPr>
              <a:t>rule 2 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to </a:t>
            </a:r>
            <a:r>
              <a:rPr b="1" lang="en-US" sz="3200" spc="-1" strike="noStrike">
                <a:solidFill>
                  <a:srgbClr val="810000"/>
                </a:solidFill>
                <a:latin typeface="TimesNewRomanPS-BoldMT"/>
                <a:ea typeface="Majalla UI"/>
              </a:rPr>
              <a:t>designate the location of the substituent group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17385" r="0" b="0"/>
          <a:stretch/>
        </p:blipFill>
        <p:spPr>
          <a:xfrm>
            <a:off x="0" y="1981080"/>
            <a:ext cx="8839080" cy="2895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914400" y="4800600"/>
            <a:ext cx="716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The </a:t>
            </a:r>
            <a:r>
              <a:rPr b="1" lang="en-US" sz="2800" spc="-1" strike="noStrike">
                <a:solidFill>
                  <a:srgbClr val="008100"/>
                </a:solidFill>
                <a:latin typeface="TimesNewRomanPS-BoldMT"/>
              </a:rPr>
              <a:t>parent name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is placed </a:t>
            </a:r>
            <a:r>
              <a:rPr b="1" lang="en-US" sz="2800" spc="-1" strike="noStrike">
                <a:solidFill>
                  <a:srgbClr val="008100"/>
                </a:solidFill>
                <a:latin typeface="TimesNewRomanPS-BoldMT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; the </a:t>
            </a:r>
            <a:r>
              <a:rPr b="1" lang="en-US" sz="2800" spc="-1" strike="noStrike">
                <a:solidFill>
                  <a:srgbClr val="9b3300"/>
                </a:solidFill>
                <a:latin typeface="TimesNewRomanPS-BoldMT"/>
              </a:rPr>
              <a:t>substituent group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, preceded by the</a:t>
            </a:r>
            <a:r>
              <a:rPr b="0" lang="ar-SA" sz="28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1" lang="en-US" sz="2800" spc="-1" strike="noStrike">
                <a:solidFill>
                  <a:srgbClr val="9b3300"/>
                </a:solidFill>
                <a:latin typeface="TimesNewRomanPS-BoldMT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indicating its </a:t>
            </a:r>
            <a:r>
              <a:rPr b="1" lang="en-US" sz="2800" spc="-1" strike="noStrike">
                <a:solidFill>
                  <a:srgbClr val="9b3300"/>
                </a:solidFill>
                <a:latin typeface="TimesNewRomanPS-BoldMT"/>
              </a:rPr>
              <a:t>location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on the chain, is placed </a:t>
            </a:r>
            <a:r>
              <a:rPr b="1" lang="en-US" sz="2800" spc="-1" strike="noStrike">
                <a:solidFill>
                  <a:srgbClr val="9b3300"/>
                </a:solidFill>
                <a:latin typeface="TimesNewRomanPS-BoldMT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F959-22B5-48C9-9EFD-A384C110A9C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4. When two or more substituents are present,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give each substituent a number</a:t>
            </a:r>
            <a:r>
              <a:rPr b="1" lang="ar-SA" sz="3200" spc="-1" strike="noStrike">
                <a:solidFill>
                  <a:srgbClr val="000000"/>
                </a:solidFill>
                <a:latin typeface="TimesNewRomanPS-BoldMT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corresponding to its location 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on the longest ch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257800" cy="2209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304920" y="4800600"/>
            <a:ext cx="88390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NewRomanPS-BoldMT"/>
              </a:rPr>
              <a:t>substituent groups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are listed </a:t>
            </a:r>
            <a:r>
              <a:rPr b="1" lang="en-US" sz="2800" spc="-1" strike="noStrike">
                <a:solidFill>
                  <a:srgbClr val="9b3365"/>
                </a:solidFill>
                <a:latin typeface="TimesNewRomanPS-BoldMT"/>
              </a:rPr>
              <a:t>alphabeticall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ardless of their order of occurrence in the molecule. </a:t>
            </a:r>
            <a:r>
              <a:rPr b="0" lang="en-US" sz="2800" spc="-1" strike="noStrike">
                <a:solidFill>
                  <a:srgbClr val="c00000"/>
                </a:solidFill>
                <a:latin typeface="TimesNewRomanPSMT"/>
              </a:rPr>
              <a:t>Cl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is called chloro, </a:t>
            </a:r>
            <a:r>
              <a:rPr b="0" lang="en-US" sz="2800" spc="-1" strike="noStrike">
                <a:solidFill>
                  <a:srgbClr val="c00000"/>
                </a:solidFill>
                <a:latin typeface="TimesNewRomanPSMT"/>
              </a:rPr>
              <a:t>Br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called bromo, </a:t>
            </a:r>
            <a:r>
              <a:rPr b="0" lang="en-US" sz="2800" spc="-1" strike="noStrike">
                <a:solidFill>
                  <a:srgbClr val="c00000"/>
                </a:solidFill>
                <a:latin typeface="TimesNewRomanPSMT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called iodo, </a:t>
            </a:r>
            <a:r>
              <a:rPr b="0" lang="en-US" sz="2800" spc="-1" strike="noStrike">
                <a:solidFill>
                  <a:srgbClr val="c00000"/>
                </a:solidFill>
                <a:latin typeface="TimesNewRomanPSMT"/>
              </a:rPr>
              <a:t>NO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NewRomanPS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 called nitro, </a:t>
            </a:r>
            <a:r>
              <a:rPr b="0" lang="en-US" sz="2800" spc="-1" strike="noStrike">
                <a:solidFill>
                  <a:srgbClr val="c00000"/>
                </a:solidFill>
                <a:latin typeface="TimesNewRomanPSMT"/>
              </a:rPr>
              <a:t>CN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called cy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6174-AE6E-4C2A-B290-777135270B4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5) When two or more substituents are identical, indicate this by the use of the prefixes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di-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tri-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  <a:ea typeface="Majalla UI"/>
              </a:rPr>
              <a:t>tetra-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, and so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38188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304920" y="480060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In case of deciding </a:t>
            </a:r>
            <a:r>
              <a:rPr b="1" lang="en-US" sz="2800" spc="-1" strike="noStrike">
                <a:solidFill>
                  <a:srgbClr val="9b3365"/>
                </a:solidFill>
                <a:latin typeface="TimesNewRomanPS-BoldMT"/>
              </a:rPr>
              <a:t>alphabetical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order of many substituent  </a:t>
            </a:r>
            <a:r>
              <a:rPr b="1" lang="en-US" sz="2800" spc="-1" strike="noStrike">
                <a:solidFill>
                  <a:srgbClr val="c00000"/>
                </a:solidFill>
                <a:latin typeface="TimesNewRomanPS-BoldMT"/>
              </a:rPr>
              <a:t>disregard</a:t>
            </a:r>
            <a:r>
              <a:rPr b="1" lang="en-US" sz="2800" spc="-1" strike="noStrike">
                <a:solidFill>
                  <a:srgbClr val="000000"/>
                </a:solidFill>
                <a:latin typeface="TimesNewRomanPS-Bold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multiplying prefixes such as “</a:t>
            </a:r>
            <a:r>
              <a:rPr b="1" lang="en-US" sz="2800" spc="-1" strike="noStrike">
                <a:solidFill>
                  <a:srgbClr val="ff0000"/>
                </a:solidFill>
                <a:latin typeface="TimesNewRomanPS-BoldMT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”and “</a:t>
            </a:r>
            <a:r>
              <a:rPr b="1" lang="en-US" sz="2800" spc="-1" strike="noStrike">
                <a:solidFill>
                  <a:srgbClr val="ff0000"/>
                </a:solidFill>
                <a:latin typeface="TimesNewRomanPS-BoldMT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”, “</a:t>
            </a:r>
            <a:r>
              <a:rPr b="0" lang="en-US" sz="2800" spc="-1" strike="noStrike">
                <a:solidFill>
                  <a:srgbClr val="ff0000"/>
                </a:solidFill>
                <a:latin typeface="TimesNewRomanPSMT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imesNewRomanPSMT"/>
              </a:rPr>
              <a:t>penta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NewRomanPSMT"/>
              </a:rPr>
              <a:t>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465D-1EA2-41B1-B9FF-D3AB614AE30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</a:rPr>
              <a:t>6)When two substituents are present on the same carbon, use the number tw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785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7. When two chains of equal length compete for selection as the parent chain, </a:t>
            </a:r>
            <a:r>
              <a:rPr b="1" lang="en-US" sz="3200" spc="-1" strike="noStrike">
                <a:solidFill>
                  <a:srgbClr val="ff00ff"/>
                </a:solidFill>
                <a:latin typeface="TimesNewRomanPS-BoldMT"/>
                <a:ea typeface="Majalla UI"/>
              </a:rPr>
              <a:t>choose the chain with the greater number of substituents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rcRect l="15625" t="0" r="15625" b="0"/>
          <a:stretch/>
        </p:blipFill>
        <p:spPr>
          <a:xfrm>
            <a:off x="838080" y="2438280"/>
            <a:ext cx="7067520" cy="39625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972B-4AD9-41E6-9F50-EDEE385B80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8. When branching occurs at an equal distance from both ends of the longest chain, </a:t>
            </a:r>
            <a:r>
              <a:rPr b="1" lang="en-US" sz="3200" spc="-1" strike="noStrike">
                <a:solidFill>
                  <a:srgbClr val="008100"/>
                </a:solidFill>
                <a:latin typeface="TimesNewRomanPS-BoldMT"/>
                <a:ea typeface="Majalla UI"/>
              </a:rPr>
              <a:t>choose the name that gives the lower number at the first point of difference</a:t>
            </a:r>
            <a:r>
              <a:rPr b="0" lang="en-US" sz="3200" spc="-1" strike="noStrike">
                <a:solidFill>
                  <a:srgbClr val="000000"/>
                </a:solidFill>
                <a:latin typeface="TimesNewRomanPSMT"/>
                <a:ea typeface="Majalla U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29288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132E-759D-484C-A04A-9FA121E7172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ny other substituents are found on the parent chain, all these substituents are arranged alphabetic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i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CN cy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l  Chl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r bro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 io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3520" y="228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parent chain has both a halo and an alkyl substituent attached to i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mber the chain from the end nearer the first substit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57997" b="0"/>
          <a:stretch/>
        </p:blipFill>
        <p:spPr>
          <a:xfrm>
            <a:off x="1523880" y="2209680"/>
            <a:ext cx="5295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hat is organic chemistr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5238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Calibri"/>
                <a:cs typeface="Arial"/>
              </a:rPr>
              <a:t>ما هي الكيمياء العضوية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700" spc="-1" strike="noStrike">
                <a:solidFill>
                  <a:srgbClr val="000000"/>
                </a:solidFill>
                <a:latin typeface="Calibri"/>
                <a:cs typeface="Arial"/>
              </a:rPr>
              <a:t>تعرف الكيمياء العضوية بأنها دراسة مركبات الكربون الهيدروجينية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Hydrocarbons</a:t>
            </a:r>
            <a:r>
              <a:rPr b="0" lang="ar-EG" sz="3700" spc="-1" strike="noStrike">
                <a:solidFill>
                  <a:srgbClr val="000000"/>
                </a:solidFill>
                <a:latin typeface="Calibri"/>
                <a:ea typeface="Arial"/>
              </a:rPr>
              <a:t> ومشتقاتها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700" spc="-1" strike="noStrike">
                <a:solidFill>
                  <a:srgbClr val="000000"/>
                </a:solidFill>
                <a:latin typeface="Calibri"/>
                <a:cs typeface="Arial"/>
              </a:rPr>
              <a:t>وقد كان التعريف القديم للكيمياء العضوية أنها دراسة المركبات الموجودة في الكائنات الحية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Organic</a:t>
            </a:r>
            <a:r>
              <a:rPr b="0" lang="ar-EG" sz="37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95280"/>
            <a:ext cx="861048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mon name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opropyl, isobutyl,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sec-butyl, tert-butyl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re approv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UPAC for the unsubstituted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ciding o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phabetically order disregard structure-defining prefixes th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written in italics and separated from the name by a hyphen. Thus “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ert-butyl” precedes “ethyl”, but “ethyl” precedes “isobuty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33520" y="4572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mportant n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At room temperature (rt, 25 °C) and 1 atm pressure,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1-C4 unbranch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kane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es; the C5-C17 unbranched alkanes are liquids; the unbranch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kane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 or more carbon atoms are sol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HYSICAL PROPERTIES OF ALK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The boiling points of alkanes increase with molecular weight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Branching reduces the boiling point, the more branching the lower the boiling point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Majalla UI"/>
              </a:rPr>
              <a:t>Alkanes are almost completely insoluble in water. 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BOILING POINT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eparation of alk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240" y="17521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ajalla UI"/>
              </a:rPr>
              <a:t>1- Hydrogenation of unsaturated hydrocarb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ajalla UI"/>
              </a:rPr>
              <a:t>2- Reduction of alkyl hal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1859c"/>
                </a:solidFill>
                <a:latin typeface="Calibri"/>
                <a:ea typeface="Majalla UI"/>
              </a:rPr>
              <a:t>a- Hydrolysis of Grignard reag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1523880" y="2362320"/>
          <a:ext cx="63248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63248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4"/>
          <p:cNvGraphicFramePr/>
          <p:nvPr/>
        </p:nvGraphicFramePr>
        <p:xfrm>
          <a:off x="1119240" y="4267080"/>
          <a:ext cx="7238880" cy="205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4267080"/>
                    <a:ext cx="723888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Calibri"/>
                <a:ea typeface="Majalla UI"/>
              </a:rPr>
              <a:t>b- Reduction by metal and a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Calibri"/>
                <a:ea typeface="Majalla UI"/>
              </a:rPr>
              <a:t>c- From coupling with me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Calibri"/>
                <a:ea typeface="Majalla UI"/>
              </a:rPr>
              <a:t>d- Using cuprate method  ( Gilman reagen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1371600" y="838080"/>
          <a:ext cx="60199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838080"/>
                    <a:ext cx="6019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914400" y="3429000"/>
          <a:ext cx="78138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7813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838080" y="4876920"/>
          <a:ext cx="762012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876920"/>
                    <a:ext cx="762012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action of alk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ajalla UI"/>
              </a:rPr>
              <a:t>1- Haloge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ajalla UI"/>
              </a:rPr>
              <a:t>Free  radical 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Object 2"/>
          <p:cNvGraphicFramePr/>
          <p:nvPr/>
        </p:nvGraphicFramePr>
        <p:xfrm>
          <a:off x="685800" y="1828800"/>
          <a:ext cx="5791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57913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7"/>
          <p:cNvGraphicFramePr/>
          <p:nvPr/>
        </p:nvGraphicFramePr>
        <p:xfrm>
          <a:off x="1295280" y="4419720"/>
          <a:ext cx="59436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419720"/>
                    <a:ext cx="59436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3"/>
          <p:cNvSpPr/>
          <p:nvPr/>
        </p:nvSpPr>
        <p:spPr>
          <a:xfrm>
            <a:off x="152280" y="3886200"/>
            <a:ext cx="8991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  +   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  +   energy   —&gt; 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l   +  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04920" y="304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if we have one type of car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H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+   Cl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+   </a:t>
            </a: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energy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——&gt;  CH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l   + CH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l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+    CHCl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+   CCl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 +  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Lucida Sans Unicode"/>
                <a:cs typeface="Arial"/>
              </a:rPr>
              <a:t>كلما زادت نسبة الهالوجين في التفاعل كلما زادت الاستبدالات في الهيدروكربون</a:t>
            </a:r>
            <a:r>
              <a:rPr b="1" lang="ar-EG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If we have different type of car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62120" y="990720"/>
          <a:ext cx="682596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68259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4"/>
          <p:cNvGraphicFramePr/>
          <p:nvPr/>
        </p:nvGraphicFramePr>
        <p:xfrm>
          <a:off x="609480" y="5105520"/>
          <a:ext cx="7585200" cy="10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105520"/>
                    <a:ext cx="75852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مستطيل 4"/>
          <p:cNvSpPr/>
          <p:nvPr/>
        </p:nvSpPr>
        <p:spPr>
          <a:xfrm>
            <a:off x="533520" y="44197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ectivity in halogenation reactions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اختيار في تفاعلات الهلج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ajalla UI"/>
              </a:rPr>
              <a:t>2- combustion of alk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160 kcal\mol for each methylene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447840" y="1752480"/>
          <a:ext cx="747072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752480"/>
                    <a:ext cx="7470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15328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lbertus Extra Bold"/>
              </a:rPr>
              <a:t>Hydrocarbon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"/>
          <p:cNvPicPr/>
          <p:nvPr/>
        </p:nvPicPr>
        <p:blipFill>
          <a:blip r:embed="rId1"/>
          <a:stretch/>
        </p:blipFill>
        <p:spPr>
          <a:xfrm>
            <a:off x="-237960" y="-6480"/>
            <a:ext cx="9772560" cy="687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lbertus Extra Bold"/>
              </a:rPr>
              <a:t>General Molecular Formula of Hydrocarb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4378" t="16119" r="3731" b="0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alibri"/>
              </a:rPr>
              <a:t>Classes of carbon and Hydro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Primary carbon 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ajalla U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Secondary carbon :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ajalla U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Tertiary carbon : (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ajalla U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H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Majalla U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ajalla UI"/>
              </a:rPr>
              <a:t>Hydrogens are also referred to as 1º, 2º or 3º according to the type of carbon they are bonded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070760" y="6284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ybrid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2"/>
          <a:stretch/>
        </p:blipFill>
        <p:spPr>
          <a:xfrm>
            <a:off x="573120" y="1487520"/>
            <a:ext cx="8362800" cy="5162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2" descr="sp3"/>
          <p:cNvPicPr/>
          <p:nvPr/>
        </p:nvPicPr>
        <p:blipFill>
          <a:blip r:embed="rId3"/>
          <a:stretch/>
        </p:blipFill>
        <p:spPr>
          <a:xfrm>
            <a:off x="6629400" y="838080"/>
            <a:ext cx="2514600" cy="2311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http://www.wavesignal.com/O_Chem/images/Methan15.gif"/>
          <p:cNvPicPr/>
          <p:nvPr/>
        </p:nvPicPr>
        <p:blipFill>
          <a:blip r:embed="rId4"/>
          <a:stretch/>
        </p:blipFill>
        <p:spPr>
          <a:xfrm>
            <a:off x="6705720" y="3124080"/>
            <a:ext cx="2133360" cy="154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http://darkwing.uoregon.edu/~ch111/images/ethyne.gif"/>
          <p:cNvPicPr/>
          <p:nvPr/>
        </p:nvPicPr>
        <p:blipFill>
          <a:blip r:embed="rId5"/>
          <a:stretch/>
        </p:blipFill>
        <p:spPr>
          <a:xfrm>
            <a:off x="5410080" y="5257800"/>
            <a:ext cx="2936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ull.chemistry.uakron.edu/genobc/Chapter_11/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6:01:09Z</dcterms:created>
  <dc:creator>shalaqeel</dc:creator>
  <dc:description/>
  <dc:language>en-US</dc:language>
  <cp:lastModifiedBy>shalaqeel</cp:lastModifiedBy>
  <dcterms:modified xsi:type="dcterms:W3CDTF">2016-04-18T09:03:06Z</dcterms:modified>
  <cp:revision>42</cp:revision>
  <dc:subject/>
  <dc:title>Introduction to Organic Chemistry</dc:title>
</cp:coreProperties>
</file>