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0.png" ContentType="image/png"/>
  <Override PartName="/ppt/media/image5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2.png" ContentType="image/png"/>
  <Override PartName="/ppt/media/image35.wmf" ContentType="image/x-wmf"/>
  <Override PartName="/ppt/media/image8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9.wmf" ContentType="image/x-wmf"/>
  <Override PartName="/ppt/media/image11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C8E-8E8A-4112-BBC4-AA8EF8A7B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82F0-72E5-4E9E-9C5C-E82FA244F0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106-65E5-48B9-AB4F-B27FCCF0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1B0-9290-415E-8465-281DA62C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B8E-FE6E-4BDD-BD2B-1B6445D8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553-5938-4E57-995F-5CC8D9E8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375-6CB6-49D6-80B4-93D5AE3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C59-D1A6-4745-AC68-F3ADE6B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7A9-AAFD-4123-841F-DFD1EDF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E1D-A2E0-47D7-B876-4F136E0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0DC-BAF6-475C-A86D-C9B6C317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261-666E-42A8-AB9C-08E0A35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AE1-A1C0-430C-BDF1-0F2F489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529-6E6A-4325-837E-3BAA569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26F1-30ED-41BC-B9AF-D662FC8AE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eneral_data/056_Hybridization2.mo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Organic Chemistry (1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Shatha Al-Aqe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ttp://www.citycollegiate.com/methane2.gif"/>
          <p:cNvPicPr/>
          <p:nvPr/>
        </p:nvPicPr>
        <p:blipFill>
          <a:blip r:embed="rId1"/>
          <a:stretch/>
        </p:blipFill>
        <p:spPr>
          <a:xfrm>
            <a:off x="2454120" y="2590920"/>
            <a:ext cx="4556160" cy="4144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1" lang="en-US" sz="40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hybridization in Metha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1" descr="http://ibchem.com/IB/ibfiles/bonding/bon_img/hybrid.gif"/>
          <p:cNvPicPr/>
          <p:nvPr/>
        </p:nvPicPr>
        <p:blipFill>
          <a:blip r:embed="rId2"/>
          <a:stretch/>
        </p:blipFill>
        <p:spPr>
          <a:xfrm>
            <a:off x="0" y="457200"/>
            <a:ext cx="8712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ethane.gif (2100 bytes)"/>
          <p:cNvPicPr/>
          <p:nvPr/>
        </p:nvPicPr>
        <p:blipFill>
          <a:blip r:embed="rId1"/>
          <a:stretch/>
        </p:blipFill>
        <p:spPr>
          <a:xfrm>
            <a:off x="990720" y="304920"/>
            <a:ext cx="1724040" cy="21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ethane.gif (2541 bytes)"/>
          <p:cNvPicPr/>
          <p:nvPr/>
        </p:nvPicPr>
        <p:blipFill>
          <a:blip r:embed="rId2"/>
          <a:stretch/>
        </p:blipFill>
        <p:spPr>
          <a:xfrm>
            <a:off x="6248520" y="457200"/>
            <a:ext cx="2361960" cy="211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ropane.gif (3020 bytes)"/>
          <p:cNvPicPr/>
          <p:nvPr/>
        </p:nvPicPr>
        <p:blipFill>
          <a:blip r:embed="rId3"/>
          <a:stretch/>
        </p:blipFill>
        <p:spPr>
          <a:xfrm>
            <a:off x="685800" y="3200400"/>
            <a:ext cx="2533680" cy="195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butane.gif (3512 bytes)"/>
          <p:cNvPicPr/>
          <p:nvPr/>
        </p:nvPicPr>
        <p:blipFill>
          <a:blip r:embed="rId4"/>
          <a:stretch/>
        </p:blipFill>
        <p:spPr>
          <a:xfrm>
            <a:off x="5334120" y="297180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nd lengths of Ethyne, Ethene, and Etha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04-06-OrganicIsomers-L.gif                                     000022A4KARL's Pocketrans              B81D7FDE:"/>
          <p:cNvPicPr/>
          <p:nvPr/>
        </p:nvPicPr>
        <p:blipFill>
          <a:blip r:embed="rId1"/>
          <a:srcRect l="0" t="1165" r="0" b="69770"/>
          <a:stretch/>
        </p:blipFill>
        <p:spPr>
          <a:xfrm>
            <a:off x="990720" y="3429000"/>
            <a:ext cx="69926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85800" y="1066680"/>
            <a:ext cx="8153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somers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 - compounds with the same molecular formula but different stru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Example:</a:t>
            </a:r>
            <a:r>
              <a:rPr b="0" lang="ar-EG" sz="32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Butane and Isobu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uctural Isomers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شابه التركيب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62120" y="579132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utane                                                         Isobu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oiling point              0                                                                 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elting point         -138                                                              -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Pentane, C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Calibri"/>
                <a:ea typeface="Majalla UI"/>
              </a:rPr>
              <a:t>5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H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Calibri"/>
                <a:ea typeface="Majalla UI"/>
              </a:rPr>
              <a:t>12 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has three chain isomer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ajalla U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entane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IUPAC Nomenclatu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UPAC (International Union of Pure and Applied Chemistry) nam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 The unbranched alkanes (homologous seri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Branched alka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2501" t="4732" r="23334" b="87002"/>
          <a:stretch/>
        </p:blipFill>
        <p:spPr>
          <a:xfrm>
            <a:off x="1295280" y="228600"/>
            <a:ext cx="707544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rcRect l="0" t="9576" r="50840" b="20216"/>
          <a:stretch/>
        </p:blipFill>
        <p:spPr>
          <a:xfrm>
            <a:off x="762120" y="838080"/>
            <a:ext cx="715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3329" r="0" b="11107"/>
          <a:stretch/>
        </p:blipFill>
        <p:spPr>
          <a:xfrm>
            <a:off x="0" y="990720"/>
            <a:ext cx="908352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0" y="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Unbranched alkyl gro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457200" y="3429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Bu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457200" y="4114800"/>
          <a:ext cx="835812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581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380880" y="45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Prop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066680" y="1066680"/>
          <a:ext cx="6400800" cy="21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066680"/>
                    <a:ext cx="640080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Number and Symbol: Chem. 2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edit hours: 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NOMENCLATURE OF BRANCHED-CHAIN ALKA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1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 Locate the longest continuous chain of carbon atoms; this chain determines the parent name for the alka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6672" t="0" r="10088" b="0"/>
          <a:stretch/>
        </p:blipFill>
        <p:spPr>
          <a:xfrm>
            <a:off x="533520" y="4114800"/>
            <a:ext cx="8162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- Number the longest chain beginning with the end of the chain nearer the substit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2222640"/>
            <a:ext cx="82296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3- Use the numbers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obtained by application of </a:t>
            </a:r>
            <a:r>
              <a:rPr b="0" lang="en-US" sz="3200" spc="-1" strike="noStrike">
                <a:solidFill>
                  <a:srgbClr val="0000ff"/>
                </a:solidFill>
                <a:latin typeface="TimesNewRomanPSMT"/>
                <a:ea typeface="Majalla UI"/>
              </a:rPr>
              <a:t>rule 2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to </a:t>
            </a:r>
            <a:r>
              <a:rPr b="1" lang="en-US" sz="3200" spc="-1" strike="noStrike">
                <a:solidFill>
                  <a:srgbClr val="810000"/>
                </a:solidFill>
                <a:latin typeface="TimesNewRomanPS-BoldMT"/>
                <a:ea typeface="Majalla UI"/>
              </a:rPr>
              <a:t>designate the location of the substituent group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17385" r="0" b="0"/>
          <a:stretch/>
        </p:blipFill>
        <p:spPr>
          <a:xfrm>
            <a:off x="0" y="1981080"/>
            <a:ext cx="8839080" cy="2895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914400" y="480060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</a:t>
            </a:r>
            <a:r>
              <a:rPr b="1" lang="en-US" sz="2800" spc="-1" strike="noStrike">
                <a:solidFill>
                  <a:srgbClr val="008100"/>
                </a:solidFill>
                <a:latin typeface="TimesNewRomanPS-BoldMT"/>
              </a:rPr>
              <a:t>parent name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s placed </a:t>
            </a:r>
            <a:r>
              <a:rPr b="1" lang="en-US" sz="2800" spc="-1" strike="noStrike">
                <a:solidFill>
                  <a:srgbClr val="008100"/>
                </a:solidFill>
                <a:latin typeface="TimesNewRomanPS-BoldMT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; the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substituent group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preceded by the</a:t>
            </a:r>
            <a:r>
              <a:rPr b="0" lang="ar-SA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ndicating its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location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on the chain, is placed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15F-AB60-4E80-98E5-D8389B49EA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4. When two or more substituents are present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give each substituent a number</a:t>
            </a:r>
            <a:r>
              <a:rPr b="1" lang="ar-SA" sz="3200" spc="-1" strike="noStrike">
                <a:solidFill>
                  <a:srgbClr val="000000"/>
                </a:solidFill>
                <a:latin typeface="TimesNewRomanPS-BoldMT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corresponding to its location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on the longest ch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25780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04920" y="4800600"/>
            <a:ext cx="8839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NewRomanPS-BoldMT"/>
              </a:rPr>
              <a:t>substituent groups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are listed </a:t>
            </a:r>
            <a:r>
              <a:rPr b="1" lang="en-US" sz="2800" spc="-1" strike="noStrike">
                <a:solidFill>
                  <a:srgbClr val="9b3365"/>
                </a:solidFill>
                <a:latin typeface="TimesNewRomanPS-BoldMT"/>
              </a:rPr>
              <a:t>alphabetical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ardless of their order of occurrence in the molecule.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is called chlor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called brom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called iod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NewRomanPS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 called nitr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CN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called cy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59BE-D85F-4B52-BC68-55ECB7DAE9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5) When two or more substituents are identical, indicate this by the use of the prefixes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di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tri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tetra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3818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04920" y="4800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n case of deciding </a:t>
            </a:r>
            <a:r>
              <a:rPr b="1" lang="en-US" sz="2800" spc="-1" strike="noStrike">
                <a:solidFill>
                  <a:srgbClr val="9b3365"/>
                </a:solidFill>
                <a:latin typeface="TimesNewRomanPS-BoldMT"/>
              </a:rPr>
              <a:t>alphabetical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order of many substituent  </a:t>
            </a:r>
            <a:r>
              <a:rPr b="1" lang="en-US" sz="2800" spc="-1" strike="noStrike">
                <a:solidFill>
                  <a:srgbClr val="c00000"/>
                </a:solidFill>
                <a:latin typeface="TimesNewRomanPS-BoldMT"/>
              </a:rPr>
              <a:t>disregard</a:t>
            </a:r>
            <a:r>
              <a:rPr b="1" lang="en-US" sz="2800" spc="-1" strike="noStrike">
                <a:solidFill>
                  <a:srgbClr val="000000"/>
                </a:solidFill>
                <a:latin typeface="TimesNewRomanPS-Bold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multiplying prefixes such as “</a:t>
            </a:r>
            <a:r>
              <a:rPr b="1" lang="en-US" sz="2800" spc="-1" strike="noStrike">
                <a:solidFill>
                  <a:srgbClr val="ff0000"/>
                </a:solidFill>
                <a:latin typeface="TimesNewRomanPS-BoldMT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and “</a:t>
            </a:r>
            <a:r>
              <a:rPr b="1" lang="en-US" sz="2800" spc="-1" strike="noStrike">
                <a:solidFill>
                  <a:srgbClr val="ff0000"/>
                </a:solidFill>
                <a:latin typeface="TimesNewRomanPS-BoldMT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, “</a:t>
            </a:r>
            <a:r>
              <a:rPr b="0" lang="en-US" sz="2800" spc="-1" strike="noStrike">
                <a:solidFill>
                  <a:srgbClr val="ff0000"/>
                </a:solidFill>
                <a:latin typeface="TimesNewRomanPSMT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NewRomanPSMT"/>
              </a:rPr>
              <a:t>penta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B0CD-EB3F-451C-B76F-8D8511ADF9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6)When two substituents are present on the same carbon, use the number tw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78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7. When two chains of equal length compete for selection as the parent chain, </a:t>
            </a:r>
            <a:r>
              <a:rPr b="1" lang="en-US" sz="3200" spc="-1" strike="noStrike">
                <a:solidFill>
                  <a:srgbClr val="ff00ff"/>
                </a:solidFill>
                <a:latin typeface="TimesNewRomanPS-BoldMT"/>
                <a:ea typeface="Majalla UI"/>
              </a:rPr>
              <a:t>choose the chain with the greater number of substituents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15625" t="0" r="15625" b="0"/>
          <a:stretch/>
        </p:blipFill>
        <p:spPr>
          <a:xfrm>
            <a:off x="838080" y="2438280"/>
            <a:ext cx="7067520" cy="3962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C86D-0B79-4BA8-AE89-B792A41981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8. When branching occurs at an equal distance from both ends of the longest chain, </a:t>
            </a:r>
            <a:r>
              <a:rPr b="1" lang="en-US" sz="3200" spc="-1" strike="noStrike">
                <a:solidFill>
                  <a:srgbClr val="008100"/>
                </a:solidFill>
                <a:latin typeface="TimesNewRomanPS-BoldMT"/>
                <a:ea typeface="Majalla UI"/>
              </a:rPr>
              <a:t>choose the name that gives the lower number at the first point of difference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2928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330-197C-4D29-BF37-79800105B2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ny other substituents are found on the parent chain, all these substituents are arranged alphabet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i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N cy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  Ch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r br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 io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parent chain has both a halo and an alkyl substituent attached to 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the chain from the end nearer the first substit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57997" b="0"/>
          <a:stretch/>
        </p:blipFill>
        <p:spPr>
          <a:xfrm>
            <a:off x="1523880" y="2209680"/>
            <a:ext cx="5295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at is organic chemistr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5238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Calibri"/>
                <a:cs typeface="Arial"/>
              </a:rPr>
              <a:t>ما هي الكيمياء العضوية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700" spc="-1" strike="noStrike">
                <a:solidFill>
                  <a:srgbClr val="000000"/>
                </a:solidFill>
                <a:latin typeface="Calibri"/>
                <a:cs typeface="Arial"/>
              </a:rPr>
              <a:t>تعرف الكيمياء العضوية بأنها دراسة مركبات الكربون الهيدروجينية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Hydrocarbons</a:t>
            </a:r>
            <a:r>
              <a:rPr b="0" lang="ar-EG" sz="3700" spc="-1" strike="noStrike">
                <a:solidFill>
                  <a:srgbClr val="000000"/>
                </a:solidFill>
                <a:latin typeface="Calibri"/>
                <a:ea typeface="Arial"/>
              </a:rPr>
              <a:t> ومشتقاتها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700" spc="-1" strike="noStrike">
                <a:solidFill>
                  <a:srgbClr val="000000"/>
                </a:solidFill>
                <a:latin typeface="Calibri"/>
                <a:cs typeface="Arial"/>
              </a:rPr>
              <a:t>وقد كان التعريف القديم للكيمياء العضوية أنها دراسة المركبات الموجودة في الكائنات الحية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Organic</a:t>
            </a:r>
            <a:r>
              <a:rPr b="0" lang="ar-EG" sz="37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95280"/>
            <a:ext cx="86104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mon nam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opropyl, isobutyl,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sec-butyl, tert-buty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re approv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UPAC for the unsubstituted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ciding 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phabetically order disregard structure-defining prefixes th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ritten in italics and separated from the name by a hyphen. Thus 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rt-butyl” precedes “ethyl”, but “ethyl” precedes “isobuty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33520" y="4572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mportant 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At room temperature (rt, 25 °C) and 1 atm pressure,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1-C4 unbranch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kan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es; the C5-C17 unbranched alkanes are liquids; the unbranch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kan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 or more carbon atoms are sol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YSICAL PROPERTIES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The boiling points of alkanes increase with molecular weigh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Branching reduces the boiling point, the more branching the lower the boiling poin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Alkanes are almost completely insoluble in water.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BOILING POINT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eparation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7521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1- Hydrogenation of unsaturated hydrocarb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2- Reduction of alkyl ha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a- Hydrolysis of Grignard re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523880" y="2362320"/>
          <a:ext cx="63248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3248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4"/>
          <p:cNvGraphicFramePr/>
          <p:nvPr/>
        </p:nvGraphicFramePr>
        <p:xfrm>
          <a:off x="1119240" y="4267080"/>
          <a:ext cx="7238880" cy="20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4267080"/>
                    <a:ext cx="723888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b- Reduction by metal and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c- From coupling with me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d- Using cuprate method  ( Gilman reagen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1371600" y="838080"/>
          <a:ext cx="60199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019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914400" y="3429000"/>
          <a:ext cx="78138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7813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838080" y="4876920"/>
          <a:ext cx="762012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76920"/>
                    <a:ext cx="76201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action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1- Haloge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Free  radical 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685800" y="1828800"/>
          <a:ext cx="5791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7913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1295280" y="4419720"/>
          <a:ext cx="59436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19720"/>
                    <a:ext cx="59436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"/>
          <p:cNvSpPr/>
          <p:nvPr/>
        </p:nvSpPr>
        <p:spPr>
          <a:xfrm>
            <a:off x="152280" y="3886200"/>
            <a:ext cx="899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  +   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  +   energy   —&gt; 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l   +  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920" y="304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if we have one type of 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</a:t>
            </a: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——&gt;  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l   + 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   CH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C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  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كلما زادت نسبة الهالوجين في التفاعل كلما زادت الاستبدالات في الهيدروكربون</a:t>
            </a:r>
            <a:r>
              <a:rPr b="1" lang="ar-EG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If we have different type of 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62120" y="990720"/>
          <a:ext cx="682596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68259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609480" y="5105520"/>
          <a:ext cx="758520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105520"/>
                    <a:ext cx="75852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مستطيل 4"/>
          <p:cNvSpPr/>
          <p:nvPr/>
        </p:nvSpPr>
        <p:spPr>
          <a:xfrm>
            <a:off x="533520" y="44197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ectivity in halogenation reactions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اختيار في تفاعلات الهلج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2- combustion of alk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160 kcal\mol for each methylen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447840" y="1752480"/>
          <a:ext cx="74707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752480"/>
                    <a:ext cx="7470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15328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lbertus Extra Bold"/>
              </a:rPr>
              <a:t>Hydrocarbo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-237960" y="-6480"/>
            <a:ext cx="97725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lbertus Extra Bold"/>
              </a:rPr>
              <a:t>General Molecular Formula of 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378" t="16119" r="3731" b="0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alibri"/>
              </a:rPr>
              <a:t>Classes of carbon and Hydro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Primary carbon 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Secondary carbon :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Tertiary carbon :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ydrogens are also referred to as 1º, 2º or 3º according to the type of carbon they are bonded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0707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ybrid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2"/>
          <a:stretch/>
        </p:blipFill>
        <p:spPr>
          <a:xfrm>
            <a:off x="573120" y="1487520"/>
            <a:ext cx="8362800" cy="516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2" descr="sp3"/>
          <p:cNvPicPr/>
          <p:nvPr/>
        </p:nvPicPr>
        <p:blipFill>
          <a:blip r:embed="rId3"/>
          <a:stretch/>
        </p:blipFill>
        <p:spPr>
          <a:xfrm>
            <a:off x="6629400" y="838080"/>
            <a:ext cx="2514600" cy="231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ttp://www.wavesignal.com/O_Chem/images/Methan15.gif"/>
          <p:cNvPicPr/>
          <p:nvPr/>
        </p:nvPicPr>
        <p:blipFill>
          <a:blip r:embed="rId4"/>
          <a:stretch/>
        </p:blipFill>
        <p:spPr>
          <a:xfrm>
            <a:off x="6705720" y="3124080"/>
            <a:ext cx="2133360" cy="15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http://darkwing.uoregon.edu/~ch111/images/ethyne.gif"/>
          <p:cNvPicPr/>
          <p:nvPr/>
        </p:nvPicPr>
        <p:blipFill>
          <a:blip r:embed="rId5"/>
          <a:stretch/>
        </p:blipFill>
        <p:spPr>
          <a:xfrm>
            <a:off x="5410080" y="5257800"/>
            <a:ext cx="2936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ull.chemistry.uakron.edu/genobc/Chapter_11/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6:01:09Z</dcterms:created>
  <dc:creator>shalaqeel</dc:creator>
  <dc:description/>
  <dc:language>en-US</dc:language>
  <cp:lastModifiedBy>shalaqeel</cp:lastModifiedBy>
  <dcterms:modified xsi:type="dcterms:W3CDTF">2016-04-18T09:03:06Z</dcterms:modified>
  <cp:revision>42</cp:revision>
  <dc:subject/>
  <dc:title>Introduction to Organic Chemistry</dc:title>
</cp:coreProperties>
</file>