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3CC2-93BE-41F7-8C03-CDE25039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3DD-EB0D-42E9-8BFE-02449357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BD0-40E1-4A30-BAA8-9904606B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495-4BE8-4FE2-9DE2-F39070FB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022-CDC7-4CD8-B3AC-D0CDE7A5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44D-C5DD-4F62-B611-72302B40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4F0-AF17-4716-9C95-7E164074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E23-D390-4240-8CC8-7BBAE259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67F-2F10-4F95-8D91-9FF47B73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D37-58A0-4219-A88F-3EAA0F35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D4E-5BDE-4FA9-9A8D-C4A31F2C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511-9E3F-4166-ADB4-DA5462C5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8C11-71D9-482D-BABF-C40A512993E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عنوان 1" descr=""/>
          <p:cNvPicPr/>
          <p:nvPr/>
        </p:nvPicPr>
        <p:blipFill>
          <a:blip r:embed="rId1"/>
          <a:stretch/>
        </p:blipFill>
        <p:spPr>
          <a:xfrm>
            <a:off x="682560" y="212076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975120" y="4054320"/>
            <a:ext cx="518796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Calibri"/>
              </a:rPr>
              <a:t>انتاج</a:t>
            </a:r>
            <a:r>
              <a:rPr b="0" lang="ar-SA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β-Caroten</a:t>
            </a:r>
            <a:r>
              <a:rPr b="0" lang="ar-SA" sz="4400" spc="-1" strike="noStrike">
                <a:solidFill>
                  <a:srgbClr val="ff0000"/>
                </a:solidFill>
                <a:latin typeface="Calibri"/>
              </a:rPr>
              <a:t> بواسطة الميكروبات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يعتبر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vitamin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 لفيتامين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ينتج بواسطة مجموعة من الفطريات الطحلبية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Phycomyce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Lucida Bright"/>
              </a:rPr>
              <a:t>Dalia</a:t>
            </a:r>
            <a:r>
              <a:rPr b="0" lang="en-US" sz="3200" spc="-1" strike="noStrike">
                <a:solidFill>
                  <a:srgbClr val="e6b9b8"/>
                </a:solidFill>
                <a:latin typeface="Lucida Brigh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Lucida Bright"/>
              </a:rPr>
              <a:t>dsarar@ksu.edu.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تأتي الفيتامينات في المرتبة الثانية بعد مضادات الحيوية من حيث الاهمية الاقتصادية (يصل حجم المبيعات الى بليون دولار سنوياً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ترجع أهمية الفيتامينات الى عملها كمرافقات انزيمية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enzymes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المرافقات الانزيمية :هي مركبات عضوية غير بروتينية ترتبط بالإنزيم وتساعد في نقل المجموعات الوظيفية بالانزي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تعتبر الفيتامينات عوامل نمو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owth Factor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تستخدم الفيتامينات في الصناعات الغذائية كمواد مضافه للأغذية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od Additives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 كما تستخدم في الصناعات الدوائي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معظم الفيتامينات تنتج تجارياً بطرق كيميائية عدا فيتامين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12,B2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 فتنتج ميكروبياً وذلك بسبب التركيب الكيميائي المعقد لهم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Calibri"/>
              </a:rPr>
              <a:t>انتاج فيتامين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B12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4400" spc="-1" strike="noStrike">
                <a:solidFill>
                  <a:srgbClr val="ff0000"/>
                </a:solidFill>
                <a:latin typeface="Calibri"/>
              </a:rPr>
              <a:t>ميكروبيا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لايمكن انتاج هذا الفيتامين الا بواسطة البكتيري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مثل بكتيريا </a:t>
            </a:r>
            <a:r>
              <a:rPr b="0" i="1" lang="en-US" sz="3200" spc="-1" strike="noStrike">
                <a:solidFill>
                  <a:srgbClr val="ffc000"/>
                </a:solidFill>
                <a:latin typeface="Calibri"/>
              </a:rPr>
              <a:t>Propionibacterium s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Calibri"/>
              </a:rPr>
              <a:t>Pseudomonas denitrificans</a:t>
            </a:r>
            <a:r>
              <a:rPr b="0" i="1" lang="en-US" sz="32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يحتاج الانسان الى حوالي 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 ميكروجرام من هذا الفيتامين يوميا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i="1" lang="en-US" sz="2900" spc="-1" strike="noStrike">
                <a:solidFill>
                  <a:srgbClr val="ffc000"/>
                </a:solidFill>
                <a:latin typeface="Calibri"/>
              </a:rPr>
              <a:t>Propionibacterium sp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266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762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Calibri"/>
              </a:rPr>
              <a:t>انتاج فيتامين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B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ينتج الريبوفلافين بواسطة اثنين من الفطريات الاسكي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Calibri"/>
              </a:rPr>
              <a:t>Ashbya gossypi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Calibri"/>
              </a:rPr>
              <a:t>Eremothecium ashbyi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وانواع من ا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Candid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ولكن العملية حساسه لايونات الحديد لذلك لايمكن استخدام اوعية حديدية او معدني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Riboflavin</a:t>
            </a: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solution   </a:t>
            </a:r>
            <a:r>
              <a:rPr b="0" i="1" lang="ar-SA" sz="2900" spc="-1" strike="noStrike">
                <a:solidFill>
                  <a:srgbClr val="ffc000"/>
                </a:solidFill>
                <a:latin typeface="Calibri"/>
              </a:rPr>
              <a:t>                                 </a:t>
            </a:r>
            <a:r>
              <a:rPr b="0" i="1" lang="en-US" sz="2900" spc="-1" strike="noStrike">
                <a:solidFill>
                  <a:srgbClr val="ffc000"/>
                </a:solidFill>
                <a:latin typeface="Calibri"/>
              </a:rPr>
              <a:t>Ashbya gossypii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5440" y="981000"/>
            <a:ext cx="3816360" cy="56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4162320" y="1052640"/>
            <a:ext cx="4660920" cy="55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ypical relationship between riboflavin production (continuous line) and growth, measured as mycelial dry weight (dashed line), in the culture of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Ashbya gossypii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95280" y="1639800"/>
            <a:ext cx="828036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2d050"/>
                </a:solidFill>
                <a:latin typeface="Calibri"/>
              </a:rPr>
              <a:t>مراحل الانتاج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Calibri"/>
              </a:rPr>
              <a:t>المرحلة الاولى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: نموسريع –ينتج القليل من الفيتامين-ينخفض ا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 –بنهاية هذة المرحلة يستهلك الجلوكوز ويتوقف النمو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Calibri"/>
              </a:rPr>
              <a:t>المرحلة الثانية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: يرتفع ا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 بسبب تراكم الامونيا بسبب نشاط انزيمات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aminase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 –تراكم الفيتامين داخل الخلايا-يلاحظ اختفاء السيتوكرو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Calibri"/>
              </a:rPr>
              <a:t>المرحلة الثالثة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: تتحلل الخلايا ويخرج الفيتامين الحر الى البيئ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0:59:09Z</dcterms:created>
  <dc:creator>vaio</dc:creator>
  <dc:description/>
  <dc:language>en-US</dc:language>
  <cp:lastModifiedBy>Hoida</cp:lastModifiedBy>
  <dcterms:modified xsi:type="dcterms:W3CDTF">2017-10-29T09:23:20Z</dcterms:modified>
  <cp:revision>14</cp:revision>
  <dc:subject/>
  <dc:title>انتاج الفيتامينات بواسطة الميكروبات</dc:title>
</cp:coreProperties>
</file>