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132-736F-421C-8575-2C5EEC16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C8-7F13-4D53-A5AB-BFC98D2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847-8A46-45CE-9921-4A7D9B8A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12E-B969-47AD-ACD8-AE2DA4A5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DDF-C84C-414E-B362-B884F4A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C7C-4AA2-4FBD-8731-B1018D4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77B-D743-491A-AC43-C25B0F2C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46F-DDA2-43C6-8C38-95B7EF46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0C0-40EE-48E1-8200-D4CB9DA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B4C-05C4-48D8-B3C1-119356F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7DC-AA37-4553-BFDA-165C431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CCF-287F-49AE-9BD5-BCAA622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140-E74C-4E29-AF9C-5A066B32FA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عنوان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975120" y="4054320"/>
            <a:ext cx="51879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</a:t>
            </a: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β-Caroten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 بواسطة الميكروبات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عتبر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vitamin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لفيتامين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نتج بواسطة مجموعة من الفطريات الطحلبية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hycomyce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Dalia</a:t>
            </a: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dsarar@ksu.edu.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أتي الفيتامينات في المرتبة الثانية بعد مضادات الحيوية من حيث الاهمية الاقتصادية (يصل حجم المبيعات الى بليون دولار سنويا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رجع أهمية الفيتامينات الى عملها كمرافقات انزيمية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enzymes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لمرافقات الانزيمية :هي مركبات عضوية غير بروتينية ترتبط بالإنزيم وتساعد في نقل المجموعات الوظيفية بالانزي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عتبر الفيتامينات عوامل نمو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wth Facto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ستخدم الفيتامينات في الصناعات الغذائية كمواد مضافه للأغذي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od Additives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كما تستخدم في الصناعات الدوائ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عظم الفيتامينات تنتج تجارياً بطرق كيميائية عدا فيتامين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12,B2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فتنتج ميكروبياً وذلك بسبب التركيب الكيميائي المعقد لهم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 فيتامين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12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ميكروبيا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لايمكن انتاج هذا الفيتامين الا بواسطة البكتيري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ثل بكتيريا </a:t>
            </a: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Propionibacterium s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Pseudomonas denitrificans</a:t>
            </a: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حتاج الانسان الى حوالي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ميكروجرام من هذا الفيتامين يوميا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en-US" sz="2900" spc="-1" strike="noStrike">
                <a:solidFill>
                  <a:srgbClr val="ffc000"/>
                </a:solidFill>
                <a:latin typeface="Calibri"/>
              </a:rPr>
              <a:t>Propionibacterium sp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26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762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 فيتامين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نتج الريبوفلافين بواسطة اثنين من الفطريات الاسك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Ashbya gossyp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Eremothecium ashby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وانواع من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ndid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ولكن العملية حساسه لايونات الحديد لذلك لايمكن استخدام اوعية حديدية او معدن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Riboflavin</a:t>
            </a: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solution   </a:t>
            </a:r>
            <a:r>
              <a:rPr b="0" i="1" lang="ar-SA" sz="2900" spc="-1" strike="noStrike">
                <a:solidFill>
                  <a:srgbClr val="ffc000"/>
                </a:solidFill>
                <a:latin typeface="Calibri"/>
              </a:rPr>
              <a:t>                                 </a:t>
            </a:r>
            <a:r>
              <a:rPr b="0" i="1" lang="en-US" sz="2900" spc="-1" strike="noStrike">
                <a:solidFill>
                  <a:srgbClr val="ffc000"/>
                </a:solidFill>
                <a:latin typeface="Calibri"/>
              </a:rPr>
              <a:t>Ashbya gossypii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5440" y="981000"/>
            <a:ext cx="3816360" cy="56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162320" y="1052640"/>
            <a:ext cx="466092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 relationship between riboflavin production (continuous line) and growth, measured as mycelial dry weight (dashed line), in the culture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Ashbya gossypii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95280" y="1639800"/>
            <a:ext cx="82803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d050"/>
                </a:solidFill>
                <a:latin typeface="Calibri"/>
              </a:rPr>
              <a:t>مراحل الانتاج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اولى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نموسريع –ينتج القليل من الفيتامين-ينخفض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–بنهاية هذة المرحلة يستهلك الجلوكوز ويتوقف النم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ثانية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يرتفع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بسبب تراكم الامونيا بسبب نشاط انزيمات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aminase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–تراكم الفيتامين داخل الخلايا-يلاحظ اختفاء السيتوكرو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ثالثة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تتحلل الخلايا ويخرج الفيتامين الحر الى البيئ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59:09Z</dcterms:created>
  <dc:creator>vaio</dc:creator>
  <dc:description/>
  <dc:language>en-US</dc:language>
  <cp:lastModifiedBy>Hoida</cp:lastModifiedBy>
  <dcterms:modified xsi:type="dcterms:W3CDTF">2017-10-29T09:23:20Z</dcterms:modified>
  <cp:revision>14</cp:revision>
  <dc:subject/>
  <dc:title>انتاج الفيتامينات بواسطة الميكروبات</dc:title>
</cp:coreProperties>
</file>