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C0DCFD-907B-4FC7-ABB0-FDE46D32879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D1F004-A9A0-44DC-B5E8-0ADCEC59E92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B02733-99D0-4B14-9974-FAE4F4C0A2D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2B5271-3ACF-41D7-8383-5768E058824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3EE95B-EEEF-4030-95B1-477C7292B0C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E5D2D7-4C51-4999-ABDB-E14026DEDBD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ED750F-400A-4DB9-A700-99BCC7F7A8F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0291D8-90B5-432A-985A-8EE8B19A2C7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8064E6-F8E1-47DD-8AAC-599272BB375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763477-2019-4F29-B7B1-CAF0A9B0FD9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7A83C5-67CF-438D-83B6-D5C440307F6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7FE7B6-080D-4BDD-B655-BA496FC3645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300F-85B8-4955-9FA3-75E20F06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8894-1B16-4814-A092-3A648743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6AAA-7A2E-4E0A-96E6-E65F0A44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E8F-11DC-4BCE-845C-A57E6E8C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FA39-357C-4D8F-BD22-A15D8E50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44F7-ED84-4B4F-9613-9495BA09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92A6-4F50-4D08-9EA4-5B0FBBEA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333F-C871-43E7-BDF5-25666B5C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F6E5-9435-49BF-AC08-C96C069E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2516-C029-4F34-B964-28EB0AA5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8AF0-504A-4AD3-83B2-CAD8A646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19F0-45AB-4549-9784-148771E4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5794-56AA-4EB6-9EA5-8E026D5D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A6ED-ED84-4591-8074-600120B6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4F4B-D217-460E-B9A8-CAC170F3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D0B9-3B91-4536-B256-E99ABB3C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E377-F55F-421D-97B8-2C754844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E68D-A9B7-4D68-93F2-2830BA80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944-ED04-450A-951F-105089F0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78A3-D7D5-4E9D-AF80-83F32E7E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F0E2-DEE2-441D-9691-22DDDC0B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2F9E-16C8-409F-9897-929FB5FB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C625-50BB-417A-8F11-D06BD385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F09C-24A0-4CD6-A60E-DEADFF0B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SE301_Topic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4E56-360F-48E6-B6BC-88D8D0A0E9A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SE301_Topic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9F0E-6E3A-48EB-BB3B-1F2815BAA0F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5898-8BBA-4032-89BE-68EBAAD6911F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04920" y="685800"/>
            <a:ext cx="845820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9900"/>
                </a:solidFill>
                <a:latin typeface="Garamond"/>
              </a:rPr>
              <a:t>       </a:t>
            </a:r>
            <a:br>
              <a:rPr sz="3500"/>
            </a:br>
            <a:r>
              <a:rPr b="0" lang="en-US" sz="35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100" spc="-1" strike="noStrike">
                <a:solidFill>
                  <a:srgbClr val="999900"/>
                </a:solidFill>
                <a:latin typeface="Garamond"/>
              </a:rPr>
              <a:t>Numerical Differentiation </a:t>
            </a:r>
            <a:br>
              <a:rPr sz="3300"/>
            </a:b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457200" y="1676520"/>
            <a:ext cx="8229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228600" y="3124080"/>
            <a:ext cx="85345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CA68-6F83-47F4-93F0-880B67AB0EFF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Three Formula (Revisite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3"/>
              <p:cNvSpPr txBox="1"/>
              <p:nvPr/>
            </p:nvSpPr>
            <p:spPr>
              <a:xfrm>
                <a:off x="1038240" y="1835280"/>
                <a:ext cx="7445520" cy="43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war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fference: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Backwar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fference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entr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fference: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war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 backward difference formulas are comparable in accurac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entral difference formula is expected to give a better answ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Rectangle 4"/>
          <p:cNvSpPr/>
          <p:nvPr/>
        </p:nvSpPr>
        <p:spPr>
          <a:xfrm>
            <a:off x="838080" y="4952880"/>
            <a:ext cx="7620120" cy="9907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2502-8371-4640-BBDE-D545D7E1D69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Higher Order Formula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3"/>
              <p:cNvSpPr txBox="1"/>
              <p:nvPr/>
            </p:nvSpPr>
            <p:spPr>
              <a:xfrm>
                <a:off x="762120" y="1600200"/>
                <a:ext cx="7619760" cy="452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Rectangle 4"/>
          <p:cNvSpPr/>
          <p:nvPr/>
        </p:nvSpPr>
        <p:spPr>
          <a:xfrm>
            <a:off x="4648320" y="5181480"/>
            <a:ext cx="2971800" cy="99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5"/>
          <p:cNvSpPr/>
          <p:nvPr/>
        </p:nvSpPr>
        <p:spPr>
          <a:xfrm flipV="1">
            <a:off x="6095880" y="4724280"/>
            <a:ext cx="0" cy="45720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9598-7748-45D9-869A-3451B43D1FE0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Other Higher Order Formula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838080" y="1735200"/>
                <a:ext cx="7669440" cy="41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entral Formulas with 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ther formulas for 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 also possibl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You can use Taylor Theorem to prove them an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btain the error ord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forward, backward and centered difference approximations to estimate the first derivate of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(x) = –0.1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0.1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0.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0.25x + 1.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x = 0.5 using step size h = 0.5 and h = 0.2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that the derivate can be obtained directl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’(x) = –0.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0.4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1.0x – 0.2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rue value of f’(0.5) = -0.912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is example, the function and its derivate are known. However, in general, only tabulated data might be giv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4EDF-5AAF-432D-BD2E-E084ABB6996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lution with Step Size = 0.5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(0.5) = 0.925, f(0) = 1.2, f(1.0) = 0.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ward Divided Differen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’(0.5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0.2 – 0.925)/0.5 = -1.4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 = |(-0.9125+1.45)/-0.9125| = 58.9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kward Divided Differen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’(0.5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0.925 – 1.2)/0.5 = -0.5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 = |(-0.9125+0.55)/-0.9125| = 39.7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ered Divided Differen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’(0.5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0.2 – 1.2)/1.0 = -1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 = |(-0.9125+1.0)/-0.9125| = 9.6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290A-E3A8-4951-BD2F-6765880BC3AE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lution with Step Size = 0.25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(0.5)=0.925, f(0.25)=1.1035, f(0.75)=0.636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ward Divided Differen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’(0.5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0.6363 – 0.925)/0.25 = -1.15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 = |(-0.9125+1.155)/-0.9125| = 26.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kward Divided Differen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’(0.5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0.925 – 1.1035)/0.25 = -0.7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 = |(-0.9125+0.714)/-0.9125| = 21.7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ered Divided Differen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’(0.5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0.6363 – 1.1035)/0.5 = -0.93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 = |(-0.9125+0.934)/-0.9125| = 2.4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9DCD-308D-404E-AFBB-0E6E8E74D570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iscus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both the Forward and Backward difference, the error is O(h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lving the step size h approximately halves the error of the Forward and Backward differ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entered difference approximation is more accurate than the Forward and Backward differences because the error is O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lving the step size h approximately quarters the error of the Centered differ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217F-3810-476F-B150-E766FFE369B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560" y="1536480"/>
            <a:ext cx="883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the forward-difference formula to approximate the derivative of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f (x)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= ln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0 = 1.8 using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h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= 0.1,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h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= 0.05, and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h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= 0.01, and determine bounds for the approximation erro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6CB6-003B-42CB-8929-AE5E7B3490CB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1084680" y="987480"/>
            <a:ext cx="14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xample 2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999900"/>
                </a:solidFill>
                <a:latin typeface="Garamond"/>
              </a:rPr>
              <a:t>Solu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forward-difference formu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f (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1.8 +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h)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−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f (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1.8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GB" sz="2400" spc="-1" strike="noStrike">
                <a:solidFill>
                  <a:srgbClr val="000000"/>
                </a:solidFill>
                <a:latin typeface="Times-Italic"/>
              </a:rPr>
              <a:t>h </a:t>
            </a:r>
            <a:r>
              <a:rPr b="0" lang="en-GB" sz="2400" spc="-1" strike="noStrike">
                <a:solidFill>
                  <a:srgbClr val="000000"/>
                </a:solidFill>
                <a:latin typeface="MTSYN"/>
              </a:rPr>
              <a:t>=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.1 g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ln 1.9 </a:t>
            </a:r>
            <a:r>
              <a:rPr b="0" lang="en-GB" sz="2400" spc="-1" strike="noStrike">
                <a:solidFill>
                  <a:srgbClr val="000000"/>
                </a:solidFill>
                <a:latin typeface="MTSYN"/>
              </a:rPr>
              <a:t>−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n 1.8)/0.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TSYN"/>
              </a:rPr>
              <a:t>=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.64185389 </a:t>
            </a:r>
            <a:r>
              <a:rPr b="0" lang="en-GB" sz="2400" spc="-1" strike="noStrike">
                <a:solidFill>
                  <a:srgbClr val="000000"/>
                </a:solidFill>
                <a:latin typeface="MTSYN"/>
              </a:rPr>
              <a:t>−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.58778667)/0.1 </a:t>
            </a:r>
            <a:r>
              <a:rPr b="0" lang="en-GB" sz="2400" spc="-1" strike="noStrike">
                <a:solidFill>
                  <a:srgbClr val="000000"/>
                </a:solidFill>
                <a:latin typeface="MTSYN"/>
              </a:rPr>
              <a:t>=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.5406722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i="1" lang="en-GB" sz="2400" spc="-1" strike="noStrike">
                <a:solidFill>
                  <a:srgbClr val="000000"/>
                </a:solidFill>
                <a:latin typeface="MTMI"/>
              </a:rPr>
              <a:t>f’’(</a:t>
            </a:r>
            <a:r>
              <a:rPr b="0" i="1" lang="en-GB" sz="2400" spc="-1" strike="noStrike">
                <a:solidFill>
                  <a:srgbClr val="000000"/>
                </a:solidFill>
                <a:latin typeface="Times-Italic"/>
              </a:rPr>
              <a:t>x</a:t>
            </a:r>
            <a:r>
              <a:rPr b="0" i="1" lang="en-GB" sz="2400" spc="-1" strike="noStrike">
                <a:solidFill>
                  <a:srgbClr val="000000"/>
                </a:solidFill>
                <a:latin typeface="MTMI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MTSYN"/>
              </a:rPr>
              <a:t>= −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MTMI"/>
              </a:rPr>
              <a:t>/</a:t>
            </a:r>
            <a:r>
              <a:rPr b="0" i="1" lang="en-GB" sz="2400" spc="-1" strike="noStrike">
                <a:solidFill>
                  <a:srgbClr val="000000"/>
                </a:solidFill>
                <a:latin typeface="Times-Italic"/>
              </a:rPr>
              <a:t>x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-Italic"/>
              </a:rPr>
              <a:t>2</a:t>
            </a:r>
            <a:r>
              <a:rPr b="0" lang="en-GB" sz="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1.8 </a:t>
            </a:r>
            <a:r>
              <a:rPr b="0" i="1" lang="en-GB" sz="2400" spc="-1" strike="noStrike">
                <a:solidFill>
                  <a:srgbClr val="000000"/>
                </a:solidFill>
                <a:latin typeface="MTMI"/>
              </a:rPr>
              <a:t>&lt; ξ &lt;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9, a bound for this approximation error is </a:t>
            </a:r>
            <a:r>
              <a:rPr b="0" lang="en-GB" sz="2400" spc="-1" strike="noStrike">
                <a:solidFill>
                  <a:srgbClr val="000000"/>
                </a:solidFill>
                <a:latin typeface="MTSYN"/>
              </a:rPr>
              <a:t>|</a:t>
            </a:r>
            <a:r>
              <a:rPr b="0" i="1" lang="en-GB" sz="2400" spc="-1" strike="noStrike">
                <a:solidFill>
                  <a:srgbClr val="000000"/>
                </a:solidFill>
                <a:latin typeface="Times-Italic"/>
              </a:rPr>
              <a:t>h</a:t>
            </a:r>
            <a:r>
              <a:rPr b="0" i="1" lang="en-GB" sz="2400" spc="-1" strike="noStrike">
                <a:solidFill>
                  <a:srgbClr val="000000"/>
                </a:solidFill>
                <a:latin typeface="MTMI"/>
              </a:rPr>
              <a:t>f’’</a:t>
            </a:r>
            <a:r>
              <a:rPr b="0" i="1" lang="el-GR" sz="2400" spc="-1" strike="noStrike">
                <a:solidFill>
                  <a:srgbClr val="000000"/>
                </a:solidFill>
                <a:latin typeface="MTMI"/>
              </a:rPr>
              <a:t>(ξ )</a:t>
            </a:r>
            <a:r>
              <a:rPr b="0" lang="el-GR" sz="2400" spc="-1" strike="noStrike">
                <a:solidFill>
                  <a:srgbClr val="000000"/>
                </a:solidFill>
                <a:latin typeface="MTSY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MTSYN"/>
              </a:rPr>
              <a:t>/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TSY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MTSYN"/>
              </a:rPr>
              <a:t>=|</a:t>
            </a:r>
            <a:r>
              <a:rPr b="0" i="1" lang="en-GB" sz="2400" spc="-1" strike="noStrike">
                <a:solidFill>
                  <a:srgbClr val="000000"/>
                </a:solidFill>
                <a:latin typeface="Times-Italic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MTSYN"/>
              </a:rPr>
              <a:t>|/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l-GR" sz="2400" spc="-1" strike="noStrike">
                <a:solidFill>
                  <a:srgbClr val="000000"/>
                </a:solidFill>
                <a:latin typeface="MTMI"/>
              </a:rPr>
              <a:t>ξ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MTMI"/>
              </a:rPr>
              <a:t>2</a:t>
            </a:r>
            <a:r>
              <a:rPr b="0" lang="el-G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MTMI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MTM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.1/2</a:t>
            </a:r>
            <a:r>
              <a:rPr b="0" i="1" lang="en-GB" sz="2400" spc="-1" strike="noStrike">
                <a:solidFill>
                  <a:srgbClr val="000000"/>
                </a:solidFill>
                <a:latin typeface="MTMI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8</a:t>
            </a:r>
            <a:r>
              <a:rPr b="0" i="1" lang="en-GB" sz="2400" spc="-1" strike="noStrike">
                <a:solidFill>
                  <a:srgbClr val="000000"/>
                </a:solidFill>
                <a:latin typeface="MTMI"/>
              </a:rPr>
              <a:t>)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MTMI"/>
              </a:rPr>
              <a:t>2</a:t>
            </a:r>
            <a:r>
              <a:rPr b="0" lang="en-GB" sz="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SYN"/>
              </a:rPr>
              <a:t>=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.015432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67F4-7B18-4833-B295-57DC795D843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550800" y="2209680"/>
            <a:ext cx="8136000" cy="23623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326F-C106-497B-8224-A1A06E33B232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C41F-94BB-4E42-A783-263DAD62725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5100"/>
            </a:b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Numerical Differenti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order deriva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gh order deriva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C01F-1EEC-4582-954E-F3880016545E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Motiv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410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do you evaluate the derivative of a tabulated func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do we determine the velocity and acceleration from tabulated measurements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943600" y="1905120"/>
          <a:ext cx="2819520" cy="3390840"/>
        </p:xfrm>
        <a:graphic>
          <a:graphicData uri="http://schemas.openxmlformats.org/drawingml/2006/table">
            <a:tbl>
              <a:tblPr/>
              <a:tblGrid>
                <a:gridCol w="1243080"/>
                <a:gridCol w="15764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secon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ete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.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24"/>
          <p:cNvSpPr/>
          <p:nvPr/>
        </p:nvSpPr>
        <p:spPr>
          <a:xfrm>
            <a:off x="457200" y="1752480"/>
            <a:ext cx="5334120" cy="358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5566-57F2-4611-9C43-9DE4FAE9363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Recal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3"/>
              <p:cNvSpPr txBox="1"/>
              <p:nvPr/>
            </p:nvSpPr>
            <p:spPr>
              <a:xfrm>
                <a:off x="685800" y="1717560"/>
                <a:ext cx="8077320" cy="40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h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aylor  Theorem: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∃</m:t>
                        </m:r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nite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c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t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C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h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 is of order 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 approaching zero at rate similar to 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4686480" cy="679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or small values of h, the difference quotient [f (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+ h) − f (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)]/h can be used to approximate f’(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) with an error bounded by M|h|/2, where M is a bound on |f’’(x)| for x between x0 and x0 +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ISE301_Topic6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483A-3CCD-421C-99FB-C3A3508037FE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978D-4524-4E90-9727-B5C38F14043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ree Formul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3"/>
              <p:cNvSpPr txBox="1"/>
              <p:nvPr/>
            </p:nvSpPr>
            <p:spPr>
              <a:xfrm>
                <a:off x="789120" y="1627200"/>
                <a:ext cx="8278560" cy="433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war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fference: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Backwar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fference: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entr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fference: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ich method  is better?     How do we judge them?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Rectangle 4"/>
          <p:cNvSpPr/>
          <p:nvPr/>
        </p:nvSpPr>
        <p:spPr>
          <a:xfrm>
            <a:off x="685800" y="5486400"/>
            <a:ext cx="6934320" cy="45720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8A9A-77E8-43BC-95C5-10D20CDD96B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Three Formu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07732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6FCF-052C-4E72-A0DA-EEFABA4AC02C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Forward/Backward Difference Formul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762120" y="1825560"/>
                <a:ext cx="8153280" cy="38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war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fference: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_______________________________________________________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ckwar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fference:       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1A13-7DA4-45DB-BD6E-FBAAAB5008A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entral Difference Formul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533520" y="1828800"/>
                <a:ext cx="8381880" cy="38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entr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fference: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22:58:36Z</dcterms:created>
  <dc:creator>PHILIPS</dc:creator>
  <dc:description/>
  <dc:language>en-US</dc:language>
  <cp:lastModifiedBy>PHILIPS</cp:lastModifiedBy>
  <dcterms:modified xsi:type="dcterms:W3CDTF">2016-04-04T06:57:57Z</dcterms:modified>
  <cp:revision>148</cp:revision>
  <dc:subject/>
  <dc:title>Slide 1</dc:title>
</cp:coreProperties>
</file>