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6853F9-107F-4F8E-ABC6-C1BD56A4DF6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387392-C492-4A5E-8AB5-F0C3E9A2D97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572018-AACB-4DEA-8E41-F91CB192DE6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FAA3D0-BA3C-4E13-8EBF-2CB1C439C7B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60A939-9BE0-4246-83BE-81C45035504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8E824D-4B23-4786-A586-6D2832931F4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4971D9-6B21-4C3D-89DD-A23F5029A1F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CB3F75-3E0A-4E92-B721-1FCE1D3DB52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503C9B-29CC-4645-8A63-F8696108DA8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8BA154-31C1-49A1-A997-1C1B0D906F8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D4CFE3-305A-4E55-B1CA-E95201DE615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26C9F6-E142-4206-B7F5-D2E8F4917C7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866-DE51-4B86-A002-FC53E5DB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0D58-4D6D-461D-AC11-5E77D7F3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10E-0A6B-4348-B295-2D642224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C42-0827-4B4D-A232-F07C801D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7F3E-7A3E-416C-A285-011BCB92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63B2-DB19-414A-B5CF-495C21C4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A887-2758-430B-8AB9-8BEC78B7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1348-12EB-4CB9-84AD-9274F1FE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5E79-6BA2-4FF0-888E-487FAF8A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A255-75D5-426F-8908-5F380EEB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A12D-8D97-47FF-A259-BAB1DE40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48A-E541-49A9-9E74-78CDBFB6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264A-1299-4670-9B14-EE49AF66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8CB2-CA7E-41A3-ABA9-973045AF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EF7C-A5DA-427C-ACF1-70F8CDFB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E9CE-B3A8-4FF3-A968-BBC0AA08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9FBC-8E0E-415D-9B24-08F07869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871-A20B-49F8-ABA1-5FED5087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30D-4C29-4A91-AAF5-ABF6A58C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C96-B354-4367-8EE3-6944B7D9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A1C-602A-488F-AF5B-6F479871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8DA-56A0-4C0E-B5C2-C9287EE2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EAA5-58B9-489B-9D79-533AC1A2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1760-04AB-4367-B0E0-08F30631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SE301_Topic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8F55-169F-44B2-9339-55951521801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SE301_Topic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4A7D-A4E6-42E3-A789-223AF921314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8FFF-C4F6-4FF1-A446-F94CBBDBD5E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04920" y="685800"/>
            <a:ext cx="845820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9900"/>
                </a:solidFill>
                <a:latin typeface="Garamond"/>
              </a:rPr>
              <a:t>       </a:t>
            </a:r>
            <a:br>
              <a:rPr sz="3500"/>
            </a:br>
            <a:r>
              <a:rPr b="0" lang="en-US" sz="35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100" spc="-1" strike="noStrike">
                <a:solidFill>
                  <a:srgbClr val="999900"/>
                </a:solidFill>
                <a:latin typeface="Garamond"/>
              </a:rPr>
              <a:t>Numerical Differentiation </a:t>
            </a:r>
            <a:br>
              <a:rPr sz="3300"/>
            </a:b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457200" y="1676520"/>
            <a:ext cx="8229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228600" y="3124080"/>
            <a:ext cx="85345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B017-2BE3-4273-B094-EE742AC2BCAE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Three Formula (Revisite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3"/>
              <p:cNvSpPr txBox="1"/>
              <p:nvPr/>
            </p:nvSpPr>
            <p:spPr>
              <a:xfrm>
                <a:off x="1038240" y="1835280"/>
                <a:ext cx="7445520" cy="43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war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fference: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Backwar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fference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entr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fference: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war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 backward difference formulas are comparable in accurac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entral difference formula is expected to give a better answ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Rectangle 4"/>
          <p:cNvSpPr/>
          <p:nvPr/>
        </p:nvSpPr>
        <p:spPr>
          <a:xfrm>
            <a:off x="838080" y="4952880"/>
            <a:ext cx="7620120" cy="9907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2ACC-0675-430F-B940-7D04C652251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igher Order Formula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3"/>
              <p:cNvSpPr txBox="1"/>
              <p:nvPr/>
            </p:nvSpPr>
            <p:spPr>
              <a:xfrm>
                <a:off x="762120" y="1600200"/>
                <a:ext cx="7619760" cy="452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Rectangle 4"/>
          <p:cNvSpPr/>
          <p:nvPr/>
        </p:nvSpPr>
        <p:spPr>
          <a:xfrm>
            <a:off x="4648320" y="5181480"/>
            <a:ext cx="2971800" cy="99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5"/>
          <p:cNvSpPr/>
          <p:nvPr/>
        </p:nvSpPr>
        <p:spPr>
          <a:xfrm flipV="1">
            <a:off x="6095880" y="4724280"/>
            <a:ext cx="0" cy="45720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3F67-ADBF-4732-8E31-968D6498A09E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ther Higher Order Formula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838080" y="1735200"/>
                <a:ext cx="7669440" cy="41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entral Formulas with 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ther formulas for 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 also possibl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You can use Taylor Theorem to prove them an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btain the error ord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forward, backward and centered difference approximations to estimate the first derivate of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(x) = –0.1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0.1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0.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0.25x + 1.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x = 0.5 using step size h = 0.5 and h = 0.2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that the derivate can be obtained directl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’(x) = –0.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0.4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1.0x – 0.2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rue value of f’(0.5) = -0.912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is example, the function and its derivate are known. However, in general, only tabulated data might be giv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5ED1-6C70-4854-91C2-B25321C2D3FF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lution with Step Size = 0.5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(0.5) = 0.925, f(0) = 1.2, f(1.0) = 0.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ward Divided Differen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’(0.5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0.2 – 0.925)/0.5 = -1.4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 = |(-0.9125+1.45)/-0.9125| = 58.9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kward Divided Differen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’(0.5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0.925 – 1.2)/0.5 = -0.5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 = |(-0.9125+0.55)/-0.9125| = 39.7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ered Divided Differen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’(0.5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0.2 – 1.2)/1.0 = -1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 = |(-0.9125+1.0)/-0.9125| = 9.6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906C-0711-40DC-8374-7E79E11F911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lution with Step Size = 0.25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(0.5)=0.925, f(0.25)=1.1035, f(0.75)=0.636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ward Divided Differen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’(0.5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0.6363 – 0.925)/0.25 = -1.15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 = |(-0.9125+1.155)/-0.9125| = 26.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kward Divided Differen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’(0.5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0.925 – 1.1035)/0.25 = -0.7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 = |(-0.9125+0.714)/-0.9125| = 21.7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ered Divided Differen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’(0.5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0.6363 – 1.1035)/0.5 = -0.93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 = |(-0.9125+0.934)/-0.9125| = 2.4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C930-F179-4C8F-BF56-2C4DD92859ED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iscus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both the Forward and Backward difference, the error is O(h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lving the step size h approximately halves the error of the Forward and Backward differ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entered difference approximation is more accurate than the Forward and Backward differences because the error is O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lving the step size h approximately quarters the error of the Centered differ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CEEF-36FB-4116-AC8D-0808AA76FC9F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560" y="1536480"/>
            <a:ext cx="883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the forward-difference formula to approximate the derivative of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f (x)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= ln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0 = 1.8 using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= 0.1,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= 0.05, and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= 0.01, and determine bounds for the approximation erro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7835-3A00-4C94-A908-D19129F980A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084680" y="987480"/>
            <a:ext cx="14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xample 2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999900"/>
                </a:solidFill>
                <a:latin typeface="Garamond"/>
              </a:rPr>
              <a:t>Solu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forward-difference formu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f (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1.8 +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h)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−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f (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1.8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GB" sz="2400" spc="-1" strike="noStrike">
                <a:solidFill>
                  <a:srgbClr val="000000"/>
                </a:solidFill>
                <a:latin typeface="Times-Italic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MTSYN"/>
              </a:rPr>
              <a:t>=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.1 g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ln 1.9 </a:t>
            </a:r>
            <a:r>
              <a:rPr b="0" lang="en-GB" sz="2400" spc="-1" strike="noStrike">
                <a:solidFill>
                  <a:srgbClr val="000000"/>
                </a:solidFill>
                <a:latin typeface="MTSYN"/>
              </a:rPr>
              <a:t>−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n 1.8)/0.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TSYN"/>
              </a:rPr>
              <a:t>=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.64185389 </a:t>
            </a:r>
            <a:r>
              <a:rPr b="0" lang="en-GB" sz="2400" spc="-1" strike="noStrike">
                <a:solidFill>
                  <a:srgbClr val="000000"/>
                </a:solidFill>
                <a:latin typeface="MTSYN"/>
              </a:rPr>
              <a:t>−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.58778667)/0.1 </a:t>
            </a:r>
            <a:r>
              <a:rPr b="0" lang="en-GB" sz="2400" spc="-1" strike="noStrike">
                <a:solidFill>
                  <a:srgbClr val="000000"/>
                </a:solidFill>
                <a:latin typeface="MTSYN"/>
              </a:rPr>
              <a:t>=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.540672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i="1" lang="en-GB" sz="2400" spc="-1" strike="noStrike">
                <a:solidFill>
                  <a:srgbClr val="000000"/>
                </a:solidFill>
                <a:latin typeface="MTMI"/>
              </a:rPr>
              <a:t>f’’(</a:t>
            </a:r>
            <a:r>
              <a:rPr b="0" i="1" lang="en-GB" sz="2400" spc="-1" strike="noStrike">
                <a:solidFill>
                  <a:srgbClr val="000000"/>
                </a:solidFill>
                <a:latin typeface="Times-Italic"/>
              </a:rPr>
              <a:t>x</a:t>
            </a:r>
            <a:r>
              <a:rPr b="0" i="1" lang="en-GB" sz="2400" spc="-1" strike="noStrike">
                <a:solidFill>
                  <a:srgbClr val="000000"/>
                </a:solidFill>
                <a:latin typeface="MTMI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MTSYN"/>
              </a:rPr>
              <a:t>= −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MTMI"/>
              </a:rPr>
              <a:t>/</a:t>
            </a:r>
            <a:r>
              <a:rPr b="0" i="1" lang="en-GB" sz="2400" spc="-1" strike="noStrike">
                <a:solidFill>
                  <a:srgbClr val="000000"/>
                </a:solidFill>
                <a:latin typeface="Times-Italic"/>
              </a:rPr>
              <a:t>x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-Italic"/>
              </a:rPr>
              <a:t>2</a:t>
            </a:r>
            <a:r>
              <a:rPr b="0" lang="en-GB" sz="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1.8 </a:t>
            </a:r>
            <a:r>
              <a:rPr b="0" i="1" lang="en-GB" sz="2400" spc="-1" strike="noStrike">
                <a:solidFill>
                  <a:srgbClr val="000000"/>
                </a:solidFill>
                <a:latin typeface="MTMI"/>
              </a:rPr>
              <a:t>&lt; ξ &lt;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9, a bound for this approximation error is </a:t>
            </a:r>
            <a:r>
              <a:rPr b="0" lang="en-GB" sz="2400" spc="-1" strike="noStrike">
                <a:solidFill>
                  <a:srgbClr val="000000"/>
                </a:solidFill>
                <a:latin typeface="MTSYN"/>
              </a:rPr>
              <a:t>|</a:t>
            </a:r>
            <a:r>
              <a:rPr b="0" i="1" lang="en-GB" sz="2400" spc="-1" strike="noStrike">
                <a:solidFill>
                  <a:srgbClr val="000000"/>
                </a:solidFill>
                <a:latin typeface="Times-Italic"/>
              </a:rPr>
              <a:t>h</a:t>
            </a:r>
            <a:r>
              <a:rPr b="0" i="1" lang="en-GB" sz="2400" spc="-1" strike="noStrike">
                <a:solidFill>
                  <a:srgbClr val="000000"/>
                </a:solidFill>
                <a:latin typeface="MTMI"/>
              </a:rPr>
              <a:t>f’’</a:t>
            </a:r>
            <a:r>
              <a:rPr b="0" i="1" lang="el-GR" sz="2400" spc="-1" strike="noStrike">
                <a:solidFill>
                  <a:srgbClr val="000000"/>
                </a:solidFill>
                <a:latin typeface="MTMI"/>
              </a:rPr>
              <a:t>(ξ )</a:t>
            </a:r>
            <a:r>
              <a:rPr b="0" lang="el-GR" sz="2400" spc="-1" strike="noStrike">
                <a:solidFill>
                  <a:srgbClr val="000000"/>
                </a:solidFill>
                <a:latin typeface="MTSY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MTSYN"/>
              </a:rPr>
              <a:t>/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TSY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MTSYN"/>
              </a:rPr>
              <a:t>=|</a:t>
            </a:r>
            <a:r>
              <a:rPr b="0" i="1" lang="en-GB" sz="2400" spc="-1" strike="noStrike">
                <a:solidFill>
                  <a:srgbClr val="000000"/>
                </a:solidFill>
                <a:latin typeface="Times-Italic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MTSYN"/>
              </a:rPr>
              <a:t>|/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l-GR" sz="2400" spc="-1" strike="noStrike">
                <a:solidFill>
                  <a:srgbClr val="000000"/>
                </a:solidFill>
                <a:latin typeface="MTMI"/>
              </a:rPr>
              <a:t>ξ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MTMI"/>
              </a:rPr>
              <a:t>2</a:t>
            </a:r>
            <a:r>
              <a:rPr b="0" lang="el-G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MTMI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MTM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.1/2</a:t>
            </a:r>
            <a:r>
              <a:rPr b="0" i="1" lang="en-GB" sz="2400" spc="-1" strike="noStrike">
                <a:solidFill>
                  <a:srgbClr val="000000"/>
                </a:solidFill>
                <a:latin typeface="MTMI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8</a:t>
            </a:r>
            <a:r>
              <a:rPr b="0" i="1" lang="en-GB" sz="2400" spc="-1" strike="noStrike">
                <a:solidFill>
                  <a:srgbClr val="000000"/>
                </a:solidFill>
                <a:latin typeface="MTMI"/>
              </a:rPr>
              <a:t>)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MTMI"/>
              </a:rPr>
              <a:t>2</a:t>
            </a:r>
            <a:r>
              <a:rPr b="0" lang="en-GB" sz="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SYN"/>
              </a:rPr>
              <a:t>=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.015432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6676-8589-49A9-B780-00412A7B4904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550800" y="2209680"/>
            <a:ext cx="8136000" cy="23623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F55D-D14A-457F-B1D4-B44994CBAC2F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0950-EE19-4E92-9C43-C7B2A076355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5100"/>
            </a:b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Numerical Differenti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order deriva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gh order deriva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80A8-7207-451A-8B2B-C22A6D7A4E2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Motiv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410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 you evaluate the derivative of a tabulated func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 we determine the velocity and acceleration from tabulated measurements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943600" y="1905120"/>
          <a:ext cx="2819520" cy="3390840"/>
        </p:xfrm>
        <a:graphic>
          <a:graphicData uri="http://schemas.openxmlformats.org/drawingml/2006/table">
            <a:tbl>
              <a:tblPr/>
              <a:tblGrid>
                <a:gridCol w="1243080"/>
                <a:gridCol w="15764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secon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et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.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24"/>
          <p:cNvSpPr/>
          <p:nvPr/>
        </p:nvSpPr>
        <p:spPr>
          <a:xfrm>
            <a:off x="457200" y="1752480"/>
            <a:ext cx="5334120" cy="358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7603-05D2-451C-8382-3060175E287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Recal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3"/>
              <p:cNvSpPr txBox="1"/>
              <p:nvPr/>
            </p:nvSpPr>
            <p:spPr>
              <a:xfrm>
                <a:off x="685800" y="1717560"/>
                <a:ext cx="8077320" cy="40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h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aylor  Theorem: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∃</m:t>
                        </m:r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nite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c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t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C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h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 is of order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 approaching zero at rate similar to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4686480" cy="679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r small values of h, the difference quotient [f (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+ h) − f (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]/h can be used to approximate f’(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 with an error bounded by M|h|/2, where M is a bound on |f’’(x)| for x between x0 and x0 +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ISE301_Topic6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4D12-2156-4232-B8FC-49623AA9B5B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9BE0-DCC3-4C5E-8F3A-044A0A185BC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ree Formul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3"/>
              <p:cNvSpPr txBox="1"/>
              <p:nvPr/>
            </p:nvSpPr>
            <p:spPr>
              <a:xfrm>
                <a:off x="789120" y="1627200"/>
                <a:ext cx="8278560" cy="433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war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fference: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Backwar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fference: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entr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fference: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ich method  is better?     How do we judge them?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Rectangle 4"/>
          <p:cNvSpPr/>
          <p:nvPr/>
        </p:nvSpPr>
        <p:spPr>
          <a:xfrm>
            <a:off x="685800" y="5486400"/>
            <a:ext cx="6934320" cy="45720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DF87-DC9C-4326-A25C-08A8BACCC6D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Three Formu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07732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64F4-A322-4D8C-B1F3-E2F67FFF05FC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Forward/Backward Difference Formul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762120" y="1825560"/>
                <a:ext cx="8153280" cy="38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war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fference: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_______________________________________________________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ckwar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fference:      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9389-99E2-4E93-B387-26DC59ADA41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entral Difference Formul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533520" y="1828800"/>
                <a:ext cx="8381880" cy="38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entr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fference: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22:58:36Z</dcterms:created>
  <dc:creator>PHILIPS</dc:creator>
  <dc:description/>
  <dc:language>en-US</dc:language>
  <cp:lastModifiedBy>PHILIPS</cp:lastModifiedBy>
  <dcterms:modified xsi:type="dcterms:W3CDTF">2016-04-04T06:57:57Z</dcterms:modified>
  <cp:revision>148</cp:revision>
  <dc:subject/>
  <dc:title>Slide 1</dc:title>
</cp:coreProperties>
</file>